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23.wmf" ContentType="image/x-wmf"/>
  <Override PartName="/ppt/media/image20.gif" ContentType="image/gif"/>
  <Override PartName="/ppt/media/image6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32D587-FF7A-4394-9CE0-11D76C38A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f = f0/2 --- answer is then Stays the Same – NO photo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we add the parenthetica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you could also double the intensity by focussing the beam, but that would not change the number of photons (or photoelectr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2EAEC1F8-C7DB-441F-8152-A0C15F7FB9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743D8981-81B2-4194-B66C-D3F94BF78D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9B3E6591-CD49-4BB7-8457-37D04381FBC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29000" y="1293840"/>
            <a:ext cx="44416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352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353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4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355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359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360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76120" y="665280"/>
            <a:ext cx="895824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Object 3"/>
          <p:cNvGraphicFramePr/>
          <p:nvPr/>
        </p:nvGraphicFramePr>
        <p:xfrm>
          <a:off x="984240" y="4371840"/>
          <a:ext cx="7107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371840"/>
                    <a:ext cx="7107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370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371" name="Picture 6" descr="laser"/>
              <p:cNvPicPr/>
              <p:nvPr/>
            </p:nvPicPr>
            <p:blipFill>
              <a:blip r:embed="rId3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2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373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377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378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Text Box 17"/>
          <p:cNvSpPr/>
          <p:nvPr/>
        </p:nvSpPr>
        <p:spPr>
          <a:xfrm>
            <a:off x="6742080" y="3063960"/>
            <a:ext cx="19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4114800"/>
            <a:ext cx="5333760" cy="68580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4952880"/>
            <a:ext cx="5867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Interference only occurs when the contributing processes are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indistinguishable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. In the current case, you could tell which path a given photon took, by measuring it’s col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refore, there’s no interfer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444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447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450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453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456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6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467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481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8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30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3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9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66760" y="475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rot="16200000">
            <a:off x="583920" y="5060160"/>
            <a:ext cx="236520" cy="564840"/>
          </a:xfrm>
          <a:prstGeom prst="downArrow">
            <a:avLst>
              <a:gd name="adj1" fmla="val 50000"/>
              <a:gd name="adj2" fmla="val 59703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433520" y="5072040"/>
          <a:ext cx="367488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5072040"/>
                    <a:ext cx="36748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434960" y="3578400"/>
          <a:ext cx="149868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4960" y="3578400"/>
                    <a:ext cx="14986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1414440" y="4259160"/>
          <a:ext cx="4062600" cy="5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4440" y="4259160"/>
                    <a:ext cx="40626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176040" y="6037200"/>
            <a:ext cx="75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accelerate an electron to an energy of 5.6 keV requires 5.6 kilovolts 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The convenience of electron-volt uni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51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0640" y="4079880"/>
            <a:ext cx="2853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2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D is the diffraction angle,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 is the lever ar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,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 is the spot siz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533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538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0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560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561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570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574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580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602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603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611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623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624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632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642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646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670040" y="4162320"/>
            <a:ext cx="2127240" cy="40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679400" y="5451480"/>
            <a:ext cx="1521000" cy="355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59000" y="61920"/>
            <a:ext cx="2810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074600" y="2552760"/>
          <a:ext cx="690588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2552760"/>
                    <a:ext cx="690588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6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4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7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49320"/>
            <a:ext cx="6667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hotoelectric Effect: 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0" y="2209680"/>
            <a:ext cx="23295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f  -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3.1eV - 0.21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2.89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74000" y="2378160"/>
            <a:ext cx="44265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stead of hf, use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 1240/400 = 3.1 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21 V,   e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21 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4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5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236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237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62120" y="3276720"/>
            <a:ext cx="7010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 y intercept moves down, so the slope is unchanged </a:t>
            </a:r>
            <a:br>
              <a:rPr sz="2000"/>
            </a:b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and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increases </a:t>
            </a:r>
            <a:r>
              <a:rPr b="0" lang="en-US" sz="2000" spc="-1" strike="noStrike">
                <a:solidFill>
                  <a:srgbClr val="e7f21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the photons need more energy to be able to free the electrons from the increased bi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23623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29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29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62120" y="3276720"/>
            <a:ext cx="7010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 y intercept moves down, so the slope is unchanged </a:t>
            </a:r>
            <a:br>
              <a:rPr sz="2000"/>
            </a:b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and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increases </a:t>
            </a:r>
            <a:r>
              <a:rPr b="0" lang="en-US" sz="2000" spc="-1" strike="noStrike">
                <a:solidFill>
                  <a:srgbClr val="e7f21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the photons need more energy to be able to free the electrons from the increased bi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23623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5334120"/>
            <a:ext cx="5867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Because the frequency is higher than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, each incident photon has a chance to emit an electron. Doubling the number of photons doubles the number of photo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53341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2-09T21:44:27Z</dcterms:modified>
  <cp:revision>63</cp:revision>
  <dc:subject/>
  <dc:title>Slide 1</dc:title>
</cp:coreProperties>
</file>