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A62AFEB6-CA85-496F-9B21-67BB91A0902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653954E1-B194-43CB-A731-744EADE3111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 Paul G</cp:lastModifiedBy>
  <cp:lastPrinted>2000-03-27T14:29:43Z</cp:lastPrinted>
  <dcterms:modified xsi:type="dcterms:W3CDTF">2013-01-07T17:46:02Z</dcterms:modified>
  <cp:revision>629</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