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CB96A740-1D07-42C4-9695-B2D3FE40091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9080" y="703440"/>
            <a:ext cx="4630680" cy="3473280"/>
          </a:xfrm>
          <a:prstGeom prst="rect">
            <a:avLst/>
          </a:prstGeom>
          <a:ln w="0">
            <a:noFill/>
          </a:ln>
        </p:spPr>
      </p:sp>
      <p:sp>
        <p:nvSpPr>
          <p:cNvPr id="11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9080" y="703440"/>
            <a:ext cx="463068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401840" y="566640"/>
            <a:ext cx="4057560" cy="3043440"/>
          </a:xfrm>
          <a:prstGeom prst="rect">
            <a:avLst/>
          </a:prstGeom>
          <a:ln w="0">
            <a:noFill/>
          </a:ln>
        </p:spPr>
      </p:sp>
      <p:sp>
        <p:nvSpPr>
          <p:cNvPr id="1151"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87280" y="703440"/>
            <a:ext cx="4631040" cy="3473280"/>
          </a:xfrm>
          <a:prstGeom prst="rect">
            <a:avLst/>
          </a:prstGeom>
          <a:ln w="0">
            <a:noFill/>
          </a:ln>
        </p:spPr>
      </p:sp>
      <p:sp>
        <p:nvSpPr>
          <p:cNvPr id="115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9080" y="703440"/>
            <a:ext cx="463068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7280" y="703440"/>
            <a:ext cx="463104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E67E19D-71DC-4B9B-A107-D25C5E6C6F1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2EDB2958-3311-4C38-BA8F-E0D0980DA41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51" name="PlaceHolder 2"/>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aphicFrame>
        <p:nvGraphicFramePr>
          <p:cNvPr id="452" name="Object 20"/>
          <p:cNvGraphicFramePr/>
          <p:nvPr/>
        </p:nvGraphicFramePr>
        <p:xfrm>
          <a:off x="1676520" y="4870440"/>
          <a:ext cx="2322360" cy="442800"/>
        </p:xfrm>
        <a:graphic>
          <a:graphicData uri="http://schemas.openxmlformats.org/presentationml/2006/ole">
            <p:oleObj r:id="rId1" spid="">
              <p:embed/>
              <p:pic>
                <p:nvPicPr>
                  <p:cNvPr id="453"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54"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55" name="Object 22"/>
          <p:cNvGraphicFramePr/>
          <p:nvPr/>
        </p:nvGraphicFramePr>
        <p:xfrm>
          <a:off x="1627200" y="5859360"/>
          <a:ext cx="4556160" cy="719280"/>
        </p:xfrm>
        <a:graphic>
          <a:graphicData uri="http://schemas.openxmlformats.org/presentationml/2006/ole">
            <p:oleObj r:id="rId3" spid="">
              <p:embed/>
              <p:pic>
                <p:nvPicPr>
                  <p:cNvPr id="456"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57"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8" name=""/>
          <p:cNvGrpSpPr/>
          <p:nvPr/>
        </p:nvGrpSpPr>
        <p:grpSpPr>
          <a:xfrm>
            <a:off x="981000" y="1474920"/>
            <a:ext cx="6846840" cy="1224720"/>
            <a:chOff x="981000" y="1474920"/>
            <a:chExt cx="6846840" cy="1224720"/>
          </a:xfrm>
        </p:grpSpPr>
        <p:sp>
          <p:nvSpPr>
            <p:cNvPr id="45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6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7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77"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478" name=""/>
          <p:cNvGrpSpPr/>
          <p:nvPr/>
        </p:nvGrpSpPr>
        <p:grpSpPr>
          <a:xfrm>
            <a:off x="981000" y="1474920"/>
            <a:ext cx="6846840" cy="1224720"/>
            <a:chOff x="981000" y="1474920"/>
            <a:chExt cx="6846840" cy="1224720"/>
          </a:xfrm>
        </p:grpSpPr>
        <p:sp>
          <p:nvSpPr>
            <p:cNvPr id="47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9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97"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498"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500" name=""/>
          <p:cNvGrpSpPr/>
          <p:nvPr/>
        </p:nvGrpSpPr>
        <p:grpSpPr>
          <a:xfrm>
            <a:off x="981000" y="1474920"/>
            <a:ext cx="6846840" cy="1224720"/>
            <a:chOff x="981000" y="1474920"/>
            <a:chExt cx="6846840" cy="1224720"/>
          </a:xfrm>
        </p:grpSpPr>
        <p:sp>
          <p:nvSpPr>
            <p:cNvPr id="501"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3"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8"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9"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2"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18" name="" descr=""/>
          <p:cNvPicPr/>
          <p:nvPr/>
        </p:nvPicPr>
        <p:blipFill>
          <a:blip r:embed="rId1"/>
          <a:stretch/>
        </p:blipFill>
        <p:spPr>
          <a:xfrm>
            <a:off x="457200" y="1600200"/>
            <a:ext cx="8229600" cy="4525920"/>
          </a:xfrm>
          <a:prstGeom prst="rect">
            <a:avLst/>
          </a:prstGeom>
          <a:ln w="0">
            <a:noFill/>
          </a:ln>
        </p:spPr>
      </p:pic>
      <p:pic>
        <p:nvPicPr>
          <p:cNvPr id="519"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102"/>
          <p:cNvGrpSpPr/>
          <p:nvPr/>
        </p:nvGrpSpPr>
        <p:grpSpPr>
          <a:xfrm>
            <a:off x="-4680" y="2886120"/>
            <a:ext cx="2101680" cy="3789000"/>
            <a:chOff x="-4680" y="2886120"/>
            <a:chExt cx="2101680" cy="3789000"/>
          </a:xfrm>
        </p:grpSpPr>
        <p:grpSp>
          <p:nvGrpSpPr>
            <p:cNvPr id="521" name="Group 89"/>
            <p:cNvGrpSpPr/>
            <p:nvPr/>
          </p:nvGrpSpPr>
          <p:grpSpPr>
            <a:xfrm>
              <a:off x="273600" y="2886120"/>
              <a:ext cx="1818720" cy="1722960"/>
              <a:chOff x="273600" y="2886120"/>
              <a:chExt cx="1818720" cy="1722960"/>
            </a:xfrm>
          </p:grpSpPr>
          <p:grpSp>
            <p:nvGrpSpPr>
              <p:cNvPr id="522" name="Group 38"/>
              <p:cNvGrpSpPr/>
              <p:nvPr/>
            </p:nvGrpSpPr>
            <p:grpSpPr>
              <a:xfrm>
                <a:off x="914400" y="2886120"/>
                <a:ext cx="787320" cy="370800"/>
                <a:chOff x="914400" y="2886120"/>
                <a:chExt cx="787320" cy="370800"/>
              </a:xfrm>
            </p:grpSpPr>
            <p:sp>
              <p:nvSpPr>
                <p:cNvPr id="523"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5" name="Group 88"/>
              <p:cNvGrpSpPr/>
              <p:nvPr/>
            </p:nvGrpSpPr>
            <p:grpSpPr>
              <a:xfrm>
                <a:off x="538200" y="3332160"/>
                <a:ext cx="1554120" cy="1173240"/>
                <a:chOff x="538200" y="3332160"/>
                <a:chExt cx="1554120" cy="1173240"/>
              </a:xfrm>
            </p:grpSpPr>
            <p:pic>
              <p:nvPicPr>
                <p:cNvPr id="526"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7"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28"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29"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0"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1" name="Group 78"/>
            <p:cNvGrpSpPr/>
            <p:nvPr/>
          </p:nvGrpSpPr>
          <p:grpSpPr>
            <a:xfrm>
              <a:off x="-4680" y="4676760"/>
              <a:ext cx="2101680" cy="1458000"/>
              <a:chOff x="-4680" y="4676760"/>
              <a:chExt cx="2101680" cy="1458000"/>
            </a:xfrm>
          </p:grpSpPr>
          <p:pic>
            <p:nvPicPr>
              <p:cNvPr id="532"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3"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4"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5"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6"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7"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38" name="Group 105"/>
          <p:cNvGrpSpPr/>
          <p:nvPr/>
        </p:nvGrpSpPr>
        <p:grpSpPr>
          <a:xfrm>
            <a:off x="2245320" y="2897280"/>
            <a:ext cx="2278440" cy="3790440"/>
            <a:chOff x="2245320" y="2897280"/>
            <a:chExt cx="2278440" cy="3790440"/>
          </a:xfrm>
        </p:grpSpPr>
        <p:grpSp>
          <p:nvGrpSpPr>
            <p:cNvPr id="539" name="Group 80"/>
            <p:cNvGrpSpPr/>
            <p:nvPr/>
          </p:nvGrpSpPr>
          <p:grpSpPr>
            <a:xfrm>
              <a:off x="2245320" y="4676760"/>
              <a:ext cx="2120040" cy="1458000"/>
              <a:chOff x="2245320" y="4676760"/>
              <a:chExt cx="2120040" cy="1458000"/>
            </a:xfrm>
          </p:grpSpPr>
          <p:pic>
            <p:nvPicPr>
              <p:cNvPr id="540"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1"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2"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3"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4"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5" name="Group 103"/>
            <p:cNvGrpSpPr/>
            <p:nvPr/>
          </p:nvGrpSpPr>
          <p:grpSpPr>
            <a:xfrm>
              <a:off x="2449440" y="2897280"/>
              <a:ext cx="2074320" cy="3790440"/>
              <a:chOff x="2449440" y="2897280"/>
              <a:chExt cx="2074320" cy="3790440"/>
            </a:xfrm>
          </p:grpSpPr>
          <p:grpSp>
            <p:nvGrpSpPr>
              <p:cNvPr id="546" name="Group 100"/>
              <p:cNvGrpSpPr/>
              <p:nvPr/>
            </p:nvGrpSpPr>
            <p:grpSpPr>
              <a:xfrm>
                <a:off x="2449440" y="2897280"/>
                <a:ext cx="1911960" cy="1737360"/>
                <a:chOff x="2449440" y="2897280"/>
                <a:chExt cx="1911960" cy="1737360"/>
              </a:xfrm>
            </p:grpSpPr>
            <p:grpSp>
              <p:nvGrpSpPr>
                <p:cNvPr id="547" name="Group 91"/>
                <p:cNvGrpSpPr/>
                <p:nvPr/>
              </p:nvGrpSpPr>
              <p:grpSpPr>
                <a:xfrm>
                  <a:off x="2449440" y="2897280"/>
                  <a:ext cx="1911960" cy="1737360"/>
                  <a:chOff x="2449440" y="2897280"/>
                  <a:chExt cx="1911960" cy="1737360"/>
                </a:xfrm>
              </p:grpSpPr>
              <p:grpSp>
                <p:nvGrpSpPr>
                  <p:cNvPr id="548" name="Group 90"/>
                  <p:cNvGrpSpPr/>
                  <p:nvPr/>
                </p:nvGrpSpPr>
                <p:grpSpPr>
                  <a:xfrm>
                    <a:off x="2732040" y="3333600"/>
                    <a:ext cx="1629360" cy="1192320"/>
                    <a:chOff x="2732040" y="3333600"/>
                    <a:chExt cx="1629360" cy="1192320"/>
                  </a:xfrm>
                </p:grpSpPr>
                <p:pic>
                  <p:nvPicPr>
                    <p:cNvPr id="549"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0"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1"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2"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3"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4"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5"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6" name="Group 85"/>
                <p:cNvGrpSpPr/>
                <p:nvPr/>
              </p:nvGrpSpPr>
              <p:grpSpPr>
                <a:xfrm>
                  <a:off x="3345120" y="3213000"/>
                  <a:ext cx="399240" cy="1127160"/>
                  <a:chOff x="3345120" y="3213000"/>
                  <a:chExt cx="399240" cy="1127160"/>
                </a:xfrm>
              </p:grpSpPr>
              <p:sp>
                <p:nvSpPr>
                  <p:cNvPr id="557"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9"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0" name="Group 104"/>
          <p:cNvGrpSpPr/>
          <p:nvPr/>
        </p:nvGrpSpPr>
        <p:grpSpPr>
          <a:xfrm>
            <a:off x="4414680" y="2894040"/>
            <a:ext cx="2116440" cy="3793680"/>
            <a:chOff x="4414680" y="2894040"/>
            <a:chExt cx="2116440" cy="3793680"/>
          </a:xfrm>
        </p:grpSpPr>
        <p:grpSp>
          <p:nvGrpSpPr>
            <p:cNvPr id="561" name="Group 93"/>
            <p:cNvGrpSpPr/>
            <p:nvPr/>
          </p:nvGrpSpPr>
          <p:grpSpPr>
            <a:xfrm>
              <a:off x="4624920" y="2894040"/>
              <a:ext cx="1847160" cy="1748520"/>
              <a:chOff x="4624920" y="2894040"/>
              <a:chExt cx="1847160" cy="1748520"/>
            </a:xfrm>
          </p:grpSpPr>
          <p:grpSp>
            <p:nvGrpSpPr>
              <p:cNvPr id="562" name="Group 92"/>
              <p:cNvGrpSpPr/>
              <p:nvPr/>
            </p:nvGrpSpPr>
            <p:grpSpPr>
              <a:xfrm>
                <a:off x="4916520" y="3317760"/>
                <a:ext cx="1555560" cy="1189080"/>
                <a:chOff x="4916520" y="3317760"/>
                <a:chExt cx="1555560" cy="1189080"/>
              </a:xfrm>
            </p:grpSpPr>
            <p:pic>
              <p:nvPicPr>
                <p:cNvPr id="563"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4"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5"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6"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7"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68"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69"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0" name="Group 82"/>
            <p:cNvGrpSpPr/>
            <p:nvPr/>
          </p:nvGrpSpPr>
          <p:grpSpPr>
            <a:xfrm>
              <a:off x="4414680" y="4684680"/>
              <a:ext cx="2033640" cy="1450080"/>
              <a:chOff x="4414680" y="4684680"/>
              <a:chExt cx="2033640" cy="1450080"/>
            </a:xfrm>
          </p:grpSpPr>
          <p:pic>
            <p:nvPicPr>
              <p:cNvPr id="571"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2"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3"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4"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5"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6"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7" name="Group 1068"/>
          <p:cNvGrpSpPr/>
          <p:nvPr/>
        </p:nvGrpSpPr>
        <p:grpSpPr>
          <a:xfrm>
            <a:off x="30960" y="1706400"/>
            <a:ext cx="6417360" cy="1497240"/>
            <a:chOff x="30960" y="1706400"/>
            <a:chExt cx="6417360" cy="1497240"/>
          </a:xfrm>
        </p:grpSpPr>
        <p:sp>
          <p:nvSpPr>
            <p:cNvPr id="578"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79"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0"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3"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5"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8"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9"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1" name="Group 113"/>
            <p:cNvGrpSpPr/>
            <p:nvPr/>
          </p:nvGrpSpPr>
          <p:grpSpPr>
            <a:xfrm>
              <a:off x="6072120" y="2082960"/>
              <a:ext cx="351000" cy="865080"/>
              <a:chOff x="6072120" y="2082960"/>
              <a:chExt cx="351000" cy="865080"/>
            </a:xfrm>
          </p:grpSpPr>
          <p:sp>
            <p:nvSpPr>
              <p:cNvPr id="592"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4"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5"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6"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7"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8"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599"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0"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2"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3" name="Group 4"/>
          <p:cNvGrpSpPr/>
          <p:nvPr/>
        </p:nvGrpSpPr>
        <p:grpSpPr>
          <a:xfrm>
            <a:off x="1263600" y="4024440"/>
            <a:ext cx="4365720" cy="469800"/>
            <a:chOff x="1263600" y="4024440"/>
            <a:chExt cx="4365720" cy="469800"/>
          </a:xfrm>
        </p:grpSpPr>
        <p:grpSp>
          <p:nvGrpSpPr>
            <p:cNvPr id="604" name="Group 5"/>
            <p:cNvGrpSpPr/>
            <p:nvPr/>
          </p:nvGrpSpPr>
          <p:grpSpPr>
            <a:xfrm>
              <a:off x="2476440" y="4155840"/>
              <a:ext cx="3152880" cy="237240"/>
              <a:chOff x="2476440" y="4155840"/>
              <a:chExt cx="3152880" cy="237240"/>
            </a:xfrm>
          </p:grpSpPr>
          <p:grpSp>
            <p:nvGrpSpPr>
              <p:cNvPr id="605" name="Group 6"/>
              <p:cNvGrpSpPr/>
              <p:nvPr/>
            </p:nvGrpSpPr>
            <p:grpSpPr>
              <a:xfrm>
                <a:off x="2476440" y="4155840"/>
                <a:ext cx="685800" cy="237240"/>
                <a:chOff x="2476440" y="4155840"/>
                <a:chExt cx="685800" cy="237240"/>
              </a:xfrm>
            </p:grpSpPr>
            <p:sp>
              <p:nvSpPr>
                <p:cNvPr id="606"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2" name="Group 13"/>
              <p:cNvGrpSpPr/>
              <p:nvPr/>
            </p:nvGrpSpPr>
            <p:grpSpPr>
              <a:xfrm>
                <a:off x="4105080" y="4155840"/>
                <a:ext cx="685800" cy="237240"/>
                <a:chOff x="4105080" y="4155840"/>
                <a:chExt cx="685800" cy="237240"/>
              </a:xfrm>
            </p:grpSpPr>
            <p:sp>
              <p:nvSpPr>
                <p:cNvPr id="613"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9" name="Group 20"/>
              <p:cNvGrpSpPr/>
              <p:nvPr/>
            </p:nvGrpSpPr>
            <p:grpSpPr>
              <a:xfrm>
                <a:off x="3295440" y="4155840"/>
                <a:ext cx="685800" cy="237240"/>
                <a:chOff x="3295440" y="4155840"/>
                <a:chExt cx="685800" cy="237240"/>
              </a:xfrm>
            </p:grpSpPr>
            <p:sp>
              <p:nvSpPr>
                <p:cNvPr id="620"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6" name="Group 27"/>
              <p:cNvGrpSpPr/>
              <p:nvPr/>
            </p:nvGrpSpPr>
            <p:grpSpPr>
              <a:xfrm>
                <a:off x="4943520" y="4155840"/>
                <a:ext cx="685800" cy="237240"/>
                <a:chOff x="4943520" y="4155840"/>
                <a:chExt cx="685800" cy="237240"/>
              </a:xfrm>
            </p:grpSpPr>
            <p:sp>
              <p:nvSpPr>
                <p:cNvPr id="627"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3"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4"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5"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7" name="Object 4"/>
          <p:cNvGraphicFramePr/>
          <p:nvPr/>
        </p:nvGraphicFramePr>
        <p:xfrm>
          <a:off x="436680" y="587520"/>
          <a:ext cx="4305240" cy="1676160"/>
        </p:xfrm>
        <a:graphic>
          <a:graphicData uri="http://schemas.openxmlformats.org/presentationml/2006/ole">
            <p:oleObj r:id="rId1" spid="">
              <p:embed/>
              <p:pic>
                <p:nvPicPr>
                  <p:cNvPr id="63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3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48" name="Group 14"/>
          <p:cNvGrpSpPr/>
          <p:nvPr/>
        </p:nvGrpSpPr>
        <p:grpSpPr>
          <a:xfrm>
            <a:off x="4307040" y="5025960"/>
            <a:ext cx="4792680" cy="1360440"/>
            <a:chOff x="4307040" y="5025960"/>
            <a:chExt cx="4792680" cy="1360440"/>
          </a:xfrm>
        </p:grpSpPr>
        <p:sp>
          <p:nvSpPr>
            <p:cNvPr id="64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0" name="Group 16"/>
            <p:cNvGrpSpPr/>
            <p:nvPr/>
          </p:nvGrpSpPr>
          <p:grpSpPr>
            <a:xfrm>
              <a:off x="7350480" y="5451480"/>
              <a:ext cx="443520" cy="325080"/>
              <a:chOff x="7350480" y="5451480"/>
              <a:chExt cx="443520" cy="325080"/>
            </a:xfrm>
          </p:grpSpPr>
          <p:sp>
            <p:nvSpPr>
              <p:cNvPr id="65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3" name="Group 19"/>
            <p:cNvGrpSpPr/>
            <p:nvPr/>
          </p:nvGrpSpPr>
          <p:grpSpPr>
            <a:xfrm>
              <a:off x="4307040" y="5095800"/>
              <a:ext cx="4792680" cy="1290600"/>
              <a:chOff x="4307040" y="5095800"/>
              <a:chExt cx="4792680" cy="1290600"/>
            </a:xfrm>
          </p:grpSpPr>
          <p:sp>
            <p:nvSpPr>
              <p:cNvPr id="65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Group 21"/>
              <p:cNvGrpSpPr/>
              <p:nvPr/>
            </p:nvGrpSpPr>
            <p:grpSpPr>
              <a:xfrm>
                <a:off x="8739360" y="5103720"/>
                <a:ext cx="9360" cy="1070280"/>
                <a:chOff x="8739360" y="5103720"/>
                <a:chExt cx="9360" cy="1070280"/>
              </a:xfrm>
            </p:grpSpPr>
            <p:sp>
              <p:nvSpPr>
                <p:cNvPr id="65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Group 44"/>
              <p:cNvGrpSpPr/>
              <p:nvPr/>
            </p:nvGrpSpPr>
            <p:grpSpPr>
              <a:xfrm>
                <a:off x="7764480" y="5110200"/>
                <a:ext cx="9720" cy="1068480"/>
                <a:chOff x="7764480" y="5110200"/>
                <a:chExt cx="9720" cy="1068480"/>
              </a:xfrm>
            </p:grpSpPr>
            <p:sp>
              <p:nvSpPr>
                <p:cNvPr id="67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5"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7" name="Object 4"/>
          <p:cNvGraphicFramePr/>
          <p:nvPr/>
        </p:nvGraphicFramePr>
        <p:xfrm>
          <a:off x="436680" y="587520"/>
          <a:ext cx="4305240" cy="1676160"/>
        </p:xfrm>
        <a:graphic>
          <a:graphicData uri="http://schemas.openxmlformats.org/presentationml/2006/ole">
            <p:oleObj r:id="rId1" spid="">
              <p:embed/>
              <p:pic>
                <p:nvPicPr>
                  <p:cNvPr id="70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0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18" name="Group 14"/>
          <p:cNvGrpSpPr/>
          <p:nvPr/>
        </p:nvGrpSpPr>
        <p:grpSpPr>
          <a:xfrm>
            <a:off x="4307040" y="5025960"/>
            <a:ext cx="4792680" cy="1360440"/>
            <a:chOff x="4307040" y="5025960"/>
            <a:chExt cx="4792680" cy="1360440"/>
          </a:xfrm>
        </p:grpSpPr>
        <p:sp>
          <p:nvSpPr>
            <p:cNvPr id="71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0" name="Group 16"/>
            <p:cNvGrpSpPr/>
            <p:nvPr/>
          </p:nvGrpSpPr>
          <p:grpSpPr>
            <a:xfrm>
              <a:off x="7350480" y="5451480"/>
              <a:ext cx="443520" cy="325080"/>
              <a:chOff x="7350480" y="5451480"/>
              <a:chExt cx="443520" cy="325080"/>
            </a:xfrm>
          </p:grpSpPr>
          <p:sp>
            <p:nvSpPr>
              <p:cNvPr id="72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3" name="Group 19"/>
            <p:cNvGrpSpPr/>
            <p:nvPr/>
          </p:nvGrpSpPr>
          <p:grpSpPr>
            <a:xfrm>
              <a:off x="4307040" y="5095800"/>
              <a:ext cx="4792680" cy="1290600"/>
              <a:chOff x="4307040" y="5095800"/>
              <a:chExt cx="4792680" cy="1290600"/>
            </a:xfrm>
          </p:grpSpPr>
          <p:sp>
            <p:nvSpPr>
              <p:cNvPr id="72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Group 21"/>
              <p:cNvGrpSpPr/>
              <p:nvPr/>
            </p:nvGrpSpPr>
            <p:grpSpPr>
              <a:xfrm>
                <a:off x="8739360" y="5103720"/>
                <a:ext cx="9360" cy="1070280"/>
                <a:chOff x="8739360" y="5103720"/>
                <a:chExt cx="9360" cy="1070280"/>
              </a:xfrm>
            </p:grpSpPr>
            <p:sp>
              <p:nvSpPr>
                <p:cNvPr id="72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2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3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Group 44"/>
              <p:cNvGrpSpPr/>
              <p:nvPr/>
            </p:nvGrpSpPr>
            <p:grpSpPr>
              <a:xfrm>
                <a:off x="7764480" y="5110200"/>
                <a:ext cx="9720" cy="1068480"/>
                <a:chOff x="7764480" y="5110200"/>
                <a:chExt cx="9720" cy="1068480"/>
              </a:xfrm>
            </p:grpSpPr>
            <p:sp>
              <p:nvSpPr>
                <p:cNvPr id="74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5" name="Object 71"/>
          <p:cNvGraphicFramePr/>
          <p:nvPr/>
        </p:nvGraphicFramePr>
        <p:xfrm>
          <a:off x="485640" y="4135320"/>
          <a:ext cx="3602160" cy="708120"/>
        </p:xfrm>
        <a:graphic>
          <a:graphicData uri="http://schemas.openxmlformats.org/presentationml/2006/ole">
            <p:oleObj r:id="rId5" spid="">
              <p:embed/>
              <p:pic>
                <p:nvPicPr>
                  <p:cNvPr id="776"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7"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9"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0" name="Object 4"/>
          <p:cNvGraphicFramePr/>
          <p:nvPr/>
        </p:nvGraphicFramePr>
        <p:xfrm>
          <a:off x="436680" y="587520"/>
          <a:ext cx="4305240" cy="1676160"/>
        </p:xfrm>
        <a:graphic>
          <a:graphicData uri="http://schemas.openxmlformats.org/presentationml/2006/ole">
            <p:oleObj r:id="rId1" spid="">
              <p:embed/>
              <p:pic>
                <p:nvPicPr>
                  <p:cNvPr id="781"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2"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3"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5"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88"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1" name="Group 14"/>
          <p:cNvGrpSpPr/>
          <p:nvPr/>
        </p:nvGrpSpPr>
        <p:grpSpPr>
          <a:xfrm>
            <a:off x="4307040" y="5025960"/>
            <a:ext cx="4792680" cy="1360440"/>
            <a:chOff x="4307040" y="5025960"/>
            <a:chExt cx="4792680" cy="1360440"/>
          </a:xfrm>
        </p:grpSpPr>
        <p:sp>
          <p:nvSpPr>
            <p:cNvPr id="792"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3" name="Group 16"/>
            <p:cNvGrpSpPr/>
            <p:nvPr/>
          </p:nvGrpSpPr>
          <p:grpSpPr>
            <a:xfrm>
              <a:off x="7350480" y="5451480"/>
              <a:ext cx="443520" cy="325080"/>
              <a:chOff x="7350480" y="5451480"/>
              <a:chExt cx="443520" cy="325080"/>
            </a:xfrm>
          </p:grpSpPr>
          <p:sp>
            <p:nvSpPr>
              <p:cNvPr id="794"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6" name="Group 19"/>
            <p:cNvGrpSpPr/>
            <p:nvPr/>
          </p:nvGrpSpPr>
          <p:grpSpPr>
            <a:xfrm>
              <a:off x="4307040" y="5095800"/>
              <a:ext cx="4792680" cy="1290600"/>
              <a:chOff x="4307040" y="5095800"/>
              <a:chExt cx="4792680" cy="1290600"/>
            </a:xfrm>
          </p:grpSpPr>
          <p:sp>
            <p:nvSpPr>
              <p:cNvPr id="797"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8" name="Group 21"/>
              <p:cNvGrpSpPr/>
              <p:nvPr/>
            </p:nvGrpSpPr>
            <p:grpSpPr>
              <a:xfrm>
                <a:off x="8739360" y="5103720"/>
                <a:ext cx="9360" cy="1070280"/>
                <a:chOff x="8739360" y="5103720"/>
                <a:chExt cx="9360" cy="1070280"/>
              </a:xfrm>
            </p:grpSpPr>
            <p:sp>
              <p:nvSpPr>
                <p:cNvPr id="799"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1"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4"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7"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8"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1"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5"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6"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7"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8"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1" name="Group 44"/>
              <p:cNvGrpSpPr/>
              <p:nvPr/>
            </p:nvGrpSpPr>
            <p:grpSpPr>
              <a:xfrm>
                <a:off x="7764480" y="5110200"/>
                <a:ext cx="9720" cy="1068480"/>
                <a:chOff x="7764480" y="5110200"/>
                <a:chExt cx="9720" cy="1068480"/>
              </a:xfrm>
            </p:grpSpPr>
            <p:sp>
              <p:nvSpPr>
                <p:cNvPr id="822"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3"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6"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8"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1"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5"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8"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39"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5"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7"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48" name="Object 71"/>
          <p:cNvGraphicFramePr/>
          <p:nvPr/>
        </p:nvGraphicFramePr>
        <p:xfrm>
          <a:off x="485640" y="4135320"/>
          <a:ext cx="3602160" cy="708120"/>
        </p:xfrm>
        <a:graphic>
          <a:graphicData uri="http://schemas.openxmlformats.org/presentationml/2006/ole">
            <p:oleObj r:id="rId5" spid="">
              <p:embed/>
              <p:pic>
                <p:nvPicPr>
                  <p:cNvPr id="849"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0"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3"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4"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5"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6"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7" name="Group 5"/>
          <p:cNvGrpSpPr/>
          <p:nvPr/>
        </p:nvGrpSpPr>
        <p:grpSpPr>
          <a:xfrm>
            <a:off x="2080440" y="4076640"/>
            <a:ext cx="981360" cy="1009800"/>
            <a:chOff x="2080440" y="4076640"/>
            <a:chExt cx="981360" cy="1009800"/>
          </a:xfrm>
        </p:grpSpPr>
        <p:grpSp>
          <p:nvGrpSpPr>
            <p:cNvPr id="858" name="Group 6"/>
            <p:cNvGrpSpPr/>
            <p:nvPr/>
          </p:nvGrpSpPr>
          <p:grpSpPr>
            <a:xfrm>
              <a:off x="2080440" y="4076640"/>
              <a:ext cx="981360" cy="1009800"/>
              <a:chOff x="2080440" y="4076640"/>
              <a:chExt cx="981360" cy="1009800"/>
            </a:xfrm>
          </p:grpSpPr>
          <p:sp>
            <p:nvSpPr>
              <p:cNvPr id="859"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1" name="Group 9"/>
              <p:cNvGrpSpPr/>
              <p:nvPr/>
            </p:nvGrpSpPr>
            <p:grpSpPr>
              <a:xfrm>
                <a:off x="2336400" y="4676400"/>
                <a:ext cx="421920" cy="209880"/>
                <a:chOff x="2336400" y="4676400"/>
                <a:chExt cx="421920" cy="209880"/>
              </a:xfrm>
            </p:grpSpPr>
            <p:sp>
              <p:nvSpPr>
                <p:cNvPr id="862"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4"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6" name="Group 14"/>
              <p:cNvGrpSpPr/>
              <p:nvPr/>
            </p:nvGrpSpPr>
            <p:grpSpPr>
              <a:xfrm>
                <a:off x="2453040" y="4909680"/>
                <a:ext cx="390600" cy="143280"/>
                <a:chOff x="2453040" y="4909680"/>
                <a:chExt cx="390600" cy="143280"/>
              </a:xfrm>
            </p:grpSpPr>
            <p:sp>
              <p:nvSpPr>
                <p:cNvPr id="867"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68"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0"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1"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2" name="Group 20"/>
          <p:cNvGrpSpPr/>
          <p:nvPr/>
        </p:nvGrpSpPr>
        <p:grpSpPr>
          <a:xfrm>
            <a:off x="6134040" y="1273320"/>
            <a:ext cx="2629080" cy="1708200"/>
            <a:chOff x="6134040" y="1273320"/>
            <a:chExt cx="2629080" cy="1708200"/>
          </a:xfrm>
        </p:grpSpPr>
        <p:sp>
          <p:nvSpPr>
            <p:cNvPr id="873"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5" name="Group 23"/>
            <p:cNvGrpSpPr/>
            <p:nvPr/>
          </p:nvGrpSpPr>
          <p:grpSpPr>
            <a:xfrm>
              <a:off x="6772320" y="1514520"/>
              <a:ext cx="1266480" cy="981000"/>
              <a:chOff x="6772320" y="1514520"/>
              <a:chExt cx="1266480" cy="981000"/>
            </a:xfrm>
          </p:grpSpPr>
          <p:grpSp>
            <p:nvGrpSpPr>
              <p:cNvPr id="876" name="Group 24"/>
              <p:cNvGrpSpPr/>
              <p:nvPr/>
            </p:nvGrpSpPr>
            <p:grpSpPr>
              <a:xfrm>
                <a:off x="6772320" y="1514520"/>
                <a:ext cx="361800" cy="981000"/>
                <a:chOff x="6772320" y="1514520"/>
                <a:chExt cx="361800" cy="981000"/>
              </a:xfrm>
            </p:grpSpPr>
            <p:sp>
              <p:nvSpPr>
                <p:cNvPr id="877"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2" name="Group 30"/>
              <p:cNvGrpSpPr/>
              <p:nvPr/>
            </p:nvGrpSpPr>
            <p:grpSpPr>
              <a:xfrm>
                <a:off x="7219800" y="1514520"/>
                <a:ext cx="361800" cy="981000"/>
                <a:chOff x="7219800" y="1514520"/>
                <a:chExt cx="361800" cy="981000"/>
              </a:xfrm>
            </p:grpSpPr>
            <p:sp>
              <p:nvSpPr>
                <p:cNvPr id="883"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4"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8" name="Group 36"/>
              <p:cNvGrpSpPr/>
              <p:nvPr/>
            </p:nvGrpSpPr>
            <p:grpSpPr>
              <a:xfrm>
                <a:off x="7677000" y="1514520"/>
                <a:ext cx="361800" cy="981000"/>
                <a:chOff x="7677000" y="1514520"/>
                <a:chExt cx="361800" cy="981000"/>
              </a:xfrm>
            </p:grpSpPr>
            <p:sp>
              <p:nvSpPr>
                <p:cNvPr id="889"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0"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1"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4"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5" name="Group 43"/>
            <p:cNvGrpSpPr/>
            <p:nvPr/>
          </p:nvGrpSpPr>
          <p:grpSpPr>
            <a:xfrm>
              <a:off x="6686640" y="1600200"/>
              <a:ext cx="1352160" cy="809640"/>
              <a:chOff x="6686640" y="1600200"/>
              <a:chExt cx="1352160" cy="809640"/>
            </a:xfrm>
          </p:grpSpPr>
          <p:grpSp>
            <p:nvGrpSpPr>
              <p:cNvPr id="896" name="Group 44"/>
              <p:cNvGrpSpPr/>
              <p:nvPr/>
            </p:nvGrpSpPr>
            <p:grpSpPr>
              <a:xfrm>
                <a:off x="6686640" y="2048040"/>
                <a:ext cx="1352160" cy="361800"/>
                <a:chOff x="6686640" y="2048040"/>
                <a:chExt cx="1352160" cy="361800"/>
              </a:xfrm>
            </p:grpSpPr>
            <p:sp>
              <p:nvSpPr>
                <p:cNvPr id="897"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8"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9"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2" name="Group 50"/>
              <p:cNvGrpSpPr/>
              <p:nvPr/>
            </p:nvGrpSpPr>
            <p:grpSpPr>
              <a:xfrm>
                <a:off x="6686640" y="1600200"/>
                <a:ext cx="1342440" cy="361800"/>
                <a:chOff x="6686640" y="1600200"/>
                <a:chExt cx="1342440" cy="361800"/>
              </a:xfrm>
            </p:grpSpPr>
            <p:sp>
              <p:nvSpPr>
                <p:cNvPr id="903"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5"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08"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09"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0"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2"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3"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4" name="Group 62"/>
          <p:cNvGrpSpPr/>
          <p:nvPr/>
        </p:nvGrpSpPr>
        <p:grpSpPr>
          <a:xfrm>
            <a:off x="2940120" y="1289160"/>
            <a:ext cx="2913120" cy="1976400"/>
            <a:chOff x="2940120" y="1289160"/>
            <a:chExt cx="2913120" cy="1976400"/>
          </a:xfrm>
        </p:grpSpPr>
        <p:sp>
          <p:nvSpPr>
            <p:cNvPr id="915"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3"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5"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6" name="Group 74"/>
            <p:cNvGrpSpPr/>
            <p:nvPr/>
          </p:nvGrpSpPr>
          <p:grpSpPr>
            <a:xfrm>
              <a:off x="4083120" y="2695680"/>
              <a:ext cx="552240" cy="136440"/>
              <a:chOff x="4083120" y="2695680"/>
              <a:chExt cx="552240" cy="136440"/>
            </a:xfrm>
          </p:grpSpPr>
          <p:sp>
            <p:nvSpPr>
              <p:cNvPr id="927"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0" name="Group 78"/>
            <p:cNvGrpSpPr/>
            <p:nvPr/>
          </p:nvGrpSpPr>
          <p:grpSpPr>
            <a:xfrm>
              <a:off x="4792680" y="1790280"/>
              <a:ext cx="151920" cy="268560"/>
              <a:chOff x="4792680" y="1790280"/>
              <a:chExt cx="151920" cy="268560"/>
            </a:xfrm>
          </p:grpSpPr>
          <p:sp>
            <p:nvSpPr>
              <p:cNvPr id="931"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4"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5"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6"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0"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1"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2"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3"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5"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6"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9"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1"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2"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3"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4"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5"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6"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68"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69"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1"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2"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4"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5"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7"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8"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0"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2"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3"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4"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5"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7"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88"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89"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0"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1"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2"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3"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6"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7"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998"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0"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1"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2"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3"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4"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6"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08"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09" name="Group 8"/>
          <p:cNvGrpSpPr/>
          <p:nvPr/>
        </p:nvGrpSpPr>
        <p:grpSpPr>
          <a:xfrm>
            <a:off x="7108920" y="638280"/>
            <a:ext cx="1534320" cy="1658160"/>
            <a:chOff x="7108920" y="638280"/>
            <a:chExt cx="1534320" cy="1658160"/>
          </a:xfrm>
        </p:grpSpPr>
        <p:sp>
          <p:nvSpPr>
            <p:cNvPr id="1010"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1"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2"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5"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6"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7"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18"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19" name="Group 22"/>
          <p:cNvGrpSpPr/>
          <p:nvPr/>
        </p:nvGrpSpPr>
        <p:grpSpPr>
          <a:xfrm>
            <a:off x="7507080" y="4447800"/>
            <a:ext cx="1211040" cy="1284840"/>
            <a:chOff x="7507080" y="4447800"/>
            <a:chExt cx="1211040" cy="1284840"/>
          </a:xfrm>
        </p:grpSpPr>
        <p:sp>
          <p:nvSpPr>
            <p:cNvPr id="1020"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5"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6" name="Group 4"/>
          <p:cNvGrpSpPr/>
          <p:nvPr/>
        </p:nvGrpSpPr>
        <p:grpSpPr>
          <a:xfrm>
            <a:off x="7108920" y="638280"/>
            <a:ext cx="1534320" cy="1658160"/>
            <a:chOff x="7108920" y="638280"/>
            <a:chExt cx="1534320" cy="1658160"/>
          </a:xfrm>
        </p:grpSpPr>
        <p:sp>
          <p:nvSpPr>
            <p:cNvPr id="1027"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8"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2"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3"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5"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6" name="Group 14"/>
          <p:cNvGrpSpPr/>
          <p:nvPr/>
        </p:nvGrpSpPr>
        <p:grpSpPr>
          <a:xfrm>
            <a:off x="7507080" y="4447800"/>
            <a:ext cx="1211040" cy="1284840"/>
            <a:chOff x="7507080" y="4447800"/>
            <a:chExt cx="1211040" cy="1284840"/>
          </a:xfrm>
        </p:grpSpPr>
        <p:sp>
          <p:nvSpPr>
            <p:cNvPr id="1037"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1"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2"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4"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5" name="Group 4"/>
          <p:cNvGrpSpPr/>
          <p:nvPr/>
        </p:nvGrpSpPr>
        <p:grpSpPr>
          <a:xfrm>
            <a:off x="7108920" y="638280"/>
            <a:ext cx="1534320" cy="1658160"/>
            <a:chOff x="7108920" y="638280"/>
            <a:chExt cx="1534320" cy="1658160"/>
          </a:xfrm>
        </p:grpSpPr>
        <p:sp>
          <p:nvSpPr>
            <p:cNvPr id="1046"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1"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2"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4"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5" name="Group 14"/>
          <p:cNvGrpSpPr/>
          <p:nvPr/>
        </p:nvGrpSpPr>
        <p:grpSpPr>
          <a:xfrm>
            <a:off x="7507080" y="4447800"/>
            <a:ext cx="1211040" cy="1284840"/>
            <a:chOff x="7507080" y="4447800"/>
            <a:chExt cx="1211040" cy="1284840"/>
          </a:xfrm>
        </p:grpSpPr>
        <p:sp>
          <p:nvSpPr>
            <p:cNvPr id="1056"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0"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1"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4"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7" name="Group 42"/>
          <p:cNvGrpSpPr/>
          <p:nvPr/>
        </p:nvGrpSpPr>
        <p:grpSpPr>
          <a:xfrm>
            <a:off x="4662360" y="4741920"/>
            <a:ext cx="3186000" cy="2117520"/>
            <a:chOff x="4662360" y="4741920"/>
            <a:chExt cx="3186000" cy="2117520"/>
          </a:xfrm>
        </p:grpSpPr>
        <p:sp>
          <p:nvSpPr>
            <p:cNvPr id="106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7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79" name="Object 54"/>
          <p:cNvGraphicFramePr/>
          <p:nvPr/>
        </p:nvGraphicFramePr>
        <p:xfrm>
          <a:off x="741240" y="2554200"/>
          <a:ext cx="1652760" cy="749520"/>
        </p:xfrm>
        <a:graphic>
          <a:graphicData uri="http://schemas.openxmlformats.org/presentationml/2006/ole">
            <p:oleObj r:id="rId1" spid="">
              <p:embed/>
              <p:pic>
                <p:nvPicPr>
                  <p:cNvPr id="108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4"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5"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6"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7"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88"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89"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1"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2"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3" name="Group 5"/>
          <p:cNvGrpSpPr/>
          <p:nvPr/>
        </p:nvGrpSpPr>
        <p:grpSpPr>
          <a:xfrm>
            <a:off x="7056360" y="949320"/>
            <a:ext cx="1528560" cy="2106360"/>
            <a:chOff x="7056360" y="949320"/>
            <a:chExt cx="1528560" cy="2106360"/>
          </a:xfrm>
        </p:grpSpPr>
        <p:sp>
          <p:nvSpPr>
            <p:cNvPr id="1094"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5"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99"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1"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2"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4"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6"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7" name="Group 6"/>
          <p:cNvGrpSpPr/>
          <p:nvPr/>
        </p:nvGrpSpPr>
        <p:grpSpPr>
          <a:xfrm>
            <a:off x="7056360" y="727200"/>
            <a:ext cx="1528560" cy="2106360"/>
            <a:chOff x="7056360" y="727200"/>
            <a:chExt cx="1528560" cy="2106360"/>
          </a:xfrm>
        </p:grpSpPr>
        <p:sp>
          <p:nvSpPr>
            <p:cNvPr id="1108"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09"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0"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3"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5"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6"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7"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19"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1"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2"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3" name="Group 7"/>
          <p:cNvGrpSpPr/>
          <p:nvPr/>
        </p:nvGrpSpPr>
        <p:grpSpPr>
          <a:xfrm>
            <a:off x="7056360" y="638280"/>
            <a:ext cx="1528560" cy="2106360"/>
            <a:chOff x="7056360" y="638280"/>
            <a:chExt cx="1528560" cy="2106360"/>
          </a:xfrm>
        </p:grpSpPr>
        <p:sp>
          <p:nvSpPr>
            <p:cNvPr id="1124"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5"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29"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2" name="Object 16"/>
          <p:cNvGraphicFramePr/>
          <p:nvPr/>
        </p:nvGraphicFramePr>
        <p:xfrm>
          <a:off x="1463760" y="6049800"/>
          <a:ext cx="1954080" cy="835200"/>
        </p:xfrm>
        <a:graphic>
          <a:graphicData uri="http://schemas.openxmlformats.org/presentationml/2006/ole">
            <p:oleObj r:id="rId2" spid="">
              <p:embed/>
              <p:pic>
                <p:nvPicPr>
                  <p:cNvPr id="1133"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1134"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5"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6"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7"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3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3" name=""/>
          <p:cNvGrpSpPr/>
          <p:nvPr/>
        </p:nvGrpSpPr>
        <p:grpSpPr>
          <a:xfrm>
            <a:off x="981000" y="1474920"/>
            <a:ext cx="6846840" cy="1224720"/>
            <a:chOff x="981000" y="1474920"/>
            <a:chExt cx="6846840" cy="1224720"/>
          </a:xfrm>
        </p:grpSpPr>
        <p:sp>
          <p:nvSpPr>
            <p:cNvPr id="43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2-01T01:11:10Z</dcterms:modified>
  <cp:revision>478</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