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18.wmf" ContentType="image/x-wmf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0.png" ContentType="image/png"/>
  <Override PartName="/ppt/media/image28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7.wmf" ContentType="image/x-wmf"/>
  <Override PartName="/ppt/media/image9.png" ContentType="image/png"/>
  <Override PartName="/ppt/media/image13.wmf" ContentType="image/x-wmf"/>
  <Override PartName="/ppt/media/image37.wmf" ContentType="image/x-wmf"/>
  <Override PartName="/ppt/media/image3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B8F867E-36DC-4E0F-91B3-E005DCF12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95FD39EC-EE71-4AE0-90BD-006E06BAB8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38F397E9-02E3-4DD6-ADD6-46F990B3AC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 -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6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1000" y="4799160"/>
            <a:ext cx="85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nce the region in question is very small (i.e.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early constant), we can approximate the integra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0" name="Object 56"/>
          <p:cNvGraphicFramePr/>
          <p:nvPr/>
        </p:nvGraphicFramePr>
        <p:xfrm>
          <a:off x="326880" y="5518080"/>
          <a:ext cx="871704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880" y="5518080"/>
                    <a:ext cx="8717040" cy="8143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4956120" y="6461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ct solution = 0.003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9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50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51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52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52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53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53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53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5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5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5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6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6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6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2-24T00:10:27Z</dcterms:modified>
  <cp:revision>43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