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2098AA6-7946-4D84-9ACC-E5B1BB91F7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how the time would change if we didn’t have an equal superposition of the two. (not at 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7826BBA8-5345-4C09-8C0E-B8EBEE4BC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0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2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3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7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8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5999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00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01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6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07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8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9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1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12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3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4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7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8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19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20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1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2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3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4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5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26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7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8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9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0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31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2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3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4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5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36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38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9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41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42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43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4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5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6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7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8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49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0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1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3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54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6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7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9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0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1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62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4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66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67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3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4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5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6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7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8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9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82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83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4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5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6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7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8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3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4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5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00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01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1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2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13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4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4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25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7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8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9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0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1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2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3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34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5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6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37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9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0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41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4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5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9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50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1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2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53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4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5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7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58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59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60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1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2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3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4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5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66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7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8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9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0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1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2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3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4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75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78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80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81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82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7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88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9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2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3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4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6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97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0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1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03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04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05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6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9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0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11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3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4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15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6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7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8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9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0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1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5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8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29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3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4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35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6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38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9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0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41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2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3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4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5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46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0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51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2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4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5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6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8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9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0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1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2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3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4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5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6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7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9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270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1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2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3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7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8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9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0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1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2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3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6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7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288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9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0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1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292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293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7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8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9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1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02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3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04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5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6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07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13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16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8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19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0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1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22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3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4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5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6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2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3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3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3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3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4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4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4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3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55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57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58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9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0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1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2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3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4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6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67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9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0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1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2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3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4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5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76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7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8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9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0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2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383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4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5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6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7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9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0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2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4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5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6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7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9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0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3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4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5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06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4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5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3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4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2-17T23:32:01Z</dcterms:modified>
  <cp:revision>619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