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23.wmf" ContentType="image/x-wmf"/>
  <Override PartName="/ppt/media/image20.gif" ContentType="image/gif"/>
  <Override PartName="/ppt/media/image6.wmf" ContentType="image/x-wmf"/>
  <Override PartName="/ppt/media/image4.wmf" ContentType="image/x-wmf"/>
  <Override PartName="/ppt/media/image22.png" ContentType="image/png"/>
  <Override PartName="/ppt/media/image2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97186F-61DD-4552-A0A9-77237E218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97120" y="0"/>
            <a:ext cx="1623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hqrd.hitachi.co.jp/rd/moviee/doubleslite.w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1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believe that the existence of the classical ‘path’ can be pregnantly formulated as follows: The ‘path’ comes into existence only when we observe it.” –Heisen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f = f0/2 --- answer is then Stays the Same – NO photo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we add the parenthetica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you could also double the intensity by focussing the beam, but that would not change the number of photons (or photoelectron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A1C359D0-81C8-4826-AB57-0F105F6F07F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1FF5691D-03CD-4741-84DD-D62063778B3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5AA0C42F-9B89-42C4-95ED-3F215C1C200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hqrd.hitachi.co.jp/em/doubleslit-f1.cfm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www.hqrd.hitachi.co.jp/em/doubleslit-f2.cfm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www.hqrd.hitachi.co.jp/em/doubleslit-f2.cfm" TargetMode="External"/><Relationship Id="rId6" Type="http://schemas.openxmlformats.org/officeDocument/2006/relationships/image" Target="../media/image8.png"/><Relationship Id="rId7" Type="http://schemas.openxmlformats.org/officeDocument/2006/relationships/hyperlink" Target="http://www.hqrd.hitachi.co.jp/rd/moviee/doubleslite.wmv" TargetMode="External"/><Relationship Id="rId8" Type="http://schemas.openxmlformats.org/officeDocument/2006/relationships/hyperlink" Target="http://www.quantum-physics.polytechnique.fr/index.html" TargetMode="External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29000" y="1293840"/>
            <a:ext cx="444168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27200" y="2048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2080" y="682200"/>
            <a:ext cx="918396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352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353" name="Picture 6" descr="laser"/>
              <p:cNvPicPr/>
              <p:nvPr/>
            </p:nvPicPr>
            <p:blipFill>
              <a:blip r:embed="rId1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4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355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359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360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2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3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Text Box 17"/>
          <p:cNvSpPr/>
          <p:nvPr/>
        </p:nvSpPr>
        <p:spPr>
          <a:xfrm>
            <a:off x="7323120" y="6326280"/>
            <a:ext cx="1574640" cy="307080"/>
          </a:xfrm>
          <a:prstGeom prst="rect">
            <a:avLst/>
          </a:prstGeom>
          <a:noFill/>
          <a:ln w="9360">
            <a:solidFill>
              <a:srgbClr val="e7f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7f210"/>
                </a:solidFill>
                <a:latin typeface="Comic Sans MS"/>
                <a:ea typeface="Arial"/>
              </a:rPr>
              <a:t>Answer: 30 k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6742080" y="3106800"/>
            <a:ext cx="189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276120" y="665280"/>
            <a:ext cx="8958240" cy="9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7" name="Object 3"/>
          <p:cNvGraphicFramePr/>
          <p:nvPr/>
        </p:nvGraphicFramePr>
        <p:xfrm>
          <a:off x="984240" y="4371840"/>
          <a:ext cx="710712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4240" y="4371840"/>
                    <a:ext cx="710712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9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370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371" name="Picture 6" descr="laser"/>
              <p:cNvPicPr/>
              <p:nvPr/>
            </p:nvPicPr>
            <p:blipFill>
              <a:blip r:embed="rId3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72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373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377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378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0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Text Box 17"/>
          <p:cNvSpPr/>
          <p:nvPr/>
        </p:nvSpPr>
        <p:spPr>
          <a:xfrm>
            <a:off x="6742080" y="3063960"/>
            <a:ext cx="194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1219320"/>
            <a:ext cx="784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es what we measure determine whether we observe wave or particle propert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frequency, f.  So, if we measure momentum (wavelength) or energy (frequency), we have observed the wave properties of our objec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position (and trajectories).  If we measure positio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hich slit it went through) we have observed a particle property.  That’s why the “which slit” measurement destroys the interference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particle and wave properties are incompatible.  One can’t simultaneously measure both wavelength and position.  This is the basis of Heisenberg’s “uncertainty principle”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more la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7" name=""/>
          <p:cNvSpPr/>
          <p:nvPr/>
        </p:nvSpPr>
        <p:spPr>
          <a:xfrm>
            <a:off x="304920" y="990720"/>
            <a:ext cx="56671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500-nm laser sent into a Michelson interferometer, one of whose mirrors is moving rapidly (thereby shifting the color of the light in that arm to 502 nm). What will we observe at the output detecto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ingle interference pattern, i.e., fringes with spacing 501 nm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double interference pattern, i.e., fringes with spacing 500 nm, plus fringes at 502 nm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 light whatso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(half the intensity of the laser), but no interference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773760" y="1847880"/>
            <a:ext cx="17938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021520" y="20574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434280" y="1828800"/>
            <a:ext cx="2133360" cy="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8572680" y="1600200"/>
            <a:ext cx="1440" cy="50472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7539120" y="482760"/>
            <a:ext cx="28440" cy="1963440"/>
          </a:xfrm>
          <a:prstGeom prst="line">
            <a:avLst/>
          </a:prstGeom>
          <a:ln w="101520">
            <a:solidFill>
              <a:srgbClr val="ffff00"/>
            </a:solidFill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7314840" y="457200"/>
            <a:ext cx="49068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556320" y="1835280"/>
            <a:ext cx="327240" cy="0"/>
          </a:xfrm>
          <a:prstGeom prst="line">
            <a:avLst/>
          </a:prstGeom>
          <a:ln w="101520">
            <a:solidFill>
              <a:srgbClr val="ffff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7230960" y="2436840"/>
            <a:ext cx="612720" cy="37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3333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1295280"/>
            <a:ext cx="14050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8-mW la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53240" y="5382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7435440" y="1697040"/>
            <a:ext cx="297000" cy="30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643960" y="1981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304920" y="990720"/>
            <a:ext cx="56671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500-nm laser sent into a Michelson interferometer, one of whose mirrors is moving rapidly (thereby shifting the color of the light in that arm to 502 nm). What will we observe at the output detecto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ingle interference pattern, i.e., fringes with spacing 501 nm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double interference pattern, i.e., fringes with spacing 500 nm, plus fringes at 502 nm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 light whatso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(half the intensity of the laser), but no interference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3520" y="4114800"/>
            <a:ext cx="5333760" cy="68580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4952880"/>
            <a:ext cx="58672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Interference only occurs when the contributing processes are 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indistinguishable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. In the current case, you could tell which path a given photon took, by measuring it’s colo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Therefore, there’s no interfer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773760" y="1847880"/>
            <a:ext cx="17938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21520" y="20574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434280" y="1828800"/>
            <a:ext cx="2133360" cy="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8572680" y="1600200"/>
            <a:ext cx="1440" cy="50472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7539120" y="482760"/>
            <a:ext cx="28440" cy="1963440"/>
          </a:xfrm>
          <a:prstGeom prst="line">
            <a:avLst/>
          </a:prstGeom>
          <a:ln w="101520">
            <a:solidFill>
              <a:srgbClr val="ffff00"/>
            </a:solidFill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7314840" y="457200"/>
            <a:ext cx="49068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556320" y="1835280"/>
            <a:ext cx="327240" cy="0"/>
          </a:xfrm>
          <a:prstGeom prst="line">
            <a:avLst/>
          </a:prstGeom>
          <a:ln w="101520">
            <a:solidFill>
              <a:srgbClr val="ffff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7230960" y="2436840"/>
            <a:ext cx="612720" cy="37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3333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943600" y="1295280"/>
            <a:ext cx="14050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8-mW la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653240" y="5382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435440" y="1697040"/>
            <a:ext cx="297000" cy="30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643960" y="1981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49400" y="95400"/>
            <a:ext cx="8845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Double-slit” Experiment for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2920" y="890640"/>
            <a:ext cx="39448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lectrons are accelerated to 50 keV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= 0.0055 n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Central wire is positively charged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bends electron paths so they overlap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position-sensitive detector records where they appe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&lt;&lt; 1 electron in system at any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" descr="Fig1: Double-slit experiment with single electr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8720" y="927000"/>
            <a:ext cx="4294080" cy="32274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4521240" y="4600440"/>
            <a:ext cx="4249800" cy="19400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" descr="Fig2: Single electron events build up to from an interference pattern in the double-slit experiments.">
            <a:hlinkClick r:id="rId3"/>
          </p:cNvPr>
          <p:cNvPicPr/>
          <p:nvPr/>
        </p:nvPicPr>
        <p:blipFill>
          <a:blip r:embed="rId4"/>
          <a:srcRect l="0" t="0" r="0" b="51603"/>
          <a:stretch/>
        </p:blipFill>
        <p:spPr>
          <a:xfrm>
            <a:off x="1744560" y="4781520"/>
            <a:ext cx="2826000" cy="11145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60280" y="6041880"/>
            <a:ext cx="45720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Exposure time:   1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      10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Fig2: Single electron events build up to from an interference pattern in the double-slit experiments.">
            <a:hlinkClick r:id="rId5"/>
          </p:cNvPr>
          <p:cNvPicPr/>
          <p:nvPr/>
        </p:nvPicPr>
        <p:blipFill>
          <a:blip r:embed="rId6"/>
          <a:srcRect l="0" t="51603" r="0" b="0"/>
          <a:stretch/>
        </p:blipFill>
        <p:spPr>
          <a:xfrm>
            <a:off x="4656240" y="4792680"/>
            <a:ext cx="3136680" cy="11145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4703760" y="6041880"/>
            <a:ext cx="2989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marL="231480" indent="-231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5 mi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20 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694160" y="4335480"/>
            <a:ext cx="47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Video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by A. TONOMURA (Hitachi) --pioneered electron holography.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hqrd.hitachi.co.jp/rd/moviee/doubleslite.wmv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00360" y="6535800"/>
            <a:ext cx="60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also this Java simulation: </a:t>
            </a: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8"/>
              </a:rPr>
              <a:t>http://www.quantum-physics.polytechnique.fr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425880" y="1701720"/>
            <a:ext cx="396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Rea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tanding waves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of electr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density in a “quantum corral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2496960" y="2384280"/>
            <a:ext cx="4229280" cy="4030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360600" y="2158920"/>
            <a:ext cx="1230480" cy="157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182600" y="4846680"/>
            <a:ext cx="108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IB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Almad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829120" y="5153040"/>
            <a:ext cx="1198440" cy="5191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102440" y="5460840"/>
            <a:ext cx="13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Single atoms (F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67600" y="4002120"/>
            <a:ext cx="4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518160" y="4230720"/>
            <a:ext cx="627120" cy="866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-157320" y="0"/>
            <a:ext cx="9512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  <a:ea typeface="Arial"/>
              </a:rPr>
              <a:t>Observation of an electron wave “in a box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93720" y="606600"/>
            <a:ext cx="775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mage taken with a scanning tunneling microscope (more la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(Note: the color is not real! – it is a representation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electrical current observed in the experiment)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298440" y="63360"/>
            <a:ext cx="8610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</a:t>
            </a:r>
            <a:br>
              <a:rPr sz="3600"/>
            </a:b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71360" y="1311120"/>
            <a:ext cx="79898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bility to resolve tiny objects improves as the wavelength decreas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microscop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0000" y="4879800"/>
            <a:ext cx="7789680" cy="16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objective lens of a good optical microscope has f/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2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500 nm the microscope has a resolution of 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can do much better with matter waves because electrons with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nergies of a few keV have wavelengths much less than 1 n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nstrument is known as an “electron microscope”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6319800" y="3911760"/>
                <a:ext cx="2022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λ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0" name=""/>
          <p:cNvSpPr/>
          <p:nvPr/>
        </p:nvSpPr>
        <p:spPr>
          <a:xfrm>
            <a:off x="344520" y="3798720"/>
            <a:ext cx="14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ayleigh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riter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417840" y="3735360"/>
            <a:ext cx="3005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inimum d for which we can still resolve two objects is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imes the focal lengt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1714680" y="3852720"/>
                <a:ext cx="1163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3" name=""/>
          <p:cNvGrpSpPr/>
          <p:nvPr/>
        </p:nvGrpSpPr>
        <p:grpSpPr>
          <a:xfrm>
            <a:off x="206280" y="1946160"/>
            <a:ext cx="8858520" cy="1622520"/>
            <a:chOff x="206280" y="1946160"/>
            <a:chExt cx="8858520" cy="1622520"/>
          </a:xfrm>
        </p:grpSpPr>
        <p:sp>
          <p:nvSpPr>
            <p:cNvPr id="444" name=""/>
            <p:cNvSpPr/>
            <p:nvPr/>
          </p:nvSpPr>
          <p:spPr>
            <a:xfrm>
              <a:off x="206280" y="2000160"/>
              <a:ext cx="108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bjects to be resolv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31280" y="2476440"/>
              <a:ext cx="14335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ffraction disk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interference maxima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7251840" y="2550600"/>
              <a:ext cx="559800" cy="433800"/>
              <a:chOff x="7251840" y="2550600"/>
              <a:chExt cx="559800" cy="433800"/>
            </a:xfrm>
          </p:grpSpPr>
          <p:sp>
            <p:nvSpPr>
              <p:cNvPr id="447" name=""/>
              <p:cNvSpPr/>
              <p:nvPr/>
            </p:nvSpPr>
            <p:spPr>
              <a:xfrm flipH="1" flipV="1">
                <a:off x="7251840" y="2550600"/>
                <a:ext cx="541440" cy="2113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7270560" y="2773440"/>
                <a:ext cx="541080" cy="210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6751800" y="1946160"/>
              <a:ext cx="350640" cy="1566360"/>
              <a:chOff x="6751800" y="1946160"/>
              <a:chExt cx="350640" cy="1566360"/>
            </a:xfrm>
          </p:grpSpPr>
          <p:sp>
            <p:nvSpPr>
              <p:cNvPr id="450" name=""/>
              <p:cNvSpPr/>
              <p:nvPr/>
            </p:nvSpPr>
            <p:spPr>
              <a:xfrm rot="16200000">
                <a:off x="6414120" y="2286720"/>
                <a:ext cx="102888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16200000">
                <a:off x="6411240" y="2824560"/>
                <a:ext cx="1028520" cy="34740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1219320" y="2001600"/>
              <a:ext cx="5819400" cy="1440000"/>
              <a:chOff x="1219320" y="2001600"/>
              <a:chExt cx="5819400" cy="1440000"/>
            </a:xfrm>
          </p:grpSpPr>
          <p:sp>
            <p:nvSpPr>
              <p:cNvPr id="453" name=""/>
              <p:cNvSpPr/>
              <p:nvPr/>
            </p:nvSpPr>
            <p:spPr>
              <a:xfrm>
                <a:off x="1368360" y="2028600"/>
                <a:ext cx="11772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371600" y="2412720"/>
                <a:ext cx="11736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5" name=""/>
              <p:cNvGrpSpPr/>
              <p:nvPr/>
            </p:nvGrpSpPr>
            <p:grpSpPr>
              <a:xfrm>
                <a:off x="1219320" y="2001600"/>
                <a:ext cx="5819400" cy="1440000"/>
                <a:chOff x="1219320" y="2001600"/>
                <a:chExt cx="5819400" cy="1440000"/>
              </a:xfrm>
            </p:grpSpPr>
            <p:sp>
              <p:nvSpPr>
                <p:cNvPr id="456" name=""/>
                <p:cNvSpPr/>
                <p:nvPr/>
              </p:nvSpPr>
              <p:spPr>
                <a:xfrm flipH="1">
                  <a:off x="3720600" y="2041560"/>
                  <a:ext cx="32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 flipV="1">
                  <a:off x="1450440" y="2472840"/>
                  <a:ext cx="5588280" cy="3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H="1" flipV="1">
                  <a:off x="1452600" y="2082600"/>
                  <a:ext cx="5578560" cy="951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>
                  <a:off x="3606840" y="2109600"/>
                  <a:ext cx="156960" cy="770040"/>
                </a:xfrm>
                <a:prstGeom prst="ellipse">
                  <a:avLst/>
                </a:prstGeom>
                <a:noFill/>
                <a:ln w="12600">
                  <a:solidFill>
                    <a:srgbClr val="94b3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3684600" y="2114280"/>
                  <a:ext cx="9360" cy="762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H="1">
                  <a:off x="4674960" y="237168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H="1">
                  <a:off x="2422440" y="218736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434960" y="2001600"/>
                  <a:ext cx="0" cy="1440000"/>
                </a:xfrm>
                <a:prstGeom prst="line">
                  <a:avLst/>
                </a:prstGeom>
                <a:ln w="12600">
                  <a:solidFill>
                    <a:srgbClr val="94b3fe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>
                  <a:off x="1219320" y="2104920"/>
                  <a:ext cx="36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e7f210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293840" y="2044440"/>
                  <a:ext cx="0" cy="4762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6" name=""/>
            <p:cNvGrpSpPr/>
            <p:nvPr/>
          </p:nvGrpSpPr>
          <p:grpSpPr>
            <a:xfrm>
              <a:off x="1446120" y="2813040"/>
              <a:ext cx="2205000" cy="368280"/>
              <a:chOff x="1446120" y="2813040"/>
              <a:chExt cx="2205000" cy="368280"/>
            </a:xfrm>
          </p:grpSpPr>
          <p:sp>
            <p:nvSpPr>
              <p:cNvPr id="467" name=""/>
              <p:cNvSpPr/>
              <p:nvPr/>
            </p:nvSpPr>
            <p:spPr>
              <a:xfrm>
                <a:off x="2476440" y="2813040"/>
                <a:ext cx="31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1446120" y="3022560"/>
                <a:ext cx="10368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762280" y="3017880"/>
                <a:ext cx="88884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1552680" y="3109680"/>
              <a:ext cx="234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~ focal length of lens if image plane is at a large distance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5589720" y="4719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“f-number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98440" y="22212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  </a:t>
            </a:r>
            <a:br>
              <a:rPr sz="3600"/>
            </a:b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58800" y="1355760"/>
            <a:ext cx="7808760" cy="916920"/>
          </a:xfrm>
          <a:prstGeom prst="rect">
            <a:avLst/>
          </a:prstGeom>
          <a:noFill/>
          <a:ln w="12600">
            <a:solidFill>
              <a:srgbClr val="f344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ientists and engineers - such as those here at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aterials Research La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ckman Institu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use “electron microscopy” to stud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anometer-scale structu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materials and biological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37680" y="6424560"/>
            <a:ext cx="46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aging technology at Beckman: http://www.itg.uiuc.edu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052960" y="284796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 eye of a f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642680" y="28465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-In allo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rcRect l="50634" t="13018" r="0" b="0"/>
          <a:stretch/>
        </p:blipFill>
        <p:spPr>
          <a:xfrm>
            <a:off x="216000" y="3294000"/>
            <a:ext cx="4168800" cy="285588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990720" y="57240"/>
            <a:ext cx="716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Imaging a Vir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734240" y="925560"/>
            <a:ext cx="1409760" cy="2571840"/>
            <a:chOff x="7734240" y="925560"/>
            <a:chExt cx="1409760" cy="2571840"/>
          </a:xfrm>
        </p:grpSpPr>
        <p:sp>
          <p:nvSpPr>
            <p:cNvPr id="481" name=""/>
            <p:cNvSpPr/>
            <p:nvPr/>
          </p:nvSpPr>
          <p:spPr>
            <a:xfrm>
              <a:off x="7920000" y="326232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objec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7734240" y="925560"/>
              <a:ext cx="1409760" cy="2357280"/>
              <a:chOff x="7734240" y="925560"/>
              <a:chExt cx="1409760" cy="235728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8352000" y="1407960"/>
                <a:ext cx="792000" cy="588960"/>
                <a:chOff x="8352000" y="1407960"/>
                <a:chExt cx="792000" cy="58896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8352000" y="1407960"/>
                  <a:ext cx="79200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Electron   optic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       </a:t>
                  </a:r>
                  <a:r>
                    <a:rPr b="0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H="1">
                  <a:off x="8445240" y="1857240"/>
                  <a:ext cx="245880" cy="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6" name=""/>
              <p:cNvSpPr/>
              <p:nvPr/>
            </p:nvSpPr>
            <p:spPr>
              <a:xfrm>
                <a:off x="7734240" y="2340000"/>
                <a:ext cx="3729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15240" y="925560"/>
                <a:ext cx="101448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lectron gu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8" name=""/>
              <p:cNvGrpSpPr/>
              <p:nvPr/>
            </p:nvGrpSpPr>
            <p:grpSpPr>
              <a:xfrm>
                <a:off x="7989840" y="1139760"/>
                <a:ext cx="455760" cy="2143080"/>
                <a:chOff x="7989840" y="1139760"/>
                <a:chExt cx="455760" cy="214308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7989840" y="1793880"/>
                  <a:ext cx="455760" cy="128520"/>
                </a:xfrm>
                <a:prstGeom prst="ellipse">
                  <a:avLst/>
                </a:prstGeom>
                <a:noFill/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8153280" y="1139760"/>
                  <a:ext cx="128880" cy="374760"/>
                </a:xfrm>
                <a:prstGeom prst="rect">
                  <a:avLst/>
                </a:prstGeom>
                <a:noFill/>
                <a:ln w="93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>
                  <a:off x="8035560" y="1579680"/>
                  <a:ext cx="106200" cy="25704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8211960" y="1557360"/>
                  <a:ext cx="0" cy="26820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8282160" y="1579680"/>
                  <a:ext cx="117360" cy="2458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8223120" y="1890720"/>
                  <a:ext cx="0" cy="139212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8048520" y="1890720"/>
                  <a:ext cx="163440" cy="1380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H="1">
                  <a:off x="8236080" y="1836720"/>
                  <a:ext cx="163440" cy="1434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8118360" y="3282840"/>
                  <a:ext cx="222480" cy="0"/>
                </a:xfrm>
                <a:prstGeom prst="line">
                  <a:avLst/>
                </a:prstGeom>
                <a:ln w="381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"/>
              <p:cNvSpPr/>
              <p:nvPr/>
            </p:nvSpPr>
            <p:spPr>
              <a:xfrm>
                <a:off x="7932600" y="1857240"/>
                <a:ext cx="0" cy="1425600"/>
              </a:xfrm>
              <a:prstGeom prst="line">
                <a:avLst/>
              </a:prstGeom>
              <a:ln w="9360">
                <a:solidFill>
                  <a:srgbClr val="e7f21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9" name=""/>
          <p:cNvSpPr/>
          <p:nvPr/>
        </p:nvSpPr>
        <p:spPr>
          <a:xfrm>
            <a:off x="111240" y="893880"/>
            <a:ext cx="74833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wish to observe a virus with a diameter of 20 nm, muc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small to observe with an optical microscope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the voltage requir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produce an electron wavelength suitabl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tudying this virus with a resolu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f-number” for an electron microscope is quite large: 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1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fi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quired to achieve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find E of an electron from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8800" y="76320"/>
            <a:ext cx="779616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9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roduction to QM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28600" y="3430440"/>
            <a:ext cx="3367080" cy="2675160"/>
            <a:chOff x="228600" y="3430440"/>
            <a:chExt cx="3367080" cy="2675160"/>
          </a:xfrm>
        </p:grpSpPr>
        <p:sp>
          <p:nvSpPr>
            <p:cNvPr id="128" name=""/>
            <p:cNvSpPr/>
            <p:nvPr/>
          </p:nvSpPr>
          <p:spPr>
            <a:xfrm>
              <a:off x="3408120" y="3430440"/>
              <a:ext cx="0" cy="26751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2805120" y="3447720"/>
              <a:ext cx="603000" cy="2562120"/>
              <a:chOff x="2805120" y="3447720"/>
              <a:chExt cx="603000" cy="2562120"/>
            </a:xfrm>
          </p:grpSpPr>
          <p:sp>
            <p:nvSpPr>
              <p:cNvPr id="130" name=""/>
              <p:cNvSpPr/>
              <p:nvPr/>
            </p:nvSpPr>
            <p:spPr>
              <a:xfrm rot="16200000">
                <a:off x="2466000" y="5067720"/>
                <a:ext cx="128124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 rot="16200000">
                <a:off x="2465640" y="3786480"/>
                <a:ext cx="128088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28600" y="3930480"/>
              <a:ext cx="2273400" cy="1643040"/>
              <a:chOff x="228600" y="3930480"/>
              <a:chExt cx="2273400" cy="1643040"/>
            </a:xfrm>
          </p:grpSpPr>
          <p:sp>
            <p:nvSpPr>
              <p:cNvPr id="133" name=""/>
              <p:cNvSpPr/>
              <p:nvPr/>
            </p:nvSpPr>
            <p:spPr>
              <a:xfrm>
                <a:off x="1572120" y="406692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60960" y="509256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48960" y="3930480"/>
                <a:ext cx="6804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39600" y="4925880"/>
                <a:ext cx="8208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845720" y="4613040"/>
                <a:ext cx="7272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228600" y="4011480"/>
                <a:ext cx="1364760" cy="1395360"/>
                <a:chOff x="228600" y="4011480"/>
                <a:chExt cx="1364760" cy="1395360"/>
              </a:xfrm>
            </p:grpSpPr>
            <p:sp>
              <p:nvSpPr>
                <p:cNvPr id="139" name=""/>
                <p:cNvSpPr/>
                <p:nvPr/>
              </p:nvSpPr>
              <p:spPr>
                <a:xfrm flipV="1">
                  <a:off x="2286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3790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52992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6822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83484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>
                  <a:off x="98532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>
                  <a:off x="113760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1288440" y="401292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14392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159336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3595680" y="4192560"/>
              <a:ext cx="0" cy="325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266760" y="4752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 rot="16200000">
            <a:off x="583920" y="5060160"/>
            <a:ext cx="236520" cy="564840"/>
          </a:xfrm>
          <a:prstGeom prst="downArrow">
            <a:avLst>
              <a:gd name="adj1" fmla="val 50000"/>
              <a:gd name="adj2" fmla="val 59703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433520" y="5072040"/>
          <a:ext cx="3674880" cy="6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5072040"/>
                    <a:ext cx="36748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1434960" y="3578400"/>
          <a:ext cx="1498680" cy="60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4960" y="3578400"/>
                    <a:ext cx="14986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1414440" y="4259160"/>
          <a:ext cx="4062600" cy="57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4440" y="4259160"/>
                    <a:ext cx="406260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176040" y="6037200"/>
            <a:ext cx="751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accelerate an electron to an energy of 5.6 keV requires 5.6 kilovolts .</a:t>
            </a:r>
            <a:br>
              <a:rPr sz="18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The convenience of electron-volt unit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7734240" y="925560"/>
            <a:ext cx="1409760" cy="2571840"/>
            <a:chOff x="7734240" y="925560"/>
            <a:chExt cx="1409760" cy="2571840"/>
          </a:xfrm>
        </p:grpSpPr>
        <p:sp>
          <p:nvSpPr>
            <p:cNvPr id="510" name=""/>
            <p:cNvSpPr/>
            <p:nvPr/>
          </p:nvSpPr>
          <p:spPr>
            <a:xfrm>
              <a:off x="7920000" y="326232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objec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734240" y="925560"/>
              <a:ext cx="1409760" cy="2357280"/>
              <a:chOff x="7734240" y="925560"/>
              <a:chExt cx="1409760" cy="235728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8352000" y="1407960"/>
                <a:ext cx="792000" cy="588960"/>
                <a:chOff x="8352000" y="1407960"/>
                <a:chExt cx="792000" cy="5889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8352000" y="1407960"/>
                  <a:ext cx="79200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Electron   optic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      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D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H="1">
                  <a:off x="8445240" y="1857240"/>
                  <a:ext cx="245880" cy="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" name=""/>
              <p:cNvSpPr/>
              <p:nvPr/>
            </p:nvSpPr>
            <p:spPr>
              <a:xfrm>
                <a:off x="7734240" y="2340000"/>
                <a:ext cx="3729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f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815240" y="925560"/>
                <a:ext cx="101448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lectron gu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7989840" y="1139760"/>
                <a:ext cx="455760" cy="2143080"/>
                <a:chOff x="7989840" y="1139760"/>
                <a:chExt cx="455760" cy="214308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7989840" y="1793880"/>
                  <a:ext cx="455760" cy="128520"/>
                </a:xfrm>
                <a:prstGeom prst="ellipse">
                  <a:avLst/>
                </a:prstGeom>
                <a:noFill/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8153280" y="1139760"/>
                  <a:ext cx="128880" cy="374760"/>
                </a:xfrm>
                <a:prstGeom prst="rect">
                  <a:avLst/>
                </a:prstGeom>
                <a:noFill/>
                <a:ln w="93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H="1">
                  <a:off x="8035560" y="1579680"/>
                  <a:ext cx="106200" cy="25704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8211960" y="1557360"/>
                  <a:ext cx="0" cy="26820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8282160" y="1579680"/>
                  <a:ext cx="117360" cy="2458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8223120" y="1890720"/>
                  <a:ext cx="0" cy="139212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8048520" y="1890720"/>
                  <a:ext cx="163440" cy="1380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H="1">
                  <a:off x="8236080" y="1836720"/>
                  <a:ext cx="163440" cy="1434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8118360" y="3282840"/>
                  <a:ext cx="222480" cy="0"/>
                </a:xfrm>
                <a:prstGeom prst="line">
                  <a:avLst/>
                </a:prstGeom>
                <a:ln w="381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7932600" y="1857240"/>
                <a:ext cx="0" cy="1425600"/>
              </a:xfrm>
              <a:prstGeom prst="line">
                <a:avLst/>
              </a:prstGeom>
              <a:ln w="9360">
                <a:solidFill>
                  <a:srgbClr val="e7f21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8" name=""/>
          <p:cNvSpPr/>
          <p:nvPr/>
        </p:nvSpPr>
        <p:spPr>
          <a:xfrm>
            <a:off x="111240" y="893880"/>
            <a:ext cx="74833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wish to observe a virus with a diameter of 20 nm, muc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small to observe with an optical microscope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the voltage requir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produce an electron wavelength suitabl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tudying this virus with a resolu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f-number” for an electron microscope is quite large: 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1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fi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quired to achieve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find E of an electron from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110640" y="4079880"/>
            <a:ext cx="2853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22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D is the diffraction angle,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 is the lever arm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,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 is the spot siz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-87480" y="825480"/>
            <a:ext cx="93808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3000"/>
          </a:bodyPr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Matter-wave interference has now been demonstrated with electrons, neutrons, atoms, small molecules, BIG molecules, &amp; biological 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Recent Example:  Interference of C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Comic Sans MS"/>
              </a:rPr>
              <a:t>60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, a.k.a. “fullerenes”, “buckyball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193680" y="3429000"/>
            <a:ext cx="8620200" cy="3857760"/>
            <a:chOff x="193680" y="3429000"/>
            <a:chExt cx="8620200" cy="3857760"/>
          </a:xfrm>
        </p:grpSpPr>
        <p:pic>
          <p:nvPicPr>
            <p:cNvPr id="533" name="" descr=""/>
            <p:cNvPicPr/>
            <p:nvPr/>
          </p:nvPicPr>
          <p:blipFill>
            <a:blip r:embed="rId1"/>
            <a:stretch/>
          </p:blipFill>
          <p:spPr>
            <a:xfrm>
              <a:off x="6432480" y="3429000"/>
              <a:ext cx="2381400" cy="33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2"/>
            <a:srcRect l="0" t="0" r="0" b="11893"/>
            <a:stretch/>
          </p:blipFill>
          <p:spPr>
            <a:xfrm>
              <a:off x="193680" y="3692520"/>
              <a:ext cx="5614920" cy="26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360360" y="6427800"/>
              <a:ext cx="46674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[A. Zeilinger (U. Vienna), 1999]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757680" y="1862280"/>
            <a:ext cx="51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ss = (60 C)(12 g/mole) = 1.2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-24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k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2916360" y="2190600"/>
            <a:ext cx="6565680" cy="989280"/>
            <a:chOff x="2916360" y="2190600"/>
            <a:chExt cx="6565680" cy="989280"/>
          </a:xfrm>
        </p:grpSpPr>
        <p:graphicFrame>
          <p:nvGraphicFramePr>
            <p:cNvPr id="538" name=""/>
            <p:cNvGraphicFramePr/>
            <p:nvPr/>
          </p:nvGraphicFramePr>
          <p:xfrm>
            <a:off x="3801960" y="2190600"/>
            <a:ext cx="5070600" cy="63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1960" y="2190600"/>
                      <a:ext cx="5070600" cy="6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0" name=""/>
            <p:cNvSpPr/>
            <p:nvPr/>
          </p:nvSpPr>
          <p:spPr>
            <a:xfrm>
              <a:off x="2916360" y="2819520"/>
              <a:ext cx="65656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8000"/>
            </a:bodyPr>
            <a:p>
              <a:pPr marL="301680" indent="-3016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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= h/p = 2.9 pm   (c.f. C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Comic Sans MS"/>
                </a:rPr>
                <a:t>60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is ~ 1 nm across!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1" name="" descr=""/>
          <p:cNvPicPr/>
          <p:nvPr/>
        </p:nvPicPr>
        <p:blipFill>
          <a:blip r:embed="rId5"/>
          <a:stretch/>
        </p:blipFill>
        <p:spPr>
          <a:xfrm>
            <a:off x="189000" y="1789200"/>
            <a:ext cx="353520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More on 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82548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Using a velocity selector, they could make the atoms more monochromatic </a:t>
            </a:r>
            <a:r>
              <a:rPr b="1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mproved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4792680" y="1563840"/>
            <a:ext cx="3541680" cy="263988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749160" y="1531800"/>
            <a:ext cx="3440160" cy="276084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117360" y="442584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In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2003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nterference was observed with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orphyrin, a bio. molecu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2327040" y="1919160"/>
            <a:ext cx="547560" cy="14940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1895400" y="2505240"/>
            <a:ext cx="990720" cy="2253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822400" y="1692360"/>
            <a:ext cx="17211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rigi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774880" y="2502000"/>
            <a:ext cx="17208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arro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" descr="Tetraphenylporphyrin"/>
          <p:cNvPicPr/>
          <p:nvPr/>
        </p:nvPicPr>
        <p:blipFill>
          <a:blip r:embed="rId3"/>
          <a:stretch/>
        </p:blipFill>
        <p:spPr>
          <a:xfrm>
            <a:off x="420840" y="492768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Interference fringes of Porphyrin"/>
          <p:cNvPicPr/>
          <p:nvPr/>
        </p:nvPicPr>
        <p:blipFill>
          <a:blip r:embed="rId4"/>
          <a:stretch/>
        </p:blipFill>
        <p:spPr>
          <a:xfrm>
            <a:off x="2349360" y="4819680"/>
            <a:ext cx="2986200" cy="20844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5762520" y="5256360"/>
            <a:ext cx="306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106560" indent="-10656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Now they’re trying to do something like this with a  viru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9680" y="63360"/>
            <a:ext cx="7600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ere do we go from here?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56760" y="1133280"/>
            <a:ext cx="8155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approaches pave the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ty princip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quantum mechanics one can only calculate a probability distribution for the result of a measurement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eisenberg uncertainty principle provides a way to use simple arguments and a simple inequality to draw important conclusions about quantum system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ch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ö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nger equ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ext we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differential equation describes the evolution of the quantum wave function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self has no un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then tell us the probabilities of obtaining various measurement results.  That’s where the uncertainty en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66880" y="56880"/>
            <a:ext cx="7423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eisenberg Uncertainty Princip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74600" y="801360"/>
            <a:ext cx="8880480" cy="552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QM objects (we think that includes everything have wave-like properties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mathematical property of waves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See the supplementary slide for some discussion)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2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inite sine wav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definite wavelength must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ite wave packet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wave packet requires a spread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wavelengt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= h/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ħ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have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ħ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)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ħ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)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ħ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·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relation is known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isenberg Uncertainty Principl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limits the accuracy with which we can know the position and momentum of objec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not use the statistically correct definition of “spread”,  which, in this context, we also call “uncertainty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626000" y="4846680"/>
            <a:ext cx="137484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4656240" y="3116160"/>
            <a:ext cx="2793960" cy="1477800"/>
            <a:chOff x="4656240" y="3116160"/>
            <a:chExt cx="2793960" cy="1477800"/>
          </a:xfrm>
        </p:grpSpPr>
        <p:grpSp>
          <p:nvGrpSpPr>
            <p:cNvPr id="560" name=""/>
            <p:cNvGrpSpPr/>
            <p:nvPr/>
          </p:nvGrpSpPr>
          <p:grpSpPr>
            <a:xfrm>
              <a:off x="4656240" y="3116160"/>
              <a:ext cx="2793960" cy="963360"/>
              <a:chOff x="4656240" y="3116160"/>
              <a:chExt cx="2793960" cy="963360"/>
            </a:xfrm>
          </p:grpSpPr>
          <p:sp>
            <p:nvSpPr>
              <p:cNvPr id="561" name=""/>
              <p:cNvSpPr/>
              <p:nvPr/>
            </p:nvSpPr>
            <p:spPr>
              <a:xfrm>
                <a:off x="4656240" y="3116160"/>
                <a:ext cx="2793960" cy="480960"/>
              </a:xfrm>
              <a:custGeom>
                <a:avLst/>
                <a:gdLst/>
                <a:ahLst/>
                <a:rect l="l" t="t" r="r" b="b"/>
                <a:pathLst>
                  <a:path w="4072" h="303">
                    <a:moveTo>
                      <a:pt x="0" y="151"/>
                    </a:moveTo>
                    <a:cubicBezTo>
                      <a:pt x="70" y="139"/>
                      <a:pt x="141" y="128"/>
                      <a:pt x="216" y="135"/>
                    </a:cubicBezTo>
                    <a:cubicBezTo>
                      <a:pt x="291" y="142"/>
                      <a:pt x="377" y="198"/>
                      <a:pt x="448" y="191"/>
                    </a:cubicBezTo>
                    <a:cubicBezTo>
                      <a:pt x="519" y="184"/>
                      <a:pt x="567" y="90"/>
                      <a:pt x="640" y="95"/>
                    </a:cubicBezTo>
                    <a:cubicBezTo>
                      <a:pt x="713" y="100"/>
                      <a:pt x="812" y="232"/>
                      <a:pt x="888" y="223"/>
                    </a:cubicBezTo>
                    <a:cubicBezTo>
                      <a:pt x="964" y="214"/>
                      <a:pt x="1024" y="32"/>
                      <a:pt x="1096" y="39"/>
                    </a:cubicBezTo>
                    <a:cubicBezTo>
                      <a:pt x="1168" y="46"/>
                      <a:pt x="1239" y="268"/>
                      <a:pt x="1320" y="263"/>
                    </a:cubicBezTo>
                    <a:cubicBezTo>
                      <a:pt x="1401" y="258"/>
                      <a:pt x="1496" y="0"/>
                      <a:pt x="1584" y="7"/>
                    </a:cubicBezTo>
                    <a:cubicBezTo>
                      <a:pt x="1672" y="14"/>
                      <a:pt x="1753" y="303"/>
                      <a:pt x="1848" y="303"/>
                    </a:cubicBezTo>
                    <a:cubicBezTo>
                      <a:pt x="1943" y="303"/>
                      <a:pt x="2052" y="10"/>
                      <a:pt x="2152" y="7"/>
                    </a:cubicBezTo>
                    <a:cubicBezTo>
                      <a:pt x="2252" y="4"/>
                      <a:pt x="2355" y="276"/>
                      <a:pt x="2448" y="287"/>
                    </a:cubicBezTo>
                    <a:cubicBezTo>
                      <a:pt x="2541" y="298"/>
                      <a:pt x="2624" y="80"/>
                      <a:pt x="2712" y="71"/>
                    </a:cubicBezTo>
                    <a:cubicBezTo>
                      <a:pt x="2800" y="62"/>
                      <a:pt x="2896" y="226"/>
                      <a:pt x="2976" y="231"/>
                    </a:cubicBezTo>
                    <a:cubicBezTo>
                      <a:pt x="3056" y="236"/>
                      <a:pt x="3121" y="111"/>
                      <a:pt x="3192" y="103"/>
                    </a:cubicBezTo>
                    <a:cubicBezTo>
                      <a:pt x="3263" y="95"/>
                      <a:pt x="3324" y="182"/>
                      <a:pt x="3400" y="183"/>
                    </a:cubicBezTo>
                    <a:cubicBezTo>
                      <a:pt x="3476" y="184"/>
                      <a:pt x="3571" y="116"/>
                      <a:pt x="3648" y="111"/>
                    </a:cubicBezTo>
                    <a:cubicBezTo>
                      <a:pt x="3725" y="106"/>
                      <a:pt x="3793" y="148"/>
                      <a:pt x="3864" y="151"/>
                    </a:cubicBezTo>
                    <a:cubicBezTo>
                      <a:pt x="3935" y="154"/>
                      <a:pt x="4003" y="140"/>
                      <a:pt x="4072" y="127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392800" y="3749400"/>
                <a:ext cx="1346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735520" y="3711240"/>
                <a:ext cx="67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4969440" y="4195440"/>
              <a:ext cx="2257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We need a spread of wavelengths in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rder to get destructive interferenc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6973920" y="3546360"/>
              <a:ext cx="34308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 flipV="1">
              <a:off x="4869000" y="3551040"/>
              <a:ext cx="34272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2943360" y="2317680"/>
            <a:ext cx="5889600" cy="457200"/>
            <a:chOff x="2943360" y="2317680"/>
            <a:chExt cx="5889600" cy="457200"/>
          </a:xfrm>
        </p:grpSpPr>
        <p:pic>
          <p:nvPicPr>
            <p:cNvPr id="568" name="" descr=""/>
            <p:cNvPicPr/>
            <p:nvPr/>
          </p:nvPicPr>
          <p:blipFill>
            <a:blip r:embed="rId1"/>
            <a:stretch/>
          </p:blipFill>
          <p:spPr>
            <a:xfrm>
              <a:off x="3157560" y="2317680"/>
              <a:ext cx="5461200" cy="45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9" name=""/>
            <p:cNvGrpSpPr/>
            <p:nvPr/>
          </p:nvGrpSpPr>
          <p:grpSpPr>
            <a:xfrm>
              <a:off x="2943360" y="2523960"/>
              <a:ext cx="274680" cy="46080"/>
              <a:chOff x="2943360" y="2523960"/>
              <a:chExt cx="274680" cy="46080"/>
            </a:xfrm>
          </p:grpSpPr>
          <p:sp>
            <p:nvSpPr>
              <p:cNvPr id="570" name=""/>
              <p:cNvSpPr/>
              <p:nvPr/>
            </p:nvSpPr>
            <p:spPr>
              <a:xfrm>
                <a:off x="31719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05784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9433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8558280" y="2523960"/>
              <a:ext cx="274680" cy="46080"/>
              <a:chOff x="8558280" y="2523960"/>
              <a:chExt cx="274680" cy="46080"/>
            </a:xfrm>
          </p:grpSpPr>
          <p:sp>
            <p:nvSpPr>
              <p:cNvPr id="574" name=""/>
              <p:cNvSpPr/>
              <p:nvPr/>
            </p:nvSpPr>
            <p:spPr>
              <a:xfrm>
                <a:off x="87868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67276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5582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Diffraction and the 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Uncertainty Prin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309600" y="106524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single-slit diffra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nalyze this problem using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a beam of electrons of momentum p approaches a slit of width a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big is the angular spread of mo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fter it passes through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254240" y="1523880"/>
            <a:ext cx="6440400" cy="1752480"/>
            <a:chOff x="1254240" y="1523880"/>
            <a:chExt cx="6440400" cy="1752480"/>
          </a:xfrm>
        </p:grpSpPr>
        <p:grpSp>
          <p:nvGrpSpPr>
            <p:cNvPr id="580" name=""/>
            <p:cNvGrpSpPr/>
            <p:nvPr/>
          </p:nvGrpSpPr>
          <p:grpSpPr>
            <a:xfrm>
              <a:off x="1254240" y="1523880"/>
              <a:ext cx="3429000" cy="1752480"/>
              <a:chOff x="1254240" y="1523880"/>
              <a:chExt cx="3429000" cy="175248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2625840" y="1523880"/>
                <a:ext cx="0" cy="1752480"/>
                <a:chOff x="2625840" y="1523880"/>
                <a:chExt cx="0" cy="17524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2625840" y="1523880"/>
                  <a:ext cx="0" cy="76212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625840" y="2514600"/>
                  <a:ext cx="0" cy="76176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1254240" y="1638360"/>
                <a:ext cx="1219320" cy="1523880"/>
                <a:chOff x="1254240" y="1638360"/>
                <a:chExt cx="1219320" cy="152388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24735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25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389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52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66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795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067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02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3367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93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2625840" y="2400120"/>
                <a:ext cx="2057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2625840" y="1928520"/>
                <a:ext cx="190512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4988880" y="1752480"/>
              <a:ext cx="27057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aveleng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lit wid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raction angle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/a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ngle to first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60600" y="220968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27640" y="1981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770640" y="205704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143000" y="4724280"/>
            <a:ext cx="3540240" cy="1752480"/>
            <a:chOff x="1143000" y="4724280"/>
            <a:chExt cx="3540240" cy="1752480"/>
          </a:xfrm>
        </p:grpSpPr>
        <p:grpSp>
          <p:nvGrpSpPr>
            <p:cNvPr id="602" name=""/>
            <p:cNvGrpSpPr/>
            <p:nvPr/>
          </p:nvGrpSpPr>
          <p:grpSpPr>
            <a:xfrm>
              <a:off x="2625840" y="4724280"/>
              <a:ext cx="0" cy="1752480"/>
              <a:chOff x="2625840" y="4724280"/>
              <a:chExt cx="0" cy="1752480"/>
            </a:xfrm>
          </p:grpSpPr>
          <p:sp>
            <p:nvSpPr>
              <p:cNvPr id="603" name=""/>
              <p:cNvSpPr/>
              <p:nvPr/>
            </p:nvSpPr>
            <p:spPr>
              <a:xfrm>
                <a:off x="2625840" y="472428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625840" y="571500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>
              <a:off x="2625840" y="560088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2625840" y="5129280"/>
              <a:ext cx="1904760" cy="457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60960" y="5334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627640" y="5181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70640" y="52578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1143000" y="4952880"/>
              <a:ext cx="1295280" cy="1219320"/>
              <a:chOff x="1143000" y="4952880"/>
              <a:chExt cx="1295280" cy="1219320"/>
            </a:xfrm>
          </p:grpSpPr>
          <p:sp>
            <p:nvSpPr>
              <p:cNvPr id="611" name=""/>
              <p:cNvSpPr/>
              <p:nvPr/>
            </p:nvSpPr>
            <p:spPr>
              <a:xfrm>
                <a:off x="1143000" y="49528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143000" y="5105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143000" y="5257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143000" y="54100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143000" y="5562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143000" y="5715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143000" y="58672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143000" y="6019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143000" y="61722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228600" y="281952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sider the momentum uncertainty in the y-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 the slit, the y-position is not known, so the uncertainty of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can be zero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that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ust after the slit, the y-position has an uncertainty of about a/2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have an uncertaint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corresponds to a change of direction by an angl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 p =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p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sing p = h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we ha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lmost the diffraction answer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  The extra factor of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due to our somewhat sloppy treatment of the uncertain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mportant point is that the uncertainty principle results because matter behaves as a w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914400" y="990720"/>
            <a:ext cx="3540240" cy="1752480"/>
            <a:chOff x="914400" y="990720"/>
            <a:chExt cx="3540240" cy="1752480"/>
          </a:xfrm>
        </p:grpSpPr>
        <p:grpSp>
          <p:nvGrpSpPr>
            <p:cNvPr id="623" name=""/>
            <p:cNvGrpSpPr/>
            <p:nvPr/>
          </p:nvGrpSpPr>
          <p:grpSpPr>
            <a:xfrm>
              <a:off x="2397240" y="990720"/>
              <a:ext cx="0" cy="1752480"/>
              <a:chOff x="2397240" y="990720"/>
              <a:chExt cx="0" cy="1752480"/>
            </a:xfrm>
          </p:grpSpPr>
          <p:sp>
            <p:nvSpPr>
              <p:cNvPr id="624" name=""/>
              <p:cNvSpPr/>
              <p:nvPr/>
            </p:nvSpPr>
            <p:spPr>
              <a:xfrm>
                <a:off x="2397240" y="99072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397240" y="198144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>
              <a:off x="2397240" y="186696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397240" y="1395000"/>
              <a:ext cx="1904760" cy="4568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332360" y="1600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399040" y="1447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542040" y="15238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914400" y="1218960"/>
              <a:ext cx="1295280" cy="1218960"/>
              <a:chOff x="914400" y="1218960"/>
              <a:chExt cx="1295280" cy="1218960"/>
            </a:xfrm>
          </p:grpSpPr>
          <p:sp>
            <p:nvSpPr>
              <p:cNvPr id="632" name=""/>
              <p:cNvSpPr/>
              <p:nvPr/>
            </p:nvSpPr>
            <p:spPr>
              <a:xfrm>
                <a:off x="914400" y="121896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914400" y="13712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914400" y="1523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14400" y="1675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914400" y="18284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914400" y="1980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914400" y="2133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914400" y="22856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14400" y="2437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41" name=""/>
          <p:cNvGrpSpPr/>
          <p:nvPr/>
        </p:nvGrpSpPr>
        <p:grpSpPr>
          <a:xfrm>
            <a:off x="2895480" y="1066680"/>
            <a:ext cx="296640" cy="1447920"/>
            <a:chOff x="2895480" y="1066680"/>
            <a:chExt cx="296640" cy="1447920"/>
          </a:xfrm>
        </p:grpSpPr>
        <p:sp>
          <p:nvSpPr>
            <p:cNvPr id="642" name=""/>
            <p:cNvSpPr/>
            <p:nvPr/>
          </p:nvSpPr>
          <p:spPr>
            <a:xfrm flipV="1">
              <a:off x="2895480" y="1219320"/>
              <a:ext cx="0" cy="1295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896920" y="1066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304920" y="5638680"/>
            <a:ext cx="784836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4876920" y="1447920"/>
            <a:ext cx="1821960" cy="861840"/>
            <a:chOff x="4876920" y="1447920"/>
            <a:chExt cx="1821960" cy="861840"/>
          </a:xfrm>
        </p:grpSpPr>
        <p:grpSp>
          <p:nvGrpSpPr>
            <p:cNvPr id="646" name=""/>
            <p:cNvGrpSpPr/>
            <p:nvPr/>
          </p:nvGrpSpPr>
          <p:grpSpPr>
            <a:xfrm>
              <a:off x="4876920" y="1447920"/>
              <a:ext cx="1821960" cy="861840"/>
              <a:chOff x="4876920" y="1447920"/>
              <a:chExt cx="1821960" cy="8618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4876920" y="1447920"/>
                <a:ext cx="1447920" cy="457200"/>
                <a:chOff x="4876920" y="1447920"/>
                <a:chExt cx="1447920" cy="45720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4876920" y="1905120"/>
                  <a:ext cx="14479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V="1">
                  <a:off x="632484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0" name=""/>
              <p:cNvSpPr/>
              <p:nvPr/>
            </p:nvSpPr>
            <p:spPr>
              <a:xfrm>
                <a:off x="5320440" y="1941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324840" y="1447920"/>
                <a:ext cx="37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ffff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2" name=""/>
            <p:cNvSpPr/>
            <p:nvPr/>
          </p:nvSpPr>
          <p:spPr>
            <a:xfrm flipV="1">
              <a:off x="4876920" y="1447920"/>
              <a:ext cx="14479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2898720" y="71280"/>
            <a:ext cx="33051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44520" y="1116000"/>
            <a:ext cx="85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osition of an electron in the lowest-energy state of a hydrogen atom; is known to an accuracy of about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= 0.05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radius of the atom)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range of momentum measurements? Veloc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1670040" y="4162320"/>
            <a:ext cx="2127240" cy="40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679400" y="5451480"/>
            <a:ext cx="1521000" cy="355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4520" y="1116000"/>
            <a:ext cx="85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osition of an electron in the lowest-energy state of a hydrogen atom; is known to an accuracy of about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= 0.05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radius of the atom)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range of momentum measurements? Veloc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159000" y="61920"/>
            <a:ext cx="28101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1074600" y="2552760"/>
          <a:ext cx="6905880" cy="32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4600" y="2552760"/>
                    <a:ext cx="6905880" cy="32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“Uncertainty”?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2" name=""/>
          <p:cNvSpPr/>
          <p:nvPr/>
        </p:nvSpPr>
        <p:spPr>
          <a:xfrm>
            <a:off x="318960" y="539640"/>
            <a:ext cx="8178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Uncertainty” refers to our inability to make definite predic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is wave packet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is the objec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its moment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swer is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don’t know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e can’t predict the result of either measurement with an accuracy better than th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x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 given to us by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262400" y="121284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09600" y="3176640"/>
            <a:ext cx="90867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time you look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ou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nd a local bli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in a different place (in fact, it is your looking that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us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avefunction to “collapse”!)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look many times, you will find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istribu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spread ou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you’r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 about where that local blip will be in any one of the times you loo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 it could be anywhere in the spr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51000" y="5168880"/>
            <a:ext cx="905796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important point: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You never observe the wave function itsel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wave merely gives the probabilities of obtaining the various measurement results.  A measurement of position or momentum  will always result in a definite result.         You  can infer the properties of the wave function by repeating the measurements      (to measure the probabilities), but that’s not the same as a direct observ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1828800"/>
            <a:ext cx="6826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4000"/>
          </a:bodyPr>
          <a:p>
            <a:pPr marL="39960" indent="-3996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work functio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minimu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energy needed to strip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n electron from the met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defined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ll electrons will leave with the maximu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kinetic energy (due to loss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37800" y="63360"/>
            <a:ext cx="5494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80880" y="990720"/>
          <a:ext cx="472464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47246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"/>
          <p:cNvGrpSpPr/>
          <p:nvPr/>
        </p:nvGrpSpPr>
        <p:grpSpPr>
          <a:xfrm>
            <a:off x="5791320" y="1981080"/>
            <a:ext cx="3105000" cy="2685240"/>
            <a:chOff x="5791320" y="1981080"/>
            <a:chExt cx="3105000" cy="2685240"/>
          </a:xfrm>
        </p:grpSpPr>
        <p:sp>
          <p:nvSpPr>
            <p:cNvPr id="156" name=""/>
            <p:cNvSpPr/>
            <p:nvPr/>
          </p:nvSpPr>
          <p:spPr>
            <a:xfrm>
              <a:off x="6938640" y="43290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 (x10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14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Hz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6200000">
              <a:off x="5500440" y="2906640"/>
              <a:ext cx="98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stop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(v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8" name=""/>
            <p:cNvGraphicFramePr/>
            <p:nvPr/>
          </p:nvGraphicFramePr>
          <p:xfrm>
            <a:off x="6157800" y="1981080"/>
            <a:ext cx="2738520" cy="23432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57800" y="1981080"/>
                      <a:ext cx="2738520" cy="234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0" name=""/>
            <p:cNvSpPr/>
            <p:nvPr/>
          </p:nvSpPr>
          <p:spPr>
            <a:xfrm flipH="1">
              <a:off x="7330680" y="2203560"/>
              <a:ext cx="1190520" cy="17287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91560" y="3211560"/>
              <a:ext cx="33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55000" y="3570120"/>
              <a:ext cx="161640" cy="319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095880" y="718200"/>
            <a:ext cx="2782800" cy="1091520"/>
            <a:chOff x="6095880" y="718200"/>
            <a:chExt cx="2782800" cy="1091520"/>
          </a:xfrm>
        </p:grpSpPr>
        <p:sp>
          <p:nvSpPr>
            <p:cNvPr id="164" name=""/>
            <p:cNvSpPr/>
            <p:nvPr/>
          </p:nvSpPr>
          <p:spPr>
            <a:xfrm>
              <a:off x="6825960" y="129708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24520" y="118440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7664400" y="1047600"/>
              <a:ext cx="128160" cy="324000"/>
              <a:chOff x="7664400" y="1047600"/>
              <a:chExt cx="128160" cy="324000"/>
            </a:xfrm>
          </p:grpSpPr>
          <p:sp>
            <p:nvSpPr>
              <p:cNvPr id="167" name=""/>
              <p:cNvSpPr/>
              <p:nvPr/>
            </p:nvSpPr>
            <p:spPr>
              <a:xfrm>
                <a:off x="7664400" y="104796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7706160" y="104760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7819920" y="99072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4360" y="137340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95880" y="1043280"/>
              <a:ext cx="838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6649920" y="1172520"/>
              <a:ext cx="281520" cy="17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08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08272"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2284800">
              <a:off x="6586200" y="104004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0" y="4114800"/>
            <a:ext cx="86868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ing the intensity increases # photons, not the photon energy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EM waves, frequency and wavelength are related by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240 eV-nm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2840" y="60120"/>
            <a:ext cx="88599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Uncertainty Principle –Implicati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3360" y="663120"/>
            <a:ext cx="8622000" cy="456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uncertainty principle explains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why electrons in atoms don’t simply fall into the nucleu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If the electron were confined too close to the nucleus (small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x), it would have a large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, and therefore a very large average kinetic energy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)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/2m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The uncertainty principle does </a:t>
            </a:r>
            <a:r>
              <a:rPr b="0" lang="en-US" sz="2000" spc="-1" strike="noStrike" u="sng">
                <a:solidFill>
                  <a:srgbClr val="ffff09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 say “everything is uncertain”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ther, it tells us what the limits of uncertainty are when we make measurements of quantum system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ome classical features, such as paths, do not exist precisel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ecause having a definite path requires both a definite position and momentum. One consequence, then, is that electron orbits do not exist. The atom i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 miniature solar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Other features can exist precisely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For example, in some circumstances we can measure an electron’s energy as accurately as technology allow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erious philosophical issues remain open to vigorous debat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.g., whether all outcomes or only one outcome actually occu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99800" y="56880"/>
            <a:ext cx="69692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 Wave Uncertain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64880" y="1106640"/>
            <a:ext cx="8861400" cy="46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thematically, one can produce a localiz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unction by superposing sine waves with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spread” of wave numbers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k: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result of Fourier analysis, which most of you will learn in Ma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means that making a short wave packe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s a broad spread in wavelength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versely, a single-wavelength wave would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So far, this is just math.  The physics comes in when we make the wavelength-momentum connection: p = h/</a:t>
            </a:r>
            <a:r>
              <a:rPr b="0" lang="en-US" sz="1800" spc="-1" strike="noStrike">
                <a:solidFill>
                  <a:srgbClr val="ffff09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9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How many of you have experienced a close lightning strike (within a couple hundred feet)?  If you were paying attention, you may have noticed that the sound, which is a very short pulse, is very weird.  That weirdness is a result of the very broad range of frequencies that is needed to construct a very short pulse.  One doesn’t normally experience such a broad frequency ran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254560" y="134928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737400" y="2892600"/>
            <a:ext cx="825480" cy="996840"/>
          </a:xfrm>
          <a:custGeom>
            <a:avLst/>
            <a:gdLst/>
            <a:ahLst/>
            <a:rect l="l" t="t" r="r" b="b"/>
            <a:pathLst>
              <a:path w="520" h="628">
                <a:moveTo>
                  <a:pt x="0" y="622"/>
                </a:moveTo>
                <a:cubicBezTo>
                  <a:pt x="17" y="622"/>
                  <a:pt x="72" y="626"/>
                  <a:pt x="106" y="605"/>
                </a:cubicBezTo>
                <a:cubicBezTo>
                  <a:pt x="140" y="584"/>
                  <a:pt x="177" y="595"/>
                  <a:pt x="207" y="494"/>
                </a:cubicBezTo>
                <a:cubicBezTo>
                  <a:pt x="237" y="393"/>
                  <a:pt x="264" y="2"/>
                  <a:pt x="285" y="1"/>
                </a:cubicBezTo>
                <a:cubicBezTo>
                  <a:pt x="306" y="0"/>
                  <a:pt x="316" y="387"/>
                  <a:pt x="336" y="488"/>
                </a:cubicBezTo>
                <a:cubicBezTo>
                  <a:pt x="356" y="589"/>
                  <a:pt x="377" y="582"/>
                  <a:pt x="408" y="605"/>
                </a:cubicBezTo>
                <a:cubicBezTo>
                  <a:pt x="439" y="628"/>
                  <a:pt x="497" y="623"/>
                  <a:pt x="520" y="628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09480" y="57240"/>
            <a:ext cx="8001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3960" y="1027080"/>
            <a:ext cx="8532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When 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hines on lithium, the stopping voltage of the electrons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21 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work fun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lithi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19320" y="49320"/>
            <a:ext cx="6667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Photoelectric Effect: 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0" y="2209680"/>
            <a:ext cx="232956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f  - e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3.1eV - 0.21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2.89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3960" y="1027080"/>
            <a:ext cx="8532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When 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hines on lithium, the stopping voltage of the electrons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21 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work fun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lithi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74000" y="2378160"/>
            <a:ext cx="44265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stead of hf, use hc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 1240/400 = 3.1 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21 V,   e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21 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428760" y="1316160"/>
            <a:ext cx="80485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workfunction of the material increase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ould the graph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slop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th a and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905440" y="685800"/>
            <a:ext cx="3162240" cy="2662200"/>
            <a:chOff x="5905440" y="685800"/>
            <a:chExt cx="3162240" cy="2662200"/>
          </a:xfrm>
        </p:grpSpPr>
        <p:grpSp>
          <p:nvGrpSpPr>
            <p:cNvPr id="184" name=""/>
            <p:cNvGrpSpPr/>
            <p:nvPr/>
          </p:nvGrpSpPr>
          <p:grpSpPr>
            <a:xfrm>
              <a:off x="5905440" y="685800"/>
              <a:ext cx="3162240" cy="2662200"/>
              <a:chOff x="5905440" y="685800"/>
              <a:chExt cx="3162240" cy="2662200"/>
            </a:xfrm>
          </p:grpSpPr>
          <p:sp>
            <p:nvSpPr>
              <p:cNvPr id="185" name=""/>
              <p:cNvSpPr/>
              <p:nvPr/>
            </p:nvSpPr>
            <p:spPr>
              <a:xfrm rot="16200000">
                <a:off x="5439240" y="138852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stop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211880" y="2979720"/>
                <a:ext cx="132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Comic Sans MS"/>
                  </a:rPr>
                  <a:t>14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775200" y="23511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75200" y="21099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75200" y="186048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775200" y="161280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75200" y="13636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775200" y="11224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775200" y="8748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741720" y="25988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41720" y="23511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741720" y="21099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741720" y="186048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741720" y="161280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41720" y="13636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741720" y="11224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741720" y="8748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775200" y="259884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67752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74880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819288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8903880" y="259848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8320" y="2530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628320" y="204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628320" y="154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628320" y="1054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7489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4617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1309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8437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953400" y="187488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191000" y="227016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7373520" y="87300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495920" y="23004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534080" y="133992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602480" y="213660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626240" y="119052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659360" y="204300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700760" y="102240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881840" y="17272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916760" y="76680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991280" y="15541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8057880" y="73008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04920" y="4356000"/>
            <a:ext cx="815328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ow shine on light with frequency 2f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What effect does doubling the intensity (i.e., the power) of the incident light have on the current of emitted electron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dru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ys the sa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428760" y="1316160"/>
            <a:ext cx="80485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workfunction of the material increase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ould the graph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slop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th a and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905440" y="685800"/>
            <a:ext cx="3162240" cy="2662200"/>
            <a:chOff x="5905440" y="685800"/>
            <a:chExt cx="3162240" cy="2662200"/>
          </a:xfrm>
        </p:grpSpPr>
        <p:grpSp>
          <p:nvGrpSpPr>
            <p:cNvPr id="236" name=""/>
            <p:cNvGrpSpPr/>
            <p:nvPr/>
          </p:nvGrpSpPr>
          <p:grpSpPr>
            <a:xfrm>
              <a:off x="5905440" y="685800"/>
              <a:ext cx="3162240" cy="2662200"/>
              <a:chOff x="5905440" y="685800"/>
              <a:chExt cx="3162240" cy="2662200"/>
            </a:xfrm>
          </p:grpSpPr>
          <p:sp>
            <p:nvSpPr>
              <p:cNvPr id="237" name=""/>
              <p:cNvSpPr/>
              <p:nvPr/>
            </p:nvSpPr>
            <p:spPr>
              <a:xfrm rot="16200000">
                <a:off x="5439240" y="138852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stop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211880" y="2979720"/>
                <a:ext cx="132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Comic Sans MS"/>
                  </a:rPr>
                  <a:t>14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775200" y="23511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775200" y="21099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775200" y="186048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775200" y="161280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775200" y="13636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775200" y="11224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775200" y="8748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741720" y="25988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741720" y="23511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741720" y="21099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741720" y="186048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741720" y="161280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741720" y="13636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741720" y="11224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741720" y="8748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75200" y="259884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67752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74880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819288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8903880" y="259848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628320" y="2530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628320" y="204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628320" y="154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628320" y="1054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489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17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1309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8437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953400" y="187488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191000" y="227016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7373520" y="87300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495920" y="23004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534080" y="133992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02480" y="213660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626240" y="119052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659360" y="204300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700760" y="102240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881840" y="17272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916760" y="76680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991280" y="15541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8057880" y="73008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762120" y="3276720"/>
            <a:ext cx="70102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The y intercept moves down, so the slope is unchanged </a:t>
            </a:r>
            <a:br>
              <a:rPr sz="2000"/>
            </a:b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and f</a:t>
            </a:r>
            <a:r>
              <a:rPr b="0" lang="en-US" sz="2000" spc="-1" strike="noStrike" baseline="-25000">
                <a:solidFill>
                  <a:srgbClr val="e7f21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increases </a:t>
            </a:r>
            <a:r>
              <a:rPr b="0" lang="en-US" sz="2000" spc="-1" strike="noStrike">
                <a:solidFill>
                  <a:srgbClr val="e7f21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the photons need more energy to be able to free the electrons from the increased bind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62120" y="2362320"/>
            <a:ext cx="175248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920" y="4356000"/>
            <a:ext cx="815328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ow shine on light with frequency 2f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What effect does doubling the intensity (i.e., the power) of the incident light have on the current of emitted electron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dru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ys the sa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04920" y="4356000"/>
            <a:ext cx="815328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ow shine on light with frequency 2f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What effect does doubling the intensity (i.e., the power) of the incident light have on the current of emitted electron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dru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ys the sa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428760" y="1316160"/>
            <a:ext cx="80485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workfunction of the material increase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ould the graph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slop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th a and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905440" y="685800"/>
            <a:ext cx="3162240" cy="2662200"/>
            <a:chOff x="5905440" y="685800"/>
            <a:chExt cx="3162240" cy="2662200"/>
          </a:xfrm>
        </p:grpSpPr>
        <p:grpSp>
          <p:nvGrpSpPr>
            <p:cNvPr id="291" name=""/>
            <p:cNvGrpSpPr/>
            <p:nvPr/>
          </p:nvGrpSpPr>
          <p:grpSpPr>
            <a:xfrm>
              <a:off x="5905440" y="685800"/>
              <a:ext cx="3162240" cy="2662200"/>
              <a:chOff x="5905440" y="685800"/>
              <a:chExt cx="3162240" cy="2662200"/>
            </a:xfrm>
          </p:grpSpPr>
          <p:sp>
            <p:nvSpPr>
              <p:cNvPr id="292" name=""/>
              <p:cNvSpPr/>
              <p:nvPr/>
            </p:nvSpPr>
            <p:spPr>
              <a:xfrm rot="16200000">
                <a:off x="5439240" y="138852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stop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211880" y="2979720"/>
                <a:ext cx="132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Comic Sans MS"/>
                  </a:rPr>
                  <a:t>14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775200" y="23511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775200" y="21099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775200" y="186048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775200" y="161280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75200" y="13636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75200" y="11224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75200" y="8748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741720" y="25988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741720" y="23511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741720" y="21099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41720" y="186048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41720" y="161280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41720" y="13636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41720" y="11224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741720" y="8748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775200" y="259884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67752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74880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819288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8903880" y="259848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628320" y="2530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628320" y="204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628320" y="154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628320" y="1054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7489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4617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1309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8437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953400" y="187488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191000" y="227016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7373520" y="87300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495920" y="23004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534080" y="133992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02480" y="213660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26240" y="119052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659360" y="204300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700760" y="102240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881840" y="17272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916760" y="76680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991280" y="15541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8057880" y="73008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762120" y="3276720"/>
            <a:ext cx="70102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The y intercept moves down, so the slope is unchanged </a:t>
            </a:r>
            <a:br>
              <a:rPr sz="2000"/>
            </a:b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and f</a:t>
            </a:r>
            <a:r>
              <a:rPr b="0" lang="en-US" sz="2000" spc="-1" strike="noStrike" baseline="-25000">
                <a:solidFill>
                  <a:srgbClr val="e7f21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increases </a:t>
            </a:r>
            <a:r>
              <a:rPr b="0" lang="en-US" sz="2000" spc="-1" strike="noStrike">
                <a:solidFill>
                  <a:srgbClr val="e7f21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the photons need more energy to be able to free the electrons from the increased bind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62120" y="2362320"/>
            <a:ext cx="175248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05320" y="5334120"/>
            <a:ext cx="58672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Because the frequency is higher than f</a:t>
            </a:r>
            <a:r>
              <a:rPr b="0" lang="en-US" sz="2000" spc="-1" strike="noStrike" baseline="-25000">
                <a:solidFill>
                  <a:srgbClr val="e7f21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, each incident photon has a chance to emit an electron. Doubling the number of photons doubles the number of photoelec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5334120"/>
            <a:ext cx="175248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457200" y="3733920"/>
            <a:ext cx="7269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ey hold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ticl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1295280" y="4724280"/>
            <a:ext cx="1311480" cy="993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2944800" y="4648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23:17:19Z</dcterms:created>
  <dc:creator>jjt</dc:creator>
  <dc:description/>
  <dc:language>en-US</dc:language>
  <cp:lastModifiedBy>kwiat</cp:lastModifiedBy>
  <dcterms:modified xsi:type="dcterms:W3CDTF">2014-02-09T21:44:27Z</dcterms:modified>
  <cp:revision>63</cp:revision>
  <dc:subject/>
  <dc:title>Slide 1</dc:title>
</cp:coreProperties>
</file>