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3AE6ADB-486E-47AF-990D-233772F507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different phi (eg, 45 degrees) might give a differen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21F7FDAC-6310-4DC6-A901-D0FDB1712C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41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46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47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48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55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62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9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76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77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87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0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91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92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93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400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407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14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21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22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27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28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9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36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43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50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6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57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58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1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2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73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74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75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76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9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80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81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82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8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9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5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96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2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03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6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7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9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10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11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4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5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16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17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18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2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4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25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1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32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6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8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9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2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3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5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46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47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0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1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54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8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3" name="Group 4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564" name="Group 5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565" name="Group 6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566" name="Rectangle 7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Rectangle 8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69" name="Group 10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570" name="Group 11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571" name="Group 12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572" name="Line 13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3" name="Line 14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Line 15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5" name="Line 16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6" name="Line 17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Line 18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8" name="Group 19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579" name="Line 20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Line 21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Line 22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2" name="Line 23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Line 24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Line 25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5" name="Group 26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86" name="Line 27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Line 28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Line 29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Line 30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Line 31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Line 32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2" name="Group 33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93" name="Line 34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Line 35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Line 36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Line 37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Line 38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Line 39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9" name="Group 40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600" name="Group 41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601" name="Arc 42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Arc 43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" name="Arc 44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4" name="Arc 45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5" name="Group 46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606" name="Group 47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607" name="Group 48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608" name="Line 49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9" name="Line 50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0" name="Line 51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Line 52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" name="Line 53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Line 54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4" name="Group 55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615" name="Line 56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6" name="Line 57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Line 58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Line 59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9" name="Line 60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Line 61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1" name="Group 62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622" name="Line 63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Line 64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4" name="Line 65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Line 66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6" name="Line 67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Line 68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8" name="Group 69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629" name="Line 70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Line 71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Line 72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Line 73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3" name="Line 74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Line 75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35" name="Group 76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636" name="Group 77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637" name="Arc 78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Arc 79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9" name="Arc 80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0" name="Arc 81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41" name="Text Box 82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83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Group 84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644" name="Line 85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86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87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88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 Box 89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Group 90"/>
          <p:cNvGrpSpPr/>
          <p:nvPr/>
        </p:nvGrpSpPr>
        <p:grpSpPr>
          <a:xfrm>
            <a:off x="1598760" y="4307040"/>
            <a:ext cx="4473360" cy="2486880"/>
            <a:chOff x="1598760" y="4307040"/>
            <a:chExt cx="4473360" cy="2486880"/>
          </a:xfrm>
        </p:grpSpPr>
        <p:pic>
          <p:nvPicPr>
            <p:cNvPr id="650" name="Picture 91" descr=""/>
            <p:cNvPicPr/>
            <p:nvPr/>
          </p:nvPicPr>
          <p:blipFill>
            <a:blip r:embed="rId1"/>
            <a:stretch/>
          </p:blipFill>
          <p:spPr>
            <a:xfrm>
              <a:off x="1598760" y="4497480"/>
              <a:ext cx="4473360" cy="191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1" name="Group 92"/>
            <p:cNvGrpSpPr/>
            <p:nvPr/>
          </p:nvGrpSpPr>
          <p:grpSpPr>
            <a:xfrm>
              <a:off x="2033280" y="4307040"/>
              <a:ext cx="4003560" cy="2486880"/>
              <a:chOff x="2033280" y="4307040"/>
              <a:chExt cx="4003560" cy="2486880"/>
            </a:xfrm>
          </p:grpSpPr>
          <p:grpSp>
            <p:nvGrpSpPr>
              <p:cNvPr id="652" name="Group 93"/>
              <p:cNvGrpSpPr/>
              <p:nvPr/>
            </p:nvGrpSpPr>
            <p:grpSpPr>
              <a:xfrm>
                <a:off x="3203280" y="4619520"/>
                <a:ext cx="1747440" cy="1778760"/>
                <a:chOff x="3203280" y="4619520"/>
                <a:chExt cx="1747440" cy="1778760"/>
              </a:xfrm>
            </p:grpSpPr>
            <p:sp>
              <p:nvSpPr>
                <p:cNvPr id="653" name="Line 94"/>
                <p:cNvSpPr/>
                <p:nvPr/>
              </p:nvSpPr>
              <p:spPr>
                <a:xfrm>
                  <a:off x="4950720" y="4619520"/>
                  <a:ext cx="0" cy="1696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95"/>
                <p:cNvSpPr/>
                <p:nvPr/>
              </p:nvSpPr>
              <p:spPr>
                <a:xfrm>
                  <a:off x="407664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96"/>
                <p:cNvSpPr/>
                <p:nvPr/>
              </p:nvSpPr>
              <p:spPr>
                <a:xfrm>
                  <a:off x="320328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Line 97"/>
              <p:cNvSpPr/>
              <p:nvPr/>
            </p:nvSpPr>
            <p:spPr>
              <a:xfrm flipV="1">
                <a:off x="2333160" y="4435200"/>
                <a:ext cx="0" cy="19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Text Box 98"/>
              <p:cNvSpPr/>
              <p:nvPr/>
            </p:nvSpPr>
            <p:spPr>
              <a:xfrm>
                <a:off x="2033280" y="430704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99"/>
              <p:cNvSpPr/>
              <p:nvPr/>
            </p:nvSpPr>
            <p:spPr>
              <a:xfrm>
                <a:off x="2358720" y="6302160"/>
                <a:ext cx="348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Text Box 100"/>
              <p:cNvSpPr/>
              <p:nvPr/>
            </p:nvSpPr>
            <p:spPr>
              <a:xfrm>
                <a:off x="5554440" y="6334200"/>
                <a:ext cx="4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Oval 101"/>
              <p:cNvSpPr/>
              <p:nvPr/>
            </p:nvSpPr>
            <p:spPr>
              <a:xfrm>
                <a:off x="2990520" y="5068800"/>
                <a:ext cx="129960" cy="1299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102"/>
              <p:cNvSpPr/>
              <p:nvPr/>
            </p:nvSpPr>
            <p:spPr>
              <a:xfrm>
                <a:off x="2604600" y="4370400"/>
                <a:ext cx="15843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lvl="1" marL="114480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= 327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Text Box 103"/>
              <p:cNvSpPr/>
              <p:nvPr/>
            </p:nvSpPr>
            <p:spPr>
              <a:xfrm>
                <a:off x="2964240" y="6316560"/>
                <a:ext cx="47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60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3" name="Rectangle 104"/>
          <p:cNvSpPr/>
          <p:nvPr/>
        </p:nvSpPr>
        <p:spPr>
          <a:xfrm>
            <a:off x="5945040" y="4449600"/>
            <a:ext cx="2575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 decreases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de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creas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 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105"/>
          <p:cNvSpPr/>
          <p:nvPr/>
        </p:nvSpPr>
        <p:spPr>
          <a:xfrm>
            <a:off x="706320" y="3540240"/>
            <a:ext cx="1508400" cy="309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106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07"/>
          <p:cNvSpPr/>
          <p:nvPr/>
        </p:nvSpPr>
        <p:spPr>
          <a:xfrm>
            <a:off x="150840" y="4883040"/>
            <a:ext cx="197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aw the graph of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71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79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08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5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16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6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4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45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2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53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3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8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1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783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8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789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9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4" name="Group 6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805" name="Rectangle 7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Rectangle 8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Rectangle 9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10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11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0" name="Group 12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811" name="Line 13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14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15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16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17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18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19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0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1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2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1" name="Rectangle 24"/>
          <p:cNvSpPr/>
          <p:nvPr/>
        </p:nvSpPr>
        <p:spPr>
          <a:xfrm>
            <a:off x="0" y="4255920"/>
            <a:ext cx="91440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.32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d ~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Because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, m &lt;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2.5/10.6 = 1.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 58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)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is ALWAYS has a solution for m = 0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here’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 central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e pattern is symmetric, so there’s a peak corresponding to m = -1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25"/>
          <p:cNvSpPr/>
          <p:nvPr/>
        </p:nvSpPr>
        <p:spPr>
          <a:xfrm>
            <a:off x="4325760" y="3836880"/>
            <a:ext cx="1082880" cy="392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824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827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828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829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832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837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840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844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46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848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49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1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853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3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67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868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869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78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9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880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881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0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1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892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893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03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4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905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3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4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915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2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3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924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925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2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3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934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3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4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5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946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5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56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7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958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7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8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9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13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14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20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21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22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5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6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28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29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30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3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4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5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1" name="Rectangle 4"/>
          <p:cNvSpPr/>
          <p:nvPr/>
        </p:nvSpPr>
        <p:spPr>
          <a:xfrm>
            <a:off x="2900520" y="3921120"/>
            <a:ext cx="955440" cy="371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3713040" y="49258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3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9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6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Line 7"/>
          <p:cNvSpPr/>
          <p:nvPr/>
        </p:nvSpPr>
        <p:spPr>
          <a:xfrm flipV="1">
            <a:off x="64620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Rectangle 8"/>
          <p:cNvSpPr/>
          <p:nvPr/>
        </p:nvSpPr>
        <p:spPr>
          <a:xfrm>
            <a:off x="777960" y="473868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Line 9"/>
          <p:cNvSpPr/>
          <p:nvPr/>
        </p:nvSpPr>
        <p:spPr>
          <a:xfrm flipV="1">
            <a:off x="140004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Line 10"/>
          <p:cNvSpPr/>
          <p:nvPr/>
        </p:nvSpPr>
        <p:spPr>
          <a:xfrm>
            <a:off x="636480" y="5254560"/>
            <a:ext cx="216864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Rectangle 11"/>
          <p:cNvSpPr/>
          <p:nvPr/>
        </p:nvSpPr>
        <p:spPr>
          <a:xfrm>
            <a:off x="1495440" y="474516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12"/>
          <p:cNvSpPr/>
          <p:nvPr/>
        </p:nvSpPr>
        <p:spPr>
          <a:xfrm>
            <a:off x="1255680" y="5369040"/>
            <a:ext cx="1424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A = 3A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13"/>
          <p:cNvSpPr/>
          <p:nvPr/>
        </p:nvSpPr>
        <p:spPr>
          <a:xfrm flipV="1">
            <a:off x="2068560" y="4749840"/>
            <a:ext cx="747720" cy="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14"/>
          <p:cNvSpPr/>
          <p:nvPr/>
        </p:nvSpPr>
        <p:spPr>
          <a:xfrm>
            <a:off x="2163600" y="4732200"/>
            <a:ext cx="50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15"/>
          <p:cNvSpPr/>
          <p:nvPr/>
        </p:nvSpPr>
        <p:spPr>
          <a:xfrm>
            <a:off x="3587760" y="57340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general, 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3" name="Group 16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54" name="Group 17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55" name="Arc 18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Arc 19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Arc 20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Arc 21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Oval 22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0" name="Group 2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61" name="Group 2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62" name="Group 2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63" name="Arc 2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Arc 2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Arc 2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6" name="Arc 2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7" name="Oval 3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8" name="Group 31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69" name="Group 32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70" name="Group 33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71" name="Arc 34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Arc 35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Arc 36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4" name="Arc 37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5" name="Oval 38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6" name="Line 39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Oval 40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Line 41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Line 4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82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1083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1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1112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7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1118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30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1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132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5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1156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57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1158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0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1161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2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1163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5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1166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67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1168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1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1172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5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196" name="Picture 28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7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198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9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201" name="Picture 33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2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203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5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206" name="Picture 38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07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208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10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1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212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7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218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219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225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6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227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2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235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0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241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6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8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9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50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1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52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53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4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8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9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60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61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62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63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4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6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7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8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9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7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7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7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8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8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8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8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297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1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302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303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5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306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8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9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2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13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4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15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16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1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2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23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24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25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26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7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8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9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0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1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2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4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36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37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8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39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40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1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2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5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47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48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49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50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1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3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5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6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8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9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360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4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5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366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7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368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0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371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73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9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0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381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382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383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0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3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394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395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396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397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9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4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7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8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409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410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8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419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8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429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0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525600" y="3300480"/>
            <a:ext cx="2763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642960" y="4756320"/>
          <a:ext cx="8132760" cy="99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756320"/>
                    <a:ext cx="813276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2446200" y="4238640"/>
            <a:ext cx="2430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4583160" y="3011400"/>
            <a:ext cx="2971800" cy="598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61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4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5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9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208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13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14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15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22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9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36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43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44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54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58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9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60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67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74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81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88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9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94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95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96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303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10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17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3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24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25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8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9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1-26T23:21:10Z</dcterms:modified>
  <cp:revision>592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