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8ACC61-291D-4F54-AD18-C91C4207B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A418B2D0-91E6-4232-A7EE-914CB59DB5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3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4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6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52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55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0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1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4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5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66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7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8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9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0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1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72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73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74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5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6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0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1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2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3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0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9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89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89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89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89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0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0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0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0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1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1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1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1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2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3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3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3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3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4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4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5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5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5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5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6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6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6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6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7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6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7" name="Text Box 4"/>
          <p:cNvSpPr/>
          <p:nvPr/>
        </p:nvSpPr>
        <p:spPr>
          <a:xfrm>
            <a:off x="378000" y="505944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N atoms, the band can hold 2N electrons (spin up and spin down).  So:  a) gives us a half-filled band (conduc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gives a full band (insula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is not possible.  An atom can only have two 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78" name="Group 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79" name="Group 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80" name="Group 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81" name="Group 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82" name="Freeform 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Freeform 1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4" name="Group 1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85" name="Group 1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86" name="Line 1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7" name="Line 1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8" name="Oval 1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9" name="Text Box 1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0" name="Freeform 1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1" name="Text Box 1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92" name="Group 1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93" name="Line 2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4" name="Line 2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5" name="Oval 2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6" name="Text Box 2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7" name="Freeform 2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98" name="Group 2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99" name="Freeform 2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Freeform 2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1" name="Group 2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2002" name="Group 2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2003" name="Line 3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4" name="Line 3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5" name="Oval 3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6" name="Text Box 3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7" name="Freeform 3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8" name="Text Box 3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09" name="Group 3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2010" name="Line 3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1" name="Line 3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2" name="Oval 3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3" name="Text Box 4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4" name="Freeform 4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15" name="Group 4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2016" name="Freeform 4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Freeform 4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8" name="Group 4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2019" name="Group 4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2020" name="Line 4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1" name="Line 4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2" name="Oval 4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3" name="Text Box 5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4" name="Freeform 5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5" name="Text Box 5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26" name="Group 5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2027" name="Line 5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8" name="Line 5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9" name="Oval 5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0" name="Text Box 5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1" name="Freeform 5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32" name="Freeform 5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3" name="Freeform 6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4" name="Group 6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2035" name="Group 6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2036" name="Line 6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Line 6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8" name="Group 6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2039" name="Line 6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Line 6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1" name="Group 6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2042" name="Line 6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Line 7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4" name="Group 7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2045" name="Group 7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2046" name="Line 7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Line 7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8" name="Group 7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2049" name="Line 7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Line 7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1" name="Group 7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2052" name="Line 7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Line 8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54" name="Text Box 8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5" name="Text Box 8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056" name="Group 8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2057" name="Text Box 8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8" name="Line 8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9" name="Line 8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060" name="Rectangle 87"/>
          <p:cNvSpPr/>
          <p:nvPr/>
        </p:nvSpPr>
        <p:spPr>
          <a:xfrm>
            <a:off x="615960" y="3990960"/>
            <a:ext cx="46227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062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2063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2064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2065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6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67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2068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2069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5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76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1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82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3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84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85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86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2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93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98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99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0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101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102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103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9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110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15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16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117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8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9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0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1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2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3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4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5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6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7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8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9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0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1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2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3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34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35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6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7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38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39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5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46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51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52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3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54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155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156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1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2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163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7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8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169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70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71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172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173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8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9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80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85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6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87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8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9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0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1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2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3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4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5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6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7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98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99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200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1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2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03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204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5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6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07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208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9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0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211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2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3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214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5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6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217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8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9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20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221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2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3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224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5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6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227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8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9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230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1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2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33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4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5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6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7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8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9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0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1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3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4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7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48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249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0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1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2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3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4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5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256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7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58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9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260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1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2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3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4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5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6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7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8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9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0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1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2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73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4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75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8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79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0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81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82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83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4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5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86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7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8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89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90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1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92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3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4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95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6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7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8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9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0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1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2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3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4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305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09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310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2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3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314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315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6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17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318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20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1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22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23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24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5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6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27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28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9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0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31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32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3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4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35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6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7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38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9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40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41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2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3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44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45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6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7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48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9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0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51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2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3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54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5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6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57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8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9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0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1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=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Mathematica1"/>
                <a:ea typeface="Mathematica1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6" name="Rectangle 4"/>
          <p:cNvSpPr/>
          <p:nvPr/>
        </p:nvSpPr>
        <p:spPr>
          <a:xfrm>
            <a:off x="254160" y="2413080"/>
            <a:ext cx="352440" cy="10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7" name="Text Box 5"/>
          <p:cNvSpPr/>
          <p:nvPr/>
        </p:nvSpPr>
        <p:spPr>
          <a:xfrm>
            <a:off x="455760" y="3835440"/>
            <a:ext cx="74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and b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of these add energy to the material, exciting s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the electrons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ding foreign atoms (called “doping”) will either c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aterial to have too many electrons to fit in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ence band (some will go into the conduction band)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r cause the valence band to have unfilled states. 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ither case, some electrons will have nearby (in energy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s to which they can be excit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9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0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1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2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3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4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5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6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77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8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9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0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1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2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83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84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85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6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7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88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89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0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1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2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93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4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5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96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7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8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99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0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1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402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3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4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05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406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7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8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409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0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1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412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3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4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415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6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7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18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2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3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26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427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428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9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430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1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432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433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4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5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436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437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3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444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9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450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1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52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453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454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0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461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66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67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68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69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70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71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78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83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4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85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6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7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8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9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0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1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2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3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4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5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96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97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98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9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0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501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502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3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4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05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506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7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8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509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0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1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512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3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4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515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6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7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18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519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0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1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522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3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4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525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6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7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528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9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30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531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2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3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4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5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6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7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8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0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4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3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7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1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2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3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76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77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4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0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3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4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6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07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0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1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18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3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4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26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27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0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3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36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2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3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4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5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6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47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56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2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3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4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5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68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3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76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79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1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86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87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2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196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7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198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1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2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3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4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5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06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07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0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1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08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09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1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2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3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4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6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17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18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19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0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2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4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5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26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27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29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0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1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4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38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1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3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4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47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48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4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5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0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1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4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5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2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77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78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79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0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1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4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87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9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0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1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2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3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4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5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6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8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9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0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1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3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9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0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1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2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3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5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16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17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8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9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3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4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7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29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0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2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3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4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6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0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1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6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47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49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0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1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7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58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2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3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4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66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67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0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2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3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4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5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76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77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78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79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0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2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3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4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0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1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96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597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9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0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1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7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08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3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4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16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17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18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4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5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0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3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4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37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9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0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2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3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4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6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47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0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2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3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4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5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6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7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0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1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2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3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65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66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67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74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9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0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2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3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84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1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96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697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99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0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1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7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08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3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4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15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16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17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0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3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5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26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27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8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0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3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6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7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8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9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0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1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2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3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4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5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6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7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8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9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3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4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5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6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7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8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9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1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2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3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84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85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6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7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8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9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0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1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15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6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7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8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9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0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1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2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3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6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27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8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9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0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1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2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3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4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35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6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7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1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47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49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3-05T14:43:55Z</dcterms:modified>
  <cp:revision>467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