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DD50F8D-5F23-4031-8430-0A69F57B41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2D8E2D92-E95F-4678-9FD1-79B3478030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9B081F03-8F4F-4C6C-8F4A-A21965A7A73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 -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1000" y="4799160"/>
            <a:ext cx="85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nce the region in question is very small (i.e.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early constant), we can approximate the integr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Object 56"/>
          <p:cNvGraphicFramePr/>
          <p:nvPr/>
        </p:nvGraphicFramePr>
        <p:xfrm>
          <a:off x="326880" y="5518080"/>
          <a:ext cx="87170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5518080"/>
                    <a:ext cx="8717040" cy="814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95612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ct solution = 0.003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9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50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51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52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52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53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53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53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5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5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5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6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6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6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2-24T00:10:27Z</dcterms:modified>
  <cp:revision>43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