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CDD1E56B-319F-47E4-90E3-A5FA525F3F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“Demo” with total internal reflection – photons have the same colo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9EA9715C-D2C4-4720-B5CD-FF3DB0712A1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19280" y="460440"/>
            <a:ext cx="7335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A vast time bubble has been projected into the future to the precise moment of the end of the universe. 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is is, of course, impossibl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     --D. Adams,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Hitchhiker’s Guide to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Galax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89120" y="355140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light at the end of the tunnel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 prover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84080" y="4950000"/>
            <a:ext cx="7336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 light at the end of the tunnel is just the light of an oncoming trai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Low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55560" y="6336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67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87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88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2786040" y="5229360"/>
            <a:ext cx="2100240" cy="4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584280" y="5749920"/>
            <a:ext cx="634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arrier does not absorb energy from the parti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mplitude of the outgoing wave is smaller, but th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 is the same.  E is the same everyw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7495200" y="5892840"/>
            <a:ext cx="138924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4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Rectangle 8"/>
          <p:cNvSpPr/>
          <p:nvPr/>
        </p:nvSpPr>
        <p:spPr>
          <a:xfrm>
            <a:off x="5078520" y="1417680"/>
            <a:ext cx="4381560" cy="4363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52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53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54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54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55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55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56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69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716040" y="3471840"/>
          <a:ext cx="320508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3471840"/>
                    <a:ext cx="32050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" name="Group 29"/>
          <p:cNvGrpSpPr/>
          <p:nvPr/>
        </p:nvGrpSpPr>
        <p:grpSpPr>
          <a:xfrm>
            <a:off x="6191280" y="1124640"/>
            <a:ext cx="2468160" cy="1849680"/>
            <a:chOff x="6191280" y="1124640"/>
            <a:chExt cx="2468160" cy="1849680"/>
          </a:xfrm>
        </p:grpSpPr>
        <p:sp>
          <p:nvSpPr>
            <p:cNvPr id="592" name="Line 4"/>
            <p:cNvSpPr/>
            <p:nvPr/>
          </p:nvSpPr>
          <p:spPr>
            <a:xfrm flipV="1">
              <a:off x="7196040" y="1273320"/>
              <a:ext cx="0" cy="130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5"/>
            <p:cNvSpPr/>
            <p:nvPr/>
          </p:nvSpPr>
          <p:spPr>
            <a:xfrm>
              <a:off x="6554880" y="2585880"/>
              <a:ext cx="2046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6"/>
            <p:cNvSpPr/>
            <p:nvPr/>
          </p:nvSpPr>
          <p:spPr>
            <a:xfrm>
              <a:off x="69678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7"/>
            <p:cNvSpPr/>
            <p:nvPr/>
          </p:nvSpPr>
          <p:spPr>
            <a:xfrm>
              <a:off x="72252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 flipV="1">
              <a:off x="619128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9"/>
            <p:cNvSpPr/>
            <p:nvPr/>
          </p:nvSpPr>
          <p:spPr>
            <a:xfrm flipV="1">
              <a:off x="7197840" y="1650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 flipV="1">
              <a:off x="7307280" y="1655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 flipV="1">
              <a:off x="731052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7192800" y="166068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6732720" y="147276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14"/>
            <p:cNvSpPr/>
            <p:nvPr/>
          </p:nvSpPr>
          <p:spPr>
            <a:xfrm>
              <a:off x="8364240" y="260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7216920" y="1124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6"/>
            <p:cNvSpPr/>
            <p:nvPr/>
          </p:nvSpPr>
          <p:spPr>
            <a:xfrm>
              <a:off x="6585120" y="208584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7927920" y="181368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6248880" y="22334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19"/>
            <p:cNvSpPr/>
            <p:nvPr/>
          </p:nvSpPr>
          <p:spPr>
            <a:xfrm>
              <a:off x="7410600" y="221292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7526160" y="264492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 flipV="1">
              <a:off x="7233840" y="2450880"/>
              <a:ext cx="360360" cy="3315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Text Box 23"/>
          <p:cNvSpPr/>
          <p:nvPr/>
        </p:nvSpPr>
        <p:spPr>
          <a:xfrm>
            <a:off x="425520" y="617292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will T be if we double the width of the ga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3" name="Object 26"/>
          <p:cNvGraphicFramePr/>
          <p:nvPr/>
        </p:nvGraphicFramePr>
        <p:xfrm>
          <a:off x="4867200" y="3471840"/>
          <a:ext cx="3268800" cy="20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7200" y="3471840"/>
                    <a:ext cx="32688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Rectangle 27"/>
          <p:cNvSpPr/>
          <p:nvPr/>
        </p:nvSpPr>
        <p:spPr>
          <a:xfrm>
            <a:off x="2585880" y="3932280"/>
            <a:ext cx="795600" cy="442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471960" y="4906800"/>
            <a:ext cx="32166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 &lt;&lt; 1, so our use of the KL &gt;&gt; 1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roximation is justifi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624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629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636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1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4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50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271440" y="2701800"/>
            <a:ext cx="1397160" cy="4334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5"/>
          <p:cNvGrpSpPr/>
          <p:nvPr/>
        </p:nvGrpSpPr>
        <p:grpSpPr>
          <a:xfrm>
            <a:off x="4176720" y="4395960"/>
            <a:ext cx="1755720" cy="593640"/>
            <a:chOff x="4176720" y="4395960"/>
            <a:chExt cx="1755720" cy="593640"/>
          </a:xfrm>
        </p:grpSpPr>
        <mc:AlternateContent>
          <mc:Choice xmlns:a14="http://schemas.microsoft.com/office/drawing/2010/main" Requires="a14">
            <p:sp>
              <p:nvSpPr>
                <p:cNvPr id="660" name="Object 6"/>
                <p:cNvSpPr txBox="1"/>
                <p:nvPr/>
              </p:nvSpPr>
              <p:spPr>
                <a:xfrm>
                  <a:off x="4257720" y="4395960"/>
                  <a:ext cx="167472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≈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L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61" name="AutoShape 7"/>
            <p:cNvSpPr/>
            <p:nvPr/>
          </p:nvSpPr>
          <p:spPr>
            <a:xfrm>
              <a:off x="4176720" y="4407120"/>
              <a:ext cx="1731960" cy="582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2" name="Text Box 8"/>
          <p:cNvSpPr/>
          <p:nvPr/>
        </p:nvSpPr>
        <p:spPr>
          <a:xfrm>
            <a:off x="2602080" y="2837160"/>
            <a:ext cx="6541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nk of it this way – there is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get through the first half of the barrier, and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then get through the second ha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when we double L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is equivalent to squaring the transmission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504720" y="5394240"/>
            <a:ext cx="801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onium: Using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“attempts” at the barrier per second, the probability of escape is about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 second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 </a:t>
            </a:r>
            <a:r>
              <a:rPr b="0" lang="el-GR" sz="2000" spc="-1" strike="noStrike" u="sng">
                <a:solidFill>
                  <a:srgbClr val="ffff00"/>
                </a:solidFill>
                <a:uFillTx/>
                <a:latin typeface="Arial"/>
              </a:rPr>
              <a:t>μ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495360" y="6156360"/>
            <a:ext cx="80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: Actually has a somewhat higher barrier too, leading to P(tunnel) ~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0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yea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7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2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3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2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7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8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7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675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676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679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2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3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688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689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1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692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5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701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703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704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707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0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9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5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6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9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56" name="Line 4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Rectangle 15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16"/>
          <p:cNvGraphicFramePr/>
          <p:nvPr/>
        </p:nvGraphicFramePr>
        <p:xfrm>
          <a:off x="1357200" y="4876920"/>
          <a:ext cx="220500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876920"/>
                    <a:ext cx="2205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17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71" name="Picture 18" descr="decay"/>
            <p:cNvPicPr/>
            <p:nvPr/>
          </p:nvPicPr>
          <p:blipFill>
            <a:blip r:embed="rId3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9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AutoShape 22"/>
          <p:cNvSpPr/>
          <p:nvPr/>
        </p:nvSpPr>
        <p:spPr>
          <a:xfrm flipH="1" rot="16200000">
            <a:off x="5333760" y="5145840"/>
            <a:ext cx="191880" cy="584280"/>
          </a:xfrm>
          <a:prstGeom prst="downArrow">
            <a:avLst>
              <a:gd name="adj1" fmla="val 50000"/>
              <a:gd name="adj2" fmla="val 76126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23"/>
          <p:cNvGraphicFramePr/>
          <p:nvPr/>
        </p:nvGraphicFramePr>
        <p:xfrm>
          <a:off x="5746680" y="5110200"/>
          <a:ext cx="3135240" cy="64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6680" y="5110200"/>
                    <a:ext cx="31352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79" name="Object 25"/>
          <p:cNvGraphicFramePr/>
          <p:nvPr/>
        </p:nvGraphicFramePr>
        <p:xfrm>
          <a:off x="266760" y="5945040"/>
          <a:ext cx="5129280" cy="55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760" y="5945040"/>
                    <a:ext cx="51292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3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84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88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91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95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99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203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405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425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50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10-06T17:33:05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