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E36BF66E-DA5D-40F3-8078-6A219D3182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A38BCDE5-9E84-4E1F-ADF3-49B05DD54A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9F07D63-441F-4AB8-943D-0BB7C4ACB2B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11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12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12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12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12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13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13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3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4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5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6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9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21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7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42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50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52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8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4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2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3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4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5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7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7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5600" y="996840"/>
            <a:ext cx="877104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Taylor Hughes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Bryan Clark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Tony Heg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8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8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9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9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91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2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92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92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93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93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93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4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4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4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5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6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7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8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9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100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101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4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959800" y="283680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5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7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7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7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7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8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8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8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Dept. Policy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Polic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orth 1 pt each (out of 1000); we’ll drop the lowes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10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11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2T19:50:1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