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0.png" ContentType="image/png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CBB9AE1-EC08-4FB0-84C2-4FF139B0E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2391B0D-C189-4F68-8979-D3F10D25E8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D565B36E-B24B-4EE7-872A-DC62FC3085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 -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1000" y="4799160"/>
            <a:ext cx="85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nce the region in question is very small (i.e.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early constant), we can approximate the integr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0" name="Object 56"/>
          <p:cNvGraphicFramePr/>
          <p:nvPr/>
        </p:nvGraphicFramePr>
        <p:xfrm>
          <a:off x="326880" y="5518080"/>
          <a:ext cx="871704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880" y="5518080"/>
                    <a:ext cx="8717040" cy="8143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95612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ct solution = 0.003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9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50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51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52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52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53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53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53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5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5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5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6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6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6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2-24T00:10:27Z</dcterms:modified>
  <cp:revision>43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