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416320" y="8856720"/>
            <a:ext cx="220032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12 Page </a:t>
            </a:r>
            <a:fld id="{751FE90B-6802-4196-AA28-52BD3564A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189080" y="703440"/>
            <a:ext cx="4630680" cy="3473280"/>
          </a:xfrm>
          <a:prstGeom prst="rect">
            <a:avLst/>
          </a:prstGeom>
          <a:ln w="0">
            <a:noFill/>
          </a:ln>
        </p:spPr>
      </p:sp>
      <p:sp>
        <p:nvSpPr>
          <p:cNvPr id="63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189080" y="703440"/>
            <a:ext cx="4630680" cy="3473280"/>
          </a:xfrm>
          <a:prstGeom prst="rect">
            <a:avLst/>
          </a:prstGeom>
          <a:ln w="0">
            <a:noFill/>
          </a:ln>
        </p:spPr>
      </p:sp>
      <p:sp>
        <p:nvSpPr>
          <p:cNvPr id="63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189080" y="703440"/>
            <a:ext cx="4630680" cy="3473280"/>
          </a:xfrm>
          <a:prstGeom prst="rect">
            <a:avLst/>
          </a:prstGeom>
          <a:ln w="0">
            <a:noFill/>
          </a:ln>
        </p:spPr>
      </p:sp>
      <p:sp>
        <p:nvSpPr>
          <p:cNvPr id="63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9BED9-3134-480A-A646-09E2BE6DB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41D2-60E2-45E6-8C2C-92229534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4EE72-4AE8-453B-B020-F60154DC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CCC6F-7F42-465E-8314-FAB1890E1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77F5-81FE-456A-A709-AA54122F1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C263B-D0AC-4B21-85D6-56482BC4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A6C9-154B-472A-963C-8440FB78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4316-0A55-4C07-9865-05CD64FDE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7159-BE0B-45A0-83B1-638002E06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854A6-54C1-423D-9848-744EAE19C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1C3F5-E7C1-4A6A-B1BA-BB4BAB16A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6D7B6-D868-4F07-BF65-0C736E7A2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D68C22B6-75D8-45C6-B7C9-90C257A3897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EE9CA73F-D53A-4E45-8F6E-22A75217091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6206-392F-4521-835C-D8B4F2D3920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a:t>
              </a:r>
              <a:r>
                <a:rPr b="0" lang="en-US" sz="2000" spc="-1" strike="noStrike">
                  <a:solidFill>
                    <a:srgbClr val="ffff00"/>
                  </a:solidFill>
                  <a:latin typeface="Symbol"/>
                  <a:ea typeface="Symbol"/>
                </a:rPr>
                <a:t></a:t>
              </a:r>
              <a:r>
                <a:rPr b="0" lang="en-US" sz="2000" spc="-1" strike="noStrike">
                  <a:solidFill>
                    <a:srgbClr val="ffff00"/>
                  </a:solidFill>
                  <a:latin typeface="Arial"/>
                </a:rPr>
                <a:t>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2-12T17:09:2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