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3.png" ContentType="image/png"/>
  <Override PartName="/ppt/media/image9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2.png" ContentType="image/pn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90C91C3-9BCB-4D22-93DD-4601CED014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A0321F1-43F6-4461-A8C5-3EC5EE9263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9860C50B-7F65-4301-821D-D2BB3021C0E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2E297515-1537-4ECC-A580-6BD2C9ED027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10-07T01:31:10Z</dcterms:modified>
  <cp:revision>536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