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FCBD5C5-B368-4F23-BEC3-7CD8DCBC2A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E52E6CB9-FBAF-4F4B-AB26-E3E611CB805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990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5991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2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3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4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5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6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7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8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9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0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1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2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3" name="PlaceHolder 2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Aluminum wire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05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6006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7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8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9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0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1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2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3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4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7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018" name="Object 16"/>
          <p:cNvGraphicFramePr/>
          <p:nvPr/>
        </p:nvGraphicFramePr>
        <p:xfrm>
          <a:off x="4695840" y="4714920"/>
          <a:ext cx="27288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5840" y="4714920"/>
                    <a:ext cx="2728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0" name="Object 17"/>
          <p:cNvGraphicFramePr/>
          <p:nvPr/>
        </p:nvGraphicFramePr>
        <p:xfrm>
          <a:off x="279360" y="5197320"/>
          <a:ext cx="212904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60" y="5197320"/>
                    <a:ext cx="21290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2" name="Object 18"/>
          <p:cNvGraphicFramePr/>
          <p:nvPr/>
        </p:nvGraphicFramePr>
        <p:xfrm>
          <a:off x="262080" y="5592600"/>
          <a:ext cx="362880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080" y="5592600"/>
                    <a:ext cx="36288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4" name="Text Box 19"/>
          <p:cNvSpPr/>
          <p:nvPr/>
        </p:nvSpPr>
        <p:spPr>
          <a:xfrm>
            <a:off x="4289400" y="5599440"/>
            <a:ext cx="46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xide is thicker than this, so go with copper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wiring in houses is illegal for this rea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5" name="Text Box 20"/>
          <p:cNvSpPr/>
          <p:nvPr/>
        </p:nvSpPr>
        <p:spPr>
          <a:xfrm>
            <a:off x="138240" y="469440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pute the maximum 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6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9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0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6031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32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33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4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5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6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7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38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39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0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1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2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43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44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5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46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7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8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9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0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51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52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3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4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6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57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58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9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0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1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2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63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4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65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6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7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68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9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70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1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3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74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75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6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7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8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9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80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81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2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3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4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5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86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7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8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3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94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5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6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98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99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0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1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1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3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14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115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4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5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7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8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9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0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32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33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4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5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6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7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8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9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0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1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4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45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9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0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1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2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3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4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5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6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57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8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9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0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1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2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3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4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5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66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7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8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69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0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1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2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73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4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5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6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7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8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9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0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1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82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4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85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7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90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91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92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3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4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5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6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97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98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9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0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1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02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3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4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5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6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07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10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1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12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13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14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5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6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7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8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9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20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1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2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3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24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5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6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7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8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9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0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990720" y="10476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330120" y="944640"/>
            <a:ext cx="773928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1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32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3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4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35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36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37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8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9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0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1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42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43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4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5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6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7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0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1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52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5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56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7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8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9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0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61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2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3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4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5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6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67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9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70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1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2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73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77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78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9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0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1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2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83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6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7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8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9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0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1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2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3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4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5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6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7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8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9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0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1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302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3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4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5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6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7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2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3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5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6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8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9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320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1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2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23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324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325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6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7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8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9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0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1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2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33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4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5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36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7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8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39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1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2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45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7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48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9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0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51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2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3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54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5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6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7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58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61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62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3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4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5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6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7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9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71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2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3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4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5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6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7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8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9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80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1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2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3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85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87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9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9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9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9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9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40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40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0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40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2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3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414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15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3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4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5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6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7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8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9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0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1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2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4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35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6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7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38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9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0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1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2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3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4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5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6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7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8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9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0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1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2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3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4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5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3-09-27T18:27:02Z</dcterms:modified>
  <cp:revision>61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