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12909A5-A1B5-4ABB-BEA2-21B741369E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0"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6" name="PlaceHolder 1"/>
          <p:cNvSpPr>
            <a:spLocks noGrp="1"/>
          </p:cNvSpPr>
          <p:nvPr>
            <p:ph type="sldImg"/>
          </p:nvPr>
        </p:nvSpPr>
        <p:spPr>
          <a:xfrm>
            <a:off x="1189080" y="703440"/>
            <a:ext cx="4630680" cy="3473280"/>
          </a:xfrm>
          <a:prstGeom prst="rect">
            <a:avLst/>
          </a:prstGeom>
          <a:ln w="0">
            <a:noFill/>
          </a:ln>
        </p:spPr>
      </p:sp>
      <p:sp>
        <p:nvSpPr>
          <p:cNvPr id="3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8" name="PlaceHolder 1"/>
          <p:cNvSpPr>
            <a:spLocks noGrp="1"/>
          </p:cNvSpPr>
          <p:nvPr>
            <p:ph type="sldImg"/>
          </p:nvPr>
        </p:nvSpPr>
        <p:spPr>
          <a:xfrm>
            <a:off x="1189080" y="703440"/>
            <a:ext cx="4630680" cy="3473280"/>
          </a:xfrm>
          <a:prstGeom prst="rect">
            <a:avLst/>
          </a:prstGeom>
          <a:ln w="0">
            <a:noFill/>
          </a:ln>
        </p:spPr>
      </p:sp>
      <p:sp>
        <p:nvSpPr>
          <p:cNvPr id="35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0" name="PlaceHolder 1"/>
          <p:cNvSpPr>
            <a:spLocks noGrp="1"/>
          </p:cNvSpPr>
          <p:nvPr>
            <p:ph type="sldImg"/>
          </p:nvPr>
        </p:nvSpPr>
        <p:spPr>
          <a:xfrm>
            <a:off x="1189080" y="703440"/>
            <a:ext cx="4630680" cy="3473280"/>
          </a:xfrm>
          <a:prstGeom prst="rect">
            <a:avLst/>
          </a:prstGeom>
          <a:ln w="0">
            <a:noFill/>
          </a:ln>
        </p:spPr>
      </p:sp>
      <p:sp>
        <p:nvSpPr>
          <p:cNvPr id="35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2" name="PlaceHolder 1"/>
          <p:cNvSpPr>
            <a:spLocks noGrp="1"/>
          </p:cNvSpPr>
          <p:nvPr>
            <p:ph type="sldImg"/>
          </p:nvPr>
        </p:nvSpPr>
        <p:spPr>
          <a:xfrm>
            <a:off x="1187280" y="703440"/>
            <a:ext cx="4631040" cy="3473280"/>
          </a:xfrm>
          <a:prstGeom prst="rect">
            <a:avLst/>
          </a:prstGeom>
          <a:ln w="0">
            <a:noFill/>
          </a:ln>
        </p:spPr>
      </p:sp>
      <p:sp>
        <p:nvSpPr>
          <p:cNvPr id="35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4" name="PlaceHolder 1"/>
          <p:cNvSpPr>
            <a:spLocks noGrp="1"/>
          </p:cNvSpPr>
          <p:nvPr>
            <p:ph type="sldImg"/>
          </p:nvPr>
        </p:nvSpPr>
        <p:spPr>
          <a:xfrm>
            <a:off x="1187280" y="703440"/>
            <a:ext cx="4631040" cy="3473280"/>
          </a:xfrm>
          <a:prstGeom prst="rect">
            <a:avLst/>
          </a:prstGeom>
          <a:ln w="0">
            <a:noFill/>
          </a:ln>
        </p:spPr>
      </p:sp>
      <p:sp>
        <p:nvSpPr>
          <p:cNvPr id="356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type="sldImg"/>
          </p:nvPr>
        </p:nvSpPr>
        <p:spPr>
          <a:xfrm>
            <a:off x="1189080" y="703440"/>
            <a:ext cx="4630680" cy="3473280"/>
          </a:xfrm>
          <a:prstGeom prst="rect">
            <a:avLst/>
          </a:prstGeom>
          <a:ln w="0">
            <a:noFill/>
          </a:ln>
        </p:spPr>
      </p:sp>
      <p:sp>
        <p:nvSpPr>
          <p:cNvPr id="3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6" name="PlaceHolder 1"/>
          <p:cNvSpPr>
            <a:spLocks noGrp="1"/>
          </p:cNvSpPr>
          <p:nvPr>
            <p:ph type="sldImg"/>
          </p:nvPr>
        </p:nvSpPr>
        <p:spPr>
          <a:xfrm>
            <a:off x="1187280" y="703440"/>
            <a:ext cx="4631040" cy="3473280"/>
          </a:xfrm>
          <a:prstGeom prst="rect">
            <a:avLst/>
          </a:prstGeom>
          <a:ln w="0">
            <a:noFill/>
          </a:ln>
        </p:spPr>
      </p:sp>
      <p:sp>
        <p:nvSpPr>
          <p:cNvPr id="35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8" name="PlaceHolder 1"/>
          <p:cNvSpPr>
            <a:spLocks noGrp="1"/>
          </p:cNvSpPr>
          <p:nvPr>
            <p:ph type="sldImg"/>
          </p:nvPr>
        </p:nvSpPr>
        <p:spPr>
          <a:xfrm>
            <a:off x="1189080" y="703440"/>
            <a:ext cx="4630680" cy="3473280"/>
          </a:xfrm>
          <a:prstGeom prst="rect">
            <a:avLst/>
          </a:prstGeom>
          <a:ln w="0">
            <a:noFill/>
          </a:ln>
        </p:spPr>
      </p:sp>
      <p:sp>
        <p:nvSpPr>
          <p:cNvPr id="35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0" name="PlaceHolder 1"/>
          <p:cNvSpPr>
            <a:spLocks noGrp="1"/>
          </p:cNvSpPr>
          <p:nvPr>
            <p:ph type="sldImg"/>
          </p:nvPr>
        </p:nvSpPr>
        <p:spPr>
          <a:xfrm>
            <a:off x="1187280" y="703440"/>
            <a:ext cx="4631040" cy="3473280"/>
          </a:xfrm>
          <a:prstGeom prst="rect">
            <a:avLst/>
          </a:prstGeom>
          <a:ln w="0">
            <a:noFill/>
          </a:ln>
        </p:spPr>
      </p:sp>
      <p:sp>
        <p:nvSpPr>
          <p:cNvPr id="3551"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PlaceHolder 1"/>
          <p:cNvSpPr>
            <a:spLocks noGrp="1"/>
          </p:cNvSpPr>
          <p:nvPr>
            <p:ph type="sldImg"/>
          </p:nvPr>
        </p:nvSpPr>
        <p:spPr>
          <a:xfrm>
            <a:off x="1187280" y="703440"/>
            <a:ext cx="4631040" cy="3473280"/>
          </a:xfrm>
          <a:prstGeom prst="rect">
            <a:avLst/>
          </a:prstGeom>
          <a:ln w="0">
            <a:noFill/>
          </a:ln>
        </p:spPr>
      </p:sp>
      <p:sp>
        <p:nvSpPr>
          <p:cNvPr id="355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4" name="PlaceHolder 1"/>
          <p:cNvSpPr>
            <a:spLocks noGrp="1"/>
          </p:cNvSpPr>
          <p:nvPr>
            <p:ph type="sldImg"/>
          </p:nvPr>
        </p:nvSpPr>
        <p:spPr>
          <a:xfrm>
            <a:off x="1187280" y="703440"/>
            <a:ext cx="4631040" cy="3473280"/>
          </a:xfrm>
          <a:prstGeom prst="rect">
            <a:avLst/>
          </a:prstGeom>
          <a:ln w="0">
            <a:noFill/>
          </a:ln>
        </p:spPr>
      </p:sp>
      <p:sp>
        <p:nvSpPr>
          <p:cNvPr id="3555"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6" name="PlaceHolder 1"/>
          <p:cNvSpPr>
            <a:spLocks noGrp="1"/>
          </p:cNvSpPr>
          <p:nvPr>
            <p:ph type="sldImg"/>
          </p:nvPr>
        </p:nvSpPr>
        <p:spPr>
          <a:xfrm>
            <a:off x="1189080" y="703440"/>
            <a:ext cx="4630680" cy="3473280"/>
          </a:xfrm>
          <a:prstGeom prst="rect">
            <a:avLst/>
          </a:prstGeom>
          <a:ln w="0">
            <a:noFill/>
          </a:ln>
        </p:spPr>
      </p:sp>
      <p:sp>
        <p:nvSpPr>
          <p:cNvPr id="35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F209C0F1-5479-4C68-BFD1-AB23A7C08E6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28760" y="336600"/>
            <a:ext cx="810720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a:t>
            </a:r>
            <a:r>
              <a:rPr b="0" lang="en-US" sz="3200" spc="-1" strike="noStrike">
                <a:solidFill>
                  <a:srgbClr val="e7f210"/>
                </a:solidFill>
                <a:latin typeface="Comic Sans MS"/>
              </a:rPr>
              <a:t>Quantum mechanics’ is the description of the behavior of matter and light in all its details and, in particular, of the happenings on an atomic scale.  Things on a very small scale behave like nothing that you have any direct experience about.  They do not behave like waves, they do not behave like particles, they do not behave like clouds, or billiard balls, or weights on springs, or like anything that you have ever see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Richard P. Feyn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7" name="Rectangle 2"/>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Arial"/>
            </a:endParaRPr>
          </a:p>
        </p:txBody>
      </p:sp>
      <p:sp>
        <p:nvSpPr>
          <p:cNvPr id="1238" name="Rectangle 3"/>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Arial"/>
            </a:endParaRPr>
          </a:p>
        </p:txBody>
      </p:sp>
      <p:sp>
        <p:nvSpPr>
          <p:cNvPr id="1239" name="AutoShape 8"/>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40" name="Group 31"/>
          <p:cNvGrpSpPr/>
          <p:nvPr/>
        </p:nvGrpSpPr>
        <p:grpSpPr>
          <a:xfrm>
            <a:off x="1217520" y="2382840"/>
            <a:ext cx="4511520" cy="1078560"/>
            <a:chOff x="1217520" y="2382840"/>
            <a:chExt cx="4511520" cy="1078560"/>
          </a:xfrm>
        </p:grpSpPr>
        <p:sp>
          <p:nvSpPr>
            <p:cNvPr id="1241" name="Text Box 10"/>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Arial"/>
              </a:endParaRPr>
            </a:p>
          </p:txBody>
        </p:sp>
        <p:sp>
          <p:nvSpPr>
            <p:cNvPr id="1242" name="Text Box 13"/>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Arial"/>
              </a:endParaRPr>
            </a:p>
          </p:txBody>
        </p:sp>
        <p:sp>
          <p:nvSpPr>
            <p:cNvPr id="1243" name="Text Box 16"/>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Arial"/>
              </a:endParaRPr>
            </a:p>
          </p:txBody>
        </p:sp>
        <p:graphicFrame>
          <p:nvGraphicFramePr>
            <p:cNvPr id="1244" name="Object 27"/>
            <p:cNvGraphicFramePr/>
            <p:nvPr/>
          </p:nvGraphicFramePr>
          <p:xfrm>
            <a:off x="1217520" y="2382840"/>
            <a:ext cx="4225680" cy="790560"/>
          </p:xfrm>
          <a:graphic>
            <a:graphicData uri="http://schemas.openxmlformats.org/presentationml/2006/ole">
              <p:oleObj r:id="rId1" spid="">
                <p:embed/>
                <p:pic>
                  <p:nvPicPr>
                    <p:cNvPr id="1245" name="Object 27"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246" name="Object 30"/>
          <p:cNvGraphicFramePr/>
          <p:nvPr/>
        </p:nvGraphicFramePr>
        <p:xfrm>
          <a:off x="1285920" y="4322880"/>
          <a:ext cx="5826240" cy="688680"/>
        </p:xfrm>
        <a:graphic>
          <a:graphicData uri="http://schemas.openxmlformats.org/presentationml/2006/ole">
            <p:oleObj r:id="rId3" spid="">
              <p:embed/>
              <p:pic>
                <p:nvPicPr>
                  <p:cNvPr id="1247" name="Object 30"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48" name="Rectangle 2"/>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Arial"/>
            </a:endParaRPr>
          </a:p>
        </p:txBody>
      </p:sp>
      <p:sp>
        <p:nvSpPr>
          <p:cNvPr id="1249" name="Rectangle 3"/>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Arial"/>
            </a:endParaRPr>
          </a:p>
        </p:txBody>
      </p:sp>
      <p:grpSp>
        <p:nvGrpSpPr>
          <p:cNvPr id="1250" name="Group 4"/>
          <p:cNvGrpSpPr/>
          <p:nvPr/>
        </p:nvGrpSpPr>
        <p:grpSpPr>
          <a:xfrm>
            <a:off x="353880" y="3984480"/>
            <a:ext cx="8787240" cy="1396440"/>
            <a:chOff x="353880" y="3984480"/>
            <a:chExt cx="8787240" cy="1396440"/>
          </a:xfrm>
        </p:grpSpPr>
        <p:grpSp>
          <p:nvGrpSpPr>
            <p:cNvPr id="1251" name="Group 5"/>
            <p:cNvGrpSpPr/>
            <p:nvPr/>
          </p:nvGrpSpPr>
          <p:grpSpPr>
            <a:xfrm>
              <a:off x="353880" y="3984480"/>
              <a:ext cx="8787240" cy="1396440"/>
              <a:chOff x="353880" y="3984480"/>
              <a:chExt cx="8787240" cy="1396440"/>
            </a:xfrm>
          </p:grpSpPr>
          <p:grpSp>
            <p:nvGrpSpPr>
              <p:cNvPr id="1252" name="Group 6"/>
              <p:cNvGrpSpPr/>
              <p:nvPr/>
            </p:nvGrpSpPr>
            <p:grpSpPr>
              <a:xfrm>
                <a:off x="3591000" y="4021200"/>
                <a:ext cx="2550960" cy="1359720"/>
                <a:chOff x="3591000" y="4021200"/>
                <a:chExt cx="2550960" cy="1359720"/>
              </a:xfrm>
            </p:grpSpPr>
            <p:sp>
              <p:nvSpPr>
                <p:cNvPr id="1253" name="Text Box 7"/>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254" name="Group 8"/>
                <p:cNvGrpSpPr/>
                <p:nvPr/>
              </p:nvGrpSpPr>
              <p:grpSpPr>
                <a:xfrm>
                  <a:off x="3903480" y="4354920"/>
                  <a:ext cx="1607400" cy="635760"/>
                  <a:chOff x="3903480" y="4354920"/>
                  <a:chExt cx="1607400" cy="635760"/>
                </a:xfrm>
              </p:grpSpPr>
              <p:sp>
                <p:nvSpPr>
                  <p:cNvPr id="1255" name="Line 9"/>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6" name="Line 10"/>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7" name="Line 11"/>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8" name="Freeform 12"/>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59" name="Line 13"/>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60" name="Line 14"/>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61" name="Freeform 15"/>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2" name="Line 16"/>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3" name="Line 17"/>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4" name="Line 18"/>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5" name="Freeform 19"/>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6" name="Line 20"/>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7" name="Line 21"/>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268" name="Line 22"/>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69" name="Freeform 23"/>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270" name="Line 24"/>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1" name="Line 25"/>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2" name="Freeform 26"/>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3" name="Line 27"/>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4" name="Line 28"/>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5" name="Line 29"/>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6" name="Freeform 30"/>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7" name="Line 31"/>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32"/>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9" name="Freeform 33"/>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0" name="Line 34"/>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35"/>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2" name="Line 36"/>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3" name="Freeform 37"/>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4" name="Line 38"/>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5" name="Line 39"/>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6" name="Line 40"/>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Freeform 41"/>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8" name="Line 42"/>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9" name="Line 43"/>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0" name="Freeform 44"/>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1" name="Line 45"/>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2" name="Line 46"/>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3" name="Line 47"/>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4" name="Freeform 48"/>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95" name="Freeform 49"/>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296" name="Line 50"/>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7" name="Line 51"/>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Freeform 52"/>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9" name="Freeform 53"/>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0" name="Line 54"/>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Freeform 55"/>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02" name="Freeform 56"/>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3" name="Line 57"/>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4" name="Freeform 58"/>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5" name="Freeform 59"/>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06" name="Line 60"/>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7" name="Freeform 61"/>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8" name="Line 62"/>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9" name="Freeform 63"/>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0" name="Freeform 64"/>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311" name="Line 65"/>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2" name="Freeform 66"/>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3" name="Line 67"/>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4" name="Freeform 68"/>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15" name="Line 69"/>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16" name="Freeform 70"/>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7" name="Line 71"/>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8" name="Line 72"/>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9" name="Line 73"/>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20" name="Freeform 74"/>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21" name="Line 75"/>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2" name="Freeform 76"/>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23" name="Freeform 77"/>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8"/>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25" name="Line 79"/>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26" name="Line 80"/>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Freeform 81"/>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82"/>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83"/>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0" name="Line 84"/>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1" name="Freeform 85"/>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2" name="Line 86"/>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3" name="Line 87"/>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4" name="Freeform 88"/>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5" name="Line 89"/>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6" name="Line 90"/>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7" name="Line 91"/>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38" name="Freeform 92"/>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9" name="Line 93"/>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0" name="Line 94"/>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1" name="Line 95"/>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42" name="Freeform 96"/>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3" name="Line 97"/>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4" name="Line 98"/>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45" name="Freeform 99"/>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6" name="Line 100"/>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7" name="Line 101"/>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48" name="Line 102"/>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49" name="Freeform 103"/>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50" name="Line 104"/>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1" name="Line 105"/>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2" name="Line 106"/>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3" name="Freeform 107"/>
                  <p:cNvSpPr/>
                  <p:nvPr/>
                </p:nvSpPr>
                <p:spPr>
                  <a:xfrm>
                    <a:off x="4689720" y="4354920"/>
                    <a:ext cx="9000" cy="720"/>
                  </a:xfrm>
                  <a:custGeom>
                    <a:avLst/>
                    <a:gdLst/>
                    <a:ahLst/>
                    <a:rect l="l" t="t" r="r" b="b"/>
                    <a:pathLst>
                      <a:path w="7" h="1">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4" name="Line 108"/>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5" name="Line 109"/>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6" name="Freeform 110"/>
                  <p:cNvSpPr/>
                  <p:nvPr/>
                </p:nvSpPr>
                <p:spPr>
                  <a:xfrm>
                    <a:off x="4715280" y="4354920"/>
                    <a:ext cx="9000" cy="720"/>
                  </a:xfrm>
                  <a:custGeom>
                    <a:avLst/>
                    <a:gdLst/>
                    <a:ahLst/>
                    <a:rect l="l" t="t" r="r" b="b"/>
                    <a:pathLst>
                      <a:path w="7" h="1">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7" name="Line 111"/>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8" name="Line 112"/>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9" name="Line 113"/>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60" name="Freeform 114"/>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1" name="Line 115"/>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62" name="Line 116"/>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63" name="Line 117"/>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4" name="Freeform 118"/>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5" name="Line 119"/>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66" name="Line 120"/>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7" name="Freeform 121"/>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8" name="Line 122"/>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69" name="Line 123"/>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0" name="Line 124"/>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1" name="Freeform 125"/>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2" name="Line 126"/>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73" name="Line 127"/>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4" name="Line 128"/>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5" name="Freeform 129"/>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6" name="Line 130"/>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7" name="Line 131"/>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8" name="Freeform 132"/>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9" name="Line 133"/>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80" name="Line 134"/>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81" name="Line 135"/>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2" name="Freeform 136"/>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137"/>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138"/>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85" name="Line 139"/>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86" name="Freeform 140"/>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7" name="Freeform 141"/>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88" name="Line 142"/>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Freeform 143"/>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0" name="Line 144"/>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1" name="Line 145"/>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2" name="Line 146"/>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3" name="Freeform 147"/>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4" name="Line 148"/>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95" name="Freeform 149"/>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96" name="Line 150"/>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7" name="Freeform 151"/>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8" name="Line 152"/>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9" name="Freeform 153"/>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00" name="Freeform 154"/>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1" name="Line 155"/>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2" name="Freeform 156"/>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3" name="Line 157"/>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4" name="Freeform 158"/>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5" name="Freeform 159"/>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6" name="Line 160"/>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7" name="Freeform 161"/>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8" name="Freeform 162"/>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09" name="Line 163"/>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0" name="Freeform 164"/>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1" name="Freeform 165"/>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12" name="Line 166"/>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13" name="Line 167"/>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4" name="Freeform 168"/>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5" name="Freeform 169"/>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16" name="Line 170"/>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7" name="Line 171"/>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172"/>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9" name="Freeform 173"/>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20" name="Line 174"/>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21" name="Line 175"/>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2" name="Freeform 176"/>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3" name="Line 177"/>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4" name="Line 178"/>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5" name="Line 179"/>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Freeform 180"/>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181"/>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182"/>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9" name="Freeform 183"/>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0" name="Line 184"/>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1" name="Line 185"/>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2" name="Line 186"/>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Freeform 187"/>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4" name="Line 188"/>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5" name="Line 189"/>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6" name="Line 190"/>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7" name="Freeform 191"/>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38" name="Line 192"/>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9" name="Line 193"/>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40" name="Freeform 194"/>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441" name="Line 195"/>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42" name="Line 196"/>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43" name="Line 197"/>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4" name="Freeform 198"/>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5" name="Line 199"/>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6" name="Line 200"/>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7" name="Line 201"/>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8" name="Freeform 202"/>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9" name="Line 203"/>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0" name="Line 204"/>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1" name="Freeform 205"/>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52" name="Line 206"/>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3" name="Line 207"/>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4" name="Line 208"/>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1455" name="Line 209"/>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6" name="Line 210"/>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7" name="Text Box 211"/>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Text Box 212"/>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459" name="Group 213"/>
              <p:cNvGrpSpPr/>
              <p:nvPr/>
            </p:nvGrpSpPr>
            <p:grpSpPr>
              <a:xfrm>
                <a:off x="6272280" y="4014360"/>
                <a:ext cx="2868840" cy="1362960"/>
                <a:chOff x="6272280" y="4014360"/>
                <a:chExt cx="2868840" cy="1362960"/>
              </a:xfrm>
            </p:grpSpPr>
            <p:sp>
              <p:nvSpPr>
                <p:cNvPr id="1460" name="Text Box 214"/>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461" name="Group 215"/>
                <p:cNvGrpSpPr/>
                <p:nvPr/>
              </p:nvGrpSpPr>
              <p:grpSpPr>
                <a:xfrm>
                  <a:off x="6719760" y="4369320"/>
                  <a:ext cx="1731600" cy="636120"/>
                  <a:chOff x="6719760" y="4369320"/>
                  <a:chExt cx="1731600" cy="636120"/>
                </a:xfrm>
              </p:grpSpPr>
              <p:sp>
                <p:nvSpPr>
                  <p:cNvPr id="1462" name="Line 216"/>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3" name="Line 217"/>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64" name="Line 218"/>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65" name="Freeform 219"/>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6" name="Line 220"/>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67" name="Line 221"/>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8" name="Freeform 222"/>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69" name="Line 223"/>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70" name="Freeform 224"/>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71" name="Freeform 225"/>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472" name="Freeform 226"/>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73" name="Freeform 227"/>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474" name="Line 228"/>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5" name="Line 229"/>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6" name="Freeform 230"/>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77" name="Line 231"/>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8" name="Line 232"/>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79" name="Freeform 233"/>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0" name="Line 234"/>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81" name="Line 235"/>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2" name="Freeform 236"/>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3" name="Freeform 237"/>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4" name="Line 238"/>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5" name="Line 239"/>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6" name="Freeform 240"/>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7" name="Line 241"/>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488" name="Line 242"/>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43"/>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0" name="Freeform 244"/>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1" name="Freeform 245"/>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2" name="Line 246"/>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3" name="Line 247"/>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94" name="Freeform 248"/>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5" name="Line 249"/>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96" name="Line 250"/>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Freeform 251"/>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98" name="Line 252"/>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499" name="Line 253"/>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00" name="Freeform 254"/>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01" name="Freeform 255"/>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02" name="Freeform 256"/>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03" name="Freeform 257"/>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04" name="Line 258"/>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5" name="Freeform 259"/>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6" name="Line 260"/>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7" name="Line 261"/>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8" name="Freeform 262"/>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9" name="Line 263"/>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0" name="Line 264"/>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1" name="Line 265"/>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2" name="Freeform 266"/>
                  <p:cNvSpPr/>
                  <p:nvPr/>
                </p:nvSpPr>
                <p:spPr>
                  <a:xfrm>
                    <a:off x="7151400" y="4369680"/>
                    <a:ext cx="9720" cy="720"/>
                  </a:xfrm>
                  <a:custGeom>
                    <a:avLst/>
                    <a:gdLst/>
                    <a:ahLst/>
                    <a:rect l="l" t="t" r="r" b="b"/>
                    <a:pathLst>
                      <a:path w="7" h="1">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3" name="Line 267"/>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4" name="Line 268"/>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5" name="Line 269"/>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6" name="Freeform 270"/>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17" name="Line 271"/>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8" name="Line 272"/>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19" name="Freeform 273"/>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20" name="Freeform 274"/>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1" name="Freeform 275"/>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22" name="Freeform 276"/>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23" name="Freeform 277"/>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24" name="Line 278"/>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25" name="Line 279"/>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26" name="Line 280"/>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27" name="Freeform 281"/>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28" name="Line 282"/>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29" name="Freeform 283"/>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0" name="Freeform 284"/>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31" name="Line 285"/>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2" name="Freeform 286"/>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3" name="Line 287"/>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4" name="Freeform 288"/>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5" name="Line 289"/>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290"/>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7" name="Line 291"/>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38" name="Freeform 292"/>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9" name="Line 293"/>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0" name="Line 294"/>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1" name="Freeform 295"/>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2" name="Line 296"/>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3" name="Line 297"/>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44" name="Freeform 298"/>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5" name="Freeform 299"/>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46" name="Line 300"/>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7" name="Line 301"/>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48" name="Line 302"/>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9" name="Freeform 303"/>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50" name="Freeform 304"/>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51" name="Freeform 305"/>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52" name="Freeform 306"/>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53" name="Freeform 307"/>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54" name="Line 308"/>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5" name="Line 309"/>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6" name="Freeform 310"/>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7" name="Line 311"/>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58" name="Line 312"/>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9" name="Line 313"/>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0" name="Freeform 314"/>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1" name="Line 315"/>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316"/>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317"/>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4" name="Line 318"/>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5" name="Line 319"/>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6" name="Line 320"/>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67" name="Freeform 321"/>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8" name="Line 322"/>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69" name="Line 323"/>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70" name="Freeform 324"/>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1" name="Freeform 325"/>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72" name="Freeform 326"/>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73" name="Freeform 327"/>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74" name="Freeform 328"/>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75" name="Line 329"/>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30"/>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77" name="Line 331"/>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Freeform 332"/>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79" name="Freeform 333"/>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0" name="Line 334"/>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81" name="Line 335"/>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2" name="Freeform 336"/>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3" name="Line 337"/>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4" name="Line 338"/>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5" name="Freeform 339"/>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6" name="Line 340"/>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7" name="Line 341"/>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88" name="Line 342"/>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9" name="Freeform 343"/>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0" name="Line 344"/>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1" name="Freeform 345"/>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2" name="Line 346"/>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3" name="Freeform 347"/>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94" name="Freeform 348"/>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5" name="Line 349"/>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96" name="Freeform 350"/>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7" name="Line 351"/>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98" name="Line 352"/>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99" name="Line 353"/>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00" name="Freeform 354"/>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01" name="Freeform 355"/>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02" name="Freeform 356"/>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03" name="Freeform 357"/>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04" name="Freeform 358"/>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5" name="Line 359"/>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6" name="Line 360"/>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7" name="Freeform 361"/>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Line 362"/>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9" name="Line 363"/>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0" name="Line 364"/>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1" name="Freeform 365"/>
                  <p:cNvSpPr/>
                  <p:nvPr/>
                </p:nvSpPr>
                <p:spPr>
                  <a:xfrm>
                    <a:off x="8010000" y="4369680"/>
                    <a:ext cx="9720" cy="720"/>
                  </a:xfrm>
                  <a:custGeom>
                    <a:avLst/>
                    <a:gdLst/>
                    <a:ahLst/>
                    <a:rect l="l" t="t" r="r" b="b"/>
                    <a:pathLst>
                      <a:path w="7" h="1">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2" name="Line 366"/>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3" name="Line 367"/>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4" name="Line 368"/>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5" name="Freeform 369"/>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6" name="Line 370"/>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17" name="Line 371"/>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8" name="Freeform 372"/>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19" name="Line 373"/>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20" name="Freeform 374"/>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21" name="Freeform 375"/>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22" name="Freeform 376"/>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23" name="Freeform 377"/>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24" name="Line 378"/>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5" name="Line 379"/>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626" name="Freeform 380"/>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27" name="Line 381"/>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28" name="Line 382"/>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9" name="Freeform 383"/>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0" name="Line 384"/>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31" name="Line 385"/>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2" name="Freeform 386"/>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3" name="Freeform 387"/>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4" name="Line 388"/>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5" name="Line 389"/>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6" name="Freeform 390"/>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7" name="Line 391"/>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38" name="Line 392"/>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9" name="Line 393"/>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0" name="Freeform 394"/>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1" name="Freeform 395"/>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2" name="Line 396"/>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3" name="Line 397"/>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44" name="Freeform 398"/>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5" name="Line 399"/>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46" name="Line 400"/>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7" name="Freeform 401"/>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48" name="Line 402"/>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9" name="Line 403"/>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Freeform 404"/>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51" name="Freeform 405"/>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52" name="Freeform 406"/>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53" name="Freeform 407"/>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54" name="Line 408"/>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5" name="Freeform 409"/>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6" name="Line 410"/>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7" name="Line 411"/>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58" name="Freeform 412"/>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9" name="Line 413"/>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60" name="Line 414"/>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1" name="Line 415"/>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62" name="Line 416"/>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3" name="Line 417"/>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4" name="Text Box 418"/>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5" name="Text Box 419"/>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666" name="Group 420"/>
              <p:cNvGrpSpPr/>
              <p:nvPr/>
            </p:nvGrpSpPr>
            <p:grpSpPr>
              <a:xfrm>
                <a:off x="353880" y="3984480"/>
                <a:ext cx="2819520" cy="1007640"/>
                <a:chOff x="353880" y="3984480"/>
                <a:chExt cx="2819520" cy="1007640"/>
              </a:xfrm>
            </p:grpSpPr>
            <p:sp>
              <p:nvSpPr>
                <p:cNvPr id="1667" name="Text Box 421"/>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668" name="Group 422"/>
                <p:cNvGrpSpPr/>
                <p:nvPr/>
              </p:nvGrpSpPr>
              <p:grpSpPr>
                <a:xfrm>
                  <a:off x="726840" y="4353840"/>
                  <a:ext cx="1917720" cy="635400"/>
                  <a:chOff x="726840" y="4353840"/>
                  <a:chExt cx="1917720" cy="635400"/>
                </a:xfrm>
              </p:grpSpPr>
              <p:sp>
                <p:nvSpPr>
                  <p:cNvPr id="1669" name="Freeform 423"/>
                  <p:cNvSpPr/>
                  <p:nvPr/>
                </p:nvSpPr>
                <p:spPr>
                  <a:xfrm>
                    <a:off x="7268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0" name="Freeform 424"/>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671" name="Freeform 425"/>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72" name="Freeform 426"/>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673" name="Freeform 427"/>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74" name="Line 428"/>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75" name="Freeform 429"/>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76" name="Line 430"/>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77" name="Line 431"/>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678" name="Line 432"/>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79" name="Freeform 433"/>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80" name="Line 434"/>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1" name="Freeform 435"/>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Freeform 436"/>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3" name="Freeform 437"/>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4" name="Line 438"/>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5" name="Line 439"/>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6" name="Freeform 440"/>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7" name="Line 441"/>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8" name="Freeform 442"/>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9" name="Freeform 443"/>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690" name="Freeform 444"/>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691" name="Line 445"/>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92" name="Line 446"/>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3" name="Freeform 447"/>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4" name="Line 448"/>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95" name="Line 449"/>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96" name="Line 450"/>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7" name="Freeform 451"/>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98" name="Freeform 452"/>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99" name="Freeform 453"/>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0" name="Freeform 454"/>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01" name="Freeform 455"/>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02" name="Line 456"/>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03" name="Line 457"/>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04" name="Freeform 458"/>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5" name="Freeform 459"/>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06" name="Line 460"/>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707" name="Line 461"/>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08" name="Freeform 462"/>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9" name="Line 463"/>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710" name="Line 464"/>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11" name="Freeform 465"/>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12" name="Freeform 466"/>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13" name="Freeform 467"/>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14" name="Freeform 468"/>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15" name="Freeform 469"/>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16" name="Line 470"/>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17" name="Line 471"/>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8" name="Line 472"/>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719" name="Freeform 473"/>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0" name="Line 474"/>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21" name="Line 475"/>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22" name="Freeform 476"/>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3" name="Freeform 477"/>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24" name="Freeform 478"/>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25" name="Freeform 479"/>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6" name="Freeform 480"/>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7" name="Line 481"/>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8" name="Line 482"/>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9" name="Freeform 483"/>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30" name="Freeform 484"/>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31" name="Line 485"/>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732" name="Freeform 486"/>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33" name="Line 487"/>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4" name="Freeform 488"/>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35" name="Line 489"/>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36" name="Line 490"/>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37" name="Freeform 491"/>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38" name="Freeform 492"/>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39" name="Freeform 493"/>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40" name="Freeform 494"/>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41" name="Freeform 495"/>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42" name="Line 496"/>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43" name="Line 497"/>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4" name="Freeform 498"/>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5" name="Freeform 499"/>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6" name="Line 500"/>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47" name="Freeform 501"/>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48" name="Freeform 502"/>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49" name="Freeform 503"/>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0" name="Line 504"/>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1" name="Line 505"/>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52" name="Freeform 506"/>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3" name="Line 507"/>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4" name="Line 508"/>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5" name="Freeform 509"/>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6" name="Freeform 510"/>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57" name="Line 511"/>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8" name="Line 512"/>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9" name="Freeform 513"/>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60" name="Line 514"/>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61" name="Line 515"/>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62" name="Line 516"/>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63" name="Freeform 517"/>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64" name="Freeform 518"/>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65" name="Line 519"/>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66" name="Freeform 520"/>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67" name="Freeform 521"/>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68" name="Freeform 522"/>
                  <p:cNvSpPr/>
                  <p:nvPr/>
                </p:nvSpPr>
                <p:spPr>
                  <a:xfrm>
                    <a:off x="1676160" y="4353840"/>
                    <a:ext cx="9720" cy="720"/>
                  </a:xfrm>
                  <a:custGeom>
                    <a:avLst/>
                    <a:gdLst/>
                    <a:ahLst/>
                    <a:rect l="l" t="t" r="r" b="b"/>
                    <a:pathLst>
                      <a:path w="6" h="1">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69" name="Freeform 523"/>
                  <p:cNvSpPr/>
                  <p:nvPr/>
                </p:nvSpPr>
                <p:spPr>
                  <a:xfrm>
                    <a:off x="1685880" y="4353840"/>
                    <a:ext cx="9360" cy="720"/>
                  </a:xfrm>
                  <a:custGeom>
                    <a:avLst/>
                    <a:gdLst/>
                    <a:ahLst/>
                    <a:rect l="l" t="t" r="r" b="b"/>
                    <a:pathLst>
                      <a:path w="6" h="1">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70" name="Freeform 524"/>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71" name="Freeform 525"/>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72" name="Line 526"/>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73" name="Freeform 527"/>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74" name="Freeform 528"/>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75" name="Line 529"/>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76" name="Line 530"/>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77" name="Line 531"/>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78" name="Freeform 532"/>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79" name="Line 533"/>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0" name="Line 534"/>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1" name="Freeform 535"/>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82" name="Freeform 536"/>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3" name="Line 537"/>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4" name="Line 538"/>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5" name="Freeform 539"/>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6" name="Line 540"/>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87" name="Line 541"/>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8" name="Freeform 542"/>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9" name="Freeform 543"/>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90" name="Freeform 544"/>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91" name="Line 545"/>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92" name="Freeform 546"/>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3" name="Freeform 547"/>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4" name="Line 548"/>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95" name="Line 549"/>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96" name="Freeform 550"/>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Freeform 551"/>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98" name="Freeform 552"/>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9" name="Freeform 553"/>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0" name="Freeform 554"/>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01" name="Line 555"/>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02" name="Line 556"/>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03" name="Freeform 557"/>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04" name="Line 558"/>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5" name="Freeform 559"/>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06" name="Line 560"/>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807" name="Freeform 561"/>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08" name="Freeform 562"/>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809" name="Line 563"/>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0" name="Line 564"/>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1" name="Freeform 565"/>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2" name="Freeform 566"/>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3" name="Freeform 567"/>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14" name="Freeform 568"/>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15" name="Freeform 569"/>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6" name="Line 570"/>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17" name="Line 571"/>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18" name="Freeform 572"/>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9" name="Line 573"/>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20" name="Line 574"/>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21" name="Line 575"/>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22" name="Freeform 576"/>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23" name="Freeform 577"/>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24" name="Freeform 578"/>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25" name="Freeform 579"/>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26" name="Freeform 580"/>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27" name="Line 581"/>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8" name="Line 582"/>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829" name="Freeform 583"/>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84"/>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31" name="Line 585"/>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832" name="Freeform 586"/>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33" name="Freeform 587"/>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34" name="Line 588"/>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35" name="Line 589"/>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836" name="Freeform 590"/>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7" name="Freeform 591"/>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38" name="Freeform 592"/>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39" name="Freeform 593"/>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0" name="Freeform 594"/>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41" name="Line 595"/>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42" name="Line 596"/>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43" name="Freeform 597"/>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4" name="Freeform 598"/>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5" name="Line 599"/>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6" name="Line 600"/>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47" name="Freeform 601"/>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848" name="Freeform 602"/>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49" name="Freeform 603"/>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0" name="Line 604"/>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1" name="Freeform 605"/>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2" name="Line 606"/>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3" name="Line 607"/>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4" name="Freeform 608"/>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5" name="Freeform 609"/>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6" name="Freeform 610"/>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7" name="Line 611"/>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8" name="Freeform 612"/>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59" name="Line 613"/>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60" name="Line 614"/>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861" name="Line 615"/>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2" name="Freeform 616"/>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63" name="Line 617"/>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64" name="Freeform 618"/>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865" name="Freeform 619"/>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66" name="Freeform 620"/>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7" name="Freeform 621"/>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868" name="Freeform 622"/>
                  <p:cNvSpPr/>
                  <p:nvPr/>
                </p:nvSpPr>
                <p:spPr>
                  <a:xfrm>
                    <a:off x="26366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869" name="Line 623"/>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0" name="Line 624"/>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1871" name="Text Box 625"/>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1872" name="Rectangle 626"/>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Arial"/>
            </a:endParaRPr>
          </a:p>
        </p:txBody>
      </p:sp>
      <p:sp>
        <p:nvSpPr>
          <p:cNvPr id="1873" name="Rectangle 627"/>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Arial"/>
            </a:endParaRPr>
          </a:p>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Arial"/>
            </a:endParaRPr>
          </a:p>
        </p:txBody>
      </p:sp>
      <p:grpSp>
        <p:nvGrpSpPr>
          <p:cNvPr id="1874" name="Group 628"/>
          <p:cNvGrpSpPr/>
          <p:nvPr/>
        </p:nvGrpSpPr>
        <p:grpSpPr>
          <a:xfrm>
            <a:off x="3468600" y="1255680"/>
            <a:ext cx="2508120" cy="2254320"/>
            <a:chOff x="3468600" y="1255680"/>
            <a:chExt cx="2508120" cy="2254320"/>
          </a:xfrm>
        </p:grpSpPr>
        <p:grpSp>
          <p:nvGrpSpPr>
            <p:cNvPr id="1875" name="Group 629"/>
            <p:cNvGrpSpPr/>
            <p:nvPr/>
          </p:nvGrpSpPr>
          <p:grpSpPr>
            <a:xfrm>
              <a:off x="3687480" y="2309760"/>
              <a:ext cx="2008440" cy="806400"/>
              <a:chOff x="3687480" y="2309760"/>
              <a:chExt cx="2008440" cy="806400"/>
            </a:xfrm>
          </p:grpSpPr>
          <p:sp>
            <p:nvSpPr>
              <p:cNvPr id="1876" name="Line 630"/>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7" name="Line 631"/>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632"/>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9" name="Line 633"/>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0" name="Freeform 634"/>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1" name="Line 635"/>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2" name="Line 636"/>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3" name="Line 637"/>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4" name="Freeform 638"/>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85" name="Line 639"/>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6" name="Line 640"/>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7" name="Freeform 641"/>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88" name="Line 642"/>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89" name="Line 643"/>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0" name="Freeform 644"/>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1" name="Line 645"/>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2" name="Freeform 646"/>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3" name="Line 647"/>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94" name="Line 648"/>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95" name="Line 649"/>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6" name="Line 650"/>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7" name="Line 651"/>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8" name="Line 652"/>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9" name="Line 653"/>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0" name="Line 654"/>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1" name="Line 655"/>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2" name="Line 656"/>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3" name="Line 657"/>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4" name="Line 658"/>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5" name="Line 659"/>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6" name="Line 660"/>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7" name="Line 661"/>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8" name="Line 662"/>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9" name="Line 663"/>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0" name="Line 664"/>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665"/>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2" name="Line 666"/>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667"/>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4" name="Line 668"/>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5" name="Line 669"/>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6" name="Line 670"/>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7" name="Line 671"/>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8" name="Line 672"/>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9" name="Line 673"/>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0" name="Line 674"/>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1" name="Line 675"/>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2" name="Line 676"/>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3" name="Line 677"/>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4" name="Line 678"/>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25" name="Line 679"/>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6" name="Line 680"/>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27" name="Freeform 681"/>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28" name="Line 682"/>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9" name="Freeform 683"/>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0" name="Line 684"/>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1" name="Freeform 685"/>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2" name="Line 686"/>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33" name="Line 687"/>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688"/>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5" name="Line 689"/>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6" name="Line 690"/>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7" name="Line 691"/>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8" name="Line 692"/>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693"/>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40" name="Line 694"/>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1" name="Line 695"/>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2" name="Line 696"/>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697"/>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4" name="Line 698"/>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45" name="Line 699"/>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6" name="Line 700"/>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7" name="Line 701"/>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8" name="Line 702"/>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49" name="Line 703"/>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704"/>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1" name="Line 705"/>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2" name="Freeform 706"/>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3" name="Line 707"/>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4" name="Freeform 708"/>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709"/>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6" name="Line 710"/>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7" name="Freeform 711"/>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8" name="Line 712"/>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713"/>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60" name="Line 714"/>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1" name="Line 715"/>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2" name="Line 716"/>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3" name="Line 717"/>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4" name="Line 718"/>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719"/>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6" name="Line 720"/>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7" name="Line 721"/>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8" name="Line 722"/>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9" name="Line 723"/>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0" name="Line 724"/>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71" name="Line 725"/>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72" name="Line 726"/>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3" name="Line 727"/>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4" name="Freeform 728"/>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5" name="Line 729"/>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6" name="Line 730"/>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7" name="Freeform 731"/>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8" name="Line 732"/>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9" name="Line 733"/>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0" name="Line 734"/>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81" name="Line 735"/>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2" name="Line 736"/>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3" name="Line 737"/>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4" name="Line 738"/>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5" name="Line 739"/>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6" name="Line 740"/>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7" name="Line 741"/>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8" name="Line 742"/>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9" name="Line 743"/>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90" name="Line 744"/>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1" name="Line 745"/>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2" name="Line 746"/>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93" name="Line 747"/>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94" name="Freeform 748"/>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95" name="Line 749"/>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6" name="Line 750"/>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7" name="Freeform 751"/>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98" name="Line 752"/>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9" name="Freeform 753"/>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0" name="Line 754"/>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1" name="Line 755"/>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2" name="Line 756"/>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3" name="Line 757"/>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04" name="Line 758"/>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5" name="Line 759"/>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6" name="Line 760"/>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07" name="Line 761"/>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08" name="Line 762"/>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9" name="Line 763"/>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0" name="Line 764"/>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11" name="Line 765"/>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2" name="Line 766"/>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3" name="Line 767"/>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4" name="Line 768"/>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5" name="Line 769"/>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6" name="Line 770"/>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7" name="Line 771"/>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8" name="Line 772"/>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9" name="Line 773"/>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0" name="Freeform 774"/>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1" name="Line 775"/>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2" name="Freeform 776"/>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3" name="Line 777"/>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24" name="Freeform 778"/>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25" name="Line 779"/>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26" name="Line 780"/>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7" name="Line 781"/>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8" name="Line 782"/>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9" name="Line 783"/>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0" name="Line 784"/>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1" name="Line 785"/>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2" name="Line 786"/>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3" name="Line 787"/>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4" name="Line 788"/>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5" name="Line 789"/>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6" name="Line 790"/>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37" name="Line 791"/>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8" name="Line 792"/>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9" name="Line 793"/>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40" name="Line 794"/>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1" name="Line 795"/>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796"/>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3" name="Line 797"/>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4" name="Line 798"/>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5" name="Line 799"/>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6" name="Line 800"/>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7" name="Line 801"/>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8" name="Line 802"/>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9" name="Line 803"/>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0" name="Line 804"/>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1" name="Line 805"/>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2" name="Line 806"/>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3" name="Line 807"/>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4" name="Line 808"/>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5" name="Line 809"/>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6" name="Line 810"/>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7" name="Line 811"/>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8" name="Line 812"/>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59" name="Freeform 813"/>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60" name="Line 814"/>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1" name="Freeform 815"/>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2" name="Line 816"/>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3" name="Line 817"/>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4" name="Freeform 818"/>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65" name="Line 819"/>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6" name="Line 820"/>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7" name="Freeform 821"/>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8" name="Line 822"/>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9" name="Line 823"/>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0" name="Line 824"/>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1" name="Freeform 825"/>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2" name="Line 826"/>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3" name="Line 827"/>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4" name="Line 828"/>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5" name="Line 829"/>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2076" name="Group 830"/>
            <p:cNvGrpSpPr/>
            <p:nvPr/>
          </p:nvGrpSpPr>
          <p:grpSpPr>
            <a:xfrm>
              <a:off x="3468600" y="1255680"/>
              <a:ext cx="2508120" cy="2254320"/>
              <a:chOff x="3468600" y="1255680"/>
              <a:chExt cx="2508120" cy="2254320"/>
            </a:xfrm>
          </p:grpSpPr>
          <p:sp>
            <p:nvSpPr>
              <p:cNvPr id="2077" name="Line 831"/>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078" name="Line 832"/>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Text Box 833"/>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80" name="Text Box 834"/>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grpSp>
        <p:nvGrpSpPr>
          <p:cNvPr id="2081" name="Group 835"/>
          <p:cNvGrpSpPr/>
          <p:nvPr/>
        </p:nvGrpSpPr>
        <p:grpSpPr>
          <a:xfrm>
            <a:off x="6286680" y="1244520"/>
            <a:ext cx="2508120" cy="2570040"/>
            <a:chOff x="6286680" y="1244520"/>
            <a:chExt cx="2508120" cy="2570040"/>
          </a:xfrm>
        </p:grpSpPr>
        <p:grpSp>
          <p:nvGrpSpPr>
            <p:cNvPr id="2082" name="Group 836"/>
            <p:cNvGrpSpPr/>
            <p:nvPr/>
          </p:nvGrpSpPr>
          <p:grpSpPr>
            <a:xfrm>
              <a:off x="6505920" y="2414520"/>
              <a:ext cx="2008080" cy="1400040"/>
              <a:chOff x="6505920" y="2414520"/>
              <a:chExt cx="2008080" cy="1400040"/>
            </a:xfrm>
          </p:grpSpPr>
          <p:sp>
            <p:nvSpPr>
              <p:cNvPr id="2083" name="Line 837"/>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4" name="Line 838"/>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5" name="Line 839"/>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86" name="Line 840"/>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87" name="Line 841"/>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88" name="Line 842"/>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9" name="Line 843"/>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0" name="Line 844"/>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1" name="Line 845"/>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2" name="Line 846"/>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3" name="Line 847"/>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4" name="Line 848"/>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5" name="Line 849"/>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6" name="Line 850"/>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7" name="Line 851"/>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8" name="Line 852"/>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9" name="Line 853"/>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0" name="Line 854"/>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1" name="Line 855"/>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2" name="Line 856"/>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3" name="Line 857"/>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4" name="Line 858"/>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5" name="Line 859"/>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860"/>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861"/>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8" name="Line 862"/>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9" name="Freeform 863"/>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864"/>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1" name="Line 865"/>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2" name="Freeform 866"/>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867"/>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4" name="Freeform 868"/>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5" name="Line 869"/>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16" name="Line 870"/>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7" name="Line 871"/>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872"/>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9" name="Line 873"/>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20" name="Line 874"/>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875"/>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876"/>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3" name="Line 877"/>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24" name="Line 878"/>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879"/>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6" name="Line 880"/>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7" name="Line 881"/>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8" name="Line 882"/>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9" name="Line 883"/>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0" name="Line 884"/>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1" name="Line 885"/>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2" name="Line 886"/>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33" name="Line 887"/>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34" name="Freeform 888"/>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5" name="Line 889"/>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6" name="Freeform 890"/>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7" name="Line 891"/>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8" name="Line 892"/>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139" name="Line 893"/>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40" name="Line 894"/>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1" name="Line 895"/>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2" name="Line 896"/>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3" name="Line 897"/>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4" name="Line 898"/>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5" name="Line 899"/>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6" name="Line 900"/>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7" name="Line 901"/>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8" name="Line 902"/>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903"/>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Line 904"/>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1" name="Freeform 905"/>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906"/>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3" name="Line 907"/>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4" name="Line 908"/>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5" name="Line 909"/>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6" name="Line 910"/>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7" name="Line 911"/>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8" name="Line 912"/>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913"/>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0" name="Line 914"/>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61" name="Line 915"/>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2" name="Line 916"/>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3" name="Line 917"/>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4" name="Line 918"/>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5" name="Line 919"/>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66" name="Line 920"/>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67" name="Line 921"/>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68" name="Line 922"/>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69" name="Line 923"/>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0" name="Line 924"/>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71" name="Line 925"/>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72" name="Line 926"/>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927"/>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928"/>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929"/>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6" name="Line 930"/>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7" name="Line 931"/>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78" name="Freeform 932"/>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933"/>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80" name="Freeform 934"/>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1" name="Line 935"/>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2" name="Freeform 936"/>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3" name="Line 937"/>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4" name="Line 938"/>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5" name="Line 939"/>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86" name="Line 940"/>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7" name="Line 941"/>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8" name="Freeform 942"/>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9" name="Line 943"/>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0" name="Line 944"/>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1" name="Line 945"/>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2" name="Line 946"/>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3" name="Line 947"/>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948"/>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5" name="Line 949"/>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6" name="Line 950"/>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7" name="Line 951"/>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98" name="Line 952"/>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9" name="Line 953"/>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200" name="Line 954"/>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1" name="Line 955"/>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2" name="Line 956"/>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03" name="Line 957"/>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4" name="Line 958"/>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5" name="Line 959"/>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6" name="Line 960"/>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7" name="Line 961"/>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8" name="Line 962"/>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9" name="Line 963"/>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10" name="Line 964"/>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965"/>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2" name="Line 966"/>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3" name="Line 967"/>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14" name="Line 968"/>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5" name="Freeform 969"/>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6" name="Line 970"/>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17" name="Freeform 971"/>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8" name="Line 972"/>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9" name="Line 973"/>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20" name="Line 974"/>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1" name="Line 975"/>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2" name="Line 976"/>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3" name="Line 977"/>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4" name="Line 978"/>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5" name="Line 979"/>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6" name="Line 980"/>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7" name="Line 981"/>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8" name="Freeform 982"/>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983"/>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30" name="Line 984"/>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31" name="Freeform 985"/>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2" name="Line 986"/>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3" name="Line 987"/>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4" name="Line 988"/>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989"/>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6" name="Line 990"/>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7" name="Line 991"/>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992"/>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239" name="Line 993"/>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0" name="Line 994"/>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1" name="Line 995"/>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996"/>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3" name="Line 997"/>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998"/>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45" name="Line 999"/>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6" name="Line 1000"/>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1001"/>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48" name="Line 1002"/>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9" name="Line 1003"/>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0" name="Line 1004"/>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1" name="Freeform 1005"/>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2" name="Line 1006"/>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3" name="Freeform 1007"/>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4" name="Line 1008"/>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55" name="Freeform 1009"/>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6" name="Line 1010"/>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7" name="Line 1011"/>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58" name="Line 1012"/>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9" name="Line 1013"/>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0" name="Line 1014"/>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1" name="Line 1015"/>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2" name="Line 1016"/>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3" name="Line 1017"/>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64" name="Line 1018"/>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5" name="Line 1019"/>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6" name="Line 1020"/>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67" name="Line 1021"/>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8" name="Line 1022"/>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9" name="Line 1023"/>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0" name="Line 1024"/>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1" name="Line 1025"/>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72" name="Line 1026"/>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1027"/>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4" name="Line 1028"/>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5" name="Line 1029"/>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1030"/>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7" name="Line 1031"/>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Line 1032"/>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79" name="Line 1033"/>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0" name="Line 1034"/>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81" name="Line 1035"/>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2" name="Line 1036"/>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grpSp>
        <p:grpSp>
          <p:nvGrpSpPr>
            <p:cNvPr id="2283" name="Group 1037"/>
            <p:cNvGrpSpPr/>
            <p:nvPr/>
          </p:nvGrpSpPr>
          <p:grpSpPr>
            <a:xfrm>
              <a:off x="6286680" y="1244520"/>
              <a:ext cx="2508120" cy="2254320"/>
              <a:chOff x="6286680" y="1244520"/>
              <a:chExt cx="2508120" cy="2254320"/>
            </a:xfrm>
          </p:grpSpPr>
          <p:sp>
            <p:nvSpPr>
              <p:cNvPr id="2284" name="Line 1038"/>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285" name="Line 1039"/>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6" name="Text Box 1040"/>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287" name="Text Box 1041"/>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sp>
        <p:nvSpPr>
          <p:cNvPr id="2288" name="Line 1042"/>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9" name="Line 1043"/>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1044"/>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1" name="Text Box 1045"/>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2" name="Text Box 1046"/>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Arial"/>
            </a:endParaRPr>
          </a:p>
        </p:txBody>
      </p:sp>
      <p:sp>
        <p:nvSpPr>
          <p:cNvPr id="2293" name="Freeform 1047"/>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Text Box 1048"/>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Arial"/>
            </a:endParaRPr>
          </a:p>
        </p:txBody>
      </p:sp>
      <p:sp>
        <p:nvSpPr>
          <p:cNvPr id="2295" name="Rectangle 1049"/>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49"/>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250"/>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2000"/>
                                  </p:stCondLst>
                                  <p:childTnLst>
                                    <p:set>
                                      <p:cBhvr>
                                        <p:cTn id="12" dur="1" fill="hold">
                                          <p:stCondLst>
                                            <p:cond delay="499"/>
                                          </p:stCondLst>
                                        </p:cTn>
                                        <p:tgtEl>
                                          <p:spTgt spid="229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8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297" name="Rectangle 3"/>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Arial"/>
            </a:endParaRPr>
          </a:p>
        </p:txBody>
      </p:sp>
      <p:grpSp>
        <p:nvGrpSpPr>
          <p:cNvPr id="2298" name="Group 4"/>
          <p:cNvGrpSpPr/>
          <p:nvPr/>
        </p:nvGrpSpPr>
        <p:grpSpPr>
          <a:xfrm>
            <a:off x="879480" y="1994040"/>
            <a:ext cx="3135240" cy="368280"/>
            <a:chOff x="879480" y="1994040"/>
            <a:chExt cx="3135240" cy="368280"/>
          </a:xfrm>
        </p:grpSpPr>
        <p:sp>
          <p:nvSpPr>
            <p:cNvPr id="2299" name="Line 5"/>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00" name="Text Box 6"/>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01" name="Line 7"/>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2" name="Line 8"/>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03" name="Group 9"/>
          <p:cNvGrpSpPr/>
          <p:nvPr/>
        </p:nvGrpSpPr>
        <p:grpSpPr>
          <a:xfrm>
            <a:off x="449280" y="1214280"/>
            <a:ext cx="3873600" cy="2325600"/>
            <a:chOff x="449280" y="1214280"/>
            <a:chExt cx="3873600" cy="2325600"/>
          </a:xfrm>
        </p:grpSpPr>
        <p:sp>
          <p:nvSpPr>
            <p:cNvPr id="2304" name="Text Box 10"/>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05" name="Group 11"/>
            <p:cNvGrpSpPr/>
            <p:nvPr/>
          </p:nvGrpSpPr>
          <p:grpSpPr>
            <a:xfrm>
              <a:off x="1438200" y="1723680"/>
              <a:ext cx="2550960" cy="1428840"/>
              <a:chOff x="1438200" y="1723680"/>
              <a:chExt cx="2550960" cy="1428840"/>
            </a:xfrm>
          </p:grpSpPr>
          <p:sp>
            <p:nvSpPr>
              <p:cNvPr id="2306" name="Freeform 12"/>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7" name="Freeform 13"/>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8" name="Line 14"/>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9" name="Line 15"/>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0" name="Text Box 16"/>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sp>
          <p:nvSpPr>
            <p:cNvPr id="2311" name="Oval 17"/>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8"/>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313" name="Group 19"/>
          <p:cNvGrpSpPr/>
          <p:nvPr/>
        </p:nvGrpSpPr>
        <p:grpSpPr>
          <a:xfrm>
            <a:off x="1327320" y="3611160"/>
            <a:ext cx="3011400" cy="2195640"/>
            <a:chOff x="1327320" y="3611160"/>
            <a:chExt cx="3011400" cy="2195640"/>
          </a:xfrm>
        </p:grpSpPr>
        <p:sp>
          <p:nvSpPr>
            <p:cNvPr id="2314" name="Text Box 20"/>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15" name="Line 21"/>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6" name="Line 22"/>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7" name="Text Box 23"/>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p:txBody>
      </p:sp>
      <p:grpSp>
        <p:nvGrpSpPr>
          <p:cNvPr id="2318" name="Group 24"/>
          <p:cNvGrpSpPr/>
          <p:nvPr/>
        </p:nvGrpSpPr>
        <p:grpSpPr>
          <a:xfrm>
            <a:off x="1693440" y="4281480"/>
            <a:ext cx="1998720" cy="1355760"/>
            <a:chOff x="1693440" y="4281480"/>
            <a:chExt cx="1998720" cy="1355760"/>
          </a:xfrm>
        </p:grpSpPr>
        <p:sp>
          <p:nvSpPr>
            <p:cNvPr id="2319" name="Freeform 25"/>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0" name="Line 26"/>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1" name="Line 27"/>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2" name="Line 28"/>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3" name="Line 29"/>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24" name="Rectangle 30"/>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25" name="Group 31"/>
          <p:cNvGrpSpPr/>
          <p:nvPr/>
        </p:nvGrpSpPr>
        <p:grpSpPr>
          <a:xfrm>
            <a:off x="127080" y="3849120"/>
            <a:ext cx="2041560" cy="1753200"/>
            <a:chOff x="127080" y="3849120"/>
            <a:chExt cx="2041560" cy="1753200"/>
          </a:xfrm>
        </p:grpSpPr>
        <p:sp>
          <p:nvSpPr>
            <p:cNvPr id="2326" name="Text Box 32"/>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is most likely to be found where its speed is slowest</a:t>
              </a:r>
              <a:endParaRPr b="0" lang="en-US" sz="1800" spc="-1" strike="noStrike">
                <a:solidFill>
                  <a:srgbClr val="ffffff"/>
                </a:solidFill>
                <a:latin typeface="Arial"/>
              </a:endParaRPr>
            </a:p>
          </p:txBody>
        </p:sp>
        <p:sp>
          <p:nvSpPr>
            <p:cNvPr id="2327" name="Freeform 33"/>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8" name="Group 34"/>
          <p:cNvGrpSpPr/>
          <p:nvPr/>
        </p:nvGrpSpPr>
        <p:grpSpPr>
          <a:xfrm>
            <a:off x="4203720" y="1082520"/>
            <a:ext cx="3888360" cy="4728960"/>
            <a:chOff x="4203720" y="1082520"/>
            <a:chExt cx="3888360" cy="4728960"/>
          </a:xfrm>
        </p:grpSpPr>
        <p:sp>
          <p:nvSpPr>
            <p:cNvPr id="2329" name="Rectangle 35"/>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30" name="Group 36"/>
            <p:cNvGrpSpPr/>
            <p:nvPr/>
          </p:nvGrpSpPr>
          <p:grpSpPr>
            <a:xfrm>
              <a:off x="4601880" y="1996920"/>
              <a:ext cx="3135240" cy="368280"/>
              <a:chOff x="4601880" y="1996920"/>
              <a:chExt cx="3135240" cy="368280"/>
            </a:xfrm>
          </p:grpSpPr>
          <p:sp>
            <p:nvSpPr>
              <p:cNvPr id="2331" name="Line 37"/>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32" name="Text Box 38"/>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33" name="Line 39"/>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4" name="Line 40"/>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5" name="Text Box 41"/>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36" name="Group 42"/>
            <p:cNvGrpSpPr/>
            <p:nvPr/>
          </p:nvGrpSpPr>
          <p:grpSpPr>
            <a:xfrm>
              <a:off x="5192640" y="1728720"/>
              <a:ext cx="2550600" cy="1428840"/>
              <a:chOff x="5192640" y="1728720"/>
              <a:chExt cx="2550600" cy="1428840"/>
            </a:xfrm>
          </p:grpSpPr>
          <p:sp>
            <p:nvSpPr>
              <p:cNvPr id="2337" name="Freeform 43"/>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8" name="Freeform 44"/>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39" name="Line 45"/>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0" name="Line 46"/>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1" name="Text Box 47"/>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grpSp>
          <p:nvGrpSpPr>
            <p:cNvPr id="2342" name="Group 48"/>
            <p:cNvGrpSpPr/>
            <p:nvPr/>
          </p:nvGrpSpPr>
          <p:grpSpPr>
            <a:xfrm>
              <a:off x="4356000" y="3615840"/>
              <a:ext cx="3736080" cy="2195640"/>
              <a:chOff x="4356000" y="3615840"/>
              <a:chExt cx="3736080" cy="2195640"/>
            </a:xfrm>
          </p:grpSpPr>
          <p:grpSp>
            <p:nvGrpSpPr>
              <p:cNvPr id="2343" name="Group 49"/>
              <p:cNvGrpSpPr/>
              <p:nvPr/>
            </p:nvGrpSpPr>
            <p:grpSpPr>
              <a:xfrm>
                <a:off x="5081400" y="3615840"/>
                <a:ext cx="3010680" cy="2195640"/>
                <a:chOff x="5081400" y="3615840"/>
                <a:chExt cx="3010680" cy="2195640"/>
              </a:xfrm>
            </p:grpSpPr>
            <p:sp>
              <p:nvSpPr>
                <p:cNvPr id="2344" name="Text Box 50"/>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45" name="Line 51"/>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6" name="Line 52"/>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47" name="Text Box 53"/>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ea typeface="Arial"/>
                  </a:rPr>
                  <a:t>2</a:t>
                </a:r>
                <a:endParaRPr b="0" lang="en-US" sz="1800" spc="-1" strike="noStrike">
                  <a:solidFill>
                    <a:srgbClr val="ffffff"/>
                  </a:solidFill>
                  <a:latin typeface="Arial"/>
                </a:endParaRPr>
              </a:p>
            </p:txBody>
          </p:sp>
        </p:grpSp>
        <p:grpSp>
          <p:nvGrpSpPr>
            <p:cNvPr id="2348" name="Group 54"/>
            <p:cNvGrpSpPr/>
            <p:nvPr/>
          </p:nvGrpSpPr>
          <p:grpSpPr>
            <a:xfrm>
              <a:off x="5313240" y="4244760"/>
              <a:ext cx="2314080" cy="1350720"/>
              <a:chOff x="5313240" y="4244760"/>
              <a:chExt cx="2314080" cy="1350720"/>
            </a:xfrm>
          </p:grpSpPr>
          <p:sp>
            <p:nvSpPr>
              <p:cNvPr id="2349" name="Freeform 55"/>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50" name="Freeform 56"/>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nvGrpSpPr>
          <p:cNvPr id="2351" name="Group 57"/>
          <p:cNvGrpSpPr/>
          <p:nvPr/>
        </p:nvGrpSpPr>
        <p:grpSpPr>
          <a:xfrm>
            <a:off x="4952880" y="5560920"/>
            <a:ext cx="4235400" cy="1186920"/>
            <a:chOff x="4952880" y="5560920"/>
            <a:chExt cx="4235400" cy="1186920"/>
          </a:xfrm>
        </p:grpSpPr>
        <p:sp>
          <p:nvSpPr>
            <p:cNvPr id="2352" name="Text Box 58"/>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a:t>
              </a:r>
              <a:r>
                <a:rPr b="0" lang="en-US" sz="1800" spc="-1" strike="noStrike">
                  <a:solidFill>
                    <a:srgbClr val="ffffff"/>
                  </a:solidFill>
                  <a:latin typeface="Arial"/>
                  <a:ea typeface="Arial"/>
                </a:rPr>
                <a:t> </a:t>
              </a:r>
              <a:r>
                <a:rPr b="1" lang="en-US" sz="1800" spc="-1" strike="noStrike">
                  <a:solidFill>
                    <a:srgbClr val="ff7c80"/>
                  </a:solidFill>
                  <a:latin typeface="Arial"/>
                  <a:ea typeface="Arial"/>
                </a:rPr>
                <a:t>can also be found where it is “forbidden” in classical mechanics .</a:t>
              </a:r>
              <a:endParaRPr b="0" lang="en-US" sz="1800" spc="-1" strike="noStrike">
                <a:solidFill>
                  <a:srgbClr val="ffffff"/>
                </a:solidFill>
                <a:latin typeface="Arial"/>
              </a:endParaRPr>
            </a:p>
          </p:txBody>
        </p:sp>
        <p:sp>
          <p:nvSpPr>
            <p:cNvPr id="2353" name="Line 59"/>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4" name="Line 60"/>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5" name="Group 61"/>
          <p:cNvGrpSpPr/>
          <p:nvPr/>
        </p:nvGrpSpPr>
        <p:grpSpPr>
          <a:xfrm>
            <a:off x="731880" y="5594400"/>
            <a:ext cx="4221000" cy="1164600"/>
            <a:chOff x="731880" y="5594400"/>
            <a:chExt cx="4221000" cy="1164600"/>
          </a:xfrm>
        </p:grpSpPr>
        <p:sp>
          <p:nvSpPr>
            <p:cNvPr id="2356" name="Text Box 62"/>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moves back and forth coming to rest at each “turning point” </a:t>
              </a:r>
              <a:endParaRPr b="0" lang="en-US" sz="1800" spc="-1" strike="noStrike">
                <a:solidFill>
                  <a:srgbClr val="ffffff"/>
                </a:solidFill>
                <a:latin typeface="Arial"/>
              </a:endParaRPr>
            </a:p>
          </p:txBody>
        </p:sp>
        <p:sp>
          <p:nvSpPr>
            <p:cNvPr id="2357" name="Line 63"/>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8" name="Line 64"/>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9" name="Group 65"/>
          <p:cNvGrpSpPr/>
          <p:nvPr/>
        </p:nvGrpSpPr>
        <p:grpSpPr>
          <a:xfrm>
            <a:off x="6486480" y="3483000"/>
            <a:ext cx="2730600" cy="1739880"/>
            <a:chOff x="6486480" y="3483000"/>
            <a:chExt cx="2730600" cy="1739880"/>
          </a:xfrm>
        </p:grpSpPr>
        <p:sp>
          <p:nvSpPr>
            <p:cNvPr id="2360" name="Text Box 66"/>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 can be most likely to be found at the center.</a:t>
              </a:r>
              <a:endParaRPr b="0" lang="en-US" sz="1800" spc="-1" strike="noStrike">
                <a:solidFill>
                  <a:srgbClr val="ffffff"/>
                </a:solidFill>
                <a:latin typeface="Arial"/>
              </a:endParaRPr>
            </a:p>
          </p:txBody>
        </p:sp>
        <p:sp>
          <p:nvSpPr>
            <p:cNvPr id="2361" name="Freeform 67"/>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32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5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5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62" name="Rectangle 3"/>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63" name="AutoShape 5"/>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64" name="Object 6"/>
          <p:cNvGraphicFramePr/>
          <p:nvPr/>
        </p:nvGraphicFramePr>
        <p:xfrm>
          <a:off x="3211560" y="2695680"/>
          <a:ext cx="1279440" cy="684000"/>
        </p:xfrm>
        <a:graphic>
          <a:graphicData uri="http://schemas.openxmlformats.org/presentationml/2006/ole">
            <p:oleObj r:id="rId1" spid="">
              <p:embed/>
              <p:pic>
                <p:nvPicPr>
                  <p:cNvPr id="2365" name="Object 6" descr=""/>
                  <p:cNvPicPr/>
                  <p:nvPr/>
                </p:nvPicPr>
                <p:blipFill>
                  <a:blip r:embed="rId2"/>
                  <a:stretch/>
                </p:blipFill>
                <p:spPr>
                  <a:xfrm>
                    <a:off x="3211560" y="2695680"/>
                    <a:ext cx="1279440" cy="684000"/>
                  </a:xfrm>
                  <a:prstGeom prst="rect">
                    <a:avLst/>
                  </a:prstGeom>
                  <a:ln w="0">
                    <a:noFill/>
                  </a:ln>
                </p:spPr>
              </p:pic>
            </p:oleObj>
          </a:graphicData>
        </a:graphic>
      </p:graphicFrame>
      <p:sp>
        <p:nvSpPr>
          <p:cNvPr id="2366" name="Rectangle 7"/>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67" name="Object 11"/>
          <p:cNvGraphicFramePr/>
          <p:nvPr/>
        </p:nvGraphicFramePr>
        <p:xfrm>
          <a:off x="1185840" y="3427560"/>
          <a:ext cx="1509840" cy="598320"/>
        </p:xfrm>
        <a:graphic>
          <a:graphicData uri="http://schemas.openxmlformats.org/presentationml/2006/ole">
            <p:oleObj r:id="rId3" spid="">
              <p:embed/>
              <p:pic>
                <p:nvPicPr>
                  <p:cNvPr id="2368" name="Object 11"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69" name="Object 24"/>
          <p:cNvGraphicFramePr/>
          <p:nvPr/>
        </p:nvGraphicFramePr>
        <p:xfrm>
          <a:off x="1579680" y="977760"/>
          <a:ext cx="4448160" cy="831960"/>
        </p:xfrm>
        <a:graphic>
          <a:graphicData uri="http://schemas.openxmlformats.org/presentationml/2006/ole">
            <p:oleObj r:id="rId5" spid="">
              <p:embed/>
              <p:pic>
                <p:nvPicPr>
                  <p:cNvPr id="2370" name="Object 24" descr=""/>
                  <p:cNvPicPr/>
                  <p:nvPr/>
                </p:nvPicPr>
                <p:blipFill>
                  <a:blip r:embed="rId6"/>
                  <a:stretch/>
                </p:blipFill>
                <p:spPr>
                  <a:xfrm>
                    <a:off x="1579680" y="977760"/>
                    <a:ext cx="4448160" cy="831960"/>
                  </a:xfrm>
                  <a:prstGeom prst="rect">
                    <a:avLst/>
                  </a:prstGeom>
                  <a:ln w="0">
                    <a:noFill/>
                  </a:ln>
                </p:spPr>
              </p:pic>
            </p:oleObj>
          </a:graphicData>
        </a:graphic>
      </p:graphicFrame>
      <p:sp>
        <p:nvSpPr>
          <p:cNvPr id="2371" name="Rectangle 26"/>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2" name="Rectangle 2"/>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73" name="AutoShape 3"/>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74" name="Object 4"/>
          <p:cNvGraphicFramePr/>
          <p:nvPr/>
        </p:nvGraphicFramePr>
        <p:xfrm>
          <a:off x="3211560" y="2695680"/>
          <a:ext cx="1279440" cy="684000"/>
        </p:xfrm>
        <a:graphic>
          <a:graphicData uri="http://schemas.openxmlformats.org/presentationml/2006/ole">
            <p:oleObj r:id="rId1" spid="">
              <p:embed/>
              <p:pic>
                <p:nvPicPr>
                  <p:cNvPr id="2375" name="Object 4" descr=""/>
                  <p:cNvPicPr/>
                  <p:nvPr/>
                </p:nvPicPr>
                <p:blipFill>
                  <a:blip r:embed="rId2"/>
                  <a:stretch/>
                </p:blipFill>
                <p:spPr>
                  <a:xfrm>
                    <a:off x="3211560" y="2695680"/>
                    <a:ext cx="1279440" cy="684000"/>
                  </a:xfrm>
                  <a:prstGeom prst="rect">
                    <a:avLst/>
                  </a:prstGeom>
                  <a:ln w="0">
                    <a:noFill/>
                  </a:ln>
                </p:spPr>
              </p:pic>
            </p:oleObj>
          </a:graphicData>
        </a:graphic>
      </p:graphicFrame>
      <p:sp>
        <p:nvSpPr>
          <p:cNvPr id="2376" name="Rectangle 5"/>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77" name="Object 6"/>
          <p:cNvGraphicFramePr/>
          <p:nvPr/>
        </p:nvGraphicFramePr>
        <p:xfrm>
          <a:off x="1185840" y="3427560"/>
          <a:ext cx="1509840" cy="598320"/>
        </p:xfrm>
        <a:graphic>
          <a:graphicData uri="http://schemas.openxmlformats.org/presentationml/2006/ole">
            <p:oleObj r:id="rId3" spid="">
              <p:embed/>
              <p:pic>
                <p:nvPicPr>
                  <p:cNvPr id="2378" name="Object 6"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79" name="Object 7"/>
          <p:cNvGraphicFramePr/>
          <p:nvPr/>
        </p:nvGraphicFramePr>
        <p:xfrm>
          <a:off x="1579680" y="977760"/>
          <a:ext cx="4448160" cy="831960"/>
        </p:xfrm>
        <a:graphic>
          <a:graphicData uri="http://schemas.openxmlformats.org/presentationml/2006/ole">
            <p:oleObj r:id="rId5" spid="">
              <p:embed/>
              <p:pic>
                <p:nvPicPr>
                  <p:cNvPr id="2380" name="Object 7" descr=""/>
                  <p:cNvPicPr/>
                  <p:nvPr/>
                </p:nvPicPr>
                <p:blipFill>
                  <a:blip r:embed="rId6"/>
                  <a:stretch/>
                </p:blipFill>
                <p:spPr>
                  <a:xfrm>
                    <a:off x="1579680" y="977760"/>
                    <a:ext cx="4448160" cy="831960"/>
                  </a:xfrm>
                  <a:prstGeom prst="rect">
                    <a:avLst/>
                  </a:prstGeom>
                  <a:ln w="0">
                    <a:noFill/>
                  </a:ln>
                </p:spPr>
              </p:pic>
            </p:oleObj>
          </a:graphicData>
        </a:graphic>
      </p:graphicFrame>
      <p:sp>
        <p:nvSpPr>
          <p:cNvPr id="2381" name="Rectangle 8"/>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2382" name="Rectangle 10"/>
          <p:cNvSpPr/>
          <p:nvPr/>
        </p:nvSpPr>
        <p:spPr>
          <a:xfrm>
            <a:off x="4208400" y="4556160"/>
            <a:ext cx="200664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83" name="Rectangle 11"/>
          <p:cNvSpPr/>
          <p:nvPr/>
        </p:nvSpPr>
        <p:spPr>
          <a:xfrm>
            <a:off x="1254240" y="5549760"/>
            <a:ext cx="250020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84" name="Rectangle 2"/>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Arial"/>
            </a:endParaRPr>
          </a:p>
        </p:txBody>
      </p:sp>
      <p:sp>
        <p:nvSpPr>
          <p:cNvPr id="2385" name="Rectangle 7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386" name="Rectangle 15"/>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387" name="Group 73"/>
          <p:cNvGrpSpPr/>
          <p:nvPr/>
        </p:nvGrpSpPr>
        <p:grpSpPr>
          <a:xfrm>
            <a:off x="7231680" y="654120"/>
            <a:ext cx="1914840" cy="2481480"/>
            <a:chOff x="7231680" y="654120"/>
            <a:chExt cx="1914840" cy="2481480"/>
          </a:xfrm>
        </p:grpSpPr>
        <p:sp>
          <p:nvSpPr>
            <p:cNvPr id="2388" name="Line 42"/>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9" name="Line 43"/>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0" name="Line 44"/>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1" name="Text Box 45"/>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392" name="Text Box 46"/>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393" name="Text Box 47"/>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394" name="Text Box 48"/>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5" name="Text Box 49"/>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6" name="Line 50"/>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397" name="Group 51"/>
            <p:cNvGrpSpPr/>
            <p:nvPr/>
          </p:nvGrpSpPr>
          <p:grpSpPr>
            <a:xfrm>
              <a:off x="7273800" y="1378080"/>
              <a:ext cx="261720" cy="1362240"/>
              <a:chOff x="7273800" y="1378080"/>
              <a:chExt cx="261720" cy="1362240"/>
            </a:xfrm>
          </p:grpSpPr>
          <p:sp>
            <p:nvSpPr>
              <p:cNvPr id="2398" name="Line 52"/>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9" name="Line 53"/>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0" name="Line 54"/>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1" name="Line 55"/>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2" name="Line 56"/>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3" name="Line 57"/>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4" name="Line 58"/>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5" name="Line 59"/>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6" name="Line 60"/>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407" name="Group 61"/>
            <p:cNvGrpSpPr/>
            <p:nvPr/>
          </p:nvGrpSpPr>
          <p:grpSpPr>
            <a:xfrm>
              <a:off x="8815680" y="1382760"/>
              <a:ext cx="261720" cy="1362240"/>
              <a:chOff x="8815680" y="1382760"/>
              <a:chExt cx="261720" cy="1362240"/>
            </a:xfrm>
          </p:grpSpPr>
          <p:sp>
            <p:nvSpPr>
              <p:cNvPr id="2408" name="Line 62"/>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9" name="Line 63"/>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0" name="Line 64"/>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1" name="Line 65"/>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2" name="Line 66"/>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3" name="Line 67"/>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4" name="Line 68"/>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5" name="Line 69"/>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6" name="Line 70"/>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417" name="Text Box 76"/>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
        <p:nvSpPr>
          <p:cNvPr id="2418" name="Rectangle 79"/>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9"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420" name="Group 3"/>
          <p:cNvGrpSpPr/>
          <p:nvPr/>
        </p:nvGrpSpPr>
        <p:grpSpPr>
          <a:xfrm>
            <a:off x="1171440" y="1833480"/>
            <a:ext cx="3224160" cy="620640"/>
            <a:chOff x="1171440" y="1833480"/>
            <a:chExt cx="3224160" cy="620640"/>
          </a:xfrm>
        </p:grpSpPr>
        <p:sp>
          <p:nvSpPr>
            <p:cNvPr id="2421" name="Line 4"/>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22" name="Picture 5" descr=""/>
            <p:cNvPicPr/>
            <p:nvPr/>
          </p:nvPicPr>
          <p:blipFill>
            <a:blip r:embed="rId1"/>
            <a:stretch/>
          </p:blipFill>
          <p:spPr>
            <a:xfrm>
              <a:off x="1171440" y="1833480"/>
              <a:ext cx="3224160" cy="620640"/>
            </a:xfrm>
            <a:prstGeom prst="rect">
              <a:avLst/>
            </a:prstGeom>
            <a:ln w="0">
              <a:noFill/>
            </a:ln>
          </p:spPr>
        </p:pic>
      </p:grpSp>
      <p:sp>
        <p:nvSpPr>
          <p:cNvPr id="2423" name="Text Box 6"/>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E = 0 </a:t>
            </a:r>
            <a:endParaRPr b="0" lang="en-US" sz="1800" spc="-1" strike="noStrike">
              <a:solidFill>
                <a:srgbClr val="ffffff"/>
              </a:solidFill>
              <a:latin typeface="Arial"/>
            </a:endParaRPr>
          </a:p>
        </p:txBody>
      </p:sp>
      <p:sp>
        <p:nvSpPr>
          <p:cNvPr id="2424" name="Line 7"/>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25" name="Rectangle 8"/>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Arial"/>
            </a:endParaRPr>
          </a:p>
        </p:txBody>
      </p:sp>
      <p:sp>
        <p:nvSpPr>
          <p:cNvPr id="2426" name="Text Box 9"/>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ea typeface="Arial"/>
              </a:rPr>
              <a:t>n</a:t>
            </a:r>
            <a:r>
              <a:rPr b="0" lang="en-US" sz="2800" spc="-1" strike="noStrike">
                <a:solidFill>
                  <a:srgbClr val="fafd00"/>
                </a:solidFill>
                <a:latin typeface="Symbol"/>
                <a:ea typeface="Symbol"/>
              </a:rPr>
              <a:t></a:t>
            </a:r>
            <a:r>
              <a:rPr b="0" lang="en-US" sz="2800" spc="-1" strike="noStrike">
                <a:solidFill>
                  <a:srgbClr val="fafd00"/>
                </a:solidFill>
                <a:latin typeface="Comic Sans MS"/>
                <a:ea typeface="Arial"/>
              </a:rPr>
              <a:t> = 2L</a:t>
            </a:r>
            <a:endParaRPr b="0" lang="en-US" sz="2800" spc="-1" strike="noStrike">
              <a:solidFill>
                <a:srgbClr val="ffffff"/>
              </a:solidFill>
              <a:latin typeface="Arial"/>
            </a:endParaRPr>
          </a:p>
        </p:txBody>
      </p:sp>
      <p:sp>
        <p:nvSpPr>
          <p:cNvPr id="2427" name="Text Box 10"/>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Arial"/>
              </a:rPr>
              <a:t>n</a:t>
            </a:r>
            <a:r>
              <a:rPr b="1" lang="en-US" sz="1800" spc="-1" strike="noStrike">
                <a:solidFill>
                  <a:srgbClr val="fafd00"/>
                </a:solidFill>
                <a:latin typeface="Symbol"/>
                <a:ea typeface="Symbol"/>
              </a:rPr>
              <a:t></a:t>
            </a:r>
            <a:r>
              <a:rPr b="1" lang="en-US" sz="1800" spc="-1" strike="noStrike">
                <a:solidFill>
                  <a:srgbClr val="fafd00"/>
                </a:solidFill>
                <a:latin typeface="Comic Sans MS"/>
                <a:ea typeface="Arial"/>
              </a:rPr>
              <a:t>= 1, 2, 3 … ‘mode index’</a:t>
            </a:r>
            <a:endParaRPr b="0" lang="en-US" sz="1800" spc="-1" strike="noStrike">
              <a:solidFill>
                <a:srgbClr val="ffffff"/>
              </a:solidFill>
              <a:latin typeface="Arial"/>
            </a:endParaRPr>
          </a:p>
        </p:txBody>
      </p:sp>
      <p:grpSp>
        <p:nvGrpSpPr>
          <p:cNvPr id="2428" name="Group 11"/>
          <p:cNvGrpSpPr/>
          <p:nvPr/>
        </p:nvGrpSpPr>
        <p:grpSpPr>
          <a:xfrm>
            <a:off x="555480" y="3618000"/>
            <a:ext cx="4140000" cy="3020040"/>
            <a:chOff x="555480" y="3618000"/>
            <a:chExt cx="4140000" cy="3020040"/>
          </a:xfrm>
        </p:grpSpPr>
        <p:grpSp>
          <p:nvGrpSpPr>
            <p:cNvPr id="2429" name="Group 12"/>
            <p:cNvGrpSpPr/>
            <p:nvPr/>
          </p:nvGrpSpPr>
          <p:grpSpPr>
            <a:xfrm>
              <a:off x="555480" y="3618000"/>
              <a:ext cx="4140000" cy="2833560"/>
              <a:chOff x="555480" y="3618000"/>
              <a:chExt cx="4140000" cy="2833560"/>
            </a:xfrm>
          </p:grpSpPr>
          <p:sp>
            <p:nvSpPr>
              <p:cNvPr id="2430" name="Line 13"/>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1" name="Line 14"/>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2" name="Line 15"/>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3" name="Line 16"/>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4" name="Line 17"/>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5" name="Line 18"/>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6" name="Line 19"/>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7" name="Line 20"/>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8" name="Line 21"/>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9" name="Line 22"/>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0" name="Line 23"/>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1" name="Line 24"/>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2" name="Freeform 25"/>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3" name="Freeform 26"/>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4" name="Freeform 27"/>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5" name="Freeform 28"/>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46" name="Line 29"/>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fffff"/>
                </a:solidFill>
                <a:latin typeface="Arial"/>
              </a:endParaRPr>
            </a:p>
          </p:txBody>
        </p:sp>
        <p:sp>
          <p:nvSpPr>
            <p:cNvPr id="2447" name="Text Box 30"/>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ea typeface="Arial"/>
                </a:rPr>
                <a:t>L</a:t>
              </a:r>
              <a:endParaRPr b="0" lang="en-US" sz="1400" spc="-1" strike="noStrike">
                <a:solidFill>
                  <a:srgbClr val="ffffff"/>
                </a:solidFill>
                <a:latin typeface="Arial"/>
              </a:endParaRPr>
            </a:p>
          </p:txBody>
        </p:sp>
      </p:grpSp>
      <p:grpSp>
        <p:nvGrpSpPr>
          <p:cNvPr id="2448" name="Group 31"/>
          <p:cNvGrpSpPr/>
          <p:nvPr/>
        </p:nvGrpSpPr>
        <p:grpSpPr>
          <a:xfrm>
            <a:off x="5359320" y="1797120"/>
            <a:ext cx="3224160" cy="620640"/>
            <a:chOff x="5359320" y="1797120"/>
            <a:chExt cx="3224160" cy="620640"/>
          </a:xfrm>
        </p:grpSpPr>
        <p:sp>
          <p:nvSpPr>
            <p:cNvPr id="2449" name="Line 32"/>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50" name="Picture 33" descr=""/>
            <p:cNvPicPr/>
            <p:nvPr/>
          </p:nvPicPr>
          <p:blipFill>
            <a:blip r:embed="rId2"/>
            <a:stretch/>
          </p:blipFill>
          <p:spPr>
            <a:xfrm>
              <a:off x="5359320" y="1797120"/>
              <a:ext cx="3224160" cy="620640"/>
            </a:xfrm>
            <a:prstGeom prst="rect">
              <a:avLst/>
            </a:prstGeom>
            <a:ln w="0">
              <a:noFill/>
            </a:ln>
          </p:spPr>
        </p:pic>
      </p:grpSp>
      <p:sp>
        <p:nvSpPr>
          <p:cNvPr id="2451" name="Line 34"/>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2"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453" name="Text Box 36"/>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ea typeface="Arial"/>
              </a:rPr>
              <a:t>n</a:t>
            </a:r>
            <a:r>
              <a:rPr b="0" lang="en-US" sz="1600" spc="-1" strike="noStrike" u="sng">
                <a:solidFill>
                  <a:srgbClr val="ffffff"/>
                </a:solidFill>
                <a:uFillTx/>
                <a:latin typeface="Comic Sans MS"/>
                <a:ea typeface="Arial"/>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ea typeface="Arial"/>
              </a:rPr>
              <a:t>f     </a:t>
            </a:r>
            <a:endParaRPr b="0" lang="en-US" sz="20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2L</a:t>
            </a:r>
            <a:endParaRPr b="0" lang="en-US" sz="2000" spc="-1" strike="noStrike">
              <a:solidFill>
                <a:srgbClr val="ffffff"/>
              </a:solidFill>
              <a:latin typeface="Arial"/>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3</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3v/2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2</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v/L</a:t>
            </a:r>
            <a:endParaRPr b="0" lang="en-US" sz="2000" spc="-1" strike="noStrike">
              <a:solidFill>
                <a:srgbClr val="ffffff"/>
              </a:solidFill>
              <a:latin typeface="Arial"/>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L/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nv/2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4" name="Rectangle 2"/>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Arial"/>
            </a:endParaRPr>
          </a:p>
        </p:txBody>
      </p:sp>
      <p:grpSp>
        <p:nvGrpSpPr>
          <p:cNvPr id="2455" name="Group 3"/>
          <p:cNvGrpSpPr/>
          <p:nvPr/>
        </p:nvGrpSpPr>
        <p:grpSpPr>
          <a:xfrm>
            <a:off x="5532480" y="4400640"/>
            <a:ext cx="3238200" cy="2114280"/>
            <a:chOff x="5532480" y="4400640"/>
            <a:chExt cx="3238200" cy="2114280"/>
          </a:xfrm>
        </p:grpSpPr>
        <p:sp>
          <p:nvSpPr>
            <p:cNvPr id="2456" name="Line 4"/>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7" name="Text Box 5"/>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58" name="Line 6"/>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9" name="Line 7"/>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0" name="Text Box 8"/>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461" name="Text Box 9"/>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462" name="Text Box 10"/>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463" name="Text Box 11"/>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464" name="Text Box 12"/>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465" name="Line 13"/>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6" name="Line 14"/>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7" name="Line 15"/>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8" name="Text Box 16"/>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469" name="Text Box 17"/>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470" name="Text Box 18"/>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471" name="Rectangle 19"/>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pSp>
        <p:nvGrpSpPr>
          <p:cNvPr id="2472" name="Group 20"/>
          <p:cNvGrpSpPr/>
          <p:nvPr/>
        </p:nvGrpSpPr>
        <p:grpSpPr>
          <a:xfrm>
            <a:off x="4586400" y="1638360"/>
            <a:ext cx="4424400" cy="2420640"/>
            <a:chOff x="4586400" y="1638360"/>
            <a:chExt cx="4424400" cy="2420640"/>
          </a:xfrm>
        </p:grpSpPr>
        <p:grpSp>
          <p:nvGrpSpPr>
            <p:cNvPr id="2473" name="Group 21"/>
            <p:cNvGrpSpPr/>
            <p:nvPr/>
          </p:nvGrpSpPr>
          <p:grpSpPr>
            <a:xfrm>
              <a:off x="4586400" y="2085480"/>
              <a:ext cx="1817280" cy="1725480"/>
              <a:chOff x="4586400" y="2085480"/>
              <a:chExt cx="1817280" cy="1725480"/>
            </a:xfrm>
          </p:grpSpPr>
          <p:sp>
            <p:nvSpPr>
              <p:cNvPr id="2474" name="Line 22"/>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5" name="Line 23"/>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6" name="Line 24"/>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7" name="Line 25"/>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8" name="Line 26"/>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9" name="Line 27"/>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0" name="Line 28"/>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1" name="Line 29"/>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2" name="Line 30"/>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3" name="Line 31"/>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4" name="Line 32"/>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5" name="Line 33"/>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6" name="Freeform 34"/>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7" name="Freeform 35"/>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8" name="Freeform 36"/>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9" name="Freeform 37"/>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90" name="Text Box 38"/>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2491" name="Line 39"/>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492" name="Object 40"/>
          <p:cNvGraphicFramePr/>
          <p:nvPr/>
        </p:nvGraphicFramePr>
        <p:xfrm>
          <a:off x="309600" y="1878120"/>
          <a:ext cx="3825720" cy="1819080"/>
        </p:xfrm>
        <a:graphic>
          <a:graphicData uri="http://schemas.openxmlformats.org/presentationml/2006/ole">
            <p:oleObj r:id="rId1" spid="">
              <p:embed/>
              <p:pic>
                <p:nvPicPr>
                  <p:cNvPr id="2493" name="Object 40"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494" name="Group 41"/>
          <p:cNvGrpSpPr/>
          <p:nvPr/>
        </p:nvGrpSpPr>
        <p:grpSpPr>
          <a:xfrm>
            <a:off x="2298600" y="1720800"/>
            <a:ext cx="927000" cy="620640"/>
            <a:chOff x="2298600" y="1720800"/>
            <a:chExt cx="927000" cy="620640"/>
          </a:xfrm>
        </p:grpSpPr>
        <p:sp>
          <p:nvSpPr>
            <p:cNvPr id="2495" name="Line 42"/>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6" name="Text Box 43"/>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497" name="Rectangle 44"/>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8" name="Rectangle 45"/>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9" name="Text Box 46"/>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00"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501" name="Group 5"/>
          <p:cNvGrpSpPr/>
          <p:nvPr/>
        </p:nvGrpSpPr>
        <p:grpSpPr>
          <a:xfrm>
            <a:off x="369720" y="5151600"/>
            <a:ext cx="1902240" cy="1687320"/>
            <a:chOff x="369720" y="5151600"/>
            <a:chExt cx="1902240" cy="1687320"/>
          </a:xfrm>
        </p:grpSpPr>
        <p:grpSp>
          <p:nvGrpSpPr>
            <p:cNvPr id="2502" name="Group 6"/>
            <p:cNvGrpSpPr/>
            <p:nvPr/>
          </p:nvGrpSpPr>
          <p:grpSpPr>
            <a:xfrm>
              <a:off x="369720" y="5151600"/>
              <a:ext cx="1902240" cy="1687320"/>
              <a:chOff x="369720" y="5151600"/>
              <a:chExt cx="1902240" cy="1687320"/>
            </a:xfrm>
          </p:grpSpPr>
          <p:sp>
            <p:nvSpPr>
              <p:cNvPr id="2503"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4"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5"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6"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7"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8"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09"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510"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11"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2512"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3"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4"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5"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2516"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2517"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Arial"/>
                </a:endParaRPr>
              </a:p>
            </p:txBody>
          </p:sp>
        </p:grpSp>
        <p:sp>
          <p:nvSpPr>
            <p:cNvPr id="2518"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519"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Arial"/>
            </a:endParaRPr>
          </a:p>
        </p:txBody>
      </p:sp>
      <p:sp>
        <p:nvSpPr>
          <p:cNvPr id="2520"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
        <p:nvSpPr>
          <p:cNvPr id="2521"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2" name="PlaceHolder 1"/>
          <p:cNvSpPr>
            <a:spLocks noGrp="1"/>
          </p:cNvSpPr>
          <p:nvPr>
            <p:ph type="title"/>
          </p:nvPr>
        </p:nvSpPr>
        <p:spPr>
          <a:xfrm>
            <a:off x="720720" y="82440"/>
            <a:ext cx="77500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2523" name="Group 5"/>
          <p:cNvGrpSpPr/>
          <p:nvPr/>
        </p:nvGrpSpPr>
        <p:grpSpPr>
          <a:xfrm>
            <a:off x="369720" y="5143680"/>
            <a:ext cx="1888920" cy="1690560"/>
            <a:chOff x="369720" y="5143680"/>
            <a:chExt cx="1888920" cy="1690560"/>
          </a:xfrm>
        </p:grpSpPr>
        <p:grpSp>
          <p:nvGrpSpPr>
            <p:cNvPr id="2524" name="Group 6"/>
            <p:cNvGrpSpPr/>
            <p:nvPr/>
          </p:nvGrpSpPr>
          <p:grpSpPr>
            <a:xfrm>
              <a:off x="369720" y="5143680"/>
              <a:ext cx="1888920" cy="1690560"/>
              <a:chOff x="369720" y="5143680"/>
              <a:chExt cx="1888920" cy="1690560"/>
            </a:xfrm>
          </p:grpSpPr>
          <p:sp>
            <p:nvSpPr>
              <p:cNvPr id="2525"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6" name="Text Box 8"/>
              <p:cNvSpPr/>
              <p:nvPr/>
            </p:nvSpPr>
            <p:spPr>
              <a:xfrm>
                <a:off x="398880" y="51436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27"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8"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9" name="Text Box 11"/>
              <p:cNvSpPr/>
              <p:nvPr/>
            </p:nvSpPr>
            <p:spPr>
              <a:xfrm>
                <a:off x="1543680" y="51577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30" name="Text Box 12"/>
              <p:cNvSpPr/>
              <p:nvPr/>
            </p:nvSpPr>
            <p:spPr>
              <a:xfrm>
                <a:off x="438480" y="644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531" name="Text Box 13"/>
              <p:cNvSpPr/>
              <p:nvPr/>
            </p:nvSpPr>
            <p:spPr>
              <a:xfrm>
                <a:off x="1963440" y="6465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32" name="Text Box 14"/>
              <p:cNvSpPr/>
              <p:nvPr/>
            </p:nvSpPr>
            <p:spPr>
              <a:xfrm>
                <a:off x="1616400" y="6464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533" name="Text Box 15"/>
              <p:cNvSpPr/>
              <p:nvPr/>
            </p:nvSpPr>
            <p:spPr>
              <a:xfrm>
                <a:off x="1040760" y="52610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534"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5"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6"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7" name="Text Box 19"/>
              <p:cNvSpPr/>
              <p:nvPr/>
            </p:nvSpPr>
            <p:spPr>
              <a:xfrm>
                <a:off x="1756440" y="61628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538" name="Text Box 20"/>
              <p:cNvSpPr/>
              <p:nvPr/>
            </p:nvSpPr>
            <p:spPr>
              <a:xfrm>
                <a:off x="1748520" y="5958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539" name="Text Box 21"/>
              <p:cNvSpPr/>
              <p:nvPr/>
            </p:nvSpPr>
            <p:spPr>
              <a:xfrm>
                <a:off x="1748520" y="55818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540"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541" name="Object 25"/>
          <p:cNvGraphicFramePr/>
          <p:nvPr/>
        </p:nvGraphicFramePr>
        <p:xfrm>
          <a:off x="763560" y="2554200"/>
          <a:ext cx="4265640" cy="1290600"/>
        </p:xfrm>
        <a:graphic>
          <a:graphicData uri="http://schemas.openxmlformats.org/presentationml/2006/ole">
            <p:oleObj r:id="rId1" spid="">
              <p:embed/>
              <p:pic>
                <p:nvPicPr>
                  <p:cNvPr id="2542" name="Object 25" descr=""/>
                  <p:cNvPicPr/>
                  <p:nvPr/>
                </p:nvPicPr>
                <p:blipFill>
                  <a:blip r:embed="rId2"/>
                  <a:stretch/>
                </p:blipFill>
                <p:spPr>
                  <a:xfrm>
                    <a:off x="763560" y="2554200"/>
                    <a:ext cx="4265640" cy="1290600"/>
                  </a:xfrm>
                  <a:prstGeom prst="rect">
                    <a:avLst/>
                  </a:prstGeom>
                  <a:ln w="0">
                    <a:noFill/>
                  </a:ln>
                </p:spPr>
              </p:pic>
            </p:oleObj>
          </a:graphicData>
        </a:graphic>
      </p:graphicFrame>
      <p:sp>
        <p:nvSpPr>
          <p:cNvPr id="2543" name="Rectangle 26"/>
          <p:cNvSpPr/>
          <p:nvPr/>
        </p:nvSpPr>
        <p:spPr>
          <a:xfrm>
            <a:off x="2857680" y="3303720"/>
            <a:ext cx="1037880" cy="3823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544" name="Object 27"/>
          <p:cNvGraphicFramePr/>
          <p:nvPr/>
        </p:nvGraphicFramePr>
        <p:xfrm>
          <a:off x="6027840" y="2995560"/>
          <a:ext cx="3049560" cy="676440"/>
        </p:xfrm>
        <a:graphic>
          <a:graphicData uri="http://schemas.openxmlformats.org/presentationml/2006/ole">
            <p:oleObj r:id="rId3" spid="">
              <p:embed/>
              <p:pic>
                <p:nvPicPr>
                  <p:cNvPr id="2545" name="Object 27" descr=""/>
                  <p:cNvPicPr/>
                  <p:nvPr/>
                </p:nvPicPr>
                <p:blipFill>
                  <a:blip r:embed="rId4"/>
                  <a:stretch/>
                </p:blipFill>
                <p:spPr>
                  <a:xfrm>
                    <a:off x="6027840" y="2995560"/>
                    <a:ext cx="3049560" cy="676440"/>
                  </a:xfrm>
                  <a:prstGeom prst="rect">
                    <a:avLst/>
                  </a:prstGeom>
                  <a:ln w="0">
                    <a:noFill/>
                  </a:ln>
                </p:spPr>
              </p:pic>
            </p:oleObj>
          </a:graphicData>
        </a:graphic>
      </p:graphicFrame>
      <p:sp>
        <p:nvSpPr>
          <p:cNvPr id="2546" name="Line 28"/>
          <p:cNvSpPr/>
          <p:nvPr/>
        </p:nvSpPr>
        <p:spPr>
          <a:xfrm flipH="1">
            <a:off x="5151600" y="2862360"/>
            <a:ext cx="645840" cy="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7" name="Text Box 29"/>
          <p:cNvSpPr/>
          <p:nvPr/>
        </p:nvSpPr>
        <p:spPr>
          <a:xfrm>
            <a:off x="5922000" y="265428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sing:</a:t>
            </a:r>
            <a:endParaRPr b="0" lang="en-US" sz="2000" spc="-1" strike="noStrike">
              <a:solidFill>
                <a:srgbClr val="ffffff"/>
              </a:solidFill>
              <a:latin typeface="Arial"/>
            </a:endParaRPr>
          </a:p>
        </p:txBody>
      </p:sp>
      <p:sp>
        <p:nvSpPr>
          <p:cNvPr id="2548" name="Text Box 30"/>
          <p:cNvSpPr/>
          <p:nvPr/>
        </p:nvSpPr>
        <p:spPr>
          <a:xfrm>
            <a:off x="5985000" y="3693960"/>
            <a:ext cx="165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re </a:t>
            </a:r>
            <a:r>
              <a:rPr b="0" lang="en-US" sz="2000" spc="-1" strike="noStrike">
                <a:solidFill>
                  <a:srgbClr val="ffff00"/>
                </a:solidFill>
                <a:latin typeface="Symbol"/>
                <a:ea typeface="Symbol"/>
              </a:rPr>
              <a:t></a:t>
            </a:r>
            <a:r>
              <a:rPr b="0" lang="en-US" sz="2000" spc="-1" strike="noStrike">
                <a:solidFill>
                  <a:srgbClr val="ffff00"/>
                </a:solidFill>
                <a:latin typeface="Arial"/>
              </a:rPr>
              <a:t> =2L.</a:t>
            </a:r>
            <a:endParaRPr b="0" lang="en-US" sz="2000" spc="-1" strike="noStrike">
              <a:solidFill>
                <a:srgbClr val="ffffff"/>
              </a:solidFill>
              <a:latin typeface="Arial"/>
            </a:endParaRPr>
          </a:p>
        </p:txBody>
      </p:sp>
      <p:grpSp>
        <p:nvGrpSpPr>
          <p:cNvPr id="2549" name="Group 44"/>
          <p:cNvGrpSpPr/>
          <p:nvPr/>
        </p:nvGrpSpPr>
        <p:grpSpPr>
          <a:xfrm>
            <a:off x="2771640" y="5116680"/>
            <a:ext cx="4307040" cy="1370160"/>
            <a:chOff x="2771640" y="5116680"/>
            <a:chExt cx="4307040" cy="1370160"/>
          </a:xfrm>
        </p:grpSpPr>
        <p:graphicFrame>
          <p:nvGraphicFramePr>
            <p:cNvPr id="2550" name="Object 32"/>
            <p:cNvGraphicFramePr/>
            <p:nvPr/>
          </p:nvGraphicFramePr>
          <p:xfrm>
            <a:off x="3867120" y="5116680"/>
            <a:ext cx="1139760" cy="417240"/>
          </p:xfrm>
          <a:graphic>
            <a:graphicData uri="http://schemas.openxmlformats.org/presentationml/2006/ole">
              <p:oleObj r:id="rId5" spid="">
                <p:embed/>
                <p:pic>
                  <p:nvPicPr>
                    <p:cNvPr id="2551" name="Object 32" descr=""/>
                    <p:cNvPicPr/>
                    <p:nvPr/>
                  </p:nvPicPr>
                  <p:blipFill>
                    <a:blip r:embed="rId6"/>
                    <a:stretch/>
                  </p:blipFill>
                  <p:spPr>
                    <a:xfrm>
                      <a:off x="3867120" y="5116680"/>
                      <a:ext cx="1139760" cy="417240"/>
                    </a:xfrm>
                    <a:prstGeom prst="rect">
                      <a:avLst/>
                    </a:prstGeom>
                    <a:ln w="0">
                      <a:noFill/>
                    </a:ln>
                  </p:spPr>
                </p:pic>
              </p:oleObj>
            </a:graphicData>
          </a:graphic>
        </p:graphicFrame>
        <p:sp>
          <p:nvSpPr>
            <p:cNvPr id="2552" name="Rectangle 33"/>
            <p:cNvSpPr/>
            <p:nvPr/>
          </p:nvSpPr>
          <p:spPr>
            <a:xfrm>
              <a:off x="2771640" y="5532480"/>
              <a:ext cx="43070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the energy difference between the </a:t>
              </a:r>
              <a:br>
                <a:rPr sz="1800"/>
              </a:br>
              <a:r>
                <a:rPr b="0" lang="en-US" sz="1800" spc="-1" strike="noStrike">
                  <a:solidFill>
                    <a:srgbClr val="ffff00"/>
                  </a:solidFill>
                  <a:latin typeface="Arial"/>
                </a:rPr>
                <a:t>n = 2 and n = 1 levels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2</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baseline="30000">
                  <a:solidFill>
                    <a:srgbClr val="ffff00"/>
                  </a:solidFill>
                  <a:latin typeface="Arial"/>
                </a:rPr>
                <a:t>2</a:t>
              </a:r>
              <a:r>
                <a:rPr b="0" lang="en-US" sz="1800" spc="-1" strike="noStrike">
                  <a:solidFill>
                    <a:srgbClr val="ffff00"/>
                  </a:solidFill>
                  <a:latin typeface="Arial"/>
                </a:rPr>
                <a:t>)E</a:t>
              </a:r>
              <a:r>
                <a:rPr b="0" lang="en-US" sz="1800" spc="-1" strike="noStrike" baseline="-25000">
                  <a:solidFill>
                    <a:srgbClr val="ffff00"/>
                  </a:solidFill>
                  <a:latin typeface="Arial"/>
                </a:rPr>
                <a:t>1</a:t>
              </a:r>
              <a:r>
                <a:rPr b="0" lang="en-US" sz="1800" spc="-1" strike="noStrike">
                  <a:solidFill>
                    <a:srgbClr val="ffff00"/>
                  </a:solidFill>
                  <a:latin typeface="Arial"/>
                </a:rPr>
                <a:t> = 3E</a:t>
              </a:r>
              <a:r>
                <a:rPr b="0" lang="en-US" sz="1800" spc="-1" strike="noStrike" baseline="-25000">
                  <a:solidFill>
                    <a:srgbClr val="ffff00"/>
                  </a:solidFill>
                  <a:latin typeface="Arial"/>
                </a:rPr>
                <a:t>1</a:t>
              </a:r>
              <a:r>
                <a:rPr b="0" lang="en-US" sz="1800" spc="-1" strike="noStrike">
                  <a:solidFill>
                    <a:srgbClr val="ffff00"/>
                  </a:solidFill>
                  <a:latin typeface="Arial"/>
                </a:rPr>
                <a:t> = 0.071 eV</a:t>
              </a:r>
              <a:endParaRPr b="0" lang="en-US" sz="1800" spc="-1" strike="noStrike">
                <a:solidFill>
                  <a:srgbClr val="ffffff"/>
                </a:solidFill>
                <a:latin typeface="Arial"/>
              </a:endParaRPr>
            </a:p>
          </p:txBody>
        </p:sp>
        <p:sp>
          <p:nvSpPr>
            <p:cNvPr id="2553" name="Rectangle 39"/>
            <p:cNvSpPr/>
            <p:nvPr/>
          </p:nvSpPr>
          <p:spPr>
            <a:xfrm>
              <a:off x="5257800" y="6099120"/>
              <a:ext cx="1038240" cy="38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54" name="PlaceHolder 2"/>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electron is trapped in a “quantum wire” that is </a:t>
            </a:r>
            <a:r>
              <a:rPr b="0" lang="en-US" sz="2000" spc="-1" strike="noStrike">
                <a:solidFill>
                  <a:srgbClr val="ffff00"/>
                </a:solidFill>
                <a:latin typeface="Arial"/>
              </a:rPr>
              <a:t>L = 4 nm</a:t>
            </a:r>
            <a:r>
              <a:rPr b="0" lang="en-US" sz="2000" spc="-1" strike="noStrike">
                <a:solidFill>
                  <a:srgbClr val="00ffcc"/>
                </a:solidFill>
                <a:latin typeface="Arial"/>
              </a:rPr>
              <a:t> long.  Assume that the potential seen by the electron is approximately </a:t>
            </a:r>
            <a:br>
              <a:rPr sz="2000"/>
            </a:br>
            <a:r>
              <a:rPr b="0" lang="en-US" sz="2000" spc="-1" strike="noStrike">
                <a:solidFill>
                  <a:srgbClr val="00ffcc"/>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sp>
        <p:nvSpPr>
          <p:cNvPr id="2555" name="Rectangle 43"/>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3"/>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Arial"/>
            </a:endParaRPr>
          </a:p>
        </p:txBody>
      </p:sp>
      <p:pic>
        <p:nvPicPr>
          <p:cNvPr id="83" name="Picture 4" descr="corral"/>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6"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557"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559" name="Rectangle 3"/>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Arial"/>
            </a:endParaRPr>
          </a:p>
        </p:txBody>
      </p:sp>
      <p:graphicFrame>
        <p:nvGraphicFramePr>
          <p:cNvPr id="2560" name="Object 4"/>
          <p:cNvGraphicFramePr/>
          <p:nvPr/>
        </p:nvGraphicFramePr>
        <p:xfrm>
          <a:off x="995400" y="2473200"/>
          <a:ext cx="3567240" cy="757440"/>
        </p:xfrm>
        <a:graphic>
          <a:graphicData uri="http://schemas.openxmlformats.org/presentationml/2006/ole">
            <p:oleObj r:id="rId1" spid="">
              <p:embed/>
              <p:pic>
                <p:nvPicPr>
                  <p:cNvPr id="2561" name="Object 4" descr=""/>
                  <p:cNvPicPr/>
                  <p:nvPr/>
                </p:nvPicPr>
                <p:blipFill>
                  <a:blip r:embed="rId2"/>
                  <a:stretch/>
                </p:blipFill>
                <p:spPr>
                  <a:xfrm>
                    <a:off x="995400" y="2473200"/>
                    <a:ext cx="3567240" cy="757440"/>
                  </a:xfrm>
                  <a:prstGeom prst="rect">
                    <a:avLst/>
                  </a:prstGeom>
                  <a:ln w="0">
                    <a:noFill/>
                  </a:ln>
                </p:spPr>
              </p:pic>
            </p:oleObj>
          </a:graphicData>
        </a:graphic>
      </p:graphicFrame>
      <p:sp>
        <p:nvSpPr>
          <p:cNvPr id="2562" name="Rectangle 5"/>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Arial"/>
            </a:endParaRPr>
          </a:p>
        </p:txBody>
      </p:sp>
      <p:sp>
        <p:nvSpPr>
          <p:cNvPr id="2563" name="Rectangle 6"/>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Arial"/>
            </a:endParaRPr>
          </a:p>
        </p:txBody>
      </p:sp>
      <p:sp>
        <p:nvSpPr>
          <p:cNvPr id="2564" name="Rectangle 7"/>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Arial"/>
            </a:endParaRPr>
          </a:p>
        </p:txBody>
      </p:sp>
      <p:grpSp>
        <p:nvGrpSpPr>
          <p:cNvPr id="2565" name="Group 8"/>
          <p:cNvGrpSpPr/>
          <p:nvPr/>
        </p:nvGrpSpPr>
        <p:grpSpPr>
          <a:xfrm>
            <a:off x="5748480" y="1467000"/>
            <a:ext cx="3268440" cy="3216240"/>
            <a:chOff x="5748480" y="1467000"/>
            <a:chExt cx="3268440" cy="3216240"/>
          </a:xfrm>
        </p:grpSpPr>
        <p:sp>
          <p:nvSpPr>
            <p:cNvPr id="2566" name="Rectangle 9"/>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sp>
          <p:nvSpPr>
            <p:cNvPr id="2567" name="Line 10"/>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8" name="Line 11"/>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9" name="Line 12"/>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0" name="Line 13"/>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1" name="Text Box 14"/>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72" name="Text Box 15"/>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73" name="Text Box 16"/>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74" name="Text Box 17"/>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5" name="Text Box 18"/>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6" name="Rectangle 19"/>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7" name="Rectangle 20"/>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8" name="Rectangle 21"/>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Arial"/>
              </a:endParaRPr>
            </a:p>
          </p:txBody>
        </p:sp>
        <p:sp>
          <p:nvSpPr>
            <p:cNvPr id="2579" name="Line 22"/>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0" name="Line 23"/>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000" spc="-1" strike="noStrike">
                <a:solidFill>
                  <a:srgbClr val="ffffff"/>
                </a:solidFill>
                <a:latin typeface="Arial"/>
              </a:endParaRPr>
            </a:p>
          </p:txBody>
        </p:sp>
        <p:sp>
          <p:nvSpPr>
            <p:cNvPr id="2581" name="Rectangle 24"/>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2" name="Rectangle 25"/>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3" name="Line 26"/>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84" name="Rectangle 27"/>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85" name="Rectangle 28"/>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Arial"/>
            </a:endParaRPr>
          </a:p>
        </p:txBody>
      </p:sp>
      <p:sp>
        <p:nvSpPr>
          <p:cNvPr id="2586" name="Rectangle 29"/>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588" name="Rectangle 3"/>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2589" name="Rectangle 4"/>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Arial"/>
            </a:endParaRPr>
          </a:p>
        </p:txBody>
      </p:sp>
      <p:sp>
        <p:nvSpPr>
          <p:cNvPr id="2590" name="Line 5"/>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1" name="Line 6"/>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2" name="Line 7"/>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3" name="Line 8"/>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4" name="Text Box 9"/>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95" name="Text Box 10"/>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96" name="Text Box 11"/>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97" name="Text Box 12"/>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8" name="Text Box 13"/>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9" name="Rectangle 14"/>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2600" name="Text Box 15"/>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Arial"/>
            </a:endParaRPr>
          </a:p>
        </p:txBody>
      </p:sp>
      <p:sp>
        <p:nvSpPr>
          <p:cNvPr id="2601" name="Rectangle 16"/>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Arial"/>
            </a:endParaRPr>
          </a:p>
        </p:txBody>
      </p:sp>
      <p:graphicFrame>
        <p:nvGraphicFramePr>
          <p:cNvPr id="2602" name="Object 17"/>
          <p:cNvGraphicFramePr/>
          <p:nvPr/>
        </p:nvGraphicFramePr>
        <p:xfrm>
          <a:off x="1533600" y="3898800"/>
          <a:ext cx="3556080" cy="424080"/>
        </p:xfrm>
        <a:graphic>
          <a:graphicData uri="http://schemas.openxmlformats.org/presentationml/2006/ole">
            <p:oleObj r:id="rId1" spid="">
              <p:embed/>
              <p:pic>
                <p:nvPicPr>
                  <p:cNvPr id="2603" name="Object 17"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604" name="Group 18"/>
          <p:cNvGrpSpPr/>
          <p:nvPr/>
        </p:nvGrpSpPr>
        <p:grpSpPr>
          <a:xfrm>
            <a:off x="7300800" y="1859040"/>
            <a:ext cx="1195200" cy="796680"/>
            <a:chOff x="7300800" y="1859040"/>
            <a:chExt cx="1195200" cy="796680"/>
          </a:xfrm>
        </p:grpSpPr>
        <p:sp>
          <p:nvSpPr>
            <p:cNvPr id="2605" name="Line 19"/>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6" name="Line 20"/>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7" name="Line 21"/>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8" name="Line 22"/>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9" name="Freeform 23"/>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24"/>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1" name="Line 25"/>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2" name="Line 26"/>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3" name="Line 27"/>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14" name="Line 28"/>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5" name="Line 29"/>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6" name="Line 30"/>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7" name="Line 31"/>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8" name="Line 32"/>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9" name="Line 33"/>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0" name="Line 34"/>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1" name="Line 35"/>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2" name="Line 36"/>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3" name="Line 37"/>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4" name="Line 38"/>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5" name="Line 39"/>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6" name="Line 40"/>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7" name="Line 41"/>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8" name="Line 42"/>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43"/>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0" name="Line 44"/>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31" name="Line 45"/>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2" name="Line 46"/>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Freeform 47"/>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48"/>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5" name="Freeform 49"/>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6" name="Line 50"/>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7" name="Line 51"/>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8" name="Line 52"/>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9" name="Line 53"/>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0" name="Line 54"/>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1" name="Line 55"/>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2" name="Line 56"/>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3" name="Line 57"/>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4" name="Freeform 58"/>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5" name="Line 59"/>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6" name="Freeform 60"/>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7" name="Line 61"/>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62"/>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9" name="Line 63"/>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0" name="Line 64"/>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1" name="Line 65"/>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2" name="Line 66"/>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3" name="Line 67"/>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4" name="Line 68"/>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5" name="Line 69"/>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6" name="Line 70"/>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7" name="Line 71"/>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58" name="Line 72"/>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9" name="Line 73"/>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60" name="Line 74"/>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1" name="Line 75"/>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2" name="Line 76"/>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63" name="Line 77"/>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4" name="Line 78"/>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5" name="Line 79"/>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6" name="Line 80"/>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67" name="Line 81"/>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8" name="Line 82"/>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9" name="Line 83"/>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0" name="Freeform 84"/>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1" name="Line 85"/>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2" name="Line 86"/>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3" name="Line 87"/>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4" name="Line 88"/>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5" name="Freeform 89"/>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6" name="Line 90"/>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7" name="Line 91"/>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8" name="Freeform 92"/>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9" name="Line 93"/>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0" name="Freeform 94"/>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1" name="Line 95"/>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2" name="Freeform 96"/>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3" name="Line 97"/>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4" name="Freeform 98"/>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5" name="Line 99"/>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6" name="Freeform 100"/>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87" name="Line 101"/>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8" name="Line 102"/>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9" name="Line 103"/>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0" name="Line 104"/>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1" name="Freeform 105"/>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92" name="Line 106"/>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3" name="Freeform 107"/>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4" name="Line 108"/>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5" name="Freeform 109"/>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6" name="Line 110"/>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7" name="Freeform 111"/>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8" name="Line 112"/>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9" name="Freeform 113"/>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00" name="Line 114"/>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1" name="Freeform 115"/>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2" name="Line 116"/>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3" name="Line 117"/>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4" name="Freeform 118"/>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05" name="Line 119"/>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6" name="Line 120"/>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7" name="Line 121"/>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08" name="Line 122"/>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9" name="Freeform 123"/>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0" name="Line 124"/>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1" name="Line 125"/>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2" name="Line 126"/>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3" name="Line 127"/>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4" name="Line 128"/>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5" name="Line 129"/>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16" name="Line 130"/>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7" name="Line 131"/>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8" name="Line 132"/>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9" name="Line 133"/>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0" name="Line 134"/>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1" name="Line 135"/>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2" name="Line 136"/>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3" name="Line 137"/>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4" name="Line 138"/>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5" name="Line 139"/>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6" name="Line 140"/>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7" name="Line 141"/>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8" name="Line 142"/>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9" name="Line 143"/>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0" name="Line 144"/>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1" name="Line 145"/>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2" name="Line 146"/>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33" name="Freeform 147"/>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34" name="Line 148"/>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5" name="Freeform 149"/>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6" name="Line 150"/>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7" name="Line 151"/>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8" name="Line 152"/>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9" name="Line 153"/>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0" name="Line 154"/>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1" name="Line 155"/>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2" name="Line 156"/>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3" name="Line 157"/>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4" name="Freeform 158"/>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5" name="Line 159"/>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6" name="Freeform 160"/>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47" name="Line 161"/>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48" name="Line 162"/>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9" name="Line 163"/>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0" name="Line 164"/>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1" name="Line 165"/>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2" name="Line 166"/>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3" name="Line 167"/>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4" name="Line 168"/>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5" name="Line 169"/>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6" name="Line 170"/>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7" name="Line 171"/>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58" name="Line 172"/>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9" name="Line 173"/>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0" name="Line 174"/>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1" name="Line 175"/>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2" name="Line 176"/>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3" name="Line 177"/>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4" name="Line 178"/>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5" name="Line 179"/>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6" name="Line 180"/>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7" name="Line 181"/>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8" name="Line 182"/>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9" name="Line 183"/>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0" name="Freeform 184"/>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185"/>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2" name="Line 186"/>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73" name="Line 187"/>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4" name="Line 188"/>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5" name="Freeform 189"/>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190"/>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7" name="Line 191"/>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8" name="Freeform 192"/>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9" name="Line 193"/>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0" name="Freeform 194"/>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1" name="Line 195"/>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2" name="Freeform 196"/>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3" name="Line 197"/>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4" name="Freeform 198"/>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5" name="Line 199"/>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6" name="Freeform 200"/>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7" name="Line 201"/>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8" name="Freeform 202"/>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9" name="Line 203"/>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0" name="Line 204"/>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1" name="Line 205"/>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2" name="Line 206"/>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93" name="Freeform 207"/>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94" name="Line 208"/>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5" name="Freeform 209"/>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6" name="Line 210"/>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7" name="Freeform 211"/>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8" name="Line 212"/>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9" name="Freeform 213"/>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00" name="Line 214"/>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1" name="Freeform 215"/>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2" name="Line 216"/>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03" name="Line 217"/>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4" name="Freeform 218"/>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5" name="Line 219"/>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6" name="Line 220"/>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7" name="Line 221"/>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8" name="Line 222"/>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9" name="Freeform 223"/>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10" name="Line 224"/>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1" name="Line 225"/>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2" name="Line 226"/>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3" name="Line 227"/>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14" name="Line 228"/>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5" name="Line 229"/>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6" name="Line 230"/>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7" name="Line 231"/>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8" name="Line 232"/>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9" name="Line 233"/>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20" name="Line 234"/>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1" name="Line 235"/>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2" name="Line 236"/>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3" name="Line 237"/>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4" name="Line 238"/>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25" name="Line 239"/>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6" name="Line 240"/>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7" name="Line 241"/>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8" name="Line 242"/>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9" name="Line 243"/>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0" name="Line 244"/>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31" name="Line 245"/>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2" name="Line 246"/>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3" name="Freeform 247"/>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4" name="Line 248"/>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249"/>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6" name="Line 250"/>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251"/>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8" name="Line 252"/>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9" name="Line 253"/>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254"/>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1" name="Line 255"/>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2" name="Line 256"/>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3" name="Line 257"/>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4" name="Freeform 258"/>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5" name="Line 259"/>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6" name="Freeform 260"/>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7" name="Line 261"/>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8" name="Line 262"/>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9" name="Line 263"/>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0" name="Line 264"/>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1" name="Line 265"/>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2" name="Line 266"/>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3" name="Line 267"/>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4" name="Line 268"/>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5" name="Line 269"/>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6" name="Line 270"/>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7" name="Line 271"/>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58" name="Line 272"/>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9" name="Line 273"/>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60" name="Line 274"/>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1" name="Line 275"/>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2" name="Line 276"/>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3" name="Line 277"/>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4" name="Line 278"/>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5" name="Line 279"/>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6" name="Line 280"/>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67" name="Line 281"/>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8" name="Line 282"/>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9" name="Line 283"/>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0" name="Freeform 284"/>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285"/>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2" name="Line 286"/>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3" name="Line 287"/>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4" name="Line 288"/>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5" name="Freeform 289"/>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6" name="Line 290"/>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7" name="Line 291"/>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78" name="Freeform 292"/>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Line 293"/>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80" name="Freeform 294"/>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2881" name="Rectangle 295"/>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Arial"/>
            </a:endParaRPr>
          </a:p>
        </p:txBody>
      </p:sp>
      <p:sp>
        <p:nvSpPr>
          <p:cNvPr id="2882" name="Line 296"/>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aphicFrame>
        <p:nvGraphicFramePr>
          <p:cNvPr id="2883" name="Object 297"/>
          <p:cNvGraphicFramePr/>
          <p:nvPr/>
        </p:nvGraphicFramePr>
        <p:xfrm>
          <a:off x="1109520" y="5237280"/>
          <a:ext cx="3175200" cy="831600"/>
        </p:xfrm>
        <a:graphic>
          <a:graphicData uri="http://schemas.openxmlformats.org/presentationml/2006/ole">
            <p:oleObj r:id="rId3" spid="">
              <p:embed/>
              <p:pic>
                <p:nvPicPr>
                  <p:cNvPr id="2884" name="Object 297"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885" name="Object 298"/>
          <p:cNvGraphicFramePr/>
          <p:nvPr/>
        </p:nvGraphicFramePr>
        <p:xfrm>
          <a:off x="5162400" y="3819600"/>
          <a:ext cx="1916280" cy="619200"/>
        </p:xfrm>
        <a:graphic>
          <a:graphicData uri="http://schemas.openxmlformats.org/presentationml/2006/ole">
            <p:oleObj r:id="rId5" spid="">
              <p:embed/>
              <p:pic>
                <p:nvPicPr>
                  <p:cNvPr id="2886" name="Object 298"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887" name="Object 299"/>
          <p:cNvGraphicFramePr/>
          <p:nvPr/>
        </p:nvGraphicFramePr>
        <p:xfrm>
          <a:off x="1682640" y="1289160"/>
          <a:ext cx="3124440" cy="664920"/>
        </p:xfrm>
        <a:graphic>
          <a:graphicData uri="http://schemas.openxmlformats.org/presentationml/2006/ole">
            <p:oleObj r:id="rId7" spid="">
              <p:embed/>
              <p:pic>
                <p:nvPicPr>
                  <p:cNvPr id="2888" name="Object 299"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889" name="Object 300"/>
          <p:cNvGraphicFramePr/>
          <p:nvPr/>
        </p:nvGraphicFramePr>
        <p:xfrm>
          <a:off x="1665360" y="2189160"/>
          <a:ext cx="2651040" cy="719280"/>
        </p:xfrm>
        <a:graphic>
          <a:graphicData uri="http://schemas.openxmlformats.org/presentationml/2006/ole">
            <p:oleObj r:id="rId9" spid="">
              <p:embed/>
              <p:pic>
                <p:nvPicPr>
                  <p:cNvPr id="2890" name="Object 300" descr=""/>
                  <p:cNvPicPr/>
                  <p:nvPr/>
                </p:nvPicPr>
                <p:blipFill>
                  <a:blip r:embed="rId10"/>
                  <a:stretch/>
                </p:blipFill>
                <p:spPr>
                  <a:xfrm>
                    <a:off x="1665360" y="2189160"/>
                    <a:ext cx="2651040" cy="719280"/>
                  </a:xfrm>
                  <a:prstGeom prst="rect">
                    <a:avLst/>
                  </a:prstGeom>
                  <a:ln w="0">
                    <a:noFill/>
                  </a:ln>
                </p:spPr>
              </p:pic>
            </p:oleObj>
          </a:graphicData>
        </a:graphic>
      </p:graphicFrame>
      <p:sp>
        <p:nvSpPr>
          <p:cNvPr id="2891" name="Text Box 301"/>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893" name="Rectangle 3"/>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Rectangle 4"/>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Arial"/>
            </a:endParaRPr>
          </a:p>
        </p:txBody>
      </p:sp>
      <p:sp>
        <p:nvSpPr>
          <p:cNvPr id="2895" name="Rectangle 5"/>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896" name="Object 6"/>
          <p:cNvGraphicFramePr/>
          <p:nvPr/>
        </p:nvGraphicFramePr>
        <p:xfrm>
          <a:off x="1711440" y="4087800"/>
          <a:ext cx="4349520" cy="1025640"/>
        </p:xfrm>
        <a:graphic>
          <a:graphicData uri="http://schemas.openxmlformats.org/presentationml/2006/ole">
            <p:oleObj r:id="rId1" spid="">
              <p:embed/>
              <p:pic>
                <p:nvPicPr>
                  <p:cNvPr id="2897" name="Object 6" descr=""/>
                  <p:cNvPicPr/>
                  <p:nvPr/>
                </p:nvPicPr>
                <p:blipFill>
                  <a:blip r:embed="rId2"/>
                  <a:stretch/>
                </p:blipFill>
                <p:spPr>
                  <a:xfrm>
                    <a:off x="1711440" y="4087800"/>
                    <a:ext cx="4349520" cy="1025640"/>
                  </a:xfrm>
                  <a:prstGeom prst="rect">
                    <a:avLst/>
                  </a:prstGeom>
                  <a:ln w="0">
                    <a:noFill/>
                  </a:ln>
                </p:spPr>
              </p:pic>
            </p:oleObj>
          </a:graphicData>
        </a:graphic>
      </p:graphicFrame>
      <p:sp>
        <p:nvSpPr>
          <p:cNvPr id="2898" name="Rectangle 7"/>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Arial"/>
            </a:endParaRPr>
          </a:p>
        </p:txBody>
      </p:sp>
      <p:grpSp>
        <p:nvGrpSpPr>
          <p:cNvPr id="2899" name="Group 8"/>
          <p:cNvGrpSpPr/>
          <p:nvPr/>
        </p:nvGrpSpPr>
        <p:grpSpPr>
          <a:xfrm>
            <a:off x="1976400" y="5388120"/>
            <a:ext cx="1155600" cy="572760"/>
            <a:chOff x="1976400" y="5388120"/>
            <a:chExt cx="1155600" cy="572760"/>
          </a:xfrm>
        </p:grpSpPr>
        <p:graphicFrame>
          <p:nvGraphicFramePr>
            <p:cNvPr id="2900" name="Object 9"/>
            <p:cNvGraphicFramePr/>
            <p:nvPr/>
          </p:nvGraphicFramePr>
          <p:xfrm>
            <a:off x="2047680" y="5454720"/>
            <a:ext cx="987480" cy="485640"/>
          </p:xfrm>
          <a:graphic>
            <a:graphicData uri="http://schemas.openxmlformats.org/presentationml/2006/ole">
              <p:oleObj r:id="rId3" spid="">
                <p:embed/>
                <p:pic>
                  <p:nvPicPr>
                    <p:cNvPr id="2901" name="Object 9" descr=""/>
                    <p:cNvPicPr/>
                    <p:nvPr/>
                  </p:nvPicPr>
                  <p:blipFill>
                    <a:blip r:embed="rId4"/>
                    <a:stretch/>
                  </p:blipFill>
                  <p:spPr>
                    <a:xfrm>
                      <a:off x="2047680" y="5454720"/>
                      <a:ext cx="987480" cy="485640"/>
                    </a:xfrm>
                    <a:prstGeom prst="rect">
                      <a:avLst/>
                    </a:prstGeom>
                    <a:ln w="0">
                      <a:noFill/>
                    </a:ln>
                  </p:spPr>
                </p:pic>
              </p:oleObj>
            </a:graphicData>
          </a:graphic>
        </p:graphicFrame>
        <p:sp>
          <p:nvSpPr>
            <p:cNvPr id="2902" name="Rectangle 10"/>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03" name="Rectangle 11"/>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Arial"/>
            </a:endParaRPr>
          </a:p>
        </p:txBody>
      </p:sp>
      <p:sp>
        <p:nvSpPr>
          <p:cNvPr id="2904" name="Rectangle 12"/>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p:txBody>
      </p:sp>
      <p:graphicFrame>
        <p:nvGraphicFramePr>
          <p:cNvPr id="2905" name="Object 13"/>
          <p:cNvGraphicFramePr/>
          <p:nvPr/>
        </p:nvGraphicFramePr>
        <p:xfrm>
          <a:off x="1900080" y="1749600"/>
          <a:ext cx="1357560" cy="485640"/>
        </p:xfrm>
        <a:graphic>
          <a:graphicData uri="http://schemas.openxmlformats.org/presentationml/2006/ole">
            <p:oleObj r:id="rId5" spid="">
              <p:embed/>
              <p:pic>
                <p:nvPicPr>
                  <p:cNvPr id="2906" name="Object 13"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907" name="Object 14"/>
          <p:cNvGraphicFramePr/>
          <p:nvPr/>
        </p:nvGraphicFramePr>
        <p:xfrm>
          <a:off x="1857240" y="2373480"/>
          <a:ext cx="3942000" cy="485640"/>
        </p:xfrm>
        <a:graphic>
          <a:graphicData uri="http://schemas.openxmlformats.org/presentationml/2006/ole">
            <p:oleObj r:id="rId7" spid="">
              <p:embed/>
              <p:pic>
                <p:nvPicPr>
                  <p:cNvPr id="2908" name="Object 14" descr=""/>
                  <p:cNvPicPr/>
                  <p:nvPr/>
                </p:nvPicPr>
                <p:blipFill>
                  <a:blip r:embed="rId8"/>
                  <a:stretch/>
                </p:blipFill>
                <p:spPr>
                  <a:xfrm>
                    <a:off x="1857240" y="2373480"/>
                    <a:ext cx="3942000" cy="485640"/>
                  </a:xfrm>
                  <a:prstGeom prst="rect">
                    <a:avLst/>
                  </a:prstGeom>
                  <a:ln w="0">
                    <a:noFill/>
                  </a:ln>
                </p:spPr>
              </p:pic>
            </p:oleObj>
          </a:graphicData>
        </a:graphic>
      </p:graphicFrame>
      <p:sp>
        <p:nvSpPr>
          <p:cNvPr id="2909" name="Rectangle 15"/>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Arial"/>
            </a:endParaRPr>
          </a:p>
        </p:txBody>
      </p:sp>
      <p:grpSp>
        <p:nvGrpSpPr>
          <p:cNvPr id="2910" name="Group 16"/>
          <p:cNvGrpSpPr/>
          <p:nvPr/>
        </p:nvGrpSpPr>
        <p:grpSpPr>
          <a:xfrm>
            <a:off x="6681960" y="157320"/>
            <a:ext cx="2462040" cy="2481120"/>
            <a:chOff x="6681960" y="157320"/>
            <a:chExt cx="2462040" cy="2481120"/>
          </a:xfrm>
        </p:grpSpPr>
        <p:grpSp>
          <p:nvGrpSpPr>
            <p:cNvPr id="2911" name="Group 17"/>
            <p:cNvGrpSpPr/>
            <p:nvPr/>
          </p:nvGrpSpPr>
          <p:grpSpPr>
            <a:xfrm>
              <a:off x="7372440" y="1816200"/>
              <a:ext cx="1088640" cy="796680"/>
              <a:chOff x="7372440" y="1816200"/>
              <a:chExt cx="1088640" cy="796680"/>
            </a:xfrm>
          </p:grpSpPr>
          <p:sp>
            <p:nvSpPr>
              <p:cNvPr id="2912" name="Line 18"/>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3" name="Line 19"/>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4" name="Line 20"/>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5" name="Line 21"/>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6" name="Freeform 22"/>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17" name="Line 23"/>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8" name="Line 24"/>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9" name="Line 25"/>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0" name="Line 26"/>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21" name="Line 27"/>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2" name="Line 28"/>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3" name="Line 29"/>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4" name="Line 30"/>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5" name="Line 31"/>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6" name="Line 32"/>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7" name="Line 33"/>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8" name="Line 34"/>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9" name="Line 35"/>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30" name="Line 36"/>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1" name="Line 37"/>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2" name="Line 38"/>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3" name="Line 39"/>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4" name="Line 40"/>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5" name="Line 41"/>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6" name="Line 42"/>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43"/>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8" name="Line 44"/>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9" name="Line 45"/>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Freeform 46"/>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1" name="Line 47"/>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2" name="Freeform 48"/>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3" name="Line 49"/>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50"/>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5" name="Line 51"/>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52"/>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7" name="Line 53"/>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8" name="Line 54"/>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9" name="Line 55"/>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0" name="Line 56"/>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1" name="Freeform 57"/>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2" name="Line 58"/>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3" name="Freeform 59"/>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4" name="Line 60"/>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5" name="Line 61"/>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6" name="Line 62"/>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57" name="Line 63"/>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8" name="Line 64"/>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9" name="Line 65"/>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0" name="Line 66"/>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1" name="Line 67"/>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2" name="Line 68"/>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3" name="Line 69"/>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4" name="Line 70"/>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5" name="Line 71"/>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6" name="Line 72"/>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7" name="Line 73"/>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68" name="Line 74"/>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9" name="Line 75"/>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0" name="Line 76"/>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1" name="Line 77"/>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2" name="Line 78"/>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3" name="Line 79"/>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74" name="Line 80"/>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5" name="Line 81"/>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6" name="Line 82"/>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7" name="Freeform 83"/>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78" name="Line 84"/>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9" name="Line 85"/>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0" name="Line 86"/>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1" name="Line 87"/>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88"/>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3" name="Line 89"/>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4" name="Line 90"/>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985" name="Freeform 91"/>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6" name="Line 92"/>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7" name="Freeform 93"/>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88" name="Line 94"/>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9" name="Freeform 95"/>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0" name="Line 96"/>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1" name="Freeform 97"/>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2" name="Line 98"/>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3" name="Freeform 99"/>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4" name="Line 100"/>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95" name="Line 101"/>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6" name="Line 102"/>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7" name="Line 103"/>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104"/>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9" name="Line 105"/>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0" name="Freeform 106"/>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1" name="Line 107"/>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2" name="Freeform 108"/>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109"/>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4" name="Freeform 110"/>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5" name="Line 111"/>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6" name="Freeform 112"/>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7" name="Line 113"/>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8" name="Freeform 114"/>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9" name="Line 115"/>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0" name="Line 116"/>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1" name="Freeform 117"/>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2" name="Line 118"/>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3" name="Line 119"/>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4" name="Line 120"/>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15" name="Line 121"/>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6" name="Freeform 122"/>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7" name="Line 123"/>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8" name="Line 124"/>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9" name="Line 125"/>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0" name="Line 126"/>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1" name="Line 127"/>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2" name="Line 128"/>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23" name="Line 129"/>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4" name="Line 130"/>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5" name="Line 131"/>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6" name="Line 132"/>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27" name="Line 133"/>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8" name="Line 134"/>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9" name="Line 135"/>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30" name="Line 136"/>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1" name="Line 137"/>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2" name="Line 138"/>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3" name="Line 139"/>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4" name="Line 140"/>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5" name="Line 141"/>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6" name="Line 142"/>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143"/>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8" name="Line 144"/>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9" name="Line 145"/>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40" name="Freeform 146"/>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41" name="Line 147"/>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Freeform 148"/>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43" name="Line 149"/>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4" name="Line 150"/>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1"/>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52"/>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53"/>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54"/>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Line 155"/>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0" name="Line 156"/>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1" name="Freeform 157"/>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2" name="Line 158"/>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3" name="Freeform 159"/>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54" name="Line 160"/>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1"/>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6" name="Line 162"/>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7" name="Line 163"/>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8" name="Line 164"/>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9" name="Line 165"/>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0" name="Line 166"/>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1" name="Line 167"/>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2" name="Line 168"/>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3" name="Line 169"/>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4" name="Line 170"/>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5" name="Line 171"/>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6" name="Line 172"/>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7" name="Line 173"/>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8" name="Line 174"/>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69" name="Line 175"/>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0" name="Line 176"/>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1" name="Line 177"/>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72" name="Line 178"/>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3" name="Line 179"/>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4" name="Line 180"/>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5" name="Line 181"/>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6" name="Line 182"/>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7" name="Freeform 183"/>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78" name="Line 184"/>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9" name="Line 185"/>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80" name="Line 186"/>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1" name="Line 187"/>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2" name="Freeform 188"/>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83" name="Line 189"/>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4" name="Line 190"/>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5" name="Freeform 191"/>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86" name="Line 192"/>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7" name="Freeform 193"/>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88" name="Line 194"/>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9" name="Freeform 195"/>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0" name="Line 196"/>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1" name="Freeform 197"/>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2" name="Line 198"/>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3" name="Freeform 199"/>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4" name="Line 200"/>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5" name="Freeform 201"/>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96" name="Line 202"/>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7" name="Line 203"/>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8" name="Line 204"/>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9" name="Line 205"/>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0" name="Freeform 206"/>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1" name="Line 207"/>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2" name="Freeform 208"/>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3" name="Line 209"/>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4" name="Freeform 210"/>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5" name="Line 211"/>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6" name="Freeform 212"/>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07" name="Line 213"/>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8" name="Freeform 214"/>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9" name="Line 215"/>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0" name="Line 216"/>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1" name="Freeform 217"/>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2" name="Line 218"/>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3" name="Line 219"/>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4" name="Line 220"/>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5" name="Line 221"/>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6" name="Freeform 222"/>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7" name="Line 223"/>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8" name="Line 224"/>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9" name="Line 225"/>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0" name="Line 226"/>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21" name="Line 227"/>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2" name="Line 228"/>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3" name="Line 229"/>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4" name="Line 230"/>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5" name="Line 231"/>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6" name="Line 232"/>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7" name="Line 233"/>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8" name="Line 234"/>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9" name="Line 235"/>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30" name="Line 236"/>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1" name="Line 237"/>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32" name="Line 238"/>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3" name="Line 239"/>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4" name="Line 240"/>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5" name="Line 241"/>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6" name="Line 242"/>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7" name="Line 243"/>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8" name="Line 244"/>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9" name="Line 245"/>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0" name="Freeform 246"/>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1" name="Line 247"/>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2" name="Freeform 248"/>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3" name="Line 249"/>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4" name="Line 250"/>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5" name="Line 251"/>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6" name="Line 252"/>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7" name="Line 253"/>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8" name="Line 254"/>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9" name="Line 255"/>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0" name="Line 256"/>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1" name="Freeform 257"/>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2" name="Line 258"/>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3" name="Freeform 259"/>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4" name="Line 260"/>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5" name="Line 261"/>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6" name="Line 262"/>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57" name="Line 263"/>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8" name="Line 264"/>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9" name="Line 265"/>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0" name="Line 266"/>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1" name="Line 267"/>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2" name="Line 268"/>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63" name="Line 269"/>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4" name="Line 270"/>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5" name="Line 271"/>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6" name="Line 272"/>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7" name="Line 273"/>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68" name="Line 274"/>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9" name="Line 275"/>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0" name="Line 276"/>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1" name="Line 277"/>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2" name="Line 278"/>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3" name="Line 279"/>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74" name="Line 280"/>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5" name="Line 281"/>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6" name="Line 282"/>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7" name="Freeform 283"/>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78" name="Line 284"/>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9" name="Line 285"/>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0" name="Line 286"/>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1" name="Line 287"/>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288"/>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3" name="Line 289"/>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4" name="Line 290"/>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5" name="Freeform 291"/>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6" name="Line 292"/>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7" name="Freeform 293"/>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188" name="Group 294"/>
            <p:cNvGrpSpPr/>
            <p:nvPr/>
          </p:nvGrpSpPr>
          <p:grpSpPr>
            <a:xfrm>
              <a:off x="6681960" y="157320"/>
              <a:ext cx="2462040" cy="2481120"/>
              <a:chOff x="6681960" y="157320"/>
              <a:chExt cx="2462040" cy="2481120"/>
            </a:xfrm>
          </p:grpSpPr>
          <p:grpSp>
            <p:nvGrpSpPr>
              <p:cNvPr id="3189" name="Group 295"/>
              <p:cNvGrpSpPr/>
              <p:nvPr/>
            </p:nvGrpSpPr>
            <p:grpSpPr>
              <a:xfrm>
                <a:off x="6960240" y="157320"/>
                <a:ext cx="1956600" cy="2481120"/>
                <a:chOff x="6960240" y="157320"/>
                <a:chExt cx="1956600" cy="2481120"/>
              </a:xfrm>
            </p:grpSpPr>
            <p:sp>
              <p:nvSpPr>
                <p:cNvPr id="3190" name="Line 296"/>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1" name="Line 297"/>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2" name="Line 298"/>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3" name="Line 299"/>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4" name="Text Box 300"/>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195" name="Text Box 301"/>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196" name="Text Box 302"/>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197" name="Text Box 303"/>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198" name="Text Box 304"/>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199" name="Rectangle 305"/>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200" name="Rectangle 306"/>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1" name="Rectangle 307"/>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2" name="Rectangle 308"/>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3" name="Rectangle 309"/>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4" name="Rectangle 310"/>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205" name="Line 311"/>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06" name="Line 312"/>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208"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Arial"/>
            </a:endParaRPr>
          </a:p>
        </p:txBody>
      </p:sp>
      <p:grpSp>
        <p:nvGrpSpPr>
          <p:cNvPr id="3209" name="Group 4"/>
          <p:cNvGrpSpPr/>
          <p:nvPr/>
        </p:nvGrpSpPr>
        <p:grpSpPr>
          <a:xfrm>
            <a:off x="858960" y="2743200"/>
            <a:ext cx="2608200" cy="745920"/>
            <a:chOff x="858960" y="2743200"/>
            <a:chExt cx="2608200" cy="745920"/>
          </a:xfrm>
        </p:grpSpPr>
        <p:graphicFrame>
          <p:nvGraphicFramePr>
            <p:cNvPr id="3210" name="Object 5"/>
            <p:cNvGraphicFramePr/>
            <p:nvPr/>
          </p:nvGraphicFramePr>
          <p:xfrm>
            <a:off x="903600" y="2743200"/>
            <a:ext cx="2563560" cy="734760"/>
          </p:xfrm>
          <a:graphic>
            <a:graphicData uri="http://schemas.openxmlformats.org/presentationml/2006/ole">
              <p:oleObj r:id="rId1" spid="">
                <p:embed/>
                <p:pic>
                  <p:nvPicPr>
                    <p:cNvPr id="3211"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212"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3213" name="Object 7"/>
          <p:cNvGraphicFramePr/>
          <p:nvPr/>
        </p:nvGraphicFramePr>
        <p:xfrm>
          <a:off x="3825720" y="2827440"/>
          <a:ext cx="3340080" cy="598320"/>
        </p:xfrm>
        <a:graphic>
          <a:graphicData uri="http://schemas.openxmlformats.org/presentationml/2006/ole">
            <p:oleObj r:id="rId3" spid="">
              <p:embed/>
              <p:pic>
                <p:nvPicPr>
                  <p:cNvPr id="3214"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215"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16"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Arial"/>
            </a:endParaRPr>
          </a:p>
        </p:txBody>
      </p:sp>
      <p:sp>
        <p:nvSpPr>
          <p:cNvPr id="3217"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Arial"/>
            </a:endParaRPr>
          </a:p>
        </p:txBody>
      </p:sp>
      <p:grpSp>
        <p:nvGrpSpPr>
          <p:cNvPr id="3218" name="Group 11"/>
          <p:cNvGrpSpPr/>
          <p:nvPr/>
        </p:nvGrpSpPr>
        <p:grpSpPr>
          <a:xfrm>
            <a:off x="4052880" y="5724360"/>
            <a:ext cx="1158480" cy="457200"/>
            <a:chOff x="4052880" y="5724360"/>
            <a:chExt cx="1158480" cy="457200"/>
          </a:xfrm>
        </p:grpSpPr>
        <p:sp>
          <p:nvSpPr>
            <p:cNvPr id="3219"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20"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221" name="Group 14"/>
          <p:cNvGrpSpPr/>
          <p:nvPr/>
        </p:nvGrpSpPr>
        <p:grpSpPr>
          <a:xfrm>
            <a:off x="542880" y="4414680"/>
            <a:ext cx="3584520" cy="2253600"/>
            <a:chOff x="542880" y="4414680"/>
            <a:chExt cx="3584520" cy="2253600"/>
          </a:xfrm>
        </p:grpSpPr>
        <p:grpSp>
          <p:nvGrpSpPr>
            <p:cNvPr id="3222" name="Group 15"/>
            <p:cNvGrpSpPr/>
            <p:nvPr/>
          </p:nvGrpSpPr>
          <p:grpSpPr>
            <a:xfrm>
              <a:off x="542880" y="4862520"/>
              <a:ext cx="1817280" cy="1725120"/>
              <a:chOff x="542880" y="4862520"/>
              <a:chExt cx="1817280" cy="1725120"/>
            </a:xfrm>
          </p:grpSpPr>
          <p:sp>
            <p:nvSpPr>
              <p:cNvPr id="3223"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4"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5"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6"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7"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8"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9"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0"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1"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2"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3"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4"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5"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6"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7"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8"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239"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Arial"/>
              </a:endParaRPr>
            </a:p>
          </p:txBody>
        </p:sp>
        <p:sp>
          <p:nvSpPr>
            <p:cNvPr id="3240"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41" name="Group 34"/>
          <p:cNvGrpSpPr/>
          <p:nvPr/>
        </p:nvGrpSpPr>
        <p:grpSpPr>
          <a:xfrm>
            <a:off x="6681960" y="157320"/>
            <a:ext cx="2462040" cy="2481120"/>
            <a:chOff x="6681960" y="157320"/>
            <a:chExt cx="2462040" cy="2481120"/>
          </a:xfrm>
        </p:grpSpPr>
        <p:grpSp>
          <p:nvGrpSpPr>
            <p:cNvPr id="3242" name="Group 35"/>
            <p:cNvGrpSpPr/>
            <p:nvPr/>
          </p:nvGrpSpPr>
          <p:grpSpPr>
            <a:xfrm>
              <a:off x="7372440" y="1816200"/>
              <a:ext cx="1088640" cy="796680"/>
              <a:chOff x="7372440" y="1816200"/>
              <a:chExt cx="1088640" cy="796680"/>
            </a:xfrm>
          </p:grpSpPr>
          <p:sp>
            <p:nvSpPr>
              <p:cNvPr id="3243"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4"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5"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6"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7"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48"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9"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0"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1"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52"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3"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4"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5"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56"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7"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8"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59"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0"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61"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2"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63"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4"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5"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6"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7"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8"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9"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0"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1"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2"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3"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4"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5"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6"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7"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8"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9"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0"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1"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2"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3"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4"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5"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6"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7"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88"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9"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0"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1"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2"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3"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4"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5"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96"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7"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8"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99"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0"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01"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2"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3"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4"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05"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6"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7"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8"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09"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1"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2"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3"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4"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5"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16"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7"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8"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9"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0"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2"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3"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4"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5"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26"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7"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8"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9"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0"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1"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2"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3"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4"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5"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6"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7"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8"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9"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40"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1"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2"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3"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4"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5"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46"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7"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8"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9"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0"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1"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2"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3"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54"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5"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6"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7"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8"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59"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0"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1"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2"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3"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5"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6"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7"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8"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9"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0"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1"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72"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3"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4"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5"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7"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8"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9"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0"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1"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2"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3"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4"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85"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6"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7"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8"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9"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0"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1"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2"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3"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4"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5"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6"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7"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98"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9"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0"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1"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2"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403"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4"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5"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6"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7"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8"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9"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1"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2"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3"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14"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5"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6"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8"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9"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0"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1"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2"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3"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4"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5"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7"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8"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9"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1"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2"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3"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4"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5"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7"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8"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9"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0"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41"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2"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3"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4"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5"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6"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7"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8"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9"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0"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1"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2"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3"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4"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5"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6"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7"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8"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59"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0"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61"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2"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3"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4"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5"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6"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7"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8"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9"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0"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1"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2"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3"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4"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5"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6"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7"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8"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9"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2"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3"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5"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6"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7"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9"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0"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1"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2"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3"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94"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5"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6"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7"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8"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99"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0"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01"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2"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3"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4"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05"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6"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7"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8"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09"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0"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1"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2"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3"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4"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5"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16"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7"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8"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519" name="Group 312"/>
            <p:cNvGrpSpPr/>
            <p:nvPr/>
          </p:nvGrpSpPr>
          <p:grpSpPr>
            <a:xfrm>
              <a:off x="6681960" y="157320"/>
              <a:ext cx="2462040" cy="2481120"/>
              <a:chOff x="6681960" y="157320"/>
              <a:chExt cx="2462040" cy="2481120"/>
            </a:xfrm>
          </p:grpSpPr>
          <p:grpSp>
            <p:nvGrpSpPr>
              <p:cNvPr id="3520" name="Group 313"/>
              <p:cNvGrpSpPr/>
              <p:nvPr/>
            </p:nvGrpSpPr>
            <p:grpSpPr>
              <a:xfrm>
                <a:off x="6960240" y="157320"/>
                <a:ext cx="1956600" cy="2481120"/>
                <a:chOff x="6960240" y="157320"/>
                <a:chExt cx="1956600" cy="2481120"/>
              </a:xfrm>
            </p:grpSpPr>
            <p:sp>
              <p:nvSpPr>
                <p:cNvPr id="3521"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2"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3"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4"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526"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527"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528"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29"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530"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531"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2"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3"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4"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5"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536"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37"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3538" name="Object 331"/>
          <p:cNvGraphicFramePr/>
          <p:nvPr/>
        </p:nvGraphicFramePr>
        <p:xfrm>
          <a:off x="1441440" y="1305000"/>
          <a:ext cx="2855880" cy="1025280"/>
        </p:xfrm>
        <a:graphic>
          <a:graphicData uri="http://schemas.openxmlformats.org/presentationml/2006/ole">
            <p:oleObj r:id="rId5" spid="">
              <p:embed/>
              <p:pic>
                <p:nvPicPr>
                  <p:cNvPr id="3539"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540" name="Object 40"/>
          <p:cNvGraphicFramePr/>
          <p:nvPr/>
        </p:nvGraphicFramePr>
        <p:xfrm>
          <a:off x="5533920" y="5454720"/>
          <a:ext cx="3254400" cy="1003320"/>
        </p:xfrm>
        <a:graphic>
          <a:graphicData uri="http://schemas.openxmlformats.org/presentationml/2006/ole">
            <p:oleObj r:id="rId7" spid="">
              <p:embed/>
              <p:pic>
                <p:nvPicPr>
                  <p:cNvPr id="3541"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542"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43"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4" name="Rectangle 10"/>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Arial"/>
            </a:endParaRPr>
          </a:p>
        </p:txBody>
      </p:sp>
      <p:sp>
        <p:nvSpPr>
          <p:cNvPr id="3545" name="Rectangle 11"/>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85"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86"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8"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http://www.falstad.com/qm1d/</a:t>
            </a:r>
            <a:endParaRPr b="0" lang="en-US" sz="1800" spc="-1" strike="noStrike">
              <a:solidFill>
                <a:srgbClr val="00ffcc"/>
              </a:solidFill>
              <a:latin typeface="Arial"/>
            </a:endParaRPr>
          </a:p>
        </p:txBody>
      </p:sp>
      <p:grpSp>
        <p:nvGrpSpPr>
          <p:cNvPr id="89" name="Group 29"/>
          <p:cNvGrpSpPr/>
          <p:nvPr/>
        </p:nvGrpSpPr>
        <p:grpSpPr>
          <a:xfrm>
            <a:off x="5318640" y="1401840"/>
            <a:ext cx="3404160" cy="2506320"/>
            <a:chOff x="5318640" y="1401840"/>
            <a:chExt cx="3404160" cy="2506320"/>
          </a:xfrm>
        </p:grpSpPr>
        <p:grpSp>
          <p:nvGrpSpPr>
            <p:cNvPr id="90" name="Group 30"/>
            <p:cNvGrpSpPr/>
            <p:nvPr/>
          </p:nvGrpSpPr>
          <p:grpSpPr>
            <a:xfrm>
              <a:off x="5976720" y="2549520"/>
              <a:ext cx="1347840" cy="602640"/>
              <a:chOff x="5976720" y="2549520"/>
              <a:chExt cx="1347840" cy="602640"/>
            </a:xfrm>
          </p:grpSpPr>
          <p:sp>
            <p:nvSpPr>
              <p:cNvPr id="91" name="Line 31"/>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 name="Line 32"/>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 name="Line 33"/>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 name="Line 34"/>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 name="Line 35"/>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 name="Line 36"/>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 name="Line 37"/>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8" name="Line 38"/>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 name="Line 39"/>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 name="Line 40"/>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 name="Line 41"/>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 name="Line 42"/>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 name="Line 43"/>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4" name="Line 44"/>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 name="Line 45"/>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 name="Line 46"/>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 name="Line 47"/>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 name="Line 48"/>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9" name="Line 49"/>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 name="Line 50"/>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1" name="Line 51"/>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 name="Line 52"/>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 name="Line 53"/>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4" name="Line 54"/>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 name="Line 55"/>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 name="Line 56"/>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 name="Line 57"/>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 name="Line 58"/>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 name="Line 59"/>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 name="Line 60"/>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 name="Line 61"/>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 name="Line 62"/>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 name="Line 63"/>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 name="Line 64"/>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 name="Line 65"/>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 name="Line 66"/>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 name="Line 67"/>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8" name="Line 68"/>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 name="Line 69"/>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 name="Line 70"/>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 name="Line 71"/>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 name="Line 72"/>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 name="Line 73"/>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 name="Line 74"/>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5" name="Line 75"/>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 name="Line 76"/>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 name="Line 77"/>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 name="Line 78"/>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 name="Line 79"/>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 name="Line 80"/>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 name="Line 81"/>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 name="Line 82"/>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3" name="Line 83"/>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 name="Line 84"/>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 name="Line 85"/>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 name="Line 86"/>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7" name="Line 87"/>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 name="Line 88"/>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 name="Line 89"/>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 name="Line 90"/>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 name="Line 91"/>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2" name="Line 92"/>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 name="Line 93"/>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 name="Line 94"/>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 name="Line 95"/>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 name="Line 96"/>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 name="Line 97"/>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 name="Line 98"/>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 name="Line 99"/>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0" name="Line 100"/>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 name="Line 101"/>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2" name="Line 102"/>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3" name="Line 103"/>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4" name="Line 104"/>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 name="Freeform 105"/>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 name="Line 106"/>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7" name="Line 107"/>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 name="Line 108"/>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 name="Line 109"/>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 name="Freeform 110"/>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 name="Line 111"/>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2" name="Freeform 112"/>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 name="Line 113"/>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4" name="Freeform 114"/>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 name="Line 115"/>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6" name="Line 116"/>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7" name="Line 117"/>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8" name="Line 118"/>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9" name="Freeform 119"/>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0" name="Line 120"/>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1" name="Freeform 121"/>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2" name="Line 122"/>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3" name="Line 123"/>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4" name="Freeform 124"/>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5" name="Line 125"/>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6" name="Freeform 126"/>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7" name="Line 127"/>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8" name="Freeform 128"/>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9" name="Line 129"/>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0" name="Freeform 130"/>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 name="Line 131"/>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2" name="Line 132"/>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3" name="Freeform 133"/>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4" name="Line 134"/>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5" name="Freeform 135"/>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6" name="Line 136"/>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7" name="Line 137"/>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8" name="Freeform 138"/>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9" name="Line 139"/>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0" name="Line 140"/>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1" name="Freeform 141"/>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2" name="Line 142"/>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3" name="Line 143"/>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4" name="Freeform 144"/>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5" name="Line 145"/>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 name="Line 146"/>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 name="Freeform 147"/>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8" name="Line 148"/>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 name="Line 149"/>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 name="Freeform 150"/>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11" name="Line 151"/>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 name="Line 152"/>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 name="Line 153"/>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 name="Freeform 154"/>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15" name="Line 155"/>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6" name="Line 156"/>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7" name="Line 157"/>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8" name="Line 158"/>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9" name="Freeform 159"/>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20" name="Line 160"/>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1" name="Line 161"/>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2" name="Line 162"/>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3" name="Line 163"/>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4" name="Line 164"/>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5" name="Freeform 165"/>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166"/>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 name="Line 167"/>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 name="Line 168"/>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 name="Line 169"/>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 name="Line 170"/>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 name="Line 171"/>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 name="Line 172"/>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 name="Line 173"/>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4" name="Line 174"/>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5" name="Line 175"/>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6" name="Line 176"/>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7" name="Line 177"/>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8" name="Line 178"/>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9" name="Line 179"/>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0" name="Line 180"/>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1" name="Line 181"/>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2" name="Line 182"/>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 name="Line 183"/>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4" name="Line 184"/>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5" name="Line 185"/>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6" name="Line 186"/>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 name="Line 187"/>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8" name="Line 188"/>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9" name="Line 189"/>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0" name="Line 190"/>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1" name="Line 191"/>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2" name="Line 192"/>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 name="Line 193"/>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 name="Line 194"/>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195"/>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6" name="Freeform 196"/>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 name="Line 197"/>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8" name="Line 198"/>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9" name="Line 199"/>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0" name="Line 200"/>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1" name="Line 201"/>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2" name="Freeform 202"/>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3" name="Line 203"/>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4" name="Line 204"/>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5" name="Line 205"/>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6" name="Line 206"/>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7" name="Freeform 207"/>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8" name="Line 208"/>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 name="Line 209"/>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0" name="Line 210"/>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1" name="Freeform 211"/>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2" name="Line 212"/>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 name="Line 213"/>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 name="Freeform 214"/>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5" name="Line 215"/>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6" name="Line 216"/>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Freeform 217"/>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8" name="Line 218"/>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9" name="Line 219"/>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0" name="Freeform 220"/>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1" name="Line 221"/>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2" name="Line 222"/>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3" name="Freeform 223"/>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4" name="Line 224"/>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5" name="Line 225"/>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6" name="Freeform 226"/>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7" name="Line 227"/>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8" name="Freeform 228"/>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 name="Line 229"/>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0" name="Line 230"/>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291" name="Group 231"/>
            <p:cNvGrpSpPr/>
            <p:nvPr/>
          </p:nvGrpSpPr>
          <p:grpSpPr>
            <a:xfrm>
              <a:off x="5976720" y="2549520"/>
              <a:ext cx="2021040" cy="608040"/>
              <a:chOff x="5976720" y="2549520"/>
              <a:chExt cx="2021040" cy="608040"/>
            </a:xfrm>
          </p:grpSpPr>
          <p:sp>
            <p:nvSpPr>
              <p:cNvPr id="292" name="Freeform 232"/>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 name="Line 233"/>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 name="Freeform 234"/>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 name="Line 235"/>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 name="Freeform 236"/>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 name="Line 237"/>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 name="Freeform 238"/>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 name="Line 239"/>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 name="Line 240"/>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 name="Freeform 241"/>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 name="Line 242"/>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3" name="Freeform 243"/>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 name="Line 244"/>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 name="Line 245"/>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6" name="Line 246"/>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7" name="Line 247"/>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 name="Freeform 248"/>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 name="Line 249"/>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Freeform 250"/>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 name="Line 251"/>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2" name="Freeform 252"/>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53"/>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 name="Line 254"/>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 name="Line 255"/>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 name="Line 256"/>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 name="Freeform 257"/>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 name="Line 258"/>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 name="Line 259"/>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 name="Line 260"/>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1" name="Line 261"/>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2" name="Line 262"/>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3" name="Line 263"/>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4" name="Line 264"/>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5" name="Line 265"/>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6" name="Line 266"/>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7" name="Line 267"/>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268"/>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9" name="Line 269"/>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0" name="Line 270"/>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1" name="Line 271"/>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2" name="Line 272"/>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3" name="Line 273"/>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4" name="Line 274"/>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 name="Line 275"/>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6" name="Line 276"/>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 name="Line 277"/>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 name="Line 278"/>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 name="Line 279"/>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0" name="Line 280"/>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 name="Line 281"/>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 name="Line 282"/>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 name="Line 283"/>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4" name="Line 284"/>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 name="Line 285"/>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86"/>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 name="Line 287"/>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 name="Line 288"/>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 name="Line 289"/>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 name="Line 290"/>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 name="Line 291"/>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 name="Line 292"/>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3" name="Line 293"/>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 name="Line 294"/>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 name="Line 295"/>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296"/>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7" name="Line 297"/>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 name="Line 298"/>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 name="Line 299"/>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 name="Line 300"/>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 name="Line 301"/>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 name="Line 302"/>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 name="Line 303"/>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4" name="Line 304"/>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 name="Line 305"/>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 name="Line 306"/>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 name="Line 307"/>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 name="Line 308"/>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 name="Line 309"/>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0" name="Line 310"/>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 name="Line 311"/>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 name="Line 312"/>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 name="Line 313"/>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 name="Line 314"/>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5" name="Line 315"/>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 name="Line 316"/>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 name="Line 317"/>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 name="Line 318"/>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 name="Line 319"/>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 name="Line 320"/>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 name="Line 321"/>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 name="Line 322"/>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3" name="Line 323"/>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4" name="Line 324"/>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 name="Line 325"/>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6" name="Line 326"/>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7" name="Line 327"/>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8" name="Line 328"/>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9" name="Line 329"/>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330"/>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1" name="Line 331"/>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 name="Line 332"/>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Freeform 333"/>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 name="Line 334"/>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 name="Freeform 335"/>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6" name="Line 336"/>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7" name="Freeform 337"/>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98" name="Line 338"/>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Freeform 339"/>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 name="Line 340"/>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 name="Freeform 341"/>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 name="Line 342"/>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3" name="Line 343"/>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4" name="Freeform 344"/>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5" name="Line 345"/>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06" name="Line 346"/>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7" name="Freeform 347"/>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8" name="Line 348"/>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9" name="Line 349"/>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0" name="Line 350"/>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 name="Line 351"/>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2" name="Line 352"/>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13" name="Line 353"/>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4" name="Line 354"/>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 name="Line 355"/>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6" name="Line 356"/>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 name="Line 357"/>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8" name="Line 358"/>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Line 359"/>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60"/>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1" name="Line 361"/>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2" name="Line 362"/>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3" name="Line 363"/>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4" name="Line 364"/>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5" name="Line 365"/>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6" name="Line 366"/>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 name="Line 367"/>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8" name="Line 368"/>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9" name="Line 369"/>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0" name="Line 370"/>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1" name="Line 371"/>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2" name="Line 372"/>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 name="Line 373"/>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 name="Line 374"/>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 name="Line 375"/>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Freeform 376"/>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7" name="Line 377"/>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8" name="Line 378"/>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9" name="Line 379"/>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0" name="Line 380"/>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1" name="Line 381"/>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 name="Line 382"/>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3" name="Line 383"/>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4" name="Line 384"/>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5" name="Line 385"/>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 name="Line 386"/>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7" name="Freeform 387"/>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48" name="Line 388"/>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9" name="Line 389"/>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0" name="Line 390"/>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1" name="Line 391"/>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 name="Line 392"/>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3" name="Line 393"/>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4" name="Line 394"/>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 name="Line 395"/>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6" name="Line 396"/>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7" name="Line 397"/>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8" name="Line 398"/>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9" name="Line 399"/>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0" name="Line 400"/>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1" name="Line 401"/>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2" name="Line 402"/>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3" name="Line 403"/>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64" name="Line 404"/>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 name="Line 405"/>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 name="Line 406"/>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407"/>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 name="Line 408"/>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9" name="Line 409"/>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0" name="Line 410"/>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1" name="Line 411"/>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2" name="Line 412"/>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 name="Line 413"/>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4" name="Line 414"/>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5" name="Line 415"/>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 name="Freeform 416"/>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7" name="Line 417"/>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 name="Line 418"/>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9" name="Freeform 419"/>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 name="Line 420"/>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1" name="Line 421"/>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2" name="Freeform 422"/>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 name="Line 423"/>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4" name="Freeform 424"/>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 name="Line 425"/>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6" name="Freeform 426"/>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87" name="Line 427"/>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8" name="Freeform 428"/>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9" name="Line 429"/>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0" name="Line 430"/>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1" name="Line 431"/>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492" name="Group 432"/>
            <p:cNvGrpSpPr/>
            <p:nvPr/>
          </p:nvGrpSpPr>
          <p:grpSpPr>
            <a:xfrm>
              <a:off x="6649920" y="2549520"/>
              <a:ext cx="1347840" cy="1217160"/>
              <a:chOff x="6649920" y="2549520"/>
              <a:chExt cx="1347840" cy="1217160"/>
            </a:xfrm>
          </p:grpSpPr>
          <p:sp>
            <p:nvSpPr>
              <p:cNvPr id="493" name="Line 433"/>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4" name="Freeform 434"/>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5" name="Line 435"/>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6" name="Freeform 436"/>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7" name="Line 437"/>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98" name="Freeform 438"/>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499" name="Line 439"/>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0" name="Freeform 440"/>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01" name="Line 441"/>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2" name="Freeform 442"/>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3" name="Line 443"/>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04" name="Line 444"/>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5" name="Freeform 445"/>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6" name="Line 446"/>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07" name="Line 447"/>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8" name="Freeform 448"/>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9" name="Line 449"/>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0" name="Line 450"/>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1" name="Line 451"/>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2" name="Line 452"/>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3" name="Line 453"/>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4" name="Line 454"/>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5" name="Line 455"/>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6" name="Line 456"/>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7" name="Line 457"/>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8" name="Line 458"/>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9" name="Line 459"/>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0" name="Line 460"/>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21" name="Line 461"/>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2" name="Line 462"/>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463"/>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4" name="Line 464"/>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25" name="Line 465"/>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6" name="Line 466"/>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7" name="Line 467"/>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8" name="Line 468"/>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9" name="Line 469"/>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0" name="Line 470"/>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 name="Line 471"/>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472"/>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3" name="Line 473"/>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4" name="Line 474"/>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475"/>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6" name="Line 476"/>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7" name="Freeform 477"/>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8" name="Line 478"/>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479"/>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Line 480"/>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1" name="Line 481"/>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Freeform 482"/>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Freeform 483"/>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484"/>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485"/>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Line 486"/>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7" name="Line 487"/>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488"/>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489"/>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490"/>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491"/>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492"/>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3" name="Line 493"/>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494"/>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5" name="Line 495"/>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6" name="Line 496"/>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7" name="Line 497"/>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498"/>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9" name="Line 499"/>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0" name="Line 500"/>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501"/>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2" name="Line 502"/>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503"/>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4" name="Line 504"/>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5" name="Line 505"/>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Line 506"/>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 name="Line 507"/>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8" name="Line 508"/>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9" name="Line 509"/>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0" name="Line 510"/>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1" name="Line 511"/>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2" name="Line 512"/>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3" name="Line 513"/>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4" name="Line 514"/>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5" name="Line 515"/>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6" name="Line 516"/>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7" name="Freeform 517"/>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78" name="Line 518"/>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519"/>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Freeform 520"/>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1" name="Line 521"/>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2" name="Line 522"/>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3" name="Freeform 523"/>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4" name="Line 524"/>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5" name="Freeform 525"/>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6" name="Line 526"/>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 name="Freeform 527"/>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8" name="Line 528"/>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9" name="Freeform 529"/>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0" name="Line 530"/>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1" name="Freeform 531"/>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2" name="Line 532"/>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3" name="Line 533"/>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4" name="Line 534"/>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5" name="Line 535"/>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6" name="Freeform 536"/>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97" name="Line 537"/>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8" name="Freeform 538"/>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9" name="Line 539"/>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0" name="Freeform 540"/>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1" name="Line 541"/>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2" name="Freeform 542"/>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03" name="Line 543"/>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4" name="Line 544"/>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5" name="Freeform 545"/>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6" name="Line 546"/>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07" name="Line 547"/>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8" name="Freeform 548"/>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9" name="Line 549"/>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0" name="Line 550"/>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1" name="Line 551"/>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2" name="Line 552"/>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3" name="Line 553"/>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14" name="Line 554"/>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5" name="Line 555"/>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6" name="Line 556"/>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7" name="Line 557"/>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8" name="Line 558"/>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9" name="Line 559"/>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0" name="Line 560"/>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1" name="Line 561"/>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2" name="Line 562"/>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3" name="Line 563"/>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564"/>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5" name="Line 565"/>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566"/>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567"/>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8" name="Line 568"/>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9" name="Line 569"/>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570"/>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571"/>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2" name="Line 572"/>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573"/>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4" name="Line 574"/>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35" name="Line 575"/>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576"/>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7" name="Freeform 577"/>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8" name="Line 578"/>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 name="Line 579"/>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 name="Line 580"/>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Line 581"/>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 name="Line 582"/>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583"/>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4" name="Line 584"/>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5" name="Line 585"/>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 name="Line 586"/>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7" name="Line 587"/>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588"/>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9" name="Line 589"/>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Line 590"/>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591"/>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2" name="Line 592"/>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Line 593"/>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594"/>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 name="Line 595"/>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6" name="Line 596"/>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597"/>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598"/>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9" name="Line 599"/>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0" name="Line 600"/>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1" name="Line 601"/>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2" name="Line 602"/>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603"/>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 name="Line 604"/>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5" name="Line 605"/>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6" name="Line 606"/>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7" name="Line 607"/>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8" name="Line 608"/>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609"/>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610"/>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611"/>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612"/>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613"/>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4" name="Line 614"/>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5" name="Line 615"/>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616"/>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Freeform 617"/>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78" name="Line 618"/>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9" name="Line 619"/>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0" name="Freeform 620"/>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1" name="Line 621"/>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2" name="Line 622"/>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3" name="Freeform 623"/>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84" name="Line 624"/>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5" name="Freeform 625"/>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6" name="Line 626"/>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7" name="Freeform 627"/>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88" name="Line 628"/>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9" name="Freeform 629"/>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90" name="Line 630"/>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91" name="Freeform 631"/>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92" name="Line 632"/>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693" name="Group 633"/>
            <p:cNvGrpSpPr/>
            <p:nvPr/>
          </p:nvGrpSpPr>
          <p:grpSpPr>
            <a:xfrm>
              <a:off x="5976720" y="2549520"/>
              <a:ext cx="1347840" cy="1135080"/>
              <a:chOff x="5976720" y="2549520"/>
              <a:chExt cx="1347840" cy="1135080"/>
            </a:xfrm>
          </p:grpSpPr>
          <p:sp>
            <p:nvSpPr>
              <p:cNvPr id="694" name="Line 634"/>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5" name="Line 635"/>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96" name="Line 636"/>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7" name="Line 637"/>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8" name="Line 638"/>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9" name="Line 639"/>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0" name="Line 640"/>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 name="Line 641"/>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2" name="Line 642"/>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03" name="Line 643"/>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4" name="Line 644"/>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5" name="Line 645"/>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6" name="Line 646"/>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7" name="Line 647"/>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8" name="Line 648"/>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9" name="Line 649"/>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0" name="Line 650"/>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1" name="Line 651"/>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2" name="Line 652"/>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3" name="Line 653"/>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14" name="Line 654"/>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5" name="Line 655"/>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6" name="Line 656"/>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7" name="Line 657"/>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8" name="Line 658"/>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9" name="Line 659"/>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0" name="Line 660"/>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1" name="Line 661"/>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2" name="Line 662"/>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23" name="Line 663"/>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4" name="Line 664"/>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5" name="Line 665"/>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6" name="Line 666"/>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7" name="Line 667"/>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 name="Line 668"/>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9" name="Line 669"/>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 name="Line 670"/>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 name="Line 671"/>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 name="Line 672"/>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3" name="Line 673"/>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 name="Line 674"/>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 name="Line 675"/>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 name="Line 676"/>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 name="Line 677"/>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8" name="Line 678"/>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9" name="Line 679"/>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0" name="Line 680"/>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1" name="Line 681"/>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2" name="Line 682"/>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3" name="Line 683"/>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4" name="Line 684"/>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685"/>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6" name="Line 686"/>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7" name="Line 687"/>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8" name="Line 688"/>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689"/>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0" name="Line 690"/>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51" name="Line 691"/>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2" name="Line 692"/>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3" name="Line 693"/>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4" name="Line 694"/>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5" name="Freeform 695"/>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6" name="Line 696"/>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Line 697"/>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8" name="Freeform 698"/>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9" name="Line 699"/>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0" name="Line 700"/>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1" name="Freeform 701"/>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62" name="Line 702"/>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3" name="Line 703"/>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4" name="Line 704"/>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5" name="Line 705"/>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6" name="Line 706"/>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7" name="Line 707"/>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8" name="Line 708"/>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9" name="Line 709"/>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0" name="Line 710"/>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1" name="Line 711"/>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2" name="Line 712"/>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3" name="Line 713"/>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4" name="Line 714"/>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5" name="Line 715"/>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6" name="Freeform 716"/>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77" name="Line 717"/>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8" name="Line 718"/>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Freeform 719"/>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0" name="Line 720"/>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1" name="Line 721"/>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Freeform 722"/>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3" name="Line 723"/>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4" name="Line 724"/>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5" name="Line 725"/>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6" name="Line 726"/>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7" name="Line 727"/>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88" name="Line 728"/>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9" name="Line 729"/>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0" name="Line 730"/>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1" name="Line 731"/>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2" name="Line 732"/>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3" name="Line 733"/>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4" name="Line 734"/>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5" name="Line 735"/>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6" name="Line 736"/>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737"/>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8" name="Line 738"/>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739"/>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0" name="Line 740"/>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1" name="Line 741"/>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2" name="Line 742"/>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3" name="Line 743"/>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4" name="Line 744"/>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5" name="Line 745"/>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06" name="Line 746"/>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7" name="Line 747"/>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8" name="Line 748"/>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9" name="Line 749"/>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0" name="Line 750"/>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1" name="Line 751"/>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2" name="Line 752"/>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3" name="Line 753"/>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4" name="Line 754"/>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5" name="Line 755"/>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16" name="Line 756"/>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7" name="Line 757"/>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8" name="Line 758"/>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9" name="Line 759"/>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0" name="Line 760"/>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1" name="Line 761"/>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2" name="Line 762"/>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3" name="Line 763"/>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4" name="Line 764"/>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25" name="Line 765"/>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6" name="Line 766"/>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7" name="Line 767"/>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8" name="Line 768"/>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9" name="Line 769"/>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0" name="Line 770"/>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1" name="Line 771"/>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2" name="Line 772"/>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3" name="Line 773"/>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4" name="Line 774"/>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5" name="Line 775"/>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Line 776"/>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7" name="Line 777"/>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38" name="Line 778"/>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9" name="Line 779"/>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0" name="Line 780"/>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1" name="Line 781"/>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2" name="Line 782"/>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3" name="Line 783"/>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Line 784"/>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5" name="Line 785"/>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846" name="Line 786"/>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7" name="Line 787"/>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8" name="Line 788"/>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9" name="Line 789"/>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0" name="Line 790"/>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1" name="Line 791"/>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2" name="Line 792"/>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3" name="Line 793"/>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54" name="Line 794"/>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5" name="Line 795"/>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796"/>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7" name="Line 797"/>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8" name="Line 798"/>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9" name="Line 799"/>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0" name="Line 800"/>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1" name="Line 801"/>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2" name="Line 802"/>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3" name="Line 803"/>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4" name="Line 804"/>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805"/>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6" name="Line 806"/>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7" name="Line 807"/>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8" name="Line 808"/>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9" name="Line 809"/>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0" name="Line 810"/>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1" name="Line 811"/>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2" name="Line 812"/>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3" name="Line 813"/>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4" name="Line 814"/>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815"/>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6" name="Line 816"/>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77" name="Line 817"/>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818"/>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819"/>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0" name="Line 820"/>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1" name="Line 821"/>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2" name="Line 822"/>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3" name="Line 823"/>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4" name="Line 824"/>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5" name="Line 825"/>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826"/>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827"/>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8" name="Line 828"/>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829"/>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830"/>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831"/>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2" name="Line 832"/>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833"/>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894" name="Line 834"/>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5" name="Line 835"/>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6" name="Line 836"/>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7" name="Line 837"/>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838"/>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899" name="Line 839"/>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0" name="Line 840"/>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1" name="Line 841"/>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2" name="Line 842"/>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3" name="Line 843"/>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844"/>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5" name="Freeform 845"/>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6" name="Line 846"/>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7" name="Line 847"/>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8" name="Freeform 848"/>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9" name="Line 849"/>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0" name="Line 850"/>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Freeform 851"/>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2" name="Line 852"/>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3" name="Line 853"/>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Line 854"/>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5" name="Line 855"/>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6" name="Line 856"/>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7" name="Line 857"/>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8" name="Line 858"/>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9" name="Line 859"/>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0" name="Line 860"/>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1" name="Line 861"/>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862"/>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863"/>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864"/>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865"/>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Freeform 866"/>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7" name="Line 867"/>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868"/>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Freeform 869"/>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0" name="Line 870"/>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1" name="Line 871"/>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2" name="Freeform 872"/>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3" name="Line 873"/>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4" name="Line 874"/>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5" name="Line 875"/>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876"/>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7" name="Line 877"/>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8" name="Line 878"/>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9" name="Line 879"/>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40" name="Line 880"/>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1" name="Line 881"/>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882"/>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3" name="Line 883"/>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4" name="Line 884"/>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5" name="Line 885"/>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886"/>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7" name="Line 887"/>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888"/>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9" name="Line 889"/>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890"/>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1" name="Line 891"/>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892"/>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3" name="Line 893"/>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894"/>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5" name="Line 895"/>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6" name="Line 896"/>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7" name="Line 897"/>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8" name="Line 898"/>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9" name="Line 899"/>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0" name="Line 900"/>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1" name="Line 901"/>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2" name="Line 902"/>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3" name="Line 903"/>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4" name="Line 904"/>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5" name="Line 905"/>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6" name="Line 906"/>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7" name="Line 907"/>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8" name="Line 908"/>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9" name="Line 909"/>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0" name="Line 910"/>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Line 911"/>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2" name="Line 912"/>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3" name="Line 913"/>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4" name="Line 914"/>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5" name="Line 915"/>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6" name="Line 916"/>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7" name="Line 917"/>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8" name="Line 918"/>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9" name="Line 919"/>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0" name="Line 920"/>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1" name="Line 921"/>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2" name="Line 922"/>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3" name="Line 923"/>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4" name="Line 924"/>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5" name="Line 925"/>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6" name="Line 926"/>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7" name="Line 927"/>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8" name="Line 928"/>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9" name="Line 929"/>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930"/>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91" name="Line 931"/>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932"/>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3" name="Line 933"/>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4" name="Line 934"/>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5" name="Text Box 935"/>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96" name="Line 936"/>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Line 937"/>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Text Box 938"/>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99" name="Text Box 939"/>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1000" name="Text Box 940"/>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1001" name="Text Box 941"/>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002" name="Text Box 942"/>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sp>
          <p:nvSpPr>
            <p:cNvPr id="1003" name="Text Box 943"/>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sp>
          <p:nvSpPr>
            <p:cNvPr id="1004" name="Text Box 944"/>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05" name="Text Box 945"/>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Arial"/>
              </a:endParaRPr>
            </a:p>
          </p:txBody>
        </p:sp>
        <p:sp>
          <p:nvSpPr>
            <p:cNvPr id="1006" name="Line 946"/>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7" name="Rectangle 2"/>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Arial"/>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Arial"/>
            </a:endParaRPr>
          </a:p>
        </p:txBody>
      </p:sp>
      <p:grpSp>
        <p:nvGrpSpPr>
          <p:cNvPr id="1008" name="Group 21"/>
          <p:cNvGrpSpPr/>
          <p:nvPr/>
        </p:nvGrpSpPr>
        <p:grpSpPr>
          <a:xfrm>
            <a:off x="1231920" y="4387680"/>
            <a:ext cx="5429160" cy="2275200"/>
            <a:chOff x="1231920" y="4387680"/>
            <a:chExt cx="5429160" cy="2275200"/>
          </a:xfrm>
        </p:grpSpPr>
        <p:sp>
          <p:nvSpPr>
            <p:cNvPr id="1009" name="Text Box 8"/>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nvGrpSpPr>
            <p:cNvPr id="1010" name="Group 10"/>
            <p:cNvGrpSpPr/>
            <p:nvPr/>
          </p:nvGrpSpPr>
          <p:grpSpPr>
            <a:xfrm>
              <a:off x="2120760" y="4846680"/>
              <a:ext cx="4015800" cy="1428840"/>
              <a:chOff x="2120760" y="4846680"/>
              <a:chExt cx="4015800" cy="1428840"/>
            </a:xfrm>
          </p:grpSpPr>
          <p:sp>
            <p:nvSpPr>
              <p:cNvPr id="1011" name="Freeform 11"/>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12" name="Freeform 12"/>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13" name="Line 13"/>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4" name="Line 14"/>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5" name="Text Box 15"/>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grpSp>
      <p:sp>
        <p:nvSpPr>
          <p:cNvPr id="1016" name="Text Box 16"/>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Arial"/>
            </a:endParaRPr>
          </a:p>
        </p:txBody>
      </p:sp>
      <p:sp>
        <p:nvSpPr>
          <p:cNvPr id="1017" name="Rectangle 17"/>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Arial"/>
            </a:endParaRPr>
          </a:p>
        </p:txBody>
      </p:sp>
      <p:grpSp>
        <p:nvGrpSpPr>
          <p:cNvPr id="1018" name="Group 18"/>
          <p:cNvGrpSpPr/>
          <p:nvPr/>
        </p:nvGrpSpPr>
        <p:grpSpPr>
          <a:xfrm>
            <a:off x="4197240" y="4770360"/>
            <a:ext cx="4946760" cy="1551240"/>
            <a:chOff x="4197240" y="4770360"/>
            <a:chExt cx="4946760" cy="1551240"/>
          </a:xfrm>
        </p:grpSpPr>
        <p:sp>
          <p:nvSpPr>
            <p:cNvPr id="1019" name="Rectangle 19"/>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Arial"/>
              </a:endParaRPr>
            </a:p>
          </p:txBody>
        </p:sp>
        <p:sp>
          <p:nvSpPr>
            <p:cNvPr id="1020" name="Freeform 20"/>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23"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024" name="Group 86"/>
          <p:cNvGrpSpPr/>
          <p:nvPr/>
        </p:nvGrpSpPr>
        <p:grpSpPr>
          <a:xfrm>
            <a:off x="498600" y="1419120"/>
            <a:ext cx="3662280" cy="4203720"/>
            <a:chOff x="498600" y="1419120"/>
            <a:chExt cx="3662280" cy="4203720"/>
          </a:xfrm>
        </p:grpSpPr>
        <p:sp>
          <p:nvSpPr>
            <p:cNvPr id="1025" name="Line 36"/>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37"/>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Text Box 39"/>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28" name="Line 40"/>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41"/>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Text Box 42"/>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031" name="Line 43"/>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44"/>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Text Box 45"/>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034" name="Line 46"/>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5" name="Line 47"/>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48"/>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51"/>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38" name="Text Box 54"/>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39" name="Group 77"/>
            <p:cNvGrpSpPr/>
            <p:nvPr/>
          </p:nvGrpSpPr>
          <p:grpSpPr>
            <a:xfrm>
              <a:off x="1133640" y="1714320"/>
              <a:ext cx="2773080" cy="1590840"/>
              <a:chOff x="1133640" y="1714320"/>
              <a:chExt cx="2773080" cy="1590840"/>
            </a:xfrm>
          </p:grpSpPr>
          <p:sp>
            <p:nvSpPr>
              <p:cNvPr id="1040" name="Line 55"/>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56"/>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2" name="Text Box 57"/>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43" name="Rectangle 58"/>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4" name="Oval 60"/>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5" name="Line 61"/>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046" name="Group 82"/>
            <p:cNvGrpSpPr/>
            <p:nvPr/>
          </p:nvGrpSpPr>
          <p:grpSpPr>
            <a:xfrm>
              <a:off x="1727280" y="1955880"/>
              <a:ext cx="1496880" cy="1270080"/>
              <a:chOff x="1727280" y="1955880"/>
              <a:chExt cx="1496880" cy="1270080"/>
            </a:xfrm>
          </p:grpSpPr>
          <p:sp>
            <p:nvSpPr>
              <p:cNvPr id="1047" name="Line 62"/>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63"/>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9" name="Line 64"/>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50" name="Object 65"/>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Object 66"/>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Freeform 69"/>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3" name="Freeform 70"/>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54" name="Group 85"/>
          <p:cNvGrpSpPr/>
          <p:nvPr/>
        </p:nvGrpSpPr>
        <p:grpSpPr>
          <a:xfrm>
            <a:off x="4449600" y="1471680"/>
            <a:ext cx="3737160" cy="4194000"/>
            <a:chOff x="4449600" y="1471680"/>
            <a:chExt cx="3737160" cy="4194000"/>
          </a:xfrm>
        </p:grpSpPr>
        <p:sp>
          <p:nvSpPr>
            <p:cNvPr id="1055" name="Line 8"/>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6" name="Line 9"/>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7" name="Text Box 10"/>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58" name="Group 81"/>
            <p:cNvGrpSpPr/>
            <p:nvPr/>
          </p:nvGrpSpPr>
          <p:grpSpPr>
            <a:xfrm>
              <a:off x="5175360" y="3714840"/>
              <a:ext cx="2773080" cy="1785960"/>
              <a:chOff x="5175360" y="3714840"/>
              <a:chExt cx="2773080" cy="1785960"/>
            </a:xfrm>
          </p:grpSpPr>
          <p:sp>
            <p:nvSpPr>
              <p:cNvPr id="1059" name="Line 1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0" name="Line 1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61" name="Text Box 1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Freeform 1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3" name="Line 16"/>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4" name="Line 17"/>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5" name="Line 18"/>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6" name="Line 19"/>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7" name="Text Box 22"/>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68" name="Rectangle 25"/>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9" name="Text Box 26"/>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70" name="Group 83"/>
            <p:cNvGrpSpPr/>
            <p:nvPr/>
          </p:nvGrpSpPr>
          <p:grpSpPr>
            <a:xfrm>
              <a:off x="5286240" y="1868400"/>
              <a:ext cx="2550960" cy="1428840"/>
              <a:chOff x="5286240" y="1868400"/>
              <a:chExt cx="2550960" cy="1428840"/>
            </a:xfrm>
          </p:grpSpPr>
          <p:sp>
            <p:nvSpPr>
              <p:cNvPr id="1071" name="Freeform 28"/>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2" name="Freeform 29"/>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73" name="Group 80"/>
            <p:cNvGrpSpPr/>
            <p:nvPr/>
          </p:nvGrpSpPr>
          <p:grpSpPr>
            <a:xfrm>
              <a:off x="5159520" y="1679400"/>
              <a:ext cx="2773080" cy="1668600"/>
              <a:chOff x="5159520" y="1679400"/>
              <a:chExt cx="2773080" cy="1668600"/>
            </a:xfrm>
          </p:grpSpPr>
          <p:sp>
            <p:nvSpPr>
              <p:cNvPr id="1074" name="Line 30"/>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75" name="Line 31"/>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76" name="Text Box 32"/>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77" name="Oval 33"/>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8" name="Line 34"/>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079" name="Freeform 73"/>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0" name="Line 74"/>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1" name="Text Box 75"/>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082" name="Text Box 87"/>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Arial"/>
            </a:endParaRPr>
          </a:p>
        </p:txBody>
      </p:sp>
      <p:sp>
        <p:nvSpPr>
          <p:cNvPr id="1083" name="Rectangle 88"/>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084" name="Text Box 9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5" name="Text Box 91"/>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86" name="Line 92"/>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7" name="Line 93"/>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8" name="Text Box 5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9"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90"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1"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2" name="Text Box 49"/>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93" name="Text Box 65"/>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094" name="Line 34"/>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5" name="Line 35"/>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6" name="Text Box 36"/>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97" name="Line 37"/>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8" name="Line 38"/>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9" name="Text Box 39"/>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00" name="Line 40"/>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1" name="Line 41"/>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2" name="Text Box 42"/>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03" name="Line 43"/>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4" name="Line 44"/>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5" name="Line 45"/>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6" name="Line 46"/>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7" name="Line 47"/>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08" name="Text Box 48"/>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09" name="Text Box 51"/>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10" name="Group 52"/>
          <p:cNvGrpSpPr/>
          <p:nvPr/>
        </p:nvGrpSpPr>
        <p:grpSpPr>
          <a:xfrm>
            <a:off x="1133640" y="1714320"/>
            <a:ext cx="2773080" cy="1590840"/>
            <a:chOff x="1133640" y="1714320"/>
            <a:chExt cx="2773080" cy="1590840"/>
          </a:xfrm>
        </p:grpSpPr>
        <p:sp>
          <p:nvSpPr>
            <p:cNvPr id="1111" name="Line 53"/>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2" name="Line 54"/>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13" name="Text Box 55"/>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14" name="Rectangle 56"/>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15" name="Oval 57"/>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16" name="Line 58"/>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17" name="Group 59"/>
          <p:cNvGrpSpPr/>
          <p:nvPr/>
        </p:nvGrpSpPr>
        <p:grpSpPr>
          <a:xfrm>
            <a:off x="1727280" y="1955880"/>
            <a:ext cx="1496880" cy="1270080"/>
            <a:chOff x="1727280" y="1955880"/>
            <a:chExt cx="1496880" cy="1270080"/>
          </a:xfrm>
        </p:grpSpPr>
        <p:sp>
          <p:nvSpPr>
            <p:cNvPr id="1118" name="Line 60"/>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9" name="Line 61"/>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0" name="Line 62"/>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21" name="Object 63"/>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22" name="Object 64"/>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23" name="Rectangle 72"/>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124" name="Group 76"/>
          <p:cNvGrpSpPr/>
          <p:nvPr/>
        </p:nvGrpSpPr>
        <p:grpSpPr>
          <a:xfrm>
            <a:off x="4449600" y="1471680"/>
            <a:ext cx="3737160" cy="4194000"/>
            <a:chOff x="4449600" y="1471680"/>
            <a:chExt cx="3737160" cy="4194000"/>
          </a:xfrm>
        </p:grpSpPr>
        <p:sp>
          <p:nvSpPr>
            <p:cNvPr id="1125" name="Line 77"/>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6" name="Line 78"/>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7" name="Text Box 79"/>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28" name="Group 80"/>
            <p:cNvGrpSpPr/>
            <p:nvPr/>
          </p:nvGrpSpPr>
          <p:grpSpPr>
            <a:xfrm>
              <a:off x="5175360" y="3714840"/>
              <a:ext cx="2773080" cy="1785960"/>
              <a:chOff x="5175360" y="3714840"/>
              <a:chExt cx="2773080" cy="1785960"/>
            </a:xfrm>
          </p:grpSpPr>
          <p:sp>
            <p:nvSpPr>
              <p:cNvPr id="1129" name="Line 8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8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31" name="Text Box 8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Freeform 8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3" name="Line 85"/>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86"/>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87"/>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Line 88"/>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7" name="Text Box 89"/>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38" name="Rectangle 90"/>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39" name="Text Box 91"/>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40" name="Group 92"/>
            <p:cNvGrpSpPr/>
            <p:nvPr/>
          </p:nvGrpSpPr>
          <p:grpSpPr>
            <a:xfrm>
              <a:off x="5286240" y="1868400"/>
              <a:ext cx="2550960" cy="1428840"/>
              <a:chOff x="5286240" y="1868400"/>
              <a:chExt cx="2550960" cy="1428840"/>
            </a:xfrm>
          </p:grpSpPr>
          <p:sp>
            <p:nvSpPr>
              <p:cNvPr id="1141" name="Freeform 93"/>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2" name="Freeform 94"/>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43" name="Group 95"/>
            <p:cNvGrpSpPr/>
            <p:nvPr/>
          </p:nvGrpSpPr>
          <p:grpSpPr>
            <a:xfrm>
              <a:off x="5159520" y="1679400"/>
              <a:ext cx="2773080" cy="1668600"/>
              <a:chOff x="5159520" y="1679400"/>
              <a:chExt cx="2773080" cy="1668600"/>
            </a:xfrm>
          </p:grpSpPr>
          <p:sp>
            <p:nvSpPr>
              <p:cNvPr id="1144" name="Line 96"/>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5" name="Line 97"/>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46" name="Text Box 98"/>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47" name="Oval 99"/>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8" name="Line 100"/>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149" name="Freeform 101"/>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0" name="Line 102"/>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1" name="Text Box 103"/>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152" name="Rectangle 105"/>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153" name="Text Box 106"/>
          <p:cNvSpPr/>
          <p:nvPr/>
        </p:nvSpPr>
        <p:spPr>
          <a:xfrm>
            <a:off x="6402240" y="2378160"/>
            <a:ext cx="463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54" name="Line 108"/>
          <p:cNvSpPr/>
          <p:nvPr/>
        </p:nvSpPr>
        <p:spPr>
          <a:xfrm>
            <a:off x="6827760" y="2340000"/>
            <a:ext cx="0" cy="77796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5" name="Line 109"/>
          <p:cNvSpPr/>
          <p:nvPr/>
        </p:nvSpPr>
        <p:spPr>
          <a:xfrm>
            <a:off x="5208480" y="23274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157"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8"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9" name="Text Box 6"/>
          <p:cNvSpPr/>
          <p:nvPr/>
        </p:nvSpPr>
        <p:spPr>
          <a:xfrm>
            <a:off x="5194440" y="5502240"/>
            <a:ext cx="278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More likely to spend time at the edges.</a:t>
            </a:r>
            <a:endParaRPr b="0" lang="en-US" sz="1800" spc="-1" strike="noStrike">
              <a:solidFill>
                <a:srgbClr val="ffffff"/>
              </a:solidFill>
              <a:latin typeface="Arial"/>
            </a:endParaRPr>
          </a:p>
        </p:txBody>
      </p:sp>
      <p:sp>
        <p:nvSpPr>
          <p:cNvPr id="1160" name="Text Box 7"/>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161" name="Text Box 8"/>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162" name="Rectangle 9"/>
          <p:cNvSpPr/>
          <p:nvPr/>
        </p:nvSpPr>
        <p:spPr>
          <a:xfrm>
            <a:off x="122400" y="6275520"/>
            <a:ext cx="8437320" cy="485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predict a quantum particle’s behavior, we need an equation that tells us </a:t>
            </a:r>
            <a:br>
              <a:rPr sz="1800"/>
            </a:br>
            <a:r>
              <a:rPr b="0" lang="en-US" sz="1800" spc="-1" strike="noStrike">
                <a:solidFill>
                  <a:srgbClr val="ffff00"/>
                </a:solidFill>
                <a:latin typeface="Arial"/>
              </a:rPr>
              <a:t>how the  particle’s wave function, </a:t>
            </a:r>
            <a:r>
              <a:rPr b="0" lang="en-US" sz="1800" spc="-1" strike="noStrike">
                <a:solidFill>
                  <a:srgbClr val="ffff00"/>
                </a:solidFill>
                <a:latin typeface="Symbol"/>
                <a:ea typeface="Symbol"/>
              </a:rPr>
              <a:t></a:t>
            </a:r>
            <a:r>
              <a:rPr b="0" lang="en-US" sz="1800" spc="-1" strike="noStrike">
                <a:solidFill>
                  <a:srgbClr val="ffff00"/>
                </a:solidFill>
                <a:latin typeface="Arial"/>
              </a:rPr>
              <a:t>(x,y,z,t), changes in space and time.</a:t>
            </a:r>
            <a:endParaRPr b="0" lang="en-US" sz="1800" spc="-1" strike="noStrike">
              <a:solidFill>
                <a:srgbClr val="ffffff"/>
              </a:solidFill>
              <a:latin typeface="Arial"/>
            </a:endParaRPr>
          </a:p>
        </p:txBody>
      </p:sp>
      <p:grpSp>
        <p:nvGrpSpPr>
          <p:cNvPr id="1163" name="Group 10"/>
          <p:cNvGrpSpPr/>
          <p:nvPr/>
        </p:nvGrpSpPr>
        <p:grpSpPr>
          <a:xfrm>
            <a:off x="498600" y="1419120"/>
            <a:ext cx="3662280" cy="4203720"/>
            <a:chOff x="498600" y="1419120"/>
            <a:chExt cx="3662280" cy="4203720"/>
          </a:xfrm>
        </p:grpSpPr>
        <p:sp>
          <p:nvSpPr>
            <p:cNvPr id="1164" name="Line 11"/>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5" name="Line 12"/>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6" name="Text Box 13"/>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67" name="Line 14"/>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8" name="Line 15"/>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9" name="Text Box 16"/>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70" name="Line 17"/>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1" name="Line 18"/>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2" name="Text Box 19"/>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73" name="Line 20"/>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4" name="Line 21"/>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5" name="Line 22"/>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6" name="Line 23"/>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Line 24"/>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78" name="Text Box 25"/>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79" name="Text Box 26"/>
            <p:cNvSpPr/>
            <p:nvPr/>
          </p:nvSpPr>
          <p:spPr>
            <a:xfrm>
              <a:off x="2554560" y="282096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80" name="Text Box 27"/>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81" name="Group 28"/>
            <p:cNvGrpSpPr/>
            <p:nvPr/>
          </p:nvGrpSpPr>
          <p:grpSpPr>
            <a:xfrm>
              <a:off x="1133640" y="1714320"/>
              <a:ext cx="2773080" cy="1590840"/>
              <a:chOff x="1133640" y="1714320"/>
              <a:chExt cx="2773080" cy="1590840"/>
            </a:xfrm>
          </p:grpSpPr>
          <p:sp>
            <p:nvSpPr>
              <p:cNvPr id="1182" name="Line 29"/>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3" name="Line 30"/>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84" name="Text Box 31"/>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85" name="Rectangle 32"/>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86" name="Oval 33"/>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7" name="Line 34"/>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88" name="Group 35"/>
            <p:cNvGrpSpPr/>
            <p:nvPr/>
          </p:nvGrpSpPr>
          <p:grpSpPr>
            <a:xfrm>
              <a:off x="1727280" y="1955880"/>
              <a:ext cx="1496880" cy="1270080"/>
              <a:chOff x="1727280" y="1955880"/>
              <a:chExt cx="1496880" cy="1270080"/>
            </a:xfrm>
          </p:grpSpPr>
          <p:sp>
            <p:nvSpPr>
              <p:cNvPr id="1189" name="Line 36"/>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0" name="Line 37"/>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1" name="Line 38"/>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92" name="Object 39"/>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93" name="Object 40"/>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94" name="Rectangle 41"/>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95" name="Group 42"/>
          <p:cNvGrpSpPr/>
          <p:nvPr/>
        </p:nvGrpSpPr>
        <p:grpSpPr>
          <a:xfrm>
            <a:off x="4449600" y="1471680"/>
            <a:ext cx="3737160" cy="4194000"/>
            <a:chOff x="4449600" y="1471680"/>
            <a:chExt cx="3737160" cy="4194000"/>
          </a:xfrm>
        </p:grpSpPr>
        <p:sp>
          <p:nvSpPr>
            <p:cNvPr id="1196" name="Line 43"/>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7" name="Line 44"/>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8" name="Text Box 45"/>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99" name="Group 46"/>
            <p:cNvGrpSpPr/>
            <p:nvPr/>
          </p:nvGrpSpPr>
          <p:grpSpPr>
            <a:xfrm>
              <a:off x="5175360" y="3714840"/>
              <a:ext cx="2773080" cy="1785960"/>
              <a:chOff x="5175360" y="3714840"/>
              <a:chExt cx="2773080" cy="1785960"/>
            </a:xfrm>
          </p:grpSpPr>
          <p:sp>
            <p:nvSpPr>
              <p:cNvPr id="1200" name="Line 47"/>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1" name="Line 48"/>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02" name="Text Box 49"/>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Freeform 50"/>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04" name="Line 51"/>
            <p:cNvSpPr/>
            <p:nvPr/>
          </p:nvSpPr>
          <p:spPr>
            <a:xfrm flipH="1" flipV="1">
              <a:off x="7155000" y="4785840"/>
              <a:ext cx="2880" cy="700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5" name="Line 52"/>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6" name="Line 53"/>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7" name="Line 54"/>
            <p:cNvSpPr/>
            <p:nvPr/>
          </p:nvSpPr>
          <p:spPr>
            <a:xfrm flipH="1" flipV="1">
              <a:off x="5996160" y="4782600"/>
              <a:ext cx="1440" cy="716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8" name="Line 55"/>
            <p:cNvSpPr/>
            <p:nvPr/>
          </p:nvSpPr>
          <p:spPr>
            <a:xfrm>
              <a:off x="6977160" y="233208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9" name="Line 56"/>
            <p:cNvSpPr/>
            <p:nvPr/>
          </p:nvSpPr>
          <p:spPr>
            <a:xfrm>
              <a:off x="5270400" y="2336760"/>
              <a:ext cx="256068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1210" name="Text Box 57"/>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211" name="Text Box 58"/>
            <p:cNvSpPr/>
            <p:nvPr/>
          </p:nvSpPr>
          <p:spPr>
            <a:xfrm>
              <a:off x="6596280" y="238428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212" name="Rectangle 59"/>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13" name="Text Box 60"/>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214" name="Group 61"/>
            <p:cNvGrpSpPr/>
            <p:nvPr/>
          </p:nvGrpSpPr>
          <p:grpSpPr>
            <a:xfrm>
              <a:off x="5286240" y="1868400"/>
              <a:ext cx="2550960" cy="1428840"/>
              <a:chOff x="5286240" y="1868400"/>
              <a:chExt cx="2550960" cy="1428840"/>
            </a:xfrm>
          </p:grpSpPr>
          <p:sp>
            <p:nvSpPr>
              <p:cNvPr id="1215" name="Freeform 62"/>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16" name="Freeform 63"/>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217" name="Group 64"/>
            <p:cNvGrpSpPr/>
            <p:nvPr/>
          </p:nvGrpSpPr>
          <p:grpSpPr>
            <a:xfrm>
              <a:off x="5159520" y="1679400"/>
              <a:ext cx="2773080" cy="1668600"/>
              <a:chOff x="5159520" y="1679400"/>
              <a:chExt cx="2773080" cy="1668600"/>
            </a:xfrm>
          </p:grpSpPr>
          <p:sp>
            <p:nvSpPr>
              <p:cNvPr id="1218" name="Line 65"/>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9" name="Line 66"/>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20" name="Text Box 67"/>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221" name="Oval 68"/>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22" name="Line 69"/>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223" name="Text Box 70"/>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224" name="Rectangle 71"/>
            <p:cNvSpPr/>
            <p:nvPr/>
          </p:nvSpPr>
          <p:spPr>
            <a:xfrm>
              <a:off x="7176960" y="464652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225" name="Rectangle 74"/>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6" name="Rectangle 4"/>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Arial"/>
            </a:endParaRPr>
          </a:p>
        </p:txBody>
      </p:sp>
      <p:sp>
        <p:nvSpPr>
          <p:cNvPr id="1227" name="Rectangle 6"/>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28" name="Group 23"/>
          <p:cNvGrpSpPr/>
          <p:nvPr/>
        </p:nvGrpSpPr>
        <p:grpSpPr>
          <a:xfrm>
            <a:off x="1322280" y="3338640"/>
            <a:ext cx="4262400" cy="822240"/>
            <a:chOff x="1322280" y="3338640"/>
            <a:chExt cx="4262400" cy="822240"/>
          </a:xfrm>
        </p:grpSpPr>
        <p:graphicFrame>
          <p:nvGraphicFramePr>
            <p:cNvPr id="1229" name="Object 9"/>
            <p:cNvGraphicFramePr/>
            <p:nvPr/>
          </p:nvGraphicFramePr>
          <p:xfrm>
            <a:off x="1371600" y="3349800"/>
            <a:ext cx="4154400" cy="776160"/>
          </p:xfrm>
          <a:graphic>
            <a:graphicData uri="http://schemas.openxmlformats.org/presentationml/2006/ole">
              <p:oleObj r:id="rId1" spid="">
                <p:embed/>
                <p:pic>
                  <p:nvPicPr>
                    <p:cNvPr id="1230" name="Object 9" descr=""/>
                    <p:cNvPicPr/>
                    <p:nvPr/>
                  </p:nvPicPr>
                  <p:blipFill>
                    <a:blip r:embed="rId2"/>
                    <a:stretch/>
                  </p:blipFill>
                  <p:spPr>
                    <a:xfrm>
                      <a:off x="1371600" y="3349800"/>
                      <a:ext cx="4154400" cy="776160"/>
                    </a:xfrm>
                    <a:prstGeom prst="rect">
                      <a:avLst/>
                    </a:prstGeom>
                    <a:ln w="0">
                      <a:noFill/>
                    </a:ln>
                  </p:spPr>
                </p:pic>
              </p:oleObj>
            </a:graphicData>
          </a:graphic>
        </p:graphicFrame>
        <p:sp>
          <p:nvSpPr>
            <p:cNvPr id="1231" name="AutoShape 10"/>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1232" name="Object 20"/>
          <p:cNvGraphicFramePr/>
          <p:nvPr/>
        </p:nvGraphicFramePr>
        <p:xfrm>
          <a:off x="5716440" y="3427560"/>
          <a:ext cx="847800" cy="691920"/>
        </p:xfrm>
        <a:graphic>
          <a:graphicData uri="http://schemas.openxmlformats.org/presentationml/2006/ole">
            <p:oleObj r:id="rId3" spid="">
              <p:embed/>
              <p:pic>
                <p:nvPicPr>
                  <p:cNvPr id="1233" name="Object 20" descr=""/>
                  <p:cNvPicPr/>
                  <p:nvPr/>
                </p:nvPicPr>
                <p:blipFill>
                  <a:blip r:embed="rId4"/>
                  <a:stretch/>
                </p:blipFill>
                <p:spPr>
                  <a:xfrm>
                    <a:off x="5716440" y="3427560"/>
                    <a:ext cx="847800" cy="691920"/>
                  </a:xfrm>
                  <a:prstGeom prst="rect">
                    <a:avLst/>
                  </a:prstGeom>
                  <a:ln w="0">
                    <a:noFill/>
                  </a:ln>
                </p:spPr>
              </p:pic>
            </p:oleObj>
          </a:graphicData>
        </a:graphic>
      </p:graphicFrame>
      <p:sp>
        <p:nvSpPr>
          <p:cNvPr id="1234" name="Text Box 22"/>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Arial"/>
            </a:endParaRPr>
          </a:p>
        </p:txBody>
      </p:sp>
      <p:sp>
        <p:nvSpPr>
          <p:cNvPr id="1235" name="Text Box 24"/>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Arial"/>
            </a:endParaRPr>
          </a:p>
        </p:txBody>
      </p:sp>
      <p:sp>
        <p:nvSpPr>
          <p:cNvPr id="1236" name="Rectangle 26"/>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6-12T22:31:10Z</dcterms:modified>
  <cp:revision>598</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