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5F0CE203-062A-463F-84D0-D79E28FDCED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E62F457B-A341-49D2-B09F-03304249C86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 Paul G</cp:lastModifiedBy>
  <cp:lastPrinted>2000-03-27T14:29:43Z</cp:lastPrinted>
  <dcterms:modified xsi:type="dcterms:W3CDTF">2013-01-07T17:46:02Z</dcterms:modified>
  <cp:revision>629</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