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3.png" ContentType="image/png"/>
  <Override PartName="/ppt/media/image9.wmf" ContentType="image/x-wmf"/>
  <Override PartName="/ppt/media/image7.wmf" ContentType="image/x-wmf"/>
  <Override PartName="/ppt/media/image12.wmf" ContentType="image/x-wmf"/>
  <Override PartName="/ppt/media/image28.wmf" ContentType="image/x-wmf"/>
  <Override PartName="/ppt/media/image30.wmf" ContentType="image/x-wmf"/>
  <Override PartName="/ppt/media/image33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2.png" ContentType="image/png"/>
  <Override PartName="/ppt/media/image15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57568AB-FB98-4D1A-81BF-F628E5F4C1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809440" y="1764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at the emitted electrons can have less than the total amount (due to scattering in the materia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CBAB46B4-1A7F-48EF-B516-07B8944449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6, p. </a:t>
            </a:r>
            <a:fld id="{F986D03E-70FD-4E80-BF67-4B0B9BF787B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ED0823C1-FFD4-4F7C-8FBF-24B3E57CB54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wmf"/><Relationship Id="rId14" Type="http://schemas.openxmlformats.org/officeDocument/2006/relationships/image" Target="../media/image30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28760" y="831960"/>
            <a:ext cx="8715240" cy="58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Einstein’s paper is a “bold, not to say reckless, hypothesis…which flies in the face of thoroughly established facts of interferenc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(discover of electric charg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Its unambiguous experimental verification in spite of its unreasonableness since it seems to violate everything that we knew about the interference of light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(after testing Einstein’s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hotoelectric effect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redicti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301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304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316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320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326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329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333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334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337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40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41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44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47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48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51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73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74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3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3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 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73200" y="52038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71440" y="5702400"/>
            <a:ext cx="8872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nswer must have units of voltage. Since 2 eV of every incident photon’s energy (4 eV) goes to freeing each electron, they can leave wi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2 eV in kinetic energy.  A potential of 2 V is needed to slow such electrons to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04800" y="6336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68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69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0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71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74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5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6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77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8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9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80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1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2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83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4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5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86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7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88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93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03280" y="75960"/>
            <a:ext cx="636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1295280" y="3692520"/>
          <a:ext cx="347508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692520"/>
                    <a:ext cx="3475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6"/>
          <p:cNvSpPr/>
          <p:nvPr/>
        </p:nvSpPr>
        <p:spPr>
          <a:xfrm>
            <a:off x="1231920" y="4398840"/>
            <a:ext cx="47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wer output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# photons/sec) x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1360440" y="4952880"/>
          <a:ext cx="576432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0440" y="4952880"/>
                    <a:ext cx="57643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4" name="Group 8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505" name="Group 9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506" name="Rectangle 10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" name="Group 11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508" name="Line 12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3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14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511" name="Picture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2" name="Picture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3" name="Group 17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514" name="Picture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5" name="Picture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6" name="Group 20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517" name="Picture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8" name="Picture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9" name="Group 23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520" name="Picture 2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1" name="Picture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2" name="Group 26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523" name="Picture 2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4" name="Picture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525" name="Text Box 29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30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32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Group 33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530" name="Text Box 34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AutoShape 35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Rectangle 36"/>
          <p:cNvSpPr/>
          <p:nvPr/>
        </p:nvSpPr>
        <p:spPr>
          <a:xfrm>
            <a:off x="685800" y="5694480"/>
            <a:ext cx="7696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n incredibly huge number. Your eye cannot resolve photons arriving every femtosecond (though the rods can detect single photons!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6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7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7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8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9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9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9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20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20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20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20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20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21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21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21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21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22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22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22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22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22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23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23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23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4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4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4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19320" y="4952880"/>
            <a:ext cx="135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e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Object 4"/>
          <p:cNvGraphicFramePr/>
          <p:nvPr/>
        </p:nvGraphicFramePr>
        <p:xfrm>
          <a:off x="2558880" y="4854600"/>
          <a:ext cx="45277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8880" y="4854600"/>
                    <a:ext cx="4527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5"/>
          <p:cNvSpPr/>
          <p:nvPr/>
        </p:nvSpPr>
        <p:spPr>
          <a:xfrm>
            <a:off x="306360" y="3286080"/>
            <a:ext cx="823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e cell frequency is much less than the optical frequency, each cell-phone photon has much less energy.  Therefore, you  need many more of them to get the same total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1090080" y="605160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ell phones actually emit ~1W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~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hotons/se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685800" y="2463840"/>
            <a:ext cx="2928960" cy="32544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551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554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561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572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575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579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580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2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583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584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585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586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8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589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1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592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593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5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596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8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599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600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2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603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5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607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608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609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610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613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5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616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617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9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620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2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623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624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6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627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29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nex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6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6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7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3-10-07T01:31:10Z</dcterms:modified>
  <cp:revision>536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