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7FF0ADBD-B15B-47FB-8601-8906E09F18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06200" y="6048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5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3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5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If we include G, it ends up in the denominator of 10^-1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01) = 0.5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0.1) = 0.6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1) = 0.7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G = 4) = 0.76n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7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8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6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36F35BB3-B771-4DD2-BA85-FE7B6AC7DF0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3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98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0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1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3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0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1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6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4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5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6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5967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8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9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0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1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2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3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4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5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6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7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8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9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0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1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2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4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8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6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7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8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5990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5991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2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3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4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5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6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7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8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9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0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1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2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03" name="PlaceHolder 2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Aluminum wire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4" name="PlaceHolder 1"/>
          <p:cNvSpPr>
            <a:spLocks noGrp="1"/>
          </p:cNvSpPr>
          <p:nvPr>
            <p:ph/>
          </p:nvPr>
        </p:nvSpPr>
        <p:spPr>
          <a:xfrm>
            <a:off x="166320" y="692280"/>
            <a:ext cx="8793000" cy="4249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household electrical wire is not aluminum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is cheap and a good conductor.  However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uminum tends to form an oxide surface layer (Al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ich can be as much a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everal nanometers thic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ayer could cause a problem in making electrical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tacts, since it presents a barrier roughl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 eV high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the flow of electrons in and out of the Al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r requirement is that your transmission coefficient across any contact must b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&gt; 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1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or else the resistance will be too high for the high currents you’re using, causing a fire risk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ould you use aluminum wiring or not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(You can neglect G here.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005" name="Group 3"/>
          <p:cNvGrpSpPr/>
          <p:nvPr/>
        </p:nvGrpSpPr>
        <p:grpSpPr>
          <a:xfrm>
            <a:off x="6701400" y="1058400"/>
            <a:ext cx="2122560" cy="1675440"/>
            <a:chOff x="6701400" y="1058400"/>
            <a:chExt cx="2122560" cy="1675440"/>
          </a:xfrm>
        </p:grpSpPr>
        <p:sp>
          <p:nvSpPr>
            <p:cNvPr id="6006" name="Line 4"/>
            <p:cNvSpPr/>
            <p:nvPr/>
          </p:nvSpPr>
          <p:spPr>
            <a:xfrm>
              <a:off x="7076880" y="1709640"/>
              <a:ext cx="11840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7" name="Rectangle 5"/>
            <p:cNvSpPr/>
            <p:nvPr/>
          </p:nvSpPr>
          <p:spPr>
            <a:xfrm>
              <a:off x="7623000" y="1433520"/>
              <a:ext cx="115560" cy="941400"/>
            </a:xfrm>
            <a:prstGeom prst="rect">
              <a:avLst/>
            </a:prstGeom>
            <a:solidFill>
              <a:srgbClr val="ff9900"/>
            </a:solidFill>
            <a:ln w="1260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8" name="Line 6"/>
            <p:cNvSpPr/>
            <p:nvPr/>
          </p:nvSpPr>
          <p:spPr>
            <a:xfrm flipV="1">
              <a:off x="7623000" y="10584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9" name="Text Box 7"/>
            <p:cNvSpPr/>
            <p:nvPr/>
          </p:nvSpPr>
          <p:spPr>
            <a:xfrm>
              <a:off x="741852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0" name="Text Box 8"/>
            <p:cNvSpPr/>
            <p:nvPr/>
          </p:nvSpPr>
          <p:spPr>
            <a:xfrm>
              <a:off x="7648560" y="2365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1" name="Line 9"/>
            <p:cNvSpPr/>
            <p:nvPr/>
          </p:nvSpPr>
          <p:spPr>
            <a:xfrm flipV="1">
              <a:off x="6719400" y="2368080"/>
              <a:ext cx="89856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2" name="Line 10"/>
            <p:cNvSpPr/>
            <p:nvPr/>
          </p:nvSpPr>
          <p:spPr>
            <a:xfrm flipV="1">
              <a:off x="7724520" y="2368080"/>
              <a:ext cx="90000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3" name="Text Box 11"/>
            <p:cNvSpPr/>
            <p:nvPr/>
          </p:nvSpPr>
          <p:spPr>
            <a:xfrm>
              <a:off x="7191000" y="1222920"/>
              <a:ext cx="453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4" name="Text Box 12"/>
            <p:cNvSpPr/>
            <p:nvPr/>
          </p:nvSpPr>
          <p:spPr>
            <a:xfrm>
              <a:off x="8175240" y="1517040"/>
              <a:ext cx="399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5" name="Text Box 13"/>
            <p:cNvSpPr/>
            <p:nvPr/>
          </p:nvSpPr>
          <p:spPr>
            <a:xfrm>
              <a:off x="6701400" y="187812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l wi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6" name="Text Box 14"/>
            <p:cNvSpPr/>
            <p:nvPr/>
          </p:nvSpPr>
          <p:spPr>
            <a:xfrm>
              <a:off x="7751520" y="1765440"/>
              <a:ext cx="10724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ther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nduc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7" name="Text Box 15"/>
            <p:cNvSpPr/>
            <p:nvPr/>
          </p:nvSpPr>
          <p:spPr>
            <a:xfrm>
              <a:off x="7697520" y="1247760"/>
              <a:ext cx="782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Al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O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6018" name="Object 16"/>
          <p:cNvGraphicFramePr/>
          <p:nvPr/>
        </p:nvGraphicFramePr>
        <p:xfrm>
          <a:off x="4695840" y="4714920"/>
          <a:ext cx="2728800" cy="55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1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5840" y="4714920"/>
                    <a:ext cx="272880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0" name="Object 17"/>
          <p:cNvGraphicFramePr/>
          <p:nvPr/>
        </p:nvGraphicFramePr>
        <p:xfrm>
          <a:off x="279360" y="5197320"/>
          <a:ext cx="212904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021" name="Object 1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9360" y="5197320"/>
                    <a:ext cx="212904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22" name="Object 18"/>
          <p:cNvGraphicFramePr/>
          <p:nvPr/>
        </p:nvGraphicFramePr>
        <p:xfrm>
          <a:off x="262080" y="5592600"/>
          <a:ext cx="3628800" cy="68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023" name="Object 1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080" y="5592600"/>
                    <a:ext cx="3628800" cy="68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24" name="Text Box 19"/>
          <p:cNvSpPr/>
          <p:nvPr/>
        </p:nvSpPr>
        <p:spPr>
          <a:xfrm>
            <a:off x="4289400" y="5599440"/>
            <a:ext cx="468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xide is thicker than this, so go with copper!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l wiring in houses is illegal for this reas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5" name="Text Box 20"/>
          <p:cNvSpPr/>
          <p:nvPr/>
        </p:nvSpPr>
        <p:spPr>
          <a:xfrm>
            <a:off x="138240" y="4694400"/>
            <a:ext cx="30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ompute the maximum L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6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7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8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029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30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6031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6032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6033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4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5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6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7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38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6039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0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1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2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43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6044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5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46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7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8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49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50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6051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6052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3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4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5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6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57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6058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9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0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1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2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6063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4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65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6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7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6068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9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70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1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2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73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6074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6075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6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7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8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9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80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6081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2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3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4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85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6086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7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88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9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0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1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2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93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6094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5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96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7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98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99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0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1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2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3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4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5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6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7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8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9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0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11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2" name="Rectangle 2"/>
          <p:cNvSpPr/>
          <p:nvPr/>
        </p:nvSpPr>
        <p:spPr>
          <a:xfrm>
            <a:off x="277920" y="847800"/>
            <a:ext cx="691488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3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14" name="Group 17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115" name="Line 18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6" name="Line 19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7" name="Line 20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8" name="Line 21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9" name="Line 22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0" name="Text Box 23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1" name="Line 24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2" name="Text Box 25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3" name="Line 26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4" name="Line 27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5" name="Line 28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6" name="Text Box 29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27" name="Rectangle 30"/>
          <p:cNvSpPr/>
          <p:nvPr/>
        </p:nvSpPr>
        <p:spPr>
          <a:xfrm>
            <a:off x="1208160" y="3405240"/>
            <a:ext cx="4146480" cy="371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8" name="Text Box 32"/>
          <p:cNvSpPr/>
          <p:nvPr/>
        </p:nvSpPr>
        <p:spPr>
          <a:xfrm>
            <a:off x="208080" y="4236120"/>
            <a:ext cx="83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frequency of the electron oscillating between the left and right well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probability to “tunnel” was too high!  You can reduce this by increasing the barrier heigh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9" name="Text Box 33"/>
          <p:cNvSpPr/>
          <p:nvPr/>
        </p:nvSpPr>
        <p:spPr>
          <a:xfrm>
            <a:off x="190440" y="5331240"/>
            <a:ext cx="77979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wavelength of the emitted photon was too low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frequency of the photon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energy splitting between the ground and first-excited state was too large.  Raising the barrier makes the difference in energy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maller. 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0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32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6133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4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5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6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7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8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9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0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1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2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3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4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6145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6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7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8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9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0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1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2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3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4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5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6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6157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8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9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0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1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2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3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4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65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6166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7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68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6169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0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71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72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6173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4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5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6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7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8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9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0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81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6182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3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84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6185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6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87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8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89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90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91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92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3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4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5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6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97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98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9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0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1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02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3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4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5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06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07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8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9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10" name="Text Box 23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1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12" name="Group 47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13" name="Group 48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14" name="Line 49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5" name="Line 50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6" name="Line 51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7" name="Line 52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8" name="Line 53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19" name="Group 54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20" name="Line 55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1" name="Line 56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2" name="Line 57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3" name="Line 58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24" name="Line 59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5" name="Text Box 60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6" name="Line 61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7" name="Text Box 62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28" name="Group 63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29" name="Freeform 64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0" name="Freeform 65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990720" y="104760"/>
            <a:ext cx="7162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330120" y="944640"/>
            <a:ext cx="7739280" cy="31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Sept. 29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1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32" name="Text Box 24"/>
          <p:cNvSpPr/>
          <p:nvPr/>
        </p:nvSpPr>
        <p:spPr>
          <a:xfrm>
            <a:off x="412200" y="4979880"/>
            <a:ext cx="7166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wider barrier will have a smaller tunneling rate, so T/2 will increas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mplies th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ecomes smal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’ll see (week 7) that this effect is important in chemical bon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3" name="Text Box 47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4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35" name="Group 49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36" name="Group 50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37" name="Line 51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8" name="Line 52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9" name="Line 53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0" name="Line 54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1" name="Line 55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42" name="Group 56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43" name="Line 57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4" name="Line 58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5" name="Line 59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6" name="Line 60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47" name="Line 61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8" name="Text Box 62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9" name="Line 63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0" name="Text Box 64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1" name="Group 65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52" name="Freeform 66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3" name="Freeform 67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4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5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56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57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8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9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60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6261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2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3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4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5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6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6267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8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69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6270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1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72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6273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4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5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6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77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6278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9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0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1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82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6283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4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5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6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7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8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9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0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1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2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3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4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5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6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7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8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99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0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1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6302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3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4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5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6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7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8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9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0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1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2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3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4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5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6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7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18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19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6320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1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2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23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6324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6325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6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7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8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9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0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31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2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33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34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35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6336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7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38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6339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0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1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2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3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4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6345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6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7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6348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9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50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6351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2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53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6354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5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6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7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58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9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0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61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62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3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4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65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6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7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8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9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0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71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2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3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74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5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6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77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8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9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80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1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2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3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4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85" name="Object 3"/>
          <p:cNvGraphicFramePr/>
          <p:nvPr/>
        </p:nvGraphicFramePr>
        <p:xfrm>
          <a:off x="709560" y="4470480"/>
          <a:ext cx="64944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470480"/>
                    <a:ext cx="6494400" cy="792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87" name="Text Box 4"/>
          <p:cNvSpPr/>
          <p:nvPr/>
        </p:nvSpPr>
        <p:spPr>
          <a:xfrm>
            <a:off x="304920" y="3686040"/>
            <a:ext cx="635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takes a half the oscillation period, T = h/(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8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89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90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1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92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93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4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5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6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7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98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99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0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1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402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3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404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405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6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07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408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9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0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1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2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3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414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15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6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7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8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9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0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1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2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3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4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5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6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7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8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9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0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1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2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3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4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35" name="Text Box 4"/>
          <p:cNvSpPr/>
          <p:nvPr/>
        </p:nvSpPr>
        <p:spPr>
          <a:xfrm>
            <a:off x="382680" y="3790800"/>
            <a:ext cx="73594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energy conservation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(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/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 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6" name="Rectangle 5"/>
          <p:cNvSpPr/>
          <p:nvPr/>
        </p:nvSpPr>
        <p:spPr>
          <a:xfrm>
            <a:off x="5048280" y="4465800"/>
            <a:ext cx="1768320" cy="62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37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38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9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0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1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2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3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4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5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6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7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8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9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0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1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2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3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4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55" name="Text Box 24"/>
          <p:cNvSpPr/>
          <p:nvPr/>
        </p:nvSpPr>
        <p:spPr>
          <a:xfrm>
            <a:off x="7003440" y="47592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cro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6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Text Box 3"/>
          <p:cNvSpPr/>
          <p:nvPr/>
        </p:nvSpPr>
        <p:spPr>
          <a:xfrm>
            <a:off x="270000" y="3209760"/>
            <a:ext cx="52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 Box 5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Text Box 6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Line 7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Text Box 8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9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Text Box 10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Text Box 11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Line 12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Line 13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Line 14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3" name="Group 15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2624" name="Line 16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Line 17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Line 18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Freeform 19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Line 20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21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Freeform 22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23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2" name="Line 24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3" name="Line 25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4" name="Freeform 26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5" name="Line 27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6" name="Line 28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7" name="Line 29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8" name="Freeform 30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9" name="Line 31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0" name="Line 32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Freeform 33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Line 34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3" name="Line 35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4" name="Line 36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5" name="Freeform 37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6" name="Line 38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7" name="Line 39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8" name="Freeform 40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9" name="Line 41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0" name="Line 42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1" name="Line 43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2" name="Freeform 44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3" name="Line 45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4" name="Line 46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5" name="Line 47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6" name="Freeform 48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7" name="Line 49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8" name="Line 50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9" name="Freeform 51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0" name="Line 52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1" name="Line 53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2" name="Line 54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3" name="Freeform 55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Freeform 56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5" name="Line 57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6" name="Line 58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7" name="Freeform 59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8" name="Freeform 60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9" name="Line 61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0" name="Freeform 62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1" name="Freeform 63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2" name="Line 64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Freeform 65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Freeform 66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5" name="Line 67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6" name="Freeform 68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7" name="Line 69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8" name="Freeform 70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9" name="Freeform 71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0" name="Line 72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1" name="Freeform 73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2" name="Line 74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Freeform 75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Line 76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Freeform 77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Line 78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Line 79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Line 80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Freeform 81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Line 82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Freeform 83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Freeform 84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Line 85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Line 86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Line 87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Freeform 88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Line 89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8" name="Line 90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9" name="Line 91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0" name="Freeform 92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1" name="Line 93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2" name="Line 94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3" name="Freeform 95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4" name="Line 96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Line 97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Line 98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Freeform 99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8" name="Line 100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9" name="Line 101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0" name="Line 102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1" name="Freeform 103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2" name="Line 104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3" name="Line 105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Freeform 106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107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108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109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Freeform 110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111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112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113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Freeform 114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115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116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Freeform 117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118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119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120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Freeform 121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122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123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124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Freeform 125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126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127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Freeform 128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129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130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131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Freeform 132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133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134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Line 135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136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Line 137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Line 138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139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Line 140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Line 141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Line 142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Freeform 143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Line 144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Line 145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Line 146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Freeform 147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Freeform 148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Line 149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Freeform 150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151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152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153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Freeform 154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155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Freeform 156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157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Freeform 158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159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Freeform 160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Freeform 161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162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Freeform 163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164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Freeform 165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Freeform 166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167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Freeform 168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Freeform 169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Line 170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Freeform 171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Freeform 172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Line 173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Line 174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Freeform 175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Freeform 176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177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178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179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Freeform 180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181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182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Freeform 183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184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185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186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Freeform 187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188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189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Freeform 190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191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192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193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194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Line 195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Line 196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Line 197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Freeform 198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Line 199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Line 200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Freeform 201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Line 202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Line 203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204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Freeform 205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206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207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208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Freeform 209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210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211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Freeform 212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213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214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215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4" name="Group 216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2825" name="Line 217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218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219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Freeform 220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221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222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223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Line 224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Line 225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Line 226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Freeform 227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Line 228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Line 229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Line 230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Freeform 231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Line 232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233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Freeform 234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235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236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237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Freeform 238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239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240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Freeform 241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242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243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244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Freeform 245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246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247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248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Freeform 249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250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251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Freeform 252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Line 253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Line 254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Line 255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Freeform 256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Freeform 257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Line 258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Line 259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Freeform 260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Freeform 261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262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Freeform 263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Freeform 264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265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Freeform 266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Freeform 267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268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Freeform 269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270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Freeform 271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Freeform 272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273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Freeform 274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275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Freeform 276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277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Freeform 278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Line 279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Line 280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Line 281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Freeform 282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Line 283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Freeform 284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Freeform 285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Line 286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Line 287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Line 288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7" name="Freeform 289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8" name="Line 290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9" name="Line 291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0" name="Line 292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1" name="Freeform 293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2" name="Line 294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3" name="Line 295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4" name="Freeform 296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5" name="Line 297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6" name="Line 298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7" name="Line 299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Freeform 300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Line 301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302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Line 303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Freeform 304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Line 305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306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Freeform 307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308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Line 309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310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Freeform 311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0" name="Line 312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1" name="Line 313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2" name="Line 314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3" name="Freeform 315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4" name="Line 316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5" name="Line 317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6" name="Freeform 318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7" name="Line 319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8" name="Line 320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9" name="Line 321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0" name="Freeform 322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1" name="Line 323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2" name="Line 324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3" name="Line 325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Freeform 326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5" name="Line 327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6" name="Line 328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7" name="Freeform 329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Line 330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Line 331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0" name="Line 332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1" name="Freeform 333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Line 334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Line 335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Line 336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5" name="Freeform 337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6" name="Line 338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Line 339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Freeform 340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Line 341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0" name="Line 342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1" name="Line 343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2" name="Freeform 344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3" name="Line 345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Line 346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Line 347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6" name="Freeform 348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7" name="Freeform 349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Line 350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Freeform 351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Line 352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Line 353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Line 354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355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Line 356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357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Line 358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359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Line 360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361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Freeform 362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Line 363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Freeform 364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Line 365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Freeform 366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Freeform 367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Line 368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Freeform 369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Freeform 370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Line 371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72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73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Line 374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Line 375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76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377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Line 378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Line 379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Line 380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381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Line 382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Line 383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384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Line 385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Line 386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Line 387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Freeform 388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Line 389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Line 390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391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Line 392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Line 393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Line 394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395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Line 396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Line 397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Line 398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399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Line 400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Line 401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402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Line 403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Line 404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Line 405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406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Line 407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Line 408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Line 409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Freeform 410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Line 411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Line 412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413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Line 414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Line 415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Line 416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5" name="Line 417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6" name="Group 418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3027" name="Text Box 419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Text Box 420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Line 421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Text Box 422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Text Box 423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Text Box 424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Text Box 425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4" name="Group 426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3035" name="Line 427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Line 428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Line 429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Freeform 430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Line 431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Line 432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Freeform 433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Line 434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Line 435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Line 436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Freeform 437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438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Line 439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440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Freeform 441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Line 442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443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Freeform 444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445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Line 446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447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Freeform 448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449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Line 450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Freeform 451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452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Line 453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454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Freeform 455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456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Line 457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458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459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Line 460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461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62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463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Line 464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465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Freeform 466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Freeform 467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Line 468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469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470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471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472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473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474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Line 475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476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477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478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479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Line 480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481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482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Line 483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484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Line 485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486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487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488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489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Line 490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Line 491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492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Line 493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494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495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496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Line 497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498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499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500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Line 501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502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503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Line 504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505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506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507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Line 508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509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510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511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Line 512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513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514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Line 515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516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517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518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Line 519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520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521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522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Line 523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524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525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Line 526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527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Freeform 528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529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Line 530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531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Freeform 532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533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Line 534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535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Freeform 536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Line 537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538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Freeform 539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540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Line 541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542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Freeform 543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544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Line 545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546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Freeform 547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Line 548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549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Freeform 550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551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Line 552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553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Freeform 554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555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Line 556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557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Freeform 558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559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560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Freeform 561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562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Line 563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564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Freeform 565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566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567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Line 568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Freeform 569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Line 570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Freeform 571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Freeform 572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573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574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575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576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Freeform 577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Line 578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Freeform 579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580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Line 581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Freeform 582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583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584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Line 585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586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Freeform 587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Line 588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Line 589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590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591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Line 592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593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Freeform 594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Line 595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Line 596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597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Freeform 598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599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Line 600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Freeform 601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602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Line 603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604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Freeform 605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606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Line 607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608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Freeform 609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Line 610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611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Freeform 612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613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Line 614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615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Freeform 616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617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Line 618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619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620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Line 621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622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623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624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Line 625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626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5" name="Line 627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6" name="Line 628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7" name="Line 629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8" name="Line 630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9" name="Group 631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3240" name="Line 632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633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634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635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Line 636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Line 637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8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Line 639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Line 640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Line 641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42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643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Line 644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645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646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Line 647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648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Freeform 649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650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Line 651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652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653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654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Line 655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656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657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Line 658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659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660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661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Line 662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663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664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Line 665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666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667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668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Line 669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670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671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672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Line 673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674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675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676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677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678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679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Line 680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681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682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683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684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Line 685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Freeform 686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687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Line 688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Freeform 689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Line 690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691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692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693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694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Line 695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Line 696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Freeform 697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Line 698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Freeform 699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700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701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Line 702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703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Freeform 704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705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Line 706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707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708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Line 709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710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Freeform 711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712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Line 713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714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Freeform 715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716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Line 717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718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Freeform 719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Line 720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721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Freeform 722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723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Line 724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725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Freeform 726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727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728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729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Freeform 730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731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732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Freeform 733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734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Line 735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736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Freeform 737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738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Line 739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740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Freeform 741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Line 742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743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Freeform 744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745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Line 746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747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Freeform 748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749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Line 750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751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Freeform 752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Line 753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754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Freeform 755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756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Line 757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758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Freeform 759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760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Line 761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762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Freeform 763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764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765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Freeform 766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767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768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769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Freeform 770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771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772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773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Freeform 774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775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Freeform 776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Freeform 777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778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779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780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781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782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783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784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785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786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787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788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789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790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791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792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793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Line 794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795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796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Line 797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798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799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Line 800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801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802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Freeform 803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804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805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806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807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808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809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810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811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Line 812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813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Freeform 814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Line 815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816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817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818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Line 819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820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821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822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Line 823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824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Freeform 825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Line 826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827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828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829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Line 830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831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40" name="Object 832"/>
          <p:cNvGraphicFramePr/>
          <p:nvPr/>
        </p:nvGraphicFramePr>
        <p:xfrm>
          <a:off x="606600" y="5880240"/>
          <a:ext cx="67975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1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80240"/>
                    <a:ext cx="67975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2" name="Text Box 833"/>
          <p:cNvSpPr/>
          <p:nvPr/>
        </p:nvSpPr>
        <p:spPr>
          <a:xfrm>
            <a:off x="588960" y="5092560"/>
            <a:ext cx="342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1/f , where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3" name="Object 834"/>
          <p:cNvGraphicFramePr/>
          <p:nvPr/>
        </p:nvGraphicFramePr>
        <p:xfrm>
          <a:off x="662040" y="3984480"/>
          <a:ext cx="342900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4" name="Object 8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984480"/>
                    <a:ext cx="3429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5" name="Text Box 835"/>
          <p:cNvSpPr/>
          <p:nvPr/>
        </p:nvSpPr>
        <p:spPr>
          <a:xfrm>
            <a:off x="403560" y="5591160"/>
            <a:ext cx="13878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alf a perio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Text Box 836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Line 837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Line 838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9" name="Object 839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0" name="Object 8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2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6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7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8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9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3460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0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3471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2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3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4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5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6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7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8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9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0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1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2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3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4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5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6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8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9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0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1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2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3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4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5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6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7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8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9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0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1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2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3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8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9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0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1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2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3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4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6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7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6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7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8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9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0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1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2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3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4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5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6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7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8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9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0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1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2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3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4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5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6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7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8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9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0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1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3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4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6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7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8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9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0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1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2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3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4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5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6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7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9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0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2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3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4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5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6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7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2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3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4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5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6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7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8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9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0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1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2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4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5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6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7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8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9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0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1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3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4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1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3672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0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1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2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3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4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5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6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7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8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9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0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1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2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3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5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6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7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8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9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0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1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6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7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9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0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2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3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5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6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7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8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9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0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1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2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3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4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5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6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7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2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3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5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6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8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9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1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2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3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4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5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6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7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8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9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0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1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2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3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4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5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6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7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8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9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0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1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2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3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4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5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6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7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8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9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0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1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2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3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4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5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6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7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8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9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0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1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2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3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4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5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6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7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8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9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0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1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2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3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4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5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6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7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8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9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0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1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2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3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4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5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6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7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8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9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0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1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2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3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4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5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6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7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8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9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0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1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2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3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4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5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6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7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8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9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0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1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2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3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874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1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882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3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4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5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6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7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8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9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0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1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2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3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4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5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6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7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8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9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0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1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2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3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4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5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6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7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8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9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0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1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2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3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4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5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6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7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8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9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0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1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2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3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4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5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6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7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8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9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0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1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2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3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4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5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6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7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8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9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0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1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2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3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4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5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6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7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8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9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0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1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2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3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4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5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6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7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8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9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0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1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2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3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4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5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6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7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8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9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0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1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2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3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4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5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6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7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8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9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0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1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2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3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4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5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2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3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4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5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6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7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8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9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0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1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2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3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4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5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6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7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8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9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0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1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2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3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4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5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6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7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8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9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0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1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2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3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4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5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6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7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8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9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0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1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82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6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087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8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9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0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1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2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3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4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5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6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7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8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9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0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1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2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3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4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5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6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7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8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9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0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1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2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3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4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5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6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7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8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9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0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1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2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3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4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5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6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7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8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9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0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1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2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3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4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5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6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7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8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9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0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1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2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3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4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5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6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7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8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9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0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1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2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3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4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5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6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7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8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9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0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1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2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3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4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5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6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7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8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9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0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1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2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3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4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5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6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7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8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9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0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1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2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3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4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5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6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7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8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9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0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1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2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4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5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7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8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9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0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1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2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3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4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5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6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7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8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9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0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1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2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3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4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5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6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7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8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9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0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1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4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5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6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7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8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9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0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1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2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3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4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5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6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7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8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9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0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1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2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3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4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5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6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7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8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9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0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1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2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5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6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7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8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9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0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1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2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3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4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5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6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7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8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9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0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1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2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3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4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5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6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7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8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9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0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1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2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3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4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5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6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8" name="Group 836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4289" name="Text Box 4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Text Box 5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6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Text Box 7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Text Box 8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Text Box 9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Text Box 10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11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12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13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9" name="Group 14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4300" name="Line 15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1" name="Line 16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2" name="Line 17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3" name="Freeform 18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4" name="Line 19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5" name="Line 20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6" name="Freeform 21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7" name="Line 22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8" name="Line 23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9" name="Line 24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0" name="Freeform 25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1" name="Line 26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2" name="Line 27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3" name="Line 28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4" name="Freeform 29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5" name="Line 30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6" name="Line 31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7" name="Freeform 32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8" name="Line 33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9" name="Line 34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0" name="Line 35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1" name="Freeform 36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2" name="Line 37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3" name="Line 38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4" name="Freeform 39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5" name="Line 40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6" name="Line 41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7" name="Line 42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8" name="Freeform 43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9" name="Line 44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0" name="Line 45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1" name="Line 46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2" name="Freeform 47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3" name="Line 48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4" name="Line 49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5" name="Freeform 50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6" name="Line 51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7" name="Line 52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8" name="Line 53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9" name="Freeform 54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0" name="Freeform 55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1" name="Line 56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2" name="Line 57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3" name="Freeform 58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4" name="Freeform 59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5" name="Line 60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6" name="Freeform 61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7" name="Freeform 62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8" name="Line 63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9" name="Freeform 64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0" name="Freeform 65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1" name="Line 66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2" name="Freeform 67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3" name="Line 68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4" name="Freeform 69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5" name="Freeform 70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6" name="Line 71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7" name="Freeform 72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8" name="Line 73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9" name="Freeform 74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0" name="Line 75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1" name="Freeform 76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2" name="Line 77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3" name="Line 78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4" name="Line 79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5" name="Freeform 80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6" name="Line 81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7" name="Freeform 82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8" name="Freeform 83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9" name="Line 84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0" name="Line 85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1" name="Line 86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2" name="Freeform 87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3" name="Line 88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4" name="Line 89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5" name="Line 90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6" name="Freeform 91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7" name="Line 92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8" name="Line 93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9" name="Freeform 94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0" name="Line 95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1" name="Line 96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2" name="Line 97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3" name="Freeform 98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4" name="Line 99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5" name="Line 100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6" name="Line 101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7" name="Freeform 102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8" name="Line 103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9" name="Line 104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0" name="Freeform 105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1" name="Line 106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2" name="Line 107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3" name="Line 108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4" name="Freeform 109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5" name="Line 110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6" name="Line 111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7" name="Line 112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8" name="Freeform 113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9" name="Line 114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0" name="Line 115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1" name="Freeform 116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2" name="Line 117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3" name="Line 118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4" name="Line 119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5" name="Freeform 120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6" name="Line 121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7" name="Line 122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8" name="Line 123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9" name="Freeform 124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0" name="Line 125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1" name="Line 126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2" name="Freeform 127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3" name="Line 128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4" name="Line 129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5" name="Line 130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6" name="Freeform 131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7" name="Line 132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8" name="Line 133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9" name="Line 134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0" name="Freeform 135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1" name="Line 136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2" name="Line 137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3" name="Freeform 138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4" name="Line 139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5" name="Line 140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6" name="Line 141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7" name="Freeform 142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8" name="Line 143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9" name="Line 144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0" name="Line 145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1" name="Freeform 146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2" name="Freeform 147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3" name="Line 148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4" name="Freeform 149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5" name="Line 150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6" name="Line 151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7" name="Line 152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8" name="Freeform 153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9" name="Line 154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0" name="Freeform 155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1" name="Line 156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2" name="Freeform 157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3" name="Line 158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4" name="Freeform 159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5" name="Freeform 160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6" name="Line 161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7" name="Freeform 162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8" name="Line 163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9" name="Freeform 164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0" name="Freeform 165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1" name="Line 166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2" name="Freeform 167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3" name="Freeform 168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4" name="Line 169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5" name="Freeform 170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6" name="Freeform 171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7" name="Line 172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8" name="Line 173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9" name="Freeform 174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0" name="Freeform 175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1" name="Line 176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2" name="Line 177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3" name="Line 178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4" name="Freeform 179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5" name="Line 180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6" name="Line 181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7" name="Freeform 182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8" name="Line 183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9" name="Line 184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0" name="Line 185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1" name="Freeform 186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2" name="Line 187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3" name="Line 188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4" name="Freeform 189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5" name="Line 190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6" name="Line 191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7" name="Line 192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8" name="Freeform 193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9" name="Line 194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0" name="Line 195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1" name="Line 196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Freeform 197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3" name="Line 198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4" name="Line 199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5" name="Freeform 200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Line 201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7" name="Line 202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8" name="Line 203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9" name="Freeform 204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0" name="Line 205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1" name="Line 206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2" name="Line 207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3" name="Freeform 208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4" name="Line 209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5" name="Line 210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6" name="Freeform 211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7" name="Line 212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8" name="Line 213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9" name="Line 214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0" name="Group 215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4501" name="Line 216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2" name="Line 217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3" name="Line 218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4" name="Freeform 219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5" name="Line 220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6" name="Line 221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7" name="Freeform 222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8" name="Line 223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9" name="Line 224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0" name="Line 225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1" name="Freeform 226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2" name="Line 227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3" name="Line 228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4" name="Line 229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5" name="Freeform 230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6" name="Line 231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7" name="Line 232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8" name="Freeform 233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9" name="Line 234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0" name="Line 235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1" name="Line 236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2" name="Freeform 237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3" name="Line 238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4" name="Line 239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5" name="Freeform 240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6" name="Line 241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7" name="Line 242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8" name="Line 243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9" name="Freeform 244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0" name="Line 245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1" name="Line 246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2" name="Line 247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3" name="Freeform 248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4" name="Line 249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5" name="Line 250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6" name="Freeform 251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7" name="Line 252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8" name="Line 253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9" name="Line 254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0" name="Freeform 255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1" name="Freeform 256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2" name="Line 257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3" name="Line 258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4" name="Freeform 259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5" name="Freeform 260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6" name="Line 261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7" name="Freeform 262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8" name="Freeform 263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9" name="Line 264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0" name="Freeform 265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1" name="Freeform 266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2" name="Line 267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3" name="Freeform 268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4" name="Line 269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5" name="Freeform 270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6" name="Freeform 271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7" name="Line 272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8" name="Freeform 273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9" name="Line 274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0" name="Freeform 275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1" name="Line 276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2" name="Freeform 277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3" name="Line 278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4" name="Line 279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5" name="Line 280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6" name="Freeform 281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7" name="Line 282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8" name="Freeform 283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9" name="Freeform 284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0" name="Line 285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1" name="Line 286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2" name="Line 287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3" name="Freeform 288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4" name="Line 289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5" name="Line 290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6" name="Line 291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7" name="Freeform 292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8" name="Line 293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9" name="Line 294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0" name="Freeform 295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1" name="Line 296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2" name="Line 297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3" name="Line 298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Freeform 299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300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301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302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Freeform 303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304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305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Freeform 306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307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Line 308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309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Freeform 310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311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312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313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Freeform 314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315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316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Freeform 317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318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Line 319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320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Freeform 321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322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323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Line 324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Freeform 325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326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327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328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329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Line 330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331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332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333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Line 334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335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Freeform 336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337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338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Freeform 339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340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341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342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Freeform 343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344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345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346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347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Freeform 348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349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Freeform 350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351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Line 352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353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Freeform 354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355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Freeform 356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357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Freeform 358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359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Freeform 360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Freeform 361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362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Freeform 363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364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Freeform 365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Freeform 366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367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Freeform 368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Freeform 369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370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Freeform 371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Freeform 372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373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374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Freeform 375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Freeform 376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377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378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379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Freeform 380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381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382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Freeform 383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384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385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386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Freeform 387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388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389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390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391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392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Line 393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Freeform 394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395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396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397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Freeform 398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399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400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Freeform 401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Line 402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403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404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405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406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407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408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Freeform 409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410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411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Freeform 412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413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414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415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1" name="Line 416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2" name="Group 417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4703" name="Text Box 418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4" name="Text Box 419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5" name="Line 420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6" name="Text Box 421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7" name="Text Box 422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8" name="Text Box 423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9" name="Text Box 424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0" name="Group 425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4711" name="Line 426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427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428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Freeform 429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430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431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Freeform 432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433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434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435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Freeform 436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437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438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439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Freeform 440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441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442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443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444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445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446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Freeform 447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Line 448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449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Freeform 450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451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452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453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Freeform 454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455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456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457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Freeform 458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459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460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461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462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Line 463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464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465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Freeform 466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Line 467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468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Freeform 469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Freeform 470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Line 471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Freeform 472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Freeform 473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474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Freeform 475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476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477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Freeform 478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479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Freeform 480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Freeform 481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482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Freeform 483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484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Freeform 485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486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487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488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489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490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Freeform 491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492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Freeform 493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Freeform 494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495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496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497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3" name="Freeform 498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4" name="Line 499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5" name="Line 500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501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Freeform 502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503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504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Freeform 505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506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507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508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Freeform 509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Line 510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511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512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Freeform 513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514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515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516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517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518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519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520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521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522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Line 523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Freeform 524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Line 525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526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527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528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529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530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Freeform 531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532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533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534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Freeform 535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536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537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Freeform 538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539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540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541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Freeform 542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543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Line 544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545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Freeform 546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547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548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Freeform 549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550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551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Line 552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Freeform 553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554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555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556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Freeform 557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Freeform 558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559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Freeform 560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561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562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563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Freeform 564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565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Freeform 566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567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Freeform 568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569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Freeform 570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571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572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Freeform 573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574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Freeform 575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Freeform 576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577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Freeform 578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Freeform 579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580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581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Freeform 582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583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584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585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Freeform 586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587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588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589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Freeform 590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591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592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Freeform 593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594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595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596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Freeform 597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598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599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Freeform 600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601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602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603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Freeform 604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605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606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607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Freeform 608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609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610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Freeform 611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612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613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Line 614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Freeform 615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616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617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Line 618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Freeform 619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620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621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Freeform 622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623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624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625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1" name="Line 626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2" name="Line 627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3" name="Line 628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4" name="Line 629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15" name="Group 630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916" name="Line 631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632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633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Freeform 634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635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636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Freeform 637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638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639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640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Freeform 641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642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643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644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Freeform 645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646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Line 647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Freeform 648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649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650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651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Freeform 652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653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654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655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656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657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658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Freeform 659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660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661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662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Freeform 663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664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665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Freeform 666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667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668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669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Freeform 670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Freeform 671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Line 672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673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674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Freeform 675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Line 676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Freeform 677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Freeform 678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Line 679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Freeform 680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Freeform 681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682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683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684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Freeform 685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Freeform 686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687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Freeform 688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Line 689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Freeform 690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691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Freeform 692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693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694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695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Freeform 696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697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Freeform 698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Freeform 699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5" name="Line 700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6" name="Line 701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7" name="Line 702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Freeform 703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704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Line 705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706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Freeform 707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708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Line 709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Freeform 710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711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Line 712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713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714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715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716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Line 717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Freeform 718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719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720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Freeform 721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722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723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724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Freeform 725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726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727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728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Freeform 729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730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731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Freeform 732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733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734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735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Freeform 736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737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738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739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Freeform 740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741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Line 742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Freeform 743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744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745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746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747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748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749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750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Freeform 751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752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753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Freeform 754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755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756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757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Freeform 758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759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760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761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Freeform 762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Freeform 763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764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Freeform 765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766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767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768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Freeform 769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770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Freeform 771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772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Freeform 773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774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Freeform 775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776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777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Freeform 778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779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Freeform 780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Freeform 781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782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Freeform 783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Freeform 784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785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Freeform 786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787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788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789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Freeform 790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Freeform 791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792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793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794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Freeform 795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796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Line 797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798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799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800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801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Freeform 802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803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804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805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Line 806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807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808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Freeform 809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810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811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812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Freeform 813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814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815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816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817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818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819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Freeform 820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821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822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823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Freeform 824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825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826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827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828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829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830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6" name="Text Box 831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17" name="Object 832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8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9" name="Text Box 837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0" name="Rectangle 838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1" name="Rectangle 839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2" name="Text Box 840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4" name="Text Box 3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5" name="Group 4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5126" name="Text Box 5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7" name="Text Box 6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8" name="Line 7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9" name="Text Box 8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0" name="Text Box 9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1" name="Text Box 10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2" name="Text Box 11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3" name="Line 12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4" name="Line 13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5" name="Line 14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6" name="Group 15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5137" name="Line 16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7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Freeform 19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Line 20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21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Freeform 22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23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24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Line 25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Freeform 26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27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28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29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Freeform 30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31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32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Freeform 33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34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35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36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Freeform 37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38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39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Freeform 40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41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42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43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Freeform 44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45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46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47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Freeform 48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49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Line 50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Freeform 51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52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Line 53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54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55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Freeform 56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57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Line 58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Freeform 59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Freeform 60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61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62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Freeform 63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64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Freeform 65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7" name="Freeform 66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8" name="Line 67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9" name="Freeform 68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69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Freeform 70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Freeform 71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72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Freeform 73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74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Freeform 75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76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Freeform 77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78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79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80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Freeform 81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82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Freeform 83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Freeform 84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85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86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87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Freeform 88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89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90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91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Freeform 92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93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94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Freeform 95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96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97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98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Freeform 99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00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01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02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Freeform 103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04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05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Freeform 106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07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08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09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Freeform 110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11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12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13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Freeform 114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15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16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Freeform 117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18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Line 119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Line 120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Freeform 121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22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23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24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Freeform 125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26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27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Freeform 128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29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30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31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Freeform 132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33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Line 134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35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36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37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Line 138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Freeform 139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40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41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42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Freeform 143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44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45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Line 146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47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Freeform 148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49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Freeform 150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Line 151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Line 152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53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Freeform 154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55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Freeform 156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57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Freeform 158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59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Freeform 160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Freeform 161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62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63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Line 164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Freeform 165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Freeform 166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67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Freeform 168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Freeform 169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70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71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72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73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74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Freeform 175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Freeform 176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77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78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79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Freeform 180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81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182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183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Line 184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185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186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Freeform 187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Line 188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Line 189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Freeform 190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191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192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193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Freeform 194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195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196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Line 197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Freeform 198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Line 199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0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3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4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Freeform 205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6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7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8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Freeform 209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10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11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Freeform 212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13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14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Line 215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7" name="Group 216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5338" name="Line 217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18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19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Freeform 220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21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22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Freeform 223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24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25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26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Freeform 227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28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29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30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Freeform 231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32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33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Freeform 234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35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36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37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Freeform 238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39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40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Freeform 241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42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43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44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Freeform 245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46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47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48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Freeform 249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50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51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Freeform 252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53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54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55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Freeform 256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Freeform 257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58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59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Freeform 260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Freeform 261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62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Freeform 263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Freeform 264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65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Freeform 266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Freeform 267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Line 268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Freeform 269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Line 270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Freeform 271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3" name="Freeform 272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4" name="Line 273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Freeform 274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Line 275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7" name="Freeform 276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8" name="Line 277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Freeform 278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Line 279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Line 280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Line 281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Freeform 282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Line 283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Freeform 284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Freeform 285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Line 286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Line 287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9" name="Line 288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0" name="Freeform 289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1" name="Line 290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2" name="Line 291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3" name="Line 292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4" name="Freeform 293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5" name="Line 294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6" name="Line 295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7" name="Freeform 296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8" name="Line 297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9" name="Line 298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0" name="Line 299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1" name="Freeform 300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2" name="Line 301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3" name="Line 302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4" name="Line 303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5" name="Freeform 304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6" name="Line 305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7" name="Line 306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8" name="Freeform 307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9" name="Line 308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0" name="Line 309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1" name="Line 310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2" name="Freeform 311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3" name="Line 312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4" name="Line 313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5" name="Line 314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6" name="Freeform 315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7" name="Line 316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8" name="Line 317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9" name="Freeform 318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0" name="Line 319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1" name="Line 320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2" name="Line 321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3" name="Freeform 322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4" name="Line 323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5" name="Line 324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6" name="Line 325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7" name="Freeform 326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8" name="Line 327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9" name="Line 328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0" name="Freeform 329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1" name="Line 330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2" name="Line 331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3" name="Line 332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4" name="Freeform 333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5" name="Line 334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6" name="Line 335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7" name="Line 336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8" name="Freeform 337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9" name="Line 338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0" name="Line 339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1" name="Freeform 340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2" name="Line 341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3" name="Line 342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4" name="Line 343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5" name="Freeform 344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6" name="Line 345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7" name="Line 346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8" name="Line 347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9" name="Freeform 348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0" name="Freeform 349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1" name="Line 350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2" name="Freeform 351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3" name="Line 352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4" name="Line 353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5" name="Line 354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6" name="Freeform 355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7" name="Line 356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8" name="Freeform 357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9" name="Line 358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0" name="Freeform 359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1" name="Line 360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2" name="Freeform 361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3" name="Freeform 362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4" name="Line 363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5" name="Freeform 364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6" name="Line 365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7" name="Freeform 366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8" name="Freeform 367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9" name="Line 368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0" name="Freeform 369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1" name="Freeform 370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2" name="Line 371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3" name="Freeform 372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4" name="Freeform 373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5" name="Line 374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6" name="Line 375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7" name="Freeform 376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8" name="Freeform 377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9" name="Line 378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0" name="Line 379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1" name="Line 380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2" name="Freeform 381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3" name="Line 382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4" name="Line 383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5" name="Freeform 384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6" name="Line 385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7" name="Line 386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8" name="Line 387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9" name="Freeform 388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0" name="Line 389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1" name="Line 390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2" name="Freeform 391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3" name="Line 392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4" name="Line 393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5" name="Line 394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6" name="Freeform 395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7" name="Line 396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8" name="Line 397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9" name="Line 398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0" name="Freeform 399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1" name="Line 400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2" name="Line 401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3" name="Freeform 402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4" name="Line 403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5" name="Line 404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6" name="Line 405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7" name="Freeform 406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8" name="Line 407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9" name="Line 408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0" name="Line 409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1" name="Freeform 410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2" name="Line 411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3" name="Line 412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4" name="Freeform 413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5" name="Line 414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6" name="Line 415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7" name="Line 416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8" name="Line 417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9" name="Group 418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5540" name="Text Box 419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1" name="Text Box 420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2" name="Line 421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3" name="Text Box 422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4" name="Text Box 423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5" name="Text Box 424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6" name="Text Box 425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7" name="Group 426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5548" name="Line 427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9" name="Line 428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0" name="Line 429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1" name="Freeform 430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2" name="Line 431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3" name="Line 432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4" name="Freeform 433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5" name="Line 434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6" name="Line 435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7" name="Line 436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8" name="Freeform 437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9" name="Line 438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0" name="Line 439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1" name="Line 440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2" name="Freeform 441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3" name="Line 442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4" name="Line 443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5" name="Freeform 444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6" name="Line 445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7" name="Line 446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8" name="Line 447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9" name="Freeform 448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0" name="Line 449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1" name="Line 450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2" name="Freeform 451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3" name="Line 452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4" name="Line 453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5" name="Line 454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6" name="Freeform 455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7" name="Line 456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8" name="Line 457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9" name="Line 458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0" name="Freeform 459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1" name="Line 460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2" name="Line 461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3" name="Freeform 462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4" name="Line 463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5" name="Line 464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6" name="Line 465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7" name="Freeform 466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8" name="Freeform 467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9" name="Line 468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0" name="Line 469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1" name="Freeform 470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2" name="Freeform 471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3" name="Line 472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4" name="Freeform 473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5" name="Freeform 474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6" name="Line 475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7" name="Freeform 476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8" name="Freeform 477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9" name="Line 478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0" name="Freeform 479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1" name="Line 480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2" name="Freeform 481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3" name="Freeform 482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4" name="Line 483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5" name="Freeform 484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6" name="Line 485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7" name="Freeform 486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8" name="Line 487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9" name="Freeform 488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0" name="Line 489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1" name="Line 490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2" name="Line 491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3" name="Freeform 492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4" name="Line 493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5" name="Freeform 494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6" name="Freeform 495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7" name="Line 496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8" name="Line 497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9" name="Line 498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0" name="Freeform 499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1" name="Line 500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2" name="Line 501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3" name="Line 502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4" name="Freeform 503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5" name="Line 504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6" name="Line 505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7" name="Freeform 506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8" name="Line 507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9" name="Line 508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0" name="Line 509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1" name="Freeform 510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2" name="Line 511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3" name="Line 512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4" name="Line 513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5" name="Freeform 514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6" name="Line 515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7" name="Line 516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8" name="Freeform 517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9" name="Line 518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0" name="Line 519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1" name="Line 520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2" name="Freeform 521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3" name="Line 522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4" name="Line 523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5" name="Line 524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6" name="Freeform 525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7" name="Line 526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8" name="Line 527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9" name="Freeform 528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0" name="Line 529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1" name="Line 530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2" name="Line 531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3" name="Freeform 532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4" name="Line 533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5" name="Line 534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6" name="Line 535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7" name="Freeform 536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8" name="Line 537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9" name="Line 538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0" name="Freeform 539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1" name="Line 540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2" name="Line 541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3" name="Line 542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4" name="Freeform 543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5" name="Line 544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6" name="Line 545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7" name="Line 546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8" name="Freeform 547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9" name="Line 548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0" name="Line 549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1" name="Freeform 550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2" name="Line 551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3" name="Line 552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4" name="Line 553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5" name="Freeform 554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6" name="Line 555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7" name="Line 556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8" name="Line 557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9" name="Freeform 558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0" name="Freeform 559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1" name="Line 560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2" name="Freeform 561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3" name="Line 562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4" name="Line 563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5" name="Line 564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6" name="Freeform 565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7" name="Line 566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8" name="Freeform 567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9" name="Line 568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0" name="Freeform 569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1" name="Line 570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2" name="Freeform 571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3" name="Freeform 572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4" name="Line 573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5" name="Freeform 574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6" name="Line 575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7" name="Freeform 576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8" name="Freeform 577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9" name="Line 578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0" name="Freeform 579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1" name="Freeform 580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2" name="Line 581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3" name="Freeform 582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4" name="Freeform 583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5" name="Line 584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6" name="Line 585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7" name="Freeform 586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8" name="Freeform 587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9" name="Line 588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0" name="Line 589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1" name="Line 590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2" name="Freeform 591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3" name="Line 592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4" name="Line 593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5" name="Freeform 594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6" name="Line 595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7" name="Line 596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8" name="Line 597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9" name="Freeform 598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0" name="Line 599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1" name="Line 600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2" name="Freeform 601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3" name="Line 602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4" name="Line 603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5" name="Line 604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6" name="Freeform 605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7" name="Line 606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8" name="Line 607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9" name="Line 608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0" name="Freeform 609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1" name="Line 610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2" name="Line 611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3" name="Freeform 612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4" name="Line 613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5" name="Line 614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6" name="Line 615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7" name="Freeform 616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8" name="Line 617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9" name="Line 618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0" name="Line 619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1" name="Freeform 620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2" name="Line 621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3" name="Line 622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4" name="Freeform 623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5" name="Line 624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6" name="Line 625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7" name="Line 626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8" name="Line 627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9" name="Line 628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0" name="Line 629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1" name="Line 630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52" name="Group 631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5753" name="Line 632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4" name="Line 633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5" name="Line 634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6" name="Freeform 635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7" name="Line 636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8" name="Line 637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9" name="Freeform 638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0" name="Line 639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1" name="Line 640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2" name="Line 641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3" name="Freeform 642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4" name="Line 643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5" name="Line 644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6" name="Line 645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7" name="Freeform 646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8" name="Line 647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9" name="Line 648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0" name="Freeform 649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1" name="Line 650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2" name="Line 651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3" name="Line 652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4" name="Freeform 653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5" name="Line 654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6" name="Line 655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7" name="Freeform 656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8" name="Line 657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9" name="Line 658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0" name="Line 659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1" name="Freeform 660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2" name="Line 661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3" name="Line 662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4" name="Line 663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5" name="Freeform 664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6" name="Line 665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7" name="Line 666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8" name="Freeform 667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9" name="Line 668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0" name="Line 669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1" name="Line 670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2" name="Freeform 671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3" name="Freeform 672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4" name="Line 673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5" name="Line 674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6" name="Freeform 675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7" name="Freeform 676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8" name="Line 677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9" name="Freeform 678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0" name="Freeform 679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1" name="Line 680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2" name="Freeform 681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3" name="Freeform 682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4" name="Line 683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5" name="Freeform 684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6" name="Line 685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7" name="Freeform 686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8" name="Freeform 687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9" name="Line 688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0" name="Freeform 689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1" name="Line 690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2" name="Freeform 691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3" name="Line 692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4" name="Freeform 693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5" name="Line 694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6" name="Line 695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7" name="Line 696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8" name="Freeform 697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9" name="Line 698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0" name="Freeform 699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1" name="Freeform 700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2" name="Line 701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3" name="Line 702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4" name="Line 703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5" name="Freeform 704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6" name="Line 705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7" name="Line 706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8" name="Line 707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9" name="Freeform 708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0" name="Line 709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1" name="Line 710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2" name="Freeform 711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3" name="Line 712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4" name="Line 713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5" name="Line 714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6" name="Freeform 715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7" name="Line 716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8" name="Line 717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9" name="Line 718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0" name="Freeform 719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1" name="Line 720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2" name="Line 721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3" name="Freeform 722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4" name="Line 723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5" name="Line 724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6" name="Line 725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7" name="Freeform 726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8" name="Line 727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9" name="Line 728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0" name="Line 729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1" name="Freeform 730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2" name="Line 731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3" name="Line 732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4" name="Freeform 733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5" name="Line 734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6" name="Line 735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7" name="Line 736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8" name="Freeform 737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9" name="Line 738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0" name="Line 739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1" name="Line 740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2" name="Freeform 741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3" name="Line 742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4" name="Line 743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5" name="Freeform 744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6" name="Line 745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7" name="Line 746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8" name="Line 747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9" name="Freeform 748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0" name="Line 749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1" name="Line 750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2" name="Line 751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3" name="Freeform 752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4" name="Line 753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5" name="Line 754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6" name="Freeform 755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7" name="Line 756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Line 757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Line 758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0" name="Freeform 759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1" name="Line 760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2" name="Line 761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3" name="Line 762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4" name="Freeform 763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5" name="Freeform 764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Line 765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Freeform 766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Line 767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Line 768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Line 769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Freeform 770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2" name="Line 771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3" name="Freeform 772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4" name="Line 773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5" name="Freeform 774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6" name="Line 775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7" name="Freeform 776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8" name="Freeform 777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9" name="Line 778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0" name="Freeform 779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1" name="Line 780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2" name="Freeform 781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3" name="Freeform 782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4" name="Line 783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5" name="Freeform 784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6" name="Freeform 785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7" name="Line 786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8" name="Freeform 787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9" name="Freeform 788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0" name="Line 789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1" name="Line 790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2" name="Freeform 791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3" name="Freeform 792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4" name="Line 793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5" name="Line 794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6" name="Line 795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7" name="Freeform 796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8" name="Line 797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9" name="Line 798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0" name="Freeform 799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1" name="Line 800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2" name="Line 801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3" name="Line 802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4" name="Freeform 803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5" name="Line 804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6" name="Line 805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7" name="Freeform 806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8" name="Line 807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9" name="Line 808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0" name="Line 809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1" name="Freeform 810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2" name="Line 811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3" name="Line 812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4" name="Line 813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5" name="Freeform 814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6" name="Line 815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7" name="Line 816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8" name="Freeform 817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9" name="Line 818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0" name="Line 819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1" name="Line 820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2" name="Freeform 821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3" name="Line 822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4" name="Line 823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5" name="Line 824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6" name="Freeform 825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7" name="Line 826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8" name="Line 827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9" name="Freeform 828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0" name="Line 829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1" name="Line 830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2" name="Line 831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53" name="Text Box 832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4" name="Object 833"/>
          <p:cNvGraphicFramePr/>
          <p:nvPr/>
        </p:nvGraphicFramePr>
        <p:xfrm>
          <a:off x="536400" y="187488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5" name="Object 8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7488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6" name="Text Box 834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7" name="Rectangle 835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8" name="Rectangle 836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9" name="Rectangle 838"/>
          <p:cNvSpPr/>
          <p:nvPr/>
        </p:nvSpPr>
        <p:spPr>
          <a:xfrm>
            <a:off x="274680" y="6334200"/>
            <a:ext cx="2986200" cy="344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0" name="Group 840"/>
          <p:cNvGrpSpPr/>
          <p:nvPr/>
        </p:nvGrpSpPr>
        <p:grpSpPr>
          <a:xfrm>
            <a:off x="4800600" y="5278320"/>
            <a:ext cx="4227480" cy="1465560"/>
            <a:chOff x="4800600" y="5278320"/>
            <a:chExt cx="4227480" cy="1465560"/>
          </a:xfrm>
        </p:grpSpPr>
        <p:sp>
          <p:nvSpPr>
            <p:cNvPr id="5961" name="Text Box 837"/>
            <p:cNvSpPr/>
            <p:nvPr/>
          </p:nvSpPr>
          <p:spPr>
            <a:xfrm>
              <a:off x="4800600" y="5278320"/>
              <a:ext cx="4227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probabilities depend on th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oefficients, not on the various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term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mselves.  Because the coefficient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re simply numbers (    ), there is no time dependenc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962" name="Object 839"/>
            <p:cNvGraphicFramePr/>
            <p:nvPr/>
          </p:nvGraphicFramePr>
          <p:xfrm>
            <a:off x="6999120" y="6137280"/>
            <a:ext cx="292320" cy="3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63" name="Object 8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99120" y="6137280"/>
                      <a:ext cx="29232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3-09-27T18:27:02Z</dcterms:modified>
  <cp:revision>612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