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1.png" ContentType="image/png"/>
  <Override PartName="/ppt/media/image3.wmf" ContentType="image/x-wmf"/>
  <Override PartName="/ppt/media/image20.jpeg" ContentType="image/jpeg"/>
  <Override PartName="/ppt/media/image17.wmf" ContentType="image/x-wmf"/>
  <Override PartName="/ppt/media/image19.wmf" ContentType="image/x-wmf"/>
  <Override PartName="/ppt/media/image18.wmf" ContentType="image/x-wmf"/>
  <Override PartName="/ppt/media/image16.wmf" ContentType="image/x-wmf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A73C32F-F8AF-4A7B-A080-4214299F5B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notation for angles:  If the degree sign is absent, we mean radian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slits and red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green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5289D80C-8337-4ED3-B914-055842264F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F6B3DE85-372E-473F-BEEB-BE682CCB9A4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.wmf"/><Relationship Id="rId3" Type="http://schemas.openxmlformats.org/officeDocument/2006/relationships/image" Target="../media/image15.wmf"/><Relationship Id="rId4" Type="http://schemas.openxmlformats.org/officeDocument/2006/relationships/image" Target="../media/image4.wmf"/><Relationship Id="rId5" Type="http://schemas.openxmlformats.org/officeDocument/2006/relationships/image" Target="../media/image16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131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44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20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721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4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725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726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727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3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734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741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7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748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4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755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756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9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0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1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762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763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66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767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768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769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5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776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783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9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790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96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797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798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1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2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803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804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805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8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812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8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819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5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826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2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833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834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7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38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2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3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844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845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8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849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850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851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7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858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4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865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6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1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872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4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5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78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879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880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3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4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885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886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887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9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0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1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3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894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6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7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9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0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901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2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4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5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6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7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908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0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1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3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14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915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916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7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8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9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20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3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924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6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8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Text Box 214"/>
          <p:cNvSpPr/>
          <p:nvPr/>
        </p:nvSpPr>
        <p:spPr>
          <a:xfrm>
            <a:off x="4984920" y="5710320"/>
            <a:ext cx="398592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4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= 2.0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.0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2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5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7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Rectangle 8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Rectangle 9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0" name="Picture 16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41" name="Rectangle 17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Rectangle 1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9"/>
          <p:cNvSpPr/>
          <p:nvPr/>
        </p:nvSpPr>
        <p:spPr>
          <a:xfrm>
            <a:off x="4651200" y="5916600"/>
            <a:ext cx="3478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I is never negat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428760" y="6114960"/>
            <a:ext cx="1127160" cy="355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5" name="Picture 15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7" name="Rectangle 20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21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Oval 22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Rectangle 23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24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3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4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965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8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969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970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971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7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978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4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985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992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8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999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1000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03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4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1005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1006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1007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3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1014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0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1021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7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1028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4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1035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1036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9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0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5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6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Line 3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Line 4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5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Line 6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7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Text Box 8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 Box 9"/>
          <p:cNvSpPr/>
          <p:nvPr/>
        </p:nvSpPr>
        <p:spPr>
          <a:xfrm>
            <a:off x="2031840" y="4400640"/>
            <a:ext cx="229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625920" y="5508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55" name="Text Box 19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Line 20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7" name="Group 21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1058" name="Rectangle 22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Rectangle 23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Oval 24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1" name="Group 25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1062" name="Group 26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1063" name="Group 27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1064" name="Line 28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Line 29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Line 30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31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32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33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0" name="Group 34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1071" name="Line 35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Line 36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Line 37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Line 38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39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40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7" name="Group 41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1078" name="Line 42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Line 43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Line 44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45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Line 46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47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4" name="Group 48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1085" name="Line 49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Line 50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Line 51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Line 52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Line 53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Line 54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1" name="Group 55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1092" name="Group 56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1093" name="Arc 57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Arc 58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Arc 59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6" name="Arc 60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7" name="Group 61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1098" name="Group 62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1099" name="Group 63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1100" name="Line 64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Line 65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Line 66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Line 67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Line 68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Line 69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6" name="Group 70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1107" name="Line 71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Line 72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Line 73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Line 74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Line 75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Line 76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3" name="Group 77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1114" name="Line 78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Line 79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Line 80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Line 81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Line 82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Line 83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0" name="Group 84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1121" name="Line 85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Line 86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Line 87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Line 88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Line 89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Line 90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7" name="Group 91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1128" name="Group 92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1129" name="Arc 93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Arc 94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Arc 95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2" name="Arc 96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3" name="Text Box 97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Text Box 98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Line 99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Line 100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Line 101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8" name="Rectangle 102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Object 103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0" name="Text Box 104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Text Box 105"/>
          <p:cNvSpPr/>
          <p:nvPr/>
        </p:nvSpPr>
        <p:spPr>
          <a:xfrm>
            <a:off x="2491200" y="3884760"/>
            <a:ext cx="2823480" cy="52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minder:  A can be neg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“Amplitude” is the absolute valu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 Box 106"/>
          <p:cNvSpPr/>
          <p:nvPr/>
        </p:nvSpPr>
        <p:spPr>
          <a:xfrm>
            <a:off x="463680" y="4386240"/>
            <a:ext cx="60894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                    4I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3" name="Picture 107" descr=""/>
          <p:cNvPicPr/>
          <p:nvPr/>
        </p:nvPicPr>
        <p:blipFill>
          <a:blip r:embed="rId1"/>
          <a:stretch/>
        </p:blipFill>
        <p:spPr>
          <a:xfrm>
            <a:off x="2448000" y="4879800"/>
            <a:ext cx="3494160" cy="405000"/>
          </a:xfrm>
          <a:prstGeom prst="rect">
            <a:avLst/>
          </a:prstGeom>
          <a:ln w="0">
            <a:noFill/>
          </a:ln>
        </p:spPr>
      </p:pic>
      <p:grpSp>
        <p:nvGrpSpPr>
          <p:cNvPr id="1144" name="Group 108"/>
          <p:cNvGrpSpPr/>
          <p:nvPr/>
        </p:nvGrpSpPr>
        <p:grpSpPr>
          <a:xfrm>
            <a:off x="1414440" y="6189840"/>
            <a:ext cx="7748640" cy="485640"/>
            <a:chOff x="1414440" y="6189840"/>
            <a:chExt cx="7748640" cy="485640"/>
          </a:xfrm>
        </p:grpSpPr>
        <p:sp>
          <p:nvSpPr>
            <p:cNvPr id="1145" name="Rectangle 109"/>
            <p:cNvSpPr/>
            <p:nvPr/>
          </p:nvSpPr>
          <p:spPr>
            <a:xfrm>
              <a:off x="1414440" y="61898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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2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4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6" name="Picture 110" descr=""/>
            <p:cNvPicPr/>
            <p:nvPr/>
          </p:nvPicPr>
          <p:blipFill>
            <a:blip r:embed="rId2"/>
            <a:stretch/>
          </p:blipFill>
          <p:spPr>
            <a:xfrm>
              <a:off x="2454120" y="6270480"/>
              <a:ext cx="3494160" cy="4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7" name="Group 111"/>
          <p:cNvGrpSpPr/>
          <p:nvPr/>
        </p:nvGrpSpPr>
        <p:grpSpPr>
          <a:xfrm>
            <a:off x="1401840" y="5262480"/>
            <a:ext cx="7748640" cy="470160"/>
            <a:chOff x="1401840" y="5262480"/>
            <a:chExt cx="7748640" cy="470160"/>
          </a:xfrm>
        </p:grpSpPr>
        <p:sp>
          <p:nvSpPr>
            <p:cNvPr id="1148" name="Rectangle 112"/>
            <p:cNvSpPr/>
            <p:nvPr/>
          </p:nvSpPr>
          <p:spPr>
            <a:xfrm>
              <a:off x="1401840" y="526248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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 2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9" name="Group 113"/>
            <p:cNvGrpSpPr/>
            <p:nvPr/>
          </p:nvGrpSpPr>
          <p:grpSpPr>
            <a:xfrm>
              <a:off x="2405160" y="5318280"/>
              <a:ext cx="3684600" cy="414360"/>
              <a:chOff x="2405160" y="5318280"/>
              <a:chExt cx="3684600" cy="414360"/>
            </a:xfrm>
          </p:grpSpPr>
          <p:pic>
            <p:nvPicPr>
              <p:cNvPr id="1150" name="Picture 1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5600" y="53182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1" name="Picture 1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405160" y="53276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52" name="Group 116"/>
          <p:cNvGrpSpPr/>
          <p:nvPr/>
        </p:nvGrpSpPr>
        <p:grpSpPr>
          <a:xfrm>
            <a:off x="1427040" y="5732640"/>
            <a:ext cx="7748640" cy="460080"/>
            <a:chOff x="1427040" y="5732640"/>
            <a:chExt cx="7748640" cy="460080"/>
          </a:xfrm>
        </p:grpSpPr>
        <p:sp>
          <p:nvSpPr>
            <p:cNvPr id="1153" name="Rectangle 117"/>
            <p:cNvSpPr/>
            <p:nvPr/>
          </p:nvSpPr>
          <p:spPr>
            <a:xfrm>
              <a:off x="1427040" y="57326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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4" name="Group 118"/>
            <p:cNvGrpSpPr/>
            <p:nvPr/>
          </p:nvGrpSpPr>
          <p:grpSpPr>
            <a:xfrm>
              <a:off x="2427120" y="5784840"/>
              <a:ext cx="3841920" cy="407880"/>
              <a:chOff x="2427120" y="5784840"/>
              <a:chExt cx="3841920" cy="407880"/>
            </a:xfrm>
          </p:grpSpPr>
          <p:pic>
            <p:nvPicPr>
              <p:cNvPr id="1155" name="Picture 1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4880" y="57848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6" name="Picture 120" descr=""/>
              <p:cNvPicPr/>
              <p:nvPr/>
            </p:nvPicPr>
            <p:blipFill>
              <a:blip r:embed="rId6"/>
              <a:stretch/>
            </p:blipFill>
            <p:spPr>
              <a:xfrm>
                <a:off x="2427120" y="57880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58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1161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1162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9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79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0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4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1185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6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7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0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1191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6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0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2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6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211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1212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6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1217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1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7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9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1240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6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1247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7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6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1267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9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1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1272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7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1278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288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95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1296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1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1302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2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1313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5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8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1319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1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2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1323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1324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1325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6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7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8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1329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1330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1331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2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3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4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5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6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7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1338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9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0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1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2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3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44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1345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6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7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8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9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0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51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1352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3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4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5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6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7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58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1359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1360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1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2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63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64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1365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1366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1367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8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9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0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1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2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73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1374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5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6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7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8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9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80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1381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2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3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4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5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6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87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1388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9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0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1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2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3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94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1395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1396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7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8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99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00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6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8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1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12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17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9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1430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9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1440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9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1450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2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3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1454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6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9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1460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1461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7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8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75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6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1477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9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0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1491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8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1499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9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8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1529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33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9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1540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0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8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0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1571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1572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73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1574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5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6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8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1579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84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1585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6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7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8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9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0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1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2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3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4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5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4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Rectangle 4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9" name="Group 6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600" name="Line 7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1" name="Group 8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602" name="Freeform 9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Freeform 10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4" name="Line 11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Text Box 12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6" name="Group 13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607" name="Rectangle 14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Rectangle 15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Rectangle 16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Rectangle 17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Rectangle 18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2" name="Group 19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613" name="Line 20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Line 22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Line 23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4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5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Line 26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7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Line 28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9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3" name="Line 30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Text Box 31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Rectangle 33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27" name="Text Box 40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Rectangle 3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Rectangle 2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0" name="Group 3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631" name="Line 4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2" name="Group 5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633" name="Freeform 6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7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5" name="Line 8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Text Box 9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7" name="Group 10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638" name="Rectangle 11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Rectangle 12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Rectangle 13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Rectangle 14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Rectangle 15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3" name="Group 16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644" name="Line 17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18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19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Line 21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2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3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4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5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6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4" name="Line 27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Text Box 28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Rectangle 29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8" name="Text Box 31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Rectangle 33"/>
          <p:cNvSpPr/>
          <p:nvPr/>
        </p:nvSpPr>
        <p:spPr>
          <a:xfrm>
            <a:off x="477360" y="5830920"/>
            <a:ext cx="29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t decreas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Rectangle 34"/>
          <p:cNvSpPr/>
          <p:nvPr/>
        </p:nvSpPr>
        <p:spPr>
          <a:xfrm>
            <a:off x="480960" y="5227560"/>
            <a:ext cx="1444680" cy="392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2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156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158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66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67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9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1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99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203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5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212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216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217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218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225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232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239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5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246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247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0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252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253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254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261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268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275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1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82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83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87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95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99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300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301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308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315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322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329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330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4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336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337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0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341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342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343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350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357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364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0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371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372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5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6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77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78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79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86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93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400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06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407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408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1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12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418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419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2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423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424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425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432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8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439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446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2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453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454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7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459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460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461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468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75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82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88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89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90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3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94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7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98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0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07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508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512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513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514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521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528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535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542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543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6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7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549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550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3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554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555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556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563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570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6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577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83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584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585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8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9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590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591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592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599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606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2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613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19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620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621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4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5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9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631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632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5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636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637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638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645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652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659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65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666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667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0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1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672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673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674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0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681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688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695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01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702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703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6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7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0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711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3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4-01-21T20:34:20Z</dcterms:modified>
  <cp:revision>482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