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5CC73569-42AC-4D13-80BC-8408299274F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48ADCA13-DFB7-48C3-AF52-8A2D15B1833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 Paul G</cp:lastModifiedBy>
  <cp:lastPrinted>2000-03-27T14:29:43Z</cp:lastPrinted>
  <dcterms:modified xsi:type="dcterms:W3CDTF">2013-01-07T17:46:02Z</dcterms:modified>
  <cp:revision>629</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