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18.wmf" ContentType="image/x-wmf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0.png" ContentType="image/png"/>
  <Override PartName="/ppt/media/image28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17.wmf" ContentType="image/x-wmf"/>
  <Override PartName="/ppt/media/image9.png" ContentType="image/png"/>
  <Override PartName="/ppt/media/image13.wmf" ContentType="image/x-wmf"/>
  <Override PartName="/ppt/media/image37.wmf" ContentType="image/x-wmf"/>
  <Override PartName="/ppt/media/image3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E9BA73B-F513-4DA2-875F-78FA9CB3A0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“accidental degenera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820AF5A8-CF7E-42AB-9625-6168E7FE59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30917B6D-6EC7-487D-AC4E-4E0653BD38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57280" y="932040"/>
            <a:ext cx="8242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It was almost as incredible as if   you fired a 15-inch shell at a piece  of tissue paper, and it came back     to hit you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--E. Ruther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(on the ‘discovery’ 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of the nucl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317" name="Text Box 16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7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9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2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23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5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26"/>
          <p:cNvGrpSpPr/>
          <p:nvPr/>
        </p:nvGrpSpPr>
        <p:grpSpPr>
          <a:xfrm>
            <a:off x="326880" y="4392720"/>
            <a:ext cx="4857480" cy="405720"/>
            <a:chOff x="326880" y="4392720"/>
            <a:chExt cx="4857480" cy="405720"/>
          </a:xfrm>
        </p:grpSpPr>
        <p:sp>
          <p:nvSpPr>
            <p:cNvPr id="328" name="Line 27"/>
            <p:cNvSpPr/>
            <p:nvPr/>
          </p:nvSpPr>
          <p:spPr>
            <a:xfrm>
              <a:off x="873000" y="4592520"/>
              <a:ext cx="82260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28"/>
            <p:cNvSpPr/>
            <p:nvPr/>
          </p:nvSpPr>
          <p:spPr>
            <a:xfrm>
              <a:off x="326880" y="4392720"/>
              <a:ext cx="66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9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4578480" y="44197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1817640" y="441792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1)  (2,1,2)  (1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198360" y="3886200"/>
            <a:ext cx="4987800" cy="405720"/>
            <a:chOff x="198360" y="3886200"/>
            <a:chExt cx="4987800" cy="405720"/>
          </a:xfrm>
        </p:grpSpPr>
        <p:sp>
          <p:nvSpPr>
            <p:cNvPr id="333" name="Line 32"/>
            <p:cNvSpPr/>
            <p:nvPr/>
          </p:nvSpPr>
          <p:spPr>
            <a:xfrm>
              <a:off x="874800" y="4086360"/>
              <a:ext cx="822240" cy="144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3"/>
            <p:cNvSpPr/>
            <p:nvPr/>
          </p:nvSpPr>
          <p:spPr>
            <a:xfrm>
              <a:off x="198360" y="388620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34"/>
            <p:cNvSpPr/>
            <p:nvPr/>
          </p:nvSpPr>
          <p:spPr>
            <a:xfrm>
              <a:off x="4580280" y="39132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5"/>
            <p:cNvSpPr/>
            <p:nvPr/>
          </p:nvSpPr>
          <p:spPr>
            <a:xfrm>
              <a:off x="1819080" y="391176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3,1,1)  (1,3,1)  (1,1,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36"/>
          <p:cNvGrpSpPr/>
          <p:nvPr/>
        </p:nvGrpSpPr>
        <p:grpSpPr>
          <a:xfrm>
            <a:off x="162000" y="3454560"/>
            <a:ext cx="5022360" cy="411120"/>
            <a:chOff x="162000" y="3454560"/>
            <a:chExt cx="5022360" cy="411120"/>
          </a:xfrm>
        </p:grpSpPr>
        <p:sp>
          <p:nvSpPr>
            <p:cNvPr id="338" name="Text Box 37"/>
            <p:cNvSpPr/>
            <p:nvPr/>
          </p:nvSpPr>
          <p:spPr>
            <a:xfrm>
              <a:off x="162000" y="3454560"/>
              <a:ext cx="75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12E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860400" y="3656160"/>
              <a:ext cx="82224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9"/>
            <p:cNvSpPr/>
            <p:nvPr/>
          </p:nvSpPr>
          <p:spPr>
            <a:xfrm>
              <a:off x="4578480" y="34606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40"/>
            <p:cNvSpPr/>
            <p:nvPr/>
          </p:nvSpPr>
          <p:spPr>
            <a:xfrm>
              <a:off x="1816200" y="349740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1"/>
          <p:cNvGrpSpPr/>
          <p:nvPr/>
        </p:nvGrpSpPr>
        <p:grpSpPr>
          <a:xfrm>
            <a:off x="5711760" y="3825720"/>
            <a:ext cx="3354120" cy="1081800"/>
            <a:chOff x="5711760" y="3825720"/>
            <a:chExt cx="3354120" cy="1081800"/>
          </a:xfrm>
        </p:grpSpPr>
        <p:graphicFrame>
          <p:nvGraphicFramePr>
            <p:cNvPr id="343" name="Object 42"/>
            <p:cNvGraphicFramePr/>
            <p:nvPr/>
          </p:nvGraphicFramePr>
          <p:xfrm>
            <a:off x="5711760" y="3825720"/>
            <a:ext cx="335412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1760" y="3825720"/>
                      <a:ext cx="33541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3"/>
            <p:cNvSpPr/>
            <p:nvPr/>
          </p:nvSpPr>
          <p:spPr>
            <a:xfrm>
              <a:off x="6334560" y="4536720"/>
              <a:ext cx="212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= 1,2,3,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44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14760" y="3875040"/>
            <a:ext cx="674640" cy="355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39560" y="4390920"/>
            <a:ext cx="79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ordering of the three numbers will give the same energy.  Because they are all different (distinguishable), the answer is 3! =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124880" y="5757840"/>
            <a:ext cx="268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it possible to have D &gt; 6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Consider E = 62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3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74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200560" y="4200480"/>
            <a:ext cx="380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ymmetry is “broken” for y, so the 3-fold degeneracy is lowered. 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2-fold degeneracy remains, because x and z are still symmetr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an overall lowering of energies due to decreased confinement along 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092680" y="5799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948480" y="58309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062000" y="597060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095560" y="535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2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1066680" y="544032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 flipH="1" flipV="1">
            <a:off x="1913040" y="5465880"/>
            <a:ext cx="247680" cy="7920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3938760" y="53690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938760" y="49928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071720" y="5326200"/>
            <a:ext cx="834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92320" y="49831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2,1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1910880" y="5180040"/>
            <a:ext cx="273240" cy="11736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4" name="Object 26"/>
          <p:cNvGraphicFramePr/>
          <p:nvPr/>
        </p:nvGraphicFramePr>
        <p:xfrm>
          <a:off x="1650960" y="2324160"/>
          <a:ext cx="3659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324160"/>
                    <a:ext cx="3659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418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44"/>
          <p:cNvSpPr/>
          <p:nvPr/>
        </p:nvSpPr>
        <p:spPr>
          <a:xfrm>
            <a:off x="2221200" y="40654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thers are left for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4084560" y="2990880"/>
            <a:ext cx="6426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mall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an E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5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568440" y="2554200"/>
            <a:ext cx="291456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68440" y="2554200"/>
            <a:ext cx="286704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435480" y="4559400"/>
            <a:ext cx="4859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for a given n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x motion is larger tha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y motion.  The effect is larger for larger n.  Therefore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gt;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60520" y="4492800"/>
            <a:ext cx="1990440" cy="450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83120" y="5962680"/>
            <a:ext cx="566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½ ,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511320" y="602460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say “the degeneracy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has been lifte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1" name="Object 10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1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2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0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3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2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 -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6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1000" y="4799160"/>
            <a:ext cx="85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nce the region in question is very small (i.e.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early constant), we can approximate the integra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0" name="Object 56"/>
          <p:cNvGraphicFramePr/>
          <p:nvPr/>
        </p:nvGraphicFramePr>
        <p:xfrm>
          <a:off x="326880" y="5518080"/>
          <a:ext cx="871704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880" y="5518080"/>
                    <a:ext cx="8717040" cy="8143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4956120" y="6461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ct solution = 0.003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496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507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utherford Experimen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516" name="Picture 3" descr="rutherford expt"/>
          <p:cNvPicPr/>
          <p:nvPr/>
        </p:nvPicPr>
        <p:blipFill>
          <a:blip r:embed="rId1"/>
          <a:stretch/>
        </p:blipFill>
        <p:spPr>
          <a:xfrm>
            <a:off x="187200" y="554040"/>
            <a:ext cx="8785440" cy="65372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4"/>
          <p:cNvSpPr/>
          <p:nvPr/>
        </p:nvSpPr>
        <p:spPr>
          <a:xfrm>
            <a:off x="1668600" y="586512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521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529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533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534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539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3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554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5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6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57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558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60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1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562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564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0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296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6" name="Object 5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Text Box 6"/>
          <p:cNvSpPr/>
          <p:nvPr/>
        </p:nvSpPr>
        <p:spPr>
          <a:xfrm>
            <a:off x="3990960" y="2763360"/>
            <a:ext cx="45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lectron sits closer to the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507960" y="2909880"/>
            <a:ext cx="167328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7265880" y="2459160"/>
            <a:ext cx="354240" cy="28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(an ionized Helium a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4027320" y="4229280"/>
            <a:ext cx="4759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early the electron will be more tightly bound, so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&gt;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.  How muc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ightly?  Look 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901880" y="6081120"/>
            <a:ext cx="44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general, for a “hydrogenic” at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ly one electron) with Z prot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5" name="Object 6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Text Box 7"/>
          <p:cNvSpPr/>
          <p:nvPr/>
        </p:nvSpPr>
        <p:spPr>
          <a:xfrm>
            <a:off x="3990960" y="2718360"/>
            <a:ext cx="45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 “sits” closer to the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8" name="Object 8"/>
          <p:cNvGraphicFramePr/>
          <p:nvPr/>
        </p:nvGraphicFramePr>
        <p:xfrm>
          <a:off x="3586320" y="5246640"/>
          <a:ext cx="5368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5246640"/>
                    <a:ext cx="536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9"/>
          <p:cNvSpPr/>
          <p:nvPr/>
        </p:nvSpPr>
        <p:spPr>
          <a:xfrm>
            <a:off x="507960" y="2909880"/>
            <a:ext cx="187632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552600" y="5029200"/>
            <a:ext cx="227160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7361280" y="5276880"/>
            <a:ext cx="317520" cy="299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3" name="Object 12"/>
          <p:cNvGraphicFramePr/>
          <p:nvPr/>
        </p:nvGraphicFramePr>
        <p:xfrm>
          <a:off x="5700600" y="6222960"/>
          <a:ext cx="16858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622296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5673600" y="6124680"/>
            <a:ext cx="1881360" cy="57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3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4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7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8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2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9120" y="5732640"/>
            <a:ext cx="6110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al Exam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day, Oct. 14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work 6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Saturday (Oct. 12), 8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7440" y="522360"/>
            <a:ext cx="8634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now: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eneral properties and equations of quantum mechanics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independent Schrodinger’s Equation (SEQ) and eigenstates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dependent SEQ, superposition of eigenstates, time dependence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lapse of the wave functio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, H atom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, electron s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clusion principle, periodic table of atoms, molecu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ids, Metals, insulators, semiconduc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equences of Q. M., Schrodinger’s cat, superconductors, lasers,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8520" y="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Overview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5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1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4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2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2-24T00:10:27Z</dcterms:modified>
  <cp:revision>43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