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2BCA3F-2EA6-439F-9625-ACAF97812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43F9756E-A675-40B3-A749-F0975E8730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16FD26A2-8CC0-46A6-B57E-F93C42F675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11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12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12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12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12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13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13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3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4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5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6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7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9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21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7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42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50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52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8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4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2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3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4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5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7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7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5600" y="996840"/>
            <a:ext cx="877104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Taylor Hughes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Bryan Clark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Tony Heg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8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8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9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9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91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2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92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92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93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93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93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4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4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4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5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6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7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8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9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100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101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4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4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959800" y="283680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5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5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7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7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7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7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8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8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8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Dept. Policy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Polic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orth 1 pt each (out of 1000); we’ll drop the lowes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10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11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2T19:50:1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