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3.wmf" ContentType="image/x-wmf"/>
  <Override PartName="/ppt/media/image20.gif" ContentType="image/gif"/>
  <Override PartName="/ppt/media/image6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9F74DB-89E4-4AC8-97A0-80AE19CBB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f = f0/2 --- answer is then Stays the Same – NO photo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we add the parenthetic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you could also double the intensity by focussing the beam, but that would not change the number of photons (or photoelectr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90852578-AFFD-4729-994E-2E507CE174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F920D013-72BF-4009-80CB-981772AA60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936590BA-6A4A-4829-85D1-FB55C271E8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29000" y="1293840"/>
            <a:ext cx="44416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5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53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5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5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6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70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71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73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77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78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4114800"/>
            <a:ext cx="5333760" cy="68580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952880"/>
            <a:ext cx="58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Interference only occurs when the contributing processes are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indistinguishable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. In the current case, you could tell which path a given photon took, by measuring it’s col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refore, there’s no inter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444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447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450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453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467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481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8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30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3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66760" y="475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rot="16200000">
            <a:off x="583920" y="5060160"/>
            <a:ext cx="236520" cy="564840"/>
          </a:xfrm>
          <a:prstGeom prst="downArrow">
            <a:avLst>
              <a:gd name="adj1" fmla="val 50000"/>
              <a:gd name="adj2" fmla="val 59703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33520" y="5072040"/>
          <a:ext cx="36748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5072040"/>
                    <a:ext cx="3674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434960" y="3578400"/>
          <a:ext cx="14986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3578400"/>
                    <a:ext cx="1498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414440" y="4259160"/>
          <a:ext cx="406260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4440" y="4259160"/>
                    <a:ext cx="40626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76040" y="603720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accelerate an electron to an energy of 5.6 keV requires 5.6 kilovolts 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The convenience of electron-volt uni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51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0640" y="4079880"/>
            <a:ext cx="285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D is the diffraction angle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lever ar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spot siz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538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560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561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570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574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580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602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603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611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623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632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642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646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670040" y="4162320"/>
            <a:ext cx="2127240" cy="40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79400" y="5451480"/>
            <a:ext cx="1521000" cy="355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59000" y="61920"/>
            <a:ext cx="2810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074600" y="2552760"/>
          <a:ext cx="69058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552760"/>
                    <a:ext cx="69058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6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4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7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49320"/>
            <a:ext cx="6667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hotoelectric Effect: 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0" y="2209680"/>
            <a:ext cx="23295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f  -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3.1eV - 0.21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2.89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74000" y="2378160"/>
            <a:ext cx="44265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tead of hf, use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 1240/400 = 3.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V,   e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4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5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36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9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9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5334120"/>
            <a:ext cx="58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Because the frequency is higher than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, each incident photon has a chance to emit an electron. Doubling the number of photons doubles the number of photo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53341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2-09T21:44:27Z</dcterms:modified>
  <cp:revision>63</cp:revision>
  <dc:subject/>
  <dc:title>Slide 1</dc:title>
</cp:coreProperties>
</file>