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17.png" ContentType="image/png"/>
  <Override PartName="/ppt/media/image16.jpeg" ContentType="image/jpeg"/>
  <Override PartName="/ppt/media/image15.gif" ContentType="image/gif"/>
  <Override PartName="/ppt/media/image14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B16665-C367-4847-9F86-140BDEDB6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637BF577-2C85-4267-BA3E-E859DB8A87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17437B0C-A213-4465-A1FA-DDAA0D6299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EE587C6A-E623-4F27-A37B-B32E567DF1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6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7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29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8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0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301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304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307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313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324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34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367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9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5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3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6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391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392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0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401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405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411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433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434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442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456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457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465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475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479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239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240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1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242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246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247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8-08T19:40:33Z</dcterms:modified>
  <cp:revision>65</cp:revision>
  <dc:subject/>
  <dc:title>Slide 1</dc:title>
</cp:coreProperties>
</file>