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9.wmf" ContentType="image/x-wmf"/>
  <Override PartName="/ppt/media/image6.wmf" ContentType="image/x-wmf"/>
  <Override PartName="/ppt/media/image5.wmf" ContentType="image/x-wmf"/>
  <Override PartName="/ppt/media/image30.wmf" ContentType="image/x-wmf"/>
  <Override PartName="/ppt/media/image28.wmf" ContentType="image/x-wmf"/>
  <Override PartName="/ppt/media/image31.wmf" ContentType="image/x-wmf"/>
  <Override PartName="/ppt/media/image7.jpeg" ContentType="image/jpeg"/>
  <Override PartName="/ppt/media/image10.wmf" ContentType="image/x-wmf"/>
  <Override PartName="/ppt/media/image11.wmf" ContentType="image/x-wmf"/>
  <Override PartName="/ppt/media/image23.wmf" ContentType="image/x-wmf"/>
  <Override PartName="/ppt/media/image9.jpeg" ContentType="image/jpeg"/>
  <Override PartName="/ppt/media/image12.wmf" ContentType="image/x-wmf"/>
  <Override PartName="/ppt/media/image8.jpeg" ContentType="image/jpeg"/>
  <Override PartName="/ppt/media/image13.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9"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61BE3CB5-9AA2-4625-84E3-0E18F32B4A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1"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2"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87280" y="703440"/>
            <a:ext cx="4631040" cy="3473280"/>
          </a:xfrm>
          <a:prstGeom prst="rect">
            <a:avLst/>
          </a:prstGeom>
          <a:ln w="0">
            <a:noFill/>
          </a:ln>
        </p:spPr>
      </p:sp>
      <p:sp>
        <p:nvSpPr>
          <p:cNvPr id="119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85840" y="703440"/>
            <a:ext cx="4630680" cy="3473280"/>
          </a:xfrm>
          <a:prstGeom prst="rect">
            <a:avLst/>
          </a:prstGeom>
          <a:ln w="0">
            <a:noFill/>
          </a:ln>
        </p:spPr>
      </p:sp>
      <p:sp>
        <p:nvSpPr>
          <p:cNvPr id="120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7280" y="703440"/>
            <a:ext cx="4631040" cy="3473280"/>
          </a:xfrm>
          <a:prstGeom prst="rect">
            <a:avLst/>
          </a:prstGeom>
          <a:ln w="0">
            <a:noFill/>
          </a:ln>
        </p:spPr>
      </p:sp>
      <p:sp>
        <p:nvSpPr>
          <p:cNvPr id="120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87280" y="703440"/>
            <a:ext cx="4631040" cy="3473280"/>
          </a:xfrm>
          <a:prstGeom prst="rect">
            <a:avLst/>
          </a:prstGeom>
          <a:ln w="0">
            <a:noFill/>
          </a:ln>
        </p:spPr>
      </p:sp>
      <p:sp>
        <p:nvSpPr>
          <p:cNvPr id="120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85840" y="703440"/>
            <a:ext cx="4630680" cy="3473280"/>
          </a:xfrm>
          <a:prstGeom prst="rect">
            <a:avLst/>
          </a:prstGeom>
          <a:ln w="0">
            <a:noFill/>
          </a:ln>
        </p:spPr>
      </p:sp>
      <p:sp>
        <p:nvSpPr>
          <p:cNvPr id="120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7280" y="703440"/>
            <a:ext cx="4631040" cy="347328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7280" y="703440"/>
            <a:ext cx="4631040" cy="3473280"/>
          </a:xfrm>
          <a:prstGeom prst="rect">
            <a:avLst/>
          </a:prstGeom>
          <a:ln w="0">
            <a:noFill/>
          </a:ln>
        </p:spPr>
      </p:sp>
      <p:sp>
        <p:nvSpPr>
          <p:cNvPr id="1210"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87280" y="703440"/>
            <a:ext cx="4631040" cy="3473280"/>
          </a:xfrm>
          <a:prstGeom prst="rect">
            <a:avLst/>
          </a:prstGeom>
          <a:ln w="0">
            <a:noFill/>
          </a:ln>
        </p:spPr>
      </p:sp>
      <p:sp>
        <p:nvSpPr>
          <p:cNvPr id="1212"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85840" y="703440"/>
            <a:ext cx="4630680" cy="3473280"/>
          </a:xfrm>
          <a:prstGeom prst="rect">
            <a:avLst/>
          </a:prstGeom>
          <a:ln w="0">
            <a:noFill/>
          </a:ln>
        </p:spPr>
      </p:sp>
      <p:sp>
        <p:nvSpPr>
          <p:cNvPr id="1194"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7280" y="703440"/>
            <a:ext cx="4631040" cy="3473280"/>
          </a:xfrm>
          <a:prstGeom prst="rect">
            <a:avLst/>
          </a:prstGeom>
          <a:ln w="0">
            <a:noFill/>
          </a:ln>
        </p:spPr>
      </p:sp>
      <p:sp>
        <p:nvSpPr>
          <p:cNvPr id="1196"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87280" y="703440"/>
            <a:ext cx="4631040" cy="3473280"/>
          </a:xfrm>
          <a:prstGeom prst="rect">
            <a:avLst/>
          </a:prstGeom>
          <a:ln w="0">
            <a:noFill/>
          </a:ln>
        </p:spPr>
      </p:sp>
      <p:sp>
        <p:nvSpPr>
          <p:cNvPr id="1198"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B1D9CCE8-BD3A-4676-A907-B98E53CF9CE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oleObject" Target="../embeddings/oleObject5.bin"/><Relationship Id="rId10" Type="http://schemas.openxmlformats.org/officeDocument/2006/relationships/image" Target="../media/image17.wmf"/><Relationship Id="rId11" Type="http://schemas.openxmlformats.org/officeDocument/2006/relationships/slideLayout" Target="../slideLayouts/slideLayout1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3"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4" name="Group 78"/>
          <p:cNvGrpSpPr/>
          <p:nvPr/>
        </p:nvGrpSpPr>
        <p:grpSpPr>
          <a:xfrm>
            <a:off x="815040" y="2084400"/>
            <a:ext cx="2729880" cy="3443040"/>
            <a:chOff x="815040" y="2084400"/>
            <a:chExt cx="2729880" cy="3443040"/>
          </a:xfrm>
        </p:grpSpPr>
        <p:grpSp>
          <p:nvGrpSpPr>
            <p:cNvPr id="85" name="Group 44"/>
            <p:cNvGrpSpPr/>
            <p:nvPr/>
          </p:nvGrpSpPr>
          <p:grpSpPr>
            <a:xfrm>
              <a:off x="1197000" y="3263760"/>
              <a:ext cx="43560" cy="731880"/>
              <a:chOff x="1197000" y="3263760"/>
              <a:chExt cx="43560" cy="731880"/>
            </a:xfrm>
          </p:grpSpPr>
          <p:sp>
            <p:nvSpPr>
              <p:cNvPr id="86"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8" name="Group 47"/>
            <p:cNvGrpSpPr/>
            <p:nvPr/>
          </p:nvGrpSpPr>
          <p:grpSpPr>
            <a:xfrm>
              <a:off x="815040" y="2084400"/>
              <a:ext cx="2729880" cy="3443040"/>
              <a:chOff x="815040" y="2084400"/>
              <a:chExt cx="2729880" cy="3443040"/>
            </a:xfrm>
          </p:grpSpPr>
          <p:sp>
            <p:nvSpPr>
              <p:cNvPr id="89"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90"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4"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7"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9" name="Group 58"/>
              <p:cNvGrpSpPr/>
              <p:nvPr/>
            </p:nvGrpSpPr>
            <p:grpSpPr>
              <a:xfrm>
                <a:off x="815040" y="3549600"/>
                <a:ext cx="277200" cy="276480"/>
                <a:chOff x="815040" y="3549600"/>
                <a:chExt cx="277200" cy="276480"/>
              </a:xfrm>
            </p:grpSpPr>
            <p:sp>
              <p:nvSpPr>
                <p:cNvPr id="100"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101"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2"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3" name="Group 62"/>
              <p:cNvGrpSpPr/>
              <p:nvPr/>
            </p:nvGrpSpPr>
            <p:grpSpPr>
              <a:xfrm>
                <a:off x="1176480" y="2609640"/>
                <a:ext cx="82440" cy="2642400"/>
                <a:chOff x="1176480" y="2609640"/>
                <a:chExt cx="82440" cy="2642400"/>
              </a:xfrm>
            </p:grpSpPr>
            <p:sp>
              <p:nvSpPr>
                <p:cNvPr id="104"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0"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11"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5" name="Group 74"/>
              <p:cNvGrpSpPr/>
              <p:nvPr/>
            </p:nvGrpSpPr>
            <p:grpSpPr>
              <a:xfrm>
                <a:off x="2328840" y="2900160"/>
                <a:ext cx="522360" cy="942120"/>
                <a:chOff x="2328840" y="2900160"/>
                <a:chExt cx="522360" cy="942120"/>
              </a:xfrm>
            </p:grpSpPr>
            <p:sp>
              <p:nvSpPr>
                <p:cNvPr id="116"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7"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9"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20"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21"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2"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263"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264" name="Picture 4" descr="Compact_Disk"/>
          <p:cNvPicPr/>
          <p:nvPr/>
        </p:nvPicPr>
        <p:blipFill>
          <a:blip r:embed="rId1"/>
          <a:stretch/>
        </p:blipFill>
        <p:spPr>
          <a:xfrm>
            <a:off x="2325600" y="1987560"/>
            <a:ext cx="5040360" cy="1270080"/>
          </a:xfrm>
          <a:prstGeom prst="rect">
            <a:avLst/>
          </a:prstGeom>
          <a:ln w="0">
            <a:noFill/>
          </a:ln>
        </p:spPr>
      </p:pic>
      <p:sp>
        <p:nvSpPr>
          <p:cNvPr id="265"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266"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267"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268"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712680" y="215640"/>
            <a:ext cx="15447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a:t>
            </a:r>
            <a:endParaRPr b="1" lang="en-US" sz="3600" spc="-1" strike="noStrike">
              <a:solidFill>
                <a:srgbClr val="ff7c80"/>
              </a:solidFill>
              <a:latin typeface="Comic Sans MS"/>
            </a:endParaRPr>
          </a:p>
        </p:txBody>
      </p:sp>
      <p:sp>
        <p:nvSpPr>
          <p:cNvPr id="270"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grpSp>
        <p:nvGrpSpPr>
          <p:cNvPr id="271" name="Group 16"/>
          <p:cNvGrpSpPr/>
          <p:nvPr/>
        </p:nvGrpSpPr>
        <p:grpSpPr>
          <a:xfrm>
            <a:off x="6023520" y="928800"/>
            <a:ext cx="2729880" cy="3443040"/>
            <a:chOff x="6023520" y="928800"/>
            <a:chExt cx="2729880" cy="3443040"/>
          </a:xfrm>
        </p:grpSpPr>
        <p:sp>
          <p:nvSpPr>
            <p:cNvPr id="272"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273"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4"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77"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80"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282" name="Group 27"/>
            <p:cNvGrpSpPr/>
            <p:nvPr/>
          </p:nvGrpSpPr>
          <p:grpSpPr>
            <a:xfrm>
              <a:off x="6023520" y="2394000"/>
              <a:ext cx="277200" cy="276480"/>
              <a:chOff x="6023520" y="2394000"/>
              <a:chExt cx="277200" cy="276480"/>
            </a:xfrm>
          </p:grpSpPr>
          <p:sp>
            <p:nvSpPr>
              <p:cNvPr id="283"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84"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5"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86" name="Group 31"/>
            <p:cNvGrpSpPr/>
            <p:nvPr/>
          </p:nvGrpSpPr>
          <p:grpSpPr>
            <a:xfrm>
              <a:off x="6384960" y="1454040"/>
              <a:ext cx="82440" cy="2642400"/>
              <a:chOff x="6384960" y="1454040"/>
              <a:chExt cx="82440" cy="2642400"/>
            </a:xfrm>
          </p:grpSpPr>
          <p:sp>
            <p:nvSpPr>
              <p:cNvPr id="287"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8"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9"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0"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3"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4"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8" name="Group 43"/>
            <p:cNvGrpSpPr/>
            <p:nvPr/>
          </p:nvGrpSpPr>
          <p:grpSpPr>
            <a:xfrm>
              <a:off x="7537320" y="1744560"/>
              <a:ext cx="522360" cy="942120"/>
              <a:chOff x="7537320" y="1744560"/>
              <a:chExt cx="522360" cy="942120"/>
            </a:xfrm>
          </p:grpSpPr>
          <p:sp>
            <p:nvSpPr>
              <p:cNvPr id="299"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00"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4"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305"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307"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308" name="Group 4"/>
          <p:cNvGrpSpPr/>
          <p:nvPr/>
        </p:nvGrpSpPr>
        <p:grpSpPr>
          <a:xfrm>
            <a:off x="1308240" y="1962000"/>
            <a:ext cx="7513200" cy="1247760"/>
            <a:chOff x="1308240" y="1962000"/>
            <a:chExt cx="7513200" cy="1247760"/>
          </a:xfrm>
        </p:grpSpPr>
        <p:grpSp>
          <p:nvGrpSpPr>
            <p:cNvPr id="309" name="Group 5"/>
            <p:cNvGrpSpPr/>
            <p:nvPr/>
          </p:nvGrpSpPr>
          <p:grpSpPr>
            <a:xfrm>
              <a:off x="1308240" y="1962000"/>
              <a:ext cx="7513200" cy="1247760"/>
              <a:chOff x="1308240" y="1962000"/>
              <a:chExt cx="7513200" cy="1247760"/>
            </a:xfrm>
          </p:grpSpPr>
          <p:grpSp>
            <p:nvGrpSpPr>
              <p:cNvPr id="310" name="Group 6"/>
              <p:cNvGrpSpPr/>
              <p:nvPr/>
            </p:nvGrpSpPr>
            <p:grpSpPr>
              <a:xfrm>
                <a:off x="1308240" y="2201760"/>
                <a:ext cx="996840" cy="839160"/>
                <a:chOff x="1308240" y="2201760"/>
                <a:chExt cx="996840" cy="839160"/>
              </a:xfrm>
            </p:grpSpPr>
            <p:sp>
              <p:nvSpPr>
                <p:cNvPr id="311"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8"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20"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4"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325"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326"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327"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328" name="Group 38"/>
          <p:cNvGrpSpPr/>
          <p:nvPr/>
        </p:nvGrpSpPr>
        <p:grpSpPr>
          <a:xfrm>
            <a:off x="2987640" y="4016520"/>
            <a:ext cx="2712960" cy="2465280"/>
            <a:chOff x="2987640" y="4016520"/>
            <a:chExt cx="2712960" cy="2465280"/>
          </a:xfrm>
        </p:grpSpPr>
        <p:sp>
          <p:nvSpPr>
            <p:cNvPr id="329"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0"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2"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3"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4"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5"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6"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37"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8"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339"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40"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342"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343"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344"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345"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346"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351" name="Object 4"/>
          <p:cNvGraphicFramePr/>
          <p:nvPr/>
        </p:nvGraphicFramePr>
        <p:xfrm>
          <a:off x="2868480" y="803160"/>
          <a:ext cx="2459160" cy="922320"/>
        </p:xfrm>
        <a:graphic>
          <a:graphicData uri="http://schemas.openxmlformats.org/presentationml/2006/ole">
            <p:oleObj r:id="rId1" spid="">
              <p:embed/>
              <p:pic>
                <p:nvPicPr>
                  <p:cNvPr id="352"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353"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355"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357"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358" name="Group 4"/>
          <p:cNvGrpSpPr/>
          <p:nvPr/>
        </p:nvGrpSpPr>
        <p:grpSpPr>
          <a:xfrm>
            <a:off x="762120" y="2871720"/>
            <a:ext cx="6743520" cy="2165040"/>
            <a:chOff x="762120" y="2871720"/>
            <a:chExt cx="6743520" cy="2165040"/>
          </a:xfrm>
        </p:grpSpPr>
        <p:grpSp>
          <p:nvGrpSpPr>
            <p:cNvPr id="359" name="Group 5"/>
            <p:cNvGrpSpPr/>
            <p:nvPr/>
          </p:nvGrpSpPr>
          <p:grpSpPr>
            <a:xfrm>
              <a:off x="1336680" y="2898720"/>
              <a:ext cx="4325400" cy="749160"/>
              <a:chOff x="1336680" y="2898720"/>
              <a:chExt cx="4325400" cy="749160"/>
            </a:xfrm>
          </p:grpSpPr>
          <p:sp>
            <p:nvSpPr>
              <p:cNvPr id="360"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62"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363"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364"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5"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366"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68" name="Group 14"/>
            <p:cNvGrpSpPr/>
            <p:nvPr/>
          </p:nvGrpSpPr>
          <p:grpSpPr>
            <a:xfrm>
              <a:off x="1163520" y="3894120"/>
              <a:ext cx="4845960" cy="749160"/>
              <a:chOff x="1163520" y="3894120"/>
              <a:chExt cx="4845960" cy="749160"/>
            </a:xfrm>
          </p:grpSpPr>
          <p:sp>
            <p:nvSpPr>
              <p:cNvPr id="369"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0"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71"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2"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373"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376"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377"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378"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3"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4"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382"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383" name="Group 4"/>
          <p:cNvGrpSpPr/>
          <p:nvPr/>
        </p:nvGrpSpPr>
        <p:grpSpPr>
          <a:xfrm>
            <a:off x="6684840" y="1787400"/>
            <a:ext cx="2350800" cy="1567800"/>
            <a:chOff x="6684840" y="1787400"/>
            <a:chExt cx="2350800" cy="1567800"/>
          </a:xfrm>
        </p:grpSpPr>
        <p:sp>
          <p:nvSpPr>
            <p:cNvPr id="384"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385"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86" name="Group 7"/>
            <p:cNvGrpSpPr/>
            <p:nvPr/>
          </p:nvGrpSpPr>
          <p:grpSpPr>
            <a:xfrm>
              <a:off x="6684840" y="3017880"/>
              <a:ext cx="2350800" cy="337320"/>
              <a:chOff x="6684840" y="3017880"/>
              <a:chExt cx="2350800" cy="337320"/>
            </a:xfrm>
          </p:grpSpPr>
          <p:sp>
            <p:nvSpPr>
              <p:cNvPr id="387"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88"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389"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2"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393"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5"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6"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97" name="Object 18"/>
            <p:cNvGraphicFramePr/>
            <p:nvPr/>
          </p:nvGraphicFramePr>
          <p:xfrm>
            <a:off x="7526160" y="3046320"/>
            <a:ext cx="252720" cy="303480"/>
          </p:xfrm>
          <a:graphic>
            <a:graphicData uri="http://schemas.openxmlformats.org/presentationml/2006/ole">
              <p:oleObj r:id="rId1" spid="">
                <p:embed/>
                <p:pic>
                  <p:nvPicPr>
                    <p:cNvPr id="398"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399" name="Object 19"/>
          <p:cNvGraphicFramePr/>
          <p:nvPr/>
        </p:nvGraphicFramePr>
        <p:xfrm>
          <a:off x="4456080" y="3079800"/>
          <a:ext cx="1540080" cy="703080"/>
        </p:xfrm>
        <a:graphic>
          <a:graphicData uri="http://schemas.openxmlformats.org/presentationml/2006/ole">
            <p:oleObj r:id="rId3" spid="">
              <p:embed/>
              <p:pic>
                <p:nvPicPr>
                  <p:cNvPr id="400"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401" name="Group 20"/>
          <p:cNvGrpSpPr/>
          <p:nvPr/>
        </p:nvGrpSpPr>
        <p:grpSpPr>
          <a:xfrm>
            <a:off x="657360" y="5511960"/>
            <a:ext cx="7662240" cy="1427760"/>
            <a:chOff x="657360" y="5511960"/>
            <a:chExt cx="7662240" cy="1427760"/>
          </a:xfrm>
        </p:grpSpPr>
        <p:sp>
          <p:nvSpPr>
            <p:cNvPr id="402"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403" name="Group 22"/>
            <p:cNvGrpSpPr/>
            <p:nvPr/>
          </p:nvGrpSpPr>
          <p:grpSpPr>
            <a:xfrm>
              <a:off x="657360" y="5511960"/>
              <a:ext cx="7495920" cy="1047600"/>
              <a:chOff x="657360" y="5511960"/>
              <a:chExt cx="7495920" cy="1047600"/>
            </a:xfrm>
          </p:grpSpPr>
          <p:sp>
            <p:nvSpPr>
              <p:cNvPr id="404"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405" name="Group 24"/>
              <p:cNvGrpSpPr/>
              <p:nvPr/>
            </p:nvGrpSpPr>
            <p:grpSpPr>
              <a:xfrm>
                <a:off x="683640" y="5891400"/>
                <a:ext cx="7022520" cy="663120"/>
                <a:chOff x="683640" y="5891400"/>
                <a:chExt cx="7022520" cy="663120"/>
              </a:xfrm>
            </p:grpSpPr>
            <p:grpSp>
              <p:nvGrpSpPr>
                <p:cNvPr id="406" name="Group 25"/>
                <p:cNvGrpSpPr/>
                <p:nvPr/>
              </p:nvGrpSpPr>
              <p:grpSpPr>
                <a:xfrm>
                  <a:off x="683640" y="5891400"/>
                  <a:ext cx="3606840" cy="655560"/>
                  <a:chOff x="683640" y="5891400"/>
                  <a:chExt cx="3606840" cy="655560"/>
                </a:xfrm>
              </p:grpSpPr>
              <p:sp>
                <p:nvSpPr>
                  <p:cNvPr id="407"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09" name="Group 28"/>
                <p:cNvGrpSpPr/>
                <p:nvPr/>
              </p:nvGrpSpPr>
              <p:grpSpPr>
                <a:xfrm>
                  <a:off x="4099320" y="5898960"/>
                  <a:ext cx="3606840" cy="655560"/>
                  <a:chOff x="4099320" y="5898960"/>
                  <a:chExt cx="3606840" cy="655560"/>
                </a:xfrm>
              </p:grpSpPr>
              <p:sp>
                <p:nvSpPr>
                  <p:cNvPr id="410"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12"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6"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417"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18"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19"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420" name="Group 6"/>
          <p:cNvGrpSpPr/>
          <p:nvPr/>
        </p:nvGrpSpPr>
        <p:grpSpPr>
          <a:xfrm>
            <a:off x="1754280" y="5440320"/>
            <a:ext cx="2403000" cy="1379160"/>
            <a:chOff x="1754280" y="5440320"/>
            <a:chExt cx="2403000" cy="1379160"/>
          </a:xfrm>
        </p:grpSpPr>
        <p:grpSp>
          <p:nvGrpSpPr>
            <p:cNvPr id="421" name="Group 7"/>
            <p:cNvGrpSpPr/>
            <p:nvPr/>
          </p:nvGrpSpPr>
          <p:grpSpPr>
            <a:xfrm>
              <a:off x="3576240" y="5868000"/>
              <a:ext cx="241200" cy="520920"/>
              <a:chOff x="3576240" y="5868000"/>
              <a:chExt cx="241200" cy="520920"/>
            </a:xfrm>
          </p:grpSpPr>
          <p:sp>
            <p:nvSpPr>
              <p:cNvPr id="422"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3"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4" name="Group 10"/>
            <p:cNvGrpSpPr/>
            <p:nvPr/>
          </p:nvGrpSpPr>
          <p:grpSpPr>
            <a:xfrm>
              <a:off x="3576240" y="5704560"/>
              <a:ext cx="394560" cy="857160"/>
              <a:chOff x="3576240" y="5704560"/>
              <a:chExt cx="394560" cy="857160"/>
            </a:xfrm>
          </p:grpSpPr>
          <p:sp>
            <p:nvSpPr>
              <p:cNvPr id="425"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6"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27" name="Group 13"/>
            <p:cNvGrpSpPr/>
            <p:nvPr/>
          </p:nvGrpSpPr>
          <p:grpSpPr>
            <a:xfrm>
              <a:off x="3553920" y="6019560"/>
              <a:ext cx="109440" cy="205920"/>
              <a:chOff x="3553920" y="6019560"/>
              <a:chExt cx="109440" cy="205920"/>
            </a:xfrm>
          </p:grpSpPr>
          <p:sp>
            <p:nvSpPr>
              <p:cNvPr id="428"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9"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30" name="Group 16"/>
            <p:cNvGrpSpPr/>
            <p:nvPr/>
          </p:nvGrpSpPr>
          <p:grpSpPr>
            <a:xfrm>
              <a:off x="1754280" y="5440320"/>
              <a:ext cx="2403000" cy="1379160"/>
              <a:chOff x="1754280" y="5440320"/>
              <a:chExt cx="2403000" cy="1379160"/>
            </a:xfrm>
          </p:grpSpPr>
          <p:grpSp>
            <p:nvGrpSpPr>
              <p:cNvPr id="431" name="Group 17"/>
              <p:cNvGrpSpPr/>
              <p:nvPr/>
            </p:nvGrpSpPr>
            <p:grpSpPr>
              <a:xfrm>
                <a:off x="1754280" y="5440320"/>
                <a:ext cx="1755720" cy="1379160"/>
                <a:chOff x="1754280" y="5440320"/>
                <a:chExt cx="1755720" cy="1379160"/>
              </a:xfrm>
            </p:grpSpPr>
            <p:grpSp>
              <p:nvGrpSpPr>
                <p:cNvPr id="432" name="Group 18"/>
                <p:cNvGrpSpPr/>
                <p:nvPr/>
              </p:nvGrpSpPr>
              <p:grpSpPr>
                <a:xfrm>
                  <a:off x="1754280" y="5529240"/>
                  <a:ext cx="1543320" cy="1193400"/>
                  <a:chOff x="1754280" y="5529240"/>
                  <a:chExt cx="1543320" cy="1193400"/>
                </a:xfrm>
              </p:grpSpPr>
              <p:sp>
                <p:nvSpPr>
                  <p:cNvPr id="433"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4"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5"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0"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3"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45" name="Group 31"/>
              <p:cNvGrpSpPr/>
              <p:nvPr/>
            </p:nvGrpSpPr>
            <p:grpSpPr>
              <a:xfrm>
                <a:off x="3587040" y="5531040"/>
                <a:ext cx="570240" cy="1259640"/>
                <a:chOff x="3587040" y="5531040"/>
                <a:chExt cx="570240" cy="1259640"/>
              </a:xfrm>
            </p:grpSpPr>
            <p:sp>
              <p:nvSpPr>
                <p:cNvPr id="446"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7"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448"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449"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450"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451" name="Group 37"/>
          <p:cNvGrpSpPr/>
          <p:nvPr/>
        </p:nvGrpSpPr>
        <p:grpSpPr>
          <a:xfrm>
            <a:off x="1531800" y="3848040"/>
            <a:ext cx="2498400" cy="1485720"/>
            <a:chOff x="1531800" y="3848040"/>
            <a:chExt cx="2498400" cy="1485720"/>
          </a:xfrm>
        </p:grpSpPr>
        <p:grpSp>
          <p:nvGrpSpPr>
            <p:cNvPr id="452" name="Group 38"/>
            <p:cNvGrpSpPr/>
            <p:nvPr/>
          </p:nvGrpSpPr>
          <p:grpSpPr>
            <a:xfrm>
              <a:off x="3896640" y="4161600"/>
              <a:ext cx="72000" cy="824760"/>
              <a:chOff x="3896640" y="4161600"/>
              <a:chExt cx="72000" cy="824760"/>
            </a:xfrm>
          </p:grpSpPr>
          <p:sp>
            <p:nvSpPr>
              <p:cNvPr id="453"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5"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6" name="Group 42"/>
            <p:cNvGrpSpPr/>
            <p:nvPr/>
          </p:nvGrpSpPr>
          <p:grpSpPr>
            <a:xfrm>
              <a:off x="1531800" y="3848040"/>
              <a:ext cx="2498400" cy="1485720"/>
              <a:chOff x="1531800" y="3848040"/>
              <a:chExt cx="2498400" cy="1485720"/>
            </a:xfrm>
          </p:grpSpPr>
          <p:sp>
            <p:nvSpPr>
              <p:cNvPr id="457"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8"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59" name="Group 45"/>
              <p:cNvGrpSpPr/>
              <p:nvPr/>
            </p:nvGrpSpPr>
            <p:grpSpPr>
              <a:xfrm>
                <a:off x="1531800" y="3930120"/>
                <a:ext cx="2498400" cy="1293120"/>
                <a:chOff x="1531800" y="3930120"/>
                <a:chExt cx="2498400" cy="1293120"/>
              </a:xfrm>
            </p:grpSpPr>
            <p:grpSp>
              <p:nvGrpSpPr>
                <p:cNvPr id="460" name="Group 46"/>
                <p:cNvGrpSpPr/>
                <p:nvPr/>
              </p:nvGrpSpPr>
              <p:grpSpPr>
                <a:xfrm>
                  <a:off x="1531800" y="3930120"/>
                  <a:ext cx="901440" cy="1293120"/>
                  <a:chOff x="1531800" y="3930120"/>
                  <a:chExt cx="901440" cy="1293120"/>
                </a:xfrm>
              </p:grpSpPr>
              <p:grpSp>
                <p:nvGrpSpPr>
                  <p:cNvPr id="461" name="Group 47"/>
                  <p:cNvGrpSpPr/>
                  <p:nvPr/>
                </p:nvGrpSpPr>
                <p:grpSpPr>
                  <a:xfrm>
                    <a:off x="2007000" y="3930120"/>
                    <a:ext cx="426240" cy="1293120"/>
                    <a:chOff x="2007000" y="3930120"/>
                    <a:chExt cx="426240" cy="1293120"/>
                  </a:xfrm>
                </p:grpSpPr>
                <p:sp>
                  <p:nvSpPr>
                    <p:cNvPr id="462"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7"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8"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0"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2" name="Group 58"/>
                  <p:cNvGrpSpPr/>
                  <p:nvPr/>
                </p:nvGrpSpPr>
                <p:grpSpPr>
                  <a:xfrm>
                    <a:off x="1531800" y="3930120"/>
                    <a:ext cx="426600" cy="1293120"/>
                    <a:chOff x="1531800" y="3930120"/>
                    <a:chExt cx="426600" cy="1293120"/>
                  </a:xfrm>
                </p:grpSpPr>
                <p:sp>
                  <p:nvSpPr>
                    <p:cNvPr id="473"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4"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5"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7"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0"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1"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2"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83" name="Group 69"/>
                <p:cNvGrpSpPr/>
                <p:nvPr/>
              </p:nvGrpSpPr>
              <p:grpSpPr>
                <a:xfrm>
                  <a:off x="2476440" y="3930120"/>
                  <a:ext cx="901440" cy="1293120"/>
                  <a:chOff x="2476440" y="3930120"/>
                  <a:chExt cx="901440" cy="1293120"/>
                </a:xfrm>
              </p:grpSpPr>
              <p:grpSp>
                <p:nvGrpSpPr>
                  <p:cNvPr id="484" name="Group 70"/>
                  <p:cNvGrpSpPr/>
                  <p:nvPr/>
                </p:nvGrpSpPr>
                <p:grpSpPr>
                  <a:xfrm>
                    <a:off x="2951640" y="3930120"/>
                    <a:ext cx="426240" cy="1293120"/>
                    <a:chOff x="2951640" y="3930120"/>
                    <a:chExt cx="426240" cy="1293120"/>
                  </a:xfrm>
                </p:grpSpPr>
                <p:sp>
                  <p:nvSpPr>
                    <p:cNvPr id="485"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6"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9"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3"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4"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5" name="Group 81"/>
                  <p:cNvGrpSpPr/>
                  <p:nvPr/>
                </p:nvGrpSpPr>
                <p:grpSpPr>
                  <a:xfrm>
                    <a:off x="2476440" y="3930120"/>
                    <a:ext cx="426600" cy="1293120"/>
                    <a:chOff x="2476440" y="3930120"/>
                    <a:chExt cx="426600" cy="1293120"/>
                  </a:xfrm>
                </p:grpSpPr>
                <p:sp>
                  <p:nvSpPr>
                    <p:cNvPr id="496"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7"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8"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0"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1"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4"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06" name="Group 92"/>
                <p:cNvGrpSpPr/>
                <p:nvPr/>
              </p:nvGrpSpPr>
              <p:grpSpPr>
                <a:xfrm>
                  <a:off x="3946320" y="4130280"/>
                  <a:ext cx="83880" cy="884520"/>
                  <a:chOff x="3946320" y="4130280"/>
                  <a:chExt cx="83880" cy="884520"/>
                </a:xfrm>
              </p:grpSpPr>
              <p:sp>
                <p:nvSpPr>
                  <p:cNvPr id="507"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8"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9"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0" name="Group 96"/>
                <p:cNvGrpSpPr/>
                <p:nvPr/>
              </p:nvGrpSpPr>
              <p:grpSpPr>
                <a:xfrm>
                  <a:off x="3587040" y="4231440"/>
                  <a:ext cx="72000" cy="671760"/>
                  <a:chOff x="3587040" y="4231440"/>
                  <a:chExt cx="72000" cy="671760"/>
                </a:xfrm>
              </p:grpSpPr>
              <p:sp>
                <p:nvSpPr>
                  <p:cNvPr id="511"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2"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3"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4" name="Group 100"/>
                <p:cNvGrpSpPr/>
                <p:nvPr/>
              </p:nvGrpSpPr>
              <p:grpSpPr>
                <a:xfrm>
                  <a:off x="3771360" y="4184640"/>
                  <a:ext cx="72000" cy="742320"/>
                  <a:chOff x="3771360" y="4184640"/>
                  <a:chExt cx="72000" cy="742320"/>
                </a:xfrm>
              </p:grpSpPr>
              <p:sp>
                <p:nvSpPr>
                  <p:cNvPr id="515"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6"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8" name="Group 104"/>
                <p:cNvGrpSpPr/>
                <p:nvPr/>
              </p:nvGrpSpPr>
              <p:grpSpPr>
                <a:xfrm>
                  <a:off x="3709800" y="4219920"/>
                  <a:ext cx="72000" cy="671760"/>
                  <a:chOff x="3709800" y="4219920"/>
                  <a:chExt cx="72000" cy="671760"/>
                </a:xfrm>
              </p:grpSpPr>
              <p:sp>
                <p:nvSpPr>
                  <p:cNvPr id="519"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0"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1"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2" name="Group 108"/>
                <p:cNvGrpSpPr/>
                <p:nvPr/>
              </p:nvGrpSpPr>
              <p:grpSpPr>
                <a:xfrm>
                  <a:off x="3648600" y="4219920"/>
                  <a:ext cx="72000" cy="671760"/>
                  <a:chOff x="3648600" y="4219920"/>
                  <a:chExt cx="72000" cy="671760"/>
                </a:xfrm>
              </p:grpSpPr>
              <p:sp>
                <p:nvSpPr>
                  <p:cNvPr id="523"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4"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5"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6" name="Group 112"/>
                <p:cNvGrpSpPr/>
                <p:nvPr/>
              </p:nvGrpSpPr>
              <p:grpSpPr>
                <a:xfrm>
                  <a:off x="3832560" y="4184640"/>
                  <a:ext cx="72000" cy="754200"/>
                  <a:chOff x="3832560" y="4184640"/>
                  <a:chExt cx="72000" cy="754200"/>
                </a:xfrm>
              </p:grpSpPr>
              <p:sp>
                <p:nvSpPr>
                  <p:cNvPr id="527"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8"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9"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0" name="Group 116"/>
                <p:cNvGrpSpPr/>
                <p:nvPr/>
              </p:nvGrpSpPr>
              <p:grpSpPr>
                <a:xfrm>
                  <a:off x="3533400" y="4280040"/>
                  <a:ext cx="73440" cy="601200"/>
                  <a:chOff x="3533400" y="4280040"/>
                  <a:chExt cx="73440" cy="601200"/>
                </a:xfrm>
              </p:grpSpPr>
              <p:sp>
                <p:nvSpPr>
                  <p:cNvPr id="531"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2"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33"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4"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5"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537"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538" name="Group 124"/>
          <p:cNvGrpSpPr/>
          <p:nvPr/>
        </p:nvGrpSpPr>
        <p:grpSpPr>
          <a:xfrm>
            <a:off x="6765840" y="1046160"/>
            <a:ext cx="2347920" cy="2114280"/>
            <a:chOff x="6765840" y="1046160"/>
            <a:chExt cx="2347920" cy="2114280"/>
          </a:xfrm>
        </p:grpSpPr>
        <p:sp>
          <p:nvSpPr>
            <p:cNvPr id="539"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541"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542" name="Group 128"/>
            <p:cNvGrpSpPr/>
            <p:nvPr/>
          </p:nvGrpSpPr>
          <p:grpSpPr>
            <a:xfrm>
              <a:off x="7934400" y="1730520"/>
              <a:ext cx="815760" cy="1429920"/>
              <a:chOff x="7934400" y="1730520"/>
              <a:chExt cx="815760" cy="1429920"/>
            </a:xfrm>
          </p:grpSpPr>
          <p:sp>
            <p:nvSpPr>
              <p:cNvPr id="543"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4"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5"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6"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7"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8"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49"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0"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1"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2"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3"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55"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557" name="Group 64"/>
          <p:cNvGrpSpPr/>
          <p:nvPr/>
        </p:nvGrpSpPr>
        <p:grpSpPr>
          <a:xfrm>
            <a:off x="4879800" y="3241800"/>
            <a:ext cx="3729240" cy="3274920"/>
            <a:chOff x="4879800" y="3241800"/>
            <a:chExt cx="3729240" cy="3274920"/>
          </a:xfrm>
        </p:grpSpPr>
        <p:grpSp>
          <p:nvGrpSpPr>
            <p:cNvPr id="558" name="Group 31"/>
            <p:cNvGrpSpPr/>
            <p:nvPr/>
          </p:nvGrpSpPr>
          <p:grpSpPr>
            <a:xfrm>
              <a:off x="5675400" y="3540240"/>
              <a:ext cx="1073160" cy="1654200"/>
              <a:chOff x="5675400" y="3540240"/>
              <a:chExt cx="1073160" cy="1654200"/>
            </a:xfrm>
          </p:grpSpPr>
          <p:sp>
            <p:nvSpPr>
              <p:cNvPr id="559"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0"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1" name="Group 34"/>
              <p:cNvGrpSpPr/>
              <p:nvPr/>
            </p:nvGrpSpPr>
            <p:grpSpPr>
              <a:xfrm>
                <a:off x="5675400" y="3705120"/>
                <a:ext cx="911160" cy="1396440"/>
                <a:chOff x="5675400" y="3705120"/>
                <a:chExt cx="911160" cy="1396440"/>
              </a:xfrm>
            </p:grpSpPr>
            <p:sp>
              <p:nvSpPr>
                <p:cNvPr id="562"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5"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6"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1"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72" name="Group 63"/>
            <p:cNvGrpSpPr/>
            <p:nvPr/>
          </p:nvGrpSpPr>
          <p:grpSpPr>
            <a:xfrm>
              <a:off x="6985080" y="3292560"/>
              <a:ext cx="1623960" cy="3224160"/>
              <a:chOff x="6985080" y="3292560"/>
              <a:chExt cx="1623960" cy="3224160"/>
            </a:xfrm>
          </p:grpSpPr>
          <p:sp>
            <p:nvSpPr>
              <p:cNvPr id="573"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575" name="Group 62"/>
              <p:cNvGrpSpPr/>
              <p:nvPr/>
            </p:nvGrpSpPr>
            <p:grpSpPr>
              <a:xfrm>
                <a:off x="6985080" y="3292560"/>
                <a:ext cx="1193760" cy="1591200"/>
                <a:chOff x="6985080" y="3292560"/>
                <a:chExt cx="1193760" cy="1591200"/>
              </a:xfrm>
            </p:grpSpPr>
            <p:sp>
              <p:nvSpPr>
                <p:cNvPr id="576"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7"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578"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579"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0"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581"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582"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583" name="Group 61"/>
          <p:cNvGrpSpPr/>
          <p:nvPr/>
        </p:nvGrpSpPr>
        <p:grpSpPr>
          <a:xfrm>
            <a:off x="399960" y="3189960"/>
            <a:ext cx="3526200" cy="3276000"/>
            <a:chOff x="399960" y="3189960"/>
            <a:chExt cx="3526200" cy="3276000"/>
          </a:xfrm>
        </p:grpSpPr>
        <p:grpSp>
          <p:nvGrpSpPr>
            <p:cNvPr id="584" name="Group 5"/>
            <p:cNvGrpSpPr/>
            <p:nvPr/>
          </p:nvGrpSpPr>
          <p:grpSpPr>
            <a:xfrm>
              <a:off x="992160" y="3668760"/>
              <a:ext cx="1071720" cy="1395360"/>
              <a:chOff x="992160" y="3668760"/>
              <a:chExt cx="1071720" cy="1395360"/>
            </a:xfrm>
          </p:grpSpPr>
          <p:sp>
            <p:nvSpPr>
              <p:cNvPr id="585"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86" name="Group 7"/>
              <p:cNvGrpSpPr/>
              <p:nvPr/>
            </p:nvGrpSpPr>
            <p:grpSpPr>
              <a:xfrm>
                <a:off x="992160" y="3668760"/>
                <a:ext cx="911160" cy="1395360"/>
                <a:chOff x="992160" y="3668760"/>
                <a:chExt cx="911160" cy="1395360"/>
              </a:xfrm>
            </p:grpSpPr>
            <p:sp>
              <p:nvSpPr>
                <p:cNvPr id="587"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8"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9"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0"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1"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2"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3"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4"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5"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6"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97" name="Group 60"/>
            <p:cNvGrpSpPr/>
            <p:nvPr/>
          </p:nvGrpSpPr>
          <p:grpSpPr>
            <a:xfrm>
              <a:off x="2301840" y="3189960"/>
              <a:ext cx="1624320" cy="3276000"/>
              <a:chOff x="2301840" y="3189960"/>
              <a:chExt cx="1624320" cy="3276000"/>
            </a:xfrm>
          </p:grpSpPr>
          <p:grpSp>
            <p:nvGrpSpPr>
              <p:cNvPr id="598" name="Group 59"/>
              <p:cNvGrpSpPr/>
              <p:nvPr/>
            </p:nvGrpSpPr>
            <p:grpSpPr>
              <a:xfrm>
                <a:off x="2301840" y="3189960"/>
                <a:ext cx="1624320" cy="3276000"/>
                <a:chOff x="2301840" y="3189960"/>
                <a:chExt cx="1624320" cy="3276000"/>
              </a:xfrm>
            </p:grpSpPr>
            <p:sp>
              <p:nvSpPr>
                <p:cNvPr id="599"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01" name="Group 58"/>
                <p:cNvGrpSpPr/>
                <p:nvPr/>
              </p:nvGrpSpPr>
              <p:grpSpPr>
                <a:xfrm>
                  <a:off x="2301840" y="3189960"/>
                  <a:ext cx="1193760" cy="2554920"/>
                  <a:chOff x="2301840" y="3189960"/>
                  <a:chExt cx="1193760" cy="2554920"/>
                </a:xfrm>
              </p:grpSpPr>
              <p:sp>
                <p:nvSpPr>
                  <p:cNvPr id="602"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3"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04"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05"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6"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607"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608"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612"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613" name="Group 4"/>
          <p:cNvGrpSpPr/>
          <p:nvPr/>
        </p:nvGrpSpPr>
        <p:grpSpPr>
          <a:xfrm>
            <a:off x="117360" y="4208400"/>
            <a:ext cx="860040" cy="1440000"/>
            <a:chOff x="117360" y="4208400"/>
            <a:chExt cx="860040" cy="1440000"/>
          </a:xfrm>
        </p:grpSpPr>
        <p:sp>
          <p:nvSpPr>
            <p:cNvPr id="614"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18"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619"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20"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621" name="Object 12"/>
          <p:cNvGraphicFramePr/>
          <p:nvPr/>
        </p:nvGraphicFramePr>
        <p:xfrm>
          <a:off x="1393920" y="4378320"/>
          <a:ext cx="2367000" cy="831960"/>
        </p:xfrm>
        <a:graphic>
          <a:graphicData uri="http://schemas.openxmlformats.org/presentationml/2006/ole">
            <p:oleObj r:id="rId1" spid="">
              <p:embed/>
              <p:pic>
                <p:nvPicPr>
                  <p:cNvPr id="622"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623" name="Object 13"/>
          <p:cNvGraphicFramePr/>
          <p:nvPr/>
        </p:nvGraphicFramePr>
        <p:xfrm>
          <a:off x="1344600" y="5316480"/>
          <a:ext cx="1965240" cy="831960"/>
        </p:xfrm>
        <a:graphic>
          <a:graphicData uri="http://schemas.openxmlformats.org/presentationml/2006/ole">
            <p:oleObj r:id="rId3" spid="">
              <p:embed/>
              <p:pic>
                <p:nvPicPr>
                  <p:cNvPr id="624"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625"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626" name="Group 15"/>
          <p:cNvGrpSpPr/>
          <p:nvPr/>
        </p:nvGrpSpPr>
        <p:grpSpPr>
          <a:xfrm>
            <a:off x="4930920" y="363600"/>
            <a:ext cx="4353480" cy="3830040"/>
            <a:chOff x="4930920" y="363600"/>
            <a:chExt cx="4353480" cy="3830040"/>
          </a:xfrm>
        </p:grpSpPr>
        <p:sp>
          <p:nvSpPr>
            <p:cNvPr id="627"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8"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29"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632"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633"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634"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5"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37"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638"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39"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640"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643"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45"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646"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7"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48"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9"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0"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651" name="Group 40"/>
            <p:cNvGrpSpPr/>
            <p:nvPr/>
          </p:nvGrpSpPr>
          <p:grpSpPr>
            <a:xfrm>
              <a:off x="5081400" y="1773000"/>
              <a:ext cx="1365480" cy="1956960"/>
              <a:chOff x="5081400" y="1773000"/>
              <a:chExt cx="1365480" cy="1956960"/>
            </a:xfrm>
          </p:grpSpPr>
          <p:sp>
            <p:nvSpPr>
              <p:cNvPr id="652"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3"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4"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5"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6"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7"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8"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9"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0"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1"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62" name="Group 51"/>
          <p:cNvGrpSpPr/>
          <p:nvPr/>
        </p:nvGrpSpPr>
        <p:grpSpPr>
          <a:xfrm>
            <a:off x="4660920" y="4227480"/>
            <a:ext cx="4707000" cy="1741680"/>
            <a:chOff x="4660920" y="4227480"/>
            <a:chExt cx="4707000" cy="1741680"/>
          </a:xfrm>
        </p:grpSpPr>
        <p:sp>
          <p:nvSpPr>
            <p:cNvPr id="663"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664" name="Object 53"/>
            <p:cNvGraphicFramePr/>
            <p:nvPr/>
          </p:nvGraphicFramePr>
          <p:xfrm>
            <a:off x="4697280" y="5280120"/>
            <a:ext cx="2014560" cy="669960"/>
          </p:xfrm>
          <a:graphic>
            <a:graphicData uri="http://schemas.openxmlformats.org/presentationml/2006/ole">
              <p:oleObj r:id="rId5" spid="">
                <p:embed/>
                <p:pic>
                  <p:nvPicPr>
                    <p:cNvPr id="665"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666" name="Object 54"/>
            <p:cNvGraphicFramePr/>
            <p:nvPr/>
          </p:nvGraphicFramePr>
          <p:xfrm>
            <a:off x="7029360" y="5280120"/>
            <a:ext cx="1871640" cy="689040"/>
          </p:xfrm>
          <a:graphic>
            <a:graphicData uri="http://schemas.openxmlformats.org/presentationml/2006/ole">
              <p:oleObj r:id="rId7" spid="">
                <p:embed/>
                <p:pic>
                  <p:nvPicPr>
                    <p:cNvPr id="667"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668" name="Group 55"/>
          <p:cNvGrpSpPr/>
          <p:nvPr/>
        </p:nvGrpSpPr>
        <p:grpSpPr>
          <a:xfrm>
            <a:off x="3549600" y="6026040"/>
            <a:ext cx="5594400" cy="831960"/>
            <a:chOff x="3549600" y="6026040"/>
            <a:chExt cx="5594400" cy="831960"/>
          </a:xfrm>
        </p:grpSpPr>
        <p:sp>
          <p:nvSpPr>
            <p:cNvPr id="669"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670" name="Object 57"/>
            <p:cNvGraphicFramePr/>
            <p:nvPr/>
          </p:nvGraphicFramePr>
          <p:xfrm>
            <a:off x="7259760" y="6026040"/>
            <a:ext cx="1884240" cy="831960"/>
          </p:xfrm>
          <a:graphic>
            <a:graphicData uri="http://schemas.openxmlformats.org/presentationml/2006/ole">
              <p:oleObj r:id="rId9" spid="">
                <p:embed/>
                <p:pic>
                  <p:nvPicPr>
                    <p:cNvPr id="671"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672"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0"/>
                                          </p:stCondLst>
                                        </p:cTn>
                                        <p:tgtEl>
                                          <p:spTgt spid="662"/>
                                        </p:tgtEl>
                                        <p:attrNameLst>
                                          <p:attrName>style.visibility</p:attrName>
                                        </p:attrNameLst>
                                      </p:cBhvr>
                                      <p:to>
                                        <p:strVal val="visible"/>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3844440" y="205920"/>
            <a:ext cx="14814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1" lang="en-US" sz="3600" spc="-1" strike="noStrike">
              <a:solidFill>
                <a:srgbClr val="ff7c80"/>
              </a:solidFill>
              <a:latin typeface="Comic Sans MS"/>
            </a:endParaRPr>
          </a:p>
        </p:txBody>
      </p:sp>
      <p:sp>
        <p:nvSpPr>
          <p:cNvPr id="674"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675" name="Group 4"/>
          <p:cNvGrpSpPr/>
          <p:nvPr/>
        </p:nvGrpSpPr>
        <p:grpSpPr>
          <a:xfrm>
            <a:off x="1332000" y="1036800"/>
            <a:ext cx="7012080" cy="1716120"/>
            <a:chOff x="1332000" y="1036800"/>
            <a:chExt cx="7012080" cy="1716120"/>
          </a:xfrm>
        </p:grpSpPr>
        <p:grpSp>
          <p:nvGrpSpPr>
            <p:cNvPr id="676" name="Group 5"/>
            <p:cNvGrpSpPr/>
            <p:nvPr/>
          </p:nvGrpSpPr>
          <p:grpSpPr>
            <a:xfrm>
              <a:off x="1332000" y="1036800"/>
              <a:ext cx="5510160" cy="1716120"/>
              <a:chOff x="1332000" y="1036800"/>
              <a:chExt cx="5510160" cy="1716120"/>
            </a:xfrm>
          </p:grpSpPr>
          <p:grpSp>
            <p:nvGrpSpPr>
              <p:cNvPr id="677" name="Group 6"/>
              <p:cNvGrpSpPr/>
              <p:nvPr/>
            </p:nvGrpSpPr>
            <p:grpSpPr>
              <a:xfrm>
                <a:off x="1332000" y="1036800"/>
                <a:ext cx="5510160" cy="1716120"/>
                <a:chOff x="1332000" y="1036800"/>
                <a:chExt cx="5510160" cy="1716120"/>
              </a:xfrm>
            </p:grpSpPr>
            <p:sp>
              <p:nvSpPr>
                <p:cNvPr id="678"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9" name="Group 8"/>
                <p:cNvGrpSpPr/>
                <p:nvPr/>
              </p:nvGrpSpPr>
              <p:grpSpPr>
                <a:xfrm>
                  <a:off x="1986120" y="1449000"/>
                  <a:ext cx="0" cy="687600"/>
                  <a:chOff x="1986120" y="1449000"/>
                  <a:chExt cx="0" cy="687600"/>
                </a:xfrm>
              </p:grpSpPr>
              <p:sp>
                <p:nvSpPr>
                  <p:cNvPr id="680"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1"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2"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3"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4"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685" name="Group 14"/>
                <p:cNvGrpSpPr/>
                <p:nvPr/>
              </p:nvGrpSpPr>
              <p:grpSpPr>
                <a:xfrm>
                  <a:off x="1332000" y="1541520"/>
                  <a:ext cx="550800" cy="540000"/>
                  <a:chOff x="1332000" y="1541520"/>
                  <a:chExt cx="550800" cy="540000"/>
                </a:xfrm>
              </p:grpSpPr>
              <p:sp>
                <p:nvSpPr>
                  <p:cNvPr id="686"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7"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8"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9"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0"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91" name="Group 20"/>
              <p:cNvGrpSpPr/>
              <p:nvPr/>
            </p:nvGrpSpPr>
            <p:grpSpPr>
              <a:xfrm>
                <a:off x="2138760" y="1467000"/>
                <a:ext cx="270720" cy="630000"/>
                <a:chOff x="2138760" y="1467000"/>
                <a:chExt cx="270720" cy="630000"/>
              </a:xfrm>
            </p:grpSpPr>
            <p:grpSp>
              <p:nvGrpSpPr>
                <p:cNvPr id="692" name="Group 21"/>
                <p:cNvGrpSpPr/>
                <p:nvPr/>
              </p:nvGrpSpPr>
              <p:grpSpPr>
                <a:xfrm>
                  <a:off x="2144880" y="1467000"/>
                  <a:ext cx="0" cy="630000"/>
                  <a:chOff x="2144880" y="1467000"/>
                  <a:chExt cx="0" cy="630000"/>
                </a:xfrm>
              </p:grpSpPr>
              <p:sp>
                <p:nvSpPr>
                  <p:cNvPr id="693"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4"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95"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696" name="Group 25"/>
            <p:cNvGrpSpPr/>
            <p:nvPr/>
          </p:nvGrpSpPr>
          <p:grpSpPr>
            <a:xfrm>
              <a:off x="6923160" y="1541520"/>
              <a:ext cx="1420920" cy="540000"/>
              <a:chOff x="6923160" y="1541520"/>
              <a:chExt cx="1420920" cy="540000"/>
            </a:xfrm>
          </p:grpSpPr>
          <p:sp>
            <p:nvSpPr>
              <p:cNvPr id="697"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8"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700"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701"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702" name="Group 5"/>
          <p:cNvGrpSpPr/>
          <p:nvPr/>
        </p:nvGrpSpPr>
        <p:grpSpPr>
          <a:xfrm>
            <a:off x="179280" y="2467080"/>
            <a:ext cx="3724560" cy="2518200"/>
            <a:chOff x="179280" y="2467080"/>
            <a:chExt cx="3724560" cy="2518200"/>
          </a:xfrm>
        </p:grpSpPr>
        <p:grpSp>
          <p:nvGrpSpPr>
            <p:cNvPr id="703" name="Group 6"/>
            <p:cNvGrpSpPr/>
            <p:nvPr/>
          </p:nvGrpSpPr>
          <p:grpSpPr>
            <a:xfrm>
              <a:off x="179280" y="2467080"/>
              <a:ext cx="3724560" cy="2518200"/>
              <a:chOff x="179280" y="2467080"/>
              <a:chExt cx="3724560" cy="2518200"/>
            </a:xfrm>
          </p:grpSpPr>
          <p:pic>
            <p:nvPicPr>
              <p:cNvPr id="704"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705"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706"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707"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08"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709"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710"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11"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12" name="Group 15"/>
          <p:cNvGrpSpPr/>
          <p:nvPr/>
        </p:nvGrpSpPr>
        <p:grpSpPr>
          <a:xfrm>
            <a:off x="5918040" y="1407960"/>
            <a:ext cx="71280" cy="2712960"/>
            <a:chOff x="5918040" y="1407960"/>
            <a:chExt cx="71280" cy="2712960"/>
          </a:xfrm>
        </p:grpSpPr>
        <p:sp>
          <p:nvSpPr>
            <p:cNvPr id="713"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4"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715" name="Object 18"/>
          <p:cNvGraphicFramePr/>
          <p:nvPr/>
        </p:nvGraphicFramePr>
        <p:xfrm>
          <a:off x="1033560" y="1576440"/>
          <a:ext cx="1963800" cy="795240"/>
        </p:xfrm>
        <a:graphic>
          <a:graphicData uri="http://schemas.openxmlformats.org/presentationml/2006/ole">
            <p:oleObj r:id="rId2" spid="">
              <p:embed/>
              <p:pic>
                <p:nvPicPr>
                  <p:cNvPr id="716"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717"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718"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719" name="Group 21"/>
          <p:cNvGrpSpPr/>
          <p:nvPr/>
        </p:nvGrpSpPr>
        <p:grpSpPr>
          <a:xfrm>
            <a:off x="5525640" y="1658880"/>
            <a:ext cx="3545280" cy="2634120"/>
            <a:chOff x="5525640" y="1658880"/>
            <a:chExt cx="3545280" cy="2634120"/>
          </a:xfrm>
        </p:grpSpPr>
        <p:sp>
          <p:nvSpPr>
            <p:cNvPr id="720"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1"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722"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23"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4"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725"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726"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727" name="Group 29"/>
            <p:cNvGrpSpPr/>
            <p:nvPr/>
          </p:nvGrpSpPr>
          <p:grpSpPr>
            <a:xfrm>
              <a:off x="5647680" y="2162160"/>
              <a:ext cx="1602360" cy="1376280"/>
              <a:chOff x="5647680" y="2162160"/>
              <a:chExt cx="1602360" cy="1376280"/>
            </a:xfrm>
          </p:grpSpPr>
          <p:sp>
            <p:nvSpPr>
              <p:cNvPr id="728"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9"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1"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4"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35" name="Group 37"/>
              <p:cNvGrpSpPr/>
              <p:nvPr/>
            </p:nvGrpSpPr>
            <p:grpSpPr>
              <a:xfrm>
                <a:off x="5959440" y="2211480"/>
                <a:ext cx="258480" cy="1159560"/>
                <a:chOff x="5959440" y="2211480"/>
                <a:chExt cx="258480" cy="1159560"/>
              </a:xfrm>
            </p:grpSpPr>
            <p:sp>
              <p:nvSpPr>
                <p:cNvPr id="736"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7"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38"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39"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0"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1"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2"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3"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4"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5"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46"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747"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8"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49"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0"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1"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2"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3"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4"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5"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6"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57"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8"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59"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0"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761"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2"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763"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764"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5"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766"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8"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9"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70" name="Group 72"/>
              <p:cNvGrpSpPr/>
              <p:nvPr/>
            </p:nvGrpSpPr>
            <p:grpSpPr>
              <a:xfrm>
                <a:off x="5647680" y="2174400"/>
                <a:ext cx="99720" cy="1195920"/>
                <a:chOff x="5647680" y="2174400"/>
                <a:chExt cx="99720" cy="1195920"/>
              </a:xfrm>
            </p:grpSpPr>
            <p:sp>
              <p:nvSpPr>
                <p:cNvPr id="771"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772" name="Group 74"/>
                <p:cNvGrpSpPr/>
                <p:nvPr/>
              </p:nvGrpSpPr>
              <p:grpSpPr>
                <a:xfrm>
                  <a:off x="5692680" y="2174400"/>
                  <a:ext cx="0" cy="1195920"/>
                  <a:chOff x="5692680" y="2174400"/>
                  <a:chExt cx="0" cy="1195920"/>
                </a:xfrm>
              </p:grpSpPr>
              <p:sp>
                <p:nvSpPr>
                  <p:cNvPr id="773"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75" name="Group 77"/>
              <p:cNvGrpSpPr/>
              <p:nvPr/>
            </p:nvGrpSpPr>
            <p:grpSpPr>
              <a:xfrm>
                <a:off x="5902200" y="2165400"/>
                <a:ext cx="74880" cy="1205280"/>
                <a:chOff x="5902200" y="2165400"/>
                <a:chExt cx="74880" cy="1205280"/>
              </a:xfrm>
            </p:grpSpPr>
            <p:sp>
              <p:nvSpPr>
                <p:cNvPr id="776"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77" name="Group 79"/>
                <p:cNvGrpSpPr/>
                <p:nvPr/>
              </p:nvGrpSpPr>
              <p:grpSpPr>
                <a:xfrm>
                  <a:off x="5902200" y="2165400"/>
                  <a:ext cx="74520" cy="1205280"/>
                  <a:chOff x="5902200" y="2165400"/>
                  <a:chExt cx="74520" cy="1205280"/>
                </a:xfrm>
              </p:grpSpPr>
              <p:sp>
                <p:nvSpPr>
                  <p:cNvPr id="778"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79"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0"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1"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2"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3"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4"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785"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786"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787"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8"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9"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790"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9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3"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794"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796" name="Object 19"/>
          <p:cNvGraphicFramePr/>
          <p:nvPr/>
        </p:nvGraphicFramePr>
        <p:xfrm>
          <a:off x="3408480" y="2376360"/>
          <a:ext cx="1968480" cy="789120"/>
        </p:xfrm>
        <a:graphic>
          <a:graphicData uri="http://schemas.openxmlformats.org/presentationml/2006/ole">
            <p:oleObj r:id="rId1" spid="">
              <p:embed/>
              <p:pic>
                <p:nvPicPr>
                  <p:cNvPr id="797"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798" name="Object 20"/>
          <p:cNvGraphicFramePr/>
          <p:nvPr/>
        </p:nvGraphicFramePr>
        <p:xfrm>
          <a:off x="3411360" y="958680"/>
          <a:ext cx="1963800" cy="736920"/>
        </p:xfrm>
        <a:graphic>
          <a:graphicData uri="http://schemas.openxmlformats.org/presentationml/2006/ole">
            <p:oleObj r:id="rId3" spid="">
              <p:embed/>
              <p:pic>
                <p:nvPicPr>
                  <p:cNvPr id="799"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800" name="Object 67"/>
          <p:cNvGraphicFramePr/>
          <p:nvPr/>
        </p:nvGraphicFramePr>
        <p:xfrm>
          <a:off x="2274840" y="4122720"/>
          <a:ext cx="3154320" cy="736560"/>
        </p:xfrm>
        <a:graphic>
          <a:graphicData uri="http://schemas.openxmlformats.org/presentationml/2006/ole">
            <p:oleObj r:id="rId5" spid="">
              <p:embed/>
              <p:pic>
                <p:nvPicPr>
                  <p:cNvPr id="801"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802"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803" name="Group 100"/>
          <p:cNvGrpSpPr/>
          <p:nvPr/>
        </p:nvGrpSpPr>
        <p:grpSpPr>
          <a:xfrm>
            <a:off x="5905440" y="701640"/>
            <a:ext cx="2952720" cy="1271520"/>
            <a:chOff x="5905440" y="701640"/>
            <a:chExt cx="2952720" cy="1271520"/>
          </a:xfrm>
        </p:grpSpPr>
        <p:grpSp>
          <p:nvGrpSpPr>
            <p:cNvPr id="804" name="Group 99"/>
            <p:cNvGrpSpPr/>
            <p:nvPr/>
          </p:nvGrpSpPr>
          <p:grpSpPr>
            <a:xfrm>
              <a:off x="6053040" y="701640"/>
              <a:ext cx="2633760" cy="1261440"/>
              <a:chOff x="6053040" y="701640"/>
              <a:chExt cx="2633760" cy="1261440"/>
            </a:xfrm>
          </p:grpSpPr>
          <p:sp>
            <p:nvSpPr>
              <p:cNvPr id="805"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6"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7"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8"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9"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0"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1"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12"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3" name="Group 101"/>
          <p:cNvGrpSpPr/>
          <p:nvPr/>
        </p:nvGrpSpPr>
        <p:grpSpPr>
          <a:xfrm>
            <a:off x="5905440" y="2303640"/>
            <a:ext cx="2952720" cy="1161720"/>
            <a:chOff x="5905440" y="2303640"/>
            <a:chExt cx="2952720" cy="1161720"/>
          </a:xfrm>
        </p:grpSpPr>
        <p:sp>
          <p:nvSpPr>
            <p:cNvPr id="814"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15"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16" name="Group 102"/>
          <p:cNvGrpSpPr/>
          <p:nvPr/>
        </p:nvGrpSpPr>
        <p:grpSpPr>
          <a:xfrm>
            <a:off x="5829480" y="3624120"/>
            <a:ext cx="3155760" cy="1230480"/>
            <a:chOff x="5829480" y="3624120"/>
            <a:chExt cx="3155760" cy="1230480"/>
          </a:xfrm>
        </p:grpSpPr>
        <p:sp>
          <p:nvSpPr>
            <p:cNvPr id="817"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818" name="Group 98"/>
            <p:cNvGrpSpPr/>
            <p:nvPr/>
          </p:nvGrpSpPr>
          <p:grpSpPr>
            <a:xfrm>
              <a:off x="6129360" y="3672000"/>
              <a:ext cx="2633760" cy="1168200"/>
              <a:chOff x="6129360" y="3672000"/>
              <a:chExt cx="2633760" cy="1168200"/>
            </a:xfrm>
          </p:grpSpPr>
          <p:sp>
            <p:nvSpPr>
              <p:cNvPr id="819"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0"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1"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2"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3"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4"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25"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26"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827"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1.</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6" name="Group 52"/>
          <p:cNvGrpSpPr/>
          <p:nvPr/>
        </p:nvGrpSpPr>
        <p:grpSpPr>
          <a:xfrm>
            <a:off x="871560" y="1136520"/>
            <a:ext cx="2503440" cy="2221200"/>
            <a:chOff x="871560" y="1136520"/>
            <a:chExt cx="2503440" cy="2221200"/>
          </a:xfrm>
        </p:grpSpPr>
        <p:sp>
          <p:nvSpPr>
            <p:cNvPr id="127"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8"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9"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0"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31" name="Group 17"/>
            <p:cNvGrpSpPr/>
            <p:nvPr/>
          </p:nvGrpSpPr>
          <p:grpSpPr>
            <a:xfrm>
              <a:off x="871560" y="1958040"/>
              <a:ext cx="725400" cy="955800"/>
              <a:chOff x="871560" y="1958040"/>
              <a:chExt cx="725400" cy="955800"/>
            </a:xfrm>
          </p:grpSpPr>
          <p:sp>
            <p:nvSpPr>
              <p:cNvPr id="132"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0"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2"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3"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4"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5"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6"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7" name="Group 78"/>
          <p:cNvGrpSpPr/>
          <p:nvPr/>
        </p:nvGrpSpPr>
        <p:grpSpPr>
          <a:xfrm>
            <a:off x="4957920" y="1198440"/>
            <a:ext cx="2655720" cy="2221200"/>
            <a:chOff x="4957920" y="1198440"/>
            <a:chExt cx="2655720" cy="2221200"/>
          </a:xfrm>
        </p:grpSpPr>
        <p:sp>
          <p:nvSpPr>
            <p:cNvPr id="148"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9"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1"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2"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3"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5"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7"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8"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8"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829"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Lab 1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30" name="Group 4"/>
          <p:cNvGrpSpPr/>
          <p:nvPr/>
        </p:nvGrpSpPr>
        <p:grpSpPr>
          <a:xfrm>
            <a:off x="5819760" y="3379680"/>
            <a:ext cx="3105000" cy="546120"/>
            <a:chOff x="5819760" y="3379680"/>
            <a:chExt cx="3105000" cy="546120"/>
          </a:xfrm>
        </p:grpSpPr>
        <p:sp>
          <p:nvSpPr>
            <p:cNvPr id="831"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2"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33" name="Group 7"/>
          <p:cNvGrpSpPr/>
          <p:nvPr/>
        </p:nvGrpSpPr>
        <p:grpSpPr>
          <a:xfrm>
            <a:off x="5819760" y="4903920"/>
            <a:ext cx="3105000" cy="552240"/>
            <a:chOff x="5819760" y="4903920"/>
            <a:chExt cx="3105000" cy="552240"/>
          </a:xfrm>
        </p:grpSpPr>
        <p:grpSp>
          <p:nvGrpSpPr>
            <p:cNvPr id="834" name="Group 8"/>
            <p:cNvGrpSpPr/>
            <p:nvPr/>
          </p:nvGrpSpPr>
          <p:grpSpPr>
            <a:xfrm>
              <a:off x="5819760" y="4903920"/>
              <a:ext cx="3105000" cy="552240"/>
              <a:chOff x="5819760" y="4903920"/>
              <a:chExt cx="3105000" cy="552240"/>
            </a:xfrm>
          </p:grpSpPr>
          <p:grpSp>
            <p:nvGrpSpPr>
              <p:cNvPr id="835" name="Group 9"/>
              <p:cNvGrpSpPr/>
              <p:nvPr/>
            </p:nvGrpSpPr>
            <p:grpSpPr>
              <a:xfrm>
                <a:off x="6075360" y="4903920"/>
                <a:ext cx="2716200" cy="552240"/>
                <a:chOff x="6075360" y="4903920"/>
                <a:chExt cx="2716200" cy="552240"/>
              </a:xfrm>
            </p:grpSpPr>
            <p:sp>
              <p:nvSpPr>
                <p:cNvPr id="836"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37"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8"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39"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840" name="Group 14"/>
          <p:cNvGrpSpPr/>
          <p:nvPr/>
        </p:nvGrpSpPr>
        <p:grpSpPr>
          <a:xfrm>
            <a:off x="5911920" y="1922400"/>
            <a:ext cx="2803320" cy="833400"/>
            <a:chOff x="5911920" y="1922400"/>
            <a:chExt cx="2803320" cy="833400"/>
          </a:xfrm>
        </p:grpSpPr>
        <p:grpSp>
          <p:nvGrpSpPr>
            <p:cNvPr id="841" name="Group 15"/>
            <p:cNvGrpSpPr/>
            <p:nvPr/>
          </p:nvGrpSpPr>
          <p:grpSpPr>
            <a:xfrm>
              <a:off x="5987880" y="1922400"/>
              <a:ext cx="2625480" cy="833400"/>
              <a:chOff x="5987880" y="1922400"/>
              <a:chExt cx="2625480" cy="833400"/>
            </a:xfrm>
          </p:grpSpPr>
          <p:pic>
            <p:nvPicPr>
              <p:cNvPr id="842" name="Picture 16" descr=""/>
              <p:cNvPicPr/>
              <p:nvPr/>
            </p:nvPicPr>
            <p:blipFill>
              <a:blip r:embed="rId1"/>
              <a:stretch/>
            </p:blipFill>
            <p:spPr>
              <a:xfrm>
                <a:off x="5987880" y="1922400"/>
                <a:ext cx="1479240" cy="833400"/>
              </a:xfrm>
              <a:prstGeom prst="rect">
                <a:avLst/>
              </a:prstGeom>
              <a:ln w="0">
                <a:noFill/>
              </a:ln>
            </p:spPr>
          </p:pic>
          <p:pic>
            <p:nvPicPr>
              <p:cNvPr id="843" name="Picture 17" descr=""/>
              <p:cNvPicPr/>
              <p:nvPr/>
            </p:nvPicPr>
            <p:blipFill>
              <a:blip r:embed="rId2"/>
              <a:stretch/>
            </p:blipFill>
            <p:spPr>
              <a:xfrm>
                <a:off x="7134120" y="1922400"/>
                <a:ext cx="1479240" cy="833400"/>
              </a:xfrm>
              <a:prstGeom prst="rect">
                <a:avLst/>
              </a:prstGeom>
              <a:ln w="0">
                <a:noFill/>
              </a:ln>
            </p:spPr>
          </p:pic>
        </p:grpSp>
        <p:sp>
          <p:nvSpPr>
            <p:cNvPr id="844"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45"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6"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848"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849" name="Group 96"/>
          <p:cNvGrpSpPr/>
          <p:nvPr/>
        </p:nvGrpSpPr>
        <p:grpSpPr>
          <a:xfrm>
            <a:off x="4950000" y="4595760"/>
            <a:ext cx="2875680" cy="1780560"/>
            <a:chOff x="4950000" y="4595760"/>
            <a:chExt cx="2875680" cy="1780560"/>
          </a:xfrm>
        </p:grpSpPr>
        <p:sp>
          <p:nvSpPr>
            <p:cNvPr id="850"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1"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2"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3"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4"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5"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56"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7"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58"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859"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0"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1"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862" name="Group 91"/>
          <p:cNvGrpSpPr/>
          <p:nvPr/>
        </p:nvGrpSpPr>
        <p:grpSpPr>
          <a:xfrm>
            <a:off x="1062000" y="3376440"/>
            <a:ext cx="2932200" cy="816840"/>
            <a:chOff x="1062000" y="3376440"/>
            <a:chExt cx="2932200" cy="816840"/>
          </a:xfrm>
        </p:grpSpPr>
        <p:sp>
          <p:nvSpPr>
            <p:cNvPr id="863"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864" name="Group 90"/>
            <p:cNvGrpSpPr/>
            <p:nvPr/>
          </p:nvGrpSpPr>
          <p:grpSpPr>
            <a:xfrm>
              <a:off x="1203120" y="3376440"/>
              <a:ext cx="2368800" cy="397800"/>
              <a:chOff x="1203120" y="3376440"/>
              <a:chExt cx="2368800" cy="397800"/>
            </a:xfrm>
          </p:grpSpPr>
          <p:sp>
            <p:nvSpPr>
              <p:cNvPr id="865"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6"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7"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8"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869"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70"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871"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872" name="Group 95"/>
          <p:cNvGrpSpPr/>
          <p:nvPr/>
        </p:nvGrpSpPr>
        <p:grpSpPr>
          <a:xfrm>
            <a:off x="5138640" y="176040"/>
            <a:ext cx="4203000" cy="3830760"/>
            <a:chOff x="5138640" y="176040"/>
            <a:chExt cx="4203000" cy="3830760"/>
          </a:xfrm>
        </p:grpSpPr>
        <p:grpSp>
          <p:nvGrpSpPr>
            <p:cNvPr id="873" name="Group 89"/>
            <p:cNvGrpSpPr/>
            <p:nvPr/>
          </p:nvGrpSpPr>
          <p:grpSpPr>
            <a:xfrm>
              <a:off x="5138640" y="176040"/>
              <a:ext cx="4203000" cy="3830760"/>
              <a:chOff x="5138640" y="176040"/>
              <a:chExt cx="4203000" cy="3830760"/>
            </a:xfrm>
          </p:grpSpPr>
          <p:sp>
            <p:nvSpPr>
              <p:cNvPr id="874"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75"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876"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77"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8"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79"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0"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1"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882"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83"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884"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5"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6"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87"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88"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889"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0"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891"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2"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3"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894"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5"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896"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897"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8"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9"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00"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1"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2"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03" name="Group 35"/>
              <p:cNvGrpSpPr/>
              <p:nvPr/>
            </p:nvGrpSpPr>
            <p:grpSpPr>
              <a:xfrm>
                <a:off x="6799320" y="1825560"/>
                <a:ext cx="724320" cy="1378080"/>
                <a:chOff x="6799320" y="1825560"/>
                <a:chExt cx="724320" cy="1378080"/>
              </a:xfrm>
            </p:grpSpPr>
            <p:sp>
              <p:nvSpPr>
                <p:cNvPr id="904"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5"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6"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07"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8"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09" name="Group 41"/>
              <p:cNvGrpSpPr/>
              <p:nvPr/>
            </p:nvGrpSpPr>
            <p:grpSpPr>
              <a:xfrm>
                <a:off x="5138640" y="1586160"/>
                <a:ext cx="1365480" cy="1957320"/>
                <a:chOff x="5138640" y="1586160"/>
                <a:chExt cx="1365480" cy="1957320"/>
              </a:xfrm>
            </p:grpSpPr>
            <p:sp>
              <p:nvSpPr>
                <p:cNvPr id="910"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1"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2"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3"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4"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5"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6"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7"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8"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9"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20"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21"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23"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24" name="Object 6"/>
          <p:cNvGraphicFramePr/>
          <p:nvPr/>
        </p:nvGraphicFramePr>
        <p:xfrm>
          <a:off x="3692520" y="2278080"/>
          <a:ext cx="3048120" cy="685800"/>
        </p:xfrm>
        <a:graphic>
          <a:graphicData uri="http://schemas.openxmlformats.org/presentationml/2006/ole">
            <p:oleObj r:id="rId1" spid="">
              <p:embed/>
              <p:pic>
                <p:nvPicPr>
                  <p:cNvPr id="925"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26" name="Object 7"/>
          <p:cNvGraphicFramePr/>
          <p:nvPr/>
        </p:nvGraphicFramePr>
        <p:xfrm>
          <a:off x="3616200" y="4427640"/>
          <a:ext cx="3492720" cy="1290600"/>
        </p:xfrm>
        <a:graphic>
          <a:graphicData uri="http://schemas.openxmlformats.org/presentationml/2006/ole">
            <p:oleObj r:id="rId3" spid="">
              <p:embed/>
              <p:pic>
                <p:nvPicPr>
                  <p:cNvPr id="927"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928" name="Group 17"/>
          <p:cNvGrpSpPr/>
          <p:nvPr/>
        </p:nvGrpSpPr>
        <p:grpSpPr>
          <a:xfrm>
            <a:off x="1442880" y="4892760"/>
            <a:ext cx="1305720" cy="1664640"/>
            <a:chOff x="1442880" y="4892760"/>
            <a:chExt cx="1305720" cy="1664640"/>
          </a:xfrm>
        </p:grpSpPr>
        <p:sp>
          <p:nvSpPr>
            <p:cNvPr id="929"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0" name="Group 19"/>
            <p:cNvGrpSpPr/>
            <p:nvPr/>
          </p:nvGrpSpPr>
          <p:grpSpPr>
            <a:xfrm>
              <a:off x="1442880" y="4892760"/>
              <a:ext cx="951480" cy="1420560"/>
              <a:chOff x="1442880" y="4892760"/>
              <a:chExt cx="951480" cy="1420560"/>
            </a:xfrm>
          </p:grpSpPr>
          <p:sp>
            <p:nvSpPr>
              <p:cNvPr id="931"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3" name="Group 22"/>
          <p:cNvGrpSpPr/>
          <p:nvPr/>
        </p:nvGrpSpPr>
        <p:grpSpPr>
          <a:xfrm>
            <a:off x="981000" y="4214160"/>
            <a:ext cx="2179080" cy="2338560"/>
            <a:chOff x="981000" y="4214160"/>
            <a:chExt cx="2179080" cy="2338560"/>
          </a:xfrm>
        </p:grpSpPr>
        <p:grpSp>
          <p:nvGrpSpPr>
            <p:cNvPr id="934" name="Group 23"/>
            <p:cNvGrpSpPr/>
            <p:nvPr/>
          </p:nvGrpSpPr>
          <p:grpSpPr>
            <a:xfrm>
              <a:off x="981000" y="4898520"/>
              <a:ext cx="952560" cy="1654200"/>
              <a:chOff x="981000" y="4898520"/>
              <a:chExt cx="952560" cy="1654200"/>
            </a:xfrm>
          </p:grpSpPr>
          <p:sp>
            <p:nvSpPr>
              <p:cNvPr id="935"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36" name="Group 25"/>
              <p:cNvGrpSpPr/>
              <p:nvPr/>
            </p:nvGrpSpPr>
            <p:grpSpPr>
              <a:xfrm>
                <a:off x="1438200" y="4898520"/>
                <a:ext cx="75960" cy="1653840"/>
                <a:chOff x="1438200" y="4898520"/>
                <a:chExt cx="75960" cy="1653840"/>
              </a:xfrm>
            </p:grpSpPr>
            <p:sp>
              <p:nvSpPr>
                <p:cNvPr id="937"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8"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39" name="Group 28"/>
            <p:cNvGrpSpPr/>
            <p:nvPr/>
          </p:nvGrpSpPr>
          <p:grpSpPr>
            <a:xfrm>
              <a:off x="1436760" y="4214160"/>
              <a:ext cx="1723320" cy="1806840"/>
              <a:chOff x="1436760" y="4214160"/>
              <a:chExt cx="1723320" cy="1806840"/>
            </a:xfrm>
          </p:grpSpPr>
          <p:grpSp>
            <p:nvGrpSpPr>
              <p:cNvPr id="940" name="Group 29"/>
              <p:cNvGrpSpPr/>
              <p:nvPr/>
            </p:nvGrpSpPr>
            <p:grpSpPr>
              <a:xfrm>
                <a:off x="1441800" y="4904280"/>
                <a:ext cx="1712520" cy="1116720"/>
                <a:chOff x="1441800" y="4904280"/>
                <a:chExt cx="1712520" cy="1116720"/>
              </a:xfrm>
            </p:grpSpPr>
            <p:sp>
              <p:nvSpPr>
                <p:cNvPr id="941"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2" name="Group 31"/>
                <p:cNvGrpSpPr/>
                <p:nvPr/>
              </p:nvGrpSpPr>
              <p:grpSpPr>
                <a:xfrm>
                  <a:off x="1441800" y="4904280"/>
                  <a:ext cx="1535040" cy="704160"/>
                  <a:chOff x="1441800" y="4904280"/>
                  <a:chExt cx="1535040" cy="704160"/>
                </a:xfrm>
              </p:grpSpPr>
              <p:sp>
                <p:nvSpPr>
                  <p:cNvPr id="943"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4"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945" name="Group 34"/>
              <p:cNvGrpSpPr/>
              <p:nvPr/>
            </p:nvGrpSpPr>
            <p:grpSpPr>
              <a:xfrm>
                <a:off x="1436760" y="4214160"/>
                <a:ext cx="1723320" cy="942120"/>
                <a:chOff x="1436760" y="4214160"/>
                <a:chExt cx="1723320" cy="942120"/>
              </a:xfrm>
            </p:grpSpPr>
            <p:sp>
              <p:nvSpPr>
                <p:cNvPr id="946"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47" name="Group 36"/>
                <p:cNvGrpSpPr/>
                <p:nvPr/>
              </p:nvGrpSpPr>
              <p:grpSpPr>
                <a:xfrm>
                  <a:off x="1436760" y="4627080"/>
                  <a:ext cx="1667880" cy="273960"/>
                  <a:chOff x="1436760" y="4627080"/>
                  <a:chExt cx="1667880" cy="273960"/>
                </a:xfrm>
              </p:grpSpPr>
              <p:sp>
                <p:nvSpPr>
                  <p:cNvPr id="948"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9"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950"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1"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952"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3"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954"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55"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56"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957"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58"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959"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1"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62"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3"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64"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965" name="Group 56"/>
          <p:cNvGrpSpPr/>
          <p:nvPr/>
        </p:nvGrpSpPr>
        <p:grpSpPr>
          <a:xfrm>
            <a:off x="981000" y="4211640"/>
            <a:ext cx="2057400" cy="2341440"/>
            <a:chOff x="981000" y="4211640"/>
            <a:chExt cx="2057400" cy="2341440"/>
          </a:xfrm>
        </p:grpSpPr>
        <p:sp>
          <p:nvSpPr>
            <p:cNvPr id="966"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7"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9"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970" name="Group 61"/>
          <p:cNvGrpSpPr/>
          <p:nvPr/>
        </p:nvGrpSpPr>
        <p:grpSpPr>
          <a:xfrm>
            <a:off x="903240" y="1833480"/>
            <a:ext cx="2107800" cy="2086920"/>
            <a:chOff x="903240" y="1833480"/>
            <a:chExt cx="2107800" cy="2086920"/>
          </a:xfrm>
        </p:grpSpPr>
        <p:grpSp>
          <p:nvGrpSpPr>
            <p:cNvPr id="971" name="Group 62"/>
            <p:cNvGrpSpPr/>
            <p:nvPr/>
          </p:nvGrpSpPr>
          <p:grpSpPr>
            <a:xfrm>
              <a:off x="903240" y="1833480"/>
              <a:ext cx="2107800" cy="2086920"/>
              <a:chOff x="903240" y="1833480"/>
              <a:chExt cx="2107800" cy="2086920"/>
            </a:xfrm>
          </p:grpSpPr>
          <p:grpSp>
            <p:nvGrpSpPr>
              <p:cNvPr id="972" name="Group 63"/>
              <p:cNvGrpSpPr/>
              <p:nvPr/>
            </p:nvGrpSpPr>
            <p:grpSpPr>
              <a:xfrm>
                <a:off x="1181160" y="1833480"/>
                <a:ext cx="1829880" cy="2086920"/>
                <a:chOff x="1181160" y="1833480"/>
                <a:chExt cx="1829880" cy="2086920"/>
              </a:xfrm>
            </p:grpSpPr>
            <p:grpSp>
              <p:nvGrpSpPr>
                <p:cNvPr id="973" name="Group 64"/>
                <p:cNvGrpSpPr/>
                <p:nvPr/>
              </p:nvGrpSpPr>
              <p:grpSpPr>
                <a:xfrm>
                  <a:off x="1181160" y="1833480"/>
                  <a:ext cx="1817640" cy="2086920"/>
                  <a:chOff x="1181160" y="1833480"/>
                  <a:chExt cx="1817640" cy="2086920"/>
                </a:xfrm>
              </p:grpSpPr>
              <p:sp>
                <p:nvSpPr>
                  <p:cNvPr id="974"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975"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6" name="Group 67"/>
                  <p:cNvGrpSpPr/>
                  <p:nvPr/>
                </p:nvGrpSpPr>
                <p:grpSpPr>
                  <a:xfrm>
                    <a:off x="1209600" y="1839960"/>
                    <a:ext cx="952560" cy="1654200"/>
                    <a:chOff x="1209600" y="1839960"/>
                    <a:chExt cx="952560" cy="1654200"/>
                  </a:xfrm>
                </p:grpSpPr>
                <p:sp>
                  <p:nvSpPr>
                    <p:cNvPr id="977"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8" name="Group 69"/>
                    <p:cNvGrpSpPr/>
                    <p:nvPr/>
                  </p:nvGrpSpPr>
                  <p:grpSpPr>
                    <a:xfrm>
                      <a:off x="1666800" y="1839960"/>
                      <a:ext cx="75960" cy="1653840"/>
                      <a:chOff x="1666800" y="1839960"/>
                      <a:chExt cx="75960" cy="1653840"/>
                    </a:xfrm>
                  </p:grpSpPr>
                  <p:sp>
                    <p:nvSpPr>
                      <p:cNvPr id="979"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0"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1"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982" name="Group 73"/>
                  <p:cNvGrpSpPr/>
                  <p:nvPr/>
                </p:nvGrpSpPr>
                <p:grpSpPr>
                  <a:xfrm>
                    <a:off x="1671120" y="1833480"/>
                    <a:ext cx="1306080" cy="1664640"/>
                    <a:chOff x="1671120" y="1833480"/>
                    <a:chExt cx="1306080" cy="1664640"/>
                  </a:xfrm>
                </p:grpSpPr>
                <p:sp>
                  <p:nvSpPr>
                    <p:cNvPr id="983"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84" name="Group 75"/>
                    <p:cNvGrpSpPr/>
                    <p:nvPr/>
                  </p:nvGrpSpPr>
                  <p:grpSpPr>
                    <a:xfrm>
                      <a:off x="1671120" y="1833480"/>
                      <a:ext cx="951480" cy="1420560"/>
                      <a:chOff x="1671120" y="1833480"/>
                      <a:chExt cx="951480" cy="1420560"/>
                    </a:xfrm>
                  </p:grpSpPr>
                  <p:sp>
                    <p:nvSpPr>
                      <p:cNvPr id="985"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6"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987"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988"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9"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990"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991"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992"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3"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4"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995"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6"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998"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9"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00"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1"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2"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03"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04" name="Object 95"/>
          <p:cNvGraphicFramePr/>
          <p:nvPr/>
        </p:nvGraphicFramePr>
        <p:xfrm>
          <a:off x="1442880" y="5321160"/>
          <a:ext cx="274680" cy="408240"/>
        </p:xfrm>
        <a:graphic>
          <a:graphicData uri="http://schemas.openxmlformats.org/presentationml/2006/ole">
            <p:oleObj r:id="rId5" spid="">
              <p:embed/>
              <p:pic>
                <p:nvPicPr>
                  <p:cNvPr id="1005"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06"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7"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08"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09"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11"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12"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3"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4"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5"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6"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17"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18" name="Group 12"/>
          <p:cNvGrpSpPr/>
          <p:nvPr/>
        </p:nvGrpSpPr>
        <p:grpSpPr>
          <a:xfrm>
            <a:off x="4484160" y="4941720"/>
            <a:ext cx="1855800" cy="1515240"/>
            <a:chOff x="4484160" y="4941720"/>
            <a:chExt cx="1855800" cy="1515240"/>
          </a:xfrm>
        </p:grpSpPr>
        <p:grpSp>
          <p:nvGrpSpPr>
            <p:cNvPr id="1019" name="Group 13"/>
            <p:cNvGrpSpPr/>
            <p:nvPr/>
          </p:nvGrpSpPr>
          <p:grpSpPr>
            <a:xfrm>
              <a:off x="4484160" y="4941720"/>
              <a:ext cx="1638720" cy="1480680"/>
              <a:chOff x="4484160" y="4941720"/>
              <a:chExt cx="1638720" cy="1480680"/>
            </a:xfrm>
          </p:grpSpPr>
          <p:sp>
            <p:nvSpPr>
              <p:cNvPr id="1020"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1"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2"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3"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4"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5"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8"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30"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1"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033" name="Group 27"/>
          <p:cNvGrpSpPr/>
          <p:nvPr/>
        </p:nvGrpSpPr>
        <p:grpSpPr>
          <a:xfrm>
            <a:off x="495360" y="4181040"/>
            <a:ext cx="3163320" cy="2146680"/>
            <a:chOff x="495360" y="4181040"/>
            <a:chExt cx="3163320" cy="2146680"/>
          </a:xfrm>
        </p:grpSpPr>
        <p:grpSp>
          <p:nvGrpSpPr>
            <p:cNvPr id="1034" name="Group 28"/>
            <p:cNvGrpSpPr/>
            <p:nvPr/>
          </p:nvGrpSpPr>
          <p:grpSpPr>
            <a:xfrm>
              <a:off x="732960" y="4181040"/>
              <a:ext cx="2571120" cy="1670400"/>
              <a:chOff x="732960" y="4181040"/>
              <a:chExt cx="2571120" cy="1670400"/>
            </a:xfrm>
          </p:grpSpPr>
          <p:sp>
            <p:nvSpPr>
              <p:cNvPr id="1035"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038"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9"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0"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2"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3"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4"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5"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046"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047"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048"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049"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050" name="Group 44"/>
          <p:cNvGrpSpPr/>
          <p:nvPr/>
        </p:nvGrpSpPr>
        <p:grpSpPr>
          <a:xfrm>
            <a:off x="5757480" y="708120"/>
            <a:ext cx="3299040" cy="2996640"/>
            <a:chOff x="5757480" y="708120"/>
            <a:chExt cx="3299040" cy="2996640"/>
          </a:xfrm>
        </p:grpSpPr>
        <p:sp>
          <p:nvSpPr>
            <p:cNvPr id="1051"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2" name="Group 46"/>
            <p:cNvGrpSpPr/>
            <p:nvPr/>
          </p:nvGrpSpPr>
          <p:grpSpPr>
            <a:xfrm>
              <a:off x="5757480" y="708120"/>
              <a:ext cx="3299040" cy="2996640"/>
              <a:chOff x="5757480" y="708120"/>
              <a:chExt cx="3299040" cy="2996640"/>
            </a:xfrm>
          </p:grpSpPr>
          <p:grpSp>
            <p:nvGrpSpPr>
              <p:cNvPr id="1053" name="Group 47"/>
              <p:cNvGrpSpPr/>
              <p:nvPr/>
            </p:nvGrpSpPr>
            <p:grpSpPr>
              <a:xfrm>
                <a:off x="5757480" y="708120"/>
                <a:ext cx="3299040" cy="2728800"/>
                <a:chOff x="5757480" y="708120"/>
                <a:chExt cx="3299040" cy="2728800"/>
              </a:xfrm>
            </p:grpSpPr>
            <p:grpSp>
              <p:nvGrpSpPr>
                <p:cNvPr id="1054" name="Group 48"/>
                <p:cNvGrpSpPr/>
                <p:nvPr/>
              </p:nvGrpSpPr>
              <p:grpSpPr>
                <a:xfrm>
                  <a:off x="5757480" y="708120"/>
                  <a:ext cx="3299040" cy="2728800"/>
                  <a:chOff x="5757480" y="708120"/>
                  <a:chExt cx="3299040" cy="2728800"/>
                </a:xfrm>
              </p:grpSpPr>
              <p:grpSp>
                <p:nvGrpSpPr>
                  <p:cNvPr id="1055" name="Group 49"/>
                  <p:cNvGrpSpPr/>
                  <p:nvPr/>
                </p:nvGrpSpPr>
                <p:grpSpPr>
                  <a:xfrm>
                    <a:off x="6081840" y="1481040"/>
                    <a:ext cx="1036080" cy="12600"/>
                    <a:chOff x="6081840" y="1481040"/>
                    <a:chExt cx="1036080" cy="12600"/>
                  </a:xfrm>
                </p:grpSpPr>
                <p:sp>
                  <p:nvSpPr>
                    <p:cNvPr id="1056"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7"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8"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59"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0"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1"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2"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3"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4"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5"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6"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7"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068"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069" name="Group 63"/>
                  <p:cNvGrpSpPr/>
                  <p:nvPr/>
                </p:nvGrpSpPr>
                <p:grpSpPr>
                  <a:xfrm>
                    <a:off x="5757480" y="708120"/>
                    <a:ext cx="3299040" cy="2728800"/>
                    <a:chOff x="5757480" y="708120"/>
                    <a:chExt cx="3299040" cy="2728800"/>
                  </a:xfrm>
                </p:grpSpPr>
                <p:grpSp>
                  <p:nvGrpSpPr>
                    <p:cNvPr id="1070" name="Group 64"/>
                    <p:cNvGrpSpPr/>
                    <p:nvPr/>
                  </p:nvGrpSpPr>
                  <p:grpSpPr>
                    <a:xfrm>
                      <a:off x="6040440" y="723960"/>
                      <a:ext cx="71280" cy="2712960"/>
                      <a:chOff x="6040440" y="723960"/>
                      <a:chExt cx="71280" cy="2712960"/>
                    </a:xfrm>
                  </p:grpSpPr>
                  <p:sp>
                    <p:nvSpPr>
                      <p:cNvPr id="1071"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2"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073"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4"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075"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6"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7"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8"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79"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0"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1"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2" name="Group 76"/>
                    <p:cNvGrpSpPr/>
                    <p:nvPr/>
                  </p:nvGrpSpPr>
                  <p:grpSpPr>
                    <a:xfrm>
                      <a:off x="6081840" y="1527120"/>
                      <a:ext cx="258120" cy="1159920"/>
                      <a:chOff x="6081840" y="1527120"/>
                      <a:chExt cx="258120" cy="1159920"/>
                    </a:xfrm>
                  </p:grpSpPr>
                  <p:sp>
                    <p:nvSpPr>
                      <p:cNvPr id="1083"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4"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5"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6"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87"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8"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89"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0"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1"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2"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3"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094"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5"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6"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097"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8"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099"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0"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1"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2"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3"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4"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5"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6"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7"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08"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09"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10"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11"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2"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13" name="Group 107"/>
                    <p:cNvGrpSpPr/>
                    <p:nvPr/>
                  </p:nvGrpSpPr>
                  <p:grpSpPr>
                    <a:xfrm>
                      <a:off x="6251400" y="1022400"/>
                      <a:ext cx="185400" cy="454680"/>
                      <a:chOff x="6251400" y="1022400"/>
                      <a:chExt cx="185400" cy="454680"/>
                    </a:xfrm>
                  </p:grpSpPr>
                  <p:sp>
                    <p:nvSpPr>
                      <p:cNvPr id="1114"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5"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16"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7"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18"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19"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0"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21"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22" name="Group 116"/>
                    <p:cNvGrpSpPr/>
                    <p:nvPr/>
                  </p:nvGrpSpPr>
                  <p:grpSpPr>
                    <a:xfrm>
                      <a:off x="5757480" y="1490760"/>
                      <a:ext cx="115200" cy="1194840"/>
                      <a:chOff x="5757480" y="1490760"/>
                      <a:chExt cx="115200" cy="1194840"/>
                    </a:xfrm>
                  </p:grpSpPr>
                  <p:sp>
                    <p:nvSpPr>
                      <p:cNvPr id="1123"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24"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5"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26" name="Group 120"/>
                <p:cNvGrpSpPr/>
                <p:nvPr/>
              </p:nvGrpSpPr>
              <p:grpSpPr>
                <a:xfrm>
                  <a:off x="6024600" y="1481040"/>
                  <a:ext cx="74520" cy="1205640"/>
                  <a:chOff x="6024600" y="1481040"/>
                  <a:chExt cx="74520" cy="1205640"/>
                </a:xfrm>
              </p:grpSpPr>
              <p:sp>
                <p:nvSpPr>
                  <p:cNvPr id="1127"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28" name="Group 122"/>
                  <p:cNvGrpSpPr/>
                  <p:nvPr/>
                </p:nvGrpSpPr>
                <p:grpSpPr>
                  <a:xfrm>
                    <a:off x="6024600" y="1481040"/>
                    <a:ext cx="74520" cy="1205640"/>
                    <a:chOff x="6024600" y="1481040"/>
                    <a:chExt cx="74520" cy="1205640"/>
                  </a:xfrm>
                </p:grpSpPr>
                <p:sp>
                  <p:nvSpPr>
                    <p:cNvPr id="1129"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0"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1"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2"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3"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4"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5"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136"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137"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138" name="Group 132"/>
              <p:cNvGrpSpPr/>
              <p:nvPr/>
            </p:nvGrpSpPr>
            <p:grpSpPr>
              <a:xfrm>
                <a:off x="6095880" y="3047400"/>
                <a:ext cx="2667240" cy="657360"/>
                <a:chOff x="6095880" y="3047400"/>
                <a:chExt cx="2667240" cy="657360"/>
              </a:xfrm>
            </p:grpSpPr>
            <p:sp>
              <p:nvSpPr>
                <p:cNvPr id="1139"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140"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1"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142"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143" name="Object 138"/>
          <p:cNvGraphicFramePr/>
          <p:nvPr/>
        </p:nvGraphicFramePr>
        <p:xfrm>
          <a:off x="6912000" y="5132520"/>
          <a:ext cx="2050920" cy="1089000"/>
        </p:xfrm>
        <a:graphic>
          <a:graphicData uri="http://schemas.openxmlformats.org/presentationml/2006/ole">
            <p:oleObj r:id="rId1" spid="">
              <p:embed/>
              <p:pic>
                <p:nvPicPr>
                  <p:cNvPr id="1144"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145"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6"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148" name="Object 5"/>
          <p:cNvGraphicFramePr/>
          <p:nvPr/>
        </p:nvGraphicFramePr>
        <p:xfrm>
          <a:off x="2685960" y="4240080"/>
          <a:ext cx="1847880" cy="749520"/>
        </p:xfrm>
        <a:graphic>
          <a:graphicData uri="http://schemas.openxmlformats.org/presentationml/2006/ole">
            <p:oleObj r:id="rId1" spid="">
              <p:embed/>
              <p:pic>
                <p:nvPicPr>
                  <p:cNvPr id="1149"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150"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151"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52"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153" name="Group 11"/>
          <p:cNvGrpSpPr/>
          <p:nvPr/>
        </p:nvGrpSpPr>
        <p:grpSpPr>
          <a:xfrm>
            <a:off x="6535800" y="790200"/>
            <a:ext cx="2471760" cy="1760760"/>
            <a:chOff x="6535800" y="790200"/>
            <a:chExt cx="2471760" cy="1760760"/>
          </a:xfrm>
        </p:grpSpPr>
        <p:grpSp>
          <p:nvGrpSpPr>
            <p:cNvPr id="1154" name="Group 12"/>
            <p:cNvGrpSpPr/>
            <p:nvPr/>
          </p:nvGrpSpPr>
          <p:grpSpPr>
            <a:xfrm>
              <a:off x="6535800" y="790200"/>
              <a:ext cx="2471760" cy="1760760"/>
              <a:chOff x="6535800" y="790200"/>
              <a:chExt cx="2471760" cy="1760760"/>
            </a:xfrm>
          </p:grpSpPr>
          <p:grpSp>
            <p:nvGrpSpPr>
              <p:cNvPr id="1155" name="Group 13"/>
              <p:cNvGrpSpPr/>
              <p:nvPr/>
            </p:nvGrpSpPr>
            <p:grpSpPr>
              <a:xfrm>
                <a:off x="6729480" y="918720"/>
                <a:ext cx="2278080" cy="1632240"/>
                <a:chOff x="6729480" y="918720"/>
                <a:chExt cx="2278080" cy="1632240"/>
              </a:xfrm>
            </p:grpSpPr>
            <p:sp>
              <p:nvSpPr>
                <p:cNvPr id="1156"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7"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58"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59"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0"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1"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2"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3"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4"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5"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6"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7"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168"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69"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170"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171"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172"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3"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174"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175"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176"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178"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9"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0"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1"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182"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183"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184"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185"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186"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187"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88" name="Object 46"/>
          <p:cNvGraphicFramePr/>
          <p:nvPr/>
        </p:nvGraphicFramePr>
        <p:xfrm>
          <a:off x="2647800" y="3257640"/>
          <a:ext cx="1776600" cy="650880"/>
        </p:xfrm>
        <a:graphic>
          <a:graphicData uri="http://schemas.openxmlformats.org/presentationml/2006/ole">
            <p:oleObj r:id="rId4" spid="">
              <p:embed/>
              <p:pic>
                <p:nvPicPr>
                  <p:cNvPr id="1189"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190"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62"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63" name="Group 4"/>
          <p:cNvGrpSpPr/>
          <p:nvPr/>
        </p:nvGrpSpPr>
        <p:grpSpPr>
          <a:xfrm>
            <a:off x="160920" y="798480"/>
            <a:ext cx="8923320" cy="2453400"/>
            <a:chOff x="160920" y="798480"/>
            <a:chExt cx="8923320" cy="2453400"/>
          </a:xfrm>
        </p:grpSpPr>
        <p:sp>
          <p:nvSpPr>
            <p:cNvPr id="164"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6"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7"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8"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0"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71"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3"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4"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5"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7"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8"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0"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1"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2"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3"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4"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5"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6"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7" name="Group 28"/>
            <p:cNvGrpSpPr/>
            <p:nvPr/>
          </p:nvGrpSpPr>
          <p:grpSpPr>
            <a:xfrm>
              <a:off x="6561000" y="978120"/>
              <a:ext cx="2523240" cy="2273760"/>
              <a:chOff x="6561000" y="978120"/>
              <a:chExt cx="2523240" cy="2273760"/>
            </a:xfrm>
          </p:grpSpPr>
          <p:pic>
            <p:nvPicPr>
              <p:cNvPr id="188"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9" name="Group 30"/>
              <p:cNvGrpSpPr/>
              <p:nvPr/>
            </p:nvGrpSpPr>
            <p:grpSpPr>
              <a:xfrm>
                <a:off x="6699240" y="2568600"/>
                <a:ext cx="2385000" cy="683280"/>
                <a:chOff x="6699240" y="2568600"/>
                <a:chExt cx="2385000" cy="683280"/>
              </a:xfrm>
            </p:grpSpPr>
            <p:sp>
              <p:nvSpPr>
                <p:cNvPr id="190"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1"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92" name="Group 33"/>
            <p:cNvGrpSpPr/>
            <p:nvPr/>
          </p:nvGrpSpPr>
          <p:grpSpPr>
            <a:xfrm>
              <a:off x="557280" y="844560"/>
              <a:ext cx="5563080" cy="2338920"/>
              <a:chOff x="557280" y="844560"/>
              <a:chExt cx="5563080" cy="2338920"/>
            </a:xfrm>
          </p:grpSpPr>
          <p:pic>
            <p:nvPicPr>
              <p:cNvPr id="193"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4" name="Group 35"/>
              <p:cNvGrpSpPr/>
              <p:nvPr/>
            </p:nvGrpSpPr>
            <p:grpSpPr>
              <a:xfrm>
                <a:off x="666720" y="888840"/>
                <a:ext cx="5453640" cy="2294640"/>
                <a:chOff x="666720" y="888840"/>
                <a:chExt cx="5453640" cy="2294640"/>
              </a:xfrm>
            </p:grpSpPr>
            <p:sp>
              <p:nvSpPr>
                <p:cNvPr id="195"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6"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7" name="Group 38"/>
                <p:cNvGrpSpPr/>
                <p:nvPr/>
              </p:nvGrpSpPr>
              <p:grpSpPr>
                <a:xfrm>
                  <a:off x="3576600" y="888840"/>
                  <a:ext cx="2543760" cy="2294640"/>
                  <a:chOff x="3576600" y="888840"/>
                  <a:chExt cx="2543760" cy="2294640"/>
                </a:xfrm>
              </p:grpSpPr>
              <p:pic>
                <p:nvPicPr>
                  <p:cNvPr id="198"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9" name="Group 40"/>
                  <p:cNvGrpSpPr/>
                  <p:nvPr/>
                </p:nvGrpSpPr>
                <p:grpSpPr>
                  <a:xfrm>
                    <a:off x="3689280" y="2495160"/>
                    <a:ext cx="2431080" cy="688320"/>
                    <a:chOff x="3689280" y="2495160"/>
                    <a:chExt cx="2431080" cy="688320"/>
                  </a:xfrm>
                </p:grpSpPr>
                <p:sp>
                  <p:nvSpPr>
                    <p:cNvPr id="200"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201"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203"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4" name="Group 7"/>
          <p:cNvGrpSpPr/>
          <p:nvPr/>
        </p:nvGrpSpPr>
        <p:grpSpPr>
          <a:xfrm>
            <a:off x="6796080" y="2921040"/>
            <a:ext cx="44280" cy="731880"/>
            <a:chOff x="6796080" y="2921040"/>
            <a:chExt cx="44280" cy="731880"/>
          </a:xfrm>
        </p:grpSpPr>
        <p:sp>
          <p:nvSpPr>
            <p:cNvPr id="205"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6"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7" name="Object 13"/>
          <p:cNvGraphicFramePr/>
          <p:nvPr/>
        </p:nvGraphicFramePr>
        <p:xfrm>
          <a:off x="1065240" y="1836720"/>
          <a:ext cx="1954080" cy="757080"/>
        </p:xfrm>
        <a:graphic>
          <a:graphicData uri="http://schemas.openxmlformats.org/presentationml/2006/ole">
            <p:oleObj r:id="rId1" spid="">
              <p:embed/>
              <p:pic>
                <p:nvPicPr>
                  <p:cNvPr id="208"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9"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10"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11" name="Group 16"/>
          <p:cNvGrpSpPr/>
          <p:nvPr/>
        </p:nvGrpSpPr>
        <p:grpSpPr>
          <a:xfrm>
            <a:off x="6414120" y="1741320"/>
            <a:ext cx="2729880" cy="3443400"/>
            <a:chOff x="6414120" y="1741320"/>
            <a:chExt cx="2729880" cy="3443400"/>
          </a:xfrm>
        </p:grpSpPr>
        <p:sp>
          <p:nvSpPr>
            <p:cNvPr id="212"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13"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7"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8"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9"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20"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1"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22" name="Group 27"/>
            <p:cNvGrpSpPr/>
            <p:nvPr/>
          </p:nvGrpSpPr>
          <p:grpSpPr>
            <a:xfrm>
              <a:off x="6414120" y="3206880"/>
              <a:ext cx="277200" cy="276480"/>
              <a:chOff x="6414120" y="3206880"/>
              <a:chExt cx="277200" cy="276480"/>
            </a:xfrm>
          </p:grpSpPr>
          <p:sp>
            <p:nvSpPr>
              <p:cNvPr id="223"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4"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6" name="Group 31"/>
            <p:cNvGrpSpPr/>
            <p:nvPr/>
          </p:nvGrpSpPr>
          <p:grpSpPr>
            <a:xfrm>
              <a:off x="6775560" y="2266920"/>
              <a:ext cx="82440" cy="2643120"/>
              <a:chOff x="6775560" y="2266920"/>
              <a:chExt cx="82440" cy="2643120"/>
            </a:xfrm>
          </p:grpSpPr>
          <p:sp>
            <p:nvSpPr>
              <p:cNvPr id="227"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1"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4"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5"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7"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8" name="Group 43"/>
            <p:cNvGrpSpPr/>
            <p:nvPr/>
          </p:nvGrpSpPr>
          <p:grpSpPr>
            <a:xfrm>
              <a:off x="7927920" y="2557440"/>
              <a:ext cx="522360" cy="942480"/>
              <a:chOff x="7927920" y="2557440"/>
              <a:chExt cx="522360" cy="942480"/>
            </a:xfrm>
          </p:grpSpPr>
          <p:sp>
            <p:nvSpPr>
              <p:cNvPr id="239"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0"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1"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42"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43"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4" name="Object 5"/>
          <p:cNvGraphicFramePr/>
          <p:nvPr/>
        </p:nvGraphicFramePr>
        <p:xfrm>
          <a:off x="1066680" y="3973680"/>
          <a:ext cx="3100680" cy="545760"/>
        </p:xfrm>
        <a:graphic>
          <a:graphicData uri="http://schemas.openxmlformats.org/presentationml/2006/ole">
            <p:oleObj r:id="rId3" spid="">
              <p:embed/>
              <p:pic>
                <p:nvPicPr>
                  <p:cNvPr id="245"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6"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7" name="Group 3"/>
          <p:cNvGrpSpPr/>
          <p:nvPr/>
        </p:nvGrpSpPr>
        <p:grpSpPr>
          <a:xfrm>
            <a:off x="493200" y="1546200"/>
            <a:ext cx="8531640" cy="2619000"/>
            <a:chOff x="493200" y="1546200"/>
            <a:chExt cx="8531640" cy="2619000"/>
          </a:xfrm>
        </p:grpSpPr>
        <p:sp>
          <p:nvSpPr>
            <p:cNvPr id="248"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1" name="Group 7"/>
            <p:cNvGrpSpPr/>
            <p:nvPr/>
          </p:nvGrpSpPr>
          <p:grpSpPr>
            <a:xfrm>
              <a:off x="493200" y="1546200"/>
              <a:ext cx="8322120" cy="1643040"/>
              <a:chOff x="493200" y="1546200"/>
              <a:chExt cx="8322120" cy="1643040"/>
            </a:xfrm>
          </p:grpSpPr>
          <p:sp>
            <p:nvSpPr>
              <p:cNvPr id="252"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4"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5"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7"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261" name="Picture 4" descr="a7slitsbgr"/>
          <p:cNvPicPr/>
          <p:nvPr/>
        </p:nvPicPr>
        <p:blipFill>
          <a:blip r:embed="rId1"/>
          <a:stretch/>
        </p:blipFill>
        <p:spPr>
          <a:xfrm>
            <a:off x="1427040" y="2057400"/>
            <a:ext cx="5994360" cy="4800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261"/>
                                        </p:tgtEl>
                                        <p:attrNameLst>
                                          <p:attrName>style.visibility</p:attrName>
                                        </p:attrNameLst>
                                      </p:cBhvr>
                                      <p:to>
                                        <p:strVal val="visible"/>
                                      </p:to>
                                    </p:set>
                                    <p:animEffect filter="dissolve" transition="in">
                                      <p:cBhvr additive="repl">
                                        <p:cTn id="7"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4-08-08T19:13:24Z</dcterms:modified>
  <cp:revision>434</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