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66FF535-E805-408E-BCB2-148E74BB68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B6A6EA03-7645-4691-A05E-FD6CBB0EC43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65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66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67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0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71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72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73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6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7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8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9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0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1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6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87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8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9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3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494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5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6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0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01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02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3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05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06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07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08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09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0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5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16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7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8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2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23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4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5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9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0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1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2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36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37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38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41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42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45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9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5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56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3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564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593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0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01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30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7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38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6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668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3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674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86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88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689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690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691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694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699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702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5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706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8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710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11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3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4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715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5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9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730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731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40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1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742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743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52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3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754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755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65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6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767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5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6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777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4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5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786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787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794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5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796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5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6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808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7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18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820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9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30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1153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1153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4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875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876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882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883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884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890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891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892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5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6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97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3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904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2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933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8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939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7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953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76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977" name="Picture 29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8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979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1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982" name="Picture 34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3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984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6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987" name="Picture 39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88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989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92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993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16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017" name="Picture 28" descr=""/>
              <p:cNvPicPr/>
              <p:nvPr/>
            </p:nvPicPr>
            <p:blipFill>
              <a:blip r:embed="rId1"/>
              <a:srcRect l="26061" t="8579" r="5024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8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019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022" name="Picture 33" descr=""/>
              <p:cNvPicPr/>
              <p:nvPr/>
            </p:nvPicPr>
            <p:blipFill>
              <a:blip r:embed="rId2"/>
              <a:srcRect l="25106" t="7786" r="5181" b="18221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3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024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26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027" name="Picture 38" descr=""/>
                  <p:cNvPicPr/>
                  <p:nvPr/>
                </p:nvPicPr>
                <p:blipFill>
                  <a:blip r:embed="rId3"/>
                  <a:srcRect l="24617" t="8103" r="5116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028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029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0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031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033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8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039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040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5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046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7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048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056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062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7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9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0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71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73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74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9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0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081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082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083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084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5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6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7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8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9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0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3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4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095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6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097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098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05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06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07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08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9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0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1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2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3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14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6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118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123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124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26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127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9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0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3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3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3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3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4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4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4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4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57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158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9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160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161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67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168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169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170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171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5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9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0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181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5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6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187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8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189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192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4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0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1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202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203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204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6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1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4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215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216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217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218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0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5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8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9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230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231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240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250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52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86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0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199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3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04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05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06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13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0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27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34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35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45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8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49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0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51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58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65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72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8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79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0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3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4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85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86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87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294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01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08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15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16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9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32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6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37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38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39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46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53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0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6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67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68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1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2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78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1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82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83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84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391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398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05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1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12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13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6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18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19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0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27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34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41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48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49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3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Jim Eckstein</cp:lastModifiedBy>
  <cp:lastPrinted>2003-07-15T20:39:11Z</cp:lastPrinted>
  <dcterms:modified xsi:type="dcterms:W3CDTF">2014-08-28T19:29:25Z</dcterms:modified>
  <cp:revision>594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