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D93CC15-1A7F-4FAF-82A4-7040EB7E57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scharge tube “X’mas” tree (without diffraction grating hando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teel ball and cott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demo: www.falstad.com/qm2d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2dbox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C61569CF-A60E-4571-A66C-6FA492B061C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afd00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BF699752-EE9D-4DD0-B7CB-E7830397496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lstad.com/qm2dbox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92240" y="57240"/>
            <a:ext cx="8650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6: 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3D Potentials and the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162"/>
          <p:cNvGrpSpPr/>
          <p:nvPr/>
        </p:nvGrpSpPr>
        <p:grpSpPr>
          <a:xfrm>
            <a:off x="727200" y="2025720"/>
            <a:ext cx="7572240" cy="4322520"/>
            <a:chOff x="727200" y="2025720"/>
            <a:chExt cx="7572240" cy="4322520"/>
          </a:xfrm>
        </p:grpSpPr>
        <p:grpSp>
          <p:nvGrpSpPr>
            <p:cNvPr id="122" name="Group 160"/>
            <p:cNvGrpSpPr/>
            <p:nvPr/>
          </p:nvGrpSpPr>
          <p:grpSpPr>
            <a:xfrm>
              <a:off x="5053320" y="3048120"/>
              <a:ext cx="3246120" cy="2500920"/>
              <a:chOff x="5053320" y="3048120"/>
              <a:chExt cx="3246120" cy="2500920"/>
            </a:xfrm>
          </p:grpSpPr>
          <p:pic>
            <p:nvPicPr>
              <p:cNvPr id="123" name="Picture 130" descr=""/>
              <p:cNvPicPr/>
              <p:nvPr/>
            </p:nvPicPr>
            <p:blipFill>
              <a:blip r:embed="rId1"/>
              <a:srcRect l="24611" t="7514" r="0" b="18470"/>
              <a:stretch/>
            </p:blipFill>
            <p:spPr>
              <a:xfrm>
                <a:off x="5794200" y="3138480"/>
                <a:ext cx="2505240" cy="20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Text Box 131"/>
              <p:cNvSpPr/>
              <p:nvPr/>
            </p:nvSpPr>
            <p:spPr>
              <a:xfrm>
                <a:off x="5053320" y="394020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P(r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132"/>
              <p:cNvSpPr/>
              <p:nvPr/>
            </p:nvSpPr>
            <p:spPr>
              <a:xfrm>
                <a:off x="5552280" y="5211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33"/>
              <p:cNvSpPr/>
              <p:nvPr/>
            </p:nvSpPr>
            <p:spPr>
              <a:xfrm>
                <a:off x="7636680" y="517536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 Box 134"/>
              <p:cNvSpPr/>
              <p:nvPr/>
            </p:nvSpPr>
            <p:spPr>
              <a:xfrm>
                <a:off x="5363280" y="5006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135"/>
              <p:cNvSpPr/>
              <p:nvPr/>
            </p:nvSpPr>
            <p:spPr>
              <a:xfrm>
                <a:off x="5328720" y="3048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Text Box 136"/>
              <p:cNvSpPr/>
              <p:nvPr/>
            </p:nvSpPr>
            <p:spPr>
              <a:xfrm>
                <a:off x="6751440" y="517536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" name="Group 159"/>
              <p:cNvGrpSpPr/>
              <p:nvPr/>
            </p:nvGrpSpPr>
            <p:grpSpPr>
              <a:xfrm>
                <a:off x="6065280" y="3321000"/>
                <a:ext cx="729360" cy="679320"/>
                <a:chOff x="6065280" y="3321000"/>
                <a:chExt cx="729360" cy="679320"/>
              </a:xfrm>
            </p:grpSpPr>
            <p:sp>
              <p:nvSpPr>
                <p:cNvPr id="131" name="Line 138"/>
                <p:cNvSpPr/>
                <p:nvPr/>
              </p:nvSpPr>
              <p:spPr>
                <a:xfrm flipH="1">
                  <a:off x="6370200" y="3727440"/>
                  <a:ext cx="1800" cy="272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139"/>
                <p:cNvSpPr/>
                <p:nvPr/>
              </p:nvSpPr>
              <p:spPr>
                <a:xfrm>
                  <a:off x="6065280" y="3321000"/>
                  <a:ext cx="729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r = a</a:t>
                  </a:r>
                  <a:r>
                    <a:rPr b="0" lang="en-US" sz="18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6"/>
            <p:cNvGrpSpPr/>
            <p:nvPr/>
          </p:nvGrpSpPr>
          <p:grpSpPr>
            <a:xfrm>
              <a:off x="1168200" y="2795760"/>
              <a:ext cx="2767680" cy="2732760"/>
              <a:chOff x="1168200" y="2795760"/>
              <a:chExt cx="2767680" cy="2732760"/>
            </a:xfrm>
          </p:grpSpPr>
          <p:sp>
            <p:nvSpPr>
              <p:cNvPr id="134" name="Text Box 147"/>
              <p:cNvSpPr/>
              <p:nvPr/>
            </p:nvSpPr>
            <p:spPr>
              <a:xfrm>
                <a:off x="2086920" y="27957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148"/>
              <p:cNvSpPr/>
              <p:nvPr/>
            </p:nvSpPr>
            <p:spPr>
              <a:xfrm flipV="1">
                <a:off x="1995480" y="3011040"/>
                <a:ext cx="0" cy="17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49"/>
              <p:cNvSpPr/>
              <p:nvPr/>
            </p:nvSpPr>
            <p:spPr>
              <a:xfrm>
                <a:off x="1995480" y="4721040"/>
                <a:ext cx="178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150"/>
              <p:cNvSpPr/>
              <p:nvPr/>
            </p:nvSpPr>
            <p:spPr>
              <a:xfrm flipH="1">
                <a:off x="1168200" y="4733640"/>
                <a:ext cx="826920" cy="65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1"/>
              <p:cNvSpPr/>
              <p:nvPr/>
            </p:nvSpPr>
            <p:spPr>
              <a:xfrm>
                <a:off x="3593520" y="42130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52"/>
              <p:cNvSpPr/>
              <p:nvPr/>
            </p:nvSpPr>
            <p:spPr>
              <a:xfrm>
                <a:off x="2022120" y="5068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53"/>
              <p:cNvSpPr/>
              <p:nvPr/>
            </p:nvSpPr>
            <p:spPr>
              <a:xfrm>
                <a:off x="3023640" y="40464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Text Box 154"/>
              <p:cNvSpPr/>
              <p:nvPr/>
            </p:nvSpPr>
            <p:spPr>
              <a:xfrm>
                <a:off x="1266480" y="377496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AutoShape 155"/>
              <p:cNvSpPr/>
              <p:nvPr/>
            </p:nvSpPr>
            <p:spPr>
              <a:xfrm>
                <a:off x="1681200" y="3811320"/>
                <a:ext cx="1270080" cy="1180800"/>
              </a:xfrm>
              <a:prstGeom prst="cube">
                <a:avLst>
                  <a:gd name="adj" fmla="val 25000"/>
                </a:avLst>
              </a:prstGeom>
              <a:solidFill>
                <a:srgbClr val="ffffcc">
                  <a:alpha val="50000"/>
                </a:srgbClr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3" name="Object 156"/>
                <p:cNvSpPr txBox="1"/>
                <p:nvPr/>
              </p:nvSpPr>
              <p:spPr>
                <a:xfrm>
                  <a:off x="727200" y="5614920"/>
                  <a:ext cx="35049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57"/>
                <p:cNvSpPr txBox="1"/>
                <p:nvPr/>
              </p:nvSpPr>
              <p:spPr>
                <a:xfrm>
                  <a:off x="824040" y="2284560"/>
                  <a:ext cx="3265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58"/>
                <p:cNvSpPr txBox="1"/>
                <p:nvPr/>
              </p:nvSpPr>
              <p:spPr>
                <a:xfrm>
                  <a:off x="5661000" y="2025720"/>
                  <a:ext cx="2421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π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161"/>
                <p:cNvSpPr txBox="1"/>
                <p:nvPr/>
              </p:nvSpPr>
              <p:spPr>
                <a:xfrm>
                  <a:off x="6060960" y="5686560"/>
                  <a:ext cx="15861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325440" y="762120"/>
            <a:ext cx="81421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853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9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320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n-cubic Box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206280" y="849240"/>
            <a:ext cx="848376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6"/>
          <p:cNvSpPr/>
          <p:nvPr/>
        </p:nvSpPr>
        <p:spPr>
          <a:xfrm>
            <a:off x="7050240" y="914400"/>
            <a:ext cx="1269720" cy="20289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Exerci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17160" y="860040"/>
            <a:ext cx="6226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ider an electron in a 3D rectangular box of size 1 x 1 x 2 nm. Assuming the electron is in the lowest energy state, what is the (approximate) probability to find it at the center of the box, within a region 0.1 x 0.1 x 0.1 nm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6616080" y="27795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7067520" y="74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19"/>
          <p:cNvSpPr/>
          <p:nvPr/>
        </p:nvSpPr>
        <p:spPr>
          <a:xfrm flipV="1">
            <a:off x="7354800" y="71568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7354800" y="2671920"/>
            <a:ext cx="140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21"/>
          <p:cNvSpPr/>
          <p:nvPr/>
        </p:nvSpPr>
        <p:spPr>
          <a:xfrm flipH="1">
            <a:off x="6767280" y="2684520"/>
            <a:ext cx="587160" cy="46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2"/>
          <p:cNvSpPr/>
          <p:nvPr/>
        </p:nvSpPr>
        <p:spPr>
          <a:xfrm>
            <a:off x="8559720" y="2322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739368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4"/>
          <p:cNvSpPr/>
          <p:nvPr/>
        </p:nvSpPr>
        <p:spPr>
          <a:xfrm>
            <a:off x="8317440" y="1706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2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5"/>
          <p:cNvSpPr/>
          <p:nvPr/>
        </p:nvSpPr>
        <p:spPr>
          <a:xfrm>
            <a:off x="8138160" y="2741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26"/>
          <p:cNvSpPr/>
          <p:nvPr/>
        </p:nvSpPr>
        <p:spPr>
          <a:xfrm>
            <a:off x="7605720" y="1952640"/>
            <a:ext cx="90360" cy="921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479840" y="2019240"/>
            <a:ext cx="3043440" cy="10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1040" y="2373480"/>
            <a:ext cx="60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as in 1D problems, the probability to find a particle is given by the integral of the probability density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over the region of inte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Object 56"/>
          <p:cNvGraphicFramePr/>
          <p:nvPr/>
        </p:nvGraphicFramePr>
        <p:xfrm>
          <a:off x="4290840" y="3944880"/>
          <a:ext cx="43974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0840" y="3944880"/>
                    <a:ext cx="4397400" cy="75564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239760" y="3411360"/>
            <a:ext cx="859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operly normaliz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y forcing the integral of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ver all space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n infinite 3D well, we h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75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ther 3D System: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 The Atom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ffcc"/>
                </a:solidFill>
                <a:latin typeface="Comic Sans MS"/>
              </a:rPr>
              <a:t>electrons confined in Coulomb field of a nucleu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-171360" y="3895560"/>
            <a:ext cx="885168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iger-Marsden (Rutherford) Experiment (1911)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sured angular dependence of a particles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(He ions)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cattered from gold foil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ostly scattering at small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upported the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“plum pudding” model.   But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Occasional scatterings at large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omething massive in there!            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6474960" y="4272120"/>
            <a:ext cx="2669040" cy="1174680"/>
            <a:chOff x="6474960" y="4272120"/>
            <a:chExt cx="2669040" cy="1174680"/>
          </a:xfrm>
        </p:grpSpPr>
        <p:sp>
          <p:nvSpPr>
            <p:cNvPr id="361" name="Line 5"/>
            <p:cNvSpPr/>
            <p:nvPr/>
          </p:nvSpPr>
          <p:spPr>
            <a:xfrm>
              <a:off x="6476760" y="49831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6"/>
            <p:cNvSpPr/>
            <p:nvPr/>
          </p:nvSpPr>
          <p:spPr>
            <a:xfrm flipV="1">
              <a:off x="7759440" y="4417920"/>
              <a:ext cx="1359000" cy="5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7"/>
            <p:cNvSpPr/>
            <p:nvPr/>
          </p:nvSpPr>
          <p:spPr>
            <a:xfrm>
              <a:off x="777240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8"/>
            <p:cNvSpPr/>
            <p:nvPr/>
          </p:nvSpPr>
          <p:spPr>
            <a:xfrm>
              <a:off x="826776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9"/>
            <p:cNvSpPr/>
            <p:nvPr/>
          </p:nvSpPr>
          <p:spPr>
            <a:xfrm>
              <a:off x="877572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8342280" y="468324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1"/>
            <p:cNvSpPr/>
            <p:nvPr/>
          </p:nvSpPr>
          <p:spPr>
            <a:xfrm>
              <a:off x="7670520" y="4545000"/>
              <a:ext cx="5112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2"/>
            <p:cNvSpPr/>
            <p:nvPr/>
          </p:nvSpPr>
          <p:spPr>
            <a:xfrm>
              <a:off x="7466040" y="42721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3"/>
            <p:cNvSpPr/>
            <p:nvPr/>
          </p:nvSpPr>
          <p:spPr>
            <a:xfrm>
              <a:off x="6474960" y="4695840"/>
              <a:ext cx="3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14"/>
            <p:cNvSpPr/>
            <p:nvPr/>
          </p:nvSpPr>
          <p:spPr>
            <a:xfrm>
              <a:off x="7377120" y="49626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Group 15"/>
          <p:cNvGrpSpPr/>
          <p:nvPr/>
        </p:nvGrpSpPr>
        <p:grpSpPr>
          <a:xfrm>
            <a:off x="6384960" y="6323040"/>
            <a:ext cx="2314800" cy="459720"/>
            <a:chOff x="6384960" y="6323040"/>
            <a:chExt cx="2314800" cy="459720"/>
          </a:xfrm>
        </p:grpSpPr>
        <p:sp>
          <p:nvSpPr>
            <p:cNvPr id="372" name="Text Box 16"/>
            <p:cNvSpPr/>
            <p:nvPr/>
          </p:nvSpPr>
          <p:spPr>
            <a:xfrm>
              <a:off x="7011720" y="63230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nucleus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AutoShape 17"/>
            <p:cNvSpPr/>
            <p:nvPr/>
          </p:nvSpPr>
          <p:spPr>
            <a:xfrm>
              <a:off x="6384960" y="6473880"/>
              <a:ext cx="523800" cy="247680"/>
            </a:xfrm>
            <a:prstGeom prst="rightArrow">
              <a:avLst>
                <a:gd name="adj1" fmla="val 50000"/>
                <a:gd name="adj2" fmla="val 52871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Rectangle 18"/>
          <p:cNvSpPr/>
          <p:nvPr/>
        </p:nvSpPr>
        <p:spPr>
          <a:xfrm>
            <a:off x="-192240" y="1803240"/>
            <a:ext cx="680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32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Emission and Absorption spect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en excited in an electrical discharge, atoms     emit radiation only at discrete waveleng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fferent emission spectra for different a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9"/>
          <p:cNvSpPr/>
          <p:nvPr/>
        </p:nvSpPr>
        <p:spPr>
          <a:xfrm>
            <a:off x="148680" y="1193760"/>
            <a:ext cx="552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Early hints of the quantum nature of ato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0" descr="spectrum2"/>
          <p:cNvPicPr/>
          <p:nvPr/>
        </p:nvPicPr>
        <p:blipFill>
          <a:blip r:embed="rId1"/>
          <a:srcRect l="706" t="4311" r="1043" b="12949"/>
          <a:stretch/>
        </p:blipFill>
        <p:spPr>
          <a:xfrm>
            <a:off x="6435720" y="2371680"/>
            <a:ext cx="2708280" cy="7272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21"/>
          <p:cNvSpPr/>
          <p:nvPr/>
        </p:nvSpPr>
        <p:spPr>
          <a:xfrm>
            <a:off x="7356600" y="28656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4462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f34462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34462"/>
                </a:solidFill>
                <a:latin typeface="Arial"/>
              </a:rPr>
              <a:t>(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6956280" y="19098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tomic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19080" y="5929200"/>
            <a:ext cx="6543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Most of atomic mass is concentrated in a small region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8975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toms: Classical Planetary Model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-212760" y="1317600"/>
            <a:ext cx="6580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3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cal pi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gatively charged objects (electrons) orbit positively charged nucleus due to Coulomb 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is a BIG PROBLEM with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the electron moves in its circular orbit, it is ACCELER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you learned in Physics 212, accelerating charges radiate electromagnetic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equently, an electron would continuously lose energy and spiral into the nucleus in about 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9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900840" y="1482840"/>
            <a:ext cx="1754640" cy="1814400"/>
            <a:chOff x="6900840" y="1482840"/>
            <a:chExt cx="1754640" cy="1814400"/>
          </a:xfrm>
        </p:grpSpPr>
        <p:sp>
          <p:nvSpPr>
            <p:cNvPr id="385" name="Oval 5"/>
            <p:cNvSpPr/>
            <p:nvPr/>
          </p:nvSpPr>
          <p:spPr>
            <a:xfrm>
              <a:off x="7719840" y="2347920"/>
              <a:ext cx="111240" cy="11124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6"/>
            <p:cNvSpPr/>
            <p:nvPr/>
          </p:nvSpPr>
          <p:spPr>
            <a:xfrm>
              <a:off x="6900840" y="1539720"/>
              <a:ext cx="1698480" cy="17575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 flipH="1">
              <a:off x="8042400" y="1863720"/>
              <a:ext cx="326880" cy="3286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8"/>
            <p:cNvSpPr/>
            <p:nvPr/>
          </p:nvSpPr>
          <p:spPr>
            <a:xfrm>
              <a:off x="7452000" y="252108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+Z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9"/>
            <p:cNvSpPr/>
            <p:nvPr/>
          </p:nvSpPr>
          <p:spPr>
            <a:xfrm>
              <a:off x="8289000" y="14828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-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Text Box 10"/>
            <p:cNvSpPr/>
            <p:nvPr/>
          </p:nvSpPr>
          <p:spPr>
            <a:xfrm>
              <a:off x="7761240" y="18111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Text Box 11"/>
          <p:cNvSpPr/>
          <p:nvPr/>
        </p:nvSpPr>
        <p:spPr>
          <a:xfrm>
            <a:off x="2255040" y="5842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An early model of the at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12"/>
          <p:cNvGrpSpPr/>
          <p:nvPr/>
        </p:nvGrpSpPr>
        <p:grpSpPr>
          <a:xfrm>
            <a:off x="395280" y="5700600"/>
            <a:ext cx="8442000" cy="765000"/>
            <a:chOff x="395280" y="5700600"/>
            <a:chExt cx="8442000" cy="765000"/>
          </a:xfrm>
        </p:grpSpPr>
        <p:sp>
          <p:nvSpPr>
            <p:cNvPr id="393" name="AutoShape 13"/>
            <p:cNvSpPr/>
            <p:nvPr/>
          </p:nvSpPr>
          <p:spPr>
            <a:xfrm>
              <a:off x="395280" y="5770440"/>
              <a:ext cx="545040" cy="247680"/>
            </a:xfrm>
            <a:prstGeom prst="rightArrow">
              <a:avLst>
                <a:gd name="adj1" fmla="val 50000"/>
                <a:gd name="adj2" fmla="val 55015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14"/>
            <p:cNvSpPr/>
            <p:nvPr/>
          </p:nvSpPr>
          <p:spPr>
            <a:xfrm>
              <a:off x="1068840" y="5700600"/>
              <a:ext cx="77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The planetary model doesn’t lead to stable atom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Oval 15"/>
          <p:cNvSpPr/>
          <p:nvPr/>
        </p:nvSpPr>
        <p:spPr>
          <a:xfrm>
            <a:off x="8344080" y="1809720"/>
            <a:ext cx="85680" cy="79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Group 16"/>
          <p:cNvGrpSpPr/>
          <p:nvPr/>
        </p:nvGrpSpPr>
        <p:grpSpPr>
          <a:xfrm>
            <a:off x="7075080" y="3990960"/>
            <a:ext cx="1392480" cy="1171440"/>
            <a:chOff x="7075080" y="3990960"/>
            <a:chExt cx="1392480" cy="1171440"/>
          </a:xfrm>
        </p:grpSpPr>
        <p:grpSp>
          <p:nvGrpSpPr>
            <p:cNvPr id="397" name="Group 17"/>
            <p:cNvGrpSpPr/>
            <p:nvPr/>
          </p:nvGrpSpPr>
          <p:grpSpPr>
            <a:xfrm>
              <a:off x="7313400" y="4229280"/>
              <a:ext cx="812520" cy="732960"/>
              <a:chOff x="7313400" y="4229280"/>
              <a:chExt cx="812520" cy="732960"/>
            </a:xfrm>
          </p:grpSpPr>
          <p:sp>
            <p:nvSpPr>
              <p:cNvPr id="398" name="Arc 18"/>
              <p:cNvSpPr/>
              <p:nvPr/>
            </p:nvSpPr>
            <p:spPr>
              <a:xfrm>
                <a:off x="7700760" y="4229280"/>
                <a:ext cx="425160" cy="423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Arc 19"/>
              <p:cNvSpPr/>
              <p:nvPr/>
            </p:nvSpPr>
            <p:spPr>
              <a:xfrm flipV="1">
                <a:off x="7654680" y="4645800"/>
                <a:ext cx="293400" cy="315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Arc 20"/>
              <p:cNvSpPr/>
              <p:nvPr/>
            </p:nvSpPr>
            <p:spPr>
              <a:xfrm flipH="1">
                <a:off x="7313040" y="4230720"/>
                <a:ext cx="387000" cy="40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Arc 21"/>
              <p:cNvSpPr/>
              <p:nvPr/>
            </p:nvSpPr>
            <p:spPr>
              <a:xfrm flipH="1" flipV="1">
                <a:off x="7314480" y="462888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22"/>
            <p:cNvGrpSpPr/>
            <p:nvPr/>
          </p:nvGrpSpPr>
          <p:grpSpPr>
            <a:xfrm>
              <a:off x="7075080" y="3990960"/>
              <a:ext cx="1346400" cy="1171440"/>
              <a:chOff x="7075080" y="3990960"/>
              <a:chExt cx="1346400" cy="1171440"/>
            </a:xfrm>
          </p:grpSpPr>
          <p:sp>
            <p:nvSpPr>
              <p:cNvPr id="403" name="Arc 23"/>
              <p:cNvSpPr/>
              <p:nvPr/>
            </p:nvSpPr>
            <p:spPr>
              <a:xfrm>
                <a:off x="7716600" y="3990960"/>
                <a:ext cx="704880" cy="67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Arc 24"/>
              <p:cNvSpPr/>
              <p:nvPr/>
            </p:nvSpPr>
            <p:spPr>
              <a:xfrm flipV="1">
                <a:off x="7640640" y="4657680"/>
                <a:ext cx="485640" cy="504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Arc 25"/>
              <p:cNvSpPr/>
              <p:nvPr/>
            </p:nvSpPr>
            <p:spPr>
              <a:xfrm flipH="1">
                <a:off x="7074720" y="3992400"/>
                <a:ext cx="641160" cy="64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Arc 26"/>
              <p:cNvSpPr/>
              <p:nvPr/>
            </p:nvSpPr>
            <p:spPr>
              <a:xfrm flipH="1" flipV="1">
                <a:off x="7078680" y="4628880"/>
                <a:ext cx="552240" cy="53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7" name="Oval 27"/>
            <p:cNvSpPr/>
            <p:nvPr/>
          </p:nvSpPr>
          <p:spPr>
            <a:xfrm>
              <a:off x="8381880" y="4629240"/>
              <a:ext cx="85680" cy="79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28"/>
            <p:cNvSpPr/>
            <p:nvPr/>
          </p:nvSpPr>
          <p:spPr>
            <a:xfrm>
              <a:off x="7682040" y="4567320"/>
              <a:ext cx="110880" cy="11088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99520" y="63360"/>
            <a:ext cx="852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ydrogen Atom - Qualitativ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35000" y="788760"/>
            <a:ext cx="75549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n’t the electron collapse in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its potential energy is low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mu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ffec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he electron moves closer 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potential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more negative)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as it becomes more and m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fined, its kinetic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 tot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as a minimum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his radi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senberg’s uncertainty principle prevents the atom’s collap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1" name="Object 24"/>
          <p:cNvGraphicFramePr/>
          <p:nvPr/>
        </p:nvGraphicFramePr>
        <p:xfrm>
          <a:off x="5396040" y="1898640"/>
          <a:ext cx="1006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040" y="1898640"/>
                    <a:ext cx="1006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27"/>
          <p:cNvGraphicFramePr/>
          <p:nvPr/>
        </p:nvGraphicFramePr>
        <p:xfrm>
          <a:off x="5381640" y="2627280"/>
          <a:ext cx="2370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2627280"/>
                    <a:ext cx="237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28"/>
          <p:cNvGraphicFramePr/>
          <p:nvPr/>
        </p:nvGraphicFramePr>
        <p:xfrm>
          <a:off x="5372280" y="3378240"/>
          <a:ext cx="2651040" cy="60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3378240"/>
                    <a:ext cx="2651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Group 35"/>
          <p:cNvGrpSpPr/>
          <p:nvPr/>
        </p:nvGrpSpPr>
        <p:grpSpPr>
          <a:xfrm>
            <a:off x="2560680" y="4278240"/>
            <a:ext cx="4263120" cy="623880"/>
            <a:chOff x="2560680" y="4278240"/>
            <a:chExt cx="4263120" cy="623880"/>
          </a:xfrm>
        </p:grpSpPr>
        <p:sp>
          <p:nvSpPr>
            <p:cNvPr id="418" name="Text Box 31"/>
            <p:cNvSpPr/>
            <p:nvPr/>
          </p:nvSpPr>
          <p:spPr>
            <a:xfrm>
              <a:off x="5204160" y="4327560"/>
              <a:ext cx="16196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“Bohr radius”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419" name="Object 34"/>
            <p:cNvGraphicFramePr/>
            <p:nvPr/>
          </p:nvGraphicFramePr>
          <p:xfrm>
            <a:off x="2560680" y="4278240"/>
            <a:ext cx="2643120" cy="6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20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0680" y="4278240"/>
                      <a:ext cx="2643120" cy="62388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421" name="Group 37"/>
          <p:cNvGrpSpPr/>
          <p:nvPr/>
        </p:nvGrpSpPr>
        <p:grpSpPr>
          <a:xfrm>
            <a:off x="2568600" y="5118120"/>
            <a:ext cx="4977360" cy="717480"/>
            <a:chOff x="2568600" y="5118120"/>
            <a:chExt cx="4977360" cy="717480"/>
          </a:xfrm>
        </p:grpSpPr>
        <p:graphicFrame>
          <p:nvGraphicFramePr>
            <p:cNvPr id="422" name="Object 30"/>
            <p:cNvGraphicFramePr/>
            <p:nvPr/>
          </p:nvGraphicFramePr>
          <p:xfrm>
            <a:off x="2568600" y="5118120"/>
            <a:ext cx="2852640" cy="71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23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68600" y="5118120"/>
                      <a:ext cx="2852640" cy="71748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24" name="Rectangle 36"/>
            <p:cNvSpPr/>
            <p:nvPr/>
          </p:nvSpPr>
          <p:spPr>
            <a:xfrm>
              <a:off x="5419080" y="5221080"/>
              <a:ext cx="212688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ound state energ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ydrogen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25" name="Picture 39" descr="potential"/>
          <p:cNvPicPr/>
          <p:nvPr/>
        </p:nvPicPr>
        <p:blipFill>
          <a:blip r:embed="rId11"/>
          <a:stretch/>
        </p:blipFill>
        <p:spPr>
          <a:xfrm>
            <a:off x="6862680" y="906480"/>
            <a:ext cx="2144880" cy="1326960"/>
          </a:xfrm>
          <a:prstGeom prst="rect">
            <a:avLst/>
          </a:prstGeom>
          <a:ln w="0">
            <a:noFill/>
          </a:ln>
        </p:spPr>
      </p:pic>
      <p:sp>
        <p:nvSpPr>
          <p:cNvPr id="426" name="Line 40"/>
          <p:cNvSpPr/>
          <p:nvPr/>
        </p:nvSpPr>
        <p:spPr>
          <a:xfrm>
            <a:off x="3390840" y="3692520"/>
            <a:ext cx="17845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46"/>
          <p:cNvGrpSpPr/>
          <p:nvPr/>
        </p:nvGrpSpPr>
        <p:grpSpPr>
          <a:xfrm>
            <a:off x="3230640" y="4158720"/>
            <a:ext cx="5960880" cy="2399400"/>
            <a:chOff x="3230640" y="4158720"/>
            <a:chExt cx="5960880" cy="2399400"/>
          </a:xfrm>
        </p:grpSpPr>
        <p:sp>
          <p:nvSpPr>
            <p:cNvPr id="428" name="Arc 44"/>
            <p:cNvSpPr/>
            <p:nvPr/>
          </p:nvSpPr>
          <p:spPr>
            <a:xfrm flipH="1" flipV="1">
              <a:off x="3449520" y="4158360"/>
              <a:ext cx="3641760" cy="2095560"/>
            </a:xfrm>
            <a:custGeom>
              <a:avLst/>
              <a:gdLst/>
              <a:ahLst/>
              <a:rect l="l" t="t" r="r" b="b"/>
              <a:pathLst>
                <a:path fill="none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</a:path>
                <a:path stroke="0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41"/>
            <p:cNvSpPr/>
            <p:nvPr/>
          </p:nvSpPr>
          <p:spPr>
            <a:xfrm>
              <a:off x="3714840" y="5159520"/>
              <a:ext cx="326880" cy="32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42"/>
            <p:cNvSpPr/>
            <p:nvPr/>
          </p:nvSpPr>
          <p:spPr>
            <a:xfrm>
              <a:off x="7150320" y="5916600"/>
              <a:ext cx="2041200" cy="641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e factor of e or 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come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the proton charg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one from the electr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45"/>
            <p:cNvSpPr/>
            <p:nvPr/>
          </p:nvSpPr>
          <p:spPr>
            <a:xfrm>
              <a:off x="3230640" y="4600440"/>
              <a:ext cx="326880" cy="327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6804360" y="2432160"/>
            <a:ext cx="16196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Bohr radius”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the H a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5" name="Object 60"/>
          <p:cNvGraphicFramePr/>
          <p:nvPr/>
        </p:nvGraphicFramePr>
        <p:xfrm>
          <a:off x="6305400" y="1805040"/>
          <a:ext cx="26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805040"/>
                    <a:ext cx="2643480" cy="62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475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471320"/>
            <a:ext cx="7035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Dimensional Potential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duct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gen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density and norm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drogen At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rly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-quantitative picture from uncertainty princi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ydrogenic 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78040" y="58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1830240" y="1625760"/>
            <a:ext cx="54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ic orb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”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uli Exclusion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58360" y="63360"/>
            <a:ext cx="802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1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3D box,  the SEQ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Object 9"/>
          <p:cNvGraphicFramePr/>
          <p:nvPr/>
        </p:nvGraphicFramePr>
        <p:xfrm>
          <a:off x="717480" y="1387440"/>
          <a:ext cx="518184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87440"/>
                    <a:ext cx="518184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5" name="Rectangle 10"/>
          <p:cNvSpPr/>
          <p:nvPr/>
        </p:nvSpPr>
        <p:spPr>
          <a:xfrm>
            <a:off x="190440" y="2368440"/>
            <a:ext cx="58611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see if separation of variables works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bstitute this expression fo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o the SE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6" name="Object 71"/>
          <p:cNvGraphicFramePr/>
          <p:nvPr/>
        </p:nvGraphicFramePr>
        <p:xfrm>
          <a:off x="654120" y="3282840"/>
          <a:ext cx="293508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282840"/>
                    <a:ext cx="2935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73"/>
          <p:cNvSpPr/>
          <p:nvPr/>
        </p:nvSpPr>
        <p:spPr>
          <a:xfrm>
            <a:off x="6506280" y="1474920"/>
            <a:ext cx="184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9" name="Object 74"/>
          <p:cNvGraphicFramePr/>
          <p:nvPr/>
        </p:nvGraphicFramePr>
        <p:xfrm>
          <a:off x="353880" y="4024440"/>
          <a:ext cx="61405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0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4024440"/>
                    <a:ext cx="6140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Text Box 75"/>
          <p:cNvSpPr/>
          <p:nvPr/>
        </p:nvSpPr>
        <p:spPr>
          <a:xfrm>
            <a:off x="6768720" y="4059360"/>
            <a:ext cx="17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76"/>
          <p:cNvSpPr/>
          <p:nvPr/>
        </p:nvSpPr>
        <p:spPr>
          <a:xfrm>
            <a:off x="212760" y="4944960"/>
            <a:ext cx="5900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vide by fg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3" name="Object 77"/>
          <p:cNvGraphicFramePr/>
          <p:nvPr/>
        </p:nvGraphicFramePr>
        <p:xfrm>
          <a:off x="403200" y="5429160"/>
          <a:ext cx="53262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4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00" y="5429160"/>
                    <a:ext cx="5326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4600" y="6336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2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gro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7" name="Object 11"/>
          <p:cNvGraphicFramePr/>
          <p:nvPr/>
        </p:nvGraphicFramePr>
        <p:xfrm>
          <a:off x="539640" y="1481040"/>
          <a:ext cx="65772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1040"/>
                    <a:ext cx="6577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12"/>
          <p:cNvSpPr/>
          <p:nvPr/>
        </p:nvSpPr>
        <p:spPr>
          <a:xfrm>
            <a:off x="69192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48657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28479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6"/>
          <p:cNvSpPr/>
          <p:nvPr/>
        </p:nvSpPr>
        <p:spPr>
          <a:xfrm>
            <a:off x="325440" y="2881440"/>
            <a:ext cx="828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three functions, each depending on a different variable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must sum to a constant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 must be a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3" name="Object 17"/>
          <p:cNvGraphicFramePr/>
          <p:nvPr/>
        </p:nvGraphicFramePr>
        <p:xfrm>
          <a:off x="901800" y="4010040"/>
          <a:ext cx="230004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010040"/>
                    <a:ext cx="23000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18"/>
          <p:cNvGraphicFramePr/>
          <p:nvPr/>
        </p:nvGraphicFramePr>
        <p:xfrm>
          <a:off x="1254240" y="6148440"/>
          <a:ext cx="1593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6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6148440"/>
                    <a:ext cx="1593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Text Box 19"/>
          <p:cNvSpPr/>
          <p:nvPr/>
        </p:nvSpPr>
        <p:spPr>
          <a:xfrm>
            <a:off x="4200840" y="4794120"/>
            <a:ext cx="3888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, f(x), g(y), and h(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tisfies its own 1D SE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98520" y="6336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Particles in 3D Potent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79440" y="1519200"/>
            <a:ext cx="84326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have considered quantum particl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und in one-dimensional potentials.  Th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tuation can be applicable to certain physic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ystems but it lacks some of the feature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st real 3D quantum systems, such a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s and artificial struc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consequence of confining a quantum particle i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or three dimensions is “degeneracy” -- the existenc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everal quantum states at the sa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illustrate this important point in a simple system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extend our favorite potential - the infinite square well - to three dimens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5432400" y="887400"/>
            <a:ext cx="3394080" cy="2852640"/>
            <a:chOff x="5432400" y="887400"/>
            <a:chExt cx="3394080" cy="2852640"/>
          </a:xfrm>
        </p:grpSpPr>
        <p:sp>
          <p:nvSpPr>
            <p:cNvPr id="152" name="Text Box 8"/>
            <p:cNvSpPr/>
            <p:nvPr/>
          </p:nvSpPr>
          <p:spPr>
            <a:xfrm>
              <a:off x="5800680" y="88740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real (2D) “quantum dot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Picture 12" descr="cavity"/>
            <p:cNvPicPr/>
            <p:nvPr/>
          </p:nvPicPr>
          <p:blipFill>
            <a:blip r:embed="rId1"/>
            <a:stretch/>
          </p:blipFill>
          <p:spPr>
            <a:xfrm>
              <a:off x="5629320" y="1245960"/>
              <a:ext cx="3002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13"/>
            <p:cNvSpPr/>
            <p:nvPr/>
          </p:nvSpPr>
          <p:spPr>
            <a:xfrm>
              <a:off x="5432400" y="3493800"/>
              <a:ext cx="33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pages.unibas.ch/phys-meso/Pictures/pictures.htm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Rectangle 15"/>
          <p:cNvSpPr/>
          <p:nvPr/>
        </p:nvSpPr>
        <p:spPr>
          <a:xfrm>
            <a:off x="378000" y="4334040"/>
            <a:ext cx="5876640" cy="89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59" name="Group 68"/>
          <p:cNvGrpSpPr/>
          <p:nvPr/>
        </p:nvGrpSpPr>
        <p:grpSpPr>
          <a:xfrm>
            <a:off x="3579840" y="4229280"/>
            <a:ext cx="5109840" cy="984960"/>
            <a:chOff x="3579840" y="4229280"/>
            <a:chExt cx="5109840" cy="984960"/>
          </a:xfrm>
        </p:grpSpPr>
        <p:sp>
          <p:nvSpPr>
            <p:cNvPr id="160" name="Rectangle 5"/>
            <p:cNvSpPr/>
            <p:nvPr/>
          </p:nvSpPr>
          <p:spPr>
            <a:xfrm>
              <a:off x="4687200" y="422928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693680" y="487872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gt; 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680360" y="4556160"/>
              <a:ext cx="219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inside 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3579840" y="4553280"/>
              <a:ext cx="1271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(x,y,z)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4844880" y="4281480"/>
              <a:ext cx="94680" cy="908280"/>
            </a:xfrm>
            <a:custGeom>
              <a:avLst/>
              <a:gdLst>
                <a:gd name="textAreaLeft" fmla="*/ 60480 w 94680"/>
                <a:gd name="textAreaRight" fmla="*/ 95040 w 94680"/>
                <a:gd name="textAreaTop" fmla="*/ 23400 h 908280"/>
                <a:gd name="textAreaBottom" fmla="*/ 88488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17520" y="3432240"/>
            <a:ext cx="662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olve this SEQ for the particle in a 3D cubical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49200" y="977760"/>
            <a:ext cx="62866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tension of the Schrödinger Equation (SEQ) to 3D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raightforward in Cartesian (x,y,z) coordina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3711600" y="5586480"/>
            <a:ext cx="3549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U(x,y,z) can be “separated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x,y,z) = U(x) + U(y) + U(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0"/>
          <p:cNvGrpSpPr/>
          <p:nvPr/>
        </p:nvGrpSpPr>
        <p:grpSpPr>
          <a:xfrm>
            <a:off x="851760" y="3929040"/>
            <a:ext cx="2238840" cy="2150280"/>
            <a:chOff x="851760" y="3929040"/>
            <a:chExt cx="2238840" cy="2150280"/>
          </a:xfrm>
        </p:grpSpPr>
        <p:sp>
          <p:nvSpPr>
            <p:cNvPr id="169" name="Text Box 26"/>
            <p:cNvSpPr/>
            <p:nvPr/>
          </p:nvSpPr>
          <p:spPr>
            <a:xfrm>
              <a:off x="851760" y="5578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568160" y="39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V="1">
              <a:off x="1590480" y="402084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90480" y="547056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H="1">
              <a:off x="1002960" y="548316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795400" y="512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1628640" y="574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2519280" y="487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2373480" y="554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51"/>
            <p:cNvSpPr/>
            <p:nvPr/>
          </p:nvSpPr>
          <p:spPr>
            <a:xfrm>
              <a:off x="1276200" y="456084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75"/>
          <p:cNvGrpSpPr/>
          <p:nvPr/>
        </p:nvGrpSpPr>
        <p:grpSpPr>
          <a:xfrm>
            <a:off x="5393880" y="1938240"/>
            <a:ext cx="2538720" cy="379440"/>
            <a:chOff x="5393880" y="1938240"/>
            <a:chExt cx="2538720" cy="379440"/>
          </a:xfrm>
        </p:grpSpPr>
        <p:graphicFrame>
          <p:nvGraphicFramePr>
            <p:cNvPr id="180" name="Object 33"/>
            <p:cNvGraphicFramePr/>
            <p:nvPr/>
          </p:nvGraphicFramePr>
          <p:xfrm>
            <a:off x="6278400" y="1938240"/>
            <a:ext cx="165420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78400" y="1938240"/>
                      <a:ext cx="16542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34"/>
            <p:cNvSpPr/>
            <p:nvPr/>
          </p:nvSpPr>
          <p:spPr>
            <a:xfrm>
              <a:off x="5393880" y="19447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662040" y="2584440"/>
            <a:ext cx="3429000" cy="512640"/>
            <a:chOff x="662040" y="2584440"/>
            <a:chExt cx="3429000" cy="512640"/>
          </a:xfrm>
        </p:grpSpPr>
        <p:sp>
          <p:nvSpPr>
            <p:cNvPr id="184" name="Text Box 47"/>
            <p:cNvSpPr/>
            <p:nvPr/>
          </p:nvSpPr>
          <p:spPr>
            <a:xfrm>
              <a:off x="662040" y="2649600"/>
              <a:ext cx="21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Kinetic energy ter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5" name="Object 52"/>
            <p:cNvGraphicFramePr/>
            <p:nvPr/>
          </p:nvGraphicFramePr>
          <p:xfrm>
            <a:off x="2644920" y="2584440"/>
            <a:ext cx="1446120" cy="51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4920" y="2584440"/>
                      <a:ext cx="1446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9"/>
          <p:cNvSpPr/>
          <p:nvPr/>
        </p:nvSpPr>
        <p:spPr>
          <a:xfrm>
            <a:off x="376092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f any of the three terms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71"/>
          <p:cNvGraphicFramePr/>
          <p:nvPr/>
        </p:nvGraphicFramePr>
        <p:xfrm>
          <a:off x="803160" y="1757520"/>
          <a:ext cx="40942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3160" y="1757520"/>
                    <a:ext cx="409428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6">
            <a:hlinkClick r:id="rId1"/>
          </p:cNvPr>
          <p:cNvSpPr/>
          <p:nvPr/>
        </p:nvSpPr>
        <p:spPr>
          <a:xfrm>
            <a:off x="3354840" y="6518160"/>
            <a:ext cx="187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falstad.com/qm2dbox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2" name="Object 17"/>
          <p:cNvGraphicFramePr/>
          <p:nvPr/>
        </p:nvGraphicFramePr>
        <p:xfrm>
          <a:off x="542880" y="4002120"/>
          <a:ext cx="375912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4002120"/>
                    <a:ext cx="3759120" cy="677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45"/>
          <p:cNvSpPr/>
          <p:nvPr/>
        </p:nvSpPr>
        <p:spPr>
          <a:xfrm>
            <a:off x="351000" y="1193760"/>
            <a:ext cx="7907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ever U(x,y,z) can be written as the sum of functions of the individual coordinat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write some wave functions as products of functions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ndividual coordinat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ee the supplementary slide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498600" y="4691160"/>
            <a:ext cx="22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milarly for y and 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08"/>
          <p:cNvGrpSpPr/>
          <p:nvPr/>
        </p:nvGrpSpPr>
        <p:grpSpPr>
          <a:xfrm>
            <a:off x="7216200" y="5229360"/>
            <a:ext cx="1808640" cy="1347840"/>
            <a:chOff x="7216200" y="5229360"/>
            <a:chExt cx="1808640" cy="1347840"/>
          </a:xfrm>
        </p:grpSpPr>
        <p:grpSp>
          <p:nvGrpSpPr>
            <p:cNvPr id="197" name="Group 96"/>
            <p:cNvGrpSpPr/>
            <p:nvPr/>
          </p:nvGrpSpPr>
          <p:grpSpPr>
            <a:xfrm>
              <a:off x="7216200" y="5235480"/>
              <a:ext cx="1771920" cy="1341720"/>
              <a:chOff x="7216200" y="5235480"/>
              <a:chExt cx="1771920" cy="1341720"/>
            </a:xfrm>
          </p:grpSpPr>
          <p:grpSp>
            <p:nvGrpSpPr>
              <p:cNvPr id="198" name="Group 97"/>
              <p:cNvGrpSpPr/>
              <p:nvPr/>
            </p:nvGrpSpPr>
            <p:grpSpPr>
              <a:xfrm>
                <a:off x="7426080" y="5308200"/>
                <a:ext cx="1562040" cy="1103760"/>
                <a:chOff x="7426080" y="5308200"/>
                <a:chExt cx="1562040" cy="1103760"/>
              </a:xfrm>
            </p:grpSpPr>
            <p:sp>
              <p:nvSpPr>
                <p:cNvPr id="199" name="Line 98"/>
                <p:cNvSpPr/>
                <p:nvPr/>
              </p:nvSpPr>
              <p:spPr>
                <a:xfrm flipV="1">
                  <a:off x="7426080" y="530820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7426080" y="595476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 flipH="1" flipV="1">
                  <a:off x="8035560" y="541008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 flipV="1">
                  <a:off x="8523000" y="567864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102"/>
              <p:cNvSpPr/>
              <p:nvPr/>
            </p:nvSpPr>
            <p:spPr>
              <a:xfrm>
                <a:off x="7802280" y="608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103"/>
              <p:cNvSpPr/>
              <p:nvPr/>
            </p:nvSpPr>
            <p:spPr>
              <a:xfrm>
                <a:off x="7538760" y="5467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104"/>
              <p:cNvSpPr/>
              <p:nvPr/>
            </p:nvSpPr>
            <p:spPr>
              <a:xfrm>
                <a:off x="7216200" y="5819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5"/>
              <p:cNvSpPr/>
              <p:nvPr/>
            </p:nvSpPr>
            <p:spPr>
              <a:xfrm>
                <a:off x="7795440" y="52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06"/>
              <p:cNvSpPr/>
              <p:nvPr/>
            </p:nvSpPr>
            <p:spPr>
              <a:xfrm>
                <a:off x="8354160" y="6300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8" name="Picture 59" descr="2d box 22"/>
            <p:cNvPicPr/>
            <p:nvPr/>
          </p:nvPicPr>
          <p:blipFill>
            <a:blip r:embed="rId4"/>
            <a:stretch/>
          </p:blipFill>
          <p:spPr>
            <a:xfrm>
              <a:off x="7373880" y="5229360"/>
              <a:ext cx="1650960" cy="13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7149600" y="3646440"/>
            <a:ext cx="1815120" cy="1352880"/>
            <a:chOff x="7149600" y="3646440"/>
            <a:chExt cx="1815120" cy="1352880"/>
          </a:xfrm>
        </p:grpSpPr>
        <p:grpSp>
          <p:nvGrpSpPr>
            <p:cNvPr id="210" name="Group 85"/>
            <p:cNvGrpSpPr/>
            <p:nvPr/>
          </p:nvGrpSpPr>
          <p:grpSpPr>
            <a:xfrm>
              <a:off x="7149600" y="3657600"/>
              <a:ext cx="1771920" cy="1341720"/>
              <a:chOff x="7149600" y="3657600"/>
              <a:chExt cx="1771920" cy="1341720"/>
            </a:xfrm>
          </p:grpSpPr>
          <p:grpSp>
            <p:nvGrpSpPr>
              <p:cNvPr id="211" name="Group 86"/>
              <p:cNvGrpSpPr/>
              <p:nvPr/>
            </p:nvGrpSpPr>
            <p:grpSpPr>
              <a:xfrm>
                <a:off x="7359480" y="3730320"/>
                <a:ext cx="1562040" cy="1103760"/>
                <a:chOff x="7359480" y="3730320"/>
                <a:chExt cx="1562040" cy="1103760"/>
              </a:xfrm>
            </p:grpSpPr>
            <p:sp>
              <p:nvSpPr>
                <p:cNvPr id="212" name="Line 87"/>
                <p:cNvSpPr/>
                <p:nvPr/>
              </p:nvSpPr>
              <p:spPr>
                <a:xfrm flipV="1">
                  <a:off x="7359480" y="373032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88"/>
                <p:cNvSpPr/>
                <p:nvPr/>
              </p:nvSpPr>
              <p:spPr>
                <a:xfrm>
                  <a:off x="7359480" y="437688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89"/>
                <p:cNvSpPr/>
                <p:nvPr/>
              </p:nvSpPr>
              <p:spPr>
                <a:xfrm flipH="1" flipV="1">
                  <a:off x="7968960" y="383220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90"/>
                <p:cNvSpPr/>
                <p:nvPr/>
              </p:nvSpPr>
              <p:spPr>
                <a:xfrm flipV="1">
                  <a:off x="8456400" y="410076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91"/>
              <p:cNvSpPr/>
              <p:nvPr/>
            </p:nvSpPr>
            <p:spPr>
              <a:xfrm>
                <a:off x="7735680" y="4507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92"/>
              <p:cNvSpPr/>
              <p:nvPr/>
            </p:nvSpPr>
            <p:spPr>
              <a:xfrm>
                <a:off x="7472160" y="388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93"/>
              <p:cNvSpPr/>
              <p:nvPr/>
            </p:nvSpPr>
            <p:spPr>
              <a:xfrm>
                <a:off x="7149600" y="424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94"/>
              <p:cNvSpPr/>
              <p:nvPr/>
            </p:nvSpPr>
            <p:spPr>
              <a:xfrm>
                <a:off x="7728840" y="3657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95"/>
              <p:cNvSpPr/>
              <p:nvPr/>
            </p:nvSpPr>
            <p:spPr>
              <a:xfrm>
                <a:off x="8287560" y="4722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1" name="Picture 60" descr="2d box 12"/>
            <p:cNvPicPr/>
            <p:nvPr/>
          </p:nvPicPr>
          <p:blipFill>
            <a:blip r:embed="rId5"/>
            <a:stretch/>
          </p:blipFill>
          <p:spPr>
            <a:xfrm>
              <a:off x="7304040" y="3646440"/>
              <a:ext cx="1660680" cy="13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7"/>
          <p:cNvGrpSpPr/>
          <p:nvPr/>
        </p:nvGrpSpPr>
        <p:grpSpPr>
          <a:xfrm>
            <a:off x="5341320" y="5270400"/>
            <a:ext cx="1816560" cy="1349640"/>
            <a:chOff x="5341320" y="5270400"/>
            <a:chExt cx="1816560" cy="1349640"/>
          </a:xfrm>
        </p:grpSpPr>
        <p:grpSp>
          <p:nvGrpSpPr>
            <p:cNvPr id="223" name="Group 73"/>
            <p:cNvGrpSpPr/>
            <p:nvPr/>
          </p:nvGrpSpPr>
          <p:grpSpPr>
            <a:xfrm>
              <a:off x="5341320" y="5278320"/>
              <a:ext cx="1771920" cy="1341720"/>
              <a:chOff x="5341320" y="5278320"/>
              <a:chExt cx="1771920" cy="1341720"/>
            </a:xfrm>
          </p:grpSpPr>
          <p:grpSp>
            <p:nvGrpSpPr>
              <p:cNvPr id="224" name="Group 66"/>
              <p:cNvGrpSpPr/>
              <p:nvPr/>
            </p:nvGrpSpPr>
            <p:grpSpPr>
              <a:xfrm>
                <a:off x="5551200" y="5351040"/>
                <a:ext cx="1562040" cy="1103760"/>
                <a:chOff x="5551200" y="5351040"/>
                <a:chExt cx="1562040" cy="1103760"/>
              </a:xfrm>
            </p:grpSpPr>
            <p:sp>
              <p:nvSpPr>
                <p:cNvPr id="225" name="Line 62"/>
                <p:cNvSpPr/>
                <p:nvPr/>
              </p:nvSpPr>
              <p:spPr>
                <a:xfrm flipV="1">
                  <a:off x="5551200" y="535104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3"/>
                <p:cNvSpPr/>
                <p:nvPr/>
              </p:nvSpPr>
              <p:spPr>
                <a:xfrm>
                  <a:off x="5551200" y="599760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4"/>
                <p:cNvSpPr/>
                <p:nvPr/>
              </p:nvSpPr>
              <p:spPr>
                <a:xfrm flipH="1" flipV="1">
                  <a:off x="6160680" y="545292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5"/>
                <p:cNvSpPr/>
                <p:nvPr/>
              </p:nvSpPr>
              <p:spPr>
                <a:xfrm flipV="1">
                  <a:off x="6648120" y="572148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7"/>
              <p:cNvSpPr/>
              <p:nvPr/>
            </p:nvSpPr>
            <p:spPr>
              <a:xfrm>
                <a:off x="5927400" y="61279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69"/>
              <p:cNvSpPr/>
              <p:nvPr/>
            </p:nvSpPr>
            <p:spPr>
              <a:xfrm>
                <a:off x="5663880" y="5510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70"/>
              <p:cNvSpPr/>
              <p:nvPr/>
            </p:nvSpPr>
            <p:spPr>
              <a:xfrm>
                <a:off x="5341320" y="5862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71"/>
              <p:cNvSpPr/>
              <p:nvPr/>
            </p:nvSpPr>
            <p:spPr>
              <a:xfrm>
                <a:off x="5920560" y="5278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72"/>
              <p:cNvSpPr/>
              <p:nvPr/>
            </p:nvSpPr>
            <p:spPr>
              <a:xfrm>
                <a:off x="6479280" y="634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Picture 61" descr="2d box 21"/>
            <p:cNvPicPr/>
            <p:nvPr/>
          </p:nvPicPr>
          <p:blipFill>
            <a:blip r:embed="rId6"/>
            <a:stretch/>
          </p:blipFill>
          <p:spPr>
            <a:xfrm>
              <a:off x="5501880" y="5270400"/>
              <a:ext cx="16560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12"/>
          <p:cNvSpPr/>
          <p:nvPr/>
        </p:nvSpPr>
        <p:spPr>
          <a:xfrm>
            <a:off x="5346720" y="24066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D wave fun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2"/>
          <p:cNvGrpSpPr/>
          <p:nvPr/>
        </p:nvGrpSpPr>
        <p:grpSpPr>
          <a:xfrm>
            <a:off x="5384160" y="3435480"/>
            <a:ext cx="1805760" cy="1536840"/>
            <a:chOff x="5384160" y="3435480"/>
            <a:chExt cx="1805760" cy="1536840"/>
          </a:xfrm>
        </p:grpSpPr>
        <p:sp>
          <p:nvSpPr>
            <p:cNvPr id="237" name="Line 76"/>
            <p:cNvSpPr/>
            <p:nvPr/>
          </p:nvSpPr>
          <p:spPr>
            <a:xfrm flipV="1">
              <a:off x="5594400" y="3703320"/>
              <a:ext cx="725400" cy="64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7"/>
            <p:cNvSpPr/>
            <p:nvPr/>
          </p:nvSpPr>
          <p:spPr>
            <a:xfrm>
              <a:off x="5594400" y="4349520"/>
              <a:ext cx="123336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8"/>
            <p:cNvSpPr/>
            <p:nvPr/>
          </p:nvSpPr>
          <p:spPr>
            <a:xfrm flipH="1" flipV="1">
              <a:off x="6203880" y="3805200"/>
              <a:ext cx="952560" cy="26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9"/>
            <p:cNvSpPr/>
            <p:nvPr/>
          </p:nvSpPr>
          <p:spPr>
            <a:xfrm flipV="1">
              <a:off x="6691320" y="4073040"/>
              <a:ext cx="442800" cy="67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80"/>
            <p:cNvSpPr/>
            <p:nvPr/>
          </p:nvSpPr>
          <p:spPr>
            <a:xfrm>
              <a:off x="5970600" y="4479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81"/>
            <p:cNvSpPr/>
            <p:nvPr/>
          </p:nvSpPr>
          <p:spPr>
            <a:xfrm>
              <a:off x="5707080" y="38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2"/>
            <p:cNvSpPr/>
            <p:nvPr/>
          </p:nvSpPr>
          <p:spPr>
            <a:xfrm>
              <a:off x="5384160" y="4214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83"/>
            <p:cNvSpPr/>
            <p:nvPr/>
          </p:nvSpPr>
          <p:spPr>
            <a:xfrm>
              <a:off x="5963760" y="363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4"/>
            <p:cNvSpPr/>
            <p:nvPr/>
          </p:nvSpPr>
          <p:spPr>
            <a:xfrm>
              <a:off x="6522480" y="469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Picture 58" descr="2d box 11"/>
            <p:cNvPicPr/>
            <p:nvPr/>
          </p:nvPicPr>
          <p:blipFill>
            <a:blip r:embed="rId7"/>
            <a:stretch/>
          </p:blipFill>
          <p:spPr>
            <a:xfrm>
              <a:off x="5529240" y="3435480"/>
              <a:ext cx="16606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13"/>
            <p:cNvSpPr/>
            <p:nvPr/>
          </p:nvSpPr>
          <p:spPr>
            <a:xfrm>
              <a:off x="5855040" y="3456000"/>
              <a:ext cx="918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 = (1,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 Box 114"/>
          <p:cNvSpPr/>
          <p:nvPr/>
        </p:nvSpPr>
        <p:spPr>
          <a:xfrm>
            <a:off x="7677360" y="50925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5828040" y="51069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7604280" y="349560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1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20"/>
          <p:cNvGrpSpPr/>
          <p:nvPr/>
        </p:nvGrpSpPr>
        <p:grpSpPr>
          <a:xfrm>
            <a:off x="5334120" y="2352600"/>
            <a:ext cx="3713040" cy="4277880"/>
            <a:chOff x="5334120" y="2352600"/>
            <a:chExt cx="3713040" cy="4277880"/>
          </a:xfrm>
        </p:grpSpPr>
        <p:sp>
          <p:nvSpPr>
            <p:cNvPr id="252" name="Rectangle 118"/>
            <p:cNvSpPr/>
            <p:nvPr/>
          </p:nvSpPr>
          <p:spPr>
            <a:xfrm>
              <a:off x="5334120" y="2352600"/>
              <a:ext cx="3713040" cy="4277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5334120" y="2352600"/>
              <a:ext cx="1915920" cy="44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Object 124"/>
          <p:cNvGraphicFramePr/>
          <p:nvPr/>
        </p:nvGraphicFramePr>
        <p:xfrm>
          <a:off x="1163520" y="2379600"/>
          <a:ext cx="293544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1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3520" y="2379600"/>
                    <a:ext cx="2935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7"/>
          <p:cNvSpPr/>
          <p:nvPr/>
        </p:nvSpPr>
        <p:spPr>
          <a:xfrm>
            <a:off x="423720" y="2963880"/>
            <a:ext cx="44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the 3D square well, each function is simply the solution to the 1D square well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8"/>
          <p:cNvSpPr/>
          <p:nvPr/>
        </p:nvSpPr>
        <p:spPr>
          <a:xfrm>
            <a:off x="459360" y="5286240"/>
            <a:ext cx="42026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function contributes to the energy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energy is the sum: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otal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32"/>
          <p:cNvGraphicFramePr/>
          <p:nvPr/>
        </p:nvGraphicFramePr>
        <p:xfrm>
          <a:off x="6278400" y="2817720"/>
          <a:ext cx="170820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8400" y="2817720"/>
                    <a:ext cx="1708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63400" y="944640"/>
            <a:ext cx="806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eigenstates and energy values in a 3D cubical box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654840" y="2997360"/>
            <a:ext cx="527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an each have values 1,2,3,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17400" y="3995640"/>
            <a:ext cx="7667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illustrates two important point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ree quantum numbers 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are needed to identify the state of this three-dimensional system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 true for every 3D system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han one state can have the same energy:  “Degeneracy”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generacy reflects an underlying symmetry in the problem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equivalent directions, because it’s a cube, not a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45"/>
          <p:cNvGrpSpPr/>
          <p:nvPr/>
        </p:nvGrpSpPr>
        <p:grpSpPr>
          <a:xfrm>
            <a:off x="6490440" y="1676520"/>
            <a:ext cx="2238840" cy="2149920"/>
            <a:chOff x="6490440" y="1676520"/>
            <a:chExt cx="2238840" cy="2149920"/>
          </a:xfrm>
        </p:grpSpPr>
        <p:sp>
          <p:nvSpPr>
            <p:cNvPr id="265" name="Text Box 46"/>
            <p:cNvSpPr/>
            <p:nvPr/>
          </p:nvSpPr>
          <p:spPr>
            <a:xfrm>
              <a:off x="6490440" y="3325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20684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8"/>
            <p:cNvSpPr/>
            <p:nvPr/>
          </p:nvSpPr>
          <p:spPr>
            <a:xfrm flipV="1">
              <a:off x="7229160" y="1768320"/>
              <a:ext cx="0" cy="147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>
              <a:off x="7229160" y="3217680"/>
              <a:ext cx="140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50"/>
            <p:cNvSpPr/>
            <p:nvPr/>
          </p:nvSpPr>
          <p:spPr>
            <a:xfrm flipH="1">
              <a:off x="6642000" y="3230280"/>
              <a:ext cx="58680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1"/>
            <p:cNvSpPr/>
            <p:nvPr/>
          </p:nvSpPr>
          <p:spPr>
            <a:xfrm>
              <a:off x="8434080" y="286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7267320" y="3489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8157960" y="261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8011800" y="32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55"/>
            <p:cNvSpPr/>
            <p:nvPr/>
          </p:nvSpPr>
          <p:spPr>
            <a:xfrm>
              <a:off x="6914880" y="2307960"/>
              <a:ext cx="1269720" cy="118080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Object 56"/>
          <p:cNvGraphicFramePr/>
          <p:nvPr/>
        </p:nvGraphicFramePr>
        <p:xfrm>
          <a:off x="905040" y="1503360"/>
          <a:ext cx="40287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503360"/>
                    <a:ext cx="4028760" cy="1395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ubical Box Exercis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Group 16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294" name="Text Box 17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Text Box 18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9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3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Text Box 24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Text Box 25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AutoShape 26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Text Box 27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8-08T20:17:18Z</dcterms:modified>
  <cp:revision>431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