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7E2F245E-6AB3-4CFB-8B4A-39F7FABECFF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2" name=""/>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0" name="PlaceHolder 1"/>
          <p:cNvSpPr>
            <a:spLocks noGrp="1"/>
          </p:cNvSpPr>
          <p:nvPr>
            <p:ph type="sldImg"/>
          </p:nvPr>
        </p:nvSpPr>
        <p:spPr>
          <a:xfrm>
            <a:off x="1189080" y="703440"/>
            <a:ext cx="4630680" cy="3473280"/>
          </a:xfrm>
          <a:prstGeom prst="rect">
            <a:avLst/>
          </a:prstGeom>
          <a:ln w="0">
            <a:noFill/>
          </a:ln>
        </p:spPr>
      </p:sp>
      <p:sp>
        <p:nvSpPr>
          <p:cNvPr id="337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6" name="PlaceHolder 1"/>
          <p:cNvSpPr>
            <a:spLocks noGrp="1"/>
          </p:cNvSpPr>
          <p:nvPr>
            <p:ph type="sldImg"/>
          </p:nvPr>
        </p:nvSpPr>
        <p:spPr>
          <a:xfrm>
            <a:off x="1189080" y="703440"/>
            <a:ext cx="4630680" cy="3473280"/>
          </a:xfrm>
          <a:prstGeom prst="rect">
            <a:avLst/>
          </a:prstGeom>
          <a:ln w="0">
            <a:noFill/>
          </a:ln>
        </p:spPr>
      </p:sp>
      <p:sp>
        <p:nvSpPr>
          <p:cNvPr id="337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PlaceHolder 1"/>
          <p:cNvSpPr>
            <a:spLocks noGrp="1"/>
          </p:cNvSpPr>
          <p:nvPr>
            <p:ph type="sldImg"/>
          </p:nvPr>
        </p:nvSpPr>
        <p:spPr>
          <a:xfrm>
            <a:off x="1189080" y="703440"/>
            <a:ext cx="4630680" cy="3473280"/>
          </a:xfrm>
          <a:prstGeom prst="rect">
            <a:avLst/>
          </a:prstGeom>
          <a:ln w="0">
            <a:noFill/>
          </a:ln>
        </p:spPr>
      </p:sp>
      <p:sp>
        <p:nvSpPr>
          <p:cNvPr id="337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0" name="PlaceHolder 1"/>
          <p:cNvSpPr>
            <a:spLocks noGrp="1"/>
          </p:cNvSpPr>
          <p:nvPr>
            <p:ph type="sldImg"/>
          </p:nvPr>
        </p:nvSpPr>
        <p:spPr>
          <a:xfrm>
            <a:off x="1187280" y="703440"/>
            <a:ext cx="4631040" cy="3473280"/>
          </a:xfrm>
          <a:prstGeom prst="rect">
            <a:avLst/>
          </a:prstGeom>
          <a:ln w="0">
            <a:noFill/>
          </a:ln>
        </p:spPr>
      </p:sp>
      <p:sp>
        <p:nvSpPr>
          <p:cNvPr id="338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2" name="PlaceHolder 1"/>
          <p:cNvSpPr>
            <a:spLocks noGrp="1"/>
          </p:cNvSpPr>
          <p:nvPr>
            <p:ph type="sldImg"/>
          </p:nvPr>
        </p:nvSpPr>
        <p:spPr>
          <a:xfrm>
            <a:off x="1187280" y="703440"/>
            <a:ext cx="4631040" cy="3473280"/>
          </a:xfrm>
          <a:prstGeom prst="rect">
            <a:avLst/>
          </a:prstGeom>
          <a:ln w="0">
            <a:noFill/>
          </a:ln>
        </p:spPr>
      </p:sp>
      <p:sp>
        <p:nvSpPr>
          <p:cNvPr id="338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sldImg"/>
          </p:nvPr>
        </p:nvSpPr>
        <p:spPr>
          <a:xfrm>
            <a:off x="1189080" y="703440"/>
            <a:ext cx="4630680" cy="3473280"/>
          </a:xfrm>
          <a:prstGeom prst="rect">
            <a:avLst/>
          </a:prstGeom>
          <a:ln w="0">
            <a:noFill/>
          </a:ln>
        </p:spPr>
      </p:sp>
      <p:sp>
        <p:nvSpPr>
          <p:cNvPr id="338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sldImg"/>
          </p:nvPr>
        </p:nvSpPr>
        <p:spPr>
          <a:xfrm>
            <a:off x="1187280" y="703440"/>
            <a:ext cx="4631040" cy="3473280"/>
          </a:xfrm>
          <a:prstGeom prst="rect">
            <a:avLst/>
          </a:prstGeom>
          <a:ln w="0">
            <a:noFill/>
          </a:ln>
        </p:spPr>
      </p:sp>
      <p:sp>
        <p:nvSpPr>
          <p:cNvPr id="337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sldImg"/>
          </p:nvPr>
        </p:nvSpPr>
        <p:spPr>
          <a:xfrm>
            <a:off x="1189080" y="703440"/>
            <a:ext cx="4630680" cy="3473280"/>
          </a:xfrm>
          <a:prstGeom prst="rect">
            <a:avLst/>
          </a:prstGeom>
          <a:ln w="0">
            <a:noFill/>
          </a:ln>
        </p:spPr>
      </p:sp>
      <p:sp>
        <p:nvSpPr>
          <p:cNvPr id="337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0" name=""/>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81A73345-8696-404C-92F0-86A7BF13D8B8}"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lick to edit the outline text format</a:t>
            </a:r>
            <a:endParaRPr b="0" lang="en-US" sz="2000" spc="-1" strike="noStrike">
              <a:solidFill>
                <a:srgbClr val="00ffcc"/>
              </a:solidFill>
              <a:latin typeface="Arial"/>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cond Outline Level</a:t>
            </a:r>
            <a:endParaRPr b="0" lang="en-US" sz="2000" spc="-1" strike="noStrike">
              <a:solidFill>
                <a:srgbClr val="00ffcc"/>
              </a:solidFill>
              <a:latin typeface="Arial"/>
            </a:endParaRPr>
          </a:p>
          <a:p>
            <a:pPr lvl="2" marL="971640" indent="-228600">
              <a:lnSpc>
                <a:spcPct val="89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rd Outline Level</a:t>
            </a:r>
            <a:endParaRPr b="0" lang="en-US" sz="2000" spc="-1" strike="noStrike">
              <a:solidFill>
                <a:srgbClr val="00ffcc"/>
              </a:solidFill>
              <a:latin typeface="Arial"/>
            </a:endParaRPr>
          </a:p>
          <a:p>
            <a:pPr lvl="3" marL="1257480" indent="-17172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urth Outline Level</a:t>
            </a:r>
            <a:endParaRPr b="0" lang="en-US" sz="2000" spc="-1" strike="noStrike">
              <a:solidFill>
                <a:srgbClr val="00ffcc"/>
              </a:solidFill>
              <a:latin typeface="Arial"/>
            </a:endParaRPr>
          </a:p>
          <a:p>
            <a:pPr lvl="4" marL="1542960" indent="-171360">
              <a:lnSpc>
                <a:spcPct val="89000"/>
              </a:lnSpc>
              <a:spcBef>
                <a:spcPts val="751"/>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fth Outline Level</a:t>
            </a:r>
            <a:endParaRPr b="0" lang="en-US" sz="2000" spc="-1" strike="noStrike">
              <a:solidFill>
                <a:srgbClr val="00ffcc"/>
              </a:solidFill>
              <a:latin typeface="Arial"/>
            </a:endParaRPr>
          </a:p>
          <a:p>
            <a:pPr lvl="5"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th Outline Level</a:t>
            </a:r>
            <a:endParaRPr b="0" lang="en-US" sz="2000" spc="-1" strike="noStrike">
              <a:solidFill>
                <a:srgbClr val="00ffcc"/>
              </a:solidFill>
              <a:latin typeface="Arial"/>
            </a:endParaRPr>
          </a:p>
          <a:p>
            <a:pPr lvl="6" marL="1542960" indent="-17136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eventh Outline Level</a:t>
            </a: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40"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41"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6.wmf"/><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slideLayout" Target="../slideLayouts/slideLayout1.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3" name=""/>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Times New Roman"/>
            </a:endParaRPr>
          </a:p>
        </p:txBody>
      </p:sp>
      <p:pic>
        <p:nvPicPr>
          <p:cNvPr id="84" name="" descr=""/>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161" name=""/>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Times New Roman"/>
            </a:endParaRPr>
          </a:p>
        </p:txBody>
      </p:sp>
      <p:grpSp>
        <p:nvGrpSpPr>
          <p:cNvPr id="2162" name=""/>
          <p:cNvGrpSpPr/>
          <p:nvPr/>
        </p:nvGrpSpPr>
        <p:grpSpPr>
          <a:xfrm>
            <a:off x="879480" y="1994040"/>
            <a:ext cx="3135240" cy="368280"/>
            <a:chOff x="879480" y="1994040"/>
            <a:chExt cx="3135240" cy="368280"/>
          </a:xfrm>
        </p:grpSpPr>
        <p:sp>
          <p:nvSpPr>
            <p:cNvPr id="2163" name=""/>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64" name=""/>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65" name=""/>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67" name=""/>
          <p:cNvGrpSpPr/>
          <p:nvPr/>
        </p:nvGrpSpPr>
        <p:grpSpPr>
          <a:xfrm>
            <a:off x="449280" y="1214280"/>
            <a:ext cx="3873600" cy="2325600"/>
            <a:chOff x="449280" y="1214280"/>
            <a:chExt cx="3873600" cy="2325600"/>
          </a:xfrm>
        </p:grpSpPr>
        <p:sp>
          <p:nvSpPr>
            <p:cNvPr id="2168" name=""/>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169" name=""/>
            <p:cNvGrpSpPr/>
            <p:nvPr/>
          </p:nvGrpSpPr>
          <p:grpSpPr>
            <a:xfrm>
              <a:off x="1438200" y="1723680"/>
              <a:ext cx="2550960" cy="1428840"/>
              <a:chOff x="1438200" y="1723680"/>
              <a:chExt cx="2550960" cy="1428840"/>
            </a:xfrm>
          </p:grpSpPr>
          <p:sp>
            <p:nvSpPr>
              <p:cNvPr id="2170" name=""/>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71" name=""/>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172" name=""/>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3" name=""/>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4" name=""/>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sp>
          <p:nvSpPr>
            <p:cNvPr id="2175" name=""/>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177" name=""/>
          <p:cNvGrpSpPr/>
          <p:nvPr/>
        </p:nvGrpSpPr>
        <p:grpSpPr>
          <a:xfrm>
            <a:off x="1327320" y="3611160"/>
            <a:ext cx="3011400" cy="2195640"/>
            <a:chOff x="1327320" y="3611160"/>
            <a:chExt cx="3011400" cy="2195640"/>
          </a:xfrm>
        </p:grpSpPr>
        <p:sp>
          <p:nvSpPr>
            <p:cNvPr id="2178" name=""/>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179" name=""/>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0" name=""/>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1" name=""/>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p:txBody>
      </p:sp>
      <p:grpSp>
        <p:nvGrpSpPr>
          <p:cNvPr id="2182" name=""/>
          <p:cNvGrpSpPr/>
          <p:nvPr/>
        </p:nvGrpSpPr>
        <p:grpSpPr>
          <a:xfrm>
            <a:off x="1693440" y="4281480"/>
            <a:ext cx="1998720" cy="1355760"/>
            <a:chOff x="1693440" y="4281480"/>
            <a:chExt cx="1998720" cy="1355760"/>
          </a:xfrm>
        </p:grpSpPr>
        <p:sp>
          <p:nvSpPr>
            <p:cNvPr id="2183" name=""/>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84" name=""/>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8" name=""/>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rmAutofit fontScale="59000"/>
          </a:bodyPr>
          <a:p>
            <a:pPr marL="168480" indent="-16848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89" name=""/>
          <p:cNvGrpSpPr/>
          <p:nvPr/>
        </p:nvGrpSpPr>
        <p:grpSpPr>
          <a:xfrm>
            <a:off x="127080" y="3849120"/>
            <a:ext cx="2041560" cy="1753200"/>
            <a:chOff x="127080" y="3849120"/>
            <a:chExt cx="2041560" cy="1753200"/>
          </a:xfrm>
        </p:grpSpPr>
        <p:sp>
          <p:nvSpPr>
            <p:cNvPr id="2190" name=""/>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is most likely to be found where its speed is slowest</a:t>
              </a:r>
              <a:endParaRPr b="0" lang="en-US" sz="1800" spc="-1" strike="noStrike">
                <a:solidFill>
                  <a:srgbClr val="ffffff"/>
                </a:solidFill>
                <a:latin typeface="Times New Roman"/>
              </a:endParaRPr>
            </a:p>
          </p:txBody>
        </p:sp>
        <p:sp>
          <p:nvSpPr>
            <p:cNvPr id="2191" name=""/>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192" name=""/>
          <p:cNvGrpSpPr/>
          <p:nvPr/>
        </p:nvGrpSpPr>
        <p:grpSpPr>
          <a:xfrm>
            <a:off x="4203720" y="1082520"/>
            <a:ext cx="3888360" cy="4728960"/>
            <a:chOff x="4203720" y="1082520"/>
            <a:chExt cx="3888360" cy="4728960"/>
          </a:xfrm>
        </p:grpSpPr>
        <p:sp>
          <p:nvSpPr>
            <p:cNvPr id="2193" name=""/>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rmAutofit fontScale="65000"/>
            </a:bodyPr>
            <a:p>
              <a:pPr marL="185760" indent="-18576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Times New Roman"/>
              </a:endParaRPr>
            </a:p>
          </p:txBody>
        </p:sp>
        <p:grpSp>
          <p:nvGrpSpPr>
            <p:cNvPr id="2194" name=""/>
            <p:cNvGrpSpPr/>
            <p:nvPr/>
          </p:nvGrpSpPr>
          <p:grpSpPr>
            <a:xfrm>
              <a:off x="4601880" y="1996920"/>
              <a:ext cx="3135240" cy="368280"/>
              <a:chOff x="4601880" y="1996920"/>
              <a:chExt cx="3135240" cy="368280"/>
            </a:xfrm>
          </p:grpSpPr>
          <p:sp>
            <p:nvSpPr>
              <p:cNvPr id="2195" name=""/>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96" name=""/>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E</a:t>
                </a:r>
                <a:endParaRPr b="0" lang="en-US" sz="1800" spc="-1" strike="noStrike">
                  <a:solidFill>
                    <a:srgbClr val="ffffff"/>
                  </a:solidFill>
                  <a:latin typeface="Times New Roman"/>
                </a:endParaRPr>
              </a:p>
            </p:txBody>
          </p:sp>
        </p:grpSp>
        <p:sp>
          <p:nvSpPr>
            <p:cNvPr id="2197" name=""/>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grpSp>
          <p:nvGrpSpPr>
            <p:cNvPr id="2200" name=""/>
            <p:cNvGrpSpPr/>
            <p:nvPr/>
          </p:nvGrpSpPr>
          <p:grpSpPr>
            <a:xfrm>
              <a:off x="5192640" y="1728720"/>
              <a:ext cx="2550600" cy="1428840"/>
              <a:chOff x="5192640" y="1728720"/>
              <a:chExt cx="2550600" cy="1428840"/>
            </a:xfrm>
          </p:grpSpPr>
          <p:sp>
            <p:nvSpPr>
              <p:cNvPr id="2201" name=""/>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02" name=""/>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203" name=""/>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5" name=""/>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rPr>
                <a:t>U(x)</a:t>
              </a:r>
              <a:endParaRPr b="0" lang="en-US" sz="1800" spc="-1" strike="noStrike">
                <a:solidFill>
                  <a:srgbClr val="ffffff"/>
                </a:solidFill>
                <a:latin typeface="Times New Roman"/>
              </a:endParaRPr>
            </a:p>
          </p:txBody>
        </p:sp>
        <p:grpSp>
          <p:nvGrpSpPr>
            <p:cNvPr id="2206" name=""/>
            <p:cNvGrpSpPr/>
            <p:nvPr/>
          </p:nvGrpSpPr>
          <p:grpSpPr>
            <a:xfrm>
              <a:off x="4356000" y="3615840"/>
              <a:ext cx="3736080" cy="2195640"/>
              <a:chOff x="4356000" y="3615840"/>
              <a:chExt cx="3736080" cy="2195640"/>
            </a:xfrm>
          </p:grpSpPr>
          <p:grpSp>
            <p:nvGrpSpPr>
              <p:cNvPr id="2207" name=""/>
              <p:cNvGrpSpPr/>
              <p:nvPr/>
            </p:nvGrpSpPr>
            <p:grpSpPr>
              <a:xfrm>
                <a:off x="5081400" y="3615840"/>
                <a:ext cx="3010680" cy="2195640"/>
                <a:chOff x="5081400" y="3615840"/>
                <a:chExt cx="3010680" cy="2195640"/>
              </a:xfrm>
            </p:grpSpPr>
            <p:sp>
              <p:nvSpPr>
                <p:cNvPr id="2208" name=""/>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x</a:t>
                  </a:r>
                  <a:endParaRPr b="0" lang="en-US" sz="1800" spc="-1" strike="noStrike">
                    <a:solidFill>
                      <a:srgbClr val="ffffff"/>
                    </a:solidFill>
                    <a:latin typeface="Times New Roman"/>
                  </a:endParaRPr>
                </a:p>
              </p:txBody>
            </p:sp>
            <p:sp>
              <p:nvSpPr>
                <p:cNvPr id="2209" name=""/>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11" name=""/>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rPr>
                  <a:t>2</a:t>
                </a:r>
                <a:endParaRPr b="0" lang="en-US" sz="1800" spc="-1" strike="noStrike">
                  <a:solidFill>
                    <a:srgbClr val="ffffff"/>
                  </a:solidFill>
                  <a:latin typeface="Times New Roman"/>
                </a:endParaRPr>
              </a:p>
            </p:txBody>
          </p:sp>
        </p:grpSp>
        <p:grpSp>
          <p:nvGrpSpPr>
            <p:cNvPr id="2212" name=""/>
            <p:cNvGrpSpPr/>
            <p:nvPr/>
          </p:nvGrpSpPr>
          <p:grpSpPr>
            <a:xfrm>
              <a:off x="5313240" y="4244760"/>
              <a:ext cx="2314080" cy="1350720"/>
              <a:chOff x="5313240" y="4244760"/>
              <a:chExt cx="2314080" cy="1350720"/>
            </a:xfrm>
          </p:grpSpPr>
          <p:sp>
            <p:nvSpPr>
              <p:cNvPr id="2213" name=""/>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14" name=""/>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grpSp>
        <p:nvGrpSpPr>
          <p:cNvPr id="2215" name=""/>
          <p:cNvGrpSpPr/>
          <p:nvPr/>
        </p:nvGrpSpPr>
        <p:grpSpPr>
          <a:xfrm>
            <a:off x="4952880" y="5560920"/>
            <a:ext cx="4235400" cy="1186920"/>
            <a:chOff x="4952880" y="5560920"/>
            <a:chExt cx="4235400" cy="1186920"/>
          </a:xfrm>
        </p:grpSpPr>
        <p:sp>
          <p:nvSpPr>
            <p:cNvPr id="2216" name=""/>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a:t>
              </a:r>
              <a:r>
                <a:rPr b="0" lang="en-US" sz="1800" spc="-1" strike="noStrike">
                  <a:solidFill>
                    <a:srgbClr val="ffffff"/>
                  </a:solidFill>
                  <a:latin typeface="Arial"/>
                </a:rPr>
                <a:t> </a:t>
              </a:r>
              <a:r>
                <a:rPr b="1" lang="en-US" sz="1800" spc="-1" strike="noStrike">
                  <a:solidFill>
                    <a:srgbClr val="ff7c80"/>
                  </a:solidFill>
                  <a:latin typeface="Arial"/>
                </a:rPr>
                <a:t>can also be found where it is “forbidden” in classical mechanics .</a:t>
              </a:r>
              <a:endParaRPr b="0" lang="en-US" sz="1800" spc="-1" strike="noStrike">
                <a:solidFill>
                  <a:srgbClr val="ffffff"/>
                </a:solidFill>
                <a:latin typeface="Times New Roman"/>
              </a:endParaRPr>
            </a:p>
          </p:txBody>
        </p:sp>
        <p:sp>
          <p:nvSpPr>
            <p:cNvPr id="2217" name=""/>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9" name=""/>
          <p:cNvGrpSpPr/>
          <p:nvPr/>
        </p:nvGrpSpPr>
        <p:grpSpPr>
          <a:xfrm>
            <a:off x="731880" y="5594400"/>
            <a:ext cx="4221000" cy="1164600"/>
            <a:chOff x="731880" y="5594400"/>
            <a:chExt cx="4221000" cy="1164600"/>
          </a:xfrm>
        </p:grpSpPr>
        <p:sp>
          <p:nvSpPr>
            <p:cNvPr id="2220" name=""/>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classical mechanics, the particle moves back and forth coming to rest at each “turning point” </a:t>
              </a:r>
              <a:endParaRPr b="0" lang="en-US" sz="1800" spc="-1" strike="noStrike">
                <a:solidFill>
                  <a:srgbClr val="ffffff"/>
                </a:solidFill>
                <a:latin typeface="Times New Roman"/>
              </a:endParaRPr>
            </a:p>
          </p:txBody>
        </p:sp>
        <p:sp>
          <p:nvSpPr>
            <p:cNvPr id="2221" name=""/>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23" name=""/>
          <p:cNvGrpSpPr/>
          <p:nvPr/>
        </p:nvGrpSpPr>
        <p:grpSpPr>
          <a:xfrm>
            <a:off x="6486480" y="3483000"/>
            <a:ext cx="2730600" cy="1739880"/>
            <a:chOff x="6486480" y="3483000"/>
            <a:chExt cx="2730600" cy="1739880"/>
          </a:xfrm>
        </p:grpSpPr>
        <p:sp>
          <p:nvSpPr>
            <p:cNvPr id="2224" name=""/>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rPr>
                <a:t>In quantum mechanics, the particle can be most likely to be found at the center.</a:t>
              </a:r>
              <a:endParaRPr b="0" lang="en-US" sz="1800" spc="-1" strike="noStrike">
                <a:solidFill>
                  <a:srgbClr val="ffffff"/>
                </a:solidFill>
                <a:latin typeface="Times New Roman"/>
              </a:endParaRPr>
            </a:p>
          </p:txBody>
        </p:sp>
        <p:sp>
          <p:nvSpPr>
            <p:cNvPr id="2225" name=""/>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18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22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21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26" name=""/>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rmAutofit fontScale="28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Times New Roman"/>
            </a:endParaRPr>
          </a:p>
        </p:txBody>
      </p:sp>
      <p:sp>
        <p:nvSpPr>
          <p:cNvPr id="2227" name=""/>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28" name=""/>
          <p:cNvGraphicFramePr/>
          <p:nvPr/>
        </p:nvGraphicFramePr>
        <p:xfrm>
          <a:off x="3211560" y="2695680"/>
          <a:ext cx="1279440" cy="684000"/>
        </p:xfrm>
        <a:graphic>
          <a:graphicData uri="http://schemas.openxmlformats.org/presentationml/2006/ole">
            <p:oleObj r:id="rId1" spid="">
              <p:embed/>
              <p:pic>
                <p:nvPicPr>
                  <p:cNvPr id="2229" name="" descr=""/>
                  <p:cNvPicPr/>
                  <p:nvPr/>
                </p:nvPicPr>
                <p:blipFill>
                  <a:blip r:embed="rId2"/>
                  <a:stretch/>
                </p:blipFill>
                <p:spPr>
                  <a:xfrm>
                    <a:off x="3211560" y="2695680"/>
                    <a:ext cx="1279440" cy="684000"/>
                  </a:xfrm>
                  <a:prstGeom prst="rect">
                    <a:avLst/>
                  </a:prstGeom>
                  <a:ln w="0">
                    <a:noFill/>
                  </a:ln>
                </p:spPr>
              </p:pic>
            </p:oleObj>
          </a:graphicData>
        </a:graphic>
      </p:graphicFrame>
      <p:sp>
        <p:nvSpPr>
          <p:cNvPr id="2230" name=""/>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rmAutofit fontScale="95000"/>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Times New Roman"/>
            </a:endParaRPr>
          </a:p>
        </p:txBody>
      </p:sp>
      <p:graphicFrame>
        <p:nvGraphicFramePr>
          <p:cNvPr id="2231" name=""/>
          <p:cNvGraphicFramePr/>
          <p:nvPr/>
        </p:nvGraphicFramePr>
        <p:xfrm>
          <a:off x="1185840" y="3427560"/>
          <a:ext cx="1509840" cy="598320"/>
        </p:xfrm>
        <a:graphic>
          <a:graphicData uri="http://schemas.openxmlformats.org/presentationml/2006/ole">
            <p:oleObj r:id="rId3" spid="">
              <p:embed/>
              <p:pic>
                <p:nvPicPr>
                  <p:cNvPr id="2232" name=""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233" name=""/>
          <p:cNvGraphicFramePr/>
          <p:nvPr/>
        </p:nvGraphicFramePr>
        <p:xfrm>
          <a:off x="1579680" y="977760"/>
          <a:ext cx="4448160" cy="831960"/>
        </p:xfrm>
        <a:graphic>
          <a:graphicData uri="http://schemas.openxmlformats.org/presentationml/2006/ole">
            <p:oleObj r:id="rId5" spid="">
              <p:embed/>
              <p:pic>
                <p:nvPicPr>
                  <p:cNvPr id="2234" name="" descr=""/>
                  <p:cNvPicPr/>
                  <p:nvPr/>
                </p:nvPicPr>
                <p:blipFill>
                  <a:blip r:embed="rId6"/>
                  <a:stretch/>
                </p:blipFill>
                <p:spPr>
                  <a:xfrm>
                    <a:off x="1579680" y="977760"/>
                    <a:ext cx="4448160" cy="831960"/>
                  </a:xfrm>
                  <a:prstGeom prst="rect">
                    <a:avLst/>
                  </a:prstGeom>
                  <a:ln w="0">
                    <a:noFill/>
                  </a:ln>
                </p:spPr>
              </p:pic>
            </p:oleObj>
          </a:graphicData>
        </a:graphic>
      </p:graphicFrame>
      <p:sp>
        <p:nvSpPr>
          <p:cNvPr id="2235" name=""/>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23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38" name=""/>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Times New Roman"/>
            </a:endParaRPr>
          </a:p>
        </p:txBody>
      </p:sp>
      <p:sp>
        <p:nvSpPr>
          <p:cNvPr id="2239" name=""/>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rmAutofit fontScale="84000"/>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Times New Roman"/>
            </a:endParaRPr>
          </a:p>
        </p:txBody>
      </p:sp>
      <p:sp>
        <p:nvSpPr>
          <p:cNvPr id="2240" name=""/>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grpSp>
        <p:nvGrpSpPr>
          <p:cNvPr id="2241" name=""/>
          <p:cNvGrpSpPr/>
          <p:nvPr/>
        </p:nvGrpSpPr>
        <p:grpSpPr>
          <a:xfrm>
            <a:off x="7231680" y="654120"/>
            <a:ext cx="1914840" cy="2481480"/>
            <a:chOff x="7231680" y="654120"/>
            <a:chExt cx="1914840" cy="2481480"/>
          </a:xfrm>
        </p:grpSpPr>
        <p:sp>
          <p:nvSpPr>
            <p:cNvPr id="2242" name=""/>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3" name=""/>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246" name=""/>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247" name=""/>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248" name=""/>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49" name=""/>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250" name=""/>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51" name=""/>
            <p:cNvGrpSpPr/>
            <p:nvPr/>
          </p:nvGrpSpPr>
          <p:grpSpPr>
            <a:xfrm>
              <a:off x="7273800" y="1378080"/>
              <a:ext cx="261720" cy="1362240"/>
              <a:chOff x="7273800" y="1378080"/>
              <a:chExt cx="261720" cy="1362240"/>
            </a:xfrm>
          </p:grpSpPr>
          <p:sp>
            <p:nvSpPr>
              <p:cNvPr id="2252" name=""/>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61" name=""/>
            <p:cNvGrpSpPr/>
            <p:nvPr/>
          </p:nvGrpSpPr>
          <p:grpSpPr>
            <a:xfrm>
              <a:off x="8815680" y="1382760"/>
              <a:ext cx="261720" cy="1362240"/>
              <a:chOff x="8815680" y="1382760"/>
              <a:chExt cx="261720" cy="1362240"/>
            </a:xfrm>
          </p:grpSpPr>
          <p:sp>
            <p:nvSpPr>
              <p:cNvPr id="2262" name=""/>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271" name=""/>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Times New Roman"/>
            </a:endParaRPr>
          </a:p>
        </p:txBody>
      </p:sp>
      <p:sp>
        <p:nvSpPr>
          <p:cNvPr id="2272" name=""/>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rmAutofit fontScale="87000"/>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273"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274" name=""/>
          <p:cNvGrpSpPr/>
          <p:nvPr/>
        </p:nvGrpSpPr>
        <p:grpSpPr>
          <a:xfrm>
            <a:off x="1171440" y="1833480"/>
            <a:ext cx="3224160" cy="620640"/>
            <a:chOff x="1171440" y="1833480"/>
            <a:chExt cx="3224160" cy="620640"/>
          </a:xfrm>
        </p:grpSpPr>
        <p:sp>
          <p:nvSpPr>
            <p:cNvPr id="2275" name=""/>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76" name="" descr=""/>
            <p:cNvPicPr/>
            <p:nvPr/>
          </p:nvPicPr>
          <p:blipFill>
            <a:blip r:embed="rId1"/>
            <a:stretch/>
          </p:blipFill>
          <p:spPr>
            <a:xfrm>
              <a:off x="1171440" y="1833480"/>
              <a:ext cx="3224160" cy="620640"/>
            </a:xfrm>
            <a:prstGeom prst="rect">
              <a:avLst/>
            </a:prstGeom>
            <a:ln w="0">
              <a:noFill/>
            </a:ln>
          </p:spPr>
        </p:pic>
      </p:grpSp>
      <p:sp>
        <p:nvSpPr>
          <p:cNvPr id="2277" name=""/>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 = 0 </a:t>
            </a:r>
            <a:endParaRPr b="0" lang="en-US" sz="1800" spc="-1" strike="noStrike">
              <a:solidFill>
                <a:srgbClr val="ffffff"/>
              </a:solidFill>
              <a:latin typeface="Times New Roman"/>
            </a:endParaRPr>
          </a:p>
        </p:txBody>
      </p:sp>
      <p:sp>
        <p:nvSpPr>
          <p:cNvPr id="2278" name=""/>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9" name=""/>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rmAutofit fontScale="71000"/>
          </a:bodyPr>
          <a:p>
            <a:pPr marL="202680" indent="-20268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Times New Roman"/>
            </a:endParaRPr>
          </a:p>
        </p:txBody>
      </p:sp>
      <p:sp>
        <p:nvSpPr>
          <p:cNvPr id="2280" name=""/>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rPr>
              <a:t>n</a:t>
            </a:r>
            <a:r>
              <a:rPr b="0" lang="en-US" sz="2800" spc="-1" strike="noStrike">
                <a:solidFill>
                  <a:srgbClr val="fafd00"/>
                </a:solidFill>
                <a:latin typeface="Symbol"/>
                <a:ea typeface="Symbol"/>
              </a:rPr>
              <a:t></a:t>
            </a:r>
            <a:r>
              <a:rPr b="0" lang="en-US" sz="2800" spc="-1" strike="noStrike">
                <a:solidFill>
                  <a:srgbClr val="fafd00"/>
                </a:solidFill>
                <a:latin typeface="Comic Sans MS"/>
              </a:rPr>
              <a:t> = 2L</a:t>
            </a:r>
            <a:endParaRPr b="0" lang="en-US" sz="2800" spc="-1" strike="noStrike">
              <a:solidFill>
                <a:srgbClr val="ffffff"/>
              </a:solidFill>
              <a:latin typeface="Times New Roman"/>
            </a:endParaRPr>
          </a:p>
        </p:txBody>
      </p:sp>
      <p:sp>
        <p:nvSpPr>
          <p:cNvPr id="2281" name=""/>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n</a:t>
            </a:r>
            <a:r>
              <a:rPr b="1" lang="en-US" sz="1800" spc="-1" strike="noStrike">
                <a:solidFill>
                  <a:srgbClr val="fafd00"/>
                </a:solidFill>
                <a:latin typeface="Symbol"/>
                <a:ea typeface="Symbol"/>
              </a:rPr>
              <a:t></a:t>
            </a:r>
            <a:r>
              <a:rPr b="1" lang="en-US" sz="1800" spc="-1" strike="noStrike">
                <a:solidFill>
                  <a:srgbClr val="fafd00"/>
                </a:solidFill>
                <a:latin typeface="Comic Sans MS"/>
              </a:rPr>
              <a:t>= 1, 2, 3 … ‘mode index’</a:t>
            </a:r>
            <a:endParaRPr b="0" lang="en-US" sz="1800" spc="-1" strike="noStrike">
              <a:solidFill>
                <a:srgbClr val="ffffff"/>
              </a:solidFill>
              <a:latin typeface="Times New Roman"/>
            </a:endParaRPr>
          </a:p>
        </p:txBody>
      </p:sp>
      <p:grpSp>
        <p:nvGrpSpPr>
          <p:cNvPr id="2282" name=""/>
          <p:cNvGrpSpPr/>
          <p:nvPr/>
        </p:nvGrpSpPr>
        <p:grpSpPr>
          <a:xfrm>
            <a:off x="555480" y="3618000"/>
            <a:ext cx="4140000" cy="3020040"/>
            <a:chOff x="555480" y="3618000"/>
            <a:chExt cx="4140000" cy="3020040"/>
          </a:xfrm>
        </p:grpSpPr>
        <p:grpSp>
          <p:nvGrpSpPr>
            <p:cNvPr id="2283" name=""/>
            <p:cNvGrpSpPr/>
            <p:nvPr/>
          </p:nvGrpSpPr>
          <p:grpSpPr>
            <a:xfrm>
              <a:off x="555480" y="3618000"/>
              <a:ext cx="4140000" cy="2833560"/>
              <a:chOff x="555480" y="3618000"/>
              <a:chExt cx="4140000" cy="2833560"/>
            </a:xfrm>
          </p:grpSpPr>
          <p:sp>
            <p:nvSpPr>
              <p:cNvPr id="2284" name=""/>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7" name=""/>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8" name=""/>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9" name=""/>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1" name=""/>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2" name=""/>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4" name=""/>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7" name=""/>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8" name=""/>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99" name=""/>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00" name=""/>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301" name=""/>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L</a:t>
              </a:r>
              <a:endParaRPr b="0" lang="en-US" sz="1400" spc="-1" strike="noStrike">
                <a:solidFill>
                  <a:srgbClr val="ffffff"/>
                </a:solidFill>
                <a:latin typeface="Times New Roman"/>
              </a:endParaRPr>
            </a:p>
          </p:txBody>
        </p:sp>
      </p:grpSp>
      <p:grpSp>
        <p:nvGrpSpPr>
          <p:cNvPr id="2302" name=""/>
          <p:cNvGrpSpPr/>
          <p:nvPr/>
        </p:nvGrpSpPr>
        <p:grpSpPr>
          <a:xfrm>
            <a:off x="5359320" y="1797120"/>
            <a:ext cx="3224160" cy="620640"/>
            <a:chOff x="5359320" y="1797120"/>
            <a:chExt cx="3224160" cy="620640"/>
          </a:xfrm>
        </p:grpSpPr>
        <p:sp>
          <p:nvSpPr>
            <p:cNvPr id="2303" name=""/>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04" name="" descr=""/>
            <p:cNvPicPr/>
            <p:nvPr/>
          </p:nvPicPr>
          <p:blipFill>
            <a:blip r:embed="rId2"/>
            <a:stretch/>
          </p:blipFill>
          <p:spPr>
            <a:xfrm>
              <a:off x="5359320" y="1797120"/>
              <a:ext cx="3224160" cy="620640"/>
            </a:xfrm>
            <a:prstGeom prst="rect">
              <a:avLst/>
            </a:prstGeom>
            <a:ln w="0">
              <a:noFill/>
            </a:ln>
          </p:spPr>
        </p:pic>
      </p:grpSp>
      <p:sp>
        <p:nvSpPr>
          <p:cNvPr id="2305" name=""/>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6"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307" name=""/>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n</a:t>
            </a:r>
            <a:r>
              <a:rPr b="0" lang="en-US" sz="1600" spc="-1" strike="noStrike" u="sng">
                <a:solidFill>
                  <a:srgbClr val="ffffff"/>
                </a:solidFill>
                <a:uFillTx/>
                <a:latin typeface="Comic Sans MS"/>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rPr>
              <a:t>f     </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a:t>
            </a:r>
            <a:r>
              <a:rPr b="0" lang="en-US" sz="2000" spc="-1" strike="noStrike">
                <a:solidFill>
                  <a:srgbClr val="ffffff"/>
                </a:solidFill>
                <a:latin typeface="Comic Sans MS"/>
              </a:rPr>
              <a:t>	</a:t>
            </a:r>
            <a:r>
              <a:rPr b="0" lang="en-US" sz="2000" spc="-1" strike="noStrike">
                <a:solidFill>
                  <a:srgbClr val="ffffff"/>
                </a:solidFill>
                <a:latin typeface="Comic Sans MS"/>
              </a:rPr>
              <a:t>v/2L</a:t>
            </a:r>
            <a:endParaRPr b="0" lang="en-US" sz="2000" spc="-1" strike="noStrike">
              <a:solidFill>
                <a:srgbClr val="ffffff"/>
              </a:solidFill>
              <a:latin typeface="Times New Roman"/>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a:solidFill>
                  <a:srgbClr val="ffffff"/>
                </a:solidFill>
                <a:latin typeface="Comic Sans MS"/>
              </a:rPr>
              <a:t>	</a:t>
            </a:r>
            <a:r>
              <a:rPr b="0" lang="en-US" sz="2000" spc="-1" strike="noStrike">
                <a:solidFill>
                  <a:srgbClr val="ffffff"/>
                </a:solidFill>
                <a:latin typeface="Comic Sans MS"/>
              </a:rPr>
              <a:t>v/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L/3</a:t>
            </a:r>
            <a:r>
              <a:rPr b="0" lang="en-US" sz="2000" spc="-1" strike="noStrike">
                <a:solidFill>
                  <a:srgbClr val="ffffff"/>
                </a:solidFill>
                <a:latin typeface="Comic Sans MS"/>
              </a:rPr>
              <a:t>	</a:t>
            </a:r>
            <a:r>
              <a:rPr b="0" lang="en-US" sz="2000" spc="-1" strike="noStrike">
                <a:solidFill>
                  <a:srgbClr val="ffffff"/>
                </a:solidFill>
                <a:latin typeface="Comic Sans MS"/>
              </a:rPr>
              <a:t>3v/2L</a:t>
            </a:r>
            <a:endParaRPr b="0" lang="en-US" sz="2000" spc="-1" strike="noStrike">
              <a:solidFill>
                <a:srgbClr val="ffffff"/>
              </a:solidFill>
              <a:latin typeface="Times New Roman"/>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2</a:t>
            </a:r>
            <a:r>
              <a:rPr b="0" lang="en-US" sz="2000" spc="-1" strike="noStrike">
                <a:solidFill>
                  <a:srgbClr val="ffffff"/>
                </a:solidFill>
                <a:latin typeface="Comic Sans MS"/>
              </a:rPr>
              <a:t>	</a:t>
            </a:r>
            <a:r>
              <a:rPr b="0" lang="en-US" sz="2000" spc="-1" strike="noStrike">
                <a:solidFill>
                  <a:srgbClr val="ffffff"/>
                </a:solidFill>
                <a:latin typeface="Comic Sans MS"/>
              </a:rPr>
              <a:t>2v/L</a:t>
            </a:r>
            <a:endParaRPr b="0" lang="en-US" sz="2000" spc="-1" strike="noStrike">
              <a:solidFill>
                <a:srgbClr val="ffffff"/>
              </a:solidFill>
              <a:latin typeface="Times New Roman"/>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lang="en-US" sz="2000" spc="-1" strike="noStrike">
                <a:solidFill>
                  <a:srgbClr val="ffffff"/>
                </a:solidFill>
                <a:latin typeface="Comic Sans MS"/>
              </a:rPr>
              <a:t>	</a:t>
            </a:r>
            <a:r>
              <a:rPr b="0" lang="en-US" sz="2000" spc="-1" strike="noStrike">
                <a:solidFill>
                  <a:srgbClr val="ffffff"/>
                </a:solidFill>
                <a:latin typeface="Comic Sans MS"/>
              </a:rPr>
              <a:t>2L/n</a:t>
            </a:r>
            <a:r>
              <a:rPr b="0" lang="en-US" sz="2000" spc="-1" strike="noStrike">
                <a:solidFill>
                  <a:srgbClr val="ffffff"/>
                </a:solidFill>
                <a:latin typeface="Comic Sans MS"/>
              </a:rPr>
              <a:t>	</a:t>
            </a:r>
            <a:r>
              <a:rPr b="0" lang="en-US" sz="2000" spc="-1" strike="noStrike">
                <a:solidFill>
                  <a:srgbClr val="ffffff"/>
                </a:solidFill>
                <a:latin typeface="Comic Sans MS"/>
              </a:rPr>
              <a:t>nv/2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08" name=""/>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Times New Roman"/>
            </a:endParaRPr>
          </a:p>
        </p:txBody>
      </p:sp>
      <p:grpSp>
        <p:nvGrpSpPr>
          <p:cNvPr id="2309" name=""/>
          <p:cNvGrpSpPr/>
          <p:nvPr/>
        </p:nvGrpSpPr>
        <p:grpSpPr>
          <a:xfrm>
            <a:off x="5532480" y="4400640"/>
            <a:ext cx="3238200" cy="2114280"/>
            <a:chOff x="5532480" y="4400640"/>
            <a:chExt cx="3238200" cy="2114280"/>
          </a:xfrm>
        </p:grpSpPr>
        <p:sp>
          <p:nvSpPr>
            <p:cNvPr id="2310" name=""/>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1" name=""/>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312" name=""/>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3" name=""/>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4" name=""/>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2315" name=""/>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Times New Roman"/>
              </a:endParaRPr>
            </a:p>
          </p:txBody>
        </p:sp>
        <p:sp>
          <p:nvSpPr>
            <p:cNvPr id="2316" name=""/>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2317" name=""/>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Times New Roman"/>
              </a:endParaRPr>
            </a:p>
          </p:txBody>
        </p:sp>
        <p:sp>
          <p:nvSpPr>
            <p:cNvPr id="2318" name=""/>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Times New Roman"/>
              </a:endParaRPr>
            </a:p>
          </p:txBody>
        </p:sp>
        <p:sp>
          <p:nvSpPr>
            <p:cNvPr id="2319" name=""/>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0" name=""/>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1" name=""/>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2" name=""/>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Times New Roman"/>
              </a:endParaRPr>
            </a:p>
          </p:txBody>
        </p:sp>
        <p:sp>
          <p:nvSpPr>
            <p:cNvPr id="2323" name=""/>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Times New Roman"/>
              </a:endParaRPr>
            </a:p>
          </p:txBody>
        </p:sp>
        <p:sp>
          <p:nvSpPr>
            <p:cNvPr id="2324" name=""/>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Times New Roman"/>
              </a:endParaRPr>
            </a:p>
          </p:txBody>
        </p:sp>
      </p:grpSp>
      <p:sp>
        <p:nvSpPr>
          <p:cNvPr id="2325" name=""/>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Times New Roman"/>
            </a:endParaRPr>
          </a:p>
        </p:txBody>
      </p:sp>
      <p:grpSp>
        <p:nvGrpSpPr>
          <p:cNvPr id="2326" name=""/>
          <p:cNvGrpSpPr/>
          <p:nvPr/>
        </p:nvGrpSpPr>
        <p:grpSpPr>
          <a:xfrm>
            <a:off x="4586400" y="1638360"/>
            <a:ext cx="4424400" cy="2420640"/>
            <a:chOff x="4586400" y="1638360"/>
            <a:chExt cx="4424400" cy="2420640"/>
          </a:xfrm>
        </p:grpSpPr>
        <p:grpSp>
          <p:nvGrpSpPr>
            <p:cNvPr id="2327" name=""/>
            <p:cNvGrpSpPr/>
            <p:nvPr/>
          </p:nvGrpSpPr>
          <p:grpSpPr>
            <a:xfrm>
              <a:off x="4586400" y="2085480"/>
              <a:ext cx="1817280" cy="1725480"/>
              <a:chOff x="4586400" y="2085480"/>
              <a:chExt cx="1817280" cy="1725480"/>
            </a:xfrm>
          </p:grpSpPr>
          <p:sp>
            <p:nvSpPr>
              <p:cNvPr id="2328" name=""/>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9" name=""/>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0" name=""/>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1" name=""/>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2" name=""/>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3" name=""/>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4" name=""/>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5" name=""/>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6" name=""/>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7" name=""/>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9" name=""/>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1" name=""/>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2" name=""/>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43" name=""/>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44" name=""/>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a:p>
              <a:pPr>
                <a:lnSpc>
                  <a:spcPct val="100000"/>
                </a:lnSpc>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Times New Roman"/>
              </a:endParaRPr>
            </a:p>
          </p:txBody>
        </p:sp>
        <p:sp>
          <p:nvSpPr>
            <p:cNvPr id="2345" name=""/>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2346" name=""/>
          <p:cNvGraphicFramePr/>
          <p:nvPr/>
        </p:nvGraphicFramePr>
        <p:xfrm>
          <a:off x="309600" y="1878120"/>
          <a:ext cx="3825720" cy="1819080"/>
        </p:xfrm>
        <a:graphic>
          <a:graphicData uri="http://schemas.openxmlformats.org/presentationml/2006/ole">
            <p:oleObj r:id="rId1" spid="">
              <p:embed/>
              <p:pic>
                <p:nvPicPr>
                  <p:cNvPr id="2347" name=""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348" name=""/>
          <p:cNvGrpSpPr/>
          <p:nvPr/>
        </p:nvGrpSpPr>
        <p:grpSpPr>
          <a:xfrm>
            <a:off x="2298600" y="1720800"/>
            <a:ext cx="927000" cy="620640"/>
            <a:chOff x="2298600" y="1720800"/>
            <a:chExt cx="927000" cy="620640"/>
          </a:xfrm>
        </p:grpSpPr>
        <p:sp>
          <p:nvSpPr>
            <p:cNvPr id="2349" name=""/>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0" name=""/>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Times New Roman"/>
              </a:endParaRPr>
            </a:p>
          </p:txBody>
        </p:sp>
      </p:grpSp>
      <p:sp>
        <p:nvSpPr>
          <p:cNvPr id="2351" name=""/>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5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56"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357" name="Group 5"/>
          <p:cNvGrpSpPr/>
          <p:nvPr/>
        </p:nvGrpSpPr>
        <p:grpSpPr>
          <a:xfrm>
            <a:off x="369720" y="5151600"/>
            <a:ext cx="1902240" cy="1687320"/>
            <a:chOff x="369720" y="5151600"/>
            <a:chExt cx="1902240" cy="1687320"/>
          </a:xfrm>
        </p:grpSpPr>
        <p:grpSp>
          <p:nvGrpSpPr>
            <p:cNvPr id="2358" name="Group 6"/>
            <p:cNvGrpSpPr/>
            <p:nvPr/>
          </p:nvGrpSpPr>
          <p:grpSpPr>
            <a:xfrm>
              <a:off x="369720" y="5151600"/>
              <a:ext cx="1902240" cy="1687320"/>
              <a:chOff x="369720" y="5151600"/>
              <a:chExt cx="1902240" cy="1687320"/>
            </a:xfrm>
          </p:grpSpPr>
          <p:sp>
            <p:nvSpPr>
              <p:cNvPr id="2359"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0"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1"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2"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3"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64"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65"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366"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67"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Times New Roman"/>
                </a:endParaRPr>
              </a:p>
            </p:txBody>
          </p:sp>
          <p:sp>
            <p:nvSpPr>
              <p:cNvPr id="2368"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9"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0"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1"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Times New Roman"/>
                </a:endParaRPr>
              </a:p>
            </p:txBody>
          </p:sp>
          <p:sp>
            <p:nvSpPr>
              <p:cNvPr id="2372"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Times New Roman"/>
                </a:endParaRPr>
              </a:p>
            </p:txBody>
          </p:sp>
          <p:sp>
            <p:nvSpPr>
              <p:cNvPr id="2373"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Times New Roman"/>
                </a:endParaRPr>
              </a:p>
            </p:txBody>
          </p:sp>
        </p:grpSp>
        <p:sp>
          <p:nvSpPr>
            <p:cNvPr id="2374"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75"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Times New Roman"/>
            </a:endParaRPr>
          </a:p>
        </p:txBody>
      </p:sp>
      <p:sp>
        <p:nvSpPr>
          <p:cNvPr id="2376"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Times New Roman"/>
            </a:endParaRPr>
          </a:p>
        </p:txBody>
      </p:sp>
      <p:sp>
        <p:nvSpPr>
          <p:cNvPr id="2377"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78"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379"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380"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381" name=""/>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Times New Roman"/>
            </a:endParaRPr>
          </a:p>
        </p:txBody>
      </p:sp>
      <p:graphicFrame>
        <p:nvGraphicFramePr>
          <p:cNvPr id="2382" name=""/>
          <p:cNvGraphicFramePr/>
          <p:nvPr/>
        </p:nvGraphicFramePr>
        <p:xfrm>
          <a:off x="995400" y="2473200"/>
          <a:ext cx="3567240" cy="757440"/>
        </p:xfrm>
        <a:graphic>
          <a:graphicData uri="http://schemas.openxmlformats.org/presentationml/2006/ole">
            <p:oleObj r:id="rId1" spid="">
              <p:embed/>
              <p:pic>
                <p:nvPicPr>
                  <p:cNvPr id="2383" name="" descr=""/>
                  <p:cNvPicPr/>
                  <p:nvPr/>
                </p:nvPicPr>
                <p:blipFill>
                  <a:blip r:embed="rId2"/>
                  <a:stretch/>
                </p:blipFill>
                <p:spPr>
                  <a:xfrm>
                    <a:off x="995400" y="2473200"/>
                    <a:ext cx="3567240" cy="757440"/>
                  </a:xfrm>
                  <a:prstGeom prst="rect">
                    <a:avLst/>
                  </a:prstGeom>
                  <a:ln w="0">
                    <a:noFill/>
                  </a:ln>
                </p:spPr>
              </p:pic>
            </p:oleObj>
          </a:graphicData>
        </a:graphic>
      </p:graphicFrame>
      <p:sp>
        <p:nvSpPr>
          <p:cNvPr id="2384" name=""/>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rmAutofit fontScale="77000"/>
          </a:bodyPr>
          <a:p>
            <a:pPr marL="219960" indent="-21996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sp>
        <p:nvSpPr>
          <p:cNvPr id="2385" name=""/>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Times New Roman"/>
            </a:endParaRPr>
          </a:p>
        </p:txBody>
      </p:sp>
      <p:sp>
        <p:nvSpPr>
          <p:cNvPr id="2386" name=""/>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Times New Roman"/>
            </a:endParaRPr>
          </a:p>
        </p:txBody>
      </p:sp>
      <p:grpSp>
        <p:nvGrpSpPr>
          <p:cNvPr id="2387" name=""/>
          <p:cNvGrpSpPr/>
          <p:nvPr/>
        </p:nvGrpSpPr>
        <p:grpSpPr>
          <a:xfrm>
            <a:off x="5748480" y="1467000"/>
            <a:ext cx="3268440" cy="3216240"/>
            <a:chOff x="5748480" y="1467000"/>
            <a:chExt cx="3268440" cy="3216240"/>
          </a:xfrm>
        </p:grpSpPr>
        <p:sp>
          <p:nvSpPr>
            <p:cNvPr id="2388" name=""/>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Times New Roman"/>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Times New Roman"/>
              </a:endParaRPr>
            </a:p>
          </p:txBody>
        </p:sp>
        <p:sp>
          <p:nvSpPr>
            <p:cNvPr id="2389" name=""/>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0" name=""/>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2" name=""/>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3" name=""/>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394" name=""/>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395" name=""/>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396" name=""/>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7" name=""/>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398" name=""/>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399" name=""/>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Times New Roman"/>
              </a:endParaRPr>
            </a:p>
          </p:txBody>
        </p:sp>
        <p:sp>
          <p:nvSpPr>
            <p:cNvPr id="2400" name=""/>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Times New Roman"/>
              </a:endParaRPr>
            </a:p>
          </p:txBody>
        </p:sp>
        <p:sp>
          <p:nvSpPr>
            <p:cNvPr id="2401" name=""/>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2" name=""/>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Times New Roman"/>
              </a:endParaRPr>
            </a:p>
          </p:txBody>
        </p:sp>
        <p:sp>
          <p:nvSpPr>
            <p:cNvPr id="2403" name=""/>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4" name=""/>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Times New Roman"/>
              </a:endParaRPr>
            </a:p>
          </p:txBody>
        </p:sp>
        <p:sp>
          <p:nvSpPr>
            <p:cNvPr id="2405" name=""/>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07" name=""/>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Times New Roman"/>
            </a:endParaRPr>
          </a:p>
        </p:txBody>
      </p:sp>
      <p:sp>
        <p:nvSpPr>
          <p:cNvPr id="2408" name=""/>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6"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a:t>
            </a:r>
            <a:r>
              <a:rPr b="0" lang="en-US" sz="1800" spc="-1" strike="noStrike" u="sng">
                <a:solidFill>
                  <a:srgbClr val="ff99ff"/>
                </a:solidFill>
                <a:uFillTx/>
                <a:latin typeface="Arial"/>
                <a:hlinkClick r:id="rId1"/>
              </a:rPr>
              <a:t>http://www.falstad.com/qm1d/</a:t>
            </a:r>
            <a:endParaRPr b="0" lang="en-US" sz="1800" spc="-1" strike="noStrike">
              <a:solidFill>
                <a:srgbClr val="00ffcc"/>
              </a:solidFill>
              <a:latin typeface="Arial"/>
            </a:endParaRPr>
          </a:p>
        </p:txBody>
      </p:sp>
      <p:grpSp>
        <p:nvGrpSpPr>
          <p:cNvPr id="87" name=""/>
          <p:cNvGrpSpPr/>
          <p:nvPr/>
        </p:nvGrpSpPr>
        <p:grpSpPr>
          <a:xfrm>
            <a:off x="5318640" y="1401840"/>
            <a:ext cx="3404160" cy="2506320"/>
            <a:chOff x="5318640" y="1401840"/>
            <a:chExt cx="3404160" cy="2506320"/>
          </a:xfrm>
        </p:grpSpPr>
        <p:grpSp>
          <p:nvGrpSpPr>
            <p:cNvPr id="88" name=""/>
            <p:cNvGrpSpPr/>
            <p:nvPr/>
          </p:nvGrpSpPr>
          <p:grpSpPr>
            <a:xfrm>
              <a:off x="5976720" y="2549520"/>
              <a:ext cx="1347840" cy="602640"/>
              <a:chOff x="5976720" y="2549520"/>
              <a:chExt cx="1347840" cy="602640"/>
            </a:xfrm>
          </p:grpSpPr>
          <p:sp>
            <p:nvSpPr>
              <p:cNvPr id="89" name=""/>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0" name=""/>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1" name=""/>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2" name=""/>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3" name=""/>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 name=""/>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5" name=""/>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6" name=""/>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7" name=""/>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8" name=""/>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99" name=""/>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0" name=""/>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1" name=""/>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2" name=""/>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3" name=""/>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4" name=""/>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5" name=""/>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6" name=""/>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07" name=""/>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08" name=""/>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 name=""/>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0" name=""/>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1" name=""/>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 name=""/>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3" name=""/>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4" name=""/>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 name=""/>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 name=""/>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7" name=""/>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 name=""/>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 name=""/>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0" name=""/>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1" name=""/>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2" name=""/>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3" name=""/>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 name=""/>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26" name=""/>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7" name=""/>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8" name=""/>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9" name=""/>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30" name=""/>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1" name=""/>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2" name=""/>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 name=""/>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4" name=""/>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5" name=""/>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6" name=""/>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7" name=""/>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8" name=""/>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9" name=""/>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 name=""/>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1" name=""/>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2" name=""/>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3" name=""/>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4" name=""/>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5" name=""/>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6" name=""/>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7" name=""/>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8" name=""/>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49" name=""/>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50" name=""/>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1" name=""/>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2" name=""/>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3" name=""/>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4" name=""/>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5" name=""/>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 name=""/>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7" name=""/>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8" name=""/>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9" name=""/>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 name=""/>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1" name=""/>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2" name=""/>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3" name=""/>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4" name=""/>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5" name=""/>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6" name=""/>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7" name=""/>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8" name=""/>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 name=""/>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0" name=""/>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1" name=""/>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2" name=""/>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3" name=""/>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 name=""/>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75" name=""/>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6" name=""/>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7" name=""/>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8" name=""/>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79" name=""/>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0" name=""/>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1" name=""/>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2" name=""/>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 name=""/>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4" name=""/>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5" name=""/>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6" name=""/>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7" name=""/>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88" name=""/>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9" name=""/>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0" name=""/>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1" name=""/>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 name=""/>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3" name=""/>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4" name=""/>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5" name=""/>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6" name=""/>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97" name=""/>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8" name=""/>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99" name=""/>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0" name=""/>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1" name=""/>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02" name=""/>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3" name=""/>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 name=""/>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 name=""/>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6" name=""/>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7" name=""/>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 name=""/>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09" name=""/>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 name=""/>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 name=""/>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2" name=""/>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13" name=""/>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4" name=""/>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5" name=""/>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6" name=""/>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7" name=""/>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18" name=""/>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19" name=""/>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0" name=""/>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1" name=""/>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2" name=""/>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23" name=""/>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4" name=""/>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5" name=""/>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6" name=""/>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7" name=""/>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9" name=""/>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0" name=""/>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 name=""/>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 name=""/>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3" name=""/>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 name=""/>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 name=""/>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6" name=""/>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7" name=""/>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8" name=""/>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9" name=""/>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0" name=""/>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1" name=""/>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2" name=""/>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 name=""/>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4" name=""/>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 name=""/>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 name=""/>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 name=""/>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8" name=""/>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9" name=""/>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0" name=""/>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1" name=""/>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2" name=""/>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3" name=""/>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4" name=""/>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55" name=""/>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6" name=""/>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7" name=""/>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8" name=""/>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59" name=""/>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0" name=""/>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61" name=""/>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2" name=""/>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3" name=""/>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4" name=""/>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65" name=""/>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66" name=""/>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 name=""/>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8" name=""/>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9" name=""/>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0" name=""/>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1" name=""/>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2" name=""/>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3" name=""/>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4" name=""/>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5" name=""/>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6" name=""/>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7" name=""/>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8" name=""/>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79" name=""/>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0" name=""/>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1" name=""/>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2" name=""/>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3" name=""/>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4" name=""/>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285" name=""/>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6" name=""/>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87" name=""/>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8" name=""/>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grpSp>
          <p:nvGrpSpPr>
            <p:cNvPr id="289" name=""/>
            <p:cNvGrpSpPr/>
            <p:nvPr/>
          </p:nvGrpSpPr>
          <p:grpSpPr>
            <a:xfrm>
              <a:off x="5976720" y="2549520"/>
              <a:ext cx="2021040" cy="608040"/>
              <a:chOff x="5976720" y="2549520"/>
              <a:chExt cx="2021040" cy="608040"/>
            </a:xfrm>
          </p:grpSpPr>
          <p:sp>
            <p:nvSpPr>
              <p:cNvPr id="290" name=""/>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1" name=""/>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2" name=""/>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3" name=""/>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4" name=""/>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5" name=""/>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 name=""/>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7" name=""/>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8" name=""/>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9" name=""/>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0" name=""/>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1" name=""/>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2" name=""/>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3" name=""/>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4" name=""/>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5" name=""/>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6" name=""/>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 name=""/>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8" name=""/>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 name=""/>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0" name=""/>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1" name=""/>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2" name=""/>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3" name=""/>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4" name=""/>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5" name=""/>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6" name=""/>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7" name=""/>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 name=""/>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9" name=""/>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 name=""/>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1" name=""/>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2" name=""/>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3" name=""/>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4" name=""/>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5" name=""/>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6" name=""/>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7" name=""/>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8" name=""/>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 name=""/>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0" name=""/>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1" name=""/>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2" name=""/>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3" name=""/>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4" name=""/>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5" name=""/>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6" name=""/>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7" name=""/>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38" name=""/>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39" name=""/>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0" name=""/>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1" name=""/>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2" name=""/>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3" name=""/>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4" name=""/>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45" name=""/>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46" name=""/>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7" name=""/>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8" name=""/>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49" name=""/>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0" name=""/>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1" name=""/>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352" name=""/>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3" name=""/>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54" name=""/>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55" name=""/>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6" name=""/>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7" name=""/>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8" name=""/>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59" name=""/>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0" name=""/>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1" name=""/>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2" name=""/>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3" name=""/>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4" name=""/>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5" name=""/>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66" name=""/>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7" name=""/>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68" name=""/>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69" name=""/>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0" name=""/>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1" name=""/>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2" name=""/>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73" name=""/>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4" name=""/>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5" name=""/>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6" name=""/>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77" name=""/>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78" name=""/>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9" name=""/>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0" name=""/>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1" name=""/>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2" name=""/>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3" name=""/>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4" name=""/>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5" name=""/>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86" name=""/>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7" name=""/>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8" name=""/>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9" name=""/>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1" name=""/>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2" name=""/>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3" name=""/>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94" name=""/>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5" name=""/>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6" name=""/>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7" name=""/>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8" name=""/>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99" name=""/>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0" name=""/>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1" name=""/>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2" name=""/>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3" name=""/>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04" name=""/>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5" name=""/>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06" name=""/>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7" name=""/>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8" name=""/>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9" name=""/>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0" name=""/>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1" name=""/>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2" name=""/>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3" name=""/>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4" name=""/>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5" name=""/>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6" name=""/>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17" name=""/>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18" name=""/>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19" name=""/>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0" name=""/>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1" name=""/>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2" name=""/>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3" name=""/>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4" name=""/>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25" name=""/>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6" name=""/>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7" name=""/>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 name=""/>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 name=""/>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 name=""/>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1" name=""/>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32" name=""/>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3" name=""/>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4" name=""/>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5" name=""/>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6" name=""/>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8" name=""/>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9" name=""/>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0" name=""/>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1" name=""/>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2" name=""/>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3" name=""/>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4" name=""/>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45" name=""/>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46" name=""/>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7" name=""/>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48" name=""/>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49" name=""/>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0" name=""/>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1" name=""/>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2" name=""/>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53" name=""/>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4" name=""/>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5" name=""/>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6" name=""/>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7" name=""/>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58" name=""/>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59" name=""/>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0" name=""/>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1" name=""/>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2" name=""/>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3" name=""/>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64" name=""/>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5" name=""/>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6" name=""/>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7" name=""/>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68" name=""/>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9" name=""/>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0" name=""/>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1" name=""/>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2" name=""/>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3" name=""/>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74" name=""/>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5" name=""/>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6" name=""/>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77" name=""/>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78" name=""/>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9" name=""/>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0" name=""/>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1" name=""/>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2" name=""/>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3" name=""/>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4" name=""/>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85" name=""/>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6" name=""/>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87" name=""/>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88" name=""/>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9" name=""/>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grpSp>
        <p:grpSp>
          <p:nvGrpSpPr>
            <p:cNvPr id="490" name=""/>
            <p:cNvGrpSpPr/>
            <p:nvPr/>
          </p:nvGrpSpPr>
          <p:grpSpPr>
            <a:xfrm>
              <a:off x="6649920" y="2549520"/>
              <a:ext cx="1347840" cy="1217160"/>
              <a:chOff x="6649920" y="2549520"/>
              <a:chExt cx="1347840" cy="1217160"/>
            </a:xfrm>
          </p:grpSpPr>
          <p:sp>
            <p:nvSpPr>
              <p:cNvPr id="491" name=""/>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2" name=""/>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3" name=""/>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94" name=""/>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95" name=""/>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96" name=""/>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7" name=""/>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8" name=""/>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499" name=""/>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0" name=""/>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1" name=""/>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2" name=""/>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3" name=""/>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4" name=""/>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05" name=""/>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6" name=""/>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07" name=""/>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08" name=""/>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09" name=""/>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0" name=""/>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1" name=""/>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2" name=""/>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3" name=""/>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14" name=""/>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5" name=""/>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6" name=""/>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7" name=""/>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8" name=""/>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19" name=""/>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0" name=""/>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1" name=""/>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2" name=""/>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23" name=""/>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4" name=""/>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5" name=""/>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26" name=""/>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7" name=""/>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28" name=""/>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29" name=""/>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0" name=""/>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1" name=""/>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2" name=""/>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3" name=""/>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34" name=""/>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5" name=""/>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36" name=""/>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7" name=""/>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8" name=""/>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39" name=""/>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0" name=""/>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1" name=""/>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2" name=""/>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3" name=""/>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4" name=""/>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5" name=""/>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6" name=""/>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47" name=""/>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48" name=""/>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49" name=""/>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0" name=""/>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551" name=""/>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2" name=""/>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3" name=""/>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4" name=""/>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5" name=""/>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6" name=""/>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7" name=""/>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8" name=""/>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59" name=""/>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0" name=""/>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1" name=""/>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562" name=""/>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3" name=""/>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4" name=""/>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5" name=""/>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6" name=""/>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67" name=""/>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68" name=""/>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69" name=""/>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0" name=""/>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1" name=""/>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2" name=""/>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3" name=""/>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4" name=""/>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75" name=""/>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6" name=""/>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77" name=""/>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578" name=""/>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79" name=""/>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0" name=""/>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1" name=""/>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2" name=""/>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3" name=""/>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4" name=""/>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5" name=""/>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86" name=""/>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87" name=""/>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88" name=""/>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89" name=""/>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0" name=""/>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1" name=""/>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2" name=""/>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3" name=""/>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4" name=""/>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95" name=""/>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96" name=""/>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97" name=""/>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98" name=""/>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9" name=""/>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0" name=""/>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01" name=""/>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2" name=""/>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3" name=""/>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4" name=""/>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05" name=""/>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6" name=""/>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07" name=""/>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8" name=""/>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09" name=""/>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0" name=""/>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1" name=""/>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12" name=""/>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3" name=""/>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4" name=""/>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5" name=""/>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16" name=""/>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7" name=""/>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18" name=""/>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19" name=""/>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20" name=""/>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1" name=""/>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2" name=""/>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3" name=""/>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4" name=""/>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5" name=""/>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26" name=""/>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7" name=""/>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28" name=""/>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29" name=""/>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0" name=""/>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1" name=""/>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2" name=""/>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33" name=""/>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34" name=""/>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35" name=""/>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36" name=""/>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7" name=""/>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8" name=""/>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39" name=""/>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0" name=""/>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1" name=""/>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2" name=""/>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3" name=""/>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4" name=""/>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5" name=""/>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46" name=""/>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7" name=""/>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648" name=""/>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49" name=""/>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50" name=""/>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1" name=""/>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2" name=""/>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3" name=""/>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54" name=""/>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5" name=""/>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6" name=""/>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57" name=""/>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8" name=""/>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59" name=""/>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0" name=""/>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1" name=""/>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62" name=""/>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63" name=""/>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4" name=""/>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65" name=""/>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6" name=""/>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7" name=""/>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68" name=""/>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69" name=""/>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0" name=""/>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1" name=""/>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2" name=""/>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3" name=""/>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4" name=""/>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75" name=""/>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6" name=""/>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77" name=""/>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678" name=""/>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79" name=""/>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0" name=""/>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1" name=""/>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2" name=""/>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3" name=""/>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84" name=""/>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685" name=""/>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686" name=""/>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7" name=""/>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688" name=""/>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89" name=""/>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90" name=""/>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691" name=""/>
            <p:cNvGrpSpPr/>
            <p:nvPr/>
          </p:nvGrpSpPr>
          <p:grpSpPr>
            <a:xfrm>
              <a:off x="5976720" y="2549520"/>
              <a:ext cx="1347840" cy="1135080"/>
              <a:chOff x="5976720" y="2549520"/>
              <a:chExt cx="1347840" cy="1135080"/>
            </a:xfrm>
          </p:grpSpPr>
          <p:sp>
            <p:nvSpPr>
              <p:cNvPr id="692" name=""/>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3" name=""/>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4" name=""/>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5" name=""/>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6" name=""/>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97" name=""/>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98" name=""/>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99" name=""/>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0" name=""/>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01" name=""/>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2" name=""/>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3" name=""/>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4" name=""/>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05" name=""/>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06" name=""/>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7" name=""/>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08" name=""/>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9" name=""/>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0" name=""/>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1" name=""/>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12" name=""/>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13" name=""/>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4" name=""/>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5" name=""/>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6" name=""/>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17" name=""/>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18" name=""/>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19" name=""/>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0" name=""/>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1" name=""/>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2" name=""/>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23" name=""/>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4" name=""/>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5" name=""/>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6" name=""/>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27" name=""/>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28" name=""/>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9" name=""/>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0" name=""/>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31" name=""/>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2" name=""/>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3" name=""/>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4" name=""/>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35" name=""/>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6" name=""/>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7" name=""/>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38" name=""/>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39" name=""/>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0" name=""/>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1" name=""/>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2" name=""/>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3" name=""/>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4" name=""/>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5" name=""/>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6" name=""/>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47" name=""/>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48" name=""/>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49" name=""/>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0" name=""/>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1" name=""/>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2" name=""/>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3" name=""/>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54" name=""/>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5" name=""/>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6" name=""/>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57" name=""/>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8" name=""/>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9" name=""/>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60" name=""/>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1" name=""/>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2" name=""/>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3" name=""/>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4" name=""/>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5" name=""/>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6" name=""/>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7" name=""/>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8" name=""/>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69" name=""/>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0" name=""/>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1" name=""/>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2" name=""/>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3" name=""/>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74" name=""/>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775" name=""/>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6" name=""/>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8" name=""/>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 name=""/>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0" name=""/>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781" name=""/>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 name=""/>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3" name=""/>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4" name=""/>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5" name=""/>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86" name=""/>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7" name=""/>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88" name=""/>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89" name=""/>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0" name=""/>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1" name=""/>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2" name=""/>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3" name=""/>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4" name=""/>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5" name=""/>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96" name=""/>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7" name=""/>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8" name=""/>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99" name=""/>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00" name=""/>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1" name=""/>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2" name=""/>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3" name=""/>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4" name=""/>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5" name=""/>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6" name=""/>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07" name=""/>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8" name=""/>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09" name=""/>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0" name=""/>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1" name=""/>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12" name=""/>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3" name=""/>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14" name=""/>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5" name=""/>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6" name=""/>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17" name=""/>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18" name=""/>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19" name=""/>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0" name=""/>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1" name=""/>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2" name=""/>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23" name=""/>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24" name=""/>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25" name=""/>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6" name=""/>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27" name=""/>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28" name=""/>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29" name=""/>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0" name=""/>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1" name=""/>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2" name=""/>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3" name=""/>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34" name=""/>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5" name=""/>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36" name=""/>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7" name=""/>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38" name=""/>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9" name=""/>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0" name=""/>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1" name=""/>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2" name=""/>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3" name=""/>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844" name=""/>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45" name=""/>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46" name=""/>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47" name=""/>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8" name=""/>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49" name=""/>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0" name=""/>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1" name=""/>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52" name=""/>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3" name=""/>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54" name=""/>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55" name=""/>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6" name=""/>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7" name=""/>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58" name=""/>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9" name=""/>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0" name=""/>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1" name=""/>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2" name=""/>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63" name=""/>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4" name=""/>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5" name=""/>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66" name=""/>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67" name=""/>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68" name=""/>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9" name=""/>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0" name=""/>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71" name=""/>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2" name=""/>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3" name=""/>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4" name=""/>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875" name=""/>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6" name=""/>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77" name=""/>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78" name=""/>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79" name=""/>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0" name=""/>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81" name=""/>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2" name=""/>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3" name=""/>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4" name=""/>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5" name=""/>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86" name=""/>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7" name=""/>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8" name=""/>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89" name=""/>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0" name=""/>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1" name=""/>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892" name=""/>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93" name=""/>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4" name=""/>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5" name=""/>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6" name=""/>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7" name=""/>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98" name=""/>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99" name=""/>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0" name=""/>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1" name=""/>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2" name=""/>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3" name=""/>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04" name=""/>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5" name=""/>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06" name=""/>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07" name=""/>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8" name=""/>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9" name=""/>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10" name=""/>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1" name=""/>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2" name=""/>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3" name=""/>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4" name=""/>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5" name=""/>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6" name=""/>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7" name=""/>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8" name=""/>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19" name=""/>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0" name=""/>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1" name=""/>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2" name=""/>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3" name=""/>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4" name=""/>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25" name=""/>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6" name=""/>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27" name=""/>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28" name=""/>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29" name=""/>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0" name=""/>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1" name=""/>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2" name=""/>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3" name=""/>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4" name=""/>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5" name=""/>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36" name=""/>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7" name=""/>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38" name=""/>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39" name=""/>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0" name=""/>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41" name=""/>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2" name=""/>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3" name=""/>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4" name=""/>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5" name=""/>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6" name=""/>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7" name=""/>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48" name=""/>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49" name=""/>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0" name=""/>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1" name=""/>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2" name=""/>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53" name=""/>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4" name=""/>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5" name=""/>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56" name=""/>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7" name=""/>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58" name=""/>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59" name=""/>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0" name=""/>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1" name=""/>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2" name=""/>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3" name=""/>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64" name=""/>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65" name=""/>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66" name=""/>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7" name=""/>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68" name=""/>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69" name=""/>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0" name=""/>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1" name=""/>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3" name=""/>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4" name=""/>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75" name=""/>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6" name=""/>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77" name=""/>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78" name=""/>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79" name=""/>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0" name=""/>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1" name=""/>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2" name=""/>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83" name=""/>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84" name=""/>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5" name=""/>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86" name=""/>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87" name=""/>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88" name=""/>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989" name=""/>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90" name=""/>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91" name=""/>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992" name=""/>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994" name=""/>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997" name=""/>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998" name=""/>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999" name=""/>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000" name=""/>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Times New Roman"/>
              </a:endParaRPr>
            </a:p>
          </p:txBody>
        </p:sp>
        <p:sp>
          <p:nvSpPr>
            <p:cNvPr id="1001" name=""/>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Times New Roman"/>
              </a:endParaRPr>
            </a:p>
          </p:txBody>
        </p:sp>
        <p:sp>
          <p:nvSpPr>
            <p:cNvPr id="1002" name=""/>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1003" name=""/>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Times New Roman"/>
              </a:endParaRPr>
            </a:p>
          </p:txBody>
        </p:sp>
        <p:sp>
          <p:nvSpPr>
            <p:cNvPr id="1004" name=""/>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41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41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412" name=""/>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Times New Roman"/>
            </a:endParaRPr>
          </a:p>
        </p:txBody>
      </p:sp>
      <p:sp>
        <p:nvSpPr>
          <p:cNvPr id="2413" name=""/>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Times New Roman"/>
            </a:endParaRPr>
          </a:p>
        </p:txBody>
      </p:sp>
      <p:sp>
        <p:nvSpPr>
          <p:cNvPr id="24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24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24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24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423" name=""/>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2424" name=""/>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Times New Roman"/>
            </a:endParaRPr>
          </a:p>
        </p:txBody>
      </p:sp>
      <p:sp>
        <p:nvSpPr>
          <p:cNvPr id="2425" name=""/>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Times New Roman"/>
            </a:endParaRPr>
          </a:p>
        </p:txBody>
      </p:sp>
      <p:graphicFrame>
        <p:nvGraphicFramePr>
          <p:cNvPr id="2426" name=""/>
          <p:cNvGraphicFramePr/>
          <p:nvPr/>
        </p:nvGraphicFramePr>
        <p:xfrm>
          <a:off x="1533600" y="3898800"/>
          <a:ext cx="3556080" cy="424080"/>
        </p:xfrm>
        <a:graphic>
          <a:graphicData uri="http://schemas.openxmlformats.org/presentationml/2006/ole">
            <p:oleObj r:id="rId1" spid="">
              <p:embed/>
              <p:pic>
                <p:nvPicPr>
                  <p:cNvPr id="2427" name=""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428" name=""/>
          <p:cNvGrpSpPr/>
          <p:nvPr/>
        </p:nvGrpSpPr>
        <p:grpSpPr>
          <a:xfrm>
            <a:off x="7300800" y="1859040"/>
            <a:ext cx="1195200" cy="796680"/>
            <a:chOff x="7300800" y="1859040"/>
            <a:chExt cx="1195200" cy="796680"/>
          </a:xfrm>
        </p:grpSpPr>
        <p:sp>
          <p:nvSpPr>
            <p:cNvPr id="2429" name=""/>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0" name=""/>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1" name=""/>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2" name=""/>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3" name=""/>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34" name=""/>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5" name=""/>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36" name=""/>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7" name=""/>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38" name=""/>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9" name=""/>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0" name=""/>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1" name=""/>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42" name=""/>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3" name=""/>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4" name=""/>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5" name=""/>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46" name=""/>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7" name=""/>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48" name=""/>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49" name=""/>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0" name=""/>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1" name=""/>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2" name=""/>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3" name=""/>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4" name=""/>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55" name=""/>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6" name=""/>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7" name=""/>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58" name=""/>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59" name=""/>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0" name=""/>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1" name=""/>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2" name=""/>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3" name=""/>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4" name=""/>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5" name=""/>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6" name=""/>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7" name=""/>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68" name=""/>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69" name=""/>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0" name=""/>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1" name=""/>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72" name=""/>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3" name=""/>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4" name=""/>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5" name=""/>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6" name=""/>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7" name=""/>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78" name=""/>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79" name=""/>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480" name=""/>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81" name=""/>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2" name=""/>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3" name=""/>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84" name=""/>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5" name=""/>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6" name=""/>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87" name=""/>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8" name=""/>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89" name=""/>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0" name=""/>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491" name=""/>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2" name=""/>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3" name=""/>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4" name=""/>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495" name=""/>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6" name=""/>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7" name=""/>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98" name=""/>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99" name=""/>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0" name=""/>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1" name=""/>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2" name=""/>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03" name=""/>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04" name=""/>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05" name=""/>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6" name=""/>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7" name=""/>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8" name=""/>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09" name=""/>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0" name=""/>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1" name=""/>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2" name=""/>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3" name=""/>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14" name=""/>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5" name=""/>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6" name=""/>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17" name=""/>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18" name=""/>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19" name=""/>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0" name=""/>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1" name=""/>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2" name=""/>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3" name=""/>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24" name=""/>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5" name=""/>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526" name=""/>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27" name=""/>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28" name=""/>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9" name=""/>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0" name=""/>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1" name=""/>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32" name=""/>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3" name=""/>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34" name=""/>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5" name=""/>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6" name=""/>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7" name=""/>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38" name=""/>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39" name=""/>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40" name=""/>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1" name=""/>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2" name=""/>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43" name=""/>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4" name=""/>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45" name=""/>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6" name=""/>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47" name=""/>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48" name=""/>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49" name=""/>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0" name=""/>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1" name=""/>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2" name=""/>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3" name=""/>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4" name=""/>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5" name=""/>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56" name=""/>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7" name=""/>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58" name=""/>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59" name=""/>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0" name=""/>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1" name=""/>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2" name=""/>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3" name=""/>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4" name=""/>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5" name=""/>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6" name=""/>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7" name=""/>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68" name=""/>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69" name=""/>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70" name=""/>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1" name=""/>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2" name=""/>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3" name=""/>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4" name=""/>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5" name=""/>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6" name=""/>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77" name=""/>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8" name=""/>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79" name=""/>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0" name=""/>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581" name=""/>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2" name=""/>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3" name=""/>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84" name=""/>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85" name=""/>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6" name=""/>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7" name=""/>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88" name=""/>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89" name=""/>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0" name=""/>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91" name=""/>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2" name=""/>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3" name=""/>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4" name=""/>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95" name=""/>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96" name=""/>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97" name=""/>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8" name=""/>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99" name=""/>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0" name=""/>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1" name=""/>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2" name=""/>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3" name=""/>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4" name=""/>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05" name=""/>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06" name=""/>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07" name=""/>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08" name=""/>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09" name=""/>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0" name=""/>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1" name=""/>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2" name=""/>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13" name=""/>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4" name=""/>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5" name=""/>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16" name=""/>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7" name=""/>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18" name=""/>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19" name=""/>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0" name=""/>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1" name=""/>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622" name=""/>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23" name=""/>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24" name=""/>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5" name=""/>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6" name=""/>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627" name=""/>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28" name=""/>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629" name=""/>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0" name=""/>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1" name=""/>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2" name=""/>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3" name=""/>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34" name=""/>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5" name=""/>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36" name=""/>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7" name=""/>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38" name=""/>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39" name=""/>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0" name=""/>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1" name=""/>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42" name=""/>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3" name=""/>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44" name=""/>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5" name=""/>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46" name=""/>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47" name=""/>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48" name=""/>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49" name=""/>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0" name=""/>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1" name=""/>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2" name=""/>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3" name=""/>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4" name=""/>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55" name=""/>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6" name=""/>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7" name=""/>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58" name=""/>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59" name=""/>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0" name=""/>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1" name=""/>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2" name=""/>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3" name=""/>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4" name=""/>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5" name=""/>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6" name=""/>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7" name=""/>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68" name=""/>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69" name=""/>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0" name=""/>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1" name=""/>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72" name=""/>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3" name=""/>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4" name=""/>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5" name=""/>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6" name=""/>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7" name=""/>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78" name=""/>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79" name=""/>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680" name=""/>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81" name=""/>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2" name=""/>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3" name=""/>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684" name=""/>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5" name=""/>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6" name=""/>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687" name=""/>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88" name=""/>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9" name=""/>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0" name=""/>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691" name=""/>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2" name=""/>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3" name=""/>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4" name=""/>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695" name=""/>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6" name=""/>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7" name=""/>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98" name=""/>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99" name=""/>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0" name=""/>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1" name=""/>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2" name=""/>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03" name=""/>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04" name=""/>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
        <p:nvSpPr>
          <p:cNvPr id="2705" name=""/>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Times New Roman"/>
            </a:endParaRPr>
          </a:p>
        </p:txBody>
      </p:sp>
      <p:sp>
        <p:nvSpPr>
          <p:cNvPr id="2706" name=""/>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2707" name=""/>
          <p:cNvGraphicFramePr/>
          <p:nvPr/>
        </p:nvGraphicFramePr>
        <p:xfrm>
          <a:off x="1109520" y="5237280"/>
          <a:ext cx="3175200" cy="831600"/>
        </p:xfrm>
        <a:graphic>
          <a:graphicData uri="http://schemas.openxmlformats.org/presentationml/2006/ole">
            <p:oleObj r:id="rId3" spid="">
              <p:embed/>
              <p:pic>
                <p:nvPicPr>
                  <p:cNvPr id="2708" name=""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709" name=""/>
          <p:cNvGraphicFramePr/>
          <p:nvPr/>
        </p:nvGraphicFramePr>
        <p:xfrm>
          <a:off x="5162400" y="3819600"/>
          <a:ext cx="1916280" cy="619200"/>
        </p:xfrm>
        <a:graphic>
          <a:graphicData uri="http://schemas.openxmlformats.org/presentationml/2006/ole">
            <p:oleObj r:id="rId5" spid="">
              <p:embed/>
              <p:pic>
                <p:nvPicPr>
                  <p:cNvPr id="2710" name=""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711" name=""/>
          <p:cNvGraphicFramePr/>
          <p:nvPr/>
        </p:nvGraphicFramePr>
        <p:xfrm>
          <a:off x="1682640" y="1289160"/>
          <a:ext cx="3124440" cy="664920"/>
        </p:xfrm>
        <a:graphic>
          <a:graphicData uri="http://schemas.openxmlformats.org/presentationml/2006/ole">
            <p:oleObj r:id="rId7" spid="">
              <p:embed/>
              <p:pic>
                <p:nvPicPr>
                  <p:cNvPr id="2712" name=""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713" name=""/>
          <p:cNvGraphicFramePr/>
          <p:nvPr/>
        </p:nvGraphicFramePr>
        <p:xfrm>
          <a:off x="1665360" y="2189160"/>
          <a:ext cx="2651040" cy="719280"/>
        </p:xfrm>
        <a:graphic>
          <a:graphicData uri="http://schemas.openxmlformats.org/presentationml/2006/ole">
            <p:oleObj r:id="rId9" spid="">
              <p:embed/>
              <p:pic>
                <p:nvPicPr>
                  <p:cNvPr id="2714" name="" descr=""/>
                  <p:cNvPicPr/>
                  <p:nvPr/>
                </p:nvPicPr>
                <p:blipFill>
                  <a:blip r:embed="rId10"/>
                  <a:stretch/>
                </p:blipFill>
                <p:spPr>
                  <a:xfrm>
                    <a:off x="1665360" y="2189160"/>
                    <a:ext cx="2651040" cy="719280"/>
                  </a:xfrm>
                  <a:prstGeom prst="rect">
                    <a:avLst/>
                  </a:prstGeom>
                  <a:ln w="0">
                    <a:noFill/>
                  </a:ln>
                </p:spPr>
              </p:pic>
            </p:oleObj>
          </a:graphicData>
        </a:graphic>
      </p:graphicFrame>
      <p:sp>
        <p:nvSpPr>
          <p:cNvPr id="2715" name=""/>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2716"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717" name=""/>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rm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8" name=""/>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rmAutofit fontScale="62000"/>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Times New Roman"/>
            </a:endParaRPr>
          </a:p>
        </p:txBody>
      </p:sp>
      <p:sp>
        <p:nvSpPr>
          <p:cNvPr id="2719" name=""/>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720" name=""/>
          <p:cNvGraphicFramePr/>
          <p:nvPr/>
        </p:nvGraphicFramePr>
        <p:xfrm>
          <a:off x="1711440" y="4087800"/>
          <a:ext cx="4349520" cy="1025640"/>
        </p:xfrm>
        <a:graphic>
          <a:graphicData uri="http://schemas.openxmlformats.org/presentationml/2006/ole">
            <p:oleObj r:id="rId1" spid="">
              <p:embed/>
              <p:pic>
                <p:nvPicPr>
                  <p:cNvPr id="2721" name="" descr=""/>
                  <p:cNvPicPr/>
                  <p:nvPr/>
                </p:nvPicPr>
                <p:blipFill>
                  <a:blip r:embed="rId2"/>
                  <a:stretch/>
                </p:blipFill>
                <p:spPr>
                  <a:xfrm>
                    <a:off x="1711440" y="4087800"/>
                    <a:ext cx="4349520" cy="1025640"/>
                  </a:xfrm>
                  <a:prstGeom prst="rect">
                    <a:avLst/>
                  </a:prstGeom>
                  <a:ln w="0">
                    <a:noFill/>
                  </a:ln>
                </p:spPr>
              </p:pic>
            </p:oleObj>
          </a:graphicData>
        </a:graphic>
      </p:graphicFrame>
      <p:sp>
        <p:nvSpPr>
          <p:cNvPr id="2722" name=""/>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Times New Roman"/>
            </a:endParaRPr>
          </a:p>
        </p:txBody>
      </p:sp>
      <p:grpSp>
        <p:nvGrpSpPr>
          <p:cNvPr id="2723" name=""/>
          <p:cNvGrpSpPr/>
          <p:nvPr/>
        </p:nvGrpSpPr>
        <p:grpSpPr>
          <a:xfrm>
            <a:off x="1976400" y="5388120"/>
            <a:ext cx="1155600" cy="572760"/>
            <a:chOff x="1976400" y="5388120"/>
            <a:chExt cx="1155600" cy="572760"/>
          </a:xfrm>
        </p:grpSpPr>
        <p:graphicFrame>
          <p:nvGraphicFramePr>
            <p:cNvPr id="2724" name=""/>
            <p:cNvGraphicFramePr/>
            <p:nvPr/>
          </p:nvGraphicFramePr>
          <p:xfrm>
            <a:off x="2047680" y="5454720"/>
            <a:ext cx="987480" cy="485640"/>
          </p:xfrm>
          <a:graphic>
            <a:graphicData uri="http://schemas.openxmlformats.org/presentationml/2006/ole">
              <p:oleObj r:id="rId3" spid="">
                <p:embed/>
                <p:pic>
                  <p:nvPicPr>
                    <p:cNvPr id="2725" name="" descr=""/>
                    <p:cNvPicPr/>
                    <p:nvPr/>
                  </p:nvPicPr>
                  <p:blipFill>
                    <a:blip r:embed="rId4"/>
                    <a:stretch/>
                  </p:blipFill>
                  <p:spPr>
                    <a:xfrm>
                      <a:off x="2047680" y="5454720"/>
                      <a:ext cx="987480" cy="485640"/>
                    </a:xfrm>
                    <a:prstGeom prst="rect">
                      <a:avLst/>
                    </a:prstGeom>
                    <a:ln w="0">
                      <a:noFill/>
                    </a:ln>
                  </p:spPr>
                </p:pic>
              </p:oleObj>
            </a:graphicData>
          </a:graphic>
        </p:graphicFrame>
        <p:sp>
          <p:nvSpPr>
            <p:cNvPr id="2726" name=""/>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27" name=""/>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Times New Roman"/>
            </a:endParaRPr>
          </a:p>
        </p:txBody>
      </p:sp>
      <p:sp>
        <p:nvSpPr>
          <p:cNvPr id="2728" name=""/>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Times New Roman"/>
            </a:endParaRPr>
          </a:p>
        </p:txBody>
      </p:sp>
      <p:graphicFrame>
        <p:nvGraphicFramePr>
          <p:cNvPr id="2729" name=""/>
          <p:cNvGraphicFramePr/>
          <p:nvPr/>
        </p:nvGraphicFramePr>
        <p:xfrm>
          <a:off x="1900080" y="1749600"/>
          <a:ext cx="1357560" cy="485640"/>
        </p:xfrm>
        <a:graphic>
          <a:graphicData uri="http://schemas.openxmlformats.org/presentationml/2006/ole">
            <p:oleObj r:id="rId5" spid="">
              <p:embed/>
              <p:pic>
                <p:nvPicPr>
                  <p:cNvPr id="2730" name=""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731" name=""/>
          <p:cNvGraphicFramePr/>
          <p:nvPr/>
        </p:nvGraphicFramePr>
        <p:xfrm>
          <a:off x="1857240" y="2373480"/>
          <a:ext cx="3942000" cy="485640"/>
        </p:xfrm>
        <a:graphic>
          <a:graphicData uri="http://schemas.openxmlformats.org/presentationml/2006/ole">
            <p:oleObj r:id="rId7" spid="">
              <p:embed/>
              <p:pic>
                <p:nvPicPr>
                  <p:cNvPr id="2732" name="" descr=""/>
                  <p:cNvPicPr/>
                  <p:nvPr/>
                </p:nvPicPr>
                <p:blipFill>
                  <a:blip r:embed="rId8"/>
                  <a:stretch/>
                </p:blipFill>
                <p:spPr>
                  <a:xfrm>
                    <a:off x="1857240" y="2373480"/>
                    <a:ext cx="3942000" cy="485640"/>
                  </a:xfrm>
                  <a:prstGeom prst="rect">
                    <a:avLst/>
                  </a:prstGeom>
                  <a:ln w="0">
                    <a:noFill/>
                  </a:ln>
                </p:spPr>
              </p:pic>
            </p:oleObj>
          </a:graphicData>
        </a:graphic>
      </p:graphicFrame>
      <p:sp>
        <p:nvSpPr>
          <p:cNvPr id="2733" name=""/>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rmAutofit fontScale="69000"/>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Times New Roman"/>
            </a:endParaRPr>
          </a:p>
        </p:txBody>
      </p:sp>
      <p:grpSp>
        <p:nvGrpSpPr>
          <p:cNvPr id="2734" name=""/>
          <p:cNvGrpSpPr/>
          <p:nvPr/>
        </p:nvGrpSpPr>
        <p:grpSpPr>
          <a:xfrm>
            <a:off x="6681960" y="157320"/>
            <a:ext cx="2462040" cy="2481120"/>
            <a:chOff x="6681960" y="157320"/>
            <a:chExt cx="2462040" cy="2481120"/>
          </a:xfrm>
        </p:grpSpPr>
        <p:grpSp>
          <p:nvGrpSpPr>
            <p:cNvPr id="2735" name=""/>
            <p:cNvGrpSpPr/>
            <p:nvPr/>
          </p:nvGrpSpPr>
          <p:grpSpPr>
            <a:xfrm>
              <a:off x="7372440" y="1816200"/>
              <a:ext cx="1088640" cy="796680"/>
              <a:chOff x="7372440" y="1816200"/>
              <a:chExt cx="1088640" cy="796680"/>
            </a:xfrm>
          </p:grpSpPr>
          <p:sp>
            <p:nvSpPr>
              <p:cNvPr id="2736" name=""/>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37" name=""/>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8" name=""/>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39" name=""/>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0" name=""/>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41" name=""/>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2" name=""/>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3" name=""/>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4" name=""/>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45" name=""/>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6" name=""/>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47" name=""/>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48" name=""/>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49" name=""/>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0" name=""/>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51" name=""/>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2" name=""/>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3" name=""/>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54" name=""/>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5" name=""/>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56" name=""/>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7" name=""/>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8" name=""/>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59" name=""/>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0" name=""/>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1" name=""/>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62" name=""/>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3" name=""/>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4" name=""/>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5" name=""/>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6" name=""/>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67" name=""/>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8" name=""/>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69" name=""/>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0" name=""/>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1" name=""/>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2" name=""/>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3" name=""/>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4" name=""/>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5" name=""/>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6" name=""/>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7" name=""/>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78" name=""/>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779" name=""/>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0" name=""/>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1" name=""/>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2" name=""/>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3" name=""/>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4" name=""/>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85" name=""/>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6" name=""/>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787" name=""/>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88" name=""/>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89" name=""/>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0" name=""/>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91" name=""/>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2" name=""/>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3" name=""/>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94" name=""/>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5" name=""/>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796" name=""/>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7" name=""/>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98" name=""/>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799" name=""/>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0" name=""/>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1" name=""/>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02" name=""/>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3" name=""/>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4" name=""/>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5" name=""/>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06" name=""/>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07" name=""/>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08" name=""/>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09" name=""/>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0" name=""/>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1" name=""/>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12" name=""/>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3" name=""/>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4" name=""/>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5" name=""/>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16" name=""/>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17" name=""/>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8" name=""/>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19" name=""/>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0" name=""/>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1" name=""/>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2" name=""/>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23" name=""/>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24" name=""/>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5" name=""/>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6" name=""/>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27" name=""/>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28" name=""/>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29" name=""/>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0" name=""/>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31" name=""/>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2" name=""/>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33" name=""/>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4" name=""/>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35" name=""/>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36" name=""/>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7" name=""/>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38" name=""/>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839" name=""/>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0" name=""/>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41" name=""/>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2" name=""/>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43" name=""/>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4" name=""/>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5" name=""/>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6" name=""/>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47" name=""/>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48" name=""/>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49" name=""/>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50" name=""/>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1" name=""/>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52" name=""/>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3" name=""/>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54" name=""/>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5" name=""/>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6" name=""/>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7" name=""/>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58" name=""/>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59" name=""/>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0" name=""/>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1" name=""/>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2" name=""/>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3" name=""/>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4" name=""/>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65" name=""/>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6" name=""/>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67" name=""/>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8" name=""/>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69" name=""/>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0" name=""/>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1" name=""/>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2" name=""/>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3" name=""/>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4" name=""/>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5" name=""/>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76" name=""/>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77" name=""/>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78" name=""/>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9" name=""/>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0" name=""/>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1" name=""/>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2" name=""/>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3" name=""/>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4" name=""/>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5" name=""/>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6" name=""/>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87" name=""/>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888" name=""/>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89" name=""/>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0" name=""/>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91" name=""/>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892" name=""/>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3" name=""/>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4" name=""/>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5" name=""/>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896" name=""/>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7" name=""/>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98" name=""/>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899" name=""/>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0" name=""/>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1" name=""/>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2" name=""/>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3" name=""/>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04" name=""/>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5" name=""/>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6" name=""/>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07" name=""/>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08" name=""/>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09" name=""/>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0" name=""/>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1" name=""/>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2" name=""/>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3" name=""/>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14" name=""/>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5" name=""/>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6" name=""/>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17" name=""/>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18" name=""/>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19" name=""/>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0" name=""/>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1" name=""/>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2" name=""/>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23" name=""/>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24" name=""/>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25" name=""/>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6" name=""/>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7" name=""/>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28" name=""/>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29" name=""/>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0" name=""/>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31" name=""/>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2" name=""/>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3" name=""/>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934" name=""/>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5" name=""/>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6" name=""/>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37" name=""/>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8" name=""/>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39" name=""/>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0" name=""/>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941" name=""/>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2" name=""/>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3" name=""/>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4" name=""/>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45" name=""/>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6" name=""/>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47" name=""/>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48" name=""/>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49" name=""/>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0" name=""/>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1" name=""/>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2" name=""/>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3" name=""/>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4" name=""/>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5" name=""/>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56" name=""/>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7" name=""/>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8" name=""/>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9" name=""/>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0" name=""/>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1" name=""/>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62" name=""/>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3" name=""/>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4" name=""/>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5" name=""/>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6" name=""/>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7" name=""/>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8" name=""/>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69" name=""/>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0" name=""/>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1" name=""/>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2" name=""/>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3" name=""/>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4" name=""/>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5" name=""/>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6" name=""/>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7" name=""/>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8" name=""/>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79" name=""/>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0" name=""/>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1" name=""/>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2" name=""/>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3" name=""/>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4" name=""/>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5" name=""/>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6" name=""/>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987" name=""/>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8" name=""/>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9" name=""/>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0" name=""/>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1" name=""/>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2" name=""/>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3" name=""/>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994" name=""/>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5" name=""/>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96" name=""/>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7" name=""/>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98" name=""/>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9" name=""/>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0" name=""/>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1" name=""/>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02" name=""/>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3" name=""/>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4" name=""/>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5" name=""/>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06" name=""/>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07" name=""/>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08" name=""/>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09" name=""/>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010" name=""/>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11" name=""/>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012" name=""/>
            <p:cNvGrpSpPr/>
            <p:nvPr/>
          </p:nvGrpSpPr>
          <p:grpSpPr>
            <a:xfrm>
              <a:off x="6681960" y="157320"/>
              <a:ext cx="2462040" cy="2481120"/>
              <a:chOff x="6681960" y="157320"/>
              <a:chExt cx="2462040" cy="2481120"/>
            </a:xfrm>
          </p:grpSpPr>
          <p:grpSp>
            <p:nvGrpSpPr>
              <p:cNvPr id="3013" name=""/>
              <p:cNvGrpSpPr/>
              <p:nvPr/>
            </p:nvGrpSpPr>
            <p:grpSpPr>
              <a:xfrm>
                <a:off x="6960240" y="157320"/>
                <a:ext cx="1956600" cy="2481120"/>
                <a:chOff x="6960240" y="157320"/>
                <a:chExt cx="1956600" cy="2481120"/>
              </a:xfrm>
            </p:grpSpPr>
            <p:sp>
              <p:nvSpPr>
                <p:cNvPr id="3014" name=""/>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5" name=""/>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7" name=""/>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8" name=""/>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019" name=""/>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020" name=""/>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021" name=""/>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022" name=""/>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023" name=""/>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024" name=""/>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5" name=""/>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026" name=""/>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7" name=""/>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028" name=""/>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029" name=""/>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03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032"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Times New Roman"/>
            </a:endParaRPr>
          </a:p>
        </p:txBody>
      </p:sp>
      <p:grpSp>
        <p:nvGrpSpPr>
          <p:cNvPr id="3033" name="Group 4"/>
          <p:cNvGrpSpPr/>
          <p:nvPr/>
        </p:nvGrpSpPr>
        <p:grpSpPr>
          <a:xfrm>
            <a:off x="858960" y="2743200"/>
            <a:ext cx="2608200" cy="745920"/>
            <a:chOff x="858960" y="2743200"/>
            <a:chExt cx="2608200" cy="745920"/>
          </a:xfrm>
        </p:grpSpPr>
        <p:graphicFrame>
          <p:nvGraphicFramePr>
            <p:cNvPr id="3034" name="Object 5"/>
            <p:cNvGraphicFramePr/>
            <p:nvPr/>
          </p:nvGraphicFramePr>
          <p:xfrm>
            <a:off x="903600" y="2743200"/>
            <a:ext cx="2563560" cy="734760"/>
          </p:xfrm>
          <a:graphic>
            <a:graphicData uri="http://schemas.openxmlformats.org/presentationml/2006/ole">
              <p:oleObj r:id="rId1" spid="">
                <p:embed/>
                <p:pic>
                  <p:nvPicPr>
                    <p:cNvPr id="3035"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036"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aphicFrame>
        <p:nvGraphicFramePr>
          <p:cNvPr id="3037" name="Object 7"/>
          <p:cNvGraphicFramePr/>
          <p:nvPr/>
        </p:nvGraphicFramePr>
        <p:xfrm>
          <a:off x="3825720" y="2827440"/>
          <a:ext cx="3340080" cy="598320"/>
        </p:xfrm>
        <a:graphic>
          <a:graphicData uri="http://schemas.openxmlformats.org/presentationml/2006/ole">
            <p:oleObj r:id="rId3" spid="">
              <p:embed/>
              <p:pic>
                <p:nvPicPr>
                  <p:cNvPr id="3038"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039"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0"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Times New Roman"/>
            </a:endParaRPr>
          </a:p>
        </p:txBody>
      </p:sp>
      <p:sp>
        <p:nvSpPr>
          <p:cNvPr id="3041"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Times New Roman"/>
            </a:endParaRPr>
          </a:p>
        </p:txBody>
      </p:sp>
      <p:grpSp>
        <p:nvGrpSpPr>
          <p:cNvPr id="3042" name="Group 11"/>
          <p:cNvGrpSpPr/>
          <p:nvPr/>
        </p:nvGrpSpPr>
        <p:grpSpPr>
          <a:xfrm>
            <a:off x="4052880" y="5724360"/>
            <a:ext cx="1158480" cy="457200"/>
            <a:chOff x="4052880" y="5724360"/>
            <a:chExt cx="1158480" cy="457200"/>
          </a:xfrm>
        </p:grpSpPr>
        <p:sp>
          <p:nvSpPr>
            <p:cNvPr id="3043"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45" name="Group 14"/>
          <p:cNvGrpSpPr/>
          <p:nvPr/>
        </p:nvGrpSpPr>
        <p:grpSpPr>
          <a:xfrm>
            <a:off x="542880" y="4414680"/>
            <a:ext cx="3584520" cy="2253600"/>
            <a:chOff x="542880" y="4414680"/>
            <a:chExt cx="3584520" cy="2253600"/>
          </a:xfrm>
        </p:grpSpPr>
        <p:grpSp>
          <p:nvGrpSpPr>
            <p:cNvPr id="3046" name="Group 15"/>
            <p:cNvGrpSpPr/>
            <p:nvPr/>
          </p:nvGrpSpPr>
          <p:grpSpPr>
            <a:xfrm>
              <a:off x="542880" y="4862520"/>
              <a:ext cx="1817280" cy="1725120"/>
              <a:chOff x="542880" y="4862520"/>
              <a:chExt cx="1817280" cy="1725120"/>
            </a:xfrm>
          </p:grpSpPr>
          <p:sp>
            <p:nvSpPr>
              <p:cNvPr id="3047"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8"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1"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2"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3"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4"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5"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6"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7"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8"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9"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0"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1"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2"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63"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Times New Roman"/>
              </a:endParaRPr>
            </a:p>
            <a:p>
              <a:pPr>
                <a:lnSpc>
                  <a:spcPct val="100000"/>
                </a:lnSpc>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Times New Roman"/>
              </a:endParaRPr>
            </a:p>
          </p:txBody>
        </p:sp>
        <p:sp>
          <p:nvSpPr>
            <p:cNvPr id="3064"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5" name="Group 34"/>
          <p:cNvGrpSpPr/>
          <p:nvPr/>
        </p:nvGrpSpPr>
        <p:grpSpPr>
          <a:xfrm>
            <a:off x="6681960" y="157320"/>
            <a:ext cx="2462040" cy="2481120"/>
            <a:chOff x="6681960" y="157320"/>
            <a:chExt cx="2462040" cy="2481120"/>
          </a:xfrm>
        </p:grpSpPr>
        <p:grpSp>
          <p:nvGrpSpPr>
            <p:cNvPr id="3066" name="Group 35"/>
            <p:cNvGrpSpPr/>
            <p:nvPr/>
          </p:nvGrpSpPr>
          <p:grpSpPr>
            <a:xfrm>
              <a:off x="7372440" y="1816200"/>
              <a:ext cx="1088640" cy="796680"/>
              <a:chOff x="7372440" y="1816200"/>
              <a:chExt cx="1088640" cy="796680"/>
            </a:xfrm>
          </p:grpSpPr>
          <p:sp>
            <p:nvSpPr>
              <p:cNvPr id="3067"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8"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69"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0"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1"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072"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3"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4"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5"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76"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7"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78"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9"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080"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1"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82"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3"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4"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5"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6"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87"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88"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89"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0"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1"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2"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093"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4"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5"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6"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7"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98"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9"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0"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1"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2"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3"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4"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5"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6"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7"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8"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09"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10"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1"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2"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3"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4"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5"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16"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7"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118"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19"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0"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1"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22"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3"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4"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25"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6"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27"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28"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29"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0"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1"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2"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33"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4"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5"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6"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37"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38"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39"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40"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1"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42"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43"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4"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5"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6"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47"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48"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49"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0"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1"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52"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3"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54"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55"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6"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7"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58"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59"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0"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1"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162"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3"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164"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5"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6"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67"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8"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69"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170"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1"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172"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3"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74"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5"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76"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7"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178"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79"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0"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81"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2"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183"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4"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85"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86"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7"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8"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89"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0"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1"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2"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3"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4"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195"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96"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7"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198"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99"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0"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1"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2"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3"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4"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5"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6"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07"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08"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09"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10"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1"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2"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3"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4"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5"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6"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7"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18"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19"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0"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1"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22"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23"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4"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5"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6"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227"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28"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29"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0"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1"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2"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3"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4"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35"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6"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37"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38"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9"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0"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1"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2"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43"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4"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45"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6"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7"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48"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49"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0"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1"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2"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3"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54"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55"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56"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7"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58"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59"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260"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1"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62"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3"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4"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265"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6"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267"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68"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9"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0"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1"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272"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3"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4"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5"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76"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7"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8"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9"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280"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1"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82"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3"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4"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85"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6"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287"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88"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9"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0"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1"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2"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293"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4"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5"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6"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7"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8"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299"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0"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1"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2"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3"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4"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5"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6"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7"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08"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09"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10"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1"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2"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3"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4"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5"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16"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7"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318"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19"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0"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1"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2"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3"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4"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3325"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6"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7"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28"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329"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0"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1"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2"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333"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4"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5"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6"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7"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38"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39"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340"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341"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42"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grpSp>
          <p:nvGrpSpPr>
            <p:cNvPr id="3343" name="Group 312"/>
            <p:cNvGrpSpPr/>
            <p:nvPr/>
          </p:nvGrpSpPr>
          <p:grpSpPr>
            <a:xfrm>
              <a:off x="6681960" y="157320"/>
              <a:ext cx="2462040" cy="2481120"/>
              <a:chOff x="6681960" y="157320"/>
              <a:chExt cx="2462040" cy="2481120"/>
            </a:xfrm>
          </p:grpSpPr>
          <p:grpSp>
            <p:nvGrpSpPr>
              <p:cNvPr id="3344" name="Group 313"/>
              <p:cNvGrpSpPr/>
              <p:nvPr/>
            </p:nvGrpSpPr>
            <p:grpSpPr>
              <a:xfrm>
                <a:off x="6960240" y="157320"/>
                <a:ext cx="1956600" cy="2481120"/>
                <a:chOff x="6960240" y="157320"/>
                <a:chExt cx="1956600" cy="2481120"/>
              </a:xfrm>
            </p:grpSpPr>
            <p:sp>
              <p:nvSpPr>
                <p:cNvPr id="3345"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6"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7"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8"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9"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Times New Roman"/>
                  </a:endParaRPr>
                </a:p>
              </p:txBody>
            </p:sp>
            <p:sp>
              <p:nvSpPr>
                <p:cNvPr id="3350"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Times New Roman"/>
                  </a:endParaRPr>
                </a:p>
              </p:txBody>
            </p:sp>
            <p:sp>
              <p:nvSpPr>
                <p:cNvPr id="3351"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Times New Roman"/>
                  </a:endParaRPr>
                </a:p>
              </p:txBody>
            </p:sp>
            <p:sp>
              <p:nvSpPr>
                <p:cNvPr id="3352"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3353"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grpSp>
          <p:sp>
            <p:nvSpPr>
              <p:cNvPr id="3354"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Times New Roman"/>
                </a:endParaRPr>
              </a:p>
            </p:txBody>
          </p:sp>
          <p:sp>
            <p:nvSpPr>
              <p:cNvPr id="3355"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6"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Times New Roman"/>
                </a:endParaRPr>
              </a:p>
            </p:txBody>
          </p:sp>
          <p:sp>
            <p:nvSpPr>
              <p:cNvPr id="3357"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8"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sp>
            <p:nvSpPr>
              <p:cNvPr id="3359"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Times New Roman"/>
                </a:endParaRPr>
              </a:p>
            </p:txBody>
          </p:sp>
        </p:grpSp>
        <p:sp>
          <p:nvSpPr>
            <p:cNvPr id="3360"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1"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3362" name="Object 331"/>
          <p:cNvGraphicFramePr/>
          <p:nvPr/>
        </p:nvGraphicFramePr>
        <p:xfrm>
          <a:off x="1441440" y="1305000"/>
          <a:ext cx="2855880" cy="1025280"/>
        </p:xfrm>
        <a:graphic>
          <a:graphicData uri="http://schemas.openxmlformats.org/presentationml/2006/ole">
            <p:oleObj r:id="rId5" spid="">
              <p:embed/>
              <p:pic>
                <p:nvPicPr>
                  <p:cNvPr id="3363"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364" name="Object 40"/>
          <p:cNvGraphicFramePr/>
          <p:nvPr/>
        </p:nvGraphicFramePr>
        <p:xfrm>
          <a:off x="5533920" y="5454720"/>
          <a:ext cx="3254400" cy="1003320"/>
        </p:xfrm>
        <a:graphic>
          <a:graphicData uri="http://schemas.openxmlformats.org/presentationml/2006/ole">
            <p:oleObj r:id="rId7" spid="">
              <p:embed/>
              <p:pic>
                <p:nvPicPr>
                  <p:cNvPr id="3365"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366"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7"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3368" name=""/>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Times New Roman"/>
            </a:endParaRPr>
          </a:p>
        </p:txBody>
      </p:sp>
      <p:sp>
        <p:nvSpPr>
          <p:cNvPr id="3369" name=""/>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05" name=""/>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rmAutofit fontScale="79000"/>
          </a:bodyPr>
          <a:p>
            <a:pPr>
              <a:lnSpc>
                <a:spcPct val="100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Times New Roman"/>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Times New Roman"/>
            </a:endParaRPr>
          </a:p>
        </p:txBody>
      </p:sp>
      <p:grpSp>
        <p:nvGrpSpPr>
          <p:cNvPr id="1006" name=""/>
          <p:cNvGrpSpPr/>
          <p:nvPr/>
        </p:nvGrpSpPr>
        <p:grpSpPr>
          <a:xfrm>
            <a:off x="1231920" y="4387680"/>
            <a:ext cx="5429160" cy="2275200"/>
            <a:chOff x="1231920" y="4387680"/>
            <a:chExt cx="5429160" cy="2275200"/>
          </a:xfrm>
        </p:grpSpPr>
        <p:sp>
          <p:nvSpPr>
            <p:cNvPr id="1007" name=""/>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Times New Roman"/>
              </a:endParaRPr>
            </a:p>
          </p:txBody>
        </p:sp>
        <p:grpSp>
          <p:nvGrpSpPr>
            <p:cNvPr id="1008" name=""/>
            <p:cNvGrpSpPr/>
            <p:nvPr/>
          </p:nvGrpSpPr>
          <p:grpSpPr>
            <a:xfrm>
              <a:off x="2120760" y="4846680"/>
              <a:ext cx="4015800" cy="1428840"/>
              <a:chOff x="2120760" y="4846680"/>
              <a:chExt cx="4015800" cy="1428840"/>
            </a:xfrm>
          </p:grpSpPr>
          <p:sp>
            <p:nvSpPr>
              <p:cNvPr id="1009" name=""/>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0" name=""/>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011" name=""/>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grpSp>
      <p:sp>
        <p:nvSpPr>
          <p:cNvPr id="1014" name=""/>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Times New Roman"/>
            </a:endParaRPr>
          </a:p>
        </p:txBody>
      </p:sp>
      <p:sp>
        <p:nvSpPr>
          <p:cNvPr id="1015" name=""/>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Times New Roman"/>
            </a:endParaRPr>
          </a:p>
        </p:txBody>
      </p:sp>
      <p:grpSp>
        <p:nvGrpSpPr>
          <p:cNvPr id="1016" name=""/>
          <p:cNvGrpSpPr/>
          <p:nvPr/>
        </p:nvGrpSpPr>
        <p:grpSpPr>
          <a:xfrm>
            <a:off x="4197240" y="4770360"/>
            <a:ext cx="4946760" cy="1551240"/>
            <a:chOff x="4197240" y="4770360"/>
            <a:chExt cx="4946760" cy="1551240"/>
          </a:xfrm>
        </p:grpSpPr>
        <p:sp>
          <p:nvSpPr>
            <p:cNvPr id="1017" name=""/>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rm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Times New Roman"/>
              </a:endParaRPr>
            </a:p>
          </p:txBody>
        </p:sp>
        <p:sp>
          <p:nvSpPr>
            <p:cNvPr id="1018" name=""/>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20"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24" name=""/>
          <p:cNvGrpSpPr/>
          <p:nvPr/>
        </p:nvGrpSpPr>
        <p:grpSpPr>
          <a:xfrm>
            <a:off x="498600" y="1419120"/>
            <a:ext cx="3662280" cy="4203720"/>
            <a:chOff x="498600" y="1419120"/>
            <a:chExt cx="3662280" cy="4203720"/>
          </a:xfrm>
        </p:grpSpPr>
        <p:sp>
          <p:nvSpPr>
            <p:cNvPr id="1025" name=""/>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sp>
          <p:nvSpPr>
            <p:cNvPr id="1028" name=""/>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p:txBody>
        </p:sp>
        <p:sp>
          <p:nvSpPr>
            <p:cNvPr id="1031" name=""/>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sp>
          <p:nvSpPr>
            <p:cNvPr id="1034" name=""/>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38" name=""/>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39" name=""/>
            <p:cNvGrpSpPr/>
            <p:nvPr/>
          </p:nvGrpSpPr>
          <p:grpSpPr>
            <a:xfrm>
              <a:off x="1133640" y="1714320"/>
              <a:ext cx="2773080" cy="1590840"/>
              <a:chOff x="1133640" y="1714320"/>
              <a:chExt cx="2773080" cy="1590840"/>
            </a:xfrm>
          </p:grpSpPr>
          <p:sp>
            <p:nvSpPr>
              <p:cNvPr id="1040" name=""/>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42" name=""/>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43" name=""/>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rmAutofit fontScale="98000"/>
            </a:bodyPr>
            <a:p>
              <a:pPr marL="335880" indent="-3358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44" name=""/>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1046" name=""/>
            <p:cNvGrpSpPr/>
            <p:nvPr/>
          </p:nvGrpSpPr>
          <p:grpSpPr>
            <a:xfrm>
              <a:off x="1727280" y="1955880"/>
              <a:ext cx="1496880" cy="1270080"/>
              <a:chOff x="1727280" y="1955880"/>
              <a:chExt cx="1496880" cy="1270080"/>
            </a:xfrm>
          </p:grpSpPr>
          <p:sp>
            <p:nvSpPr>
              <p:cNvPr id="1047" name=""/>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1050" name=""/>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3" name=""/>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54" name=""/>
          <p:cNvGrpSpPr/>
          <p:nvPr/>
        </p:nvGrpSpPr>
        <p:grpSpPr>
          <a:xfrm>
            <a:off x="4449600" y="1471680"/>
            <a:ext cx="3737160" cy="4194000"/>
            <a:chOff x="4449600" y="1471680"/>
            <a:chExt cx="3737160" cy="4194000"/>
          </a:xfrm>
        </p:grpSpPr>
        <p:sp>
          <p:nvSpPr>
            <p:cNvPr id="1055" name=""/>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58" name=""/>
            <p:cNvGrpSpPr/>
            <p:nvPr/>
          </p:nvGrpSpPr>
          <p:grpSpPr>
            <a:xfrm>
              <a:off x="5175360" y="3714840"/>
              <a:ext cx="2773080" cy="1785960"/>
              <a:chOff x="5175360" y="3714840"/>
              <a:chExt cx="2773080" cy="1785960"/>
            </a:xfrm>
          </p:grpSpPr>
          <p:sp>
            <p:nvSpPr>
              <p:cNvPr id="1059" name=""/>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61" name=""/>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2" name=""/>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3" name=""/>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sp>
          <p:nvSpPr>
            <p:cNvPr id="1068" name=""/>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rmAutofit fontScale="78000"/>
            </a:bodyPr>
            <a:p>
              <a:pPr marL="267480" indent="-2674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069" name=""/>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Times New Roman"/>
              </a:endParaRPr>
            </a:p>
          </p:txBody>
        </p:sp>
        <p:grpSp>
          <p:nvGrpSpPr>
            <p:cNvPr id="1070" name=""/>
            <p:cNvGrpSpPr/>
            <p:nvPr/>
          </p:nvGrpSpPr>
          <p:grpSpPr>
            <a:xfrm>
              <a:off x="5286240" y="1868400"/>
              <a:ext cx="2550960" cy="1428840"/>
              <a:chOff x="5286240" y="1868400"/>
              <a:chExt cx="2550960" cy="1428840"/>
            </a:xfrm>
          </p:grpSpPr>
          <p:sp>
            <p:nvSpPr>
              <p:cNvPr id="1071" name=""/>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2" name=""/>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73" name=""/>
            <p:cNvGrpSpPr/>
            <p:nvPr/>
          </p:nvGrpSpPr>
          <p:grpSpPr>
            <a:xfrm>
              <a:off x="5159520" y="1679400"/>
              <a:ext cx="2773080" cy="1668600"/>
              <a:chOff x="5159520" y="1679400"/>
              <a:chExt cx="2773080" cy="1668600"/>
            </a:xfrm>
          </p:grpSpPr>
          <p:sp>
            <p:nvSpPr>
              <p:cNvPr id="1074" name=""/>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76" name=""/>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Times New Roman"/>
              </a:endParaRPr>
            </a:p>
          </p:txBody>
        </p:sp>
        <p:sp>
          <p:nvSpPr>
            <p:cNvPr id="1077" name=""/>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079" name=""/>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0" name=""/>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Times New Roman"/>
              </a:endParaRPr>
            </a:p>
          </p:txBody>
        </p:sp>
      </p:grpSp>
      <p:sp>
        <p:nvSpPr>
          <p:cNvPr id="1082" name=""/>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Times New Roman"/>
            </a:endParaRPr>
          </a:p>
        </p:txBody>
      </p:sp>
      <p:sp>
        <p:nvSpPr>
          <p:cNvPr id="1083" name=""/>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Times New Roman"/>
            </a:endParaRPr>
          </a:p>
        </p:txBody>
      </p:sp>
      <p:sp>
        <p:nvSpPr>
          <p:cNvPr id="1084" name=""/>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Times New Roman"/>
            </a:endParaRPr>
          </a:p>
        </p:txBody>
      </p:sp>
      <p:sp>
        <p:nvSpPr>
          <p:cNvPr id="1085" name=""/>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Times New Roman"/>
            </a:endParaRPr>
          </a:p>
        </p:txBody>
      </p:sp>
      <p:sp>
        <p:nvSpPr>
          <p:cNvPr id="1086" name=""/>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88" name=""/>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rm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Times New Roman"/>
            </a:endParaRPr>
          </a:p>
        </p:txBody>
      </p:sp>
      <p:sp>
        <p:nvSpPr>
          <p:cNvPr id="1089" name=""/>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90" name=""/>
          <p:cNvGrpSpPr/>
          <p:nvPr/>
        </p:nvGrpSpPr>
        <p:grpSpPr>
          <a:xfrm>
            <a:off x="1322280" y="3338640"/>
            <a:ext cx="4262400" cy="822240"/>
            <a:chOff x="1322280" y="3338640"/>
            <a:chExt cx="4262400" cy="822240"/>
          </a:xfrm>
        </p:grpSpPr>
        <p:graphicFrame>
          <p:nvGraphicFramePr>
            <p:cNvPr id="1091" name=""/>
            <p:cNvGraphicFramePr/>
            <p:nvPr/>
          </p:nvGraphicFramePr>
          <p:xfrm>
            <a:off x="1371600" y="3349800"/>
            <a:ext cx="4154400" cy="776160"/>
          </p:xfrm>
          <a:graphic>
            <a:graphicData uri="http://schemas.openxmlformats.org/presentationml/2006/ole">
              <p:oleObj r:id="rId1" spid="">
                <p:embed/>
                <p:pic>
                  <p:nvPicPr>
                    <p:cNvPr id="1092" name="" descr=""/>
                    <p:cNvPicPr/>
                    <p:nvPr/>
                  </p:nvPicPr>
                  <p:blipFill>
                    <a:blip r:embed="rId2"/>
                    <a:stretch/>
                  </p:blipFill>
                  <p:spPr>
                    <a:xfrm>
                      <a:off x="1371600" y="3349800"/>
                      <a:ext cx="4154400" cy="776160"/>
                    </a:xfrm>
                    <a:prstGeom prst="rect">
                      <a:avLst/>
                    </a:prstGeom>
                    <a:ln w="0">
                      <a:noFill/>
                    </a:ln>
                  </p:spPr>
                </p:pic>
              </p:oleObj>
            </a:graphicData>
          </a:graphic>
        </p:graphicFrame>
        <p:sp>
          <p:nvSpPr>
            <p:cNvPr id="1093" name=""/>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aphicFrame>
        <p:nvGraphicFramePr>
          <p:cNvPr id="1094" name=""/>
          <p:cNvGraphicFramePr/>
          <p:nvPr/>
        </p:nvGraphicFramePr>
        <p:xfrm>
          <a:off x="5716440" y="3427560"/>
          <a:ext cx="847800" cy="691920"/>
        </p:xfrm>
        <a:graphic>
          <a:graphicData uri="http://schemas.openxmlformats.org/presentationml/2006/ole">
            <p:oleObj r:id="rId3" spid="">
              <p:embed/>
              <p:pic>
                <p:nvPicPr>
                  <p:cNvPr id="1095" name="" descr=""/>
                  <p:cNvPicPr/>
                  <p:nvPr/>
                </p:nvPicPr>
                <p:blipFill>
                  <a:blip r:embed="rId4"/>
                  <a:stretch/>
                </p:blipFill>
                <p:spPr>
                  <a:xfrm>
                    <a:off x="5716440" y="3427560"/>
                    <a:ext cx="847800" cy="691920"/>
                  </a:xfrm>
                  <a:prstGeom prst="rect">
                    <a:avLst/>
                  </a:prstGeom>
                  <a:ln w="0">
                    <a:noFill/>
                  </a:ln>
                </p:spPr>
              </p:pic>
            </p:oleObj>
          </a:graphicData>
        </a:graphic>
      </p:graphicFrame>
      <p:sp>
        <p:nvSpPr>
          <p:cNvPr id="1096" name=""/>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Times New Roman"/>
            </a:endParaRPr>
          </a:p>
        </p:txBody>
      </p:sp>
      <p:sp>
        <p:nvSpPr>
          <p:cNvPr id="1097" name=""/>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Times New Roman"/>
            </a:endParaRPr>
          </a:p>
        </p:txBody>
      </p:sp>
      <p:sp>
        <p:nvSpPr>
          <p:cNvPr id="1098" name=""/>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099" name=""/>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Times New Roman"/>
            </a:endParaRPr>
          </a:p>
        </p:txBody>
      </p:sp>
      <p:sp>
        <p:nvSpPr>
          <p:cNvPr id="1100" name=""/>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rmAutofit fontScale="99000"/>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Times New Roman"/>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Times New Roman"/>
            </a:endParaRPr>
          </a:p>
        </p:txBody>
      </p:sp>
      <p:sp>
        <p:nvSpPr>
          <p:cNvPr id="1101" name=""/>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02" name=""/>
          <p:cNvGrpSpPr/>
          <p:nvPr/>
        </p:nvGrpSpPr>
        <p:grpSpPr>
          <a:xfrm>
            <a:off x="1217520" y="2382840"/>
            <a:ext cx="4511520" cy="1078560"/>
            <a:chOff x="1217520" y="2382840"/>
            <a:chExt cx="4511520" cy="1078560"/>
          </a:xfrm>
        </p:grpSpPr>
        <p:sp>
          <p:nvSpPr>
            <p:cNvPr id="1103" name=""/>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Times New Roman"/>
              </a:endParaRPr>
            </a:p>
          </p:txBody>
        </p:sp>
        <p:sp>
          <p:nvSpPr>
            <p:cNvPr id="1104" name=""/>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Times New Roman"/>
              </a:endParaRPr>
            </a:p>
          </p:txBody>
        </p:sp>
        <p:sp>
          <p:nvSpPr>
            <p:cNvPr id="1105" name=""/>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Times New Roman"/>
              </a:endParaRPr>
            </a:p>
          </p:txBody>
        </p:sp>
        <p:graphicFrame>
          <p:nvGraphicFramePr>
            <p:cNvPr id="1106" name=""/>
            <p:cNvGraphicFramePr/>
            <p:nvPr/>
          </p:nvGraphicFramePr>
          <p:xfrm>
            <a:off x="1217520" y="2382840"/>
            <a:ext cx="4225680" cy="790560"/>
          </p:xfrm>
          <a:graphic>
            <a:graphicData uri="http://schemas.openxmlformats.org/presentationml/2006/ole">
              <p:oleObj r:id="rId1" spid="">
                <p:embed/>
                <p:pic>
                  <p:nvPicPr>
                    <p:cNvPr id="1107" name=""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108" name=""/>
          <p:cNvGraphicFramePr/>
          <p:nvPr/>
        </p:nvGraphicFramePr>
        <p:xfrm>
          <a:off x="1285920" y="4322880"/>
          <a:ext cx="5826240" cy="688680"/>
        </p:xfrm>
        <a:graphic>
          <a:graphicData uri="http://schemas.openxmlformats.org/presentationml/2006/ole">
            <p:oleObj r:id="rId3" spid="">
              <p:embed/>
              <p:pic>
                <p:nvPicPr>
                  <p:cNvPr id="1109" name=""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1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f"/>
            </a:gs>
            <a:gs pos="100000">
              <a:srgbClr val="000080"/>
            </a:gs>
          </a:gsLst>
          <a:lin ang="5400000"/>
        </a:gradFill>
      </p:bgPr>
    </p:bg>
    <p:spTree>
      <p:nvGrpSpPr>
        <p:cNvPr id="1" name=""/>
        <p:cNvGrpSpPr/>
        <p:nvPr/>
      </p:nvGrpSpPr>
      <p:grpSpPr>
        <a:xfrm>
          <a:off x="0" y="0"/>
          <a:ext cx="0" cy="0"/>
          <a:chOff x="0" y="0"/>
          <a:chExt cx="0" cy="0"/>
        </a:xfrm>
      </p:grpSpPr>
      <p:sp>
        <p:nvSpPr>
          <p:cNvPr id="1112" name=""/>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Times New Roman"/>
            </a:endParaRPr>
          </a:p>
        </p:txBody>
      </p:sp>
      <p:sp>
        <p:nvSpPr>
          <p:cNvPr id="1113" name=""/>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Times New Roman"/>
            </a:endParaRPr>
          </a:p>
        </p:txBody>
      </p:sp>
      <p:grpSp>
        <p:nvGrpSpPr>
          <p:cNvPr id="1114" name=""/>
          <p:cNvGrpSpPr/>
          <p:nvPr/>
        </p:nvGrpSpPr>
        <p:grpSpPr>
          <a:xfrm>
            <a:off x="353880" y="3984480"/>
            <a:ext cx="8787240" cy="1396440"/>
            <a:chOff x="353880" y="3984480"/>
            <a:chExt cx="8787240" cy="1396440"/>
          </a:xfrm>
        </p:grpSpPr>
        <p:grpSp>
          <p:nvGrpSpPr>
            <p:cNvPr id="1115" name=""/>
            <p:cNvGrpSpPr/>
            <p:nvPr/>
          </p:nvGrpSpPr>
          <p:grpSpPr>
            <a:xfrm>
              <a:off x="353880" y="3984480"/>
              <a:ext cx="8787240" cy="1396440"/>
              <a:chOff x="353880" y="3984480"/>
              <a:chExt cx="8787240" cy="1396440"/>
            </a:xfrm>
          </p:grpSpPr>
          <p:grpSp>
            <p:nvGrpSpPr>
              <p:cNvPr id="1116" name=""/>
              <p:cNvGrpSpPr/>
              <p:nvPr/>
            </p:nvGrpSpPr>
            <p:grpSpPr>
              <a:xfrm>
                <a:off x="3591000" y="4021200"/>
                <a:ext cx="2550960" cy="1359720"/>
                <a:chOff x="3591000" y="4021200"/>
                <a:chExt cx="2550960" cy="1359720"/>
              </a:xfrm>
            </p:grpSpPr>
            <p:sp>
              <p:nvSpPr>
                <p:cNvPr id="1117" name=""/>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118" name=""/>
                <p:cNvGrpSpPr/>
                <p:nvPr/>
              </p:nvGrpSpPr>
              <p:grpSpPr>
                <a:xfrm>
                  <a:off x="3903480" y="4354920"/>
                  <a:ext cx="1607400" cy="635760"/>
                  <a:chOff x="3903480" y="4354920"/>
                  <a:chExt cx="1607400" cy="635760"/>
                </a:xfrm>
              </p:grpSpPr>
              <p:sp>
                <p:nvSpPr>
                  <p:cNvPr id="1119" name=""/>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0" name=""/>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1" name=""/>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2" name=""/>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3" name=""/>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124" name=""/>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25" name=""/>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26" name=""/>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7" name=""/>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8" name=""/>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29" name=""/>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30" name=""/>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31" name=""/>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2" name=""/>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3" name=""/>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134" name=""/>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5" name=""/>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6" name=""/>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137" name=""/>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38" name=""/>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39" name=""/>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0" name=""/>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41" name=""/>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2" name=""/>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43" name=""/>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44" name=""/>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5" name=""/>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46" name=""/>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7" name=""/>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8" name=""/>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49" name=""/>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0" name=""/>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1" name=""/>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2" name=""/>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3" name=""/>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54" name=""/>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55" name=""/>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6" name=""/>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57" name=""/>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58" name=""/>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59" name=""/>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0" name=""/>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1" name=""/>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2" name=""/>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63" name=""/>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4" name=""/>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5" name=""/>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6" name=""/>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7" name=""/>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8" name=""/>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69" name=""/>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0" name=""/>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1" name=""/>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2" name=""/>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3" name=""/>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4" name=""/>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175" name=""/>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76" name=""/>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77" name=""/>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8" name=""/>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9" name=""/>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0" name=""/>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1" name=""/>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2" name=""/>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3" name=""/>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84" name=""/>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85" name=""/>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6" name=""/>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7" name=""/>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88" name=""/>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189" name=""/>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190" name=""/>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1" name=""/>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2" name=""/>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3" name=""/>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194" name=""/>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5" name=""/>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96" name=""/>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197" name=""/>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98" name=""/>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9" name=""/>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0" name=""/>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01" name=""/>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02" name=""/>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3" name=""/>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4" name=""/>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05" name=""/>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06" name=""/>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7" name=""/>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08" name=""/>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09" name=""/>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0" name=""/>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11" name=""/>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12" name=""/>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3" name=""/>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4" name=""/>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5" name=""/>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16" name=""/>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7" name=""/>
                  <p:cNvSpPr/>
                  <p:nvPr/>
                </p:nvSpPr>
                <p:spPr>
                  <a:xfrm>
                    <a:off x="4689720" y="4354920"/>
                    <a:ext cx="9000" cy="720"/>
                  </a:xfrm>
                  <a:custGeom>
                    <a:avLst/>
                    <a:gdLst/>
                    <a:ahLst/>
                    <a:rect l="l" t="t" r="r" b="b"/>
                    <a:pathLst>
                      <a:path w="7" h="0">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8" name=""/>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19" name=""/>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0" name=""/>
                  <p:cNvSpPr/>
                  <p:nvPr/>
                </p:nvSpPr>
                <p:spPr>
                  <a:xfrm>
                    <a:off x="4715280" y="4354920"/>
                    <a:ext cx="9000" cy="720"/>
                  </a:xfrm>
                  <a:custGeom>
                    <a:avLst/>
                    <a:gdLst/>
                    <a:ahLst/>
                    <a:rect l="l" t="t" r="r" b="b"/>
                    <a:pathLst>
                      <a:path w="7" h="0">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1" name=""/>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2" name=""/>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23" name=""/>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224" name=""/>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25" name=""/>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6" name=""/>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227" name=""/>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8" name=""/>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29" name=""/>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230" name=""/>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1" name=""/>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232" name=""/>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3" name=""/>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4" name=""/>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235" name=""/>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6" name=""/>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237" name=""/>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38" name=""/>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39" name=""/>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0" name=""/>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1" name=""/>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2" name=""/>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43" name=""/>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44" name=""/>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45" name=""/>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6" name=""/>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7" name=""/>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48" name=""/>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249" name=""/>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0" name=""/>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1" name=""/>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2" name=""/>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3" name=""/>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54" name=""/>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5" name=""/>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56" name=""/>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57" name=""/>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8" name=""/>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59" name=""/>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0" name=""/>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1" name=""/>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2" name=""/>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3" name=""/>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264" name=""/>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5" name=""/>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6" name=""/>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67" name=""/>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68" name=""/>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69" name=""/>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0" name=""/>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1" name=""/>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2" name=""/>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3" name=""/>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4" name=""/>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5" name=""/>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76" name=""/>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7" name=""/>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78" name=""/>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279" name=""/>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0" name=""/>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1" name=""/>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2" name=""/>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83" name=""/>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4" name=""/>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285" name=""/>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6" name=""/>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7" name=""/>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88" name=""/>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89" name=""/>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0" name=""/>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1" name=""/>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2" name=""/>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293" name=""/>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4" name=""/>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5" name=""/>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6" name=""/>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97" name=""/>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298" name=""/>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299" name=""/>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0" name=""/>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01" name=""/>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2" name=""/>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3" name=""/>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304" name=""/>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305" name=""/>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06" name=""/>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7" name=""/>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08" name=""/>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09" name=""/>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0" name=""/>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1" name=""/>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312" name=""/>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3" name=""/>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14" name=""/>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5" name=""/>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16" name=""/>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7" name=""/>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8" name=""/>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grpSp>
            <p:sp>
              <p:nvSpPr>
                <p:cNvPr id="1319" name=""/>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2" name=""/>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323" name=""/>
              <p:cNvGrpSpPr/>
              <p:nvPr/>
            </p:nvGrpSpPr>
            <p:grpSpPr>
              <a:xfrm>
                <a:off x="6272280" y="4014360"/>
                <a:ext cx="2868840" cy="1362960"/>
                <a:chOff x="6272280" y="4014360"/>
                <a:chExt cx="2868840" cy="1362960"/>
              </a:xfrm>
            </p:grpSpPr>
            <p:sp>
              <p:nvSpPr>
                <p:cNvPr id="1324" name=""/>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325" name=""/>
                <p:cNvGrpSpPr/>
                <p:nvPr/>
              </p:nvGrpSpPr>
              <p:grpSpPr>
                <a:xfrm>
                  <a:off x="6719760" y="4369320"/>
                  <a:ext cx="1731600" cy="636120"/>
                  <a:chOff x="6719760" y="4369320"/>
                  <a:chExt cx="1731600" cy="636120"/>
                </a:xfrm>
              </p:grpSpPr>
              <p:sp>
                <p:nvSpPr>
                  <p:cNvPr id="1326" name=""/>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327" name=""/>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28" name=""/>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29" name=""/>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0" name=""/>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31" name=""/>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32" name=""/>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3" name=""/>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34" name=""/>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35" name=""/>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6" name=""/>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37" name=""/>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338" name=""/>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39" name=""/>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0" name=""/>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41" name=""/>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42" name=""/>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43" name=""/>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4" name=""/>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45" name=""/>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6" name=""/>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7" name=""/>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48" name=""/>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49" name=""/>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0" name=""/>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1" name=""/>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352" name=""/>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3" name=""/>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4" name=""/>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5" name=""/>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56" name=""/>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7" name=""/>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58" name=""/>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59" name=""/>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60" name=""/>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61" name=""/>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62" name=""/>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63" name=""/>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64" name=""/>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65" name=""/>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66" name=""/>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7" name=""/>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8" name=""/>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69" name=""/>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70" name=""/>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1" name=""/>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73" name=""/>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4" name=""/>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5" name=""/>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6" name=""/>
                  <p:cNvSpPr/>
                  <p:nvPr/>
                </p:nvSpPr>
                <p:spPr>
                  <a:xfrm>
                    <a:off x="7151400" y="4369680"/>
                    <a:ext cx="9720" cy="720"/>
                  </a:xfrm>
                  <a:custGeom>
                    <a:avLst/>
                    <a:gdLst/>
                    <a:ahLst/>
                    <a:rect l="l" t="t" r="r" b="b"/>
                    <a:pathLst>
                      <a:path w="7" h="0">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77" name=""/>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78" name=""/>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379" name=""/>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0" name=""/>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382" name=""/>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3" name=""/>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384" name=""/>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85" name=""/>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86" name=""/>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387" name=""/>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388" name=""/>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9" name=""/>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390" name=""/>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391" name=""/>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92" name=""/>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93" name=""/>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4" name=""/>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395" name=""/>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6" name=""/>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7" name=""/>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398" name=""/>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399" name=""/>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0" name=""/>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1" name=""/>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02" name=""/>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3" name=""/>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4" name=""/>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5" name=""/>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06" name=""/>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7" name=""/>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08" name=""/>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09" name=""/>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0" name=""/>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1" name=""/>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12" name=""/>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13" name=""/>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14" name=""/>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15" name=""/>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16" name=""/>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7" name=""/>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19" name=""/>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20" name=""/>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1" name=""/>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22" name=""/>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23" name=""/>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4" name=""/>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5" name=""/>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6" name=""/>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427" name=""/>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28" name=""/>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29" name=""/>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0" name=""/>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31" name=""/>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32" name=""/>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3" name=""/>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34" name=""/>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35" name=""/>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6" name=""/>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37" name=""/>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438" name=""/>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39" name=""/>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0" name=""/>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41" name=""/>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42" name=""/>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3" name=""/>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4" name=""/>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45" name=""/>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6" name=""/>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7" name=""/>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48" name=""/>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49" name=""/>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0" name=""/>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1" name=""/>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452" name=""/>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3" name=""/>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4" name=""/>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5" name=""/>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56" name=""/>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7" name=""/>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58" name=""/>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59" name=""/>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60" name=""/>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61" name=""/>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62" name=""/>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63" name=""/>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64" name=""/>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65" name=""/>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66" name=""/>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67" name=""/>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8" name=""/>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69" name=""/>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70" name=""/>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1" name=""/>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72" name=""/>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73" name=""/>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4" name=""/>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5" name=""/>
                  <p:cNvSpPr/>
                  <p:nvPr/>
                </p:nvSpPr>
                <p:spPr>
                  <a:xfrm>
                    <a:off x="8010000" y="4369680"/>
                    <a:ext cx="9720" cy="720"/>
                  </a:xfrm>
                  <a:custGeom>
                    <a:avLst/>
                    <a:gdLst/>
                    <a:ahLst/>
                    <a:rect l="l" t="t" r="r" b="b"/>
                    <a:pathLst>
                      <a:path w="7" h="0">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6" name=""/>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477" name=""/>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78" name=""/>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479" name=""/>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0" name=""/>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81" name=""/>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82" name=""/>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3" name=""/>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84" name=""/>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85" name=""/>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6" name=""/>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87" name=""/>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488" name=""/>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89" name=""/>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490" name=""/>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491" name=""/>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92" name=""/>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93" name=""/>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4" name=""/>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495" name=""/>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6" name=""/>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7" name=""/>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98" name=""/>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99" name=""/>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0" name=""/>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1" name=""/>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502" name=""/>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3" name=""/>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4" name=""/>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5" name=""/>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06" name=""/>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7" name=""/>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1508" name=""/>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509" name=""/>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10" name=""/>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1" name=""/>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1512" name=""/>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13" name=""/>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14" name=""/>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5" name=""/>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16" name=""/>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17" name=""/>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18" name=""/>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19" name=""/>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20" name=""/>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1" name=""/>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23" name=""/>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524" name=""/>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25" name=""/>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526" name=""/>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9" name=""/>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nvGrpSpPr>
              <p:cNvPr id="1530" name=""/>
              <p:cNvGrpSpPr/>
              <p:nvPr/>
            </p:nvGrpSpPr>
            <p:grpSpPr>
              <a:xfrm>
                <a:off x="353880" y="3984480"/>
                <a:ext cx="2819520" cy="1007640"/>
                <a:chOff x="353880" y="3984480"/>
                <a:chExt cx="2819520" cy="1007640"/>
              </a:xfrm>
            </p:grpSpPr>
            <p:sp>
              <p:nvSpPr>
                <p:cNvPr id="1531" name=""/>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Times New Roman"/>
                  </a:endParaRPr>
                </a:p>
              </p:txBody>
            </p:sp>
            <p:grpSp>
              <p:nvGrpSpPr>
                <p:cNvPr id="1532" name=""/>
                <p:cNvGrpSpPr/>
                <p:nvPr/>
              </p:nvGrpSpPr>
              <p:grpSpPr>
                <a:xfrm>
                  <a:off x="726840" y="4353840"/>
                  <a:ext cx="1917720" cy="635400"/>
                  <a:chOff x="726840" y="4353840"/>
                  <a:chExt cx="1917720" cy="635400"/>
                </a:xfrm>
              </p:grpSpPr>
              <p:sp>
                <p:nvSpPr>
                  <p:cNvPr id="1533" name=""/>
                  <p:cNvSpPr/>
                  <p:nvPr/>
                </p:nvSpPr>
                <p:spPr>
                  <a:xfrm>
                    <a:off x="7268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34" name=""/>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535" name=""/>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36" name=""/>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37" name=""/>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38" name=""/>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39" name=""/>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40" name=""/>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41" name=""/>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542" name=""/>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43" name=""/>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44" name=""/>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5" name=""/>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46" name=""/>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7" name=""/>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48" name=""/>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49" name=""/>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0" name=""/>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51" name=""/>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52" name=""/>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53" name=""/>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54" name=""/>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555" name=""/>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556" name=""/>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7" name=""/>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58" name=""/>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9" name=""/>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60" name=""/>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61" name=""/>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62" name=""/>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63" name=""/>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4" name=""/>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565" name=""/>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6" name=""/>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567" name=""/>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68" name=""/>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69" name=""/>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70" name=""/>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71" name=""/>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72" name=""/>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73" name=""/>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574" name=""/>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75" name=""/>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76" name=""/>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77" name=""/>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78" name=""/>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79" name=""/>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0" name=""/>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1" name=""/>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82" name=""/>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83" name=""/>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4" name=""/>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585" name=""/>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586" name=""/>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587" name=""/>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588" name=""/>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589" name=""/>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0" name=""/>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591" name=""/>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2" name=""/>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93" name=""/>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594" name=""/>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95" name=""/>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96" name=""/>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97" name=""/>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98" name=""/>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99" name=""/>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00" name=""/>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01" name=""/>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02" name=""/>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03" name=""/>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04" name=""/>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05" name=""/>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06" name=""/>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07" name=""/>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08" name=""/>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09" name=""/>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10" name=""/>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11" name=""/>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12" name=""/>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13" name=""/>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4" name=""/>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5" name=""/>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16" name=""/>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7" name=""/>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18" name=""/>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19" name=""/>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20" name=""/>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21" name=""/>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2" name=""/>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23" name=""/>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24" name=""/>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25" name=""/>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26" name=""/>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27" name=""/>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28" name=""/>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29" name=""/>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0" name=""/>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1" name=""/>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2" name=""/>
                  <p:cNvSpPr/>
                  <p:nvPr/>
                </p:nvSpPr>
                <p:spPr>
                  <a:xfrm>
                    <a:off x="1676160" y="4353840"/>
                    <a:ext cx="9720" cy="720"/>
                  </a:xfrm>
                  <a:custGeom>
                    <a:avLst/>
                    <a:gdLst/>
                    <a:ahLst/>
                    <a:rect l="l" t="t" r="r" b="b"/>
                    <a:pathLst>
                      <a:path w="6" h="0">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3" name=""/>
                  <p:cNvSpPr/>
                  <p:nvPr/>
                </p:nvSpPr>
                <p:spPr>
                  <a:xfrm>
                    <a:off x="1685880" y="4353840"/>
                    <a:ext cx="9360" cy="720"/>
                  </a:xfrm>
                  <a:custGeom>
                    <a:avLst/>
                    <a:gdLst/>
                    <a:ahLst/>
                    <a:rect l="l" t="t" r="r" b="b"/>
                    <a:pathLst>
                      <a:path w="6" h="0">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4" name=""/>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635" name=""/>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36" name=""/>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37" name=""/>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38" name=""/>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39" name=""/>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40" name=""/>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1641" name=""/>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42" name=""/>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643" name=""/>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4" name=""/>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45" name=""/>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46" name=""/>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7" name=""/>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8" name=""/>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49" name=""/>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0" name=""/>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51" name=""/>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52" name=""/>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53" name=""/>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54" name=""/>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55" name=""/>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56" name=""/>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7" name=""/>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58" name=""/>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59" name=""/>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660" name=""/>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61" name=""/>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62" name=""/>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63" name=""/>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64" name=""/>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665" name=""/>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66" name=""/>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67" name=""/>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68" name=""/>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69" name=""/>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670" name=""/>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71" name=""/>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72" name=""/>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73" name=""/>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4" name=""/>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75" name=""/>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6" name=""/>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77" name=""/>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78" name=""/>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79" name=""/>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0" name=""/>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1" name=""/>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82" name=""/>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3" name=""/>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84" name=""/>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85" name=""/>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86" name=""/>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87" name=""/>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88" name=""/>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689" name=""/>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90" name=""/>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91" name=""/>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92" name=""/>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693" name=""/>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94" name=""/>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695" name=""/>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696" name=""/>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697" name=""/>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98" name=""/>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99" name=""/>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700" name=""/>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01" name=""/>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702" name=""/>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03" name=""/>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04" name=""/>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05" name=""/>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06" name=""/>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07" name=""/>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08" name=""/>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09" name=""/>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10" name=""/>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11" name=""/>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12" name=""/>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713" name=""/>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4" name=""/>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5" name=""/>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16" name=""/>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7" name=""/>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718" name=""/>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19" name=""/>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720" name=""/>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1" name=""/>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722" name=""/>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723" name=""/>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724" name=""/>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725" name=""/>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26" name=""/>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27" name=""/>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728" name=""/>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29" name=""/>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730" name=""/>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731" name=""/>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732" name=""/>
                  <p:cNvSpPr/>
                  <p:nvPr/>
                </p:nvSpPr>
                <p:spPr>
                  <a:xfrm>
                    <a:off x="2636640" y="4988160"/>
                    <a:ext cx="7920" cy="1080"/>
                  </a:xfrm>
                  <a:custGeom>
                    <a:avLst/>
                    <a:gdLst/>
                    <a:ahLst/>
                    <a:rect l="l" t="t" r="r" b="b"/>
                    <a:pathLst>
                      <a:path w="5" h="0">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sp>
              <p:nvSpPr>
                <p:cNvPr id="1733" name=""/>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735" name=""/>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sp>
        <p:nvSpPr>
          <p:cNvPr id="1736" name=""/>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Times New Roman"/>
            </a:endParaRPr>
          </a:p>
        </p:txBody>
      </p:sp>
      <p:sp>
        <p:nvSpPr>
          <p:cNvPr id="1737" name=""/>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rmAutofit fontScale="69000"/>
          </a:bodyPr>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Times New Roman"/>
            </a:endParaRPr>
          </a:p>
          <a:p>
            <a:pPr marL="196920" indent="-1969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Times New Roman"/>
            </a:endParaRPr>
          </a:p>
        </p:txBody>
      </p:sp>
      <p:grpSp>
        <p:nvGrpSpPr>
          <p:cNvPr id="1738" name=""/>
          <p:cNvGrpSpPr/>
          <p:nvPr/>
        </p:nvGrpSpPr>
        <p:grpSpPr>
          <a:xfrm>
            <a:off x="3468600" y="1255680"/>
            <a:ext cx="2508120" cy="2254320"/>
            <a:chOff x="3468600" y="1255680"/>
            <a:chExt cx="2508120" cy="2254320"/>
          </a:xfrm>
        </p:grpSpPr>
        <p:grpSp>
          <p:nvGrpSpPr>
            <p:cNvPr id="1739" name=""/>
            <p:cNvGrpSpPr/>
            <p:nvPr/>
          </p:nvGrpSpPr>
          <p:grpSpPr>
            <a:xfrm>
              <a:off x="3687480" y="2309760"/>
              <a:ext cx="2008440" cy="806400"/>
              <a:chOff x="3687480" y="2309760"/>
              <a:chExt cx="2008440" cy="806400"/>
            </a:xfrm>
          </p:grpSpPr>
          <p:sp>
            <p:nvSpPr>
              <p:cNvPr id="1740" name=""/>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1" name=""/>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2" name=""/>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3" name=""/>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4" name=""/>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45" name=""/>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6" name=""/>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7" name=""/>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8" name=""/>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49" name=""/>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0" name=""/>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1" name=""/>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2" name=""/>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3" name=""/>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4" name=""/>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55" name=""/>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56" name=""/>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57" name=""/>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8" name=""/>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759" name=""/>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0" name=""/>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1" name=""/>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2" name=""/>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3" name=""/>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64" name=""/>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5" name=""/>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6" name=""/>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7" name=""/>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68" name=""/>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69" name=""/>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0" name=""/>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1" name=""/>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2" name=""/>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73" name=""/>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74" name=""/>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75" name=""/>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6" name=""/>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7" name=""/>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78" name=""/>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9" name=""/>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0" name=""/>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81" name=""/>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2" name=""/>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3" name=""/>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4" name=""/>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5" name=""/>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6" name=""/>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7" name=""/>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8" name=""/>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89" name=""/>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0" name=""/>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791" name=""/>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92" name=""/>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93" name=""/>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4" name=""/>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95" name=""/>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6" name=""/>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97" name=""/>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8" name=""/>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99" name=""/>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0" name=""/>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1" name=""/>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2" name=""/>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3" name=""/>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4" name=""/>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5" name=""/>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06" name=""/>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7" name=""/>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08" name=""/>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09" name=""/>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10" name=""/>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1" name=""/>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2" name=""/>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13" name=""/>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4" name=""/>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15" name=""/>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16" name=""/>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7" name=""/>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18" name=""/>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19" name=""/>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0" name=""/>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1" name=""/>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22" name=""/>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23" name=""/>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4" name=""/>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5" name=""/>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26" name=""/>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27" name=""/>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8" name=""/>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29" name=""/>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30" name=""/>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1" name=""/>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2" name=""/>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3" name=""/>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34" name=""/>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35" name=""/>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36" name=""/>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7" name=""/>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38" name=""/>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39" name=""/>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0" name=""/>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41" name=""/>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42" name=""/>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3" name=""/>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4" name=""/>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845" name=""/>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6" name=""/>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47" name=""/>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8" name=""/>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49" name=""/>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0" name=""/>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1" name=""/>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2" name=""/>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3" name=""/>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54" name=""/>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5" name=""/>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56" name=""/>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57" name=""/>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58" name=""/>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59" name=""/>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0" name=""/>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1" name=""/>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2" name=""/>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63" name=""/>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4" name=""/>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65" name=""/>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6" name=""/>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67" name=""/>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68" name=""/>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69" name=""/>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0" name=""/>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71" name=""/>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72" name=""/>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3" name=""/>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4" name=""/>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75" name=""/>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6" name=""/>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77" name=""/>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8" name=""/>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79" name=""/>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0" name=""/>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1" name=""/>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2" name=""/>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3" name=""/>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84" name=""/>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5" name=""/>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86" name=""/>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87" name=""/>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88" name=""/>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89" name=""/>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890" name=""/>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1" name=""/>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92" name=""/>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3" name=""/>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4" name=""/>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5" name=""/>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6" name=""/>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97" name=""/>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8" name=""/>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9" name=""/>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0" name=""/>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1" name=""/>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2" name=""/>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3" name=""/>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04" name=""/>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5" name=""/>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06" name=""/>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07" name=""/>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08" name=""/>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9" name=""/>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0" name=""/>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1" name=""/>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2" name=""/>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3" name=""/>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4" name=""/>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5" name=""/>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6" name=""/>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17" name=""/>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18" name=""/>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19" name=""/>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0" name=""/>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1" name=""/>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2" name=""/>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23" name=""/>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24" name=""/>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5" name=""/>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26" name=""/>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7" name=""/>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8" name=""/>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9" name=""/>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0" name=""/>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1" name=""/>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32" name=""/>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3" name=""/>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4" name=""/>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5" name=""/>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36" name=""/>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7" name=""/>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8" name=""/>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9" name=""/>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1940" name=""/>
            <p:cNvGrpSpPr/>
            <p:nvPr/>
          </p:nvGrpSpPr>
          <p:grpSpPr>
            <a:xfrm>
              <a:off x="3468600" y="1255680"/>
              <a:ext cx="2508120" cy="2254320"/>
              <a:chOff x="3468600" y="1255680"/>
              <a:chExt cx="2508120" cy="2254320"/>
            </a:xfrm>
          </p:grpSpPr>
          <p:sp>
            <p:nvSpPr>
              <p:cNvPr id="1941" name=""/>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942" name=""/>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1944" name=""/>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grpSp>
        <p:nvGrpSpPr>
          <p:cNvPr id="1945" name=""/>
          <p:cNvGrpSpPr/>
          <p:nvPr/>
        </p:nvGrpSpPr>
        <p:grpSpPr>
          <a:xfrm>
            <a:off x="6286680" y="1244520"/>
            <a:ext cx="2508120" cy="2570040"/>
            <a:chOff x="6286680" y="1244520"/>
            <a:chExt cx="2508120" cy="2570040"/>
          </a:xfrm>
        </p:grpSpPr>
        <p:grpSp>
          <p:nvGrpSpPr>
            <p:cNvPr id="1946" name=""/>
            <p:cNvGrpSpPr/>
            <p:nvPr/>
          </p:nvGrpSpPr>
          <p:grpSpPr>
            <a:xfrm>
              <a:off x="6505920" y="2414520"/>
              <a:ext cx="2008080" cy="1400040"/>
              <a:chOff x="6505920" y="2414520"/>
              <a:chExt cx="2008080" cy="1400040"/>
            </a:xfrm>
          </p:grpSpPr>
          <p:sp>
            <p:nvSpPr>
              <p:cNvPr id="1947" name=""/>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8" name=""/>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9" name=""/>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50" name=""/>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1" name=""/>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2" name=""/>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3" name=""/>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4" name=""/>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5" name=""/>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6" name=""/>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57" name=""/>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958" name=""/>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59" name=""/>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0" name=""/>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1" name=""/>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2" name=""/>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963" name=""/>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64" name=""/>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5" name=""/>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6" name=""/>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7" name=""/>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68" name=""/>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69" name=""/>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70" name=""/>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1" name=""/>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2" name=""/>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3" name=""/>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4" name=""/>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5" name=""/>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76" name=""/>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7" name=""/>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78" name=""/>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9" name=""/>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80" name=""/>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1" name=""/>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2" name=""/>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3" name=""/>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84" name=""/>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5" name=""/>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6" name=""/>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7" name=""/>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88" name=""/>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89" name=""/>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0" name=""/>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1" name=""/>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2" name=""/>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3" name=""/>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94" name=""/>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5" name=""/>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6" name=""/>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997" name=""/>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98" name=""/>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99" name=""/>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0" name=""/>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01" name=""/>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2" name=""/>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03" name=""/>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04" name=""/>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5" name=""/>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06" name=""/>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7" name=""/>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08" name=""/>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09" name=""/>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0" name=""/>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1" name=""/>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2" name=""/>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3" name=""/>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4" name=""/>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15" name=""/>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16" name=""/>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17" name=""/>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18" name=""/>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19" name=""/>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20" name=""/>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1" name=""/>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22" name=""/>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23" name=""/>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4" name=""/>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025" name=""/>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6" name=""/>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27" name=""/>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8" name=""/>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29" name=""/>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30" name=""/>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031" name=""/>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2" name=""/>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3" name=""/>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34" name=""/>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35" name=""/>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36" name=""/>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7" name=""/>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39" name=""/>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0" name=""/>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1" name=""/>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2" name=""/>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3" name=""/>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4" name=""/>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5" name=""/>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6" name=""/>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7" name=""/>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48" name=""/>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49" name=""/>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050" name=""/>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1" name=""/>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2" name=""/>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053" name=""/>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4" name=""/>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5" name=""/>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6" name=""/>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7" name=""/>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8" name=""/>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9" name=""/>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0" name=""/>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1" name=""/>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62" name=""/>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3" name=""/>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064" name=""/>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5" name=""/>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066" name=""/>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067" name=""/>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68" name=""/>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069" name=""/>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0" name=""/>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71" name=""/>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2" name=""/>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73" name=""/>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74" name=""/>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75" name=""/>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6" name=""/>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77" name=""/>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78" name=""/>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9" name=""/>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0" name=""/>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1" name=""/>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82" name=""/>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83" name=""/>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084" name=""/>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5" name=""/>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086" name=""/>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7" name=""/>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88" name=""/>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89" name=""/>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0" name=""/>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1" name=""/>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2" name=""/>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3" name=""/>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94" name=""/>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095" name=""/>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6" name=""/>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97" name=""/>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8" name=""/>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099" name=""/>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0" name=""/>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1" name=""/>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2" name=""/>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103" name=""/>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04" name=""/>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5" name=""/>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6" name=""/>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7" name=""/>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08" name=""/>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09" name=""/>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0" name=""/>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1" name=""/>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2" name=""/>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3" name=""/>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114" name=""/>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5" name=""/>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6" name=""/>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17" name=""/>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8" name=""/>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19" name=""/>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20" name=""/>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1" name=""/>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2" name=""/>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3" name=""/>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4" name=""/>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25" name=""/>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6" name=""/>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7" name=""/>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28" name=""/>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129" name=""/>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30" name=""/>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1" name=""/>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2" name=""/>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3" name=""/>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4" name=""/>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5" name=""/>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36" name=""/>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37" name=""/>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8" name=""/>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39" name=""/>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40" name=""/>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1" name=""/>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2" name=""/>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143" name=""/>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44" name=""/>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145" name=""/>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46" name=""/>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2147" name=""/>
            <p:cNvGrpSpPr/>
            <p:nvPr/>
          </p:nvGrpSpPr>
          <p:grpSpPr>
            <a:xfrm>
              <a:off x="6286680" y="1244520"/>
              <a:ext cx="2508120" cy="2254320"/>
              <a:chOff x="6286680" y="1244520"/>
              <a:chExt cx="2508120" cy="2254320"/>
            </a:xfrm>
          </p:grpSpPr>
          <p:sp>
            <p:nvSpPr>
              <p:cNvPr id="2148" name=""/>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149" name=""/>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Times New Roman"/>
                </a:endParaRPr>
              </a:p>
            </p:txBody>
          </p:sp>
          <p:sp>
            <p:nvSpPr>
              <p:cNvPr id="2151" name=""/>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grpSp>
      </p:grpSp>
      <p:sp>
        <p:nvSpPr>
          <p:cNvPr id="2152" name=""/>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4" name=""/>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5" name=""/>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Times New Roman"/>
            </a:endParaRPr>
          </a:p>
        </p:txBody>
      </p:sp>
      <p:sp>
        <p:nvSpPr>
          <p:cNvPr id="2156" name=""/>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Times New Roman"/>
            </a:endParaRPr>
          </a:p>
        </p:txBody>
      </p:sp>
      <p:sp>
        <p:nvSpPr>
          <p:cNvPr id="2157" name=""/>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158" name=""/>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Times New Roman"/>
            </a:endParaRPr>
          </a:p>
        </p:txBody>
      </p:sp>
      <p:sp>
        <p:nvSpPr>
          <p:cNvPr id="2159" name=""/>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rmAutofit fontScale="39000"/>
          </a:bodyPr>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Times New Roman"/>
            </a:endParaRPr>
          </a:p>
          <a:p>
            <a:pPr marL="111240" indent="-1112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1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0"/>
                                          </p:stCondLst>
                                        </p:cTn>
                                        <p:tgtEl>
                                          <p:spTgt spid="1114"/>
                                        </p:tgtEl>
                                        <p:attrNameLst>
                                          <p:attrName>style.visibility</p:attrName>
                                        </p:attrNameLst>
                                      </p:cBhvr>
                                      <p:to>
                                        <p:strVal val="visible"/>
                                      </p:to>
                                    </p:set>
                                  </p:childTnLst>
                                </p:cTn>
                              </p:par>
                            </p:childTnLst>
                          </p:cTn>
                        </p:par>
                        <p:par>
                          <p:cTn id="10" fill="hold">
                            <p:stCondLst>
                              <p:cond delay="500"/>
                            </p:stCondLst>
                            <p:childTnLst>
                              <p:par>
                                <p:cTn id="11" nodeType="afterEffect" fill="hold" presetClass="entr" presetID="1">
                                  <p:stCondLst>
                                    <p:cond delay="2000"/>
                                  </p:stCondLst>
                                  <p:childTnLst>
                                    <p:set>
                                      <p:cBhvr>
                                        <p:cTn id="12" dur="1" fill="hold">
                                          <p:stCondLst>
                                            <p:cond delay="499"/>
                                          </p:stCondLst>
                                        </p:cTn>
                                        <p:tgtEl>
                                          <p:spTgt spid="215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cp:keywords/>
  <dc:language>en-US</dc:language>
  <cp:lastModifiedBy>kwiat</cp:lastModifiedBy>
  <cp:lastPrinted>2000-03-27T14:29:43Z</cp:lastPrinted>
  <dcterms:modified xsi:type="dcterms:W3CDTF">2013-06-12T22:31:05Z</dcterms:modified>
  <cp:revision>596</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