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25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46D0CFB-851A-4CBC-A4B7-E5307C4F6A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392120" y="561960"/>
            <a:ext cx="4071960" cy="3054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392120" y="560520"/>
            <a:ext cx="4075200" cy="30556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392120" y="596880"/>
            <a:ext cx="4078440" cy="3059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2D895524-4E4B-4018-BFC7-C41F284691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73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83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85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86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7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88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92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96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7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98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01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03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12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28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43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3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54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177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38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389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472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81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5600" y="996840"/>
            <a:ext cx="877104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7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498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0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7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9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510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1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512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20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521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3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524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541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5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53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554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556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560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3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564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5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566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8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569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570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573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5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79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580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588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Picture 79" descr=""/>
          <p:cNvPicPr/>
          <p:nvPr/>
        </p:nvPicPr>
        <p:blipFill>
          <a:blip r:embed="rId1"/>
          <a:stretch/>
        </p:blipFill>
        <p:spPr>
          <a:xfrm>
            <a:off x="2154240" y="1743120"/>
            <a:ext cx="4792680" cy="14889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  <p:sp>
        <p:nvSpPr>
          <p:cNvPr id="603" name="AutoShape 8"/>
          <p:cNvSpPr/>
          <p:nvPr/>
        </p:nvSpPr>
        <p:spPr>
          <a:xfrm>
            <a:off x="2155680" y="1922400"/>
            <a:ext cx="479124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 you may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118560" y="268452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626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630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39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640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1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42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652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3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654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8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59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660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1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662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668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69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85840" y="944640"/>
            <a:ext cx="88581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most of the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96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66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8-08T18:54:4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