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1.wmf" ContentType="image/x-wmf"/>
  <Override PartName="/ppt/media/image7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wmf" ContentType="image/x-wmf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9AEACBD-6D23-4098-BC27-3882386C70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292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EC499916-D04B-416E-82AD-AE6F6D3363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658ECC57-B449-4E44-B2E3-77E6CD4574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591303B8-0F7F-4B6E-91ED-F1A6F4FA3E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9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0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1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2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34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6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37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43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5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46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8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1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7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58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61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3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69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6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78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79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2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1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2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17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18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19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0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72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79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2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2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2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6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6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7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7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7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8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8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8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9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9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9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1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1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1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2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2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3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3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3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4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4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4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5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7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8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8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39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0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0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0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0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1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1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1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2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2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2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2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3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3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3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4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4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5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5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6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6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6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7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7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7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8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8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8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49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0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4-08-08T20:36:25Z</dcterms:modified>
  <cp:revision>437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