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21.wmf" ContentType="image/x-wmf"/>
  <Override PartName="/ppt/media/image6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.png" ContentType="image/png"/>
  <Override PartName="/ppt/media/image32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1CEC935-CF02-44E5-8203-F1D289BB63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F706145F-0DB9-4C63-87C1-77788A627C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C4E69D70-A450-4C43-B41B-D85465B515E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1E1D8CCF-F64B-497D-BB1A-B4CEFF3F1E5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44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45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6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47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51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52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5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6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63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6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6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7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09-13T17:45:13Z</dcterms:modified>
  <cp:revision>534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