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1B07942-4CF4-4076-A35B-377A18A95C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54A65503-3521-42E6-87D7-42A0E43925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3T14:49:45Z</cp:lastPrinted>
  <dcterms:modified xsi:type="dcterms:W3CDTF">2013-09-06T19:24:13Z</dcterms:modified>
  <cp:revision>442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