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21.wmf" ContentType="image/x-wmf"/>
  <Override PartName="/ppt/media/image6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.png" ContentType="image/png"/>
  <Override PartName="/ppt/media/image32.png" ContentType="image/png"/>
  <Override PartName="/ppt/media/image15.wmf" ContentType="image/x-wmf"/>
  <Override PartName="/ppt/media/image34.png" ContentType="image/png"/>
  <Override PartName="/ppt/media/image17.wmf" ContentType="image/x-wmf"/>
  <Override PartName="/ppt/media/image35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D12E4BC-CA9D-490C-8EBD-548383C8D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304DA01B-23B3-4781-92B4-75BC5687A5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F847D11E-33F4-4E4F-95FE-8588F0D14DB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7AFC44C1-45D7-497C-A2A5-B54FA55EDB6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44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45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6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47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51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52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5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66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663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66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66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67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09-13T17:45:13Z</dcterms:modified>
  <cp:revision>534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