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89913F5-BFA0-4E56-8759-250304FE3F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810520" y="-15840"/>
            <a:ext cx="17002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different phi (eg, 45 degrees) might give a differen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A0A20077-539A-4BF6-AC76-A7E12EE19A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21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1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1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1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2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3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4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4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4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5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6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6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6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7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7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8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9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9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9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9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30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30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1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2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2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2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45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50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51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52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59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66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73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9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80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81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5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91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4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95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96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97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404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411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18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4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25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26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9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31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32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33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40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47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54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0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61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62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5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6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77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78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79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80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3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84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85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86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93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00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2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6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07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9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3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14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15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6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8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9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20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21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22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8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29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5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36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2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43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5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7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9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50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51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4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5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58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2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7" name="Group 4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568" name="Group 5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569" name="Group 6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570" name="Rectangle 7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8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Oval 9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3" name="Group 10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574" name="Group 11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575" name="Group 12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576" name="Line 13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Line 14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Line 15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Line 16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Line 17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Line 18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2" name="Group 19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583" name="Line 20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Line 21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5" name="Line 22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6" name="Line 23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Line 24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Line 25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9" name="Group 26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90" name="Line 27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Line 28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Line 29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3" name="Line 30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Line 31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Line 32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6" name="Group 33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97" name="Line 34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Line 35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Line 36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0" name="Line 37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Line 38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Line 39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03" name="Group 40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604" name="Group 41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605" name="Arc 42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6" name="Arc 43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Arc 44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8" name="Arc 45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9" name="Group 46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610" name="Group 47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611" name="Group 48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612" name="Line 49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Line 50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Line 51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5" name="Line 52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6" name="Line 53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Line 54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8" name="Group 55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619" name="Line 56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Line 57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Line 58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2" name="Line 59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Line 60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4" name="Line 61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5" name="Group 62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626" name="Line 63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Line 64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Line 65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9" name="Line 66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Line 67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Line 68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32" name="Group 69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633" name="Line 70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Line 71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5" name="Line 72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6" name="Line 73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7" name="Line 74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Line 75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39" name="Group 76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640" name="Group 77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641" name="Arc 78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2" name="Arc 79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43" name="Arc 80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4" name="Arc 81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45" name="Text Box 82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83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Group 84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648" name="Line 85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86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87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88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2" name="Text Box 89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Group 90"/>
          <p:cNvGrpSpPr/>
          <p:nvPr/>
        </p:nvGrpSpPr>
        <p:grpSpPr>
          <a:xfrm>
            <a:off x="1598760" y="4307040"/>
            <a:ext cx="4473360" cy="2486880"/>
            <a:chOff x="1598760" y="4307040"/>
            <a:chExt cx="4473360" cy="2486880"/>
          </a:xfrm>
        </p:grpSpPr>
        <p:pic>
          <p:nvPicPr>
            <p:cNvPr id="654" name="Picture 91" descr=""/>
            <p:cNvPicPr/>
            <p:nvPr/>
          </p:nvPicPr>
          <p:blipFill>
            <a:blip r:embed="rId1"/>
            <a:stretch/>
          </p:blipFill>
          <p:spPr>
            <a:xfrm>
              <a:off x="1598760" y="4497480"/>
              <a:ext cx="4473360" cy="191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5" name="Group 92"/>
            <p:cNvGrpSpPr/>
            <p:nvPr/>
          </p:nvGrpSpPr>
          <p:grpSpPr>
            <a:xfrm>
              <a:off x="2033280" y="4307040"/>
              <a:ext cx="4003560" cy="2486880"/>
              <a:chOff x="2033280" y="4307040"/>
              <a:chExt cx="4003560" cy="2486880"/>
            </a:xfrm>
          </p:grpSpPr>
          <p:grpSp>
            <p:nvGrpSpPr>
              <p:cNvPr id="656" name="Group 93"/>
              <p:cNvGrpSpPr/>
              <p:nvPr/>
            </p:nvGrpSpPr>
            <p:grpSpPr>
              <a:xfrm>
                <a:off x="3203280" y="4619520"/>
                <a:ext cx="1747440" cy="1778760"/>
                <a:chOff x="3203280" y="4619520"/>
                <a:chExt cx="1747440" cy="1778760"/>
              </a:xfrm>
            </p:grpSpPr>
            <p:sp>
              <p:nvSpPr>
                <p:cNvPr id="657" name="Line 94"/>
                <p:cNvSpPr/>
                <p:nvPr/>
              </p:nvSpPr>
              <p:spPr>
                <a:xfrm>
                  <a:off x="4950720" y="4619520"/>
                  <a:ext cx="0" cy="1696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95"/>
                <p:cNvSpPr/>
                <p:nvPr/>
              </p:nvSpPr>
              <p:spPr>
                <a:xfrm>
                  <a:off x="407664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96"/>
                <p:cNvSpPr/>
                <p:nvPr/>
              </p:nvSpPr>
              <p:spPr>
                <a:xfrm>
                  <a:off x="320328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0" name="Line 97"/>
              <p:cNvSpPr/>
              <p:nvPr/>
            </p:nvSpPr>
            <p:spPr>
              <a:xfrm flipV="1">
                <a:off x="2333160" y="4435200"/>
                <a:ext cx="0" cy="19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Text Box 98"/>
              <p:cNvSpPr/>
              <p:nvPr/>
            </p:nvSpPr>
            <p:spPr>
              <a:xfrm>
                <a:off x="2033280" y="430704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99"/>
              <p:cNvSpPr/>
              <p:nvPr/>
            </p:nvSpPr>
            <p:spPr>
              <a:xfrm>
                <a:off x="2358720" y="6302160"/>
                <a:ext cx="348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Text Box 100"/>
              <p:cNvSpPr/>
              <p:nvPr/>
            </p:nvSpPr>
            <p:spPr>
              <a:xfrm>
                <a:off x="5554440" y="6334200"/>
                <a:ext cx="4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Oval 101"/>
              <p:cNvSpPr/>
              <p:nvPr/>
            </p:nvSpPr>
            <p:spPr>
              <a:xfrm>
                <a:off x="2990520" y="5068800"/>
                <a:ext cx="129960" cy="1299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02"/>
              <p:cNvSpPr/>
              <p:nvPr/>
            </p:nvSpPr>
            <p:spPr>
              <a:xfrm>
                <a:off x="2604600" y="4370400"/>
                <a:ext cx="15843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lvl="1" marL="114480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= 327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Text Box 103"/>
              <p:cNvSpPr/>
              <p:nvPr/>
            </p:nvSpPr>
            <p:spPr>
              <a:xfrm>
                <a:off x="2964240" y="6316560"/>
                <a:ext cx="47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60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7" name="Rectangle 104"/>
          <p:cNvSpPr/>
          <p:nvPr/>
        </p:nvSpPr>
        <p:spPr>
          <a:xfrm>
            <a:off x="5945040" y="4449600"/>
            <a:ext cx="2575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 decreases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de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creas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 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105"/>
          <p:cNvSpPr/>
          <p:nvPr/>
        </p:nvSpPr>
        <p:spPr>
          <a:xfrm>
            <a:off x="706320" y="3540240"/>
            <a:ext cx="1508400" cy="309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06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07"/>
          <p:cNvSpPr/>
          <p:nvPr/>
        </p:nvSpPr>
        <p:spPr>
          <a:xfrm>
            <a:off x="150840" y="4883040"/>
            <a:ext cx="197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aw the graph of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75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2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83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12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20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0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49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6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57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7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2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5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787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2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793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8" name="Group 6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809" name="Rectangle 7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9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10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11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4" name="Group 12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815" name="Line 13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14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15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16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17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18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19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0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1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2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5" name="Rectangle 24"/>
          <p:cNvSpPr/>
          <p:nvPr/>
        </p:nvSpPr>
        <p:spPr>
          <a:xfrm>
            <a:off x="0" y="4255920"/>
            <a:ext cx="91440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.32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d ~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Because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, m &lt;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2.5/10.6 = 1.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 58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)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is ALWAYS has a solution for m = 0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here’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 central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e pattern is symmetric, so there’s a peak corresponding to m = -1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Rectangle 25"/>
          <p:cNvSpPr/>
          <p:nvPr/>
        </p:nvSpPr>
        <p:spPr>
          <a:xfrm>
            <a:off x="4325760" y="3836880"/>
            <a:ext cx="1082880" cy="392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828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831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832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833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5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836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0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841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844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7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848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50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1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852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53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4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5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857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7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1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872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873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82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83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884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885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4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5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896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897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07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8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909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7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8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919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6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7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928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929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6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7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938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7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8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950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9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0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1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962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1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3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5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17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18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24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25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26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9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0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1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32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33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34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7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8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9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5" name="Rectangle 4"/>
          <p:cNvSpPr/>
          <p:nvPr/>
        </p:nvSpPr>
        <p:spPr>
          <a:xfrm>
            <a:off x="2911320" y="3591000"/>
            <a:ext cx="955800" cy="371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Rectangle 5"/>
          <p:cNvSpPr/>
          <p:nvPr/>
        </p:nvSpPr>
        <p:spPr>
          <a:xfrm>
            <a:off x="3713040" y="49258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3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9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6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ine 7"/>
          <p:cNvSpPr/>
          <p:nvPr/>
        </p:nvSpPr>
        <p:spPr>
          <a:xfrm flipV="1">
            <a:off x="64620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8"/>
          <p:cNvSpPr/>
          <p:nvPr/>
        </p:nvSpPr>
        <p:spPr>
          <a:xfrm>
            <a:off x="777960" y="473868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9"/>
          <p:cNvSpPr/>
          <p:nvPr/>
        </p:nvSpPr>
        <p:spPr>
          <a:xfrm flipV="1">
            <a:off x="140004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Line 10"/>
          <p:cNvSpPr/>
          <p:nvPr/>
        </p:nvSpPr>
        <p:spPr>
          <a:xfrm>
            <a:off x="636480" y="5254560"/>
            <a:ext cx="216864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11"/>
          <p:cNvSpPr/>
          <p:nvPr/>
        </p:nvSpPr>
        <p:spPr>
          <a:xfrm>
            <a:off x="1495440" y="474516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Rectangle 12"/>
          <p:cNvSpPr/>
          <p:nvPr/>
        </p:nvSpPr>
        <p:spPr>
          <a:xfrm>
            <a:off x="1255680" y="5369040"/>
            <a:ext cx="1424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A = 3A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13"/>
          <p:cNvSpPr/>
          <p:nvPr/>
        </p:nvSpPr>
        <p:spPr>
          <a:xfrm flipV="1">
            <a:off x="2068560" y="4749840"/>
            <a:ext cx="747720" cy="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14"/>
          <p:cNvSpPr/>
          <p:nvPr/>
        </p:nvSpPr>
        <p:spPr>
          <a:xfrm>
            <a:off x="2163600" y="4732200"/>
            <a:ext cx="50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15"/>
          <p:cNvSpPr/>
          <p:nvPr/>
        </p:nvSpPr>
        <p:spPr>
          <a:xfrm>
            <a:off x="3587760" y="57340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general, 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7" name="Group 16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58" name="Group 17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59" name="Arc 18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Arc 19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Arc 20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Arc 21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Oval 22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65" name="Group 2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66" name="Group 2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67" name="Arc 2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Arc 2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Arc 2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0" name="Arc 2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Oval 3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2" name="Group 31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73" name="Group 32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74" name="Group 33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75" name="Arc 34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Arc 35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Arc 36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8" name="Arc 37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Oval 38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0" name="Line 39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Oval 40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Line 41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Line 4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86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1087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5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1116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1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1122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0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34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5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136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1160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1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1162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4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1165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6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1167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9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1170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71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1172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5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1176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9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200" name="Picture 28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1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202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4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205" name="Picture 33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6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207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9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210" name="Picture 38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11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212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3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14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5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216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1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222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223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8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229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30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231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6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8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239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245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0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52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3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54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5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56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57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2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3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64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65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66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67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9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0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1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3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6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7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8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8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8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8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9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9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9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0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301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5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306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307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9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310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2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3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6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17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8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19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20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5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27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28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29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30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1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2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3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4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5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6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8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64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HOMEWORK #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0480" y="851040"/>
            <a:ext cx="7475400" cy="265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Monday is a holid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 University is closed all weeken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will be no office hours this weeken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Homework #1 will be due on Thursday at 8 am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 will be extra office hours on Wednesd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e the webpag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766800" y="3070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Lab #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95360" y="3670200"/>
            <a:ext cx="7475400" cy="26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Lab #1 is based on things from Lects 1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f you have lab Tuesday, or Wednesday 8am, you should review Prelecture 2, and look ahead at Lect. 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Prelab due when you walk i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40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41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2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43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44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6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7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8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9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0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51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52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53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54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5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7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8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9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0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2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3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364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8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9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370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1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372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4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375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77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3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4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385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386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387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9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4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7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398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399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400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401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3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8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1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2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413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414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2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423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2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433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4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3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4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525600" y="3300480"/>
            <a:ext cx="2763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642960" y="4756320"/>
          <a:ext cx="8132760" cy="99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756320"/>
                    <a:ext cx="813276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2446200" y="4238640"/>
            <a:ext cx="2430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4583160" y="3011400"/>
            <a:ext cx="2971800" cy="598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65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8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9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203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3-09-01T20:25:24Z</dcterms:modified>
  <cp:revision>591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