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27.jpeg" ContentType="image/jpeg"/>
  <Override PartName="/ppt/media/image26.png" ContentType="image/png"/>
  <Override PartName="/ppt/media/image24.jpeg" ContentType="image/jpeg"/>
  <Override PartName="/ppt/media/image20.wmf" ContentType="image/x-wmf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wmf" ContentType="image/x-wmf"/>
  <Override PartName="/ppt/media/image23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9F1F22-DA1C-4EEB-9864-49CC98856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7D6CC543-E371-4B18-8CD2-578570508E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803088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3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4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5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6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7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8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1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2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3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4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5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89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1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2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3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4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5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6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8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899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0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1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6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7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8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2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3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5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6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7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8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3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4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5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9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0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2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3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4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5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0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1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2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6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8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49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0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2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3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5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6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8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59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0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2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3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5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6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8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69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0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1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2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5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6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7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8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79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0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1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3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4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5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6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1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2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3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7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8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0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1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2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3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8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09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0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4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5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6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7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8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19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0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5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6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7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1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2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3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4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5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7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8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1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3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4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5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7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8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1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3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4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5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6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7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59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1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2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3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4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5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6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7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8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4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5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0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1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2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3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4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5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1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2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7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8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0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1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2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8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09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4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5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6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7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6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7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3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4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5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6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7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8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4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5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0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1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2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3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4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5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1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2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7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8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69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0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1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2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79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4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5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6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7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7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8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99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0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2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3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4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6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7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8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9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0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1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3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4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5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6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7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19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0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1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2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3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5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6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7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8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29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0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2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3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7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8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49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5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6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7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8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59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0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2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3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4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7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8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9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0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1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2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3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4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5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6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7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8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89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0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1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2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3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4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5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4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8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09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0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1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2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3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4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5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6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19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0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1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2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3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4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6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7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0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1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2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3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4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5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6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7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8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9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0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3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4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5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6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7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8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9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0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1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2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3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4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6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7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5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6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8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9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6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7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8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9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5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6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7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8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29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0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1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2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3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4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5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6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3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8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49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0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1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2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3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0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5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6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7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8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69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0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6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7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2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3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4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5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5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6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7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8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0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1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2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4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5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6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7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8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9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0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1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2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3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4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5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7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8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9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1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2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3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4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5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6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7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8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0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1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39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, Paul G</cp:lastModifiedBy>
  <cp:lastPrinted>2012-02-29T14:39:36Z</cp:lastPrinted>
  <dcterms:modified xsi:type="dcterms:W3CDTF">2013-10-09T18:46:50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