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21.wmf" ContentType="image/x-wmf"/>
  <Override PartName="/ppt/media/image6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.png" ContentType="image/png"/>
  <Override PartName="/ppt/media/image32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C7DF22C-0CDA-4D2A-BFF5-B814B71E5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97E3A9BE-8695-4AE9-AAFA-6B793BAC05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0153ABA8-0A2E-4B63-ADA4-7B43D634AF8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DEC19617-DDF8-4E82-977B-BA305920C46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44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45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47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51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52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6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63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6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7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09-13T17:45:13Z</dcterms:modified>
  <cp:revision>534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