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565000" y="9147240"/>
            <a:ext cx="220752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214, Lect. 12 Page </a:t>
            </a:r>
            <a:fld id="{6F66DDF3-1B1D-43F6-903C-9D5089941E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951200" y="369720"/>
            <a:ext cx="3136680" cy="384840"/>
          </a:xfrm>
          <a:prstGeom prst="rect">
            <a:avLst/>
          </a:prstGeom>
          <a:noFill/>
          <a:ln w="0">
            <a:noFill/>
          </a:ln>
        </p:spPr>
        <p:style>
          <a:lnRef idx="0"/>
          <a:fillRef idx="0"/>
          <a:effectRef idx="0"/>
          <a:fontRef idx="minor"/>
        </p:style>
        <p:txBody>
          <a:bodyPr lIns="94680" rIns="94680" tIns="47520" bIns="47520" anchor="t">
            <a:spAutoFit/>
          </a:bodyPr>
          <a:p>
            <a:pPr algn="ctr">
              <a:lnSpc>
                <a:spcPct val="100000"/>
              </a:lnSpc>
              <a:spcBef>
                <a:spcPts val="1188"/>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ffffff"/>
                </a:solidFill>
                <a:latin typeface="Comic Sans MS"/>
              </a:rPr>
              <a:t>Physics 214, Lect. 12</a:t>
            </a:r>
            <a:endParaRPr b="0" lang="en-US" sz="1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265400" y="727200"/>
            <a:ext cx="4781520" cy="3585960"/>
          </a:xfrm>
          <a:prstGeom prst="rect">
            <a:avLst/>
          </a:prstGeom>
          <a:ln w="0">
            <a:noFill/>
          </a:ln>
        </p:spPr>
      </p:sp>
      <p:sp>
        <p:nvSpPr>
          <p:cNvPr id="631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265400" y="727200"/>
            <a:ext cx="4781520" cy="3585960"/>
          </a:xfrm>
          <a:prstGeom prst="rect">
            <a:avLst/>
          </a:prstGeom>
          <a:ln w="0">
            <a:noFill/>
          </a:ln>
        </p:spPr>
      </p:sp>
      <p:sp>
        <p:nvSpPr>
          <p:cNvPr id="631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265400" y="727200"/>
            <a:ext cx="4781520" cy="3585960"/>
          </a:xfrm>
          <a:prstGeom prst="rect">
            <a:avLst/>
          </a:prstGeom>
          <a:ln w="0">
            <a:noFill/>
          </a:ln>
        </p:spPr>
      </p:sp>
      <p:sp>
        <p:nvSpPr>
          <p:cNvPr id="631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C1684-344E-4F82-964F-46470C0EC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182F7-F365-4C43-AD30-694E9953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7B990-3506-4536-AC52-4511970C8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01A39-1488-401F-B464-EAD19CAEF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E0E45-022D-4C05-81B6-DE0B7DA0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1D940-ABCB-4303-881B-0626F6474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DDEAB-4C6E-4F3E-A465-AFADE18C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F08A9-E6DC-4C95-A345-5675647C7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B9B0E-AFB4-4038-AB24-9F7BEDED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BD10B-7A78-4F8D-9F66-9F585ED6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52282-03C4-4412-B45D-B3057E169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3EAE3-4276-4926-9D79-98BC796CD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0DC03C8A-70AE-4E36-A83F-EA6C035D080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B26709AB-8F28-45EB-BBE1-93B20A7C6F9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5B81-6FC2-4E9B-B462-C4796022813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m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20T16:30:3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