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8DCA7E0-0499-44B6-A528-B98BBE6BF4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NEXT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91C26DE7-AE71-4CD9-9010-57EBA3F29F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7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7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8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9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9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0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1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3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46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48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4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0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8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9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0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1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3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3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signments on Schedule pag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Nadya Mason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Karin Dah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4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4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5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87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8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88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88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89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89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89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0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0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0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1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2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3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4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5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6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97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0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0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6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20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1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1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3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3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3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3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4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4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4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w this Semester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t New, but Still Very, Very Relevan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0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8-26T21:51:56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