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08D7039-DF8E-469F-8041-A6D1411480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1804C376-197A-4354-B98E-4F87D6C334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5520" y="271440"/>
            <a:ext cx="8988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But </a:t>
            </a:r>
            <a:r>
              <a:rPr b="0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why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must I treat the measuring device classically?  What will happen to me if I </a:t>
            </a:r>
            <a:r>
              <a:rPr b="0" i="1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don’t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?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Eugene Wig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8640" y="2494080"/>
            <a:ext cx="8286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obviously no such limitation – I can measure the energy and look at my watch; then I know both energy and time!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L. D. Landau, on the time-energy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uncertainty princi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7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1" name="Object 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Rectangle 6"/>
          <p:cNvSpPr/>
          <p:nvPr/>
        </p:nvSpPr>
        <p:spPr>
          <a:xfrm>
            <a:off x="3100320" y="2289240"/>
            <a:ext cx="712800" cy="387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4" name="Object 9"/>
          <p:cNvGraphicFramePr/>
          <p:nvPr/>
        </p:nvGraphicFramePr>
        <p:xfrm>
          <a:off x="4179960" y="2182680"/>
          <a:ext cx="30114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9960" y="2182680"/>
                    <a:ext cx="3011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6" name="Group 14"/>
          <p:cNvGrpSpPr/>
          <p:nvPr/>
        </p:nvGrpSpPr>
        <p:grpSpPr>
          <a:xfrm>
            <a:off x="2178000" y="3349800"/>
            <a:ext cx="4632480" cy="798480"/>
            <a:chOff x="2178000" y="3349800"/>
            <a:chExt cx="4632480" cy="798480"/>
          </a:xfrm>
        </p:grpSpPr>
        <p:graphicFrame>
          <p:nvGraphicFramePr>
            <p:cNvPr id="967" name="Object 7"/>
            <p:cNvGraphicFramePr/>
            <p:nvPr/>
          </p:nvGraphicFramePr>
          <p:xfrm>
            <a:off x="4336920" y="3349800"/>
            <a:ext cx="2473560" cy="798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36920" y="3349800"/>
                      <a:ext cx="247356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9" name="Rectangle 10"/>
            <p:cNvSpPr/>
            <p:nvPr/>
          </p:nvSpPr>
          <p:spPr>
            <a:xfrm>
              <a:off x="2178000" y="3502080"/>
              <a:ext cx="712800" cy="3873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Group 15"/>
          <p:cNvGrpSpPr/>
          <p:nvPr/>
        </p:nvGrpSpPr>
        <p:grpSpPr>
          <a:xfrm>
            <a:off x="3057480" y="4622760"/>
            <a:ext cx="5303880" cy="1798920"/>
            <a:chOff x="3057480" y="4622760"/>
            <a:chExt cx="5303880" cy="1798920"/>
          </a:xfrm>
        </p:grpSpPr>
        <p:graphicFrame>
          <p:nvGraphicFramePr>
            <p:cNvPr id="971" name="Object 8"/>
            <p:cNvGraphicFramePr/>
            <p:nvPr/>
          </p:nvGraphicFramePr>
          <p:xfrm>
            <a:off x="4087800" y="4622760"/>
            <a:ext cx="4273560" cy="108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2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87800" y="4622760"/>
                      <a:ext cx="427356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3" name="Rectangle 11"/>
            <p:cNvSpPr/>
            <p:nvPr/>
          </p:nvSpPr>
          <p:spPr>
            <a:xfrm>
              <a:off x="3057480" y="4745160"/>
              <a:ext cx="623880" cy="358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12"/>
            <p:cNvSpPr/>
            <p:nvPr/>
          </p:nvSpPr>
          <p:spPr>
            <a:xfrm>
              <a:off x="4196160" y="5597640"/>
              <a:ext cx="203400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is the definition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f the magnitude of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complex number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AutoShape 13"/>
            <p:cNvSpPr/>
            <p:nvPr/>
          </p:nvSpPr>
          <p:spPr>
            <a:xfrm rot="16200000">
              <a:off x="5033160" y="4291200"/>
              <a:ext cx="360360" cy="22161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7600 h 2216160"/>
                <a:gd name="textAreaBottom" fmla="*/ 2158560 h 22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9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3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84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5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6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8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91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8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99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1000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2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3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4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05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7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8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09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1013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1014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1015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5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6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31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3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4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5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6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37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4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4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4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5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5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6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6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7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8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8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8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1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4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5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1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Text Box 9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2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6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7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9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7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1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2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8" name="Rectangle 4"/>
          <p:cNvSpPr/>
          <p:nvPr/>
        </p:nvSpPr>
        <p:spPr>
          <a:xfrm>
            <a:off x="1389240" y="5018040"/>
            <a:ext cx="569880" cy="308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1" name="Text Box 6"/>
          <p:cNvSpPr/>
          <p:nvPr/>
        </p:nvSpPr>
        <p:spPr>
          <a:xfrm>
            <a:off x="473040" y="5511960"/>
            <a:ext cx="65469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general, the probability distribution of a superpositio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energy eigenstates depends on time.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ever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ach have a node at L/2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every superposition of them also has a node at L/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6" name="Group 12"/>
          <p:cNvGrpSpPr/>
          <p:nvPr/>
        </p:nvGrpSpPr>
        <p:grpSpPr>
          <a:xfrm>
            <a:off x="6764400" y="4890960"/>
            <a:ext cx="2124000" cy="1939680"/>
            <a:chOff x="6764400" y="4890960"/>
            <a:chExt cx="2124000" cy="1939680"/>
          </a:xfrm>
        </p:grpSpPr>
        <p:sp>
          <p:nvSpPr>
            <p:cNvPr id="1927" name="Line 13"/>
            <p:cNvSpPr/>
            <p:nvPr/>
          </p:nvSpPr>
          <p:spPr>
            <a:xfrm flipV="1">
              <a:off x="6835680" y="489096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4"/>
            <p:cNvSpPr/>
            <p:nvPr/>
          </p:nvSpPr>
          <p:spPr>
            <a:xfrm flipV="1">
              <a:off x="8772480" y="4896720"/>
              <a:ext cx="0" cy="1024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"/>
            <p:cNvSpPr/>
            <p:nvPr/>
          </p:nvSpPr>
          <p:spPr>
            <a:xfrm>
              <a:off x="6808680" y="590832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30" name="Object 16"/>
            <p:cNvGraphicFramePr/>
            <p:nvPr/>
          </p:nvGraphicFramePr>
          <p:xfrm>
            <a:off x="6764400" y="5001840"/>
            <a:ext cx="2124000" cy="1828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31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64400" y="5001840"/>
                      <a:ext cx="212400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2" name="Group 17"/>
            <p:cNvGrpSpPr/>
            <p:nvPr/>
          </p:nvGrpSpPr>
          <p:grpSpPr>
            <a:xfrm>
              <a:off x="6861960" y="4924080"/>
              <a:ext cx="1660680" cy="796320"/>
              <a:chOff x="6861960" y="4924080"/>
              <a:chExt cx="1660680" cy="796320"/>
            </a:xfrm>
          </p:grpSpPr>
          <p:sp>
            <p:nvSpPr>
              <p:cNvPr id="1933" name="Text Box 18"/>
              <p:cNvSpPr/>
              <p:nvPr/>
            </p:nvSpPr>
            <p:spPr>
              <a:xfrm>
                <a:off x="8137800" y="534960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Text Box 19"/>
              <p:cNvSpPr/>
              <p:nvPr/>
            </p:nvSpPr>
            <p:spPr>
              <a:xfrm>
                <a:off x="7339320" y="533376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Text Box 20"/>
              <p:cNvSpPr/>
              <p:nvPr/>
            </p:nvSpPr>
            <p:spPr>
              <a:xfrm>
                <a:off x="6861960" y="4924080"/>
                <a:ext cx="707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+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36" name="Rectangle 21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Text Box 22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44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45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49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50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1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2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15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8856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55" name="Group 5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56" name="Line 6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7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8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9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60" name="Object 10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6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2" name="Rectangle 11"/>
          <p:cNvSpPr/>
          <p:nvPr/>
        </p:nvSpPr>
        <p:spPr>
          <a:xfrm>
            <a:off x="927000" y="2795760"/>
            <a:ext cx="1627200" cy="385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 Box 12"/>
          <p:cNvSpPr/>
          <p:nvPr/>
        </p:nvSpPr>
        <p:spPr>
          <a:xfrm>
            <a:off x="728640" y="3651120"/>
            <a:ext cx="758664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only get one of the eigenvalues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(not answer c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2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7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ime, but 0.5 and 0.866 don’t.  So, d is not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nergy (if we were to measure a large number of similar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) is the weighted sum of the energies:  0.2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0.7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4" name="Object 13"/>
          <p:cNvGraphicFramePr/>
          <p:nvPr/>
        </p:nvGraphicFramePr>
        <p:xfrm>
          <a:off x="777960" y="1566720"/>
          <a:ext cx="4232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960" y="1566720"/>
                    <a:ext cx="4232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68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0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3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4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6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8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0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2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9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4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9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2000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3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2004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2"/>
          <p:cNvSpPr/>
          <p:nvPr/>
        </p:nvSpPr>
        <p:spPr>
          <a:xfrm>
            <a:off x="682560" y="63360"/>
            <a:ext cx="7785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Act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1056960" y="1195560"/>
            <a:ext cx="3434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term exam w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right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eas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 and 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009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93760" y="63360"/>
            <a:ext cx="85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The Most Difficult Midterm Ques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13840" y="685800"/>
            <a:ext cx="87202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6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8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2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33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2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44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3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3-09-24T20:11:27Z</dcterms:modified>
  <cp:revision>526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