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21.wmf" ContentType="image/x-wmf"/>
  <Override PartName="/ppt/media/image6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.png" ContentType="image/png"/>
  <Override PartName="/ppt/media/image32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0AE71C6-34ED-44C0-80D9-0535F081E4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DE1395B3-3730-4990-AFE2-AF5AB97EC1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5C23B4B5-26FB-40DF-8292-C11C3F26F14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64AC7316-94EB-452E-B41E-EEC421E1CA4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44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45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47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51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52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6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63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6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7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09-13T17:45:13Z</dcterms:modified>
  <cp:revision>534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