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jpeg" ContentType="image/jpeg"/>
  <Override PartName="/ppt/media/image14.wmf" ContentType="image/x-wmf"/>
  <Override PartName="/ppt/media/image24.wmf" ContentType="image/x-wmf"/>
  <Override PartName="/ppt/media/image15.wmf" ContentType="image/x-wmf"/>
  <Override PartName="/ppt/media/image7.png" ContentType="image/png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1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C5F2BB3-C460-4639-B7E5-A6396D839A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EBDFAC69-E068-4295-BD79-E57E6FF258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2A583FD8-ED8C-413F-BCA9-2F1B7786F1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5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46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47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48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48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49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49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9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1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1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1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2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2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round stat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herically-symmetric excited states (“s-state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3-09-30T21:31:56Z</dcterms:modified>
  <cp:revision>426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