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27.wmf" ContentType="image/x-wmf"/>
  <Override PartName="/ppt/media/image1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wmf" ContentType="image/x-wmf"/>
  <Override PartName="/ppt/media/image1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7F0A334-EC02-4CF6-983A-85CAD20BD1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TV remote and video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Kruse qmbands, if there 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DF932C11-795C-47B8-8BB9-4F8A675F64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9D7B393F-A98F-4BC5-849E-14424C878E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89DC4165-13EC-43FB-93DD-BA37BD4BB69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53880" y="1486080"/>
            <a:ext cx="3765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When I hear of Schrödinger’s cat, I reach for my gu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Stephen W.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Haw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4572000" y="731880"/>
            <a:ext cx="4343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7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8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9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6480" y="648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967280" y="2631960"/>
            <a:ext cx="1467000" cy="416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30200" y="3171960"/>
            <a:ext cx="807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member the relation between photon energy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E = 1240 eV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1.1 eV = 1127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4106160" y="65851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23720" y="844560"/>
            <a:ext cx="793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45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7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48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0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54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57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8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69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72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80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7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89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90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3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0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24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25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6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7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agnetic Moments of Atom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5" name="Text Box 1326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561600" y="2674800"/>
            <a:ext cx="733752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orbital is a set of states, all with the same (n,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are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1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 and 2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he orbital is completely full, the angular momentum of th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ctrons sums to zero, because for every positive value of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is a corresponding negative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there cannot be any magnetic moment (which results fro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orbiting” charg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oble (Inert) Gas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3633840" y="2122560"/>
            <a:ext cx="43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just a counting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18  That’s arg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7" descr="periodic"/>
          <p:cNvPicPr/>
          <p:nvPr/>
        </p:nvPicPr>
        <p:blipFill>
          <a:blip r:embed="rId3"/>
          <a:stretch/>
        </p:blipFill>
        <p:spPr>
          <a:xfrm>
            <a:off x="3513240" y="3706920"/>
            <a:ext cx="4852800" cy="2931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nother Inert Gas Ques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651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1305000" y="3048120"/>
            <a:ext cx="28584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3537000" y="2571840"/>
            <a:ext cx="508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order in which the states are filled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tom just after each noble gas (including helium!) is the first to have an electron in the next n-shell,  For example, sodium follows neon and is the first atom to have an electron in an n=3 state.  The big energy gap makes it difficult for the noble gas electrons to form chemical b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8640" y="222120"/>
            <a:ext cx="8256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Band Width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207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660" name="Group 143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661" name="Group 144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662" name="Freeform 145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46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147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665" name="Group 148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666" name="Line 149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150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Oval 151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Text Box 152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153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Text Box 154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Group 155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673" name="Line 156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157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Oval 158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Text Box 159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160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8" name="Group 161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679" name="Freeform 162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63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64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682" name="Group 165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683" name="Line 166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67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Oval 168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Text Box 169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Freeform 170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Text Box 171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172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690" name="Line 173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74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Oval 175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Text Box 176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177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5" name="Group 178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696" name="Freeform 179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80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8" name="Group 181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699" name="Group 182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00" name="Line 183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Line 184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Oval 185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Text Box 186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187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Text Box 188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Group 189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07" name="Line 190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191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Oval 192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Text Box 193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194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12" name="Freeform 195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96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Rectangle 197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8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199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0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20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20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Rectangle 208"/>
          <p:cNvSpPr/>
          <p:nvPr/>
        </p:nvSpPr>
        <p:spPr>
          <a:xfrm>
            <a:off x="516960" y="7812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378000" y="491652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 You might think this is equivalent to c), but beware.  For larger n values, the order can be reversed.  6s has lower energy than 5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may be true, but the presence of the 3p band does not affect 3s energy lev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Higher energy means that there is more tunneling.  This causes the symmetric wave functions to have a larger energy shi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615960" y="4264200"/>
            <a:ext cx="2733840" cy="28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726" name="Group 7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727" name="Group 8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728" name="Freeform 9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0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Group 11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731" name="Group 12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732" name="Line 13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14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Oval 15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Text Box 16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17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Text Box 18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Group 19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739" name="Line 20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21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Oval 22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Text Box 23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Freeform 24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44" name="Group 25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745" name="Freeform 26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7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7" name="Group 28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748" name="Group 29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749" name="Line 30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31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Oval 32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Text Box 33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34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Text Box 35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36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756" name="Line 37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Line 38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Oval 39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Text Box 40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41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1" name="Group 42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762" name="Freeform 43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44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Group 45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765" name="Group 46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66" name="Line 47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48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Oval 49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Text Box 50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Freeform 51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Text Box 52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2" name="Group 53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73" name="Line 54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5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Oval 56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Text Box 57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58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78" name="Freeform 59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0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0" name="Rectangle 61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6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Text Box 6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Text Box 6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Rectangle 67"/>
          <p:cNvSpPr/>
          <p:nvPr/>
        </p:nvSpPr>
        <p:spPr>
          <a:xfrm>
            <a:off x="388440" y="65088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81320" y="2558880"/>
            <a:ext cx="6648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Note:  On an exam, I’d word this question a bit more carefully.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80960" y="2558880"/>
            <a:ext cx="6718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77080" y="5530680"/>
            <a:ext cx="4380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wo electrons are in the (1,1) state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two are in the (2,1) or (1,2)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61960" y="5991120"/>
            <a:ext cx="1959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9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2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2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5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7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7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8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8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8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9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9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9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30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30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30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2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2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2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3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3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4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4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4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5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5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5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6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8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9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9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40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1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1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1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1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2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2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2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3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3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3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3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4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4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4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5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6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6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7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7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7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8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8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8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9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9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9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50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3-10-09T00:09:56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