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jpeg" ContentType="image/jpeg"/>
  <Override PartName="/ppt/media/image14.wmf" ContentType="image/x-wmf"/>
  <Override PartName="/ppt/media/image24.wmf" ContentType="image/x-wmf"/>
  <Override PartName="/ppt/media/image15.wmf" ContentType="image/x-wmf"/>
  <Override PartName="/ppt/media/image7.png" ContentType="image/png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31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1DDCD23-197F-4094-9BAE-8ECEF3DFC9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070B2ED8-9484-4170-A994-7CB7D0F9442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9C4B406-1906-4A55-895C-2780CC150D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5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46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47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48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48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49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49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9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1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1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1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2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2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round stat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herically-symmetric excited states (“s-state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3-09-30T21:31:56Z</dcterms:modified>
  <cp:revision>426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