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27.jpeg" ContentType="image/jpeg"/>
  <Override PartName="/ppt/media/image26.png" ContentType="image/png"/>
  <Override PartName="/ppt/media/image24.jpeg" ContentType="image/jpeg"/>
  <Override PartName="/ppt/media/image20.wmf" ContentType="image/x-wmf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5.wmf" ContentType="image/x-wmf"/>
  <Override PartName="/ppt/media/image23.jpeg" ContentType="image/jpeg"/>
  <Override PartName="/ppt/media/image2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88E4DC30-F586-48D7-9DE9-C76C4E61A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1AC812E0-7B0C-4EFA-9C14-D39DD99FC36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3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4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6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52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4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55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7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0" name="Rectangle 135"/>
          <p:cNvSpPr/>
          <p:nvPr/>
        </p:nvSpPr>
        <p:spPr>
          <a:xfrm>
            <a:off x="727200" y="1944720"/>
            <a:ext cx="803088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3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64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65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6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7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68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69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0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71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72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73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4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5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6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0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1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2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3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89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1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92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893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894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895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896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98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899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00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1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2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3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4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5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06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07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8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9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0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1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12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13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15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16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17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8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23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24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5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6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7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8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29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30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32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33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34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5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40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41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2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3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4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5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46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7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8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49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50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1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2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53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4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5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56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7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8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59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60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1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2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63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5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66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7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68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9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70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71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2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3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5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6" name="Text Box 4"/>
          <p:cNvSpPr/>
          <p:nvPr/>
        </p:nvSpPr>
        <p:spPr>
          <a:xfrm>
            <a:off x="378000" y="5059440"/>
            <a:ext cx="79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N atoms, the band can hold 2N electrons (spin up and spin down).  So:  a) gives us a half-filled band (conduc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gives a full band (insula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is not possible.  An atom can only have two 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77" name="Group 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78" name="Group 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79" name="Group 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80" name="Group 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81" name="Freeform 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2" name="Freeform 1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83" name="Group 1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84" name="Group 1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85" name="Line 1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6" name="Line 1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7" name="Oval 1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8" name="Text Box 1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9" name="Freeform 1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0" name="Text Box 1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91" name="Group 1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92" name="Line 2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3" name="Line 2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4" name="Oval 2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5" name="Text Box 2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6" name="Freeform 2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97" name="Group 2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98" name="Freeform 2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9" name="Freeform 2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00" name="Group 2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2001" name="Group 2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2002" name="Line 3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3" name="Line 3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4" name="Oval 3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5" name="Text Box 3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6" name="Freeform 3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7" name="Text Box 3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08" name="Group 3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2009" name="Line 3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0" name="Line 3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1" name="Oval 3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2" name="Text Box 4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3" name="Freeform 4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014" name="Group 4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2015" name="Freeform 4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6" name="Freeform 4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17" name="Group 4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2018" name="Group 4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2019" name="Line 4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0" name="Line 4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1" name="Oval 4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2" name="Text Box 5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3" name="Freeform 5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4" name="Text Box 5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25" name="Group 5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2026" name="Line 5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7" name="Line 5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8" name="Oval 5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9" name="Text Box 5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0" name="Freeform 5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031" name="Freeform 5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2" name="Freeform 6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3" name="Group 6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2034" name="Group 6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2035" name="Line 6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Line 6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7" name="Group 6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2038" name="Line 6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Line 6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0" name="Group 6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2041" name="Line 6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Line 7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3" name="Group 7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2044" name="Group 7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2045" name="Line 7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Line 7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7" name="Group 7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2048" name="Line 7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Line 7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0" name="Group 7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2051" name="Line 7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2" name="Line 8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53" name="Text Box 8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4" name="Text Box 8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055" name="Group 8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2056" name="Text Box 8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7" name="Line 8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8" name="Line 8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059" name="Rectangle 87"/>
          <p:cNvSpPr/>
          <p:nvPr/>
        </p:nvSpPr>
        <p:spPr>
          <a:xfrm>
            <a:off x="615960" y="3990960"/>
            <a:ext cx="46227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061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2062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2063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2064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5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66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2067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2068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4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75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80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81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2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83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84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85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6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1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92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3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97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98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9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100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101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102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3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8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109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0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114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15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116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7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8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9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0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1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2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3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4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5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6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7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8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9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0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1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33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34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5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6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37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38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9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4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45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50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51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2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53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154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155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6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7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8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9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0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1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162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3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4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5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6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67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168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69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70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171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172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3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5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6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7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8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79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0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1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84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5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86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7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8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9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0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1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2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3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4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5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6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97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98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199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0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1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02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203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4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5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06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207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8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9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210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1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2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213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4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5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216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7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8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19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220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1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2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223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4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5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226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7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8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229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0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1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32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3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4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5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6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7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8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9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0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1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3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6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47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248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9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0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1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2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3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4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255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6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57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8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259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0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1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2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3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4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5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6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7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8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9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0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1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72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3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74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77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78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9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80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81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82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3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4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85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6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87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88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89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0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91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2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3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94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5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6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7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8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9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0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1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2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3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304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5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08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309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0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1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2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313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314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5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16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317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19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0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21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22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23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4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5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26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27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8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9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30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31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2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3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34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5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6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37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8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9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40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1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2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43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44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5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6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47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8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9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50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1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2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53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4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5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56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7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8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9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0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=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Mathematica1"/>
                <a:ea typeface="Mathematica1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5" name="Rectangle 4"/>
          <p:cNvSpPr/>
          <p:nvPr/>
        </p:nvSpPr>
        <p:spPr>
          <a:xfrm>
            <a:off x="254160" y="2413080"/>
            <a:ext cx="352440" cy="1052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6" name="Text Box 5"/>
          <p:cNvSpPr/>
          <p:nvPr/>
        </p:nvSpPr>
        <p:spPr>
          <a:xfrm>
            <a:off x="455760" y="3835440"/>
            <a:ext cx="7439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and b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of these add energy to the material, exciting som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the electrons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dding foreign atoms (called “doping”) will either cau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aterial to have too many electrons to fit in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alence band (some will go into the conduction band)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r cause the valence band to have unfilled states. 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ither case, some electrons will have nearby (in energy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s to which they can be excit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8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9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0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1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2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3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4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5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76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7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8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9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0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1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82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83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84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5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6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87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88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9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0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1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92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3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4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95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6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7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98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9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0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401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2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3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04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405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6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7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408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9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0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411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2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3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414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5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6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17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8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2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25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426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427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28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429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0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431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432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3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4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435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436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2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443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8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449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0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51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452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453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4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9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460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65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66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67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68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69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70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6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77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82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3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84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5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6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7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8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9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0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1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2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3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4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95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96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97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98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99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500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501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2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3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04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505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6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7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508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9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0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511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2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3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514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5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6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17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518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9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0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521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2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3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524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5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6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527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28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29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530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1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2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3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4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5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6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7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39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4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5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3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6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7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1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2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3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76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77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4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9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0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2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3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4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1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6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07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0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1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18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3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4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26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27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0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3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5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36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7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8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9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0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2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3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4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5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6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47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5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56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2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3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4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5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68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2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3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76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79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1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2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86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87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89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2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3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196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7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198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1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2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4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5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3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4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5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06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9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0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6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07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0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1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7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08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09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1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2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3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4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6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17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18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19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0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1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2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4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5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26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27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8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29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0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1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2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4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5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38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1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3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4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5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46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47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48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0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4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5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9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0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1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2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3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4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5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6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8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9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2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5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77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78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79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0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1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2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3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4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5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6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87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8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89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0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1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2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3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4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5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6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498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9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0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1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2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3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9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0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1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2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3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5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16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17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8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9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1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3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4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7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8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29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0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1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2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3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4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5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6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7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8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0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1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4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5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46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47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8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49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0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1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2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4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5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7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58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1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2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3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4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5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66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67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68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9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0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1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2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3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4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5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76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77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78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79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0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2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3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4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0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1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96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597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99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0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1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07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08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3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4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16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17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18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4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5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0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1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2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3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4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6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37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9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0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2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3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4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6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47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9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0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2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3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4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5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6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7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0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1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2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3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4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65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66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67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8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3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74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79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0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1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2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3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84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5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7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0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1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96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697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98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99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0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1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7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08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3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4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15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16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17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8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9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0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1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2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3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5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26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27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8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9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0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1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2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3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35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6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7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8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9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0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1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2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3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4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5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6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7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8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9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3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4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5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6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7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8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9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1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2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3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84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85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6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7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8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9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0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1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15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6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7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8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9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0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1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2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3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6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27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8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9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0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1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2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3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4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35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6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7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1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6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47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49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, Paul G</cp:lastModifiedBy>
  <cp:lastPrinted>2012-02-29T14:39:36Z</cp:lastPrinted>
  <dcterms:modified xsi:type="dcterms:W3CDTF">2013-10-09T18:46:50Z</dcterms:modified>
  <cp:revision>468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