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AF62AF-CE62-47D5-96CC-3E44AC5DB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10520" y="-15840"/>
            <a:ext cx="1700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55A7A3CA-728D-4D5D-A371-CFD0FB936F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1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3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4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6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6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9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9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30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2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5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50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51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52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9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6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73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80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81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91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5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6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7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4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11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8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5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6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31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32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33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40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7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4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61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62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8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4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5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6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93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00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7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3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4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5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8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20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21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22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9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5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6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43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9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50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51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5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8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8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70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4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5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6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83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90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7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4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5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9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10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11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12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9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6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33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9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40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41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4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5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8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4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6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7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8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12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20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9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7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7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93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9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4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5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8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31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32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33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6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41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4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8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1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52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53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5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7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1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72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73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2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3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4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5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4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6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7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7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8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9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8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9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7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8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9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6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8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50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62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7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8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4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5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6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32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33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4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9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911320" y="3591000"/>
            <a:ext cx="95580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8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9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5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6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7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0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73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4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5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0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7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6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22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6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60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1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62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4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5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7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70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1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72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5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6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200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202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5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7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9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10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1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12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4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6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22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23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9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0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31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9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5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52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4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5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6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7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2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4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5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6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7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0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1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8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8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9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9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9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301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5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6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7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9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10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2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2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3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4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HOMEWORK #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480" y="851040"/>
            <a:ext cx="7475400" cy="26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nday is a holi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University is closed all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no office hours this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omework #1 will be due on Thursday at 8 am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extra office hours on Wednes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e the webp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6800" y="3070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Lab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95360" y="3670200"/>
            <a:ext cx="747540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ab #1 is based on things from Lects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f you have lab Tuesday, or Wednesday 8am, you should review Prelecture 2, and look ahead at Lect.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relab due when you walk i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40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41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2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4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9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51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52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53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4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7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2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4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70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1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72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5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7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5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6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7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4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8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9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400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401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1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13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4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23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33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4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3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4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9-01T20:25:24Z</dcterms:modified>
  <cp:revision>591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