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1.wmf" ContentType="image/x-wmf"/>
  <Override PartName="/ppt/media/image7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wmf" ContentType="image/x-wmf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087C15B-7066-4ACF-8A22-E59D6C82B9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292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FD29A298-6143-4F8A-B3A6-4A855E228F3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F9AB5CD3-4E0D-4AE6-AE1A-FA0356FA135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DFEF982D-612B-431D-8041-41F78833D0C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9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0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1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2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34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6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37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43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5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46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8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1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7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58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61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3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69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6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78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79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2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1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2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17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18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19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0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72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79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2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2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2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6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6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7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7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7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8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8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8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9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9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9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1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1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1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2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2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3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3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3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4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4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4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5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7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8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8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39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0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0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0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0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1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1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1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2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2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2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2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3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3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3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4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4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5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5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6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6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6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7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7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7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8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8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8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49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0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4-08-08T20:36:25Z</dcterms:modified>
  <cp:revision>437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