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1.wmf" ContentType="image/x-wmf"/>
  <Override PartName="/ppt/media/image3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jpeg" ContentType="image/jpeg"/>
  <Override PartName="/ppt/media/image6.jpeg" ContentType="image/jpeg"/>
  <Override PartName="/ppt/media/image20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B9E01BB-7779-457D-A8DB-498D68E151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693160" y="1764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6AF9C600-4197-435A-BA7C-1BF74D615C9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. </a:t>
            </a:r>
            <a:fld id="{FF033787-53B0-4E0D-96BE-246417B3FC2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42203DA6-0A22-4735-BC72-3647C306F16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2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3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3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4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5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5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5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16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16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16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16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16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17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17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17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17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18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18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18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18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18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19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19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19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0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0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0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263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266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278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282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288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291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4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295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296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299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02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03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06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09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10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13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37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38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85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7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517680" y="66816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. It is observed that shining light with wavelength 310 nm on a material will eject electrons, while 312 nm will not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workfunction of the material?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int: What is V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stop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2. If the same light is shined onto a material with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04800" y="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12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13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4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15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18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9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0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21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2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3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24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5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6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27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8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9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30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1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32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37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41320" y="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450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453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460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471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474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478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479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1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482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483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484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485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7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488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0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491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492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4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495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7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498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499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1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502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4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506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507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508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509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1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512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4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515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516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8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519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1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522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523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5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526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28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2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2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3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4-08-08T19:31:01Z</dcterms:modified>
  <cp:revision>530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