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3A11603-0271-49B2-942D-4F2F361644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B4C7D889-F44C-4040-98A0-4E15823FE8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6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70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6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7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8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80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1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2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83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4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9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300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4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21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6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7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41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45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7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50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55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61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2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63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8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8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90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95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04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14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23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34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6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6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65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6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9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2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24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6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27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9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0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31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32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35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7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5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5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5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6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6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7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7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8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8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8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8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8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8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9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9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9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9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0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60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1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2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3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3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3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4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7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2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7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4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8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, Paul G</cp:lastModifiedBy>
  <cp:lastPrinted>2000-03-23T14:49:45Z</cp:lastPrinted>
  <dcterms:modified xsi:type="dcterms:W3CDTF">2013-01-07T18:01:12Z</dcterms:modified>
  <cp:revision>444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