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2.png" ContentType="image/png"/>
  <Override PartName="/ppt/media/image11.wmf" ContentType="image/x-wmf"/>
  <Override PartName="/ppt/media/image17.png" ContentType="image/png"/>
  <Override PartName="/ppt/media/image16.jpeg" ContentType="image/jpeg"/>
  <Override PartName="/ppt/media/image15.gif" ContentType="image/gif"/>
  <Override PartName="/ppt/media/image14.png" ContentType="image/png"/>
  <Override PartName="/ppt/media/image10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1.jpeg" ContentType="image/jpeg"/>
  <Override PartName="/ppt/media/image7.png" ContentType="image/png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2"/>
          </p:nvPr>
        </p:nvSpPr>
        <p:spPr>
          <a:xfrm>
            <a:off x="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sldNum" idx="3"/>
          </p:nvPr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C326DA9-32A7-46EB-A156-EFD2D52AE7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97120" y="0"/>
            <a:ext cx="16236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hqrd.hitachi.co.jp/rd/moviee/doubleslite.wm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falstad.com/qm1d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quantum.univie.ac.at/research/matterwave/thermaldeco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quantum.univie.ac.at/research/matterwave/thermaldeco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 believe that the existence of the classical ‘path’ can be pregnantly formulated as follows: The ‘path’ comes into existence only when we observe it.” –Heisenbe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9, p </a:t>
            </a:r>
            <a:fld id="{EFE2CD24-FC6A-46E8-9F80-BC1A76A7E94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9, p </a:t>
            </a:r>
            <a:fld id="{C33E02F4-42EB-4CDE-9A51-1F30E3235C0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8, p </a:t>
            </a:r>
            <a:fld id="{A9F5D956-DE5F-4E88-8940-0D76ABDB47E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hqrd.hitachi.co.jp/em/doubleslit-f1.cfm" TargetMode="External"/><Relationship Id="rId2" Type="http://schemas.openxmlformats.org/officeDocument/2006/relationships/image" Target="../media/image5.png"/><Relationship Id="rId3" Type="http://schemas.openxmlformats.org/officeDocument/2006/relationships/hyperlink" Target="http://www.hqrd.hitachi.co.jp/em/doubleslit-f2.cfm" TargetMode="External"/><Relationship Id="rId4" Type="http://schemas.openxmlformats.org/officeDocument/2006/relationships/image" Target="../media/image6.png"/><Relationship Id="rId5" Type="http://schemas.openxmlformats.org/officeDocument/2006/relationships/hyperlink" Target="http://www.hqrd.hitachi.co.jp/em/doubleslit-f2.cfm" TargetMode="External"/><Relationship Id="rId6" Type="http://schemas.openxmlformats.org/officeDocument/2006/relationships/image" Target="../media/image6.png"/><Relationship Id="rId7" Type="http://schemas.openxmlformats.org/officeDocument/2006/relationships/hyperlink" Target="http://www.hqrd.hitachi.co.jp/rd/moviee/doubleslite.wmv" TargetMode="External"/><Relationship Id="rId8" Type="http://schemas.openxmlformats.org/officeDocument/2006/relationships/hyperlink" Target="http://www.quantum-physics.polytechnique.fr/index.html" TargetMode="External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gif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58800" y="76320"/>
            <a:ext cx="7796160" cy="16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9: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Introduction to QM: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Review and Examp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28600" y="3430440"/>
            <a:ext cx="3367080" cy="2675160"/>
            <a:chOff x="228600" y="3430440"/>
            <a:chExt cx="3367080" cy="2675160"/>
          </a:xfrm>
        </p:grpSpPr>
        <p:sp>
          <p:nvSpPr>
            <p:cNvPr id="127" name=""/>
            <p:cNvSpPr/>
            <p:nvPr/>
          </p:nvSpPr>
          <p:spPr>
            <a:xfrm>
              <a:off x="3408120" y="3430440"/>
              <a:ext cx="0" cy="267516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2805120" y="3447720"/>
              <a:ext cx="603000" cy="2562120"/>
              <a:chOff x="2805120" y="3447720"/>
              <a:chExt cx="603000" cy="2562120"/>
            </a:xfrm>
          </p:grpSpPr>
          <p:sp>
            <p:nvSpPr>
              <p:cNvPr id="129" name=""/>
              <p:cNvSpPr/>
              <p:nvPr/>
            </p:nvSpPr>
            <p:spPr>
              <a:xfrm rot="16200000">
                <a:off x="2466000" y="5067720"/>
                <a:ext cx="1281240" cy="60300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16200000">
                <a:off x="2465640" y="3786480"/>
                <a:ext cx="1280880" cy="60300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228600" y="3930480"/>
              <a:ext cx="2273400" cy="1643040"/>
              <a:chOff x="228600" y="3930480"/>
              <a:chExt cx="2273400" cy="1643040"/>
            </a:xfrm>
          </p:grpSpPr>
          <p:sp>
            <p:nvSpPr>
              <p:cNvPr id="132" name=""/>
              <p:cNvSpPr/>
              <p:nvPr/>
            </p:nvSpPr>
            <p:spPr>
              <a:xfrm>
                <a:off x="1572120" y="406692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1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560960" y="509256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1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848960" y="3930480"/>
                <a:ext cx="68040" cy="5954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839600" y="4925880"/>
                <a:ext cx="82080" cy="6476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845720" y="4613040"/>
                <a:ext cx="72720" cy="2192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7" name=""/>
              <p:cNvGrpSpPr/>
              <p:nvPr/>
            </p:nvGrpSpPr>
            <p:grpSpPr>
              <a:xfrm>
                <a:off x="228600" y="4011480"/>
                <a:ext cx="1364760" cy="1395360"/>
                <a:chOff x="228600" y="4011480"/>
                <a:chExt cx="1364760" cy="1395360"/>
              </a:xfrm>
            </p:grpSpPr>
            <p:sp>
              <p:nvSpPr>
                <p:cNvPr id="138" name=""/>
                <p:cNvSpPr/>
                <p:nvPr/>
              </p:nvSpPr>
              <p:spPr>
                <a:xfrm flipV="1">
                  <a:off x="228600" y="401148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379080" y="401148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529920" y="401148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V="1">
                  <a:off x="682200" y="401148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V="1">
                  <a:off x="834840" y="4024080"/>
                  <a:ext cx="0" cy="1382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985320" y="4024080"/>
                  <a:ext cx="0" cy="1382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 flipV="1">
                  <a:off x="1137600" y="4024080"/>
                  <a:ext cx="0" cy="1382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 flipV="1">
                  <a:off x="1288440" y="4012920"/>
                  <a:ext cx="0" cy="1393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V="1">
                  <a:off x="1439280" y="401148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V="1">
                  <a:off x="1593360" y="401148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" name=""/>
            <p:cNvSpPr/>
            <p:nvPr/>
          </p:nvSpPr>
          <p:spPr>
            <a:xfrm>
              <a:off x="3595680" y="4192560"/>
              <a:ext cx="0" cy="325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640400" y="3297240"/>
            <a:ext cx="4189320" cy="28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06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8" name=""/>
          <p:cNvSpPr/>
          <p:nvPr/>
        </p:nvSpPr>
        <p:spPr>
          <a:xfrm>
            <a:off x="304920" y="990720"/>
            <a:ext cx="5667120" cy="33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5000"/>
          </a:bodyPr>
          <a:p>
            <a:pPr marL="242640" indent="-2426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500-nm laser sent into a Michelson interferometer, one of whose mirrors is moving rapidly (thereby shifting the color of the light in that arm to 502 nm). What will we observe at the output detector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2640" indent="-2426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single interference pattern, i.e., fringes with spacing 501 nm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double interference pattern, i.e., fringes with spacing 500 nm, plus fringes at 502 nm.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 light whatsoe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2640" indent="-2426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(half the intensity of the laser), but no interference patte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2640" indent="-2426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2640" indent="-2426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773760" y="1847880"/>
            <a:ext cx="179388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021520" y="2057400"/>
            <a:ext cx="73656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m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434280" y="1828800"/>
            <a:ext cx="2133360" cy="0"/>
          </a:xfrm>
          <a:prstGeom prst="line">
            <a:avLst/>
          </a:prstGeom>
          <a:ln w="127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8572680" y="1600200"/>
            <a:ext cx="1440" cy="50472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7539120" y="482760"/>
            <a:ext cx="28440" cy="1963440"/>
          </a:xfrm>
          <a:prstGeom prst="line">
            <a:avLst/>
          </a:prstGeom>
          <a:ln w="101520">
            <a:solidFill>
              <a:srgbClr val="ffff00"/>
            </a:solidFill>
            <a:miter/>
            <a:head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 flipV="1">
            <a:off x="7314840" y="457200"/>
            <a:ext cx="490680" cy="144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556320" y="1835280"/>
            <a:ext cx="327240" cy="0"/>
          </a:xfrm>
          <a:prstGeom prst="line">
            <a:avLst/>
          </a:prstGeom>
          <a:ln w="101520">
            <a:solidFill>
              <a:srgbClr val="ffff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7230960" y="2436840"/>
            <a:ext cx="612720" cy="37944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3333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943600" y="1295280"/>
            <a:ext cx="140508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8-mW las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653240" y="538200"/>
            <a:ext cx="73656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m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7435440" y="1697040"/>
            <a:ext cx="297000" cy="3063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643960" y="1981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149400" y="95400"/>
            <a:ext cx="8845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  <a:ea typeface="Arial"/>
              </a:rPr>
              <a:t>“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  <a:ea typeface="Arial"/>
              </a:rPr>
              <a:t>Double-slit” Experiment for Electr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42920" y="890640"/>
            <a:ext cx="3944880" cy="26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0000"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Electrons are accelerated to 50 keV </a:t>
            </a:r>
            <a:r>
              <a:rPr b="0" lang="en-US" sz="18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= 0.0055 n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Central wire is positively charged </a:t>
            </a:r>
            <a:r>
              <a:rPr b="0" lang="en-US" sz="18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bends electron paths so they overlap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A position-sensitive detector records where they appea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&lt;&lt; 1 electron in system at any 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" descr="Fig1: Double-slit experiment with single electron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68720" y="927000"/>
            <a:ext cx="4294080" cy="32274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4521240" y="4600440"/>
            <a:ext cx="4249800" cy="19400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" descr="Fig2: Single electron events build up to from an interference pattern in the double-slit experiments.">
            <a:hlinkClick r:id="rId3"/>
          </p:cNvPr>
          <p:cNvPicPr/>
          <p:nvPr/>
        </p:nvPicPr>
        <p:blipFill>
          <a:blip r:embed="rId4"/>
          <a:srcRect l="0" t="0" r="0" b="51603"/>
          <a:stretch/>
        </p:blipFill>
        <p:spPr>
          <a:xfrm>
            <a:off x="1744560" y="4781520"/>
            <a:ext cx="2826000" cy="111456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260280" y="6041880"/>
            <a:ext cx="45720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Exposure time:   1 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      10 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" descr="Fig2: Single electron events build up to from an interference pattern in the double-slit experiments.">
            <a:hlinkClick r:id="rId5"/>
          </p:cNvPr>
          <p:cNvPicPr/>
          <p:nvPr/>
        </p:nvPicPr>
        <p:blipFill>
          <a:blip r:embed="rId6"/>
          <a:srcRect l="0" t="51603" r="0" b="0"/>
          <a:stretch/>
        </p:blipFill>
        <p:spPr>
          <a:xfrm>
            <a:off x="4656240" y="4792680"/>
            <a:ext cx="3136680" cy="111456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4703760" y="6041880"/>
            <a:ext cx="2989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1000"/>
          </a:bodyPr>
          <a:p>
            <a:pPr marL="231480" indent="-231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5 min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20 m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694160" y="4335480"/>
            <a:ext cx="47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99ff"/>
                </a:solidFill>
                <a:uFillTx/>
                <a:latin typeface="Arial"/>
                <a:hlinkClick r:id="rId7"/>
              </a:rPr>
              <a:t>Video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by A. TONOMURA (Hitachi) --pioneered electron holography.</a:t>
            </a:r>
            <a:br>
              <a:rPr sz="12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www.hqrd.hitachi.co.jp/rd/moviee/doubleslite.wmv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800360" y="6535800"/>
            <a:ext cx="60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also this Java simulation: </a:t>
            </a:r>
            <a:r>
              <a:rPr b="0" lang="en-US" sz="1200" spc="-1" strike="noStrike" u="sng">
                <a:solidFill>
                  <a:srgbClr val="ff99ff"/>
                </a:solidFill>
                <a:uFillTx/>
                <a:latin typeface="Arial"/>
                <a:hlinkClick r:id="rId8"/>
              </a:rPr>
              <a:t>http://www.quantum-physics.polytechnique.fr/index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425880" y="1701720"/>
            <a:ext cx="396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Real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standing waves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of electr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density in a “quantum corral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2496960" y="2384280"/>
            <a:ext cx="4229280" cy="403092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3360600" y="2158920"/>
            <a:ext cx="1230480" cy="15778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182600" y="4846680"/>
            <a:ext cx="1086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IB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Almad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5829120" y="5153040"/>
            <a:ext cx="1198440" cy="51912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102440" y="5460840"/>
            <a:ext cx="137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Single atoms (F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167600" y="4002120"/>
            <a:ext cx="47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C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6518160" y="4230720"/>
            <a:ext cx="627120" cy="86688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-157320" y="0"/>
            <a:ext cx="9512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  <a:ea typeface="Arial"/>
              </a:rPr>
              <a:t>Observation of an electron wave “in a box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93720" y="606600"/>
            <a:ext cx="7755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Image taken with a scanning tunneling microscope (more lat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ff"/>
                </a:solidFill>
                <a:latin typeface="Comic Sans MS"/>
              </a:rPr>
              <a:t>(Note: the color is not real! – it is a representation of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ff"/>
                </a:solidFill>
                <a:latin typeface="Comic Sans MS"/>
              </a:rPr>
              <a:t>electrical current observed in the experiment)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298440" y="63360"/>
            <a:ext cx="861048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pplication of Matter Waves:</a:t>
            </a:r>
            <a:br>
              <a:rPr sz="3600"/>
            </a:b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Electron Microsco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71360" y="1311120"/>
            <a:ext cx="798984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ability to resolve tiny objects improves as the wavelength decreases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the microscop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70000" y="4879800"/>
            <a:ext cx="7789680" cy="16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objective lens of a good optical microscope has f/D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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2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with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~ 500 nm the microscope has a resolution of d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~ 1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e can do much better with matter waves because electrons with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nergies of a few keV have wavelengths much less than 1 n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instrument is known as an “electron microscope”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6319800" y="3911760"/>
                <a:ext cx="20224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fα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λ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7" name=""/>
          <p:cNvSpPr/>
          <p:nvPr/>
        </p:nvSpPr>
        <p:spPr>
          <a:xfrm>
            <a:off x="344520" y="3798720"/>
            <a:ext cx="146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ayleigh’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riter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417840" y="3735360"/>
            <a:ext cx="30052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minimum d for which we can still resolve two objects is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times the focal length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1714680" y="3852720"/>
                <a:ext cx="11635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00" name=""/>
          <p:cNvGrpSpPr/>
          <p:nvPr/>
        </p:nvGrpSpPr>
        <p:grpSpPr>
          <a:xfrm>
            <a:off x="206280" y="1946160"/>
            <a:ext cx="8858520" cy="1622520"/>
            <a:chOff x="206280" y="1946160"/>
            <a:chExt cx="8858520" cy="1622520"/>
          </a:xfrm>
        </p:grpSpPr>
        <p:sp>
          <p:nvSpPr>
            <p:cNvPr id="301" name=""/>
            <p:cNvSpPr/>
            <p:nvPr/>
          </p:nvSpPr>
          <p:spPr>
            <a:xfrm>
              <a:off x="206280" y="2000160"/>
              <a:ext cx="1081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Objects to be resolved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631280" y="2476440"/>
              <a:ext cx="1433520" cy="7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iffraction disk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not interference maxima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251840" y="2550600"/>
              <a:ext cx="559800" cy="433800"/>
              <a:chOff x="7251840" y="2550600"/>
              <a:chExt cx="559800" cy="433800"/>
            </a:xfrm>
          </p:grpSpPr>
          <p:sp>
            <p:nvSpPr>
              <p:cNvPr id="304" name=""/>
              <p:cNvSpPr/>
              <p:nvPr/>
            </p:nvSpPr>
            <p:spPr>
              <a:xfrm flipH="1" flipV="1">
                <a:off x="7251840" y="2550600"/>
                <a:ext cx="541440" cy="21132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>
                <a:off x="7270560" y="2773440"/>
                <a:ext cx="541080" cy="21096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6751800" y="1946160"/>
              <a:ext cx="350640" cy="1566360"/>
              <a:chOff x="6751800" y="1946160"/>
              <a:chExt cx="350640" cy="1566360"/>
            </a:xfrm>
          </p:grpSpPr>
          <p:sp>
            <p:nvSpPr>
              <p:cNvPr id="307" name=""/>
              <p:cNvSpPr/>
              <p:nvPr/>
            </p:nvSpPr>
            <p:spPr>
              <a:xfrm rot="16200000">
                <a:off x="6414120" y="2286720"/>
                <a:ext cx="1028880" cy="347760"/>
              </a:xfrm>
              <a:custGeom>
                <a:avLst/>
                <a:gdLst/>
                <a:ahLst/>
                <a:rect l="l" t="t" r="r" b="b"/>
                <a:pathLst>
                  <a:path w="1004" h="691">
                    <a:moveTo>
                      <a:pt x="0" y="691"/>
                    </a:move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5" y="662"/>
                    </a:lnTo>
                    <a:lnTo>
                      <a:pt x="5" y="658"/>
                    </a:lnTo>
                    <a:lnTo>
                      <a:pt x="15" y="658"/>
                    </a:lnTo>
                    <a:lnTo>
                      <a:pt x="20" y="658"/>
                    </a:lnTo>
                    <a:lnTo>
                      <a:pt x="24" y="658"/>
                    </a:lnTo>
                    <a:lnTo>
                      <a:pt x="29" y="658"/>
                    </a:lnTo>
                    <a:lnTo>
                      <a:pt x="39" y="658"/>
                    </a:lnTo>
                    <a:lnTo>
                      <a:pt x="44" y="658"/>
                    </a:lnTo>
                    <a:lnTo>
                      <a:pt x="53" y="653"/>
                    </a:lnTo>
                    <a:lnTo>
                      <a:pt x="63" y="653"/>
                    </a:lnTo>
                    <a:lnTo>
                      <a:pt x="68" y="653"/>
                    </a:lnTo>
                    <a:lnTo>
                      <a:pt x="77" y="648"/>
                    </a:lnTo>
                    <a:lnTo>
                      <a:pt x="82" y="648"/>
                    </a:lnTo>
                    <a:lnTo>
                      <a:pt x="92" y="648"/>
                    </a:lnTo>
                    <a:lnTo>
                      <a:pt x="96" y="643"/>
                    </a:lnTo>
                    <a:lnTo>
                      <a:pt x="106" y="643"/>
                    </a:lnTo>
                    <a:lnTo>
                      <a:pt x="116" y="643"/>
                    </a:lnTo>
                    <a:lnTo>
                      <a:pt x="120" y="638"/>
                    </a:lnTo>
                    <a:lnTo>
                      <a:pt x="130" y="638"/>
                    </a:lnTo>
                    <a:lnTo>
                      <a:pt x="135" y="638"/>
                    </a:lnTo>
                    <a:lnTo>
                      <a:pt x="144" y="638"/>
                    </a:lnTo>
                    <a:lnTo>
                      <a:pt x="149" y="638"/>
                    </a:lnTo>
                    <a:lnTo>
                      <a:pt x="159" y="638"/>
                    </a:lnTo>
                    <a:lnTo>
                      <a:pt x="168" y="638"/>
                    </a:lnTo>
                    <a:lnTo>
                      <a:pt x="173" y="638"/>
                    </a:lnTo>
                    <a:lnTo>
                      <a:pt x="183" y="638"/>
                    </a:lnTo>
                    <a:lnTo>
                      <a:pt x="188" y="638"/>
                    </a:lnTo>
                    <a:lnTo>
                      <a:pt x="197" y="643"/>
                    </a:lnTo>
                    <a:lnTo>
                      <a:pt x="207" y="643"/>
                    </a:lnTo>
                    <a:lnTo>
                      <a:pt x="212" y="643"/>
                    </a:lnTo>
                    <a:lnTo>
                      <a:pt x="221" y="648"/>
                    </a:lnTo>
                    <a:lnTo>
                      <a:pt x="226" y="648"/>
                    </a:lnTo>
                    <a:lnTo>
                      <a:pt x="236" y="648"/>
                    </a:lnTo>
                    <a:lnTo>
                      <a:pt x="240" y="648"/>
                    </a:lnTo>
                    <a:lnTo>
                      <a:pt x="250" y="648"/>
                    </a:lnTo>
                    <a:lnTo>
                      <a:pt x="260" y="648"/>
                    </a:lnTo>
                    <a:lnTo>
                      <a:pt x="264" y="643"/>
                    </a:lnTo>
                    <a:lnTo>
                      <a:pt x="274" y="638"/>
                    </a:lnTo>
                    <a:lnTo>
                      <a:pt x="279" y="634"/>
                    </a:lnTo>
                    <a:lnTo>
                      <a:pt x="288" y="624"/>
                    </a:lnTo>
                    <a:lnTo>
                      <a:pt x="293" y="614"/>
                    </a:lnTo>
                    <a:lnTo>
                      <a:pt x="303" y="600"/>
                    </a:lnTo>
                    <a:lnTo>
                      <a:pt x="312" y="586"/>
                    </a:lnTo>
                    <a:lnTo>
                      <a:pt x="317" y="571"/>
                    </a:lnTo>
                    <a:lnTo>
                      <a:pt x="327" y="552"/>
                    </a:lnTo>
                    <a:lnTo>
                      <a:pt x="332" y="533"/>
                    </a:lnTo>
                    <a:lnTo>
                      <a:pt x="341" y="509"/>
                    </a:lnTo>
                    <a:lnTo>
                      <a:pt x="346" y="485"/>
                    </a:lnTo>
                    <a:lnTo>
                      <a:pt x="356" y="456"/>
                    </a:lnTo>
                    <a:lnTo>
                      <a:pt x="365" y="427"/>
                    </a:lnTo>
                    <a:lnTo>
                      <a:pt x="370" y="399"/>
                    </a:lnTo>
                    <a:lnTo>
                      <a:pt x="380" y="365"/>
                    </a:lnTo>
                    <a:lnTo>
                      <a:pt x="384" y="331"/>
                    </a:lnTo>
                    <a:lnTo>
                      <a:pt x="394" y="303"/>
                    </a:lnTo>
                    <a:lnTo>
                      <a:pt x="404" y="269"/>
                    </a:lnTo>
                    <a:lnTo>
                      <a:pt x="408" y="235"/>
                    </a:lnTo>
                    <a:lnTo>
                      <a:pt x="418" y="202"/>
                    </a:lnTo>
                    <a:lnTo>
                      <a:pt x="423" y="173"/>
                    </a:lnTo>
                    <a:lnTo>
                      <a:pt x="432" y="144"/>
                    </a:lnTo>
                    <a:lnTo>
                      <a:pt x="437" y="116"/>
                    </a:lnTo>
                    <a:lnTo>
                      <a:pt x="447" y="92"/>
                    </a:lnTo>
                    <a:lnTo>
                      <a:pt x="456" y="68"/>
                    </a:lnTo>
                    <a:lnTo>
                      <a:pt x="461" y="48"/>
                    </a:lnTo>
                    <a:lnTo>
                      <a:pt x="471" y="29"/>
                    </a:lnTo>
                    <a:lnTo>
                      <a:pt x="476" y="20"/>
                    </a:lnTo>
                    <a:lnTo>
                      <a:pt x="485" y="10"/>
                    </a:lnTo>
                    <a:lnTo>
                      <a:pt x="490" y="0"/>
                    </a:lnTo>
                    <a:lnTo>
                      <a:pt x="500" y="0"/>
                    </a:lnTo>
                    <a:lnTo>
                      <a:pt x="509" y="0"/>
                    </a:lnTo>
                    <a:lnTo>
                      <a:pt x="514" y="10"/>
                    </a:lnTo>
                    <a:lnTo>
                      <a:pt x="524" y="20"/>
                    </a:lnTo>
                    <a:lnTo>
                      <a:pt x="528" y="29"/>
                    </a:lnTo>
                    <a:lnTo>
                      <a:pt x="538" y="48"/>
                    </a:lnTo>
                    <a:lnTo>
                      <a:pt x="543" y="68"/>
                    </a:lnTo>
                    <a:lnTo>
                      <a:pt x="552" y="92"/>
                    </a:lnTo>
                    <a:lnTo>
                      <a:pt x="562" y="116"/>
                    </a:lnTo>
                    <a:lnTo>
                      <a:pt x="567" y="144"/>
                    </a:lnTo>
                    <a:lnTo>
                      <a:pt x="576" y="173"/>
                    </a:lnTo>
                    <a:lnTo>
                      <a:pt x="581" y="202"/>
                    </a:lnTo>
                    <a:lnTo>
                      <a:pt x="591" y="235"/>
                    </a:lnTo>
                    <a:lnTo>
                      <a:pt x="596" y="269"/>
                    </a:lnTo>
                    <a:lnTo>
                      <a:pt x="605" y="303"/>
                    </a:lnTo>
                    <a:lnTo>
                      <a:pt x="615" y="331"/>
                    </a:lnTo>
                    <a:lnTo>
                      <a:pt x="620" y="365"/>
                    </a:lnTo>
                    <a:lnTo>
                      <a:pt x="629" y="399"/>
                    </a:lnTo>
                    <a:lnTo>
                      <a:pt x="634" y="427"/>
                    </a:lnTo>
                    <a:lnTo>
                      <a:pt x="644" y="456"/>
                    </a:lnTo>
                    <a:lnTo>
                      <a:pt x="653" y="485"/>
                    </a:lnTo>
                    <a:lnTo>
                      <a:pt x="658" y="509"/>
                    </a:lnTo>
                    <a:lnTo>
                      <a:pt x="668" y="533"/>
                    </a:lnTo>
                    <a:lnTo>
                      <a:pt x="672" y="552"/>
                    </a:lnTo>
                    <a:lnTo>
                      <a:pt x="682" y="571"/>
                    </a:lnTo>
                    <a:lnTo>
                      <a:pt x="687" y="586"/>
                    </a:lnTo>
                    <a:lnTo>
                      <a:pt x="696" y="600"/>
                    </a:lnTo>
                    <a:lnTo>
                      <a:pt x="706" y="614"/>
                    </a:lnTo>
                    <a:lnTo>
                      <a:pt x="711" y="624"/>
                    </a:lnTo>
                    <a:lnTo>
                      <a:pt x="720" y="634"/>
                    </a:lnTo>
                    <a:lnTo>
                      <a:pt x="725" y="638"/>
                    </a:lnTo>
                    <a:lnTo>
                      <a:pt x="735" y="643"/>
                    </a:lnTo>
                    <a:lnTo>
                      <a:pt x="740" y="648"/>
                    </a:lnTo>
                    <a:lnTo>
                      <a:pt x="749" y="648"/>
                    </a:lnTo>
                    <a:lnTo>
                      <a:pt x="759" y="648"/>
                    </a:lnTo>
                    <a:lnTo>
                      <a:pt x="764" y="648"/>
                    </a:lnTo>
                    <a:lnTo>
                      <a:pt x="773" y="648"/>
                    </a:lnTo>
                    <a:lnTo>
                      <a:pt x="778" y="648"/>
                    </a:lnTo>
                    <a:lnTo>
                      <a:pt x="788" y="643"/>
                    </a:lnTo>
                    <a:lnTo>
                      <a:pt x="792" y="643"/>
                    </a:lnTo>
                    <a:lnTo>
                      <a:pt x="802" y="643"/>
                    </a:lnTo>
                    <a:lnTo>
                      <a:pt x="812" y="638"/>
                    </a:lnTo>
                    <a:lnTo>
                      <a:pt x="816" y="638"/>
                    </a:lnTo>
                    <a:lnTo>
                      <a:pt x="826" y="638"/>
                    </a:lnTo>
                    <a:lnTo>
                      <a:pt x="831" y="638"/>
                    </a:lnTo>
                    <a:lnTo>
                      <a:pt x="840" y="638"/>
                    </a:lnTo>
                    <a:lnTo>
                      <a:pt x="850" y="638"/>
                    </a:lnTo>
                    <a:lnTo>
                      <a:pt x="855" y="638"/>
                    </a:lnTo>
                    <a:lnTo>
                      <a:pt x="864" y="638"/>
                    </a:lnTo>
                    <a:lnTo>
                      <a:pt x="869" y="638"/>
                    </a:lnTo>
                    <a:lnTo>
                      <a:pt x="879" y="638"/>
                    </a:lnTo>
                    <a:lnTo>
                      <a:pt x="884" y="643"/>
                    </a:lnTo>
                    <a:lnTo>
                      <a:pt x="893" y="643"/>
                    </a:lnTo>
                    <a:lnTo>
                      <a:pt x="903" y="643"/>
                    </a:lnTo>
                    <a:lnTo>
                      <a:pt x="908" y="648"/>
                    </a:lnTo>
                    <a:lnTo>
                      <a:pt x="917" y="648"/>
                    </a:lnTo>
                    <a:lnTo>
                      <a:pt x="922" y="648"/>
                    </a:lnTo>
                    <a:lnTo>
                      <a:pt x="932" y="653"/>
                    </a:lnTo>
                    <a:lnTo>
                      <a:pt x="936" y="653"/>
                    </a:lnTo>
                    <a:lnTo>
                      <a:pt x="946" y="653"/>
                    </a:lnTo>
                    <a:lnTo>
                      <a:pt x="956" y="658"/>
                    </a:lnTo>
                    <a:lnTo>
                      <a:pt x="960" y="658"/>
                    </a:lnTo>
                    <a:lnTo>
                      <a:pt x="970" y="658"/>
                    </a:lnTo>
                    <a:lnTo>
                      <a:pt x="975" y="658"/>
                    </a:lnTo>
                    <a:lnTo>
                      <a:pt x="984" y="658"/>
                    </a:lnTo>
                    <a:lnTo>
                      <a:pt x="989" y="658"/>
                    </a:lnTo>
                    <a:lnTo>
                      <a:pt x="999" y="658"/>
                    </a:lnTo>
                    <a:lnTo>
                      <a:pt x="1004" y="658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</a:path>
                </a:pathLst>
              </a:custGeom>
              <a:noFill/>
              <a:ln w="792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16200000">
                <a:off x="6411240" y="2824560"/>
                <a:ext cx="1028520" cy="347400"/>
              </a:xfrm>
              <a:custGeom>
                <a:avLst/>
                <a:gdLst/>
                <a:ahLst/>
                <a:rect l="l" t="t" r="r" b="b"/>
                <a:pathLst>
                  <a:path w="1004" h="691">
                    <a:moveTo>
                      <a:pt x="0" y="691"/>
                    </a:move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5" y="662"/>
                    </a:lnTo>
                    <a:lnTo>
                      <a:pt x="5" y="658"/>
                    </a:lnTo>
                    <a:lnTo>
                      <a:pt x="15" y="658"/>
                    </a:lnTo>
                    <a:lnTo>
                      <a:pt x="20" y="658"/>
                    </a:lnTo>
                    <a:lnTo>
                      <a:pt x="24" y="658"/>
                    </a:lnTo>
                    <a:lnTo>
                      <a:pt x="29" y="658"/>
                    </a:lnTo>
                    <a:lnTo>
                      <a:pt x="39" y="658"/>
                    </a:lnTo>
                    <a:lnTo>
                      <a:pt x="44" y="658"/>
                    </a:lnTo>
                    <a:lnTo>
                      <a:pt x="53" y="653"/>
                    </a:lnTo>
                    <a:lnTo>
                      <a:pt x="63" y="653"/>
                    </a:lnTo>
                    <a:lnTo>
                      <a:pt x="68" y="653"/>
                    </a:lnTo>
                    <a:lnTo>
                      <a:pt x="77" y="648"/>
                    </a:lnTo>
                    <a:lnTo>
                      <a:pt x="82" y="648"/>
                    </a:lnTo>
                    <a:lnTo>
                      <a:pt x="92" y="648"/>
                    </a:lnTo>
                    <a:lnTo>
                      <a:pt x="96" y="643"/>
                    </a:lnTo>
                    <a:lnTo>
                      <a:pt x="106" y="643"/>
                    </a:lnTo>
                    <a:lnTo>
                      <a:pt x="116" y="643"/>
                    </a:lnTo>
                    <a:lnTo>
                      <a:pt x="120" y="638"/>
                    </a:lnTo>
                    <a:lnTo>
                      <a:pt x="130" y="638"/>
                    </a:lnTo>
                    <a:lnTo>
                      <a:pt x="135" y="638"/>
                    </a:lnTo>
                    <a:lnTo>
                      <a:pt x="144" y="638"/>
                    </a:lnTo>
                    <a:lnTo>
                      <a:pt x="149" y="638"/>
                    </a:lnTo>
                    <a:lnTo>
                      <a:pt x="159" y="638"/>
                    </a:lnTo>
                    <a:lnTo>
                      <a:pt x="168" y="638"/>
                    </a:lnTo>
                    <a:lnTo>
                      <a:pt x="173" y="638"/>
                    </a:lnTo>
                    <a:lnTo>
                      <a:pt x="183" y="638"/>
                    </a:lnTo>
                    <a:lnTo>
                      <a:pt x="188" y="638"/>
                    </a:lnTo>
                    <a:lnTo>
                      <a:pt x="197" y="643"/>
                    </a:lnTo>
                    <a:lnTo>
                      <a:pt x="207" y="643"/>
                    </a:lnTo>
                    <a:lnTo>
                      <a:pt x="212" y="643"/>
                    </a:lnTo>
                    <a:lnTo>
                      <a:pt x="221" y="648"/>
                    </a:lnTo>
                    <a:lnTo>
                      <a:pt x="226" y="648"/>
                    </a:lnTo>
                    <a:lnTo>
                      <a:pt x="236" y="648"/>
                    </a:lnTo>
                    <a:lnTo>
                      <a:pt x="240" y="648"/>
                    </a:lnTo>
                    <a:lnTo>
                      <a:pt x="250" y="648"/>
                    </a:lnTo>
                    <a:lnTo>
                      <a:pt x="260" y="648"/>
                    </a:lnTo>
                    <a:lnTo>
                      <a:pt x="264" y="643"/>
                    </a:lnTo>
                    <a:lnTo>
                      <a:pt x="274" y="638"/>
                    </a:lnTo>
                    <a:lnTo>
                      <a:pt x="279" y="634"/>
                    </a:lnTo>
                    <a:lnTo>
                      <a:pt x="288" y="624"/>
                    </a:lnTo>
                    <a:lnTo>
                      <a:pt x="293" y="614"/>
                    </a:lnTo>
                    <a:lnTo>
                      <a:pt x="303" y="600"/>
                    </a:lnTo>
                    <a:lnTo>
                      <a:pt x="312" y="586"/>
                    </a:lnTo>
                    <a:lnTo>
                      <a:pt x="317" y="571"/>
                    </a:lnTo>
                    <a:lnTo>
                      <a:pt x="327" y="552"/>
                    </a:lnTo>
                    <a:lnTo>
                      <a:pt x="332" y="533"/>
                    </a:lnTo>
                    <a:lnTo>
                      <a:pt x="341" y="509"/>
                    </a:lnTo>
                    <a:lnTo>
                      <a:pt x="346" y="485"/>
                    </a:lnTo>
                    <a:lnTo>
                      <a:pt x="356" y="456"/>
                    </a:lnTo>
                    <a:lnTo>
                      <a:pt x="365" y="427"/>
                    </a:lnTo>
                    <a:lnTo>
                      <a:pt x="370" y="399"/>
                    </a:lnTo>
                    <a:lnTo>
                      <a:pt x="380" y="365"/>
                    </a:lnTo>
                    <a:lnTo>
                      <a:pt x="384" y="331"/>
                    </a:lnTo>
                    <a:lnTo>
                      <a:pt x="394" y="303"/>
                    </a:lnTo>
                    <a:lnTo>
                      <a:pt x="404" y="269"/>
                    </a:lnTo>
                    <a:lnTo>
                      <a:pt x="408" y="235"/>
                    </a:lnTo>
                    <a:lnTo>
                      <a:pt x="418" y="202"/>
                    </a:lnTo>
                    <a:lnTo>
                      <a:pt x="423" y="173"/>
                    </a:lnTo>
                    <a:lnTo>
                      <a:pt x="432" y="144"/>
                    </a:lnTo>
                    <a:lnTo>
                      <a:pt x="437" y="116"/>
                    </a:lnTo>
                    <a:lnTo>
                      <a:pt x="447" y="92"/>
                    </a:lnTo>
                    <a:lnTo>
                      <a:pt x="456" y="68"/>
                    </a:lnTo>
                    <a:lnTo>
                      <a:pt x="461" y="48"/>
                    </a:lnTo>
                    <a:lnTo>
                      <a:pt x="471" y="29"/>
                    </a:lnTo>
                    <a:lnTo>
                      <a:pt x="476" y="20"/>
                    </a:lnTo>
                    <a:lnTo>
                      <a:pt x="485" y="10"/>
                    </a:lnTo>
                    <a:lnTo>
                      <a:pt x="490" y="0"/>
                    </a:lnTo>
                    <a:lnTo>
                      <a:pt x="500" y="0"/>
                    </a:lnTo>
                    <a:lnTo>
                      <a:pt x="509" y="0"/>
                    </a:lnTo>
                    <a:lnTo>
                      <a:pt x="514" y="10"/>
                    </a:lnTo>
                    <a:lnTo>
                      <a:pt x="524" y="20"/>
                    </a:lnTo>
                    <a:lnTo>
                      <a:pt x="528" y="29"/>
                    </a:lnTo>
                    <a:lnTo>
                      <a:pt x="538" y="48"/>
                    </a:lnTo>
                    <a:lnTo>
                      <a:pt x="543" y="68"/>
                    </a:lnTo>
                    <a:lnTo>
                      <a:pt x="552" y="92"/>
                    </a:lnTo>
                    <a:lnTo>
                      <a:pt x="562" y="116"/>
                    </a:lnTo>
                    <a:lnTo>
                      <a:pt x="567" y="144"/>
                    </a:lnTo>
                    <a:lnTo>
                      <a:pt x="576" y="173"/>
                    </a:lnTo>
                    <a:lnTo>
                      <a:pt x="581" y="202"/>
                    </a:lnTo>
                    <a:lnTo>
                      <a:pt x="591" y="235"/>
                    </a:lnTo>
                    <a:lnTo>
                      <a:pt x="596" y="269"/>
                    </a:lnTo>
                    <a:lnTo>
                      <a:pt x="605" y="303"/>
                    </a:lnTo>
                    <a:lnTo>
                      <a:pt x="615" y="331"/>
                    </a:lnTo>
                    <a:lnTo>
                      <a:pt x="620" y="365"/>
                    </a:lnTo>
                    <a:lnTo>
                      <a:pt x="629" y="399"/>
                    </a:lnTo>
                    <a:lnTo>
                      <a:pt x="634" y="427"/>
                    </a:lnTo>
                    <a:lnTo>
                      <a:pt x="644" y="456"/>
                    </a:lnTo>
                    <a:lnTo>
                      <a:pt x="653" y="485"/>
                    </a:lnTo>
                    <a:lnTo>
                      <a:pt x="658" y="509"/>
                    </a:lnTo>
                    <a:lnTo>
                      <a:pt x="668" y="533"/>
                    </a:lnTo>
                    <a:lnTo>
                      <a:pt x="672" y="552"/>
                    </a:lnTo>
                    <a:lnTo>
                      <a:pt x="682" y="571"/>
                    </a:lnTo>
                    <a:lnTo>
                      <a:pt x="687" y="586"/>
                    </a:lnTo>
                    <a:lnTo>
                      <a:pt x="696" y="600"/>
                    </a:lnTo>
                    <a:lnTo>
                      <a:pt x="706" y="614"/>
                    </a:lnTo>
                    <a:lnTo>
                      <a:pt x="711" y="624"/>
                    </a:lnTo>
                    <a:lnTo>
                      <a:pt x="720" y="634"/>
                    </a:lnTo>
                    <a:lnTo>
                      <a:pt x="725" y="638"/>
                    </a:lnTo>
                    <a:lnTo>
                      <a:pt x="735" y="643"/>
                    </a:lnTo>
                    <a:lnTo>
                      <a:pt x="740" y="648"/>
                    </a:lnTo>
                    <a:lnTo>
                      <a:pt x="749" y="648"/>
                    </a:lnTo>
                    <a:lnTo>
                      <a:pt x="759" y="648"/>
                    </a:lnTo>
                    <a:lnTo>
                      <a:pt x="764" y="648"/>
                    </a:lnTo>
                    <a:lnTo>
                      <a:pt x="773" y="648"/>
                    </a:lnTo>
                    <a:lnTo>
                      <a:pt x="778" y="648"/>
                    </a:lnTo>
                    <a:lnTo>
                      <a:pt x="788" y="643"/>
                    </a:lnTo>
                    <a:lnTo>
                      <a:pt x="792" y="643"/>
                    </a:lnTo>
                    <a:lnTo>
                      <a:pt x="802" y="643"/>
                    </a:lnTo>
                    <a:lnTo>
                      <a:pt x="812" y="638"/>
                    </a:lnTo>
                    <a:lnTo>
                      <a:pt x="816" y="638"/>
                    </a:lnTo>
                    <a:lnTo>
                      <a:pt x="826" y="638"/>
                    </a:lnTo>
                    <a:lnTo>
                      <a:pt x="831" y="638"/>
                    </a:lnTo>
                    <a:lnTo>
                      <a:pt x="840" y="638"/>
                    </a:lnTo>
                    <a:lnTo>
                      <a:pt x="850" y="638"/>
                    </a:lnTo>
                    <a:lnTo>
                      <a:pt x="855" y="638"/>
                    </a:lnTo>
                    <a:lnTo>
                      <a:pt x="864" y="638"/>
                    </a:lnTo>
                    <a:lnTo>
                      <a:pt x="869" y="638"/>
                    </a:lnTo>
                    <a:lnTo>
                      <a:pt x="879" y="638"/>
                    </a:lnTo>
                    <a:lnTo>
                      <a:pt x="884" y="643"/>
                    </a:lnTo>
                    <a:lnTo>
                      <a:pt x="893" y="643"/>
                    </a:lnTo>
                    <a:lnTo>
                      <a:pt x="903" y="643"/>
                    </a:lnTo>
                    <a:lnTo>
                      <a:pt x="908" y="648"/>
                    </a:lnTo>
                    <a:lnTo>
                      <a:pt x="917" y="648"/>
                    </a:lnTo>
                    <a:lnTo>
                      <a:pt x="922" y="648"/>
                    </a:lnTo>
                    <a:lnTo>
                      <a:pt x="932" y="653"/>
                    </a:lnTo>
                    <a:lnTo>
                      <a:pt x="936" y="653"/>
                    </a:lnTo>
                    <a:lnTo>
                      <a:pt x="946" y="653"/>
                    </a:lnTo>
                    <a:lnTo>
                      <a:pt x="956" y="658"/>
                    </a:lnTo>
                    <a:lnTo>
                      <a:pt x="960" y="658"/>
                    </a:lnTo>
                    <a:lnTo>
                      <a:pt x="970" y="658"/>
                    </a:lnTo>
                    <a:lnTo>
                      <a:pt x="975" y="658"/>
                    </a:lnTo>
                    <a:lnTo>
                      <a:pt x="984" y="658"/>
                    </a:lnTo>
                    <a:lnTo>
                      <a:pt x="989" y="658"/>
                    </a:lnTo>
                    <a:lnTo>
                      <a:pt x="999" y="658"/>
                    </a:lnTo>
                    <a:lnTo>
                      <a:pt x="1004" y="658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</a:path>
                </a:pathLst>
              </a:custGeom>
              <a:noFill/>
              <a:ln w="792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1219320" y="2001600"/>
              <a:ext cx="5819400" cy="1440000"/>
              <a:chOff x="1219320" y="2001600"/>
              <a:chExt cx="5819400" cy="1440000"/>
            </a:xfrm>
          </p:grpSpPr>
          <p:sp>
            <p:nvSpPr>
              <p:cNvPr id="310" name=""/>
              <p:cNvSpPr/>
              <p:nvPr/>
            </p:nvSpPr>
            <p:spPr>
              <a:xfrm>
                <a:off x="1368360" y="2028600"/>
                <a:ext cx="117720" cy="106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371600" y="2412720"/>
                <a:ext cx="117360" cy="106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12" name=""/>
              <p:cNvGrpSpPr/>
              <p:nvPr/>
            </p:nvGrpSpPr>
            <p:grpSpPr>
              <a:xfrm>
                <a:off x="1219320" y="2001600"/>
                <a:ext cx="5819400" cy="1440000"/>
                <a:chOff x="1219320" y="2001600"/>
                <a:chExt cx="5819400" cy="1440000"/>
              </a:xfrm>
            </p:grpSpPr>
            <p:sp>
              <p:nvSpPr>
                <p:cNvPr id="313" name=""/>
                <p:cNvSpPr/>
                <p:nvPr/>
              </p:nvSpPr>
              <p:spPr>
                <a:xfrm flipH="1">
                  <a:off x="3720600" y="2041560"/>
                  <a:ext cx="3268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fafd00"/>
                      </a:solidFill>
                      <a:latin typeface="Arial"/>
                    </a:rPr>
                    <a:t>D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flipH="1" flipV="1">
                  <a:off x="1450440" y="2472840"/>
                  <a:ext cx="5588280" cy="3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flipH="1" flipV="1">
                  <a:off x="1452600" y="2082600"/>
                  <a:ext cx="5578560" cy="9511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flipH="1">
                  <a:off x="3606840" y="2109600"/>
                  <a:ext cx="156960" cy="770040"/>
                </a:xfrm>
                <a:prstGeom prst="ellipse">
                  <a:avLst/>
                </a:prstGeom>
                <a:noFill/>
                <a:ln w="12600">
                  <a:solidFill>
                    <a:srgbClr val="94b3f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3684600" y="2114280"/>
                  <a:ext cx="9360" cy="7621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 flipH="1">
                  <a:off x="4674960" y="2371680"/>
                  <a:ext cx="3088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 flipH="1">
                  <a:off x="2422440" y="2187360"/>
                  <a:ext cx="3088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1434960" y="2001600"/>
                  <a:ext cx="0" cy="1440000"/>
                </a:xfrm>
                <a:prstGeom prst="line">
                  <a:avLst/>
                </a:prstGeom>
                <a:ln w="12600">
                  <a:solidFill>
                    <a:srgbClr val="94b3fe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 flipH="1">
                  <a:off x="1219320" y="2104920"/>
                  <a:ext cx="36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e7f210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1293840" y="2044440"/>
                  <a:ext cx="0" cy="47628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3" name=""/>
            <p:cNvGrpSpPr/>
            <p:nvPr/>
          </p:nvGrpSpPr>
          <p:grpSpPr>
            <a:xfrm>
              <a:off x="1446120" y="2813040"/>
              <a:ext cx="2205000" cy="368280"/>
              <a:chOff x="1446120" y="2813040"/>
              <a:chExt cx="2205000" cy="368280"/>
            </a:xfrm>
          </p:grpSpPr>
          <p:sp>
            <p:nvSpPr>
              <p:cNvPr id="324" name=""/>
              <p:cNvSpPr/>
              <p:nvPr/>
            </p:nvSpPr>
            <p:spPr>
              <a:xfrm>
                <a:off x="2476440" y="2813040"/>
                <a:ext cx="312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00"/>
                    </a:solidFill>
                    <a:latin typeface="Arial"/>
                  </a:rPr>
                  <a:t>f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>
                <a:off x="1446120" y="3022560"/>
                <a:ext cx="1036800" cy="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2762280" y="3017880"/>
                <a:ext cx="888840" cy="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7" name=""/>
            <p:cNvSpPr/>
            <p:nvPr/>
          </p:nvSpPr>
          <p:spPr>
            <a:xfrm>
              <a:off x="1552680" y="3109680"/>
              <a:ext cx="2344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~ focal length of lens if image plane is at a large distance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5589720" y="471960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“f-number”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298440" y="22212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pplication of Matter Waves:  </a:t>
            </a:r>
            <a:br>
              <a:rPr sz="3600"/>
            </a:br>
            <a:r>
              <a:rPr b="0" lang="en-US" sz="2800" spc="-1" strike="noStrike">
                <a:solidFill>
                  <a:srgbClr val="fafd00"/>
                </a:solidFill>
                <a:latin typeface="Comic Sans MS"/>
              </a:rPr>
              <a:t>Electron Microsco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58800" y="1355760"/>
            <a:ext cx="7808760" cy="916920"/>
          </a:xfrm>
          <a:prstGeom prst="rect">
            <a:avLst/>
          </a:prstGeom>
          <a:noFill/>
          <a:ln w="12600">
            <a:solidFill>
              <a:srgbClr val="f344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ientists and engineers - such as those here at th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aterials Research Lab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nd th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eckman Institut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- use “electron microscopy” to study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anometer-scale structur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 materials and biological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137680" y="6424560"/>
            <a:ext cx="467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maging technology at Beckman: http://www.itg.uiuc.edu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2960" y="2847960"/>
            <a:ext cx="314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 eye of a f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642680" y="284652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-In allo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rcRect l="50634" t="13018" r="0" b="0"/>
          <a:stretch/>
        </p:blipFill>
        <p:spPr>
          <a:xfrm>
            <a:off x="216000" y="3294000"/>
            <a:ext cx="4168800" cy="285588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4640400" y="3297240"/>
            <a:ext cx="418932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990720" y="57240"/>
            <a:ext cx="7162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Imaging a Vir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7734240" y="925560"/>
            <a:ext cx="1409760" cy="2571840"/>
            <a:chOff x="7734240" y="925560"/>
            <a:chExt cx="1409760" cy="2571840"/>
          </a:xfrm>
        </p:grpSpPr>
        <p:sp>
          <p:nvSpPr>
            <p:cNvPr id="340" name=""/>
            <p:cNvSpPr/>
            <p:nvPr/>
          </p:nvSpPr>
          <p:spPr>
            <a:xfrm>
              <a:off x="7920000" y="3262320"/>
              <a:ext cx="6066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objec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1" name=""/>
            <p:cNvGrpSpPr/>
            <p:nvPr/>
          </p:nvGrpSpPr>
          <p:grpSpPr>
            <a:xfrm>
              <a:off x="7734240" y="925560"/>
              <a:ext cx="1409760" cy="2357280"/>
              <a:chOff x="7734240" y="925560"/>
              <a:chExt cx="1409760" cy="2357280"/>
            </a:xfrm>
          </p:grpSpPr>
          <p:grpSp>
            <p:nvGrpSpPr>
              <p:cNvPr id="342" name=""/>
              <p:cNvGrpSpPr/>
              <p:nvPr/>
            </p:nvGrpSpPr>
            <p:grpSpPr>
              <a:xfrm>
                <a:off x="8352000" y="1407960"/>
                <a:ext cx="792000" cy="588960"/>
                <a:chOff x="8352000" y="1407960"/>
                <a:chExt cx="792000" cy="58896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8352000" y="1407960"/>
                  <a:ext cx="792000" cy="58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Electron   optics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        </a:t>
                  </a:r>
                  <a:r>
                    <a:rPr b="0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D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flipH="1">
                  <a:off x="8445240" y="1857240"/>
                  <a:ext cx="245880" cy="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5" name=""/>
              <p:cNvSpPr/>
              <p:nvPr/>
            </p:nvSpPr>
            <p:spPr>
              <a:xfrm>
                <a:off x="7734240" y="2340000"/>
                <a:ext cx="37296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ffffff"/>
                    </a:solidFill>
                    <a:latin typeface="Arial"/>
                  </a:rPr>
                  <a:t>f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815240" y="925560"/>
                <a:ext cx="101448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electron gu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7" name=""/>
              <p:cNvGrpSpPr/>
              <p:nvPr/>
            </p:nvGrpSpPr>
            <p:grpSpPr>
              <a:xfrm>
                <a:off x="7989840" y="1139760"/>
                <a:ext cx="455760" cy="2143080"/>
                <a:chOff x="7989840" y="1139760"/>
                <a:chExt cx="455760" cy="214308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7989840" y="1793880"/>
                  <a:ext cx="455760" cy="128520"/>
                </a:xfrm>
                <a:prstGeom prst="ellipse">
                  <a:avLst/>
                </a:prstGeom>
                <a:noFill/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8153280" y="1139760"/>
                  <a:ext cx="128880" cy="374760"/>
                </a:xfrm>
                <a:prstGeom prst="rect">
                  <a:avLst/>
                </a:prstGeom>
                <a:noFill/>
                <a:ln w="9360">
                  <a:solidFill>
                    <a:srgbClr val="e7f21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 flipH="1">
                  <a:off x="8035560" y="1579680"/>
                  <a:ext cx="106200" cy="25704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8211960" y="1557360"/>
                  <a:ext cx="0" cy="26820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8282160" y="1579680"/>
                  <a:ext cx="117360" cy="24588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8223120" y="1890720"/>
                  <a:ext cx="0" cy="139212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8048520" y="1890720"/>
                  <a:ext cx="163440" cy="138096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 flipH="1">
                  <a:off x="8236080" y="1836720"/>
                  <a:ext cx="163440" cy="143496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8118360" y="3282840"/>
                  <a:ext cx="222480" cy="0"/>
                </a:xfrm>
                <a:prstGeom prst="line">
                  <a:avLst/>
                </a:prstGeom>
                <a:ln w="38160">
                  <a:solidFill>
                    <a:srgbClr val="e7f21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7" name=""/>
              <p:cNvSpPr/>
              <p:nvPr/>
            </p:nvSpPr>
            <p:spPr>
              <a:xfrm>
                <a:off x="7932600" y="1857240"/>
                <a:ext cx="0" cy="1425600"/>
              </a:xfrm>
              <a:prstGeom prst="line">
                <a:avLst/>
              </a:prstGeom>
              <a:ln w="9360">
                <a:solidFill>
                  <a:srgbClr val="e7f21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58" name=""/>
          <p:cNvSpPr/>
          <p:nvPr/>
        </p:nvSpPr>
        <p:spPr>
          <a:xfrm>
            <a:off x="111240" y="893880"/>
            <a:ext cx="748332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wish to observe a virus with a diameter of 20 nm, muc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o small to observe with an optical microscope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ate the voltage require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o produce an electron wavelength suitabl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studying this virus with a resolution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2 n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f-number” for an electron microscope is quite large: </a:t>
            </a:r>
            <a:r>
              <a:rPr b="0" i="1" lang="en-US" sz="2000" spc="-1" strike="noStrike">
                <a:solidFill>
                  <a:srgbClr val="e7f21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e7f21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7f21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 10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int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irst fi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quired to achieve d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n find E of an electron from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149400" y="222120"/>
            <a:ext cx="8845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Comic Sans MS"/>
              </a:rPr>
              <a:t>Interference of larger parti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-87480" y="825480"/>
            <a:ext cx="938088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3000"/>
          </a:bodyPr>
          <a:p>
            <a:pPr marL="180000" indent="-18000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Matter-wave interference has now been demonstrated with electrons, neutrons, atoms, small molecules, BIG molecules, &amp; biological molecu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80000" indent="-18000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Recent Example:  Interference of C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Comic Sans MS"/>
              </a:rPr>
              <a:t>60</a:t>
            </a: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, a.k.a. “fullerenes”, “buckyballs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193680" y="3429000"/>
            <a:ext cx="8620200" cy="3857760"/>
            <a:chOff x="193680" y="3429000"/>
            <a:chExt cx="8620200" cy="3857760"/>
          </a:xfrm>
        </p:grpSpPr>
        <p:pic>
          <p:nvPicPr>
            <p:cNvPr id="362" name="" descr=""/>
            <p:cNvPicPr/>
            <p:nvPr/>
          </p:nvPicPr>
          <p:blipFill>
            <a:blip r:embed="rId1"/>
            <a:stretch/>
          </p:blipFill>
          <p:spPr>
            <a:xfrm>
              <a:off x="6432480" y="3429000"/>
              <a:ext cx="2381400" cy="331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" descr=""/>
            <p:cNvPicPr/>
            <p:nvPr/>
          </p:nvPicPr>
          <p:blipFill>
            <a:blip r:embed="rId2"/>
            <a:srcRect l="0" t="0" r="0" b="11893"/>
            <a:stretch/>
          </p:blipFill>
          <p:spPr>
            <a:xfrm>
              <a:off x="193680" y="3692520"/>
              <a:ext cx="5614920" cy="26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360360" y="6427800"/>
              <a:ext cx="4667400" cy="85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285840" indent="-285840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[A. Zeilinger (U. Vienna), 1999]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Comic Sans MS"/>
                </a:rPr>
                <a:t>	</a:t>
              </a:r>
              <a:r>
                <a:rPr b="0" lang="en-US" sz="2000" spc="-1" strike="noStrike">
                  <a:solidFill>
                    <a:srgbClr val="fafd00"/>
                  </a:solidFill>
                  <a:latin typeface="Comic Sans MS"/>
                </a:rPr>
                <a:t>	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3757680" y="1862280"/>
            <a:ext cx="5124240" cy="6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Mass = (60 C)(12 g/mole) = 1.2 x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Comic Sans MS"/>
              </a:rPr>
              <a:t>-24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k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916360" y="2190600"/>
            <a:ext cx="6565680" cy="989280"/>
            <a:chOff x="2916360" y="2190600"/>
            <a:chExt cx="6565680" cy="989280"/>
          </a:xfrm>
        </p:grpSpPr>
        <p:graphicFrame>
          <p:nvGraphicFramePr>
            <p:cNvPr id="367" name=""/>
            <p:cNvGraphicFramePr/>
            <p:nvPr/>
          </p:nvGraphicFramePr>
          <p:xfrm>
            <a:off x="3801960" y="2190600"/>
            <a:ext cx="5070600" cy="638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6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01960" y="2190600"/>
                      <a:ext cx="5070600" cy="63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9" name=""/>
            <p:cNvSpPr/>
            <p:nvPr/>
          </p:nvSpPr>
          <p:spPr>
            <a:xfrm>
              <a:off x="2916360" y="2819520"/>
              <a:ext cx="65656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8000"/>
            </a:bodyPr>
            <a:p>
              <a:pPr marL="301680" indent="-301680"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</a:t>
              </a: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 </a:t>
              </a: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= h/p = 2.9 pm   (c.f. C</a:t>
              </a:r>
              <a:r>
                <a:rPr b="0" lang="en-US" sz="2000" spc="-1" strike="noStrike" baseline="-25000">
                  <a:solidFill>
                    <a:srgbClr val="ffff00"/>
                  </a:solidFill>
                  <a:latin typeface="Comic Sans MS"/>
                </a:rPr>
                <a:t>60</a:t>
              </a: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 is ~ 1 nm across!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70" name="" descr=""/>
          <p:cNvPicPr/>
          <p:nvPr/>
        </p:nvPicPr>
        <p:blipFill>
          <a:blip r:embed="rId5"/>
          <a:stretch/>
        </p:blipFill>
        <p:spPr>
          <a:xfrm>
            <a:off x="189000" y="1789200"/>
            <a:ext cx="3535200" cy="16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49400" y="222120"/>
            <a:ext cx="8845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Comic Sans MS"/>
              </a:rPr>
              <a:t>FYI: More on Interference of larger parti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0" y="825480"/>
            <a:ext cx="890748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Using a velocity selector, they could make the atoms more monochromatic </a:t>
            </a:r>
            <a:r>
              <a:rPr b="1" lang="en-US" sz="20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 improved interfere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4792680" y="1563840"/>
            <a:ext cx="3541680" cy="263988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749160" y="1531800"/>
            <a:ext cx="3440160" cy="276084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117360" y="4425840"/>
            <a:ext cx="890748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In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Comic Sans MS"/>
              </a:rPr>
              <a:t>2003</a:t>
            </a: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 interference was observed with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orphyrin, a bio. molecu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2327040" y="1919160"/>
            <a:ext cx="547560" cy="149400"/>
          </a:xfrm>
          <a:prstGeom prst="line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H="1" flipV="1">
            <a:off x="1895400" y="2505240"/>
            <a:ext cx="990720" cy="225360"/>
          </a:xfrm>
          <a:prstGeom prst="line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822400" y="1692360"/>
            <a:ext cx="172116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Origin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distrib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774880" y="2502000"/>
            <a:ext cx="172080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Narro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distrib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0" name="" descr="Tetraphenylporphyrin"/>
          <p:cNvPicPr/>
          <p:nvPr/>
        </p:nvPicPr>
        <p:blipFill>
          <a:blip r:embed="rId3"/>
          <a:stretch/>
        </p:blipFill>
        <p:spPr>
          <a:xfrm>
            <a:off x="420840" y="4927680"/>
            <a:ext cx="1828800" cy="164628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Interference fringes of Porphyrin"/>
          <p:cNvPicPr/>
          <p:nvPr/>
        </p:nvPicPr>
        <p:blipFill>
          <a:blip r:embed="rId4"/>
          <a:stretch/>
        </p:blipFill>
        <p:spPr>
          <a:xfrm>
            <a:off x="2349360" y="4819680"/>
            <a:ext cx="2986200" cy="208440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5762520" y="5256360"/>
            <a:ext cx="30639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106560" indent="-10656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Now they’re trying to do something like this with a  viru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1828800"/>
            <a:ext cx="68263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14000"/>
          </a:bodyPr>
          <a:p>
            <a:pPr marL="39960" indent="-39960">
              <a:lnSpc>
                <a:spcPct val="89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work function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9960" indent="-399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s the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minimu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energy needed to strip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n electron from the met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960" indent="-399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s defined a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ositiv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960" indent="-399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ot all electrons will leave with the maximum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kinetic energy (due to losse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837800" y="63360"/>
            <a:ext cx="54946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80880" y="990720"/>
          <a:ext cx="4724640" cy="71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90720"/>
                    <a:ext cx="472464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4" name=""/>
          <p:cNvGrpSpPr/>
          <p:nvPr/>
        </p:nvGrpSpPr>
        <p:grpSpPr>
          <a:xfrm>
            <a:off x="5791320" y="1981080"/>
            <a:ext cx="3105000" cy="2685240"/>
            <a:chOff x="5791320" y="1981080"/>
            <a:chExt cx="3105000" cy="2685240"/>
          </a:xfrm>
        </p:grpSpPr>
        <p:sp>
          <p:nvSpPr>
            <p:cNvPr id="155" name=""/>
            <p:cNvSpPr/>
            <p:nvPr/>
          </p:nvSpPr>
          <p:spPr>
            <a:xfrm>
              <a:off x="6938640" y="4329000"/>
              <a:ext cx="119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f (x10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Arial"/>
                </a:rPr>
                <a:t>14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Hz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16200000">
              <a:off x="5500440" y="2906640"/>
              <a:ext cx="987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stop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(v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57" name=""/>
            <p:cNvGraphicFramePr/>
            <p:nvPr/>
          </p:nvGraphicFramePr>
          <p:xfrm>
            <a:off x="6157800" y="1981080"/>
            <a:ext cx="2738520" cy="234324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5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57800" y="1981080"/>
                      <a:ext cx="2738520" cy="2343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9" name=""/>
            <p:cNvSpPr/>
            <p:nvPr/>
          </p:nvSpPr>
          <p:spPr>
            <a:xfrm flipH="1">
              <a:off x="7330680" y="2203560"/>
              <a:ext cx="1190520" cy="1728720"/>
            </a:xfrm>
            <a:prstGeom prst="line">
              <a:avLst/>
            </a:prstGeom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991560" y="3211560"/>
              <a:ext cx="336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ff"/>
                  </a:solidFill>
                  <a:latin typeface="Comic Sans MS"/>
                </a:rPr>
                <a:t>f</a:t>
              </a:r>
              <a:r>
                <a:rPr b="0" lang="en-US" sz="1800" spc="-1" strike="noStrike" baseline="-25000">
                  <a:solidFill>
                    <a:srgbClr val="3366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155000" y="3570120"/>
              <a:ext cx="161640" cy="319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6095880" y="718200"/>
            <a:ext cx="2782800" cy="1091520"/>
            <a:chOff x="6095880" y="718200"/>
            <a:chExt cx="2782800" cy="1091520"/>
          </a:xfrm>
        </p:grpSpPr>
        <p:sp>
          <p:nvSpPr>
            <p:cNvPr id="163" name=""/>
            <p:cNvSpPr/>
            <p:nvPr/>
          </p:nvSpPr>
          <p:spPr>
            <a:xfrm>
              <a:off x="6825960" y="1297080"/>
              <a:ext cx="2041560" cy="512640"/>
            </a:xfrm>
            <a:prstGeom prst="rect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824520" y="1184400"/>
              <a:ext cx="2054160" cy="0"/>
            </a:xfrm>
            <a:prstGeom prst="line">
              <a:avLst/>
            </a:prstGeom>
            <a:ln w="1260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7664400" y="1047600"/>
              <a:ext cx="128160" cy="324000"/>
              <a:chOff x="7664400" y="1047600"/>
              <a:chExt cx="128160" cy="324000"/>
            </a:xfrm>
          </p:grpSpPr>
          <p:sp>
            <p:nvSpPr>
              <p:cNvPr id="166" name=""/>
              <p:cNvSpPr/>
              <p:nvPr/>
            </p:nvSpPr>
            <p:spPr>
              <a:xfrm>
                <a:off x="7664400" y="1047960"/>
                <a:ext cx="128160" cy="323640"/>
              </a:xfrm>
              <a:custGeom>
                <a:avLst/>
                <a:gdLst/>
                <a:ahLst/>
                <a:rect l="l" t="t" r="r" b="b"/>
                <a:pathLst>
                  <a:path w="79" h="204">
                    <a:moveTo>
                      <a:pt x="79" y="204"/>
                    </a:moveTo>
                    <a:cubicBezTo>
                      <a:pt x="39" y="175"/>
                      <a:pt x="0" y="146"/>
                      <a:pt x="0" y="112"/>
                    </a:cubicBezTo>
                    <a:cubicBezTo>
                      <a:pt x="0" y="78"/>
                      <a:pt x="39" y="39"/>
                      <a:pt x="79" y="0"/>
                    </a:cubicBezTo>
                  </a:path>
                </a:pathLst>
              </a:custGeom>
              <a:noFill/>
              <a:ln w="12600">
                <a:solidFill>
                  <a:srgbClr val="e7f21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7706160" y="1047600"/>
                <a:ext cx="86400" cy="82440"/>
              </a:xfrm>
              <a:prstGeom prst="line">
                <a:avLst/>
              </a:prstGeom>
              <a:ln w="12600">
                <a:solidFill>
                  <a:srgbClr val="e7f21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>
              <a:off x="7819920" y="990720"/>
              <a:ext cx="109440" cy="96840"/>
            </a:xfrm>
            <a:prstGeom prst="ellipse">
              <a:avLst/>
            </a:prstGeom>
            <a:solidFill>
              <a:srgbClr val="e7f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794360" y="1373400"/>
              <a:ext cx="109800" cy="96840"/>
            </a:xfrm>
            <a:prstGeom prst="ellipse">
              <a:avLst/>
            </a:prstGeom>
            <a:noFill/>
            <a:ln w="1260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095880" y="1043280"/>
              <a:ext cx="83808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Binding energ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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 flipV="1">
              <a:off x="6649920" y="1172520"/>
              <a:ext cx="281520" cy="17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082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08272"/>
                </a:path>
              </a:pathLst>
            </a:custGeom>
            <a:noFill/>
            <a:ln w="12600">
              <a:solidFill>
                <a:srgbClr val="e7f21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2284800">
              <a:off x="6586200" y="1040040"/>
              <a:ext cx="1095120" cy="147600"/>
            </a:xfrm>
            <a:custGeom>
              <a:avLst/>
              <a:gdLst/>
              <a:ahLst/>
              <a:rect l="l" t="t" r="r" b="b"/>
              <a:pathLst>
                <a:path w="1274" h="303">
                  <a:moveTo>
                    <a:pt x="0" y="0"/>
                  </a:moveTo>
                  <a:cubicBezTo>
                    <a:pt x="62" y="144"/>
                    <a:pt x="125" y="289"/>
                    <a:pt x="175" y="293"/>
                  </a:cubicBezTo>
                  <a:cubicBezTo>
                    <a:pt x="225" y="297"/>
                    <a:pt x="253" y="26"/>
                    <a:pt x="302" y="25"/>
                  </a:cubicBezTo>
                  <a:cubicBezTo>
                    <a:pt x="351" y="24"/>
                    <a:pt x="422" y="286"/>
                    <a:pt x="468" y="288"/>
                  </a:cubicBezTo>
                  <a:cubicBezTo>
                    <a:pt x="514" y="290"/>
                    <a:pt x="541" y="40"/>
                    <a:pt x="580" y="39"/>
                  </a:cubicBezTo>
                  <a:cubicBezTo>
                    <a:pt x="619" y="38"/>
                    <a:pt x="663" y="284"/>
                    <a:pt x="702" y="283"/>
                  </a:cubicBezTo>
                  <a:cubicBezTo>
                    <a:pt x="741" y="282"/>
                    <a:pt x="772" y="33"/>
                    <a:pt x="815" y="34"/>
                  </a:cubicBezTo>
                  <a:cubicBezTo>
                    <a:pt x="858" y="35"/>
                    <a:pt x="919" y="285"/>
                    <a:pt x="961" y="288"/>
                  </a:cubicBezTo>
                  <a:cubicBezTo>
                    <a:pt x="1003" y="291"/>
                    <a:pt x="1027" y="52"/>
                    <a:pt x="1064" y="54"/>
                  </a:cubicBezTo>
                  <a:cubicBezTo>
                    <a:pt x="1101" y="56"/>
                    <a:pt x="1146" y="293"/>
                    <a:pt x="1181" y="298"/>
                  </a:cubicBezTo>
                  <a:cubicBezTo>
                    <a:pt x="1216" y="303"/>
                    <a:pt x="1245" y="193"/>
                    <a:pt x="1274" y="83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0" y="4114800"/>
            <a:ext cx="8686800" cy="50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nclusions: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ght arrives in “packets” of energy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hoto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hf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creasing the intensity increases # photons, not the photon energy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ach photon ejects (at most) one electron from the met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call: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For EM waves, frequency and wavelength are related by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 = c/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fore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hc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1240 eV-nm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69680" y="63360"/>
            <a:ext cx="76006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here do we go from here?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56760" y="1133280"/>
            <a:ext cx="81550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o approaches pave the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ncertainty principl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quantum mechanics one can only calculate a probability distribution for the result of a measurement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Heisenberg uncertainty principle provides a way to use simple arguments and a simple inequality to draw important conclusions about quantum systems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chr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ö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inger equatio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next week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differential equation describes the evolution of the quantum wave function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self has no uncertain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then tell us the probabilities of obtaining various measurement results.  That’s where the uncertainty ent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66880" y="56880"/>
            <a:ext cx="74232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Heisenberg Uncertainty Principl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74600" y="801360"/>
            <a:ext cx="8880480" cy="552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l QM objects (we think that includes everything have wave-like properties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mathematical property of waves 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·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See the supplementary slide for some discussion)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 = 2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xampl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finite sine wave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definite wavelength must extend fore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ite wave packet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wave packet requires a spread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wavelength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sing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= h/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= ħ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e have: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ħ (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·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1)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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ħ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)·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ħ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·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x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ħ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relation is known as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eisenberg Uncertainty Principle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limits the accuracy with which we can know the position and momentum of objec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*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will not use the statistically correct definition of “spread”,  which, in this context, we also call “uncertainty”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626000" y="4846680"/>
            <a:ext cx="1374840" cy="358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4656240" y="3116160"/>
            <a:ext cx="2793960" cy="1477800"/>
            <a:chOff x="4656240" y="3116160"/>
            <a:chExt cx="2793960" cy="1477800"/>
          </a:xfrm>
        </p:grpSpPr>
        <p:grpSp>
          <p:nvGrpSpPr>
            <p:cNvPr id="391" name=""/>
            <p:cNvGrpSpPr/>
            <p:nvPr/>
          </p:nvGrpSpPr>
          <p:grpSpPr>
            <a:xfrm>
              <a:off x="4656240" y="3116160"/>
              <a:ext cx="2793960" cy="963360"/>
              <a:chOff x="4656240" y="3116160"/>
              <a:chExt cx="2793960" cy="963360"/>
            </a:xfrm>
          </p:grpSpPr>
          <p:sp>
            <p:nvSpPr>
              <p:cNvPr id="392" name=""/>
              <p:cNvSpPr/>
              <p:nvPr/>
            </p:nvSpPr>
            <p:spPr>
              <a:xfrm>
                <a:off x="4656240" y="3116160"/>
                <a:ext cx="2793960" cy="480960"/>
              </a:xfrm>
              <a:custGeom>
                <a:avLst/>
                <a:gdLst/>
                <a:ahLst/>
                <a:rect l="l" t="t" r="r" b="b"/>
                <a:pathLst>
                  <a:path w="4072" h="303">
                    <a:moveTo>
                      <a:pt x="0" y="151"/>
                    </a:moveTo>
                    <a:cubicBezTo>
                      <a:pt x="70" y="139"/>
                      <a:pt x="141" y="128"/>
                      <a:pt x="216" y="135"/>
                    </a:cubicBezTo>
                    <a:cubicBezTo>
                      <a:pt x="291" y="142"/>
                      <a:pt x="377" y="198"/>
                      <a:pt x="448" y="191"/>
                    </a:cubicBezTo>
                    <a:cubicBezTo>
                      <a:pt x="519" y="184"/>
                      <a:pt x="567" y="90"/>
                      <a:pt x="640" y="95"/>
                    </a:cubicBezTo>
                    <a:cubicBezTo>
                      <a:pt x="713" y="100"/>
                      <a:pt x="812" y="232"/>
                      <a:pt x="888" y="223"/>
                    </a:cubicBezTo>
                    <a:cubicBezTo>
                      <a:pt x="964" y="214"/>
                      <a:pt x="1024" y="32"/>
                      <a:pt x="1096" y="39"/>
                    </a:cubicBezTo>
                    <a:cubicBezTo>
                      <a:pt x="1168" y="46"/>
                      <a:pt x="1239" y="268"/>
                      <a:pt x="1320" y="263"/>
                    </a:cubicBezTo>
                    <a:cubicBezTo>
                      <a:pt x="1401" y="258"/>
                      <a:pt x="1496" y="0"/>
                      <a:pt x="1584" y="7"/>
                    </a:cubicBezTo>
                    <a:cubicBezTo>
                      <a:pt x="1672" y="14"/>
                      <a:pt x="1753" y="303"/>
                      <a:pt x="1848" y="303"/>
                    </a:cubicBezTo>
                    <a:cubicBezTo>
                      <a:pt x="1943" y="303"/>
                      <a:pt x="2052" y="10"/>
                      <a:pt x="2152" y="7"/>
                    </a:cubicBezTo>
                    <a:cubicBezTo>
                      <a:pt x="2252" y="4"/>
                      <a:pt x="2355" y="276"/>
                      <a:pt x="2448" y="287"/>
                    </a:cubicBezTo>
                    <a:cubicBezTo>
                      <a:pt x="2541" y="298"/>
                      <a:pt x="2624" y="80"/>
                      <a:pt x="2712" y="71"/>
                    </a:cubicBezTo>
                    <a:cubicBezTo>
                      <a:pt x="2800" y="62"/>
                      <a:pt x="2896" y="226"/>
                      <a:pt x="2976" y="231"/>
                    </a:cubicBezTo>
                    <a:cubicBezTo>
                      <a:pt x="3056" y="236"/>
                      <a:pt x="3121" y="111"/>
                      <a:pt x="3192" y="103"/>
                    </a:cubicBezTo>
                    <a:cubicBezTo>
                      <a:pt x="3263" y="95"/>
                      <a:pt x="3324" y="182"/>
                      <a:pt x="3400" y="183"/>
                    </a:cubicBezTo>
                    <a:cubicBezTo>
                      <a:pt x="3476" y="184"/>
                      <a:pt x="3571" y="116"/>
                      <a:pt x="3648" y="111"/>
                    </a:cubicBezTo>
                    <a:cubicBezTo>
                      <a:pt x="3725" y="106"/>
                      <a:pt x="3793" y="148"/>
                      <a:pt x="3864" y="151"/>
                    </a:cubicBezTo>
                    <a:cubicBezTo>
                      <a:pt x="3935" y="154"/>
                      <a:pt x="4003" y="140"/>
                      <a:pt x="4072" y="127"/>
                    </a:cubicBezTo>
                  </a:path>
                </a:pathLst>
              </a:custGeom>
              <a:noFill/>
              <a:ln w="2844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392800" y="3749400"/>
                <a:ext cx="134604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735520" y="3711240"/>
                <a:ext cx="673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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omic Sans MS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5" name=""/>
            <p:cNvSpPr/>
            <p:nvPr/>
          </p:nvSpPr>
          <p:spPr>
            <a:xfrm>
              <a:off x="4969440" y="4195440"/>
              <a:ext cx="22579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We need a spread of wavelengths in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order to get destructive interference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6973920" y="3546360"/>
              <a:ext cx="343080" cy="6206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 flipV="1">
              <a:off x="4869000" y="3551040"/>
              <a:ext cx="342720" cy="6206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2943360" y="2317680"/>
            <a:ext cx="5889600" cy="457200"/>
            <a:chOff x="2943360" y="2317680"/>
            <a:chExt cx="5889600" cy="457200"/>
          </a:xfrm>
        </p:grpSpPr>
        <p:pic>
          <p:nvPicPr>
            <p:cNvPr id="399" name="" descr=""/>
            <p:cNvPicPr/>
            <p:nvPr/>
          </p:nvPicPr>
          <p:blipFill>
            <a:blip r:embed="rId1"/>
            <a:stretch/>
          </p:blipFill>
          <p:spPr>
            <a:xfrm>
              <a:off x="3157560" y="2317680"/>
              <a:ext cx="5461200" cy="457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00" name=""/>
            <p:cNvGrpSpPr/>
            <p:nvPr/>
          </p:nvGrpSpPr>
          <p:grpSpPr>
            <a:xfrm>
              <a:off x="2943360" y="2523960"/>
              <a:ext cx="274680" cy="46080"/>
              <a:chOff x="2943360" y="2523960"/>
              <a:chExt cx="274680" cy="46080"/>
            </a:xfrm>
          </p:grpSpPr>
          <p:sp>
            <p:nvSpPr>
              <p:cNvPr id="401" name=""/>
              <p:cNvSpPr/>
              <p:nvPr/>
            </p:nvSpPr>
            <p:spPr>
              <a:xfrm>
                <a:off x="3171960" y="2523960"/>
                <a:ext cx="46080" cy="46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57840" y="2523960"/>
                <a:ext cx="45720" cy="46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943360" y="2523960"/>
                <a:ext cx="46080" cy="46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8558280" y="2523960"/>
              <a:ext cx="274680" cy="46080"/>
              <a:chOff x="8558280" y="2523960"/>
              <a:chExt cx="274680" cy="46080"/>
            </a:xfrm>
          </p:grpSpPr>
          <p:sp>
            <p:nvSpPr>
              <p:cNvPr id="405" name=""/>
              <p:cNvSpPr/>
              <p:nvPr/>
            </p:nvSpPr>
            <p:spPr>
              <a:xfrm>
                <a:off x="8786880" y="2523960"/>
                <a:ext cx="46080" cy="46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8672760" y="2523960"/>
                <a:ext cx="45720" cy="46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8558280" y="2523960"/>
                <a:ext cx="46080" cy="46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896760" y="63360"/>
            <a:ext cx="731844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Diffraction and the </a:t>
            </a:r>
            <a:br>
              <a:rPr sz="3200"/>
            </a:b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Uncertainty Princi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309600" y="1065240"/>
            <a:ext cx="8594640" cy="228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4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member single-slit diffrac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et’s analyze this problem using the uncertainty princip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a beam of electrons of momentum p approaches a slit of width a.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big is the angular spread of motio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fter it passes through the sli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1254240" y="1523880"/>
            <a:ext cx="6440400" cy="1752480"/>
            <a:chOff x="1254240" y="1523880"/>
            <a:chExt cx="6440400" cy="1752480"/>
          </a:xfrm>
        </p:grpSpPr>
        <p:grpSp>
          <p:nvGrpSpPr>
            <p:cNvPr id="411" name=""/>
            <p:cNvGrpSpPr/>
            <p:nvPr/>
          </p:nvGrpSpPr>
          <p:grpSpPr>
            <a:xfrm>
              <a:off x="1254240" y="1523880"/>
              <a:ext cx="3429000" cy="1752480"/>
              <a:chOff x="1254240" y="1523880"/>
              <a:chExt cx="3429000" cy="1752480"/>
            </a:xfrm>
          </p:grpSpPr>
          <p:grpSp>
            <p:nvGrpSpPr>
              <p:cNvPr id="412" name=""/>
              <p:cNvGrpSpPr/>
              <p:nvPr/>
            </p:nvGrpSpPr>
            <p:grpSpPr>
              <a:xfrm>
                <a:off x="2625840" y="1523880"/>
                <a:ext cx="0" cy="1752480"/>
                <a:chOff x="2625840" y="1523880"/>
                <a:chExt cx="0" cy="175248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2625840" y="1523880"/>
                  <a:ext cx="0" cy="762120"/>
                </a:xfrm>
                <a:prstGeom prst="line">
                  <a:avLst/>
                </a:prstGeom>
                <a:ln w="57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2625840" y="2514600"/>
                  <a:ext cx="0" cy="761760"/>
                </a:xfrm>
                <a:prstGeom prst="line">
                  <a:avLst/>
                </a:prstGeom>
                <a:ln w="57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1254240" y="1638360"/>
                <a:ext cx="1219320" cy="1523880"/>
                <a:chOff x="1254240" y="1638360"/>
                <a:chExt cx="1219320" cy="152388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247356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125424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138924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152424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166068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179568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206712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220212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233676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193068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6" name=""/>
              <p:cNvSpPr/>
              <p:nvPr/>
            </p:nvSpPr>
            <p:spPr>
              <a:xfrm>
                <a:off x="2625840" y="2400120"/>
                <a:ext cx="2057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V="1">
                <a:off x="2625840" y="1928520"/>
                <a:ext cx="1905120" cy="45720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8" name=""/>
            <p:cNvSpPr/>
            <p:nvPr/>
          </p:nvSpPr>
          <p:spPr>
            <a:xfrm>
              <a:off x="4988880" y="1752480"/>
              <a:ext cx="270576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avelength: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lit width: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iffraction angle: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/a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ngle to first zer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560600" y="2209680"/>
              <a:ext cx="30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27640" y="19810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770640" y="2057040"/>
              <a:ext cx="29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1143000" y="4724280"/>
            <a:ext cx="3540240" cy="1752480"/>
            <a:chOff x="1143000" y="4724280"/>
            <a:chExt cx="3540240" cy="1752480"/>
          </a:xfrm>
        </p:grpSpPr>
        <p:grpSp>
          <p:nvGrpSpPr>
            <p:cNvPr id="433" name=""/>
            <p:cNvGrpSpPr/>
            <p:nvPr/>
          </p:nvGrpSpPr>
          <p:grpSpPr>
            <a:xfrm>
              <a:off x="2625840" y="4724280"/>
              <a:ext cx="0" cy="1752480"/>
              <a:chOff x="2625840" y="4724280"/>
              <a:chExt cx="0" cy="1752480"/>
            </a:xfrm>
          </p:grpSpPr>
          <p:sp>
            <p:nvSpPr>
              <p:cNvPr id="434" name=""/>
              <p:cNvSpPr/>
              <p:nvPr/>
            </p:nvSpPr>
            <p:spPr>
              <a:xfrm>
                <a:off x="2625840" y="4724280"/>
                <a:ext cx="0" cy="762120"/>
              </a:xfrm>
              <a:prstGeom prst="line">
                <a:avLst/>
              </a:prstGeom>
              <a:ln w="57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2625840" y="5715000"/>
                <a:ext cx="0" cy="761760"/>
              </a:xfrm>
              <a:prstGeom prst="line">
                <a:avLst/>
              </a:prstGeom>
              <a:ln w="57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2625840" y="5600880"/>
              <a:ext cx="20574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2625840" y="5129280"/>
              <a:ext cx="1904760" cy="45720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560960" y="53341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627640" y="51814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770640" y="5257800"/>
              <a:ext cx="29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1" name=""/>
            <p:cNvGrpSpPr/>
            <p:nvPr/>
          </p:nvGrpSpPr>
          <p:grpSpPr>
            <a:xfrm>
              <a:off x="1143000" y="4952880"/>
              <a:ext cx="1295280" cy="1219320"/>
              <a:chOff x="1143000" y="4952880"/>
              <a:chExt cx="1295280" cy="1219320"/>
            </a:xfrm>
          </p:grpSpPr>
          <p:sp>
            <p:nvSpPr>
              <p:cNvPr id="442" name=""/>
              <p:cNvSpPr/>
              <p:nvPr/>
            </p:nvSpPr>
            <p:spPr>
              <a:xfrm>
                <a:off x="1143000" y="495288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143000" y="510552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143000" y="525780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143000" y="541008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143000" y="556272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143000" y="571500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143000" y="586728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143000" y="601992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143000" y="617220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896760" y="63360"/>
            <a:ext cx="731844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/>
          </p:nvPr>
        </p:nvSpPr>
        <p:spPr>
          <a:xfrm>
            <a:off x="228600" y="2819520"/>
            <a:ext cx="8594640" cy="228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8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nsider the momentum uncertainty in the y-direc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fore the slit, the y-position is not known, so the uncertainty of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can be zero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know that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Just after the slit, the y-position has an uncertainty of about a/2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efore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ust have an uncertainty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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2</a:t>
            </a:r>
            <a:r>
              <a:rPr b="0" lang="en-US" sz="1800" spc="-1" strike="noStrike">
                <a:solidFill>
                  <a:srgbClr val="ffff00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a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corresponds to a change of direction by an angle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 p = 2</a:t>
            </a:r>
            <a:r>
              <a:rPr b="0" lang="en-US" sz="1800" spc="-1" strike="noStrike">
                <a:solidFill>
                  <a:srgbClr val="ffff00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ap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sing p = h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we hav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is almost the diffraction answer: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a.  The extra factor of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due to our somewhat sloppy treatment of the uncertain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important point is that the uncertainty principle results because matter behaves as a wav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914400" y="990720"/>
            <a:ext cx="3540240" cy="1752480"/>
            <a:chOff x="914400" y="990720"/>
            <a:chExt cx="3540240" cy="1752480"/>
          </a:xfrm>
        </p:grpSpPr>
        <p:grpSp>
          <p:nvGrpSpPr>
            <p:cNvPr id="456" name=""/>
            <p:cNvGrpSpPr/>
            <p:nvPr/>
          </p:nvGrpSpPr>
          <p:grpSpPr>
            <a:xfrm>
              <a:off x="2397240" y="990720"/>
              <a:ext cx="0" cy="1752480"/>
              <a:chOff x="2397240" y="990720"/>
              <a:chExt cx="0" cy="1752480"/>
            </a:xfrm>
          </p:grpSpPr>
          <p:sp>
            <p:nvSpPr>
              <p:cNvPr id="457" name=""/>
              <p:cNvSpPr/>
              <p:nvPr/>
            </p:nvSpPr>
            <p:spPr>
              <a:xfrm>
                <a:off x="2397240" y="990720"/>
                <a:ext cx="0" cy="762120"/>
              </a:xfrm>
              <a:prstGeom prst="line">
                <a:avLst/>
              </a:prstGeom>
              <a:ln w="57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397240" y="1981440"/>
                <a:ext cx="0" cy="761760"/>
              </a:xfrm>
              <a:prstGeom prst="line">
                <a:avLst/>
              </a:prstGeom>
              <a:ln w="57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9" name=""/>
            <p:cNvSpPr/>
            <p:nvPr/>
          </p:nvSpPr>
          <p:spPr>
            <a:xfrm>
              <a:off x="2397240" y="1866960"/>
              <a:ext cx="20574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2397240" y="1395000"/>
              <a:ext cx="1904760" cy="45684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332360" y="16002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399040" y="1447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542040" y="1523880"/>
              <a:ext cx="29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64" name=""/>
            <p:cNvGrpSpPr/>
            <p:nvPr/>
          </p:nvGrpSpPr>
          <p:grpSpPr>
            <a:xfrm>
              <a:off x="914400" y="1218960"/>
              <a:ext cx="1295280" cy="1218960"/>
              <a:chOff x="914400" y="1218960"/>
              <a:chExt cx="1295280" cy="1218960"/>
            </a:xfrm>
          </p:grpSpPr>
          <p:sp>
            <p:nvSpPr>
              <p:cNvPr id="465" name=""/>
              <p:cNvSpPr/>
              <p:nvPr/>
            </p:nvSpPr>
            <p:spPr>
              <a:xfrm>
                <a:off x="914400" y="121896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914400" y="137124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914400" y="152352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914400" y="167580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914400" y="182844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914400" y="198072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914400" y="213300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914400" y="228564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914400" y="243792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74" name=""/>
          <p:cNvGrpSpPr/>
          <p:nvPr/>
        </p:nvGrpSpPr>
        <p:grpSpPr>
          <a:xfrm>
            <a:off x="2895480" y="1066680"/>
            <a:ext cx="296640" cy="1447920"/>
            <a:chOff x="2895480" y="1066680"/>
            <a:chExt cx="296640" cy="1447920"/>
          </a:xfrm>
        </p:grpSpPr>
        <p:sp>
          <p:nvSpPr>
            <p:cNvPr id="475" name=""/>
            <p:cNvSpPr/>
            <p:nvPr/>
          </p:nvSpPr>
          <p:spPr>
            <a:xfrm flipV="1">
              <a:off x="2895480" y="1219320"/>
              <a:ext cx="0" cy="12952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896920" y="1066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304920" y="5638680"/>
            <a:ext cx="7848360" cy="609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4876920" y="1447920"/>
            <a:ext cx="1821960" cy="861840"/>
            <a:chOff x="4876920" y="1447920"/>
            <a:chExt cx="1821960" cy="861840"/>
          </a:xfrm>
        </p:grpSpPr>
        <p:grpSp>
          <p:nvGrpSpPr>
            <p:cNvPr id="479" name=""/>
            <p:cNvGrpSpPr/>
            <p:nvPr/>
          </p:nvGrpSpPr>
          <p:grpSpPr>
            <a:xfrm>
              <a:off x="4876920" y="1447920"/>
              <a:ext cx="1821960" cy="861840"/>
              <a:chOff x="4876920" y="1447920"/>
              <a:chExt cx="1821960" cy="861840"/>
            </a:xfrm>
          </p:grpSpPr>
          <p:grpSp>
            <p:nvGrpSpPr>
              <p:cNvPr id="480" name=""/>
              <p:cNvGrpSpPr/>
              <p:nvPr/>
            </p:nvGrpSpPr>
            <p:grpSpPr>
              <a:xfrm>
                <a:off x="4876920" y="1447920"/>
                <a:ext cx="1447920" cy="457200"/>
                <a:chOff x="4876920" y="1447920"/>
                <a:chExt cx="1447920" cy="45720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4876920" y="1905120"/>
                  <a:ext cx="144792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 flipV="1">
                  <a:off x="6324840" y="1447920"/>
                  <a:ext cx="0" cy="45720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3" name=""/>
              <p:cNvSpPr/>
              <p:nvPr/>
            </p:nvSpPr>
            <p:spPr>
              <a:xfrm>
                <a:off x="5320440" y="19414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0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6324840" y="1447920"/>
                <a:ext cx="3740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0"/>
                    </a:solidFill>
                    <a:latin typeface="Arial"/>
                  </a:rPr>
                  <a:t>p</a:t>
                </a:r>
                <a:r>
                  <a:rPr b="0" lang="en-US" sz="1800" spc="-1" strike="noStrike" baseline="-25000">
                    <a:solidFill>
                      <a:srgbClr val="ffff00"/>
                    </a:solidFill>
                    <a:latin typeface="Arial"/>
                  </a:rPr>
                  <a:t>y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5" name=""/>
            <p:cNvSpPr/>
            <p:nvPr/>
          </p:nvSpPr>
          <p:spPr>
            <a:xfrm flipV="1">
              <a:off x="4876920" y="1447920"/>
              <a:ext cx="1447920" cy="45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2898720" y="71280"/>
            <a:ext cx="33051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44520" y="1116000"/>
            <a:ext cx="8520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position of an electron in the lowest-energy state of a hydrogen atom; is known to an accuracy of about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x = 0.05 n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the radius of the atom)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minimum range of momentum measurements? Veloc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hy “Uncertainty”?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89" name=""/>
          <p:cNvSpPr/>
          <p:nvPr/>
        </p:nvSpPr>
        <p:spPr>
          <a:xfrm>
            <a:off x="318960" y="539640"/>
            <a:ext cx="81788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Uncertainty” refers to our inability to make definite predic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is wave packet: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re is the object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its moment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nswer is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don’t know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We can’t predict the result of either measurement with an accuracy better than th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x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 given to us by the uncertainty princip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262400" y="1212840"/>
            <a:ext cx="2793960" cy="480960"/>
          </a:xfrm>
          <a:custGeom>
            <a:avLst/>
            <a:gdLst/>
            <a:ahLst/>
            <a:rect l="l" t="t" r="r" b="b"/>
            <a:pathLst>
              <a:path w="4072" h="303">
                <a:moveTo>
                  <a:pt x="0" y="151"/>
                </a:moveTo>
                <a:cubicBezTo>
                  <a:pt x="70" y="139"/>
                  <a:pt x="141" y="128"/>
                  <a:pt x="216" y="135"/>
                </a:cubicBezTo>
                <a:cubicBezTo>
                  <a:pt x="291" y="142"/>
                  <a:pt x="377" y="198"/>
                  <a:pt x="448" y="191"/>
                </a:cubicBezTo>
                <a:cubicBezTo>
                  <a:pt x="519" y="184"/>
                  <a:pt x="567" y="90"/>
                  <a:pt x="640" y="95"/>
                </a:cubicBezTo>
                <a:cubicBezTo>
                  <a:pt x="713" y="100"/>
                  <a:pt x="812" y="232"/>
                  <a:pt x="888" y="223"/>
                </a:cubicBezTo>
                <a:cubicBezTo>
                  <a:pt x="964" y="214"/>
                  <a:pt x="1024" y="32"/>
                  <a:pt x="1096" y="39"/>
                </a:cubicBezTo>
                <a:cubicBezTo>
                  <a:pt x="1168" y="46"/>
                  <a:pt x="1239" y="268"/>
                  <a:pt x="1320" y="263"/>
                </a:cubicBezTo>
                <a:cubicBezTo>
                  <a:pt x="1401" y="258"/>
                  <a:pt x="1496" y="0"/>
                  <a:pt x="1584" y="7"/>
                </a:cubicBezTo>
                <a:cubicBezTo>
                  <a:pt x="1672" y="14"/>
                  <a:pt x="1753" y="303"/>
                  <a:pt x="1848" y="303"/>
                </a:cubicBezTo>
                <a:cubicBezTo>
                  <a:pt x="1943" y="303"/>
                  <a:pt x="2052" y="10"/>
                  <a:pt x="2152" y="7"/>
                </a:cubicBezTo>
                <a:cubicBezTo>
                  <a:pt x="2252" y="4"/>
                  <a:pt x="2355" y="276"/>
                  <a:pt x="2448" y="287"/>
                </a:cubicBezTo>
                <a:cubicBezTo>
                  <a:pt x="2541" y="298"/>
                  <a:pt x="2624" y="80"/>
                  <a:pt x="2712" y="71"/>
                </a:cubicBezTo>
                <a:cubicBezTo>
                  <a:pt x="2800" y="62"/>
                  <a:pt x="2896" y="226"/>
                  <a:pt x="2976" y="231"/>
                </a:cubicBezTo>
                <a:cubicBezTo>
                  <a:pt x="3056" y="236"/>
                  <a:pt x="3121" y="111"/>
                  <a:pt x="3192" y="103"/>
                </a:cubicBezTo>
                <a:cubicBezTo>
                  <a:pt x="3263" y="95"/>
                  <a:pt x="3324" y="182"/>
                  <a:pt x="3400" y="183"/>
                </a:cubicBezTo>
                <a:cubicBezTo>
                  <a:pt x="3476" y="184"/>
                  <a:pt x="3571" y="116"/>
                  <a:pt x="3648" y="111"/>
                </a:cubicBezTo>
                <a:cubicBezTo>
                  <a:pt x="3725" y="106"/>
                  <a:pt x="3793" y="148"/>
                  <a:pt x="3864" y="151"/>
                </a:cubicBezTo>
                <a:cubicBezTo>
                  <a:pt x="3935" y="154"/>
                  <a:pt x="4003" y="140"/>
                  <a:pt x="4072" y="127"/>
                </a:cubicBezTo>
              </a:path>
            </a:pathLst>
          </a:custGeom>
          <a:noFill/>
          <a:ln w="284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09600" y="3176640"/>
            <a:ext cx="908676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ach time you look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ou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ind a local bli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is in a different place (in fact, it is your looking that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caus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 wavefunction to “collapse”!)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you look many times, you will find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bability distribu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is spread ou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t you’r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ncertain about where that local blip will be in any one of the times you look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- it could be anywhere in the spre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51000" y="5168880"/>
            <a:ext cx="9057960" cy="20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 important point: </a:t>
            </a: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You never observe the wave function itself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wave merely gives the probabilities of obtaining the various measurement results.  A measurement of position or momentum  will always result in a definite result.         You  can infer the properties of the wave function by repeating the measurements      (to measure the probabilities), but that’s not the same as a direct observ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32840" y="60120"/>
            <a:ext cx="88599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Uncertainty Principle –Implication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3360" y="663120"/>
            <a:ext cx="8622000" cy="456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uncertainty principle explains </a:t>
            </a: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why electrons in atoms don’t simply fall into the nucleu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 If the electron were confined too close to the nucleus (small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x), it would have a large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p, and therefore a very large average kinetic energy (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p)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/2m)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The uncertainty principle does </a:t>
            </a:r>
            <a:r>
              <a:rPr b="0" lang="en-US" sz="2000" spc="-1" strike="noStrike" u="sng">
                <a:solidFill>
                  <a:srgbClr val="ffff09"/>
                </a:solidFill>
                <a:uFillTx/>
                <a:latin typeface="Arial"/>
              </a:rPr>
              <a:t>not</a:t>
            </a: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 say “everything is uncertain”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ather, it tells us what the limits of uncertainty are when we make measurements of quantum systems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Some classical features, such as paths, do not exist precisel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because having a definite path requires both a definite position and momentum. One consequence, then, is that electron orbits do not exist. The atom is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ot a miniature solar syst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Other features can exist precisely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For example, in some circumstances we can measure an electron’s energy as accurately as technology allow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Serious philosophical issues remain open to vigorous debat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e.g., whether all outcomes or only one outcome actually occu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09480" y="57240"/>
            <a:ext cx="8001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 Exam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3960" y="1027080"/>
            <a:ext cx="8532720" cy="11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When light of wavelength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400 n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shines on lithium, the stopping voltage of the electrons i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0.21 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work function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of lithi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099800" y="56880"/>
            <a:ext cx="69692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upplement: Wave Uncertaint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64880" y="1106640"/>
            <a:ext cx="8861400" cy="469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athematically, one can produce a localize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unction by superposing sine waves with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spread” of wave numbers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k: 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·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a result of Fourier analysis, which most of you will learn in Mat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means that making a short wave packe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quires a broad spread in wavelengths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versely, a single-wavelength wave would extend fore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9"/>
                </a:solidFill>
                <a:latin typeface="Arial"/>
              </a:rPr>
              <a:t>So far, this is just math.  The physics comes in when we make the wavelength-momentum connection: p = h/</a:t>
            </a:r>
            <a:r>
              <a:rPr b="0" lang="en-US" sz="1800" spc="-1" strike="noStrike">
                <a:solidFill>
                  <a:srgbClr val="ffff09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9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9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ffff09"/>
                </a:solidFill>
                <a:latin typeface="Arial"/>
              </a:rPr>
              <a:t>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ample: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How many of you have experienced a close lightning strike (within a couple hundred feet)?  If you were paying attention, you may have noticed that the sound, which is a very short pulse, is very weird.  That weirdness is a result of the very broad range of frequencies that is needed to construct a very short pulse.  One doesn’t normally experience such a broad frequency rang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254560" y="1349280"/>
            <a:ext cx="2793960" cy="480960"/>
          </a:xfrm>
          <a:custGeom>
            <a:avLst/>
            <a:gdLst/>
            <a:ahLst/>
            <a:rect l="l" t="t" r="r" b="b"/>
            <a:pathLst>
              <a:path w="4072" h="303">
                <a:moveTo>
                  <a:pt x="0" y="151"/>
                </a:moveTo>
                <a:cubicBezTo>
                  <a:pt x="70" y="139"/>
                  <a:pt x="141" y="128"/>
                  <a:pt x="216" y="135"/>
                </a:cubicBezTo>
                <a:cubicBezTo>
                  <a:pt x="291" y="142"/>
                  <a:pt x="377" y="198"/>
                  <a:pt x="448" y="191"/>
                </a:cubicBezTo>
                <a:cubicBezTo>
                  <a:pt x="519" y="184"/>
                  <a:pt x="567" y="90"/>
                  <a:pt x="640" y="95"/>
                </a:cubicBezTo>
                <a:cubicBezTo>
                  <a:pt x="713" y="100"/>
                  <a:pt x="812" y="232"/>
                  <a:pt x="888" y="223"/>
                </a:cubicBezTo>
                <a:cubicBezTo>
                  <a:pt x="964" y="214"/>
                  <a:pt x="1024" y="32"/>
                  <a:pt x="1096" y="39"/>
                </a:cubicBezTo>
                <a:cubicBezTo>
                  <a:pt x="1168" y="46"/>
                  <a:pt x="1239" y="268"/>
                  <a:pt x="1320" y="263"/>
                </a:cubicBezTo>
                <a:cubicBezTo>
                  <a:pt x="1401" y="258"/>
                  <a:pt x="1496" y="0"/>
                  <a:pt x="1584" y="7"/>
                </a:cubicBezTo>
                <a:cubicBezTo>
                  <a:pt x="1672" y="14"/>
                  <a:pt x="1753" y="303"/>
                  <a:pt x="1848" y="303"/>
                </a:cubicBezTo>
                <a:cubicBezTo>
                  <a:pt x="1943" y="303"/>
                  <a:pt x="2052" y="10"/>
                  <a:pt x="2152" y="7"/>
                </a:cubicBezTo>
                <a:cubicBezTo>
                  <a:pt x="2252" y="4"/>
                  <a:pt x="2355" y="276"/>
                  <a:pt x="2448" y="287"/>
                </a:cubicBezTo>
                <a:cubicBezTo>
                  <a:pt x="2541" y="298"/>
                  <a:pt x="2624" y="80"/>
                  <a:pt x="2712" y="71"/>
                </a:cubicBezTo>
                <a:cubicBezTo>
                  <a:pt x="2800" y="62"/>
                  <a:pt x="2896" y="226"/>
                  <a:pt x="2976" y="231"/>
                </a:cubicBezTo>
                <a:cubicBezTo>
                  <a:pt x="3056" y="236"/>
                  <a:pt x="3121" y="111"/>
                  <a:pt x="3192" y="103"/>
                </a:cubicBezTo>
                <a:cubicBezTo>
                  <a:pt x="3263" y="95"/>
                  <a:pt x="3324" y="182"/>
                  <a:pt x="3400" y="183"/>
                </a:cubicBezTo>
                <a:cubicBezTo>
                  <a:pt x="3476" y="184"/>
                  <a:pt x="3571" y="116"/>
                  <a:pt x="3648" y="111"/>
                </a:cubicBezTo>
                <a:cubicBezTo>
                  <a:pt x="3725" y="106"/>
                  <a:pt x="3793" y="148"/>
                  <a:pt x="3864" y="151"/>
                </a:cubicBezTo>
                <a:cubicBezTo>
                  <a:pt x="3935" y="154"/>
                  <a:pt x="4003" y="140"/>
                  <a:pt x="4072" y="127"/>
                </a:cubicBezTo>
              </a:path>
            </a:pathLst>
          </a:custGeom>
          <a:noFill/>
          <a:ln w="284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737400" y="2892600"/>
            <a:ext cx="825480" cy="996840"/>
          </a:xfrm>
          <a:custGeom>
            <a:avLst/>
            <a:gdLst/>
            <a:ahLst/>
            <a:rect l="l" t="t" r="r" b="b"/>
            <a:pathLst>
              <a:path w="520" h="628">
                <a:moveTo>
                  <a:pt x="0" y="622"/>
                </a:moveTo>
                <a:cubicBezTo>
                  <a:pt x="17" y="622"/>
                  <a:pt x="72" y="626"/>
                  <a:pt x="106" y="605"/>
                </a:cubicBezTo>
                <a:cubicBezTo>
                  <a:pt x="140" y="584"/>
                  <a:pt x="177" y="595"/>
                  <a:pt x="207" y="494"/>
                </a:cubicBezTo>
                <a:cubicBezTo>
                  <a:pt x="237" y="393"/>
                  <a:pt x="264" y="2"/>
                  <a:pt x="285" y="1"/>
                </a:cubicBezTo>
                <a:cubicBezTo>
                  <a:pt x="306" y="0"/>
                  <a:pt x="316" y="387"/>
                  <a:pt x="336" y="488"/>
                </a:cubicBezTo>
                <a:cubicBezTo>
                  <a:pt x="356" y="589"/>
                  <a:pt x="377" y="582"/>
                  <a:pt x="408" y="605"/>
                </a:cubicBezTo>
                <a:cubicBezTo>
                  <a:pt x="439" y="628"/>
                  <a:pt x="497" y="623"/>
                  <a:pt x="520" y="628"/>
                </a:cubicBezTo>
              </a:path>
            </a:pathLst>
          </a:cu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06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9" name=""/>
          <p:cNvSpPr/>
          <p:nvPr/>
        </p:nvSpPr>
        <p:spPr>
          <a:xfrm>
            <a:off x="428760" y="1316160"/>
            <a:ext cx="8048520" cy="33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the workfunction of the material increased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would the graph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d slope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d f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o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oth a and 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905440" y="685800"/>
            <a:ext cx="3162240" cy="2662200"/>
            <a:chOff x="5905440" y="685800"/>
            <a:chExt cx="3162240" cy="2662200"/>
          </a:xfrm>
        </p:grpSpPr>
        <p:grpSp>
          <p:nvGrpSpPr>
            <p:cNvPr id="181" name=""/>
            <p:cNvGrpSpPr/>
            <p:nvPr/>
          </p:nvGrpSpPr>
          <p:grpSpPr>
            <a:xfrm>
              <a:off x="5905440" y="685800"/>
              <a:ext cx="3162240" cy="2662200"/>
              <a:chOff x="5905440" y="685800"/>
              <a:chExt cx="3162240" cy="2662200"/>
            </a:xfrm>
          </p:grpSpPr>
          <p:sp>
            <p:nvSpPr>
              <p:cNvPr id="182" name=""/>
              <p:cNvSpPr/>
              <p:nvPr/>
            </p:nvSpPr>
            <p:spPr>
              <a:xfrm rot="16200000">
                <a:off x="5439240" y="1388520"/>
                <a:ext cx="13730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omic Sans MS"/>
                  </a:rPr>
                  <a:t>V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Comic Sans MS"/>
                  </a:rPr>
                  <a:t>stop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Comic Sans MS"/>
                  </a:rPr>
                  <a:t> (v)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211880" y="2979720"/>
                <a:ext cx="1328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omic Sans MS"/>
                  </a:rPr>
                  <a:t>f (x10</a:t>
                </a:r>
                <a:r>
                  <a:rPr b="0" lang="en-US" sz="1800" spc="-1" strike="noStrike" baseline="30000">
                    <a:solidFill>
                      <a:srgbClr val="ffffff"/>
                    </a:solidFill>
                    <a:latin typeface="Comic Sans MS"/>
                  </a:rPr>
                  <a:t>14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omic Sans MS"/>
                  </a:rPr>
                  <a:t> Hz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424200" y="685800"/>
                <a:ext cx="2643480" cy="2257560"/>
              </a:xfrm>
              <a:prstGeom prst="rect">
                <a:avLst/>
              </a:prstGeom>
              <a:solidFill>
                <a:srgbClr val="ffffff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775200" y="874800"/>
                <a:ext cx="2128680" cy="172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775200" y="235116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775200" y="210996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775200" y="1860480"/>
                <a:ext cx="2128680" cy="180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775200" y="1612800"/>
                <a:ext cx="2128680" cy="180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775200" y="136368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775200" y="112248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775200" y="87480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775200" y="874800"/>
                <a:ext cx="2128680" cy="1724040"/>
              </a:xfrm>
              <a:prstGeom prst="rect">
                <a:avLst/>
              </a:prstGeom>
              <a:noFill/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741720" y="259884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741720" y="235116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741720" y="210996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741720" y="1860480"/>
                <a:ext cx="33480" cy="180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741720" y="1612800"/>
                <a:ext cx="33480" cy="180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741720" y="136368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741720" y="112248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741720" y="87480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75200" y="2598840"/>
                <a:ext cx="21286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V="1">
                <a:off x="6775200" y="259848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V="1">
                <a:off x="7488000" y="259848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V="1">
                <a:off x="8192880" y="259848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8903880" y="2598480"/>
                <a:ext cx="180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6628320" y="2530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628320" y="204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628320" y="1542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628320" y="10540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748920" y="26938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461720" y="26938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130960" y="269388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843760" y="269388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424200" y="685800"/>
                <a:ext cx="2643480" cy="2257560"/>
              </a:xfrm>
              <a:prstGeom prst="rect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953400" y="1874880"/>
                <a:ext cx="351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66ff"/>
                    </a:solidFill>
                    <a:latin typeface="Comic Sans MS"/>
                  </a:rPr>
                  <a:t>f</a:t>
                </a:r>
                <a:r>
                  <a:rPr b="0" lang="en-US" sz="2000" spc="-1" strike="noStrike" baseline="-25000">
                    <a:solidFill>
                      <a:srgbClr val="3366ff"/>
                    </a:solidFill>
                    <a:latin typeface="Comic Sans MS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191000" y="2270160"/>
                <a:ext cx="162000" cy="31896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>
                <a:off x="7373520" y="873000"/>
                <a:ext cx="1190520" cy="1729080"/>
              </a:xfrm>
              <a:prstGeom prst="line">
                <a:avLst/>
              </a:prstGeom>
              <a:ln w="2844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495920" y="230040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534080" y="1339920"/>
                <a:ext cx="0" cy="927000"/>
              </a:xfrm>
              <a:prstGeom prst="line">
                <a:avLst/>
              </a:prstGeom>
              <a:ln w="12600">
                <a:solidFill>
                  <a:srgbClr val="df241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602480" y="2136600"/>
                <a:ext cx="109440" cy="1098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626240" y="1190520"/>
                <a:ext cx="0" cy="927360"/>
              </a:xfrm>
              <a:prstGeom prst="line">
                <a:avLst/>
              </a:prstGeom>
              <a:ln w="12600">
                <a:solidFill>
                  <a:srgbClr val="e98e15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59360" y="2043000"/>
                <a:ext cx="109800" cy="1098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700760" y="1022400"/>
                <a:ext cx="0" cy="927000"/>
              </a:xfrm>
              <a:prstGeom prst="line">
                <a:avLst/>
              </a:prstGeom>
              <a:ln w="12600">
                <a:solidFill>
                  <a:srgbClr val="36ab2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881840" y="172728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916760" y="766800"/>
                <a:ext cx="0" cy="927000"/>
              </a:xfrm>
              <a:prstGeom prst="line">
                <a:avLst/>
              </a:prstGeom>
              <a:ln w="12600">
                <a:solidFill>
                  <a:srgbClr val="1515d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991280" y="155412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57880" y="730080"/>
              <a:ext cx="0" cy="74304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304920" y="4356000"/>
            <a:ext cx="8153280" cy="23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now shine on light with frequency 2f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  What effect does doubling the intensity (i.e., the power) of the incident light have on the current of emitted electrons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ubles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quadrup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tays the s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cre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466560" y="1179360"/>
            <a:ext cx="7575840" cy="23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momentum of a photon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bine the two equat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hf = hc/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– quantum mechan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 = E/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– Maxwell’s equations, or special rela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leads to the relation between momentum and waveleng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hf/c  = h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457200" y="3733920"/>
            <a:ext cx="72691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the key relations of quantum mechan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they hold for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articles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 = hf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 = h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1295280" y="4724280"/>
            <a:ext cx="1311480" cy="9939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2944800" y="4648320"/>
            <a:ext cx="463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relate an object’s particle properties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energy and momentum)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its wave propertie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frequency and wavelength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7465320" y="5114880"/>
            <a:ext cx="1434960" cy="1310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member: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 = h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 = hf/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c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re only valid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 phot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omentum of a Phot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27200" y="2048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xercise: Optical “Levitation”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2080" y="682200"/>
            <a:ext cx="918396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laser power is required to suspend a glass bead weighing 0.01 g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Group 4"/>
          <p:cNvGrpSpPr/>
          <p:nvPr/>
        </p:nvGrpSpPr>
        <p:grpSpPr>
          <a:xfrm>
            <a:off x="214200" y="1273320"/>
            <a:ext cx="8929800" cy="3137040"/>
            <a:chOff x="214200" y="1273320"/>
            <a:chExt cx="8929800" cy="3137040"/>
          </a:xfrm>
        </p:grpSpPr>
        <p:grpSp>
          <p:nvGrpSpPr>
            <p:cNvPr id="239" name="Group 5"/>
            <p:cNvGrpSpPr/>
            <p:nvPr/>
          </p:nvGrpSpPr>
          <p:grpSpPr>
            <a:xfrm>
              <a:off x="382680" y="1273320"/>
              <a:ext cx="8761320" cy="2952720"/>
              <a:chOff x="382680" y="1273320"/>
              <a:chExt cx="8761320" cy="2952720"/>
            </a:xfrm>
          </p:grpSpPr>
          <p:pic>
            <p:nvPicPr>
              <p:cNvPr id="240" name="Picture 6" descr="laser"/>
              <p:cNvPicPr/>
              <p:nvPr/>
            </p:nvPicPr>
            <p:blipFill>
              <a:blip r:embed="rId1"/>
              <a:srcRect l="3806" t="16214" r="7114" b="16160"/>
              <a:stretch/>
            </p:blipFill>
            <p:spPr>
              <a:xfrm>
                <a:off x="2655720" y="1273320"/>
                <a:ext cx="3400560" cy="2952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1" name="Group 7"/>
              <p:cNvGrpSpPr/>
              <p:nvPr/>
            </p:nvGrpSpPr>
            <p:grpSpPr>
              <a:xfrm>
                <a:off x="4638600" y="1724040"/>
                <a:ext cx="4505400" cy="1180080"/>
                <a:chOff x="4638600" y="1724040"/>
                <a:chExt cx="4505400" cy="1180080"/>
              </a:xfrm>
            </p:grpSpPr>
            <p:sp>
              <p:nvSpPr>
                <p:cNvPr id="242" name="Text Box 8"/>
                <p:cNvSpPr/>
                <p:nvPr/>
              </p:nvSpPr>
              <p:spPr>
                <a:xfrm>
                  <a:off x="6473880" y="1724040"/>
                  <a:ext cx="267012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Comic Sans MS"/>
                      <a:ea typeface="Arial"/>
                    </a:rPr>
                    <a:t>Glass bead ‘floating’ on a laser beam!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Line 9"/>
                <p:cNvSpPr/>
                <p:nvPr/>
              </p:nvSpPr>
              <p:spPr>
                <a:xfrm flipH="1">
                  <a:off x="4638600" y="2105280"/>
                  <a:ext cx="1827360" cy="1267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Text Box 10"/>
                <p:cNvSpPr/>
                <p:nvPr/>
              </p:nvSpPr>
              <p:spPr>
                <a:xfrm>
                  <a:off x="6561000" y="2505240"/>
                  <a:ext cx="23353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Comic Sans MS"/>
                      <a:ea typeface="Arial"/>
                    </a:rPr>
                    <a:t>(AT&amp;T Bell Labs)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5" name="Group 11"/>
              <p:cNvGrpSpPr/>
              <p:nvPr/>
            </p:nvGrpSpPr>
            <p:grpSpPr>
              <a:xfrm>
                <a:off x="382680" y="2398680"/>
                <a:ext cx="4127400" cy="1514160"/>
                <a:chOff x="382680" y="2398680"/>
                <a:chExt cx="4127400" cy="1514160"/>
              </a:xfrm>
            </p:grpSpPr>
            <p:grpSp>
              <p:nvGrpSpPr>
                <p:cNvPr id="246" name="Group 12"/>
                <p:cNvGrpSpPr/>
                <p:nvPr/>
              </p:nvGrpSpPr>
              <p:grpSpPr>
                <a:xfrm>
                  <a:off x="1789200" y="2398680"/>
                  <a:ext cx="2720880" cy="1339920"/>
                  <a:chOff x="1789200" y="2398680"/>
                  <a:chExt cx="2720880" cy="1339920"/>
                </a:xfrm>
              </p:grpSpPr>
              <p:sp>
                <p:nvSpPr>
                  <p:cNvPr id="247" name="Line 13"/>
                  <p:cNvSpPr/>
                  <p:nvPr/>
                </p:nvSpPr>
                <p:spPr>
                  <a:xfrm flipV="1">
                    <a:off x="1789200" y="3722760"/>
                    <a:ext cx="2709720" cy="15840"/>
                  </a:xfrm>
                  <a:prstGeom prst="line">
                    <a:avLst/>
                  </a:prstGeom>
                  <a:ln w="5724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Line 14"/>
                  <p:cNvSpPr/>
                  <p:nvPr/>
                </p:nvSpPr>
                <p:spPr>
                  <a:xfrm flipV="1">
                    <a:off x="4510080" y="2398680"/>
                    <a:ext cx="0" cy="1332000"/>
                  </a:xfrm>
                  <a:prstGeom prst="line">
                    <a:avLst/>
                  </a:prstGeom>
                  <a:ln w="5724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9" name="Text Box 15"/>
                <p:cNvSpPr/>
                <p:nvPr/>
              </p:nvSpPr>
              <p:spPr>
                <a:xfrm>
                  <a:off x="382680" y="3453120"/>
                  <a:ext cx="1400040" cy="459720"/>
                </a:xfrm>
                <a:prstGeom prst="rect">
                  <a:avLst/>
                </a:prstGeom>
                <a:noFill/>
                <a:ln w="12600">
                  <a:solidFill>
                    <a:srgbClr val="00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  <a:ea typeface="Arial"/>
                    </a:rPr>
                    <a:t>Laser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50" name="Text Box 16"/>
            <p:cNvSpPr/>
            <p:nvPr/>
          </p:nvSpPr>
          <p:spPr>
            <a:xfrm>
              <a:off x="214200" y="4011480"/>
              <a:ext cx="1893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7f210"/>
                  </a:solidFill>
                  <a:latin typeface="Comic Sans MS"/>
                  <a:ea typeface="Arial"/>
                </a:rPr>
                <a:t>P = </a:t>
              </a:r>
              <a:r>
                <a:rPr b="0" lang="en-US" sz="2000" spc="-1" strike="noStrike">
                  <a:solidFill>
                    <a:srgbClr val="e7f21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>
                  <a:solidFill>
                    <a:srgbClr val="e7f210"/>
                  </a:solidFill>
                  <a:latin typeface="Comic Sans MS"/>
                  <a:ea typeface="Arial"/>
                </a:rPr>
                <a:t>E/</a:t>
              </a:r>
              <a:r>
                <a:rPr b="0" lang="en-US" sz="2000" spc="-1" strike="noStrike">
                  <a:solidFill>
                    <a:srgbClr val="e7f21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>
                  <a:solidFill>
                    <a:srgbClr val="e7f210"/>
                  </a:solidFill>
                  <a:latin typeface="Comic Sans MS"/>
                  <a:ea typeface="Arial"/>
                </a:rPr>
                <a:t>t = ?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1" name="Text Box 17"/>
          <p:cNvSpPr/>
          <p:nvPr/>
        </p:nvSpPr>
        <p:spPr>
          <a:xfrm>
            <a:off x="7323120" y="6326280"/>
            <a:ext cx="1574640" cy="307080"/>
          </a:xfrm>
          <a:prstGeom prst="rect">
            <a:avLst/>
          </a:prstGeom>
          <a:noFill/>
          <a:ln w="9360">
            <a:solidFill>
              <a:srgbClr val="e7f2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7f210"/>
                </a:solidFill>
                <a:latin typeface="Comic Sans MS"/>
                <a:ea typeface="Arial"/>
              </a:rPr>
              <a:t>Answer: 30 k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8"/>
          <p:cNvSpPr/>
          <p:nvPr/>
        </p:nvSpPr>
        <p:spPr>
          <a:xfrm>
            <a:off x="6742080" y="3106800"/>
            <a:ext cx="1898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7f210"/>
                </a:solidFill>
                <a:latin typeface="Comic Sans MS"/>
                <a:ea typeface="Arial"/>
              </a:rPr>
              <a:t>Assume the bead absorbs all the incident ligh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41320" y="63360"/>
            <a:ext cx="74786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easurement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1219320"/>
            <a:ext cx="78487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does what we measure determine whether we observe wave or particle properti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v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ave wavelength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nd frequency, f.  So, if we measure momentum (wavelength) or energy (frequency), we have observed the wave properties of our objec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ave position (and trajectories).  If we measure position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which slit it went through) we have observed a particle property.  That’s why the “which slit” measurement destroys the interference patt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 that particle and wave properties are incompatible.  One can’t simultaneously measure both wavelength and position.  This is the basis of Heisenberg’s “uncertainty principle”.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more lat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8T23:17:19Z</dcterms:created>
  <dc:creator>jjt</dc:creator>
  <dc:description/>
  <dc:language>en-US</dc:language>
  <cp:lastModifiedBy>kwiat</cp:lastModifiedBy>
  <dcterms:modified xsi:type="dcterms:W3CDTF">2014-08-08T19:40:33Z</dcterms:modified>
  <cp:revision>65</cp:revision>
  <dc:subject/>
  <dc:title>Slide 1</dc:title>
</cp:coreProperties>
</file>