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64F96B2-1E71-41DA-9350-1DB29B697F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4DADE17D-FC9C-4D27-9CAE-AF79D7C738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71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82720" y="4554360"/>
            <a:ext cx="16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7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30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0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3560" y="5416560"/>
            <a:ext cx="2084040" cy="90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Question to pond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Why don’t the tables 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free energy mention T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9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9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0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3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5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2:52:46Z</dcterms:modified>
  <cp:revision>5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