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wmf" ContentType="image/x-wmf"/>
  <Override PartName="/ppt/media/image23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17.jpeg" ContentType="image/jpeg"/>
  <Override PartName="/ppt/media/image19.jpeg" ContentType="image/jpeg"/>
  <Override PartName="/ppt/media/image25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.wmf" ContentType="image/x-wmf"/>
  <Override PartName="/ppt/media/image21.jpeg" ContentType="image/jpe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E272035-C5FA-413F-BD47-82DD3A3C1F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high temp. limit:  &lt;E&gt;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6339FA80-E88C-4170-A50D-CAF29117E3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107440"/>
            <a:ext cx="71769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1440" y="536112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94200"/>
            <a:ext cx="12510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 on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id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9360" y="4300560"/>
            <a:ext cx="457200" cy="243000"/>
          </a:xfrm>
          <a:prstGeom prst="rightArrow">
            <a:avLst>
              <a:gd name="adj1" fmla="val 50000"/>
              <a:gd name="adj2" fmla="val 4703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12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15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170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203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228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01960" y="23684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e supplemental slide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or the algebra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27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27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29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34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34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36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36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7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8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38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39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9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40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41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41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not bond vibrations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42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7320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31400" y="57240"/>
            <a:ext cx="706932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asics of Thermal Radi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960480" y="4764240"/>
          <a:ext cx="30668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4764240"/>
                    <a:ext cx="30668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546120" y="977760"/>
            <a:ext cx="7993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ery object in thermal equilibrium emits (and absorbs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magnetic (EM) waves from its surface. (It glows.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uch? What colo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our purpos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feature of EM waves is that they oscillate with a frequency, f, just like a mechanical oscillator.  Therefore, the energy of an EM wave is a multiple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hf, just like a mechanical oscillator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Each of these packets of energ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hf is called a “photon”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means that in thermal equilibriu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energy of an EM wave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equency f is the same as the averag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of a mechanical oscillator wi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8840" y="928800"/>
            <a:ext cx="2154240" cy="871560"/>
            <a:chOff x="6738840" y="928800"/>
            <a:chExt cx="2154240" cy="871560"/>
          </a:xfrm>
        </p:grpSpPr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6738840" y="928800"/>
              <a:ext cx="215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7245720" y="963720"/>
              <a:ext cx="216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54200" y="1279440"/>
              <a:ext cx="27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69880" y="3602160"/>
            <a:ext cx="4086360" cy="212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110200" y="3513240"/>
            <a:ext cx="3874680" cy="2311560"/>
            <a:chOff x="5110200" y="3513240"/>
            <a:chExt cx="3874680" cy="2311560"/>
          </a:xfrm>
        </p:grpSpPr>
        <p:sp>
          <p:nvSpPr>
            <p:cNvPr id="486" name=""/>
            <p:cNvSpPr/>
            <p:nvPr/>
          </p:nvSpPr>
          <p:spPr>
            <a:xfrm>
              <a:off x="5119560" y="3513240"/>
              <a:ext cx="3862440" cy="2304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5581800" y="3844800"/>
              <a:ext cx="3071520" cy="18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707440" y="5548320"/>
              <a:ext cx="3277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        kT        2kT       3kT        4kT       5kT       6kT  </a:t>
              </a: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10200" y="3520800"/>
              <a:ext cx="686880" cy="21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&lt;E&gt;  </a:t>
              </a: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8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6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4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2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84800" y="607212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frequency modes (such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hf &lt;&lt; kT) satisfy equipartitio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have &lt;E&gt; = kT.  High frequency modes do no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8800" y="3789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786080" y="50990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not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9560" y="3513240"/>
            <a:ext cx="3862440" cy="2305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581800" y="3844800"/>
            <a:ext cx="3071520" cy="1812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118120" y="5548320"/>
            <a:ext cx="387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        kT        2kT       3kT        4kT       5kT       6kT  </a:t>
            </a: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h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8400" y="3510000"/>
            <a:ext cx="690840" cy="23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&lt;E&gt;  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8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6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4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2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1040" y="55440"/>
            <a:ext cx="7440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Planck Radiation Law 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“Black Body Radiation”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5823000"/>
            <a:ext cx="723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formula applies to almost any hot object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doesn’t matt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it’s hot gas on the sun, or the filament of a tungsten la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4280" y="1373040"/>
            <a:ext cx="8566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lculation of &lt;E&gt; on the previous slide is for each mode (specific f).  Howeve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e really want to know is how much energy there is per frequency interv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more frequency modes there are near a particular frequency, the brighter the object is at that frequency.  This is similar to the degeneracy effect from last lec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density of frequency modes is proportional to f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e “Elements” for the derivation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the EM radiation intensity as a function of frequenc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531400" y="3508200"/>
            <a:ext cx="3612600" cy="2354400"/>
            <a:chOff x="5531400" y="3508200"/>
            <a:chExt cx="3612600" cy="2354400"/>
          </a:xfrm>
        </p:grpSpPr>
        <p:sp>
          <p:nvSpPr>
            <p:cNvPr id="503" name=""/>
            <p:cNvSpPr/>
            <p:nvPr/>
          </p:nvSpPr>
          <p:spPr>
            <a:xfrm flipV="1">
              <a:off x="6434280" y="373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35720" y="5299200"/>
              <a:ext cx="254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23040" y="518940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19840" y="5322960"/>
              <a:ext cx="1050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40640" y="5283360"/>
              <a:ext cx="1503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 energ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34280" y="420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4800" y="350820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40600" y="3557520"/>
              <a:ext cx="1508040" cy="580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he peak is at</a:t>
              </a:r>
              <a:br>
                <a:rPr sz="1600"/>
              </a:b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hf = 2.8k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31400" y="418464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98560" y="430056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hf/k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78680" y="4641840"/>
              <a:ext cx="374400" cy="339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47120" y="4735440"/>
              <a:ext cx="11160" cy="3160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8520" y="3900600"/>
            <a:ext cx="5184720" cy="1613880"/>
            <a:chOff x="398520" y="3900600"/>
            <a:chExt cx="5184720" cy="1613880"/>
          </a:xfrm>
        </p:grpSpPr>
        <p:graphicFrame>
          <p:nvGraphicFramePr>
            <p:cNvPr id="516" name=""/>
            <p:cNvGraphicFramePr/>
            <p:nvPr/>
          </p:nvGraphicFramePr>
          <p:xfrm>
            <a:off x="507960" y="3900600"/>
            <a:ext cx="3846600" cy="12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960" y="3900600"/>
                      <a:ext cx="384660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"/>
            <p:cNvSpPr/>
            <p:nvPr/>
          </p:nvSpPr>
          <p:spPr>
            <a:xfrm>
              <a:off x="2219400" y="502524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verage energ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 mo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33640" y="5055480"/>
              <a:ext cx="17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mber of modes per 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28960" y="4148280"/>
              <a:ext cx="560520" cy="62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27160" y="3914640"/>
              <a:ext cx="1782720" cy="11494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8520" y="5049000"/>
              <a:ext cx="142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ergy p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5240" y="63360"/>
            <a:ext cx="871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pendence of Color on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5600" y="1084320"/>
            <a:ext cx="80852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You can also write the Planck distribution in terms of power/unit wavelength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U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)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stead of power/unit frequency, U(f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. The energy distribution varies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192480" y="1884240"/>
          <a:ext cx="22939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2480" y="1884240"/>
                    <a:ext cx="2293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777960" y="3678120"/>
            <a:ext cx="2185920" cy="438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4680" y="3338640"/>
            <a:ext cx="3441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e peak wavelength: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 = 0.00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9 m-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is relation is known a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en’s Displacement la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3560" y="1979640"/>
            <a:ext cx="2015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 = c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f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  </a:t>
            </a:r>
            <a:br>
              <a:rPr sz="1600"/>
            </a:b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(The - sign doesn’t matter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>
            <a:lum contrast="54000"/>
          </a:blip>
          <a:srcRect l="0" t="0" r="0" b="6857"/>
          <a:stretch/>
        </p:blipFill>
        <p:spPr>
          <a:xfrm>
            <a:off x="4354560" y="2946240"/>
            <a:ext cx="4497480" cy="3110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319640" y="32367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U(</a:t>
            </a:r>
            <a:r>
              <a:rPr b="1" lang="en-US" sz="1400" spc="-1" strike="noStrike">
                <a:solidFill>
                  <a:srgbClr val="000040"/>
                </a:solidFill>
                <a:latin typeface="Symbol"/>
                <a:ea typeface="Symbol"/>
              </a:rPr>
              <a:t></a:t>
            </a: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56000" y="6059520"/>
            <a:ext cx="4496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Wavelength (</a:t>
            </a:r>
            <a:r>
              <a:rPr b="0" lang="en-US" sz="1000" spc="-1" strike="noStrike">
                <a:solidFill>
                  <a:srgbClr val="00004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63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78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87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92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97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104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105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6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3-02-18T03:36:04Z</dcterms:modified>
  <cp:revision>602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