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07C7730-BAAF-4F0F-A641-EDB4E6D800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188720" y="70488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hyperlink" Target="http://gizmodo.com/gadgets/darwin-at-work/why-you-shouldnt-smash-a-can-of-wd+40-280250.php" TargetMode="External"/><Relationship Id="rId2" Type="http://schemas.openxmlformats.org/officeDocument/2006/relationships/slide" Target="../slides/slide15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5A34A048-6F21-40BD-A9E2-1D13B3AF28A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F5A39D64-8D1C-436E-B75A-4E7A25584FE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ntro.chem.okstate.edu/1314F00/Laboratory/GLP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5" name="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6" name="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" name="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0" name="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5000"/>
          </a:bodyPr>
          <a:p>
            <a:pPr marL="148320" indent="-1483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47" name="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48" name="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52" name="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57" name="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360" y="5759280"/>
            <a:ext cx="870732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275" name="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277" name="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281" name="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301" name="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32" name="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7" name="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41" name="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http://intro.chem.okstate.edu/1314F00/Laboratory/GLP.ht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80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3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18" name="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02-18T18:26:54Z</dcterms:modified>
  <cp:revision>3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