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68FE128-2601-4987-BF64-E2318991FC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188720" y="70488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hyperlink" Target="http://gizmodo.com/gadgets/darwin-at-work/why-you-shouldnt-smash-a-can-of-wd+40-280250.php" TargetMode="External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9896C67C-7402-4AEE-8390-A190E23E0F0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C6D00556-3E71-418D-A933-D1F470D2A65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48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52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7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275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277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281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0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3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18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18:26:54Z</dcterms:modified>
  <cp:revision>3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