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9.xml" ContentType="application/vnd.openxmlformats-officedocument.presentationml.notesSlide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9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871000" y="8854920"/>
            <a:ext cx="127044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DEF10C71-E038-4C92-B17B-C448A66D77E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y car 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y car 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know there’s a pressure drop. How?  Your ears pop when you go up.  He balloons rise – dem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started with a quick 211 derivation of the pressure gradient: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balloons rise because the pressure at the top is less than the pressure at the botto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ualize forces:  p(h) A + mg = p(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(h) – p(0) = -mg/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P/dh = mg/Ag = mg/v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 = 10 g, Vol = (.2 m)^3 -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dp/dh = 12.2 Pa/m  (compare later on with calculated value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540560" y="6632640"/>
            <a:ext cx="21002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8, p </a:t>
            </a:r>
            <a:fld id="{7FE84951-C889-427A-AF6F-6B178DA97213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57480" indent="-171720">
              <a:lnSpc>
                <a:spcPct val="90000"/>
              </a:lnSpc>
              <a:spcBef>
                <a:spcPts val="675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7540560" y="6632640"/>
            <a:ext cx="21002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8, p </a:t>
            </a:r>
            <a:fld id="{54710875-0757-4D25-B678-6221D87AC418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57480" indent="-171720">
              <a:lnSpc>
                <a:spcPct val="90000"/>
              </a:lnSpc>
              <a:spcBef>
                <a:spcPts val="675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971640" y="96840"/>
            <a:ext cx="7162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cture 18</a:t>
            </a:r>
            <a:br>
              <a:rPr sz="1600"/>
            </a:br>
            <a:br>
              <a:rPr sz="2800"/>
            </a:br>
            <a:r>
              <a:rPr b="0" lang="en-US" sz="2800" spc="-1" strike="noStrike">
                <a:solidFill>
                  <a:srgbClr val="ff9966"/>
                </a:solidFill>
                <a:latin typeface="Arial"/>
              </a:rPr>
              <a:t>Review &amp; Examp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4880" y="5232240"/>
            <a:ext cx="76320" cy="76320"/>
          </a:xfrm>
          <a:prstGeom prst="ellips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214280" y="5506920"/>
            <a:ext cx="23623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927360" y="53071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251000" y="3692520"/>
            <a:ext cx="0" cy="17985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1397160" y="3846600"/>
            <a:ext cx="1904400" cy="1675800"/>
            <a:chOff x="1397160" y="3846600"/>
            <a:chExt cx="1904400" cy="1675800"/>
          </a:xfrm>
        </p:grpSpPr>
        <p:sp>
          <p:nvSpPr>
            <p:cNvPr id="88" name=""/>
            <p:cNvSpPr/>
            <p:nvPr/>
          </p:nvSpPr>
          <p:spPr>
            <a:xfrm>
              <a:off x="2616120" y="544644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158920" y="5294160"/>
              <a:ext cx="75960" cy="7560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387520" y="514152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930320" y="5294160"/>
              <a:ext cx="75960" cy="7560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844720" y="521784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701720" y="5065560"/>
              <a:ext cx="75960" cy="7560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82600" y="514152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539800" y="5065560"/>
              <a:ext cx="75960" cy="7560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235240" y="4989240"/>
              <a:ext cx="7560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625400" y="4836960"/>
              <a:ext cx="75960" cy="7560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930320" y="491292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311200" y="476064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073320" y="498924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082600" y="4608360"/>
              <a:ext cx="75960" cy="7560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692440" y="4836960"/>
              <a:ext cx="75600" cy="7560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549440" y="4455720"/>
              <a:ext cx="7560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463840" y="4151160"/>
              <a:ext cx="75600" cy="7560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225600" y="468432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539800" y="445572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006640" y="4227120"/>
              <a:ext cx="7560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921040" y="4227120"/>
              <a:ext cx="7560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539800" y="5294160"/>
              <a:ext cx="75960" cy="7560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463840" y="5370120"/>
              <a:ext cx="7560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311200" y="544644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25400" y="544644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9440" y="5370120"/>
              <a:ext cx="7560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397160" y="537012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549440" y="5217840"/>
              <a:ext cx="7560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473120" y="5065560"/>
              <a:ext cx="75960" cy="7560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35240" y="5370120"/>
              <a:ext cx="7560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006640" y="5446440"/>
              <a:ext cx="7560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854000" y="537012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701720" y="537012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701720" y="521784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387520" y="5294160"/>
              <a:ext cx="75960" cy="7560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768400" y="5294160"/>
              <a:ext cx="75960" cy="7560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997000" y="521784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539800" y="521784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225600" y="521784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073320" y="5294160"/>
              <a:ext cx="75960" cy="7560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73320" y="544644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768400" y="544644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921040" y="5370120"/>
              <a:ext cx="7560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844720" y="537012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225600" y="544644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225600" y="407484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625400" y="3922560"/>
              <a:ext cx="75960" cy="7560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692440" y="3846600"/>
              <a:ext cx="7560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6" name=""/>
          <p:cNvSpPr/>
          <p:nvPr/>
        </p:nvSpPr>
        <p:spPr>
          <a:xfrm>
            <a:off x="929160" y="36050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h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511280" y="5497560"/>
            <a:ext cx="160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MS PGothic"/>
              </a:rPr>
              <a:t>Earth’s surfac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200480" y="4857840"/>
            <a:ext cx="4299120" cy="631800"/>
          </a:xfrm>
          <a:prstGeom prst="rect">
            <a:avLst/>
          </a:prstGeom>
          <a:solidFill>
            <a:srgbClr val="ff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40"/>
                </a:solidFill>
                <a:latin typeface="Arial"/>
              </a:rPr>
              <a:t>Thermal Bath, 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335480" y="4132440"/>
            <a:ext cx="4073400" cy="712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6537240" y="4265640"/>
            <a:ext cx="1768680" cy="516960"/>
            <a:chOff x="6537240" y="4265640"/>
            <a:chExt cx="1768680" cy="516960"/>
          </a:xfrm>
        </p:grpSpPr>
        <p:sp>
          <p:nvSpPr>
            <p:cNvPr id="141" name=""/>
            <p:cNvSpPr/>
            <p:nvPr/>
          </p:nvSpPr>
          <p:spPr>
            <a:xfrm>
              <a:off x="6537240" y="4265640"/>
              <a:ext cx="88920" cy="8856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972480" y="4498560"/>
              <a:ext cx="88920" cy="8856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594560" y="4355640"/>
              <a:ext cx="88920" cy="8856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17000" y="4562280"/>
              <a:ext cx="88920" cy="8856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966080" y="4323960"/>
              <a:ext cx="88920" cy="8856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913800" y="4266720"/>
              <a:ext cx="88920" cy="8856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899480" y="4660560"/>
              <a:ext cx="88920" cy="8856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402680" y="4444560"/>
              <a:ext cx="88920" cy="8856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681960" y="4582800"/>
              <a:ext cx="88920" cy="8856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185240" y="4694040"/>
              <a:ext cx="88920" cy="8856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4459320" y="4241880"/>
            <a:ext cx="1689120" cy="552240"/>
            <a:chOff x="4459320" y="4241880"/>
            <a:chExt cx="1689120" cy="552240"/>
          </a:xfrm>
        </p:grpSpPr>
        <p:sp>
          <p:nvSpPr>
            <p:cNvPr id="152" name=""/>
            <p:cNvSpPr/>
            <p:nvPr/>
          </p:nvSpPr>
          <p:spPr>
            <a:xfrm>
              <a:off x="4616640" y="4346640"/>
              <a:ext cx="88920" cy="88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459320" y="4552920"/>
              <a:ext cx="88920" cy="88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921200" y="4651560"/>
              <a:ext cx="88920" cy="88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518080" y="4641840"/>
              <a:ext cx="88920" cy="88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611600" y="4705560"/>
              <a:ext cx="88920" cy="885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938840" y="4388040"/>
              <a:ext cx="88920" cy="88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400720" y="4270320"/>
              <a:ext cx="88920" cy="88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727960" y="4435560"/>
              <a:ext cx="88560" cy="88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261040" y="4562640"/>
              <a:ext cx="88920" cy="88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000840" y="4627440"/>
              <a:ext cx="88920" cy="88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059520" y="4241880"/>
              <a:ext cx="88920" cy="88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5256360" y="3794040"/>
            <a:ext cx="22334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G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348240" y="4140360"/>
            <a:ext cx="0" cy="6904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/>
          <p:nvPr/>
        </p:nvSpPr>
        <p:spPr>
          <a:xfrm>
            <a:off x="328680" y="3308400"/>
            <a:ext cx="8443800" cy="20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Assuming the system is in equilibrium, compare the chemical potentials at height 0 and height h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(0)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&lt;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(h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(0)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=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(h)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(0)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&gt;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(h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774720" y="72720"/>
            <a:ext cx="760104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2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375" name=""/>
          <p:cNvGrpSpPr/>
          <p:nvPr/>
        </p:nvGrpSpPr>
        <p:grpSpPr>
          <a:xfrm>
            <a:off x="4976640" y="1023840"/>
            <a:ext cx="2446560" cy="1685520"/>
            <a:chOff x="4976640" y="1023840"/>
            <a:chExt cx="2446560" cy="1685520"/>
          </a:xfrm>
        </p:grpSpPr>
        <p:sp>
          <p:nvSpPr>
            <p:cNvPr id="376" name="Text Box 9"/>
            <p:cNvSpPr/>
            <p:nvPr/>
          </p:nvSpPr>
          <p:spPr>
            <a:xfrm>
              <a:off x="7118280" y="2136600"/>
              <a:ext cx="3049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77" name=""/>
            <p:cNvGrpSpPr/>
            <p:nvPr/>
          </p:nvGrpSpPr>
          <p:grpSpPr>
            <a:xfrm>
              <a:off x="4976640" y="1071360"/>
              <a:ext cx="2362320" cy="1638000"/>
              <a:chOff x="4976640" y="1071360"/>
              <a:chExt cx="2362320" cy="1638000"/>
            </a:xfrm>
          </p:grpSpPr>
          <p:sp>
            <p:nvSpPr>
              <p:cNvPr id="378" name="Line 8"/>
              <p:cNvSpPr/>
              <p:nvPr/>
            </p:nvSpPr>
            <p:spPr>
              <a:xfrm flipV="1">
                <a:off x="4976640" y="1071360"/>
                <a:ext cx="0" cy="163800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9" name="Line 12"/>
              <p:cNvSpPr/>
              <p:nvPr/>
            </p:nvSpPr>
            <p:spPr>
              <a:xfrm>
                <a:off x="4976640" y="2709360"/>
                <a:ext cx="2362320" cy="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80" name=""/>
            <p:cNvSpPr/>
            <p:nvPr/>
          </p:nvSpPr>
          <p:spPr>
            <a:xfrm>
              <a:off x="7112160" y="10476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h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81" name=""/>
            <p:cNvGrpSpPr/>
            <p:nvPr/>
          </p:nvGrpSpPr>
          <p:grpSpPr>
            <a:xfrm>
              <a:off x="6114960" y="1023840"/>
              <a:ext cx="790560" cy="456840"/>
              <a:chOff x="6114960" y="1023840"/>
              <a:chExt cx="790560" cy="456840"/>
            </a:xfrm>
          </p:grpSpPr>
          <p:sp>
            <p:nvSpPr>
              <p:cNvPr id="382" name="Text Box 65"/>
              <p:cNvSpPr/>
              <p:nvPr/>
            </p:nvSpPr>
            <p:spPr>
              <a:xfrm>
                <a:off x="6229800" y="1074600"/>
                <a:ext cx="59544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MS PGothic"/>
                  </a:rPr>
                  <a:t>p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MS PGothic"/>
                  </a:rPr>
                  <a:t>, n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  <a:ea typeface="MS PGothic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6114960" y="1023840"/>
                <a:ext cx="790560" cy="45684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84" name=""/>
            <p:cNvGrpSpPr/>
            <p:nvPr/>
          </p:nvGrpSpPr>
          <p:grpSpPr>
            <a:xfrm>
              <a:off x="6114960" y="2152440"/>
              <a:ext cx="790560" cy="456840"/>
              <a:chOff x="6114960" y="2152440"/>
              <a:chExt cx="790560" cy="456840"/>
            </a:xfrm>
          </p:grpSpPr>
          <p:sp>
            <p:nvSpPr>
              <p:cNvPr id="385" name="Text Box 65"/>
              <p:cNvSpPr/>
              <p:nvPr/>
            </p:nvSpPr>
            <p:spPr>
              <a:xfrm>
                <a:off x="6231600" y="2210760"/>
                <a:ext cx="59544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MS PGothic"/>
                  </a:rPr>
                  <a:t>p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  <a:ea typeface="MS PGothic"/>
                  </a:rPr>
                  <a:t>1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MS PGothic"/>
                  </a:rPr>
                  <a:t>, n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  <a:ea typeface="MS PGothic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6114960" y="2152440"/>
                <a:ext cx="790560" cy="45684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87" name=""/>
          <p:cNvSpPr/>
          <p:nvPr/>
        </p:nvSpPr>
        <p:spPr>
          <a:xfrm>
            <a:off x="3017880" y="2421000"/>
            <a:ext cx="76320" cy="75960"/>
          </a:xfrm>
          <a:prstGeom prst="ellips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187280" y="2695680"/>
            <a:ext cx="23623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900360" y="2495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506760" y="835200"/>
            <a:ext cx="1187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Pressur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p(h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p(0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 flipV="1">
            <a:off x="1224000" y="880560"/>
            <a:ext cx="0" cy="17989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1370160" y="1035000"/>
            <a:ext cx="1904400" cy="1676520"/>
            <a:chOff x="1370160" y="1035000"/>
            <a:chExt cx="1904400" cy="1676520"/>
          </a:xfrm>
        </p:grpSpPr>
        <p:sp>
          <p:nvSpPr>
            <p:cNvPr id="393" name=""/>
            <p:cNvSpPr/>
            <p:nvPr/>
          </p:nvSpPr>
          <p:spPr>
            <a:xfrm>
              <a:off x="2589120" y="2635200"/>
              <a:ext cx="7596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2131920" y="248292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2360520" y="2330280"/>
              <a:ext cx="7596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3320" y="248292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2817720" y="2406600"/>
              <a:ext cx="7596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674720" y="225432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2055600" y="2330280"/>
              <a:ext cx="7596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2512800" y="225432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2208240" y="2178000"/>
              <a:ext cx="7560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1598400" y="202572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1903320" y="2101680"/>
              <a:ext cx="7596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284200" y="1949400"/>
              <a:ext cx="7596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3046320" y="2178000"/>
              <a:ext cx="7596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055600" y="179712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665440" y="2025720"/>
              <a:ext cx="7560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522440" y="1644480"/>
              <a:ext cx="7560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436840" y="1339920"/>
              <a:ext cx="7560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3198600" y="1873080"/>
              <a:ext cx="7596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2512800" y="1644480"/>
              <a:ext cx="7596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979640" y="1415880"/>
              <a:ext cx="7560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894040" y="1415880"/>
              <a:ext cx="7560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2512800" y="248292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2436840" y="2558880"/>
              <a:ext cx="7560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2284200" y="2635200"/>
              <a:ext cx="7596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598400" y="2635200"/>
              <a:ext cx="7596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1522440" y="2558880"/>
              <a:ext cx="7560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370160" y="2558880"/>
              <a:ext cx="7596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522440" y="2406600"/>
              <a:ext cx="7560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446120" y="225432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208240" y="2558880"/>
              <a:ext cx="7560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1979640" y="2635200"/>
              <a:ext cx="7560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1827000" y="2558880"/>
              <a:ext cx="7596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1674720" y="2558880"/>
              <a:ext cx="7596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1674720" y="2406600"/>
              <a:ext cx="7596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2360520" y="248292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741400" y="248292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970000" y="2406600"/>
              <a:ext cx="7596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512800" y="2406600"/>
              <a:ext cx="7596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198600" y="2406600"/>
              <a:ext cx="7596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3046320" y="248292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46320" y="2635200"/>
              <a:ext cx="7596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741400" y="2635200"/>
              <a:ext cx="7596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2894040" y="2558880"/>
              <a:ext cx="7560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2817720" y="2558880"/>
              <a:ext cx="7596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198600" y="2635200"/>
              <a:ext cx="7596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3198600" y="1263600"/>
              <a:ext cx="7596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1598400" y="111132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2665440" y="1035000"/>
              <a:ext cx="7560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41" name=""/>
          <p:cNvSpPr/>
          <p:nvPr/>
        </p:nvSpPr>
        <p:spPr>
          <a:xfrm>
            <a:off x="902160" y="793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h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484280" y="2685960"/>
            <a:ext cx="160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MS PGothic"/>
              </a:rPr>
              <a:t>Earth’s surfac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Text Box 32"/>
          <p:cNvSpPr/>
          <p:nvPr/>
        </p:nvSpPr>
        <p:spPr>
          <a:xfrm>
            <a:off x="447840" y="1214280"/>
            <a:ext cx="8391240" cy="417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3200400"/>
                <a:tab algn="l" pos="565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MS PGothic"/>
              </a:rPr>
              <a:t>The two regions can exchange particles (molecules),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MS PGothic"/>
              </a:rPr>
              <a:t>so imagine that they are connected by a narrow tube.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MS PGothic"/>
              </a:rPr>
              <a:t>The rest of the atmosphere is the thermal reservoir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3200400"/>
                <a:tab algn="l" pos="565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Equilibrium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MS PGothic"/>
              </a:rPr>
              <a:t>	</a:t>
            </a:r>
            <a:r>
              <a:rPr b="0" i="1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i="1" lang="en-US" sz="2400" spc="-1" strike="noStrike" baseline="-25000">
                <a:solidFill>
                  <a:srgbClr val="ffff00"/>
                </a:solidFill>
                <a:latin typeface="Arial"/>
                <a:ea typeface="MS PGothic"/>
              </a:rPr>
              <a:t>1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MS PGothic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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MS PGothic"/>
              </a:rPr>
              <a:t> </a:t>
            </a:r>
            <a:r>
              <a:rPr b="0" i="1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i="1" lang="en-US" sz="2400" spc="-1" strike="noStrike" baseline="-25000">
                <a:solidFill>
                  <a:srgbClr val="ffff00"/>
                </a:solidFill>
                <a:latin typeface="Arial"/>
                <a:ea typeface="MS PGothic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3200400"/>
                <a:tab algn="l" pos="565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Chemical potential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MS PGothic"/>
              </a:rPr>
              <a:t> (ideal gas)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3200400"/>
                <a:tab algn="l" pos="565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3200400"/>
                <a:tab algn="l" pos="565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Solution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3200400"/>
                <a:tab algn="l" pos="565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200400"/>
                <a:tab algn="l" pos="565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Ideal gas law: p/n = kT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  <a:ea typeface="MS PGothic"/>
              </a:rPr>
              <a:t>   </a:t>
            </a:r>
            <a:r>
              <a:rPr b="1" lang="en-US" sz="1600" spc="-1" strike="noStrike">
                <a:solidFill>
                  <a:srgbClr val="00ffff"/>
                </a:solidFill>
                <a:latin typeface="Arial"/>
                <a:ea typeface="MS PGothic"/>
              </a:rPr>
              <a:t>(T</a:t>
            </a:r>
            <a:r>
              <a:rPr b="1" lang="en-US" sz="1600" spc="-1" strike="noStrike" baseline="-25000">
                <a:solidFill>
                  <a:srgbClr val="00ffff"/>
                </a:solidFill>
                <a:latin typeface="Arial"/>
                <a:ea typeface="MS PGothic"/>
              </a:rPr>
              <a:t>1</a:t>
            </a:r>
            <a:r>
              <a:rPr b="1" lang="en-US" sz="1600" spc="-1" strike="noStrike">
                <a:solidFill>
                  <a:srgbClr val="00ffff"/>
                </a:solidFill>
                <a:latin typeface="Arial"/>
                <a:ea typeface="MS PGothic"/>
              </a:rPr>
              <a:t> = T</a:t>
            </a:r>
            <a:r>
              <a:rPr b="1" lang="en-US" sz="1600" spc="-1" strike="noStrike" baseline="-25000">
                <a:solidFill>
                  <a:srgbClr val="00ffff"/>
                </a:solidFill>
                <a:latin typeface="Arial"/>
                <a:ea typeface="MS PGothic"/>
              </a:rPr>
              <a:t>2</a:t>
            </a:r>
            <a:r>
              <a:rPr b="1" lang="en-US" sz="1600" spc="-1" strike="noStrike">
                <a:solidFill>
                  <a:srgbClr val="00ffff"/>
                </a:solidFill>
                <a:latin typeface="Arial"/>
                <a:ea typeface="MS PGothic"/>
              </a:rPr>
              <a:t> in equilibrium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44" name=""/>
          <p:cNvGraphicFramePr/>
          <p:nvPr/>
        </p:nvGraphicFramePr>
        <p:xfrm>
          <a:off x="223920" y="4038480"/>
          <a:ext cx="1334880" cy="2595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3920" y="4038480"/>
                    <a:ext cx="1334880" cy="259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6" name="Rectangle 5"/>
          <p:cNvSpPr/>
          <p:nvPr/>
        </p:nvSpPr>
        <p:spPr>
          <a:xfrm>
            <a:off x="4419720" y="55627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47" name=""/>
          <p:cNvGraphicFramePr/>
          <p:nvPr/>
        </p:nvGraphicFramePr>
        <p:xfrm>
          <a:off x="3703680" y="2698920"/>
          <a:ext cx="2502000" cy="1641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03680" y="2698920"/>
                    <a:ext cx="2502000" cy="164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9" name="Rectangle 2"/>
          <p:cNvSpPr/>
          <p:nvPr/>
        </p:nvSpPr>
        <p:spPr>
          <a:xfrm>
            <a:off x="826920" y="65160"/>
            <a:ext cx="754380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 Law of Atmospheres (2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50" name=""/>
          <p:cNvGrpSpPr/>
          <p:nvPr/>
        </p:nvGrpSpPr>
        <p:grpSpPr>
          <a:xfrm>
            <a:off x="6988320" y="1330200"/>
            <a:ext cx="1263600" cy="2455920"/>
            <a:chOff x="6988320" y="1330200"/>
            <a:chExt cx="1263600" cy="2455920"/>
          </a:xfrm>
        </p:grpSpPr>
        <p:sp>
          <p:nvSpPr>
            <p:cNvPr id="451" name="Text Box 7"/>
            <p:cNvSpPr/>
            <p:nvPr/>
          </p:nvSpPr>
          <p:spPr>
            <a:xfrm>
              <a:off x="6988320" y="1330200"/>
              <a:ext cx="564840" cy="5554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p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2</a:t>
              </a:r>
              <a:br>
                <a:rPr sz="1400"/>
              </a:b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N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Text Box 27"/>
            <p:cNvSpPr/>
            <p:nvPr/>
          </p:nvSpPr>
          <p:spPr>
            <a:xfrm>
              <a:off x="7869240" y="2253960"/>
              <a:ext cx="382680" cy="37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h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Line 28"/>
            <p:cNvSpPr/>
            <p:nvPr/>
          </p:nvSpPr>
          <p:spPr>
            <a:xfrm>
              <a:off x="7818480" y="3557520"/>
              <a:ext cx="3715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Line 29"/>
            <p:cNvSpPr/>
            <p:nvPr/>
          </p:nvSpPr>
          <p:spPr>
            <a:xfrm>
              <a:off x="7788240" y="1611000"/>
              <a:ext cx="3715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" name="Line 30"/>
            <p:cNvSpPr/>
            <p:nvPr/>
          </p:nvSpPr>
          <p:spPr>
            <a:xfrm flipV="1">
              <a:off x="7988400" y="1612800"/>
              <a:ext cx="6120" cy="619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" name="Line 31"/>
            <p:cNvSpPr/>
            <p:nvPr/>
          </p:nvSpPr>
          <p:spPr>
            <a:xfrm>
              <a:off x="7996320" y="2707920"/>
              <a:ext cx="0" cy="841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" name="Text Box 7"/>
            <p:cNvSpPr/>
            <p:nvPr/>
          </p:nvSpPr>
          <p:spPr>
            <a:xfrm>
              <a:off x="6988320" y="3230280"/>
              <a:ext cx="564840" cy="55584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p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1</a:t>
              </a:r>
              <a:br>
                <a:rPr sz="1400"/>
              </a:b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N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05760" y="1881000"/>
              <a:ext cx="96840" cy="134604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012680" y="72720"/>
            <a:ext cx="712008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Work from Free Energy </a:t>
            </a:r>
            <a:br>
              <a:rPr sz="3600"/>
            </a:b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Due to Non-equilibrium </a:t>
            </a:r>
            <a:r>
              <a:rPr b="0" lang="en-US" sz="3600" spc="-1" strike="noStrike">
                <a:solidFill>
                  <a:srgbClr val="ff9966"/>
                </a:solidFill>
                <a:latin typeface="Symbol"/>
                <a:ea typeface="Symbol"/>
              </a:rPr>
              <a:t>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747360" y="1316160"/>
            <a:ext cx="7397640" cy="39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Mechanical Work  (isothermal expansion of N particles at temp T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3890880" y="1665360"/>
            <a:ext cx="17258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6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      n</a:t>
            </a:r>
            <a:r>
              <a:rPr b="0" lang="en-US" sz="16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639720" y="2049480"/>
            <a:ext cx="30402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Quasi-static expansion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an external force on the piston prevents it from being free expansion)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1278000" y="4513320"/>
            <a:ext cx="6907320" cy="173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147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W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by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-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= -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U + T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1147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= NkT ln(V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/V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nstant T 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U = 0 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(ideal gas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47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Look familiar? Same old physics, different languag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47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n we use these concepts to do something new ??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66" name=""/>
          <p:cNvGrpSpPr/>
          <p:nvPr/>
        </p:nvGrpSpPr>
        <p:grpSpPr>
          <a:xfrm>
            <a:off x="3483000" y="2023920"/>
            <a:ext cx="3040200" cy="811440"/>
            <a:chOff x="3483000" y="2023920"/>
            <a:chExt cx="3040200" cy="811440"/>
          </a:xfrm>
        </p:grpSpPr>
        <p:sp>
          <p:nvSpPr>
            <p:cNvPr id="467" name=""/>
            <p:cNvSpPr/>
            <p:nvPr/>
          </p:nvSpPr>
          <p:spPr>
            <a:xfrm>
              <a:off x="4067280" y="2476440"/>
              <a:ext cx="74520" cy="745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3778200" y="2278080"/>
              <a:ext cx="74520" cy="745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3754440" y="2658960"/>
              <a:ext cx="74520" cy="748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70" name=""/>
            <p:cNvGrpSpPr/>
            <p:nvPr/>
          </p:nvGrpSpPr>
          <p:grpSpPr>
            <a:xfrm>
              <a:off x="3492360" y="2023920"/>
              <a:ext cx="2060640" cy="811440"/>
              <a:chOff x="3492360" y="2023920"/>
              <a:chExt cx="2060640" cy="811440"/>
            </a:xfrm>
          </p:grpSpPr>
          <p:sp>
            <p:nvSpPr>
              <p:cNvPr id="471" name=""/>
              <p:cNvSpPr/>
              <p:nvPr/>
            </p:nvSpPr>
            <p:spPr>
              <a:xfrm>
                <a:off x="3493800" y="2023920"/>
                <a:ext cx="20574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3495600" y="2835360"/>
                <a:ext cx="20574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4446360" y="2063880"/>
                <a:ext cx="1800" cy="739800"/>
              </a:xfrm>
              <a:prstGeom prst="line">
                <a:avLst/>
              </a:prstGeom>
              <a:ln w="76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3666960" y="2125800"/>
                <a:ext cx="74520" cy="7452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3938400" y="2187720"/>
                <a:ext cx="74520" cy="7452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3757320" y="2482920"/>
                <a:ext cx="74880" cy="7452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4246560" y="2419560"/>
                <a:ext cx="74520" cy="7452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4195800" y="2147760"/>
                <a:ext cx="74520" cy="748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480" bIns="6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3584520" y="2341440"/>
                <a:ext cx="74520" cy="748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480" bIns="6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3921120" y="2622600"/>
                <a:ext cx="74520" cy="7452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4227480" y="2621160"/>
                <a:ext cx="74520" cy="7452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4060800" y="2298600"/>
                <a:ext cx="74520" cy="748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480" bIns="6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3919320" y="2409840"/>
                <a:ext cx="74520" cy="7452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3595680" y="2654280"/>
                <a:ext cx="74520" cy="7452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3492360" y="2028960"/>
                <a:ext cx="0" cy="7905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86" name=""/>
            <p:cNvSpPr/>
            <p:nvPr/>
          </p:nvSpPr>
          <p:spPr>
            <a:xfrm>
              <a:off x="4500720" y="2430360"/>
              <a:ext cx="506160" cy="0"/>
            </a:xfrm>
            <a:prstGeom prst="line">
              <a:avLst/>
            </a:prstGeom>
            <a:ln w="936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5045040" y="2071800"/>
              <a:ext cx="1800" cy="73980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227560" y="2257560"/>
              <a:ext cx="892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vacuum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3483000" y="2030400"/>
              <a:ext cx="3040200" cy="7938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90" name=""/>
          <p:cNvSpPr/>
          <p:nvPr/>
        </p:nvSpPr>
        <p:spPr>
          <a:xfrm>
            <a:off x="3178080" y="2835360"/>
            <a:ext cx="3689280" cy="631800"/>
          </a:xfrm>
          <a:prstGeom prst="rect">
            <a:avLst/>
          </a:prstGeom>
          <a:solidFill>
            <a:srgbClr val="ff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ermal Bath, 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1300320" y="5857920"/>
            <a:ext cx="5608440" cy="3348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302400" y="1554120"/>
            <a:ext cx="6958080" cy="319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Consider this situation. 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wo different ideal gases,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at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qual pressure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.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one starts on the left,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nd one on the right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each will expand to fill the volume. 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n this situation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w much work, if any, could be extracted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0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(N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G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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N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kT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(N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+N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kT*ln(2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4660920" y="2373480"/>
            <a:ext cx="4298760" cy="631800"/>
          </a:xfrm>
          <a:prstGeom prst="rect">
            <a:avLst/>
          </a:prstGeom>
          <a:solidFill>
            <a:srgbClr val="ff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40"/>
                </a:solidFill>
                <a:latin typeface="Arial"/>
              </a:rPr>
              <a:t>Thermal Bath, 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4795920" y="1647720"/>
            <a:ext cx="4073400" cy="712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95" name=""/>
          <p:cNvGrpSpPr/>
          <p:nvPr/>
        </p:nvGrpSpPr>
        <p:grpSpPr>
          <a:xfrm>
            <a:off x="6997680" y="1781280"/>
            <a:ext cx="1767960" cy="516960"/>
            <a:chOff x="6997680" y="1781280"/>
            <a:chExt cx="1767960" cy="516960"/>
          </a:xfrm>
        </p:grpSpPr>
        <p:sp>
          <p:nvSpPr>
            <p:cNvPr id="496" name=""/>
            <p:cNvSpPr/>
            <p:nvPr/>
          </p:nvSpPr>
          <p:spPr>
            <a:xfrm>
              <a:off x="6997680" y="1781280"/>
              <a:ext cx="88560" cy="8856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7432560" y="2014200"/>
              <a:ext cx="88560" cy="8856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8054640" y="1871280"/>
              <a:ext cx="88560" cy="8856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8677080" y="2077920"/>
              <a:ext cx="88560" cy="8856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8426160" y="1839600"/>
              <a:ext cx="88560" cy="8856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7373880" y="1782360"/>
              <a:ext cx="88560" cy="8856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8359560" y="2176200"/>
              <a:ext cx="88560" cy="8856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7862760" y="1960200"/>
              <a:ext cx="88560" cy="8856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7142040" y="2098440"/>
              <a:ext cx="88560" cy="8856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7645320" y="2209680"/>
              <a:ext cx="88560" cy="8856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06" name=""/>
          <p:cNvGrpSpPr/>
          <p:nvPr/>
        </p:nvGrpSpPr>
        <p:grpSpPr>
          <a:xfrm>
            <a:off x="4919760" y="1757520"/>
            <a:ext cx="1689120" cy="552240"/>
            <a:chOff x="4919760" y="1757520"/>
            <a:chExt cx="1689120" cy="552240"/>
          </a:xfrm>
        </p:grpSpPr>
        <p:sp>
          <p:nvSpPr>
            <p:cNvPr id="507" name=""/>
            <p:cNvSpPr/>
            <p:nvPr/>
          </p:nvSpPr>
          <p:spPr>
            <a:xfrm>
              <a:off x="5077080" y="1862280"/>
              <a:ext cx="88920" cy="88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4919760" y="2068560"/>
              <a:ext cx="88920" cy="88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5381640" y="2167200"/>
              <a:ext cx="88920" cy="88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5978520" y="2157480"/>
              <a:ext cx="88920" cy="88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5072040" y="2221200"/>
              <a:ext cx="88920" cy="885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5399280" y="1903680"/>
              <a:ext cx="88920" cy="88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5861160" y="1785960"/>
              <a:ext cx="88920" cy="88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6188400" y="1951200"/>
              <a:ext cx="88560" cy="88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5721480" y="2078280"/>
              <a:ext cx="88920" cy="88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6461280" y="2143080"/>
              <a:ext cx="88920" cy="88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6519960" y="1757520"/>
              <a:ext cx="88920" cy="88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8" name=""/>
          <p:cNvSpPr/>
          <p:nvPr/>
        </p:nvSpPr>
        <p:spPr>
          <a:xfrm>
            <a:off x="5497560" y="1281240"/>
            <a:ext cx="22334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G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774720" y="72720"/>
            <a:ext cx="760104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3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"/>
          <p:cNvSpPr/>
          <p:nvPr/>
        </p:nvSpPr>
        <p:spPr>
          <a:xfrm>
            <a:off x="415800" y="3297240"/>
            <a:ext cx="8277480" cy="34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quilibrium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Both gases will have expanded to fill the entire volume.  The purple molecules will have done work, 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W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N</a:t>
            </a:r>
            <a:r>
              <a:rPr b="0" i="1" lang="en-US" sz="1800" spc="-1" strike="noStrike" baseline="-25000">
                <a:solidFill>
                  <a:srgbClr val="00ffff"/>
                </a:solidFill>
                <a:latin typeface="Arial"/>
              </a:rPr>
              <a:t>p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k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ln2, on the membrane (quasistatic expansion).  The free energy of the green molecules is lost (free expansion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uestion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Can we get the green gas to do work as well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1509840" y="2492280"/>
            <a:ext cx="4298760" cy="631800"/>
          </a:xfrm>
          <a:prstGeom prst="rect">
            <a:avLst/>
          </a:prstGeom>
          <a:solidFill>
            <a:srgbClr val="ff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40"/>
                </a:solidFill>
                <a:latin typeface="Arial"/>
              </a:rPr>
              <a:t>Thermal Bath, 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1644480" y="1766880"/>
            <a:ext cx="4073760" cy="712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3846600" y="1900080"/>
            <a:ext cx="1767960" cy="517680"/>
            <a:chOff x="3846600" y="1900080"/>
            <a:chExt cx="1767960" cy="517680"/>
          </a:xfrm>
        </p:grpSpPr>
        <p:sp>
          <p:nvSpPr>
            <p:cNvPr id="524" name=""/>
            <p:cNvSpPr/>
            <p:nvPr/>
          </p:nvSpPr>
          <p:spPr>
            <a:xfrm>
              <a:off x="3846600" y="1900080"/>
              <a:ext cx="88560" cy="8892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4281480" y="2133360"/>
              <a:ext cx="88560" cy="8892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4903560" y="1990440"/>
              <a:ext cx="88560" cy="8892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5526000" y="2197080"/>
              <a:ext cx="88560" cy="8892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5275080" y="1958760"/>
              <a:ext cx="88560" cy="8892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222800" y="1901520"/>
              <a:ext cx="88560" cy="8892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5208480" y="2295360"/>
              <a:ext cx="88560" cy="8892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4711680" y="2079360"/>
              <a:ext cx="88560" cy="8892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990960" y="2217600"/>
              <a:ext cx="88560" cy="8892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4494240" y="2328840"/>
              <a:ext cx="88560" cy="8892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34" name=""/>
          <p:cNvGrpSpPr/>
          <p:nvPr/>
        </p:nvGrpSpPr>
        <p:grpSpPr>
          <a:xfrm>
            <a:off x="1768320" y="1876320"/>
            <a:ext cx="1689120" cy="552240"/>
            <a:chOff x="1768320" y="1876320"/>
            <a:chExt cx="1689120" cy="552240"/>
          </a:xfrm>
        </p:grpSpPr>
        <p:sp>
          <p:nvSpPr>
            <p:cNvPr id="535" name=""/>
            <p:cNvSpPr/>
            <p:nvPr/>
          </p:nvSpPr>
          <p:spPr>
            <a:xfrm>
              <a:off x="1925640" y="1981080"/>
              <a:ext cx="88920" cy="88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768320" y="2187360"/>
              <a:ext cx="88920" cy="88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2230200" y="2286000"/>
              <a:ext cx="88920" cy="88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2827080" y="2276280"/>
              <a:ext cx="88920" cy="88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1920600" y="2340000"/>
              <a:ext cx="88920" cy="885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2247840" y="2022480"/>
              <a:ext cx="88920" cy="88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709720" y="1904760"/>
              <a:ext cx="88920" cy="88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036960" y="2070000"/>
              <a:ext cx="88560" cy="88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2570040" y="2197080"/>
              <a:ext cx="88920" cy="88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3309840" y="2261880"/>
              <a:ext cx="88920" cy="88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3368520" y="1876320"/>
              <a:ext cx="88920" cy="88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46" name=""/>
          <p:cNvSpPr/>
          <p:nvPr/>
        </p:nvSpPr>
        <p:spPr>
          <a:xfrm>
            <a:off x="2565360" y="1428840"/>
            <a:ext cx="22334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G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774720" y="72720"/>
            <a:ext cx="760104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How to Get the Workout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657600" y="1774800"/>
            <a:ext cx="0" cy="6904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5219640" y="1071720"/>
            <a:ext cx="2809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Semipermeable membrane</a:t>
            </a:r>
            <a:br>
              <a:rPr sz="1200"/>
            </a:b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that only lets green molecules through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 flipH="1">
            <a:off x="3677400" y="1306440"/>
            <a:ext cx="3292200" cy="774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456826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4568260"/>
              </a:path>
            </a:pathLst>
          </a:custGeom>
          <a:noFill/>
          <a:ln w="9360">
            <a:solidFill>
              <a:srgbClr val="ffffff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1673280" y="4527720"/>
            <a:ext cx="4298760" cy="631800"/>
          </a:xfrm>
          <a:prstGeom prst="rect">
            <a:avLst/>
          </a:prstGeom>
          <a:solidFill>
            <a:srgbClr val="ff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40"/>
                </a:solidFill>
                <a:latin typeface="Arial"/>
              </a:rPr>
              <a:t>Thermal Bath, 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1808280" y="3801960"/>
            <a:ext cx="4073400" cy="712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2008080" y="3935520"/>
            <a:ext cx="88920" cy="8892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3144960" y="4168800"/>
            <a:ext cx="88920" cy="8892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4284720" y="4025880"/>
            <a:ext cx="88920" cy="8892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5506920" y="4232160"/>
            <a:ext cx="88920" cy="8892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5073480" y="3994200"/>
            <a:ext cx="88920" cy="8892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2730600" y="3936960"/>
            <a:ext cx="88920" cy="8892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4824360" y="4330800"/>
            <a:ext cx="88920" cy="8892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3951360" y="4114800"/>
            <a:ext cx="88920" cy="8892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305080" y="4253040"/>
            <a:ext cx="88920" cy="8892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3579840" y="4363920"/>
            <a:ext cx="88920" cy="8892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2455920" y="4016520"/>
            <a:ext cx="88920" cy="889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1992240" y="4222800"/>
            <a:ext cx="88920" cy="889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800440" y="4321080"/>
            <a:ext cx="88920" cy="889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4351320" y="4311720"/>
            <a:ext cx="88920" cy="889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2379600" y="4375080"/>
            <a:ext cx="88920" cy="889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3233880" y="4057560"/>
            <a:ext cx="88920" cy="889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3981600" y="3940200"/>
            <a:ext cx="88920" cy="889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4703760" y="4105440"/>
            <a:ext cx="88920" cy="8856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3382920" y="4232160"/>
            <a:ext cx="88920" cy="889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5302080" y="4297320"/>
            <a:ext cx="88920" cy="889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5564160" y="3911760"/>
            <a:ext cx="88920" cy="889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2728800" y="3463920"/>
            <a:ext cx="22334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G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1860480" y="3809880"/>
            <a:ext cx="0" cy="6908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3324240" y="66240"/>
            <a:ext cx="248904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Fuel Cell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579" name=""/>
          <p:cNvGrpSpPr/>
          <p:nvPr/>
        </p:nvGrpSpPr>
        <p:grpSpPr>
          <a:xfrm>
            <a:off x="945360" y="770040"/>
            <a:ext cx="5672160" cy="3519720"/>
            <a:chOff x="945360" y="770040"/>
            <a:chExt cx="5672160" cy="3519720"/>
          </a:xfrm>
        </p:grpSpPr>
        <p:sp>
          <p:nvSpPr>
            <p:cNvPr id="580" name=""/>
            <p:cNvSpPr/>
            <p:nvPr/>
          </p:nvSpPr>
          <p:spPr>
            <a:xfrm>
              <a:off x="2547720" y="2362320"/>
              <a:ext cx="2406600" cy="10051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2558880" y="2340360"/>
              <a:ext cx="2378160" cy="0"/>
            </a:xfrm>
            <a:prstGeom prst="line">
              <a:avLst/>
            </a:prstGeom>
            <a:ln w="38160">
              <a:solidFill>
                <a:srgbClr val="ff00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2547720" y="1314720"/>
              <a:ext cx="2406600" cy="100476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2568600" y="1346400"/>
              <a:ext cx="2346120" cy="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84" name=""/>
            <p:cNvGrpSpPr/>
            <p:nvPr/>
          </p:nvGrpSpPr>
          <p:grpSpPr>
            <a:xfrm>
              <a:off x="1654200" y="1211400"/>
              <a:ext cx="912600" cy="641520"/>
              <a:chOff x="1654200" y="1211400"/>
              <a:chExt cx="912600" cy="641520"/>
            </a:xfrm>
          </p:grpSpPr>
          <p:sp>
            <p:nvSpPr>
              <p:cNvPr id="585" name=""/>
              <p:cNvSpPr/>
              <p:nvPr/>
            </p:nvSpPr>
            <p:spPr>
              <a:xfrm>
                <a:off x="1654200" y="1211400"/>
                <a:ext cx="457200" cy="641520"/>
              </a:xfrm>
              <a:custGeom>
                <a:avLst/>
                <a:gdLst>
                  <a:gd name="textAreaLeft" fmla="*/ 22320 w 457200"/>
                  <a:gd name="textAreaRight" fmla="*/ 434880 w 457200"/>
                  <a:gd name="textAreaTop" fmla="*/ 22320 h 641520"/>
                  <a:gd name="textAreaBottom" fmla="*/ 619200 h 641520"/>
                </a:gdLst>
                <a:ahLst/>
                <a:rect l="textAreaLeft" t="textAreaTop" r="textAreaRight" b="textAreaBottom"/>
                <a:pathLst>
                  <a:path w="21600" h="30301">
                    <a:moveTo>
                      <a:pt x="3600" y="0"/>
                    </a:moveTo>
                    <a:arcTo wR="3600" hR="3600" stAng="16200000" swAng="-5400000"/>
                    <a:lnTo>
                      <a:pt x="0" y="26701"/>
                    </a:lnTo>
                    <a:arcTo wR="3600" hR="3600" stAng="10800000" swAng="-5400000"/>
                    <a:lnTo>
                      <a:pt x="18000" y="3030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00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1711080" y="1351080"/>
                <a:ext cx="36684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40"/>
                    </a:solidFill>
                    <a:latin typeface="Arial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40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2100240" y="1548000"/>
                <a:ext cx="457200" cy="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2109600" y="1528920"/>
                <a:ext cx="45720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2109600" y="1567080"/>
                <a:ext cx="45720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90" name=""/>
            <p:cNvSpPr/>
            <p:nvPr/>
          </p:nvSpPr>
          <p:spPr>
            <a:xfrm>
              <a:off x="1020960" y="770040"/>
              <a:ext cx="1287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Hydrogen gas.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You pay for this.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046680" y="1092240"/>
              <a:ext cx="1335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Platinum catalys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3094200" y="1338480"/>
              <a:ext cx="12186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fd00"/>
                  </a:solidFill>
                  <a:latin typeface="Arial"/>
                </a:rPr>
                <a:t>H</a:t>
              </a:r>
              <a:r>
                <a:rPr b="0" lang="en-US" sz="1200" spc="-1" strike="noStrike" baseline="-25000">
                  <a:solidFill>
                    <a:srgbClr val="fafd00"/>
                  </a:solidFill>
                  <a:latin typeface="Arial"/>
                </a:rPr>
                <a:t>2</a:t>
              </a:r>
              <a:r>
                <a:rPr b="0" lang="en-US" sz="12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</a:t>
              </a:r>
              <a:r>
                <a:rPr b="0" lang="en-US" sz="1200" spc="-1" strike="noStrike">
                  <a:solidFill>
                    <a:srgbClr val="fafd00"/>
                  </a:solidFill>
                  <a:latin typeface="Arial"/>
                </a:rPr>
                <a:t>2H</a:t>
              </a:r>
              <a:r>
                <a:rPr b="0" lang="en-US" sz="12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</a:t>
              </a:r>
              <a:r>
                <a:rPr b="0" lang="en-US" sz="1200" spc="-1" strike="noStrike">
                  <a:solidFill>
                    <a:srgbClr val="fafd00"/>
                  </a:solidFill>
                  <a:latin typeface="Arial"/>
                </a:rPr>
                <a:t>2(p</a:t>
              </a:r>
              <a:r>
                <a:rPr b="0" lang="en-US" sz="1200" spc="-1" strike="noStrike" baseline="30000">
                  <a:solidFill>
                    <a:srgbClr val="fafd00"/>
                  </a:solidFill>
                  <a:latin typeface="Arial"/>
                </a:rPr>
                <a:t>+</a:t>
              </a:r>
              <a:r>
                <a:rPr b="0" lang="en-US" sz="1200" spc="-1" strike="noStrike">
                  <a:solidFill>
                    <a:srgbClr val="fafd00"/>
                  </a:solidFill>
                  <a:latin typeface="Arial"/>
                </a:rPr>
                <a:t>e</a:t>
              </a:r>
              <a:r>
                <a:rPr b="0" lang="en-US" sz="1200" spc="-1" strike="noStrike" baseline="30000">
                  <a:solidFill>
                    <a:srgbClr val="fafd00"/>
                  </a:solidFill>
                  <a:latin typeface="Arial"/>
                </a:rPr>
                <a:t>-</a:t>
              </a:r>
              <a:r>
                <a:rPr b="0" lang="en-US" sz="1200" spc="-1" strike="noStrike">
                  <a:solidFill>
                    <a:srgbClr val="fafd00"/>
                  </a:solidFill>
                  <a:latin typeface="Arial"/>
                </a:rPr>
                <a:t>)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2536200" y="1687680"/>
              <a:ext cx="839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2531520" y="2643480"/>
              <a:ext cx="1041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ath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95" name=""/>
            <p:cNvGrpSpPr/>
            <p:nvPr/>
          </p:nvGrpSpPr>
          <p:grpSpPr>
            <a:xfrm>
              <a:off x="1644480" y="2756160"/>
              <a:ext cx="912600" cy="641160"/>
              <a:chOff x="1644480" y="2756160"/>
              <a:chExt cx="912600" cy="641160"/>
            </a:xfrm>
          </p:grpSpPr>
          <p:sp>
            <p:nvSpPr>
              <p:cNvPr id="596" name=""/>
              <p:cNvSpPr/>
              <p:nvPr/>
            </p:nvSpPr>
            <p:spPr>
              <a:xfrm>
                <a:off x="1644480" y="2756160"/>
                <a:ext cx="457200" cy="641160"/>
              </a:xfrm>
              <a:custGeom>
                <a:avLst/>
                <a:gdLst>
                  <a:gd name="textAreaLeft" fmla="*/ 22320 w 457200"/>
                  <a:gd name="textAreaRight" fmla="*/ 434880 w 457200"/>
                  <a:gd name="textAreaTop" fmla="*/ 22320 h 641160"/>
                  <a:gd name="textAreaBottom" fmla="*/ 618840 h 641160"/>
                </a:gdLst>
                <a:ahLst/>
                <a:rect l="textAreaLeft" t="textAreaTop" r="textAreaRight" b="textAreaBottom"/>
                <a:pathLst>
                  <a:path w="21600" h="30284">
                    <a:moveTo>
                      <a:pt x="3600" y="0"/>
                    </a:moveTo>
                    <a:arcTo wR="3600" hR="3600" stAng="16200000" swAng="-5400000"/>
                    <a:lnTo>
                      <a:pt x="0" y="26684"/>
                    </a:lnTo>
                    <a:arcTo wR="3600" hR="3600" stAng="10800000" swAng="-5400000"/>
                    <a:lnTo>
                      <a:pt x="18000" y="3028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00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1696320" y="2895480"/>
                <a:ext cx="3772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40"/>
                    </a:solidFill>
                    <a:latin typeface="Arial"/>
                  </a:rPr>
                  <a:t>O</a:t>
                </a:r>
                <a:r>
                  <a:rPr b="0" lang="en-US" sz="1400" spc="-1" strike="noStrike" baseline="-25000">
                    <a:solidFill>
                      <a:srgbClr val="000040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2090520" y="3092400"/>
                <a:ext cx="457200" cy="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2099880" y="3073320"/>
                <a:ext cx="45720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2099880" y="3111480"/>
                <a:ext cx="45720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01" name=""/>
            <p:cNvSpPr/>
            <p:nvPr/>
          </p:nvSpPr>
          <p:spPr>
            <a:xfrm>
              <a:off x="945360" y="2467080"/>
              <a:ext cx="13525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Oxygen gas (air).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No cost.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4459320" y="2092680"/>
              <a:ext cx="326880" cy="579240"/>
            </a:xfrm>
            <a:prstGeom prst="downArrow">
              <a:avLst>
                <a:gd name="adj1" fmla="val 50000"/>
                <a:gd name="adj2" fmla="val 44301"/>
              </a:avLst>
            </a:prstGeom>
            <a:solidFill>
              <a:srgbClr val="ffff00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2500560" y="2046600"/>
              <a:ext cx="202320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Semipermeable membran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Only protons can pass.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4944960" y="1760760"/>
              <a:ext cx="558720" cy="0"/>
            </a:xfrm>
            <a:prstGeom prst="line">
              <a:avLst/>
            </a:prstGeom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4944960" y="2857680"/>
              <a:ext cx="558720" cy="0"/>
            </a:xfrm>
            <a:prstGeom prst="line">
              <a:avLst/>
            </a:prstGeom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516640" y="1756080"/>
              <a:ext cx="0" cy="1092240"/>
            </a:xfrm>
            <a:prstGeom prst="line">
              <a:avLst/>
            </a:prstGeom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5414760" y="2086200"/>
              <a:ext cx="190440" cy="463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4934520" y="1484640"/>
              <a:ext cx="1121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lectric circui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5604480" y="2087640"/>
              <a:ext cx="10130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Load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(</a:t>
              </a:r>
              <a:r>
                <a:rPr b="0" i="1" lang="en-US" sz="1200" spc="-1" strike="noStrike">
                  <a:solidFill>
                    <a:srgbClr val="ffffff"/>
                  </a:solidFill>
                  <a:latin typeface="Arial"/>
                </a:rPr>
                <a:t>e.g.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, motor)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4825440" y="1889280"/>
              <a:ext cx="520920" cy="888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6" y="0"/>
                  </a:moveTo>
                  <a:arcTo wR="10800" hR="10800" stAng="-5398055" swAng="1052352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6" y="0"/>
                  </a:moveTo>
                  <a:arcTo wR="10800" hR="10800" stAng="-5398055" swAng="10523524"/>
                </a:path>
              </a:pathLst>
            </a:custGeom>
            <a:noFill/>
            <a:ln w="9360">
              <a:solidFill>
                <a:srgbClr val="ffffff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043600" y="2163960"/>
              <a:ext cx="294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200" spc="-1" strike="noStrike" baseline="30000">
                  <a:solidFill>
                    <a:srgbClr val="ffffff"/>
                  </a:solidFill>
                  <a:latin typeface="Arial"/>
                </a:rPr>
                <a:t>-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4460400" y="2208600"/>
              <a:ext cx="317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40"/>
                  </a:solidFill>
                  <a:latin typeface="Arial"/>
                </a:rPr>
                <a:t>p</a:t>
              </a:r>
              <a:r>
                <a:rPr b="0" lang="en-US" sz="1200" spc="-1" strike="noStrike" baseline="30000">
                  <a:solidFill>
                    <a:srgbClr val="000040"/>
                  </a:solidFill>
                  <a:latin typeface="Arial"/>
                </a:rPr>
                <a:t>+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4912920" y="3830760"/>
              <a:ext cx="14821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Water.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The waste product.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14" name=""/>
            <p:cNvGrpSpPr/>
            <p:nvPr/>
          </p:nvGrpSpPr>
          <p:grpSpPr>
            <a:xfrm>
              <a:off x="4281480" y="3362760"/>
              <a:ext cx="641160" cy="912600"/>
              <a:chOff x="4281480" y="3362760"/>
              <a:chExt cx="641160" cy="912600"/>
            </a:xfrm>
          </p:grpSpPr>
          <p:sp>
            <p:nvSpPr>
              <p:cNvPr id="615" name=""/>
              <p:cNvSpPr/>
              <p:nvPr/>
            </p:nvSpPr>
            <p:spPr>
              <a:xfrm rot="16200000">
                <a:off x="4373280" y="3726000"/>
                <a:ext cx="457200" cy="641160"/>
              </a:xfrm>
              <a:custGeom>
                <a:avLst/>
                <a:gdLst>
                  <a:gd name="textAreaLeft" fmla="*/ 22320 w 457200"/>
                  <a:gd name="textAreaRight" fmla="*/ 434880 w 457200"/>
                  <a:gd name="textAreaTop" fmla="*/ 22320 h 641160"/>
                  <a:gd name="textAreaBottom" fmla="*/ 618840 h 641160"/>
                </a:gdLst>
                <a:ahLst/>
                <a:rect l="textAreaLeft" t="textAreaTop" r="textAreaRight" b="textAreaBottom"/>
                <a:pathLst>
                  <a:path w="21600" h="30284">
                    <a:moveTo>
                      <a:pt x="3600" y="0"/>
                    </a:moveTo>
                    <a:arcTo wR="3600" hR="3600" stAng="16200000" swAng="-5400000"/>
                    <a:lnTo>
                      <a:pt x="0" y="26684"/>
                    </a:lnTo>
                    <a:arcTo wR="3600" hR="3600" stAng="10800000" swAng="-5400000"/>
                    <a:lnTo>
                      <a:pt x="18000" y="3028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00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flipV="1">
                <a:off x="4618080" y="3372120"/>
                <a:ext cx="0" cy="45720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flipV="1">
                <a:off x="4599000" y="3362760"/>
                <a:ext cx="0" cy="45720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flipV="1">
                <a:off x="4637160" y="3362760"/>
                <a:ext cx="0" cy="45720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19" name=""/>
            <p:cNvSpPr/>
            <p:nvPr/>
          </p:nvSpPr>
          <p:spPr>
            <a:xfrm>
              <a:off x="4345920" y="3900600"/>
              <a:ext cx="5054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H</a:t>
              </a:r>
              <a:r>
                <a:rPr b="0" lang="en-US" sz="1400" spc="-1" strike="noStrike" baseline="-25000">
                  <a:solidFill>
                    <a:srgbClr val="000040"/>
                  </a:solidFill>
                  <a:latin typeface="Arial"/>
                </a:rPr>
                <a:t>2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2694240" y="3089520"/>
              <a:ext cx="20883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fd00"/>
                  </a:solidFill>
                  <a:latin typeface="Arial"/>
                </a:rPr>
                <a:t>O</a:t>
              </a:r>
              <a:r>
                <a:rPr b="0" lang="en-US" sz="1200" spc="-1" strike="noStrike" baseline="-25000">
                  <a:solidFill>
                    <a:srgbClr val="fafd00"/>
                  </a:solidFill>
                  <a:latin typeface="Arial"/>
                </a:rPr>
                <a:t>2</a:t>
              </a:r>
              <a:r>
                <a:rPr b="0" lang="en-US" sz="1200" spc="-1" strike="noStrike">
                  <a:solidFill>
                    <a:srgbClr val="fafd00"/>
                  </a:solidFill>
                  <a:latin typeface="Arial"/>
                </a:rPr>
                <a:t>+4p + 4e </a:t>
              </a:r>
              <a:r>
                <a:rPr b="0" lang="en-US" sz="12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</a:t>
              </a:r>
              <a:r>
                <a:rPr b="0" lang="en-US" sz="1200" spc="-1" strike="noStrike">
                  <a:solidFill>
                    <a:srgbClr val="fafd00"/>
                  </a:solidFill>
                  <a:latin typeface="Arial"/>
                </a:rPr>
                <a:t>2H</a:t>
              </a:r>
              <a:r>
                <a:rPr b="0" lang="en-US" sz="1200" spc="-1" strike="noStrike" baseline="-25000">
                  <a:solidFill>
                    <a:srgbClr val="fafd00"/>
                  </a:solidFill>
                  <a:latin typeface="Arial"/>
                </a:rPr>
                <a:t>2</a:t>
              </a:r>
              <a:r>
                <a:rPr b="0" lang="en-US" sz="1200" spc="-1" strike="noStrike">
                  <a:solidFill>
                    <a:srgbClr val="fafd00"/>
                  </a:solidFill>
                  <a:latin typeface="Arial"/>
                </a:rPr>
                <a:t>0 + energy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507960" y="4479840"/>
            <a:ext cx="8007480" cy="23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3160" indent="-17316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fuel cell requires concentration gradients in two place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73160" indent="-17316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t the platinum catalyst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Keep the concentration of p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+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e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below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quilibrium value, so the reaction will continue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roton diffusion out of the anode (through the membrane) does thi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73160" indent="-17316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etween the cathode and anode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Keep the proton (and electron)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ncentration low on the cathode side, so diffusion will continue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ater production does thi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2823840" y="66600"/>
            <a:ext cx="348444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Fuel Cells (2)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277920" y="1417680"/>
            <a:ext cx="8475480" cy="47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semi-permeable membrane forces the electrons to take a different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ath to the low concentration region.  This path, through the load, is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ere we get useful work from the fuel cell.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Unlike typical heat engines, which first burn fuel to make heat,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re is no conversion to heat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no Carnot efficiency limit.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platinum catalyst speeds the H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2(p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+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reaction by increasing the H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concentration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locally (at the surface).  We’ll see next week that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uel cells are used in specialty applications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However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“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op executives from General Motors Corp. and Toyota Motor Corp. Tuesday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expressed doubts about the viability of hydrogen fuel cells for mass-market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production in the near term and suggested their companies are now betting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at electric cars will prove to be a better way to reduce fuel consumption and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cut tailpipe emissions on a large scale.” 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(WSJ, 3/5/2008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24" name=""/>
          <p:cNvGraphicFramePr/>
          <p:nvPr/>
        </p:nvGraphicFramePr>
        <p:xfrm>
          <a:off x="6834240" y="3668760"/>
          <a:ext cx="1198440" cy="869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34240" y="3668760"/>
                    <a:ext cx="1198440" cy="86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609480" y="76320"/>
            <a:ext cx="7920000" cy="12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/Discussion: 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Converting Fuel to Work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93560" y="1515960"/>
            <a:ext cx="8089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328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2286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work output comes from the excess free energy (above the equilibrium value) of the starting chemicals (the fuel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328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2286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an atmosphere containing O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H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 fue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328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2286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re’s lot’s of H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n the H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 in the ocean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328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2286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o we therefore have plenty of fuel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328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2286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ye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no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mayb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2"/>
          <p:cNvSpPr/>
          <p:nvPr/>
        </p:nvSpPr>
        <p:spPr>
          <a:xfrm>
            <a:off x="236520" y="781200"/>
            <a:ext cx="646416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MS PGothic"/>
              </a:rPr>
              <a:t>Last time we looked at the chemical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MS PGothic"/>
              </a:rPr>
              <a:t>potential for an ideal (monatomic) gas: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MS PGothic"/>
              </a:rPr>
              <a:t>Consider the case of no external potential (u is a constant): 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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kT ln(n) - constant . 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MS PGothic"/>
              </a:rPr>
              <a:t>Apply it to the free expansion problem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6" name="Group 3"/>
          <p:cNvGrpSpPr/>
          <p:nvPr/>
        </p:nvGrpSpPr>
        <p:grpSpPr>
          <a:xfrm>
            <a:off x="3036960" y="3936960"/>
            <a:ext cx="2147400" cy="811080"/>
            <a:chOff x="3036960" y="3936960"/>
            <a:chExt cx="2147400" cy="811080"/>
          </a:xfrm>
        </p:grpSpPr>
        <p:sp>
          <p:nvSpPr>
            <p:cNvPr id="167" name="Line 4"/>
            <p:cNvSpPr/>
            <p:nvPr/>
          </p:nvSpPr>
          <p:spPr>
            <a:xfrm>
              <a:off x="3038400" y="3936960"/>
              <a:ext cx="2144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Line 5"/>
            <p:cNvSpPr/>
            <p:nvPr/>
          </p:nvSpPr>
          <p:spPr>
            <a:xfrm>
              <a:off x="3039840" y="4748040"/>
              <a:ext cx="2144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Oval 6"/>
            <p:cNvSpPr/>
            <p:nvPr/>
          </p:nvSpPr>
          <p:spPr>
            <a:xfrm>
              <a:off x="3218760" y="4038480"/>
              <a:ext cx="77400" cy="745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Oval 7"/>
            <p:cNvSpPr/>
            <p:nvPr/>
          </p:nvSpPr>
          <p:spPr>
            <a:xfrm>
              <a:off x="3501720" y="4100400"/>
              <a:ext cx="77400" cy="745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Oval 8"/>
            <p:cNvSpPr/>
            <p:nvPr/>
          </p:nvSpPr>
          <p:spPr>
            <a:xfrm>
              <a:off x="3313080" y="4395600"/>
              <a:ext cx="77400" cy="745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Oval 9"/>
            <p:cNvSpPr/>
            <p:nvPr/>
          </p:nvSpPr>
          <p:spPr>
            <a:xfrm>
              <a:off x="3822480" y="4332240"/>
              <a:ext cx="77400" cy="745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Oval 10"/>
            <p:cNvSpPr/>
            <p:nvPr/>
          </p:nvSpPr>
          <p:spPr>
            <a:xfrm>
              <a:off x="3769560" y="4060800"/>
              <a:ext cx="77400" cy="745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Oval 11"/>
            <p:cNvSpPr/>
            <p:nvPr/>
          </p:nvSpPr>
          <p:spPr>
            <a:xfrm>
              <a:off x="3132360" y="4254480"/>
              <a:ext cx="77760" cy="745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Oval 12"/>
            <p:cNvSpPr/>
            <p:nvPr/>
          </p:nvSpPr>
          <p:spPr>
            <a:xfrm>
              <a:off x="3483360" y="4535280"/>
              <a:ext cx="77400" cy="748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Oval 13"/>
            <p:cNvSpPr/>
            <p:nvPr/>
          </p:nvSpPr>
          <p:spPr>
            <a:xfrm>
              <a:off x="3802680" y="4533840"/>
              <a:ext cx="77760" cy="745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Oval 14"/>
            <p:cNvSpPr/>
            <p:nvPr/>
          </p:nvSpPr>
          <p:spPr>
            <a:xfrm>
              <a:off x="3628800" y="4211640"/>
              <a:ext cx="77760" cy="745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Oval 15"/>
            <p:cNvSpPr/>
            <p:nvPr/>
          </p:nvSpPr>
          <p:spPr>
            <a:xfrm>
              <a:off x="3481920" y="4322520"/>
              <a:ext cx="77400" cy="748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Oval 16"/>
            <p:cNvSpPr/>
            <p:nvPr/>
          </p:nvSpPr>
          <p:spPr>
            <a:xfrm>
              <a:off x="3144240" y="4566960"/>
              <a:ext cx="77400" cy="748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Line 17"/>
            <p:cNvSpPr/>
            <p:nvPr/>
          </p:nvSpPr>
          <p:spPr>
            <a:xfrm>
              <a:off x="3036960" y="3941640"/>
              <a:ext cx="0" cy="790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1" name="Text Box 18"/>
          <p:cNvSpPr/>
          <p:nvPr/>
        </p:nvSpPr>
        <p:spPr>
          <a:xfrm>
            <a:off x="379440" y="4071960"/>
            <a:ext cx="22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Remove the piston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2" name="Group 19"/>
          <p:cNvGrpSpPr/>
          <p:nvPr/>
        </p:nvGrpSpPr>
        <p:grpSpPr>
          <a:xfrm>
            <a:off x="3036960" y="4968720"/>
            <a:ext cx="2234880" cy="811440"/>
            <a:chOff x="3036960" y="4968720"/>
            <a:chExt cx="2234880" cy="811440"/>
          </a:xfrm>
        </p:grpSpPr>
        <p:sp>
          <p:nvSpPr>
            <p:cNvPr id="183" name="Line 20"/>
            <p:cNvSpPr/>
            <p:nvPr/>
          </p:nvSpPr>
          <p:spPr>
            <a:xfrm>
              <a:off x="3038760" y="4968720"/>
              <a:ext cx="2231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Line 21"/>
            <p:cNvSpPr/>
            <p:nvPr/>
          </p:nvSpPr>
          <p:spPr>
            <a:xfrm>
              <a:off x="3040200" y="5780160"/>
              <a:ext cx="2231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Oval 22"/>
            <p:cNvSpPr/>
            <p:nvPr/>
          </p:nvSpPr>
          <p:spPr>
            <a:xfrm>
              <a:off x="3226320" y="5070600"/>
              <a:ext cx="81000" cy="745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Oval 23"/>
            <p:cNvSpPr/>
            <p:nvPr/>
          </p:nvSpPr>
          <p:spPr>
            <a:xfrm>
              <a:off x="3520440" y="5132520"/>
              <a:ext cx="81000" cy="745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Oval 24"/>
            <p:cNvSpPr/>
            <p:nvPr/>
          </p:nvSpPr>
          <p:spPr>
            <a:xfrm>
              <a:off x="3773880" y="5335560"/>
              <a:ext cx="80640" cy="745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Oval 25"/>
            <p:cNvSpPr/>
            <p:nvPr/>
          </p:nvSpPr>
          <p:spPr>
            <a:xfrm>
              <a:off x="4366440" y="5614920"/>
              <a:ext cx="80640" cy="745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Oval 26"/>
            <p:cNvSpPr/>
            <p:nvPr/>
          </p:nvSpPr>
          <p:spPr>
            <a:xfrm>
              <a:off x="5115240" y="5497560"/>
              <a:ext cx="80640" cy="745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Oval 27"/>
            <p:cNvSpPr/>
            <p:nvPr/>
          </p:nvSpPr>
          <p:spPr>
            <a:xfrm>
              <a:off x="3249000" y="5340240"/>
              <a:ext cx="80640" cy="745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Oval 28"/>
            <p:cNvSpPr/>
            <p:nvPr/>
          </p:nvSpPr>
          <p:spPr>
            <a:xfrm>
              <a:off x="3501720" y="5567400"/>
              <a:ext cx="80640" cy="745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Oval 29"/>
            <p:cNvSpPr/>
            <p:nvPr/>
          </p:nvSpPr>
          <p:spPr>
            <a:xfrm>
              <a:off x="3834000" y="5565600"/>
              <a:ext cx="80640" cy="748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Oval 30"/>
            <p:cNvSpPr/>
            <p:nvPr/>
          </p:nvSpPr>
          <p:spPr>
            <a:xfrm>
              <a:off x="4674600" y="5216400"/>
              <a:ext cx="80640" cy="745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Oval 31"/>
            <p:cNvSpPr/>
            <p:nvPr/>
          </p:nvSpPr>
          <p:spPr>
            <a:xfrm>
              <a:off x="4111560" y="5160960"/>
              <a:ext cx="80640" cy="745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Oval 32"/>
            <p:cNvSpPr/>
            <p:nvPr/>
          </p:nvSpPr>
          <p:spPr>
            <a:xfrm>
              <a:off x="3148920" y="5599080"/>
              <a:ext cx="80640" cy="745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Line 33"/>
            <p:cNvSpPr/>
            <p:nvPr/>
          </p:nvSpPr>
          <p:spPr>
            <a:xfrm>
              <a:off x="3036960" y="4973760"/>
              <a:ext cx="0" cy="790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7" name="Text Box 34"/>
          <p:cNvSpPr/>
          <p:nvPr/>
        </p:nvSpPr>
        <p:spPr>
          <a:xfrm>
            <a:off x="674640" y="5113440"/>
            <a:ext cx="196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Some time later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8" name="Group 35"/>
          <p:cNvGrpSpPr/>
          <p:nvPr/>
        </p:nvGrpSpPr>
        <p:grpSpPr>
          <a:xfrm>
            <a:off x="2585880" y="2368440"/>
            <a:ext cx="3200400" cy="1318680"/>
            <a:chOff x="2585880" y="2368440"/>
            <a:chExt cx="3200400" cy="1318680"/>
          </a:xfrm>
        </p:grpSpPr>
        <p:sp>
          <p:nvSpPr>
            <p:cNvPr id="199" name="Text Box 36"/>
            <p:cNvSpPr/>
            <p:nvPr/>
          </p:nvSpPr>
          <p:spPr>
            <a:xfrm>
              <a:off x="2585880" y="2368440"/>
              <a:ext cx="3200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high 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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low 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00" name="Group 37"/>
            <p:cNvGrpSpPr/>
            <p:nvPr/>
          </p:nvGrpSpPr>
          <p:grpSpPr>
            <a:xfrm>
              <a:off x="3036600" y="2671560"/>
              <a:ext cx="2060640" cy="1015560"/>
              <a:chOff x="3036600" y="2671560"/>
              <a:chExt cx="2060640" cy="1015560"/>
            </a:xfrm>
          </p:grpSpPr>
          <p:sp>
            <p:nvSpPr>
              <p:cNvPr id="201" name="Oval 38"/>
              <p:cNvSpPr/>
              <p:nvPr/>
            </p:nvSpPr>
            <p:spPr>
              <a:xfrm>
                <a:off x="3036600" y="3328560"/>
                <a:ext cx="74880" cy="741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760" bIns="576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2" name="Oval 39"/>
              <p:cNvSpPr/>
              <p:nvPr/>
            </p:nvSpPr>
            <p:spPr>
              <a:xfrm>
                <a:off x="3036600" y="3130200"/>
                <a:ext cx="74880" cy="741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760" bIns="576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3" name="Oval 40"/>
              <p:cNvSpPr/>
              <p:nvPr/>
            </p:nvSpPr>
            <p:spPr>
              <a:xfrm>
                <a:off x="3036600" y="3511080"/>
                <a:ext cx="74880" cy="741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760" bIns="576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04" name="Group 41"/>
              <p:cNvGrpSpPr/>
              <p:nvPr/>
            </p:nvGrpSpPr>
            <p:grpSpPr>
              <a:xfrm>
                <a:off x="3036600" y="2876040"/>
                <a:ext cx="2060640" cy="811080"/>
                <a:chOff x="3036600" y="2876040"/>
                <a:chExt cx="2060640" cy="811080"/>
              </a:xfrm>
            </p:grpSpPr>
            <p:sp>
              <p:nvSpPr>
                <p:cNvPr id="205" name="Line 42"/>
                <p:cNvSpPr/>
                <p:nvPr/>
              </p:nvSpPr>
              <p:spPr>
                <a:xfrm>
                  <a:off x="3038040" y="2876040"/>
                  <a:ext cx="20574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Line 43"/>
                <p:cNvSpPr/>
                <p:nvPr/>
              </p:nvSpPr>
              <p:spPr>
                <a:xfrm>
                  <a:off x="3039840" y="3687120"/>
                  <a:ext cx="20574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Line 44"/>
                <p:cNvSpPr/>
                <p:nvPr/>
              </p:nvSpPr>
              <p:spPr>
                <a:xfrm>
                  <a:off x="3990600" y="2915640"/>
                  <a:ext cx="1800" cy="739440"/>
                </a:xfrm>
                <a:prstGeom prst="line">
                  <a:avLst/>
                </a:prstGeom>
                <a:ln w="7632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Oval 45"/>
                <p:cNvSpPr/>
                <p:nvPr/>
              </p:nvSpPr>
              <p:spPr>
                <a:xfrm>
                  <a:off x="3211200" y="2977560"/>
                  <a:ext cx="74520" cy="7416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Oval 46"/>
                <p:cNvSpPr/>
                <p:nvPr/>
              </p:nvSpPr>
              <p:spPr>
                <a:xfrm>
                  <a:off x="3482640" y="3039480"/>
                  <a:ext cx="74520" cy="7416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Oval 47"/>
                <p:cNvSpPr/>
                <p:nvPr/>
              </p:nvSpPr>
              <p:spPr>
                <a:xfrm>
                  <a:off x="3301560" y="3334680"/>
                  <a:ext cx="74880" cy="7416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Oval 48"/>
                <p:cNvSpPr/>
                <p:nvPr/>
              </p:nvSpPr>
              <p:spPr>
                <a:xfrm>
                  <a:off x="3790800" y="3271320"/>
                  <a:ext cx="74520" cy="7416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Oval 49"/>
                <p:cNvSpPr/>
                <p:nvPr/>
              </p:nvSpPr>
              <p:spPr>
                <a:xfrm>
                  <a:off x="3740040" y="2999520"/>
                  <a:ext cx="74520" cy="7452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120" bIns="61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Oval 50"/>
                <p:cNvSpPr/>
                <p:nvPr/>
              </p:nvSpPr>
              <p:spPr>
                <a:xfrm>
                  <a:off x="3128760" y="3193200"/>
                  <a:ext cx="74520" cy="7452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120" bIns="61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Oval 51"/>
                <p:cNvSpPr/>
                <p:nvPr/>
              </p:nvSpPr>
              <p:spPr>
                <a:xfrm>
                  <a:off x="3465360" y="3474360"/>
                  <a:ext cx="74520" cy="7416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Oval 52"/>
                <p:cNvSpPr/>
                <p:nvPr/>
              </p:nvSpPr>
              <p:spPr>
                <a:xfrm>
                  <a:off x="3771720" y="3472920"/>
                  <a:ext cx="74520" cy="7416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Oval 53"/>
                <p:cNvSpPr/>
                <p:nvPr/>
              </p:nvSpPr>
              <p:spPr>
                <a:xfrm>
                  <a:off x="3605040" y="3150360"/>
                  <a:ext cx="74520" cy="7452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120" bIns="61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Oval 54"/>
                <p:cNvSpPr/>
                <p:nvPr/>
              </p:nvSpPr>
              <p:spPr>
                <a:xfrm>
                  <a:off x="3463560" y="3261600"/>
                  <a:ext cx="74520" cy="7416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Oval 55"/>
                <p:cNvSpPr/>
                <p:nvPr/>
              </p:nvSpPr>
              <p:spPr>
                <a:xfrm>
                  <a:off x="3139920" y="3506040"/>
                  <a:ext cx="74520" cy="7416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Line 56"/>
                <p:cNvSpPr/>
                <p:nvPr/>
              </p:nvSpPr>
              <p:spPr>
                <a:xfrm>
                  <a:off x="3036600" y="2880720"/>
                  <a:ext cx="0" cy="7902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0" name="Line 57"/>
              <p:cNvSpPr/>
              <p:nvPr/>
            </p:nvSpPr>
            <p:spPr>
              <a:xfrm>
                <a:off x="3036600" y="2671560"/>
                <a:ext cx="336600" cy="32508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1" name="Line 58"/>
              <p:cNvSpPr/>
              <p:nvPr/>
            </p:nvSpPr>
            <p:spPr>
              <a:xfrm flipH="1">
                <a:off x="4663440" y="2765160"/>
                <a:ext cx="336600" cy="32508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22" name="Text Box 59"/>
          <p:cNvSpPr/>
          <p:nvPr/>
        </p:nvSpPr>
        <p:spPr>
          <a:xfrm>
            <a:off x="5423040" y="5065560"/>
            <a:ext cx="2261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  <a:ea typeface="MS PGothic"/>
              </a:rPr>
              <a:t>In equilibrium, 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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  <a:ea typeface="MS PGothic"/>
              </a:rPr>
              <a:t>is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  <a:ea typeface="MS PGothic"/>
              </a:rPr>
              <a:t>the same everywhere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Text Box 60"/>
          <p:cNvSpPr/>
          <p:nvPr/>
        </p:nvSpPr>
        <p:spPr>
          <a:xfrm>
            <a:off x="5415120" y="3929040"/>
            <a:ext cx="2199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MS PGothic"/>
              </a:rPr>
              <a:t>Diffusion: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  <a:ea typeface="MS PGothic"/>
              </a:rPr>
              <a:t>Particles move from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  <a:ea typeface="MS PGothic"/>
              </a:rPr>
              <a:t>high 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  <a:ea typeface="MS PGothic"/>
              </a:rPr>
              <a:t> to low 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60240" y="78840"/>
            <a:ext cx="7823520" cy="7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Physical Significance of </a:t>
            </a:r>
            <a:r>
              <a:rPr b="0" lang="en-US" sz="4000" spc="-1" strike="noStrike">
                <a:solidFill>
                  <a:srgbClr val="ff9966"/>
                </a:solidFill>
                <a:latin typeface="Symbol"/>
                <a:ea typeface="Symbol"/>
              </a:rPr>
              <a:t></a:t>
            </a:r>
            <a:r>
              <a:rPr b="0" lang="en-US" sz="4000" spc="-1" strike="noStrike">
                <a:solidFill>
                  <a:srgbClr val="fafd00"/>
                </a:solidFill>
                <a:latin typeface="Comic Sans MS"/>
              </a:rPr>
              <a:t> 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225" name="Object 63"/>
          <p:cNvGraphicFramePr/>
          <p:nvPr/>
        </p:nvGraphicFramePr>
        <p:xfrm>
          <a:off x="4613400" y="816120"/>
          <a:ext cx="2547720" cy="717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6" name="Object 6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13400" y="816120"/>
                    <a:ext cx="2547720" cy="71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7" name="Rectangle 64"/>
          <p:cNvSpPr/>
          <p:nvPr/>
        </p:nvSpPr>
        <p:spPr>
          <a:xfrm>
            <a:off x="4359240" y="773280"/>
            <a:ext cx="2924280" cy="7394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695160" y="1397160"/>
            <a:ext cx="7956720" cy="17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2000"/>
          </a:bodyPr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 process will happen spontaneously if the free energy would be decrease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is just another way of saying that, left on their own, systems will tend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o thermal equilibrium, 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i.e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minimum free energ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f you have to do work on a system (the opposite of a spontaneous process), you are increasing the free energy of the system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y do matches burn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(after you strike them)?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burned state has less free energy than the unburned stat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y must you strike the match?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re is an energy barrier - it needs help getting starte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660240" y="78840"/>
            <a:ext cx="7823520" cy="7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Build Your Intui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230" name="Group 4"/>
          <p:cNvGrpSpPr/>
          <p:nvPr/>
        </p:nvGrpSpPr>
        <p:grpSpPr>
          <a:xfrm>
            <a:off x="1411200" y="4908600"/>
            <a:ext cx="4048200" cy="1640160"/>
            <a:chOff x="1411200" y="4908600"/>
            <a:chExt cx="4048200" cy="1640160"/>
          </a:xfrm>
        </p:grpSpPr>
        <p:grpSp>
          <p:nvGrpSpPr>
            <p:cNvPr id="231" name="Group 5"/>
            <p:cNvGrpSpPr/>
            <p:nvPr/>
          </p:nvGrpSpPr>
          <p:grpSpPr>
            <a:xfrm>
              <a:off x="2868480" y="4908600"/>
              <a:ext cx="2590920" cy="1640160"/>
              <a:chOff x="2868480" y="4908600"/>
              <a:chExt cx="2590920" cy="1640160"/>
            </a:xfrm>
          </p:grpSpPr>
          <p:sp>
            <p:nvSpPr>
              <p:cNvPr id="232" name="Line 6"/>
              <p:cNvSpPr/>
              <p:nvPr/>
            </p:nvSpPr>
            <p:spPr>
              <a:xfrm flipV="1">
                <a:off x="3147840" y="5004000"/>
                <a:ext cx="0" cy="11779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3" name="Line 7"/>
              <p:cNvSpPr/>
              <p:nvPr/>
            </p:nvSpPr>
            <p:spPr>
              <a:xfrm>
                <a:off x="3147840" y="6181920"/>
                <a:ext cx="23115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4" name="Freeform 8"/>
              <p:cNvSpPr/>
              <p:nvPr/>
            </p:nvSpPr>
            <p:spPr>
              <a:xfrm>
                <a:off x="3305160" y="5075280"/>
                <a:ext cx="1724040" cy="909720"/>
              </a:xfrm>
              <a:custGeom>
                <a:avLst/>
                <a:gdLst>
                  <a:gd name="textAreaLeft" fmla="*/ 0 w 1724040"/>
                  <a:gd name="textAreaRight" fmla="*/ 1724400 w 1724040"/>
                  <a:gd name="textAreaTop" fmla="*/ 0 h 909720"/>
                  <a:gd name="textAreaBottom" fmla="*/ 910080 h 909720"/>
                </a:gdLst>
                <a:ahLst/>
                <a:rect l="textAreaLeft" t="textAreaTop" r="textAreaRight" b="textAreaBottom"/>
                <a:pathLst>
                  <a:path w="1086" h="573">
                    <a:moveTo>
                      <a:pt x="0" y="0"/>
                    </a:moveTo>
                    <a:cubicBezTo>
                      <a:pt x="14" y="30"/>
                      <a:pt x="47" y="132"/>
                      <a:pt x="84" y="182"/>
                    </a:cubicBezTo>
                    <a:cubicBezTo>
                      <a:pt x="121" y="232"/>
                      <a:pt x="171" y="303"/>
                      <a:pt x="222" y="299"/>
                    </a:cubicBezTo>
                    <a:cubicBezTo>
                      <a:pt x="273" y="295"/>
                      <a:pt x="337" y="156"/>
                      <a:pt x="388" y="155"/>
                    </a:cubicBezTo>
                    <a:cubicBezTo>
                      <a:pt x="439" y="154"/>
                      <a:pt x="484" y="241"/>
                      <a:pt x="527" y="293"/>
                    </a:cubicBezTo>
                    <a:cubicBezTo>
                      <a:pt x="570" y="345"/>
                      <a:pt x="602" y="421"/>
                      <a:pt x="643" y="465"/>
                    </a:cubicBezTo>
                    <a:cubicBezTo>
                      <a:pt x="684" y="509"/>
                      <a:pt x="721" y="573"/>
                      <a:pt x="770" y="559"/>
                    </a:cubicBezTo>
                    <a:cubicBezTo>
                      <a:pt x="819" y="545"/>
                      <a:pt x="883" y="464"/>
                      <a:pt x="936" y="382"/>
                    </a:cubicBezTo>
                    <a:cubicBezTo>
                      <a:pt x="989" y="300"/>
                      <a:pt x="1037" y="183"/>
                      <a:pt x="1086" y="66"/>
                    </a:cubicBezTo>
                  </a:path>
                </a:pathLst>
              </a:custGeom>
              <a:noFill/>
              <a:ln w="1908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" name="Line 9"/>
              <p:cNvSpPr/>
              <p:nvPr/>
            </p:nvSpPr>
            <p:spPr>
              <a:xfrm flipV="1">
                <a:off x="3639960" y="6076800"/>
                <a:ext cx="0" cy="1760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6" name="Line 10"/>
              <p:cNvSpPr/>
              <p:nvPr/>
            </p:nvSpPr>
            <p:spPr>
              <a:xfrm flipV="1">
                <a:off x="4530600" y="6087960"/>
                <a:ext cx="0" cy="1760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7" name="Text Box 11"/>
              <p:cNvSpPr/>
              <p:nvPr/>
            </p:nvSpPr>
            <p:spPr>
              <a:xfrm>
                <a:off x="3285360" y="6302520"/>
                <a:ext cx="7142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  <a:ea typeface="MS PGothic"/>
                  </a:rPr>
                  <a:t>unburned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8" name="Text Box 12"/>
              <p:cNvSpPr/>
              <p:nvPr/>
            </p:nvSpPr>
            <p:spPr>
              <a:xfrm>
                <a:off x="4241160" y="6302520"/>
                <a:ext cx="5738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  <a:ea typeface="MS PGothic"/>
                  </a:rPr>
                  <a:t>burned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9" name="Text Box 13"/>
              <p:cNvSpPr/>
              <p:nvPr/>
            </p:nvSpPr>
            <p:spPr>
              <a:xfrm>
                <a:off x="2868480" y="4908600"/>
                <a:ext cx="289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MS PGothic"/>
                  </a:rPr>
                  <a:t>F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40" name="Text Box 14"/>
            <p:cNvSpPr/>
            <p:nvPr/>
          </p:nvSpPr>
          <p:spPr>
            <a:xfrm>
              <a:off x="1411200" y="5386680"/>
              <a:ext cx="1357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A local minimum of F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Line 15"/>
            <p:cNvSpPr/>
            <p:nvPr/>
          </p:nvSpPr>
          <p:spPr>
            <a:xfrm>
              <a:off x="2724120" y="5529600"/>
              <a:ext cx="7477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Text Box 2"/>
          <p:cNvSpPr/>
          <p:nvPr/>
        </p:nvSpPr>
        <p:spPr>
          <a:xfrm>
            <a:off x="1266840" y="214956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85840" indent="-28584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Text Box 4"/>
          <p:cNvSpPr/>
          <p:nvPr/>
        </p:nvSpPr>
        <p:spPr>
          <a:xfrm>
            <a:off x="654120" y="1544760"/>
            <a:ext cx="7880400" cy="15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MS PGothic"/>
              </a:rPr>
              <a:t>How does including the rotational energy and entropy of H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  <a:ea typeface="MS PGothic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MS PGothic"/>
              </a:rPr>
              <a:t> change its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MS PGothic"/>
              </a:rPr>
              <a:t>, compared to what you’d have if it were monatomic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MS PGothic"/>
              </a:rPr>
              <a:t>In other words, what is the effect on F per molecule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MS PGothic"/>
              </a:rPr>
              <a:t>) No chang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MS PGothic"/>
              </a:rPr>
              <a:t>) Decreases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MS PGothic"/>
              </a:rPr>
              <a:t>) Increases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MS PGothic"/>
              </a:rPr>
              <a:t>) Not enough inf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Rectangle 2"/>
          <p:cNvSpPr/>
          <p:nvPr/>
        </p:nvSpPr>
        <p:spPr>
          <a:xfrm>
            <a:off x="546120" y="79200"/>
            <a:ext cx="8150040" cy="10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  <a:ea typeface="Arial"/>
              </a:rPr>
              <a:t>ACT 1: </a:t>
            </a:r>
            <a:br>
              <a:rPr sz="3600"/>
            </a:br>
            <a:r>
              <a:rPr b="0" lang="en-US" sz="3600" spc="-1" strike="noStrike">
                <a:solidFill>
                  <a:srgbClr val="ff9966"/>
                </a:solidFill>
                <a:latin typeface="Comic Sans MS"/>
                <a:ea typeface="Arial"/>
              </a:rPr>
              <a:t>Chemical Potential of Diatomic Ga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-360" y="137880"/>
            <a:ext cx="9288360" cy="73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FYI: Contribution of Internal Modes to </a:t>
            </a:r>
            <a:r>
              <a:rPr b="0" lang="en-US" sz="3600" spc="-1" strike="noStrike">
                <a:solidFill>
                  <a:srgbClr val="ff9966"/>
                </a:solidFill>
                <a:latin typeface="Symbol"/>
                <a:ea typeface="Symbol"/>
              </a:rPr>
              <a:t>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33160" y="1060200"/>
            <a:ext cx="8116920" cy="5133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of that internal modes lower F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or ideal gases, the internal contributions to F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re independent of the other contribution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in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/N is their contribution to </a:t>
            </a:r>
            <a:r>
              <a:rPr b="1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=dF/d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in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= U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in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- T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in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 can calculate F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in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by remembering that the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ternal modes contribute to C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T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is is always true,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because C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 always positive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 the thermal excitation of th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ternal modes of a molecul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lways lowers its </a:t>
            </a:r>
            <a:r>
              <a:rPr b="1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and thus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creases its equilibrium concentration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944640" y="3638520"/>
          <a:ext cx="4632120" cy="1668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44640" y="3638520"/>
                    <a:ext cx="4632120" cy="166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51" name=""/>
          <p:cNvGrpSpPr/>
          <p:nvPr/>
        </p:nvGrpSpPr>
        <p:grpSpPr>
          <a:xfrm>
            <a:off x="5737320" y="1265400"/>
            <a:ext cx="2952720" cy="2830320"/>
            <a:chOff x="5737320" y="1265400"/>
            <a:chExt cx="2952720" cy="2830320"/>
          </a:xfrm>
        </p:grpSpPr>
        <p:sp>
          <p:nvSpPr>
            <p:cNvPr id="252" name="Text Box 6"/>
            <p:cNvSpPr/>
            <p:nvPr/>
          </p:nvSpPr>
          <p:spPr>
            <a:xfrm>
              <a:off x="8413920" y="3556080"/>
              <a:ext cx="27612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" name="Text Box 8"/>
            <p:cNvSpPr/>
            <p:nvPr/>
          </p:nvSpPr>
          <p:spPr>
            <a:xfrm>
              <a:off x="6147000" y="3557520"/>
              <a:ext cx="2319480" cy="53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10K        100K   1000K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54" name="Group 9"/>
            <p:cNvGrpSpPr/>
            <p:nvPr/>
          </p:nvGrpSpPr>
          <p:grpSpPr>
            <a:xfrm>
              <a:off x="6405840" y="1835280"/>
              <a:ext cx="1814040" cy="1004400"/>
              <a:chOff x="6405840" y="1835280"/>
              <a:chExt cx="1814040" cy="1004400"/>
            </a:xfrm>
          </p:grpSpPr>
          <p:sp>
            <p:nvSpPr>
              <p:cNvPr id="255" name="Line 10"/>
              <p:cNvSpPr/>
              <p:nvPr/>
            </p:nvSpPr>
            <p:spPr>
              <a:xfrm>
                <a:off x="8106480" y="1839960"/>
                <a:ext cx="11340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56" name="Group 11"/>
              <p:cNvGrpSpPr/>
              <p:nvPr/>
            </p:nvGrpSpPr>
            <p:grpSpPr>
              <a:xfrm>
                <a:off x="6405840" y="1835280"/>
                <a:ext cx="1708560" cy="1004400"/>
                <a:chOff x="6405840" y="1835280"/>
                <a:chExt cx="1708560" cy="1004400"/>
              </a:xfrm>
            </p:grpSpPr>
            <p:grpSp>
              <p:nvGrpSpPr>
                <p:cNvPr id="257" name="Group 12"/>
                <p:cNvGrpSpPr/>
                <p:nvPr/>
              </p:nvGrpSpPr>
              <p:grpSpPr>
                <a:xfrm>
                  <a:off x="6405840" y="2344680"/>
                  <a:ext cx="699840" cy="495000"/>
                  <a:chOff x="6405840" y="2344680"/>
                  <a:chExt cx="699840" cy="495000"/>
                </a:xfrm>
              </p:grpSpPr>
              <p:sp>
                <p:nvSpPr>
                  <p:cNvPr id="258" name="Line 13"/>
                  <p:cNvSpPr/>
                  <p:nvPr/>
                </p:nvSpPr>
                <p:spPr>
                  <a:xfrm>
                    <a:off x="6405840" y="2839680"/>
                    <a:ext cx="332280" cy="0"/>
                  </a:xfrm>
                  <a:prstGeom prst="line">
                    <a:avLst/>
                  </a:prstGeom>
                  <a:ln w="2844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9" name="Freeform 14"/>
                  <p:cNvSpPr/>
                  <p:nvPr/>
                </p:nvSpPr>
                <p:spPr>
                  <a:xfrm>
                    <a:off x="6733080" y="2344680"/>
                    <a:ext cx="372600" cy="495000"/>
                  </a:xfrm>
                  <a:prstGeom prst="pie">
                    <a:avLst/>
                  </a:prstGeom>
                  <a:noFill/>
                  <a:ln w="2844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60" name="Group 15"/>
                <p:cNvGrpSpPr/>
                <p:nvPr/>
              </p:nvGrpSpPr>
              <p:grpSpPr>
                <a:xfrm>
                  <a:off x="7098120" y="1835280"/>
                  <a:ext cx="840600" cy="510480"/>
                  <a:chOff x="7098120" y="1835280"/>
                  <a:chExt cx="840600" cy="510480"/>
                </a:xfrm>
              </p:grpSpPr>
              <p:sp>
                <p:nvSpPr>
                  <p:cNvPr id="261" name="Line 16"/>
                  <p:cNvSpPr/>
                  <p:nvPr/>
                </p:nvSpPr>
                <p:spPr>
                  <a:xfrm>
                    <a:off x="7098120" y="2345760"/>
                    <a:ext cx="395640" cy="0"/>
                  </a:xfrm>
                  <a:prstGeom prst="line">
                    <a:avLst/>
                  </a:prstGeom>
                  <a:ln w="2844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2" name="Freeform 17"/>
                  <p:cNvSpPr/>
                  <p:nvPr/>
                </p:nvSpPr>
                <p:spPr>
                  <a:xfrm>
                    <a:off x="7493760" y="1835280"/>
                    <a:ext cx="444960" cy="510480"/>
                  </a:xfrm>
                  <a:prstGeom prst="pie">
                    <a:avLst/>
                  </a:prstGeom>
                  <a:noFill/>
                  <a:ln w="2844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3" name="Line 18"/>
                <p:cNvSpPr/>
                <p:nvPr/>
              </p:nvSpPr>
              <p:spPr>
                <a:xfrm>
                  <a:off x="7938720" y="1841400"/>
                  <a:ext cx="17568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4" name="Text Box 19"/>
            <p:cNvSpPr/>
            <p:nvPr/>
          </p:nvSpPr>
          <p:spPr>
            <a:xfrm>
              <a:off x="5856480" y="1265400"/>
              <a:ext cx="520560" cy="49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C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v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" name="Text Box 20"/>
            <p:cNvSpPr/>
            <p:nvPr/>
          </p:nvSpPr>
          <p:spPr>
            <a:xfrm>
              <a:off x="5772240" y="2675160"/>
              <a:ext cx="72576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3/2 N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Text Box 21"/>
            <p:cNvSpPr/>
            <p:nvPr/>
          </p:nvSpPr>
          <p:spPr>
            <a:xfrm>
              <a:off x="5745240" y="2173320"/>
              <a:ext cx="800280" cy="42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5/2 N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Text Box 22"/>
            <p:cNvSpPr/>
            <p:nvPr/>
          </p:nvSpPr>
          <p:spPr>
            <a:xfrm>
              <a:off x="5737320" y="1665360"/>
              <a:ext cx="777960" cy="43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7/2 N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Line 23"/>
            <p:cNvSpPr/>
            <p:nvPr/>
          </p:nvSpPr>
          <p:spPr>
            <a:xfrm flipV="1">
              <a:off x="6382080" y="1514520"/>
              <a:ext cx="0" cy="2000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69" name="Group 24"/>
            <p:cNvGrpSpPr/>
            <p:nvPr/>
          </p:nvGrpSpPr>
          <p:grpSpPr>
            <a:xfrm>
              <a:off x="6396120" y="1833840"/>
              <a:ext cx="109800" cy="1480680"/>
              <a:chOff x="6396120" y="1833840"/>
              <a:chExt cx="109800" cy="1480680"/>
            </a:xfrm>
          </p:grpSpPr>
          <p:grpSp>
            <p:nvGrpSpPr>
              <p:cNvPr id="270" name="Group 25"/>
              <p:cNvGrpSpPr/>
              <p:nvPr/>
            </p:nvGrpSpPr>
            <p:grpSpPr>
              <a:xfrm>
                <a:off x="6396120" y="2574360"/>
                <a:ext cx="109800" cy="740160"/>
                <a:chOff x="6396120" y="2574360"/>
                <a:chExt cx="109800" cy="740160"/>
              </a:xfrm>
            </p:grpSpPr>
            <p:sp>
              <p:nvSpPr>
                <p:cNvPr id="271" name="Line 26"/>
                <p:cNvSpPr/>
                <p:nvPr/>
              </p:nvSpPr>
              <p:spPr>
                <a:xfrm>
                  <a:off x="6396120" y="3314520"/>
                  <a:ext cx="10980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Line 27"/>
                <p:cNvSpPr/>
                <p:nvPr/>
              </p:nvSpPr>
              <p:spPr>
                <a:xfrm>
                  <a:off x="6396120" y="3067560"/>
                  <a:ext cx="10980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Line 28"/>
                <p:cNvSpPr/>
                <p:nvPr/>
              </p:nvSpPr>
              <p:spPr>
                <a:xfrm>
                  <a:off x="6396120" y="2820960"/>
                  <a:ext cx="10980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Line 29"/>
                <p:cNvSpPr/>
                <p:nvPr/>
              </p:nvSpPr>
              <p:spPr>
                <a:xfrm>
                  <a:off x="6396120" y="2574360"/>
                  <a:ext cx="10980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5" name="Group 30"/>
              <p:cNvGrpSpPr/>
              <p:nvPr/>
            </p:nvGrpSpPr>
            <p:grpSpPr>
              <a:xfrm>
                <a:off x="6396120" y="1833840"/>
                <a:ext cx="109800" cy="740520"/>
                <a:chOff x="6396120" y="1833840"/>
                <a:chExt cx="109800" cy="740520"/>
              </a:xfrm>
            </p:grpSpPr>
            <p:sp>
              <p:nvSpPr>
                <p:cNvPr id="276" name="Line 31"/>
                <p:cNvSpPr/>
                <p:nvPr/>
              </p:nvSpPr>
              <p:spPr>
                <a:xfrm>
                  <a:off x="6396120" y="2574360"/>
                  <a:ext cx="10980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Line 32"/>
                <p:cNvSpPr/>
                <p:nvPr/>
              </p:nvSpPr>
              <p:spPr>
                <a:xfrm>
                  <a:off x="6396120" y="2327400"/>
                  <a:ext cx="10980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Line 33"/>
                <p:cNvSpPr/>
                <p:nvPr/>
              </p:nvSpPr>
              <p:spPr>
                <a:xfrm>
                  <a:off x="6396120" y="2080440"/>
                  <a:ext cx="10980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Line 34"/>
                <p:cNvSpPr/>
                <p:nvPr/>
              </p:nvSpPr>
              <p:spPr>
                <a:xfrm>
                  <a:off x="6396120" y="1833840"/>
                  <a:ext cx="10980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80" name="Group 35"/>
            <p:cNvGrpSpPr/>
            <p:nvPr/>
          </p:nvGrpSpPr>
          <p:grpSpPr>
            <a:xfrm>
              <a:off x="6384960" y="3327480"/>
              <a:ext cx="2249640" cy="204840"/>
              <a:chOff x="6384960" y="3327480"/>
              <a:chExt cx="2249640" cy="204840"/>
            </a:xfrm>
          </p:grpSpPr>
          <p:sp>
            <p:nvSpPr>
              <p:cNvPr id="281" name="Line 36"/>
              <p:cNvSpPr/>
              <p:nvPr/>
            </p:nvSpPr>
            <p:spPr>
              <a:xfrm>
                <a:off x="6384960" y="3531240"/>
                <a:ext cx="2249640" cy="108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" name="Line 37"/>
              <p:cNvSpPr/>
              <p:nvPr/>
            </p:nvSpPr>
            <p:spPr>
              <a:xfrm>
                <a:off x="7143120" y="3327480"/>
                <a:ext cx="0" cy="19836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3" name="Line 38"/>
              <p:cNvSpPr/>
              <p:nvPr/>
            </p:nvSpPr>
            <p:spPr>
              <a:xfrm>
                <a:off x="7921800" y="3342600"/>
                <a:ext cx="0" cy="18324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84" name="Text Box 39"/>
            <p:cNvSpPr/>
            <p:nvPr/>
          </p:nvSpPr>
          <p:spPr>
            <a:xfrm>
              <a:off x="7185240" y="1581120"/>
              <a:ext cx="1398600" cy="154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Vibratio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Rotatio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Translatio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5" name=""/>
          <p:cNvSpPr/>
          <p:nvPr/>
        </p:nvSpPr>
        <p:spPr>
          <a:xfrm>
            <a:off x="590400" y="5438880"/>
            <a:ext cx="1981440" cy="2761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26560" y="64800"/>
            <a:ext cx="7543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Chemical Potential with Potential Energy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7" name="Text Box 3"/>
          <p:cNvSpPr/>
          <p:nvPr/>
        </p:nvSpPr>
        <p:spPr>
          <a:xfrm>
            <a:off x="654120" y="3645000"/>
            <a:ext cx="500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MS PGothic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Rectangle 4"/>
          <p:cNvSpPr/>
          <p:nvPr/>
        </p:nvSpPr>
        <p:spPr>
          <a:xfrm>
            <a:off x="5076720" y="4478400"/>
            <a:ext cx="619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ff00"/>
                </a:solidFill>
                <a:latin typeface="Times New Roman"/>
                <a:ea typeface="MS PGothic"/>
              </a:rPr>
              <a:t> 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Rectangle 5"/>
          <p:cNvSpPr/>
          <p:nvPr/>
        </p:nvSpPr>
        <p:spPr>
          <a:xfrm>
            <a:off x="4860720" y="4478400"/>
            <a:ext cx="619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ff00"/>
                </a:solidFill>
                <a:latin typeface="Times New Roman"/>
                <a:ea typeface="MS PGothic"/>
              </a:rPr>
              <a:t> 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Rectangle 6"/>
          <p:cNvSpPr/>
          <p:nvPr/>
        </p:nvSpPr>
        <p:spPr>
          <a:xfrm>
            <a:off x="4173480" y="4478400"/>
            <a:ext cx="619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ff00"/>
                </a:solidFill>
                <a:latin typeface="Times New Roman"/>
                <a:ea typeface="MS PGothic"/>
              </a:rPr>
              <a:t> 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Rectangle 7"/>
          <p:cNvSpPr/>
          <p:nvPr/>
        </p:nvSpPr>
        <p:spPr>
          <a:xfrm>
            <a:off x="3467160" y="5769000"/>
            <a:ext cx="749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00"/>
                </a:solidFill>
                <a:latin typeface="Times New Roman"/>
                <a:ea typeface="MS PGothic"/>
              </a:rPr>
              <a:t>  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Text Box 8"/>
          <p:cNvSpPr/>
          <p:nvPr/>
        </p:nvSpPr>
        <p:spPr>
          <a:xfrm>
            <a:off x="531720" y="1787400"/>
            <a:ext cx="8128080" cy="164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MS PGothic"/>
              </a:rPr>
              <a:t>The potential energy per particle, PE, makes an additional contribution     N·PE to the free energy:  </a:t>
            </a:r>
            <a:r>
              <a:rPr b="0" lang="en-US" sz="1800" spc="-1" strike="noStrike">
                <a:solidFill>
                  <a:srgbClr val="00ff00"/>
                </a:solidFill>
                <a:latin typeface="Arial"/>
                <a:ea typeface="MS PGothic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  <a:ea typeface="MS PGothic"/>
              </a:rPr>
              <a:t>F = U - TS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MS PGothic"/>
              </a:rPr>
              <a:t>So, the chemical potential (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MS PGothic"/>
              </a:rPr>
              <a:t> = dF/dN) gains an additional contribution: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  <a:ea typeface="MS PGothic"/>
              </a:rPr>
              <a:t>d(N·PE)/dN = PE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MS PGothic"/>
              </a:rPr>
              <a:t>  It’s the energy that one particle adds to the system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Example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37588680" indent="9711720">
              <a:lnSpc>
                <a:spcPct val="100000"/>
              </a:lnSpc>
              <a:spcBef>
                <a:spcPts val="1125"/>
              </a:spcBef>
              <a:tabLst>
                <a:tab algn="l" pos="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MS PGothic"/>
              </a:rPr>
              <a:t>Atom in gravit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37588680" indent="9711720">
              <a:lnSpc>
                <a:spcPct val="100000"/>
              </a:lnSpc>
              <a:spcBef>
                <a:spcPts val="1125"/>
              </a:spcBef>
              <a:tabLst>
                <a:tab algn="l" pos="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37588680" indent="9711720">
              <a:lnSpc>
                <a:spcPct val="100000"/>
              </a:lnSpc>
              <a:spcBef>
                <a:spcPts val="1125"/>
              </a:spcBef>
              <a:tabLst>
                <a:tab algn="l" pos="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MS PGothic"/>
              </a:rPr>
              <a:t>Molecule with binding energy,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MS PGothic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2124000" y="3267000"/>
          <a:ext cx="1803600" cy="66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4000" y="3267000"/>
                    <a:ext cx="1803600" cy="66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5" name="Text Box 12"/>
          <p:cNvSpPr/>
          <p:nvPr/>
        </p:nvSpPr>
        <p:spPr>
          <a:xfrm>
            <a:off x="4363920" y="3404160"/>
            <a:ext cx="21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n = N/V  particle densit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96" name=""/>
          <p:cNvGraphicFramePr/>
          <p:nvPr/>
        </p:nvGraphicFramePr>
        <p:xfrm>
          <a:off x="4308480" y="4309920"/>
          <a:ext cx="1940040" cy="666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08480" y="4309920"/>
                    <a:ext cx="1940040" cy="66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8" name=""/>
          <p:cNvGraphicFramePr/>
          <p:nvPr/>
        </p:nvGraphicFramePr>
        <p:xfrm>
          <a:off x="4311720" y="5110200"/>
          <a:ext cx="1625400" cy="66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9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311720" y="5110200"/>
                    <a:ext cx="1625400" cy="66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/>
          </p:nvPr>
        </p:nvSpPr>
        <p:spPr>
          <a:xfrm>
            <a:off x="1020240" y="1274760"/>
            <a:ext cx="7705800" cy="419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2000"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uestion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How do the gas density n and pressure p of the gas vary with height from the earth’s (or any planet’s) surfac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mpare region 2 at height h with region 1 at height  0. (equal volume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or every state in region 1 there’s a corresponding state in region 2 with mgh more energ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ssume that the temperature is in equilibrium (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=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rite the ideal gas law like this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p = nkT. (n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N / 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Rectangle 2"/>
          <p:cNvSpPr/>
          <p:nvPr/>
        </p:nvSpPr>
        <p:spPr>
          <a:xfrm>
            <a:off x="838080" y="174600"/>
            <a:ext cx="754380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 Law of Atmospheres (1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4" name=""/>
          <p:cNvGrpSpPr/>
          <p:nvPr/>
        </p:nvGrpSpPr>
        <p:grpSpPr>
          <a:xfrm>
            <a:off x="5003640" y="3835440"/>
            <a:ext cx="2446560" cy="1685520"/>
            <a:chOff x="5003640" y="3835440"/>
            <a:chExt cx="2446560" cy="1685520"/>
          </a:xfrm>
        </p:grpSpPr>
        <p:sp>
          <p:nvSpPr>
            <p:cNvPr id="305" name="Text Box 9"/>
            <p:cNvSpPr/>
            <p:nvPr/>
          </p:nvSpPr>
          <p:spPr>
            <a:xfrm>
              <a:off x="7145280" y="4948200"/>
              <a:ext cx="3049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06" name=""/>
            <p:cNvGrpSpPr/>
            <p:nvPr/>
          </p:nvGrpSpPr>
          <p:grpSpPr>
            <a:xfrm>
              <a:off x="5003640" y="3882960"/>
              <a:ext cx="2362320" cy="1638000"/>
              <a:chOff x="5003640" y="3882960"/>
              <a:chExt cx="2362320" cy="1638000"/>
            </a:xfrm>
          </p:grpSpPr>
          <p:sp>
            <p:nvSpPr>
              <p:cNvPr id="307" name="Line 8"/>
              <p:cNvSpPr/>
              <p:nvPr/>
            </p:nvSpPr>
            <p:spPr>
              <a:xfrm flipV="1">
                <a:off x="5003640" y="3882960"/>
                <a:ext cx="0" cy="163800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" name="Line 12"/>
              <p:cNvSpPr/>
              <p:nvPr/>
            </p:nvSpPr>
            <p:spPr>
              <a:xfrm>
                <a:off x="5003640" y="5520960"/>
                <a:ext cx="2362320" cy="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09" name=""/>
            <p:cNvSpPr/>
            <p:nvPr/>
          </p:nvSpPr>
          <p:spPr>
            <a:xfrm>
              <a:off x="7139160" y="38592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h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10" name=""/>
            <p:cNvGrpSpPr/>
            <p:nvPr/>
          </p:nvGrpSpPr>
          <p:grpSpPr>
            <a:xfrm>
              <a:off x="6141960" y="3835440"/>
              <a:ext cx="790560" cy="456840"/>
              <a:chOff x="6141960" y="3835440"/>
              <a:chExt cx="790560" cy="456840"/>
            </a:xfrm>
          </p:grpSpPr>
          <p:sp>
            <p:nvSpPr>
              <p:cNvPr id="311" name="Text Box 65"/>
              <p:cNvSpPr/>
              <p:nvPr/>
            </p:nvSpPr>
            <p:spPr>
              <a:xfrm>
                <a:off x="6256800" y="3886200"/>
                <a:ext cx="59544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MS PGothic"/>
                  </a:rPr>
                  <a:t>p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MS PGothic"/>
                  </a:rPr>
                  <a:t>, n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  <a:ea typeface="MS PGothic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6141960" y="3835440"/>
                <a:ext cx="790560" cy="45684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13" name=""/>
            <p:cNvGrpSpPr/>
            <p:nvPr/>
          </p:nvGrpSpPr>
          <p:grpSpPr>
            <a:xfrm>
              <a:off x="6141960" y="4964040"/>
              <a:ext cx="790560" cy="456840"/>
              <a:chOff x="6141960" y="4964040"/>
              <a:chExt cx="790560" cy="456840"/>
            </a:xfrm>
          </p:grpSpPr>
          <p:sp>
            <p:nvSpPr>
              <p:cNvPr id="314" name="Text Box 65"/>
              <p:cNvSpPr/>
              <p:nvPr/>
            </p:nvSpPr>
            <p:spPr>
              <a:xfrm>
                <a:off x="6258600" y="5022360"/>
                <a:ext cx="59544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MS PGothic"/>
                  </a:rPr>
                  <a:t>p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  <a:ea typeface="MS PGothic"/>
                  </a:rPr>
                  <a:t>1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MS PGothic"/>
                  </a:rPr>
                  <a:t>, n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  <a:ea typeface="MS PGothic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6141960" y="4964040"/>
                <a:ext cx="790560" cy="45684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16" name=""/>
          <p:cNvSpPr/>
          <p:nvPr/>
        </p:nvSpPr>
        <p:spPr>
          <a:xfrm>
            <a:off x="0" y="165240"/>
            <a:ext cx="130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MS PGothic"/>
              </a:rPr>
              <a:t>Simple exampl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044880" y="5232240"/>
            <a:ext cx="76320" cy="76320"/>
          </a:xfrm>
          <a:prstGeom prst="ellips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214280" y="5506920"/>
            <a:ext cx="23623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927360" y="53071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533760" y="3646440"/>
            <a:ext cx="1187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Pressur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p(h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p(0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 flipV="1">
            <a:off x="1251000" y="3692520"/>
            <a:ext cx="0" cy="17985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2" name=""/>
          <p:cNvGrpSpPr/>
          <p:nvPr/>
        </p:nvGrpSpPr>
        <p:grpSpPr>
          <a:xfrm>
            <a:off x="1397160" y="3846600"/>
            <a:ext cx="1904400" cy="1675800"/>
            <a:chOff x="1397160" y="3846600"/>
            <a:chExt cx="1904400" cy="1675800"/>
          </a:xfrm>
        </p:grpSpPr>
        <p:sp>
          <p:nvSpPr>
            <p:cNvPr id="323" name=""/>
            <p:cNvSpPr/>
            <p:nvPr/>
          </p:nvSpPr>
          <p:spPr>
            <a:xfrm>
              <a:off x="2616120" y="544644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158920" y="5294160"/>
              <a:ext cx="75960" cy="7560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387520" y="514152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930320" y="5294160"/>
              <a:ext cx="75960" cy="7560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844720" y="521784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701720" y="5065560"/>
              <a:ext cx="75960" cy="7560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082600" y="514152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539800" y="5065560"/>
              <a:ext cx="75960" cy="7560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235240" y="4989240"/>
              <a:ext cx="7560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625400" y="4836960"/>
              <a:ext cx="75960" cy="7560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1930320" y="491292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11200" y="476064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073320" y="498924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082600" y="4608360"/>
              <a:ext cx="75960" cy="7560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692440" y="4836960"/>
              <a:ext cx="75600" cy="7560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549440" y="4455720"/>
              <a:ext cx="7560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463840" y="4151160"/>
              <a:ext cx="75600" cy="7560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225600" y="468432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539800" y="445572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006640" y="4227120"/>
              <a:ext cx="7560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921040" y="4227120"/>
              <a:ext cx="7560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2539800" y="5294160"/>
              <a:ext cx="75960" cy="7560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463840" y="5370120"/>
              <a:ext cx="7560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311200" y="544644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1625400" y="544644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1549440" y="5370120"/>
              <a:ext cx="7560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1397160" y="537012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549440" y="5217840"/>
              <a:ext cx="7560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473120" y="5065560"/>
              <a:ext cx="75960" cy="7560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235240" y="5370120"/>
              <a:ext cx="7560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2006640" y="5446440"/>
              <a:ext cx="7560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854000" y="537012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701720" y="537012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701720" y="521784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2387520" y="5294160"/>
              <a:ext cx="75960" cy="7560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768400" y="5294160"/>
              <a:ext cx="75960" cy="7560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997000" y="521784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539800" y="521784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225600" y="521784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073320" y="5294160"/>
              <a:ext cx="75960" cy="7560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073320" y="544644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2768400" y="544644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2921040" y="5370120"/>
              <a:ext cx="7560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2844720" y="537012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3225600" y="544644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225600" y="407484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625400" y="3922560"/>
              <a:ext cx="75960" cy="7560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2692440" y="3846600"/>
              <a:ext cx="7560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71" name=""/>
          <p:cNvSpPr/>
          <p:nvPr/>
        </p:nvSpPr>
        <p:spPr>
          <a:xfrm>
            <a:off x="929160" y="36050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h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511280" y="5497560"/>
            <a:ext cx="160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MS PGothic"/>
              </a:rPr>
              <a:t>Earth’s surfac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0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7T16:36:54Z</dcterms:created>
  <dc:creator>j-wolfe</dc:creator>
  <dc:description/>
  <cp:keywords/>
  <dc:language>en-US</dc:language>
  <cp:lastModifiedBy>kwiat</cp:lastModifiedBy>
  <cp:lastPrinted>1997-01-30T13:11:51Z</cp:lastPrinted>
  <dcterms:modified xsi:type="dcterms:W3CDTF">2013-11-25T02:32:42Z</dcterms:modified>
  <cp:revision>517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