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2044F58-C322-4515-8622-6EC1469E13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71A60F48-3847-4831-9A96-91EE0492017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71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82720" y="4554360"/>
            <a:ext cx="163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27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31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8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9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74880" y="6300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30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10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resistance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83560" y="5416560"/>
            <a:ext cx="2084040" cy="90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Question to ponde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Why don’t the tables 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free energy mention T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7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0" name="Object 10"/>
          <p:cNvGraphicFramePr/>
          <p:nvPr/>
        </p:nvGraphicFramePr>
        <p:xfrm>
          <a:off x="793800" y="3662280"/>
          <a:ext cx="2293920" cy="9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3662280"/>
                    <a:ext cx="2293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8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8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9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9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9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9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9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0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0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0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3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5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02:52:46Z</dcterms:modified>
  <cp:revision>5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