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media/image7.wmf" ContentType="image/x-wmf"/>
  <Override PartName="/ppt/media/image12.wmf" ContentType="image/x-wmf"/>
  <Override PartName="/ppt/media/image27.jpeg" ContentType="image/jpeg"/>
  <Override PartName="/ppt/media/image13.wmf" ContentType="image/x-wmf"/>
  <Override PartName="/ppt/media/image8.wmf" ContentType="image/x-wmf"/>
  <Override PartName="/ppt/media/image9.wmf" ContentType="image/x-wmf"/>
  <Override PartName="/ppt/media/image31.png" ContentType="image/png"/>
  <Override PartName="/ppt/media/image1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4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064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E535C708-B360-4479-9CF1-2E419E484B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8632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lecture is about 5-10 minutes too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ubber band with heat g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ompare with metal 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ubber band wheel (I’d skip i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D95CD65F-9983-4F7F-BE94-47A559BE5EF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97000" y="2161080"/>
            <a:ext cx="70819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lement: Proof of equipartition, showing its limi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7" name="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50" name="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2240" y="1612800"/>
            <a:ext cx="6964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274760" y="3602160"/>
          <a:ext cx="3807000" cy="92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02160"/>
                    <a:ext cx="38070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193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194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198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13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14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4000"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0" name="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231" name="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245" name="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252" name="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253" name="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256" name="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259" name="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262" name="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265" name="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268" name="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271" name="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274" name="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277" name="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280" name="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2" name="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5" name="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286" name="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2119320" y="3585960"/>
            <a:ext cx="2779560" cy="865440"/>
            <a:chOff x="2119320" y="3585960"/>
            <a:chExt cx="2779560" cy="865440"/>
          </a:xfrm>
        </p:grpSpPr>
        <p:grpSp>
          <p:nvGrpSpPr>
            <p:cNvPr id="295" name=""/>
            <p:cNvGrpSpPr/>
            <p:nvPr/>
          </p:nvGrpSpPr>
          <p:grpSpPr>
            <a:xfrm>
              <a:off x="2662200" y="3652920"/>
              <a:ext cx="2236680" cy="798480"/>
              <a:chOff x="2662200" y="365292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296" name=""/>
                  <p:cNvSpPr txBox="1"/>
                  <p:nvPr/>
                </p:nvSpPr>
                <p:spPr>
                  <a:xfrm>
                    <a:off x="3844800" y="365292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7" name=""/>
                  <p:cNvSpPr txBox="1"/>
                  <p:nvPr/>
                </p:nvSpPr>
                <p:spPr>
                  <a:xfrm>
                    <a:off x="3867120" y="415440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98" name=""/>
              <p:cNvSpPr/>
              <p:nvPr/>
            </p:nvSpPr>
            <p:spPr>
              <a:xfrm flipH="1">
                <a:off x="2776320" y="428652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776320" y="377208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2662200" y="419112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681280" y="369576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119320" y="3585960"/>
              <a:ext cx="401760" cy="824040"/>
              <a:chOff x="2119320" y="3585960"/>
              <a:chExt cx="401760" cy="824040"/>
            </a:xfrm>
          </p:grpSpPr>
          <p:sp>
            <p:nvSpPr>
              <p:cNvPr id="303" name=""/>
              <p:cNvSpPr/>
              <p:nvPr/>
            </p:nvSpPr>
            <p:spPr>
              <a:xfrm flipV="1">
                <a:off x="2489400" y="358596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19320" y="384012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8120" y="971640"/>
            <a:ext cx="63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using Boltzmann fac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313" name="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5" name="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7" name="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514080" y="4400280"/>
            <a:ext cx="6815160" cy="1991520"/>
            <a:chOff x="514080" y="4400280"/>
            <a:chExt cx="6815160" cy="1991520"/>
          </a:xfrm>
        </p:grpSpPr>
        <p:sp>
          <p:nvSpPr>
            <p:cNvPr id="325" name="PlaceHolder 1"/>
            <p:cNvSpPr>
              <a:spLocks noGrp="1"/>
            </p:cNvSpPr>
            <p:nvPr>
              <p:ph/>
            </p:nvPr>
          </p:nvSpPr>
          <p:spPr>
            <a:xfrm>
              <a:off x="514080" y="440028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indent="0">
                <a:lnSpc>
                  <a:spcPct val="9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27" name="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29" name="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330" name="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2" name="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772920" y="1083960"/>
            <a:ext cx="7894440" cy="2925720"/>
            <a:chOff x="772920" y="1083960"/>
            <a:chExt cx="7894440" cy="2925720"/>
          </a:xfrm>
        </p:grpSpPr>
        <p:sp>
          <p:nvSpPr>
            <p:cNvPr id="362" name="PlaceHolder 2"/>
            <p:cNvSpPr>
              <a:spLocks noGrp="1"/>
            </p:cNvSpPr>
            <p:nvPr>
              <p:ph/>
            </p:nvPr>
          </p:nvSpPr>
          <p:spPr>
            <a:xfrm>
              <a:off x="772920" y="1083960"/>
              <a:ext cx="7894440" cy="2925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 (see Appendix)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363" name=""/>
            <p:cNvGraphicFramePr/>
            <p:nvPr/>
          </p:nvGraphicFramePr>
          <p:xfrm>
            <a:off x="1728720" y="2011320"/>
            <a:ext cx="489564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28720" y="2011320"/>
                      <a:ext cx="489564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697120" y="2868480"/>
          <a:ext cx="1535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2868480"/>
                    <a:ext cx="1535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835200" y="2952720"/>
          <a:ext cx="152388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952720"/>
                    <a:ext cx="1523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1" name="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372" name="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383" name="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396" name="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416" name="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419" name="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422" name="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439" name="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458" name="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366920" y="2339280"/>
            <a:ext cx="7176960" cy="25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ck Distribution of Electromagnetic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6000"/>
          </a:bodyPr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471" name="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8" name="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9" name="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482" name="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9" name="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493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,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505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every quantum stat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for each part 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just add all the par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Boltzmann factor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3000" y="1058760"/>
            <a:ext cx="847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can exchange energy, volume, particles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0" name="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11120" y="4906800"/>
            <a:ext cx="522612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59360" y="3236760"/>
            <a:ext cx="336384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280" y="4924440"/>
            <a:ext cx="901872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1" name="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0" name="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37560" y="22543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178760" y="3187800"/>
          <a:ext cx="196524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8760" y="3187800"/>
                    <a:ext cx="1965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061040" y="1460520"/>
          <a:ext cx="168300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61040" y="1460520"/>
                    <a:ext cx="1683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38" name="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585720" y="3052800"/>
          <a:ext cx="12556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20" y="3052800"/>
                    <a:ext cx="12556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1-09-03T16:33:07Z</dcterms:modified>
  <cp:revision>29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