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1DF14B9C-C6A0-47AF-8DF2-8834B7D458B7}"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9080" y="701640"/>
            <a:ext cx="4633920" cy="3475080"/>
          </a:xfrm>
          <a:prstGeom prst="rect">
            <a:avLst/>
          </a:prstGeom>
          <a:ln w="0">
            <a:noFill/>
          </a:ln>
        </p:spPr>
      </p:sp>
      <p:sp>
        <p:nvSpPr>
          <p:cNvPr id="316"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9080" y="701640"/>
            <a:ext cx="4633920" cy="3475080"/>
          </a:xfrm>
          <a:prstGeom prst="rect">
            <a:avLst/>
          </a:prstGeom>
          <a:ln w="0">
            <a:noFill/>
          </a:ln>
        </p:spPr>
      </p:sp>
      <p:sp>
        <p:nvSpPr>
          <p:cNvPr id="318"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9080" y="701640"/>
            <a:ext cx="4633920" cy="3475080"/>
          </a:xfrm>
          <a:prstGeom prst="rect">
            <a:avLst/>
          </a:prstGeom>
          <a:ln w="0">
            <a:noFill/>
          </a:ln>
        </p:spPr>
      </p:sp>
      <p:sp>
        <p:nvSpPr>
          <p:cNvPr id="320"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9080" y="701640"/>
            <a:ext cx="4633920" cy="3475080"/>
          </a:xfrm>
          <a:prstGeom prst="rect">
            <a:avLst/>
          </a:prstGeom>
          <a:ln w="0">
            <a:noFill/>
          </a:ln>
        </p:spPr>
      </p:sp>
      <p:sp>
        <p:nvSpPr>
          <p:cNvPr id="310"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9080" y="703440"/>
            <a:ext cx="4630680" cy="3473280"/>
          </a:xfrm>
          <a:prstGeom prst="rect">
            <a:avLst/>
          </a:prstGeom>
          <a:ln w="0">
            <a:noFill/>
          </a:ln>
        </p:spPr>
      </p:sp>
      <p:sp>
        <p:nvSpPr>
          <p:cNvPr id="31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9080" y="701640"/>
            <a:ext cx="4633920" cy="3475080"/>
          </a:xfrm>
          <a:prstGeom prst="rect">
            <a:avLst/>
          </a:prstGeom>
          <a:ln w="0">
            <a:noFill/>
          </a:ln>
        </p:spPr>
      </p:sp>
      <p:sp>
        <p:nvSpPr>
          <p:cNvPr id="314"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FA790CA3-0996-4F16-981C-340158442132}"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5" name="Group 3"/>
          <p:cNvGrpSpPr/>
          <p:nvPr/>
        </p:nvGrpSpPr>
        <p:grpSpPr>
          <a:xfrm>
            <a:off x="3529800" y="3196800"/>
            <a:ext cx="2375640" cy="2025000"/>
            <a:chOff x="3529800" y="3196800"/>
            <a:chExt cx="2375640" cy="2025000"/>
          </a:xfrm>
        </p:grpSpPr>
        <p:sp>
          <p:nvSpPr>
            <p:cNvPr id="46"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7" name="Group 5"/>
            <p:cNvGrpSpPr/>
            <p:nvPr/>
          </p:nvGrpSpPr>
          <p:grpSpPr>
            <a:xfrm>
              <a:off x="3529800" y="3196800"/>
              <a:ext cx="2375640" cy="2025000"/>
              <a:chOff x="3529800" y="3196800"/>
              <a:chExt cx="2375640" cy="2025000"/>
            </a:xfrm>
          </p:grpSpPr>
          <p:sp>
            <p:nvSpPr>
              <p:cNvPr id="48"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2"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4"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5"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0"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1"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2"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3"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4"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6"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7"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35"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6"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7"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8"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39"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0"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41"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2"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3"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4"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5"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46"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47" name="Group 17"/>
          <p:cNvGrpSpPr/>
          <p:nvPr/>
        </p:nvGrpSpPr>
        <p:grpSpPr>
          <a:xfrm>
            <a:off x="7213680" y="2523960"/>
            <a:ext cx="2123640" cy="1275840"/>
            <a:chOff x="7213680" y="2523960"/>
            <a:chExt cx="2123640" cy="1275840"/>
          </a:xfrm>
        </p:grpSpPr>
        <p:sp>
          <p:nvSpPr>
            <p:cNvPr id="248"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49"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0"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1"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2"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3"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4"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5"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56"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57"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58"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59"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260"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2"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263"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4"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265" name="Group 3"/>
          <p:cNvGrpSpPr/>
          <p:nvPr/>
        </p:nvGrpSpPr>
        <p:grpSpPr>
          <a:xfrm>
            <a:off x="6210360" y="1198440"/>
            <a:ext cx="2255400" cy="2299680"/>
            <a:chOff x="6210360" y="1198440"/>
            <a:chExt cx="2255400" cy="2299680"/>
          </a:xfrm>
        </p:grpSpPr>
        <p:grpSp>
          <p:nvGrpSpPr>
            <p:cNvPr id="266" name="Group 4"/>
            <p:cNvGrpSpPr/>
            <p:nvPr/>
          </p:nvGrpSpPr>
          <p:grpSpPr>
            <a:xfrm>
              <a:off x="6210360" y="1198440"/>
              <a:ext cx="2255400" cy="2299680"/>
              <a:chOff x="6210360" y="1198440"/>
              <a:chExt cx="2255400" cy="2299680"/>
            </a:xfrm>
          </p:grpSpPr>
          <p:grpSp>
            <p:nvGrpSpPr>
              <p:cNvPr id="267" name="Group 5"/>
              <p:cNvGrpSpPr/>
              <p:nvPr/>
            </p:nvGrpSpPr>
            <p:grpSpPr>
              <a:xfrm>
                <a:off x="6572160" y="1626840"/>
                <a:ext cx="1563840" cy="1788840"/>
                <a:chOff x="6572160" y="1626840"/>
                <a:chExt cx="1563840" cy="1788840"/>
              </a:xfrm>
            </p:grpSpPr>
            <p:sp>
              <p:nvSpPr>
                <p:cNvPr id="268"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9"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0"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1"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2"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73" name="Group 11"/>
              <p:cNvGrpSpPr/>
              <p:nvPr/>
            </p:nvGrpSpPr>
            <p:grpSpPr>
              <a:xfrm>
                <a:off x="6210360" y="1198440"/>
                <a:ext cx="2255400" cy="2299680"/>
                <a:chOff x="6210360" y="1198440"/>
                <a:chExt cx="2255400" cy="2299680"/>
              </a:xfrm>
            </p:grpSpPr>
            <p:sp>
              <p:nvSpPr>
                <p:cNvPr id="274"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77"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78" name="Group 16"/>
            <p:cNvGrpSpPr/>
            <p:nvPr/>
          </p:nvGrpSpPr>
          <p:grpSpPr>
            <a:xfrm>
              <a:off x="6501960" y="1674720"/>
              <a:ext cx="300240" cy="1256040"/>
              <a:chOff x="6501960" y="1674720"/>
              <a:chExt cx="300240" cy="1256040"/>
            </a:xfrm>
          </p:grpSpPr>
          <p:sp>
            <p:nvSpPr>
              <p:cNvPr id="279"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80"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81"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282"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284" name="Group 4"/>
          <p:cNvGrpSpPr/>
          <p:nvPr/>
        </p:nvGrpSpPr>
        <p:grpSpPr>
          <a:xfrm>
            <a:off x="628560" y="4795920"/>
            <a:ext cx="1647720" cy="848520"/>
            <a:chOff x="628560" y="4795920"/>
            <a:chExt cx="1647720" cy="848520"/>
          </a:xfrm>
        </p:grpSpPr>
        <p:sp>
          <p:nvSpPr>
            <p:cNvPr id="285"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86"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87"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88"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9"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0"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91"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2"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3"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4"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95"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97"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98"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9"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0"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1"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2"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03"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04"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05"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6"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307"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308"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69" name="Text Box 21"/>
          <p:cNvSpPr/>
          <p:nvPr/>
        </p:nvSpPr>
        <p:spPr>
          <a:xfrm>
            <a:off x="4276800" y="114696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0" name=""/>
          <p:cNvGrpSpPr/>
          <p:nvPr/>
        </p:nvGrpSpPr>
        <p:grpSpPr>
          <a:xfrm>
            <a:off x="339840" y="795240"/>
            <a:ext cx="3335040" cy="4417200"/>
            <a:chOff x="339840" y="795240"/>
            <a:chExt cx="3335040" cy="4417200"/>
          </a:xfrm>
        </p:grpSpPr>
        <p:sp>
          <p:nvSpPr>
            <p:cNvPr id="71"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2"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3"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4"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2"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4"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5"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8"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0"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1"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2" name=""/>
          <p:cNvGrpSpPr/>
          <p:nvPr/>
        </p:nvGrpSpPr>
        <p:grpSpPr>
          <a:xfrm>
            <a:off x="623880" y="2859120"/>
            <a:ext cx="2117880" cy="1150920"/>
            <a:chOff x="623880" y="2859120"/>
            <a:chExt cx="2117880" cy="1150920"/>
          </a:xfrm>
        </p:grpSpPr>
        <p:sp>
          <p:nvSpPr>
            <p:cNvPr id="93"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4"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5"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6"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7" name="Group 4"/>
          <p:cNvGrpSpPr/>
          <p:nvPr/>
        </p:nvGrpSpPr>
        <p:grpSpPr>
          <a:xfrm>
            <a:off x="4392720" y="4818240"/>
            <a:ext cx="2368080" cy="1778400"/>
            <a:chOff x="4392720" y="4818240"/>
            <a:chExt cx="2368080" cy="1778400"/>
          </a:xfrm>
        </p:grpSpPr>
        <p:sp>
          <p:nvSpPr>
            <p:cNvPr id="98"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9"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0"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1"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3"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4"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5"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7"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8"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9"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10"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11" name=""/>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2" name=""/>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2"/>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7"/>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10"/>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11"/>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14"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15" name="Group 4"/>
          <p:cNvGrpSpPr/>
          <p:nvPr/>
        </p:nvGrpSpPr>
        <p:grpSpPr>
          <a:xfrm>
            <a:off x="6103800" y="3000240"/>
            <a:ext cx="2368800" cy="1778760"/>
            <a:chOff x="6103800" y="3000240"/>
            <a:chExt cx="2368800" cy="1778760"/>
          </a:xfrm>
        </p:grpSpPr>
        <p:sp>
          <p:nvSpPr>
            <p:cNvPr id="116"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17"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8"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9"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0"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1"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2"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3"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4"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25"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6"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27"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28"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29" name="Group 18"/>
          <p:cNvGrpSpPr/>
          <p:nvPr/>
        </p:nvGrpSpPr>
        <p:grpSpPr>
          <a:xfrm>
            <a:off x="6093000" y="1195560"/>
            <a:ext cx="2255760" cy="1536480"/>
            <a:chOff x="6093000" y="1195560"/>
            <a:chExt cx="2255760" cy="1536480"/>
          </a:xfrm>
        </p:grpSpPr>
        <p:grpSp>
          <p:nvGrpSpPr>
            <p:cNvPr id="130" name="Group 19"/>
            <p:cNvGrpSpPr/>
            <p:nvPr/>
          </p:nvGrpSpPr>
          <p:grpSpPr>
            <a:xfrm>
              <a:off x="6093000" y="1195560"/>
              <a:ext cx="2255760" cy="1375920"/>
              <a:chOff x="6093000" y="1195560"/>
              <a:chExt cx="2255760" cy="1375920"/>
            </a:xfrm>
          </p:grpSpPr>
          <p:grpSp>
            <p:nvGrpSpPr>
              <p:cNvPr id="131" name="Group 20"/>
              <p:cNvGrpSpPr/>
              <p:nvPr/>
            </p:nvGrpSpPr>
            <p:grpSpPr>
              <a:xfrm>
                <a:off x="6093000" y="1195560"/>
                <a:ext cx="2255760" cy="1375920"/>
                <a:chOff x="6093000" y="1195560"/>
                <a:chExt cx="2255760" cy="1375920"/>
              </a:xfrm>
            </p:grpSpPr>
            <p:grpSp>
              <p:nvGrpSpPr>
                <p:cNvPr id="132" name="Group 21"/>
                <p:cNvGrpSpPr/>
                <p:nvPr/>
              </p:nvGrpSpPr>
              <p:grpSpPr>
                <a:xfrm>
                  <a:off x="6494760" y="1873440"/>
                  <a:ext cx="1523880" cy="696600"/>
                  <a:chOff x="6494760" y="1873440"/>
                  <a:chExt cx="1523880" cy="696600"/>
                </a:xfrm>
              </p:grpSpPr>
              <p:sp>
                <p:nvSpPr>
                  <p:cNvPr id="133"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5"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36"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7"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9"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40"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41"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2"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43"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47"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48"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49" name="Group 5"/>
          <p:cNvGrpSpPr/>
          <p:nvPr/>
        </p:nvGrpSpPr>
        <p:grpSpPr>
          <a:xfrm>
            <a:off x="966960" y="1644480"/>
            <a:ext cx="2368080" cy="1778760"/>
            <a:chOff x="966960" y="1644480"/>
            <a:chExt cx="2368080" cy="1778760"/>
          </a:xfrm>
        </p:grpSpPr>
        <p:sp>
          <p:nvSpPr>
            <p:cNvPr id="150"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51"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2"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3"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4"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5"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6"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7"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58" name="Group 14"/>
            <p:cNvGrpSpPr/>
            <p:nvPr/>
          </p:nvGrpSpPr>
          <p:grpSpPr>
            <a:xfrm>
              <a:off x="2098440" y="1788840"/>
              <a:ext cx="82440" cy="712800"/>
              <a:chOff x="2098440" y="1788840"/>
              <a:chExt cx="82440" cy="712800"/>
            </a:xfrm>
          </p:grpSpPr>
          <p:sp>
            <p:nvSpPr>
              <p:cNvPr id="159"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0"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1"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62"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63"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4"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5"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66" name=""/>
          <p:cNvGrpSpPr/>
          <p:nvPr/>
        </p:nvGrpSpPr>
        <p:grpSpPr>
          <a:xfrm>
            <a:off x="4483080" y="1536840"/>
            <a:ext cx="3543480" cy="2219040"/>
            <a:chOff x="4483080" y="1536840"/>
            <a:chExt cx="3543480" cy="2219040"/>
          </a:xfrm>
        </p:grpSpPr>
        <p:sp>
          <p:nvSpPr>
            <p:cNvPr id="167"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68"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69"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0"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1"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2"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73"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4"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75"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8">
                                            <p:txEl>
                                              <p:pRg st="2" end="2"/>
                                            </p:txEl>
                                          </p:spTgt>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77"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78" name=""/>
          <p:cNvGrpSpPr/>
          <p:nvPr/>
        </p:nvGrpSpPr>
        <p:grpSpPr>
          <a:xfrm>
            <a:off x="6459480" y="1130400"/>
            <a:ext cx="2255400" cy="2299680"/>
            <a:chOff x="6459480" y="1130400"/>
            <a:chExt cx="2255400" cy="2299680"/>
          </a:xfrm>
        </p:grpSpPr>
        <p:grpSp>
          <p:nvGrpSpPr>
            <p:cNvPr id="179" name=""/>
            <p:cNvGrpSpPr/>
            <p:nvPr/>
          </p:nvGrpSpPr>
          <p:grpSpPr>
            <a:xfrm>
              <a:off x="6459480" y="1130400"/>
              <a:ext cx="2255400" cy="2299680"/>
              <a:chOff x="6459480" y="1130400"/>
              <a:chExt cx="2255400" cy="2299680"/>
            </a:xfrm>
          </p:grpSpPr>
          <p:sp>
            <p:nvSpPr>
              <p:cNvPr id="180"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1"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2"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3"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5"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6"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87"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88"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89"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90"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192"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5"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6"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97"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98"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9"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0"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1"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2"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03"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04"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05" name=""/>
          <p:cNvGrpSpPr/>
          <p:nvPr/>
        </p:nvGrpSpPr>
        <p:grpSpPr>
          <a:xfrm>
            <a:off x="5967360" y="3943440"/>
            <a:ext cx="1647720" cy="848520"/>
            <a:chOff x="5967360" y="3943440"/>
            <a:chExt cx="1647720" cy="848520"/>
          </a:xfrm>
        </p:grpSpPr>
        <p:sp>
          <p:nvSpPr>
            <p:cNvPr id="206"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07"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08"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09"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0"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1"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4"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15"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16"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17" name="Group 5"/>
          <p:cNvGrpSpPr/>
          <p:nvPr/>
        </p:nvGrpSpPr>
        <p:grpSpPr>
          <a:xfrm>
            <a:off x="6210360" y="1341360"/>
            <a:ext cx="2255400" cy="2299680"/>
            <a:chOff x="6210360" y="1341360"/>
            <a:chExt cx="2255400" cy="2299680"/>
          </a:xfrm>
        </p:grpSpPr>
        <p:grpSp>
          <p:nvGrpSpPr>
            <p:cNvPr id="218" name="Group 6"/>
            <p:cNvGrpSpPr/>
            <p:nvPr/>
          </p:nvGrpSpPr>
          <p:grpSpPr>
            <a:xfrm>
              <a:off x="6210360" y="1341360"/>
              <a:ext cx="2255400" cy="2299680"/>
              <a:chOff x="6210360" y="1341360"/>
              <a:chExt cx="2255400" cy="2299680"/>
            </a:xfrm>
          </p:grpSpPr>
          <p:grpSp>
            <p:nvGrpSpPr>
              <p:cNvPr id="219" name="Group 7"/>
              <p:cNvGrpSpPr/>
              <p:nvPr/>
            </p:nvGrpSpPr>
            <p:grpSpPr>
              <a:xfrm>
                <a:off x="6572160" y="1769760"/>
                <a:ext cx="1563840" cy="1788840"/>
                <a:chOff x="6572160" y="1769760"/>
                <a:chExt cx="1563840" cy="1788840"/>
              </a:xfrm>
            </p:grpSpPr>
            <p:sp>
              <p:nvSpPr>
                <p:cNvPr id="220"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1"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2"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3"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4"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25" name="Group 13"/>
              <p:cNvGrpSpPr/>
              <p:nvPr/>
            </p:nvGrpSpPr>
            <p:grpSpPr>
              <a:xfrm>
                <a:off x="6210360" y="1341360"/>
                <a:ext cx="2255400" cy="2299680"/>
                <a:chOff x="6210360" y="1341360"/>
                <a:chExt cx="2255400" cy="2299680"/>
              </a:xfrm>
            </p:grpSpPr>
            <p:sp>
              <p:nvSpPr>
                <p:cNvPr id="226"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7"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8"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29"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30" name="Group 18"/>
            <p:cNvGrpSpPr/>
            <p:nvPr/>
          </p:nvGrpSpPr>
          <p:grpSpPr>
            <a:xfrm>
              <a:off x="6501960" y="1817640"/>
              <a:ext cx="300240" cy="1256040"/>
              <a:chOff x="6501960" y="1817640"/>
              <a:chExt cx="300240" cy="1256040"/>
            </a:xfrm>
          </p:grpSpPr>
          <p:sp>
            <p:nvSpPr>
              <p:cNvPr id="231"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32"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33"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4-02-16T23:17:10Z</dcterms:modified>
  <cp:revision>36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