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9B34D2F-9D83-42AE-A91A-C87C5B9A96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188720" y="70488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hyperlink" Target="http://gizmodo.com/gadgets/darwin-at-work/why-you-shouldnt-smash-a-can-of-wd+40-280250.php" TargetMode="External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04553AF0-2E3B-4CEB-8306-E7F081DE416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44D15120-E3CE-407F-8EEA-337173C7153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48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52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7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275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277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281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0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3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18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18:26:54Z</dcterms:modified>
  <cp:revision>3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