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95D3001-2903-4B73-BAA1-5A75AFCF6056}"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9080" y="701640"/>
            <a:ext cx="4633920" cy="3475080"/>
          </a:xfrm>
          <a:prstGeom prst="rect">
            <a:avLst/>
          </a:prstGeom>
          <a:ln w="0">
            <a:noFill/>
          </a:ln>
        </p:spPr>
      </p:sp>
      <p:sp>
        <p:nvSpPr>
          <p:cNvPr id="29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701640"/>
            <a:ext cx="4633920" cy="3475080"/>
          </a:xfrm>
          <a:prstGeom prst="rect">
            <a:avLst/>
          </a:prstGeom>
          <a:ln w="0">
            <a:noFill/>
          </a:ln>
        </p:spPr>
      </p:sp>
      <p:sp>
        <p:nvSpPr>
          <p:cNvPr id="28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9080" y="701640"/>
            <a:ext cx="4633920" cy="3475080"/>
          </a:xfrm>
          <a:prstGeom prst="rect">
            <a:avLst/>
          </a:prstGeom>
          <a:ln w="0">
            <a:noFill/>
          </a:ln>
        </p:spPr>
      </p:sp>
      <p:sp>
        <p:nvSpPr>
          <p:cNvPr id="28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9080" y="701640"/>
            <a:ext cx="4633920" cy="3475080"/>
          </a:xfrm>
          <a:prstGeom prst="rect">
            <a:avLst/>
          </a:prstGeom>
          <a:ln w="0">
            <a:noFill/>
          </a:ln>
        </p:spPr>
      </p:sp>
      <p:sp>
        <p:nvSpPr>
          <p:cNvPr id="28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21368944-4D16-4425-8B31-E29C292B5D50}"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grpSp>
        <p:nvGrpSpPr>
          <p:cNvPr id="234" name="Group 3"/>
          <p:cNvGrpSpPr/>
          <p:nvPr/>
        </p:nvGrpSpPr>
        <p:grpSpPr>
          <a:xfrm>
            <a:off x="6210360" y="1198440"/>
            <a:ext cx="2255400" cy="2299680"/>
            <a:chOff x="6210360" y="1198440"/>
            <a:chExt cx="2255400" cy="2299680"/>
          </a:xfrm>
        </p:grpSpPr>
        <p:grpSp>
          <p:nvGrpSpPr>
            <p:cNvPr id="235" name="Group 4"/>
            <p:cNvGrpSpPr/>
            <p:nvPr/>
          </p:nvGrpSpPr>
          <p:grpSpPr>
            <a:xfrm>
              <a:off x="6210360" y="1198440"/>
              <a:ext cx="2255400" cy="2299680"/>
              <a:chOff x="6210360" y="1198440"/>
              <a:chExt cx="2255400" cy="2299680"/>
            </a:xfrm>
          </p:grpSpPr>
          <p:grpSp>
            <p:nvGrpSpPr>
              <p:cNvPr id="236" name="Group 5"/>
              <p:cNvGrpSpPr/>
              <p:nvPr/>
            </p:nvGrpSpPr>
            <p:grpSpPr>
              <a:xfrm>
                <a:off x="6572160" y="1626840"/>
                <a:ext cx="1563840" cy="1788840"/>
                <a:chOff x="6572160" y="1626840"/>
                <a:chExt cx="1563840" cy="1788840"/>
              </a:xfrm>
            </p:grpSpPr>
            <p:sp>
              <p:nvSpPr>
                <p:cNvPr id="23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1"/>
              <p:cNvGrpSpPr/>
              <p:nvPr/>
            </p:nvGrpSpPr>
            <p:grpSpPr>
              <a:xfrm>
                <a:off x="6210360" y="1198440"/>
                <a:ext cx="2255400" cy="2299680"/>
                <a:chOff x="6210360" y="1198440"/>
                <a:chExt cx="2255400" cy="2299680"/>
              </a:xfrm>
            </p:grpSpPr>
            <p:sp>
              <p:nvSpPr>
                <p:cNvPr id="24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6"/>
            <p:cNvGrpSpPr/>
            <p:nvPr/>
          </p:nvGrpSpPr>
          <p:grpSpPr>
            <a:xfrm>
              <a:off x="6501960" y="1674720"/>
              <a:ext cx="300240" cy="1256040"/>
              <a:chOff x="6501960" y="1674720"/>
              <a:chExt cx="300240" cy="1256040"/>
            </a:xfrm>
          </p:grpSpPr>
          <p:sp>
            <p:nvSpPr>
              <p:cNvPr id="24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5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ercooling &amp; Superheating </a:t>
            </a:r>
            <a:br>
              <a:rPr sz="4000"/>
            </a:br>
            <a:endParaRPr b="1" lang="en-US" sz="4000" spc="-1" strike="noStrike">
              <a:solidFill>
                <a:srgbClr val="fafd00"/>
              </a:solidFill>
              <a:latin typeface="Arial"/>
            </a:endParaRPr>
          </a:p>
        </p:txBody>
      </p:sp>
      <p:sp>
        <p:nvSpPr>
          <p:cNvPr id="253"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254" name="Group 4"/>
          <p:cNvGrpSpPr/>
          <p:nvPr/>
        </p:nvGrpSpPr>
        <p:grpSpPr>
          <a:xfrm>
            <a:off x="628560" y="4795920"/>
            <a:ext cx="1647720" cy="848520"/>
            <a:chOff x="628560" y="4795920"/>
            <a:chExt cx="1647720" cy="848520"/>
          </a:xfrm>
        </p:grpSpPr>
        <p:sp>
          <p:nvSpPr>
            <p:cNvPr id="25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6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277"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278"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280"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9"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825480" y="1289160"/>
            <a:ext cx="3335040" cy="4417200"/>
            <a:chOff x="825480" y="1289160"/>
            <a:chExt cx="3335040" cy="4417200"/>
          </a:xfrm>
        </p:grpSpPr>
        <p:sp>
          <p:nvSpPr>
            <p:cNvPr id="71"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1117440" y="3379680"/>
            <a:ext cx="2117880" cy="1151640"/>
            <a:chOff x="1117440" y="3379680"/>
            <a:chExt cx="2117880" cy="1151640"/>
          </a:xfrm>
        </p:grpSpPr>
        <p:sp>
          <p:nvSpPr>
            <p:cNvPr id="93"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Boiling Temperature</a:t>
            </a:r>
            <a:endParaRPr b="0" lang="en-US" sz="4000" spc="-1" strike="noStrike">
              <a:solidFill>
                <a:srgbClr val="00ffff"/>
              </a:solidFill>
              <a:latin typeface="Arial"/>
            </a:endParaRPr>
          </a:p>
        </p:txBody>
      </p:sp>
      <p:sp>
        <p:nvSpPr>
          <p:cNvPr id="98"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03"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04"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7"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8"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09"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10"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11" name=""/>
          <p:cNvGrpSpPr/>
          <p:nvPr/>
        </p:nvGrpSpPr>
        <p:grpSpPr>
          <a:xfrm>
            <a:off x="5967360" y="3943440"/>
            <a:ext cx="1647720" cy="848520"/>
            <a:chOff x="5967360" y="3943440"/>
            <a:chExt cx="1647720" cy="848520"/>
          </a:xfrm>
        </p:grpSpPr>
        <p:sp>
          <p:nvSpPr>
            <p:cNvPr id="112"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13"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14"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15"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0"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21"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22" name="Group 4"/>
          <p:cNvGrpSpPr/>
          <p:nvPr/>
        </p:nvGrpSpPr>
        <p:grpSpPr>
          <a:xfrm>
            <a:off x="6103800" y="3000240"/>
            <a:ext cx="2368800" cy="1778760"/>
            <a:chOff x="6103800" y="3000240"/>
            <a:chExt cx="2368800" cy="1778760"/>
          </a:xfrm>
        </p:grpSpPr>
        <p:sp>
          <p:nvSpPr>
            <p:cNvPr id="123"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24"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5"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7"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8"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9"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0"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32"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3"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34"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35"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36" name="Group 18"/>
          <p:cNvGrpSpPr/>
          <p:nvPr/>
        </p:nvGrpSpPr>
        <p:grpSpPr>
          <a:xfrm>
            <a:off x="6093000" y="1195560"/>
            <a:ext cx="2255760" cy="1536480"/>
            <a:chOff x="6093000" y="1195560"/>
            <a:chExt cx="2255760" cy="1536480"/>
          </a:xfrm>
        </p:grpSpPr>
        <p:grpSp>
          <p:nvGrpSpPr>
            <p:cNvPr id="137" name="Group 19"/>
            <p:cNvGrpSpPr/>
            <p:nvPr/>
          </p:nvGrpSpPr>
          <p:grpSpPr>
            <a:xfrm>
              <a:off x="6093000" y="1195560"/>
              <a:ext cx="2255760" cy="1375920"/>
              <a:chOff x="6093000" y="1195560"/>
              <a:chExt cx="2255760" cy="1375920"/>
            </a:xfrm>
          </p:grpSpPr>
          <p:grpSp>
            <p:nvGrpSpPr>
              <p:cNvPr id="138" name="Group 20"/>
              <p:cNvGrpSpPr/>
              <p:nvPr/>
            </p:nvGrpSpPr>
            <p:grpSpPr>
              <a:xfrm>
                <a:off x="6093000" y="1195560"/>
                <a:ext cx="2255760" cy="1375920"/>
                <a:chOff x="6093000" y="1195560"/>
                <a:chExt cx="2255760" cy="1375920"/>
              </a:xfrm>
            </p:grpSpPr>
            <p:grpSp>
              <p:nvGrpSpPr>
                <p:cNvPr id="139" name="Group 21"/>
                <p:cNvGrpSpPr/>
                <p:nvPr/>
              </p:nvGrpSpPr>
              <p:grpSpPr>
                <a:xfrm>
                  <a:off x="6494760" y="1873440"/>
                  <a:ext cx="1523880" cy="696600"/>
                  <a:chOff x="6494760" y="1873440"/>
                  <a:chExt cx="1523880" cy="696600"/>
                </a:xfrm>
              </p:grpSpPr>
              <p:sp>
                <p:nvSpPr>
                  <p:cNvPr id="140"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43"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4"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5"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6"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7"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8"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9"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50"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52"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53"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54" name="Group 5"/>
          <p:cNvGrpSpPr/>
          <p:nvPr/>
        </p:nvGrpSpPr>
        <p:grpSpPr>
          <a:xfrm>
            <a:off x="966960" y="1644480"/>
            <a:ext cx="2368080" cy="1778760"/>
            <a:chOff x="966960" y="1644480"/>
            <a:chExt cx="2368080" cy="1778760"/>
          </a:xfrm>
        </p:grpSpPr>
        <p:sp>
          <p:nvSpPr>
            <p:cNvPr id="155"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6"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9"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62"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63" name="Group 14"/>
            <p:cNvGrpSpPr/>
            <p:nvPr/>
          </p:nvGrpSpPr>
          <p:grpSpPr>
            <a:xfrm>
              <a:off x="2098440" y="1788840"/>
              <a:ext cx="82440" cy="712800"/>
              <a:chOff x="2098440" y="1788840"/>
              <a:chExt cx="82440" cy="712800"/>
            </a:xfrm>
          </p:grpSpPr>
          <p:sp>
            <p:nvSpPr>
              <p:cNvPr id="164"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6"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7"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8"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9"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71" name=""/>
          <p:cNvGrpSpPr/>
          <p:nvPr/>
        </p:nvGrpSpPr>
        <p:grpSpPr>
          <a:xfrm>
            <a:off x="4483080" y="1536840"/>
            <a:ext cx="3543480" cy="2219040"/>
            <a:chOff x="4483080" y="1536840"/>
            <a:chExt cx="3543480" cy="2219040"/>
          </a:xfrm>
        </p:grpSpPr>
        <p:sp>
          <p:nvSpPr>
            <p:cNvPr id="172"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73"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74"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5"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6"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7"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8"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9"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80"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53">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18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18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184" name="Group 5"/>
          <p:cNvGrpSpPr/>
          <p:nvPr/>
        </p:nvGrpSpPr>
        <p:grpSpPr>
          <a:xfrm>
            <a:off x="6210360" y="1341360"/>
            <a:ext cx="2255400" cy="2299680"/>
            <a:chOff x="6210360" y="1341360"/>
            <a:chExt cx="2255400" cy="2299680"/>
          </a:xfrm>
        </p:grpSpPr>
        <p:grpSp>
          <p:nvGrpSpPr>
            <p:cNvPr id="185" name="Group 6"/>
            <p:cNvGrpSpPr/>
            <p:nvPr/>
          </p:nvGrpSpPr>
          <p:grpSpPr>
            <a:xfrm>
              <a:off x="6210360" y="1341360"/>
              <a:ext cx="2255400" cy="2299680"/>
              <a:chOff x="6210360" y="1341360"/>
              <a:chExt cx="2255400" cy="2299680"/>
            </a:xfrm>
          </p:grpSpPr>
          <p:grpSp>
            <p:nvGrpSpPr>
              <p:cNvPr id="186" name="Group 7"/>
              <p:cNvGrpSpPr/>
              <p:nvPr/>
            </p:nvGrpSpPr>
            <p:grpSpPr>
              <a:xfrm>
                <a:off x="6572160" y="1769760"/>
                <a:ext cx="1563840" cy="1788840"/>
                <a:chOff x="6572160" y="1769760"/>
                <a:chExt cx="1563840" cy="1788840"/>
              </a:xfrm>
            </p:grpSpPr>
            <p:sp>
              <p:nvSpPr>
                <p:cNvPr id="18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192" name="Group 13"/>
              <p:cNvGrpSpPr/>
              <p:nvPr/>
            </p:nvGrpSpPr>
            <p:grpSpPr>
              <a:xfrm>
                <a:off x="6210360" y="1341360"/>
                <a:ext cx="2255400" cy="2299680"/>
                <a:chOff x="6210360" y="1341360"/>
                <a:chExt cx="2255400" cy="2299680"/>
              </a:xfrm>
            </p:grpSpPr>
            <p:sp>
              <p:nvSpPr>
                <p:cNvPr id="19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197" name="Group 18"/>
            <p:cNvGrpSpPr/>
            <p:nvPr/>
          </p:nvGrpSpPr>
          <p:grpSpPr>
            <a:xfrm>
              <a:off x="6501960" y="1817640"/>
              <a:ext cx="300240" cy="1256040"/>
              <a:chOff x="6501960" y="1817640"/>
              <a:chExt cx="300240" cy="1256040"/>
            </a:xfrm>
          </p:grpSpPr>
          <p:sp>
            <p:nvSpPr>
              <p:cNvPr id="19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19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0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0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0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1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1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16" name="Group 17"/>
          <p:cNvGrpSpPr/>
          <p:nvPr/>
        </p:nvGrpSpPr>
        <p:grpSpPr>
          <a:xfrm>
            <a:off x="7213680" y="2523960"/>
            <a:ext cx="2123640" cy="1275840"/>
            <a:chOff x="7213680" y="2523960"/>
            <a:chExt cx="2123640" cy="1275840"/>
          </a:xfrm>
        </p:grpSpPr>
        <p:sp>
          <p:nvSpPr>
            <p:cNvPr id="21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1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1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2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2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2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2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3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09-27T03:45:32Z</dcterms:modified>
  <cp:revision>36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