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35C1BA3-9C14-41DD-BCDD-F81A336065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C25849D3-961C-429D-9E03-8165D47474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21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11120" y="4019400"/>
          <a:ext cx="31147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4019400"/>
                    <a:ext cx="31147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37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59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7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7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 (Friday...)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04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11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2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45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2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55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266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277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282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ＭＳ Ｐゴシック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92600" y="1468440"/>
            <a:ext cx="66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1840" y="365760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09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22:22Z</dcterms:modified>
  <cp:revision>3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