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52ADE91-FC05-4BC0-B0EF-C8316613FC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gizmodo.com/gadgets/darwin-at-work/why-you-shouldnt-smash-a-can-of-wd+40-280250.php" TargetMode="External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2CBD1B0E-49F8-4AE7-8ABE-E2B9B312D5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B5341DDB-2E23-424B-A1F4-0FDC0D4633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8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2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5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7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81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0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3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8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18:26:54Z</dcterms:modified>
  <cp:revision>3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