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E653DDF-D539-4156-B36D-9F38620661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442EF38F-4275-4F48-A701-7F782D1A15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3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1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1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31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45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52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53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56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59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65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74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77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80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5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86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119320" y="3604680"/>
            <a:ext cx="2779560" cy="865440"/>
            <a:chOff x="2119320" y="3604680"/>
            <a:chExt cx="2779560" cy="865440"/>
          </a:xfrm>
        </p:grpSpPr>
        <p:grpSp>
          <p:nvGrpSpPr>
            <p:cNvPr id="295" name=""/>
            <p:cNvGrpSpPr/>
            <p:nvPr/>
          </p:nvGrpSpPr>
          <p:grpSpPr>
            <a:xfrm>
              <a:off x="2662200" y="3671640"/>
              <a:ext cx="2236680" cy="798480"/>
              <a:chOff x="2662200" y="367164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296" name=""/>
                  <p:cNvSpPr txBox="1"/>
                  <p:nvPr/>
                </p:nvSpPr>
                <p:spPr>
                  <a:xfrm>
                    <a:off x="3844800" y="367164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3867120" y="417312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8" name=""/>
              <p:cNvSpPr/>
              <p:nvPr/>
            </p:nvSpPr>
            <p:spPr>
              <a:xfrm flipH="1">
                <a:off x="2776320" y="430524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776320" y="379080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662200" y="420984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81280" y="371448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119320" y="3604680"/>
              <a:ext cx="401760" cy="824040"/>
              <a:chOff x="2119320" y="3604680"/>
              <a:chExt cx="401760" cy="82404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2489400" y="360468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19320" y="385884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13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325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9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30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2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90400" y="1079640"/>
            <a:ext cx="83059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magnetic moment of the electron is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9.28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room temperature (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agnetic field is requi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o make 2/3 of the electrons have their magnetic moments point along B (that’s the low energy state)?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is is called the “up” st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 is need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2/3 of the protons 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.41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/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o be that wa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96240" y="5724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Spin align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96720" y="1103040"/>
            <a:ext cx="8578800" cy="2925720"/>
            <a:chOff x="396720" y="1103040"/>
            <a:chExt cx="8578800" cy="2925720"/>
          </a:xfrm>
        </p:grpSpPr>
        <p:sp>
          <p:nvSpPr>
            <p:cNvPr id="364" name="PlaceHolder 2"/>
            <p:cNvSpPr>
              <a:spLocks noGrp="1"/>
            </p:cNvSpPr>
            <p:nvPr>
              <p:ph/>
            </p:nvPr>
          </p:nvSpPr>
          <p:spPr>
            <a:xfrm>
              <a:off x="396720" y="1103040"/>
              <a:ext cx="857880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65" name=""/>
            <p:cNvGraphicFramePr/>
            <p:nvPr/>
          </p:nvGraphicFramePr>
          <p:xfrm>
            <a:off x="1435320" y="2030400"/>
            <a:ext cx="532008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35320" y="2030400"/>
                      <a:ext cx="532008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66920" y="2616840"/>
            <a:ext cx="717696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see next lecture)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377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4-02-18T01:22:56Z</dcterms:modified>
  <cp:revision>3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