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04CCEC1-BFEA-40D2-A9C8-EDC27A2F08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alileoandeinstein.physics.virginia.edu/more_stuff/flashlets/carn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BD786A12-5159-441C-B90A-862D39EAB9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76800" y="5178600"/>
            <a:ext cx="30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Lecture 14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7040" y="51786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05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450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472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480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3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484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502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04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6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5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6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9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10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3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540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562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563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588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590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597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604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611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Stirling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20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21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58320"/>
            <a:ext cx="858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chieve Carnot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5100840" y="758880"/>
            <a:ext cx="4854600" cy="5055120"/>
            <a:chOff x="5100840" y="758880"/>
            <a:chExt cx="4854600" cy="5055120"/>
          </a:xfrm>
        </p:grpSpPr>
        <p:sp>
          <p:nvSpPr>
            <p:cNvPr id="645" name=""/>
            <p:cNvSpPr/>
            <p:nvPr/>
          </p:nvSpPr>
          <p:spPr>
            <a:xfrm>
              <a:off x="8377200" y="5315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5424120" y="2598480"/>
              <a:ext cx="0" cy="27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37080" y="5332320"/>
              <a:ext cx="346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72240" y="4842000"/>
              <a:ext cx="469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56160" y="4284720"/>
              <a:ext cx="94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35640" y="5305320"/>
              <a:ext cx="17377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b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a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00840" y="242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22960" y="769680"/>
              <a:ext cx="373248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59" y="21220"/>
                  </a:moveTo>
                  <a:arcTo wR="10800" hR="10800" stAng="6315115" swAng="3498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7959" y="21220"/>
                  </a:moveTo>
                  <a:arcTo wR="10800" hR="10800" stAng="6315115" swAng="3498494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789520" y="1269720"/>
              <a:ext cx="3736080" cy="37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05" y="21589"/>
                  </a:moveTo>
                  <a:arcTo wR="10800" hR="10800" stAng="5557570" swAng="3360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05" y="21589"/>
                  </a:moveTo>
                  <a:arcTo wR="10800" hR="10800" stAng="5557570" swAng="3360135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14680" y="758880"/>
              <a:ext cx="3732840" cy="37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6" y="20258"/>
                  </a:moveTo>
                  <a:arcTo wR="10800" hR="10800" stAng="7131970" swAng="1745341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6" y="20258"/>
                  </a:moveTo>
                  <a:arcTo wR="10800" hR="10800" stAng="7131970" swAng="1745341"/>
                </a:path>
              </a:pathLst>
            </a:custGeom>
            <a:noFill/>
            <a:ln w="19080">
              <a:solidFill>
                <a:srgbClr val="fafd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85920" y="1263240"/>
              <a:ext cx="373032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6" y="21395"/>
                  </a:moveTo>
                  <a:arcTo wR="10800" hR="10800" stAng="6070854" swAng="1119238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6" y="21395"/>
                  </a:moveTo>
                  <a:arcTo wR="10800" hR="10800" stAng="6070854" swAng="1119238"/>
                </a:path>
              </a:pathLst>
            </a:custGeom>
            <a:noFill/>
            <a:ln w="1908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94400" y="3625920"/>
              <a:ext cx="0" cy="173196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84960" y="4968720"/>
              <a:ext cx="0" cy="3556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74800" y="4038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42800" y="3738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79480" y="442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50800" y="48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6477120" y="1257480"/>
              <a:ext cx="1117800" cy="38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9" y="2197"/>
                  </a:moveTo>
                  <a:arcTo wR="10800" hR="10800" stAng="-3168282" swAng="2413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9" y="2197"/>
                  </a:moveTo>
                  <a:arcTo wR="10800" hR="10800" stAng="-3168282" swAng="241363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7156080" y="2543040"/>
              <a:ext cx="1149120" cy="290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3" y="3548"/>
                  </a:moveTo>
                  <a:arcTo wR="10800" hR="10800" stAng="-2530759" swAng="1843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3" y="3548"/>
                  </a:moveTo>
                  <a:arcTo wR="10800" hR="10800" stAng="-2530759" swAng="1843974"/>
                </a:path>
              </a:pathLst>
            </a:custGeom>
            <a:noFill/>
            <a:ln w="1908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17960" y="4755960"/>
              <a:ext cx="0" cy="581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2560" y="4294080"/>
              <a:ext cx="0" cy="1050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411120" y="1579680"/>
            <a:ext cx="75369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chieve Carnot efficiency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must replace the isochors (irreversible)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reversible processe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Let’s use adiabatic processes, as show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Processes 1 and 3 are now adiabati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sses 2 and 4 are still isotherm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ycle is reversible, which mean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emains constant: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ar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thermal cycle i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cyc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an engine that implements it is call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heat engin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14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16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6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19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19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21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1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671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06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8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20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55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64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 – 273/373 = 26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3009960" y="1311120"/>
          <a:ext cx="114624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1311120"/>
                    <a:ext cx="11462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"/>
          <p:cNvSpPr/>
          <p:nvPr/>
        </p:nvSpPr>
        <p:spPr>
          <a:xfrm>
            <a:off x="990720" y="1460520"/>
            <a:ext cx="1778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cyc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e Carnot cyc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(be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06400" y="4316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not engines are an idealization - impossible to realiz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require very slow processes, and perfect insulation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’s a net entropy increase, the efficiency is redu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2324160" y="5433840"/>
          <a:ext cx="27748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5433840"/>
                    <a:ext cx="2774880" cy="785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4969800" y="1424160"/>
            <a:ext cx="243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energy is dumpe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o the cold reservoi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3097080" y="2201760"/>
          <a:ext cx="97344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7080" y="2201760"/>
                    <a:ext cx="9734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2805120" y="3365640"/>
          <a:ext cx="1558800" cy="7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5120" y="3365640"/>
                    <a:ext cx="15588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5003640" y="2360520"/>
            <a:ext cx="286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annot be reduced to z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34240" y="357984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for reversible cy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Work and Free Energ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251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276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281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300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301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325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340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357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372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389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2-10-01T01:49:39Z</dcterms:modified>
  <cp:revision>2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