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331A303-1392-4023-B61F-508BE334FE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~ 25 kJ/g (similar to ethan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~ 16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ng 15 kJ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44 kJ/g = 1254 kcal/mole of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en.wikipedia.org/wiki/Internal_combustion_engine#Energy_efficiency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Otherwise S could increase by exchanging particles, but in equilibrium S is already a m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F641ACB4-5297-4B0D-8FFE-8DF8F4C4E17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6480" y="70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6</a:t>
            </a:r>
            <a:br>
              <a:rPr sz="1600"/>
            </a:br>
            <a:br>
              <a:rPr sz="28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quilibrium and Chemical Potential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40160" y="2594880"/>
            <a:ext cx="585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Energy and Chemical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defects i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3400" y="5423040"/>
            <a:ext cx="31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lemen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 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800" y="5262480"/>
            <a:ext cx="3970440" cy="1055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57920" y="5264280"/>
            <a:ext cx="3404880" cy="1054080"/>
            <a:chOff x="4957920" y="5264280"/>
            <a:chExt cx="3404880" cy="1054080"/>
          </a:xfrm>
        </p:grpSpPr>
        <p:sp>
          <p:nvSpPr>
            <p:cNvPr id="48" name=""/>
            <p:cNvSpPr/>
            <p:nvPr/>
          </p:nvSpPr>
          <p:spPr>
            <a:xfrm>
              <a:off x="5130720" y="5442120"/>
              <a:ext cx="306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Reference for Lecture 17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lements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 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57920" y="5264280"/>
              <a:ext cx="3404880" cy="10540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61640" y="2859120"/>
            <a:ext cx="8731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In a perfect crystal at low temperatures, the atoms are arranged on a lattice like the one shown at the left.  Consider M atoms on lattice sites, where M is a very large number, about 10</a:t>
            </a:r>
            <a:r>
              <a:rPr b="0" lang="en-US" sz="1900" spc="-1" strike="noStrike" baseline="30000">
                <a:solidFill>
                  <a:srgbClr val="66ffcc"/>
                </a:solidFill>
                <a:latin typeface="Arial"/>
              </a:rPr>
              <a:t>22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for a mm-sized cryst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As the crystal is heated up the atoms jiggle around, and some atoms will jump to “interstitial” sites, leaving a “vacancy” behin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There is an energy cost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to form each interstitial-vacancy pair (“I-V pair”) like the one shown above, i.e., there is an energy difference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between an I-V pair and a normally occupied si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    </a:t>
            </a:r>
            <a:r>
              <a:rPr b="0" lang="en-US" sz="1900" spc="-1" strike="noStrike">
                <a:solidFill>
                  <a:srgbClr val="66ffcc"/>
                </a:solidFill>
                <a:latin typeface="Arial"/>
              </a:rPr>
              <a:t>By minimizing the Free energy of N ‘I-V pairs’, we will calculate the average number of defects that form at a temperature T.</a:t>
            </a:r>
            <a:r>
              <a:rPr b="1" lang="en-US" sz="1900" spc="-1" strike="noStrike">
                <a:solidFill>
                  <a:srgbClr val="66ffcc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82120" y="139860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st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006960" y="1565280"/>
            <a:ext cx="914400" cy="21744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5165280" y="2101320"/>
            <a:ext cx="1639800" cy="349560"/>
          </a:xfrm>
          <a:prstGeom prst="line">
            <a:avLst/>
          </a:prstGeom>
          <a:ln w="3240">
            <a:solidFill>
              <a:srgbClr val="fafd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289160" y="995400"/>
            <a:ext cx="4863960" cy="1595520"/>
            <a:chOff x="1289160" y="995400"/>
            <a:chExt cx="4863960" cy="1595520"/>
          </a:xfrm>
        </p:grpSpPr>
        <p:sp>
          <p:nvSpPr>
            <p:cNvPr id="171" name=""/>
            <p:cNvSpPr/>
            <p:nvPr/>
          </p:nvSpPr>
          <p:spPr>
            <a:xfrm>
              <a:off x="3089520" y="1739880"/>
              <a:ext cx="1292040" cy="304920"/>
            </a:xfrm>
            <a:prstGeom prst="rightArrow">
              <a:avLst>
                <a:gd name="adj1" fmla="val 50000"/>
                <a:gd name="adj2" fmla="val 105933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289160" y="1017720"/>
              <a:ext cx="1668600" cy="1573200"/>
              <a:chOff x="1289160" y="1017720"/>
              <a:chExt cx="1668600" cy="157320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9160" y="1458720"/>
                <a:ext cx="1663560" cy="1132200"/>
                <a:chOff x="1289160" y="1458720"/>
                <a:chExt cx="1663560" cy="11322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9160" y="1506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29708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305000" y="23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760760" y="15001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76868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774800" y="235584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246400" y="1479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732400" y="14587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254320" y="19479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725920" y="1909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248200" y="2349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735280" y="2373120"/>
                  <a:ext cx="21744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1297080" y="1065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768680" y="105876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54320" y="10382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40320" y="1017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469040" y="995400"/>
              <a:ext cx="1684080" cy="1558800"/>
              <a:chOff x="4469040" y="995400"/>
              <a:chExt cx="1684080" cy="155880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4469040" y="995400"/>
                <a:ext cx="1684080" cy="1558800"/>
                <a:chOff x="4469040" y="995400"/>
                <a:chExt cx="1684080" cy="15588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4489560" y="1469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49748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505400" y="2327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961160" y="1463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681880" y="17175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975200" y="23191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446800" y="14428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932800" y="14223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54720" y="191124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926320" y="1873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48600" y="2313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935680" y="233676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469040" y="1042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940280" y="103644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426280" y="10159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911920" y="9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5078520" y="1710000"/>
                <a:ext cx="493560" cy="26028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260" stAng="10800000" swAng="5400000"/>
                    <a:lnTo>
                      <a:pt x="15100" y="2900"/>
                    </a:lnTo>
                    <a:lnTo>
                      <a:pt x="15100" y="0"/>
                    </a:lnTo>
                    <a:lnTo>
                      <a:pt x="21600" y="6079"/>
                    </a:lnTo>
                    <a:lnTo>
                      <a:pt x="15100" y="12158"/>
                    </a:lnTo>
                    <a:lnTo>
                      <a:pt x="15100" y="9258"/>
                    </a:lnTo>
                    <a:lnTo>
                      <a:pt x="12427" y="9258"/>
                    </a:lnTo>
                    <a:arcTo wR="6069" hR="2902" stAng="16200000" swAng="-5400000"/>
                    <a:lnTo>
                      <a:pt x="6358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442520" y="1011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64840" y="228924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c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763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-minimum examp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83880" y="6480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11360" y="1550880"/>
            <a:ext cx="695952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As we let the temperature of the solid </a:t>
            </a:r>
            <a:r>
              <a:rPr b="0" lang="en-US" sz="2000" spc="-1" strike="noStrike">
                <a:solidFill>
                  <a:srgbClr val="66ff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 0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fraction of the atoms will sit at the interstitial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none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half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66ffcc"/>
                </a:solidFill>
                <a:latin typeface="Arial"/>
              </a:rPr>
              <a:t>) 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87120" y="61560"/>
            <a:ext cx="788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fects in Crystal Lattices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7600" y="1095120"/>
            <a:ext cx="820116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uppose we ha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vacancy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possible interstitial site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(essentially one per atom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know N, the number of interstitial-vacancy pairs at temperature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want to minimize F(N) as a function of N.  Call F(0)=0 for conveni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790720" y="2873520"/>
          <a:ext cx="29480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873520"/>
                    <a:ext cx="29480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 flipV="1">
            <a:off x="2389320" y="3762360"/>
            <a:ext cx="4680" cy="836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82720" y="4554360"/>
            <a:ext cx="163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 energy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each institial-vacancy pa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13200" y="3881520"/>
            <a:ext cx="2577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calculate S(N)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25800" y="4484520"/>
            <a:ext cx="355608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ssume the crystal’s vibrational entropy is not much changed by making an interstitial. S is then due to the number of places each vacancy could be, and the number of places each interstitial could b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957240" y="3416400"/>
          <a:ext cx="16477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7240" y="3416400"/>
                    <a:ext cx="1647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1339920" y="878040"/>
            <a:ext cx="6816960" cy="2030040"/>
            <a:chOff x="1339920" y="878040"/>
            <a:chExt cx="6816960" cy="2030040"/>
          </a:xfrm>
        </p:grpSpPr>
        <p:sp>
          <p:nvSpPr>
            <p:cNvPr id="227" name=""/>
            <p:cNvSpPr/>
            <p:nvPr/>
          </p:nvSpPr>
          <p:spPr>
            <a:xfrm>
              <a:off x="7013160" y="164916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stit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135840" y="1839600"/>
              <a:ext cx="914400" cy="2174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5294160" y="2376000"/>
              <a:ext cx="1640160" cy="348840"/>
            </a:xfrm>
            <a:prstGeom prst="line">
              <a:avLst/>
            </a:prstGeom>
            <a:ln w="324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417680" y="1269720"/>
              <a:ext cx="4863960" cy="1594080"/>
              <a:chOff x="1417680" y="1269720"/>
              <a:chExt cx="4863960" cy="1594080"/>
            </a:xfrm>
          </p:grpSpPr>
          <p:sp>
            <p:nvSpPr>
              <p:cNvPr id="231" name=""/>
              <p:cNvSpPr/>
              <p:nvPr/>
            </p:nvSpPr>
            <p:spPr>
              <a:xfrm>
                <a:off x="3218040" y="2013840"/>
                <a:ext cx="1292040" cy="304560"/>
              </a:xfrm>
              <a:prstGeom prst="rightArrow">
                <a:avLst>
                  <a:gd name="adj1" fmla="val 50000"/>
                  <a:gd name="adj2" fmla="val 106058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417680" y="1291680"/>
                <a:ext cx="1668600" cy="1572120"/>
                <a:chOff x="1417680" y="1291680"/>
                <a:chExt cx="1668600" cy="157212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417680" y="1732320"/>
                  <a:ext cx="1663560" cy="1131480"/>
                  <a:chOff x="1417680" y="1732320"/>
                  <a:chExt cx="1663560" cy="113148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1417680" y="1779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142560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1433520" y="26370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1889280" y="177336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897200" y="220032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1903320" y="2629080"/>
                    <a:ext cx="21780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374920" y="17528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860920" y="1732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382840" y="22212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854440" y="218304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376720" y="2622600"/>
                    <a:ext cx="217440" cy="21708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2863800" y="26463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6" name=""/>
                <p:cNvSpPr/>
                <p:nvPr/>
              </p:nvSpPr>
              <p:spPr>
                <a:xfrm>
                  <a:off x="1425600" y="1338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97200" y="133236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382840" y="1311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868840" y="129168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4597560" y="1269720"/>
                <a:ext cx="1684080" cy="1558800"/>
                <a:chOff x="4597560" y="1269720"/>
                <a:chExt cx="1684080" cy="155880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4597560" y="1269720"/>
                  <a:ext cx="1684080" cy="1558800"/>
                  <a:chOff x="4597560" y="1269720"/>
                  <a:chExt cx="1684080" cy="155880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4618080" y="1744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462600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4633920" y="2601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089680" y="1738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5810400" y="19918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5103720" y="259344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575320" y="17172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061320" y="16966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583240" y="218556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054840" y="214740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77120" y="25873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6064200" y="261108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4597560" y="1317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068800" y="1310760"/>
                    <a:ext cx="217800" cy="21780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554800" y="129024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040440" y="1269720"/>
                    <a:ext cx="217440" cy="21744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8" name=""/>
                <p:cNvSpPr/>
                <p:nvPr/>
              </p:nvSpPr>
              <p:spPr>
                <a:xfrm>
                  <a:off x="5207040" y="1983960"/>
                  <a:ext cx="493560" cy="259920"/>
                </a:xfrm>
                <a:custGeom>
                  <a:avLst/>
                  <a:gdLst>
                    <a:gd name="textAreaLeft" fmla="*/ 0 w 493560"/>
                    <a:gd name="textAreaRight" fmla="*/ 493920 w 4935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lnTo>
                        <a:pt x="0" y="12160"/>
                      </a:lnTo>
                      <a:arcTo wR="12427" hR="9260" stAng="10800000" swAng="5400000"/>
                      <a:lnTo>
                        <a:pt x="15100" y="2900"/>
                      </a:lnTo>
                      <a:lnTo>
                        <a:pt x="15100" y="0"/>
                      </a:lnTo>
                      <a:lnTo>
                        <a:pt x="21600" y="6079"/>
                      </a:lnTo>
                      <a:lnTo>
                        <a:pt x="15100" y="12158"/>
                      </a:lnTo>
                      <a:lnTo>
                        <a:pt x="15100" y="9258"/>
                      </a:lnTo>
                      <a:lnTo>
                        <a:pt x="12427" y="9258"/>
                      </a:lnTo>
                      <a:arcTo wR="6069" hR="2902" stAng="16200000" swAng="-5400000"/>
                      <a:lnTo>
                        <a:pt x="6358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9" name=""/>
            <p:cNvSpPr/>
            <p:nvPr/>
          </p:nvSpPr>
          <p:spPr>
            <a:xfrm>
              <a:off x="6995520" y="253980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ca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39920" y="878040"/>
              <a:ext cx="5875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cc"/>
                  </a:solidFill>
                  <a:latin typeface="Arial"/>
                </a:rPr>
                <a:t>Perfect lattice                     Lattice with a Defec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61800" y="14256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fects in Crystal Lattices (3)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0000" y="3532320"/>
            <a:ext cx="865800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ways to put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 particles in M cells =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 (single occupancy,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lute limi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ere is no correlation between the position of a vacancy and the position of an interstitial.  Therefore, the total number of accessible state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(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994040" y="5587920"/>
          <a:ext cx="5287680" cy="4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5587920"/>
                    <a:ext cx="528768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1947960" y="4641840"/>
          <a:ext cx="51195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7960" y="4641840"/>
                    <a:ext cx="51195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2174760" y="3057480"/>
          <a:ext cx="442296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74760" y="3057480"/>
                    <a:ext cx="442296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173160" y="4835520"/>
            <a:ext cx="1860480" cy="16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Free energ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519360" y="6202440"/>
          <a:ext cx="12099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19360" y="6202440"/>
                    <a:ext cx="1209960" cy="6555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749600" y="630072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n equilibriu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74880" y="63000"/>
            <a:ext cx="71625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irling’s Approxim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43120" y="2665440"/>
            <a:ext cx="482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some numb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ln N!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Symbol"/>
                <a:ea typeface="Symbol"/>
              </a:rPr>
              <a:t>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 ln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N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66ffcc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5.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3.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3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8.5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95.6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45.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144440"/>
                <a:tab algn="l" pos="1260360"/>
                <a:tab algn="r" pos="2058840"/>
                <a:tab algn="l" pos="2174760"/>
                <a:tab algn="r" pos="2859120"/>
                <a:tab algn="l" pos="2973240"/>
                <a:tab algn="r" pos="3773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?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6908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59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04960" y="1142640"/>
            <a:ext cx="70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often be necessary to calculate d(ln N!)/dN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’ll use a well known approximation for N!, known as </a:t>
            </a:r>
            <a:br>
              <a:rPr sz="1800"/>
            </a:b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Stirling’s Approxim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67160" y="2101680"/>
            <a:ext cx="209340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 N!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 lnN -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7520" y="6454800"/>
            <a:ext cx="61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This is not Robert Stirling (“Stirling engine”) but James Stirling, Scottish mathematicia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40560" y="5299200"/>
            <a:ext cx="121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rivative is only defined for large 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66840" y="5316480"/>
          <a:ext cx="70167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5316480"/>
                    <a:ext cx="7016760" cy="6177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473040" y="5095800"/>
            <a:ext cx="1028880" cy="1015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541920" y="5187960"/>
            <a:ext cx="81936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11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Defects in Crystal Lattices (4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30200" y="727200"/>
            <a:ext cx="8075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By minimizing the Free energy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interstitial-vacancy pairs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we determine the average number of defects that form at temperature T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2520" y="2319480"/>
            <a:ext cx="26211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Minimize F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Solve for the fraction N/M =  # defects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÷ 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lattice si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525760" y="2155680"/>
          <a:ext cx="546588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2155680"/>
                    <a:ext cx="546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2135160" y="1514520"/>
          <a:ext cx="52722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1514520"/>
                    <a:ext cx="52722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5497560" y="3056040"/>
          <a:ext cx="1363680" cy="67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7560" y="3056040"/>
                    <a:ext cx="1363680" cy="67932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5451480" y="4975200"/>
            <a:ext cx="356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otice the 2 in the Boltzmann factor.  It came from squaring the (M</a:t>
            </a:r>
            <a:r>
              <a:rPr b="0" lang="en-US" sz="14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/N!) number of positional states, because there are 2 movable objects, vacancy and interstiti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2360" y="1504800"/>
            <a:ext cx="13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from a previous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6518160" y="4384440"/>
            <a:ext cx="8280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191040" y="3040200"/>
          <a:ext cx="168588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1040" y="3040200"/>
                    <a:ext cx="168588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499000" y="4030560"/>
          <a:ext cx="140328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030560"/>
                    <a:ext cx="1403280" cy="723960"/>
                  </a:xfrm>
                  <a:prstGeom prst="rect">
                    <a:avLst/>
                  </a:prstGeom>
                  <a:ln w="936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6915240" y="42559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437600" y="4010040"/>
          <a:ext cx="1706400" cy="94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7600" y="4010040"/>
                    <a:ext cx="17064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926400" y="2916360"/>
            <a:ext cx="221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is looks like a Boltzmann factor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n exponential temperature dependenc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0280" y="4335480"/>
            <a:ext cx="43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we predicted before, as T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 the fraction of interstitial-vacancy pairs is exponentially suppres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711360" y="1180800"/>
            <a:ext cx="843264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just saw the fraction of interstitial-vacancy pairs is given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1. Suppose the energy cost to create such a pair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 eV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.  If we                       want to keep the fraction of vacancies less th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             maximum temperature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e should heat the material 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10,000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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2. Suppose that for some reason the vacancy and interstitial sites were always right next to each other.  How would this ‘safe’ temper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change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decrease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increase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will stay the s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987120" y="61560"/>
            <a:ext cx="716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7246800" y="1001880"/>
          <a:ext cx="121284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6800" y="1001880"/>
                    <a:ext cx="12128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7360" y="84240"/>
            <a:ext cx="76136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Related Example: Solid “Solutions”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30080" y="2303640"/>
            <a:ext cx="811872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equilibrium, some A atoms are in the B crystal and vice ver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are M “A” sites, N of which are occupied by “B” atoms.  N &lt;&lt; M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only entropy is due to site counting (ignore vibra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tc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energy increase when a “B” goes to an “A” site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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l the chemical potential of the B atoms in their own crystal 0, by choosing a convenient zero for energy. Then, in equilibrium, the chemical potential of the B’s in A must also be zer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174680" y="5003640"/>
          <a:ext cx="684540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5003640"/>
                    <a:ext cx="68454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495720" y="1371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00840" y="147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04840" y="138420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ortant for real devices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 silicon-gold, tin-le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691080" y="5989680"/>
          <a:ext cx="15303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5989680"/>
                    <a:ext cx="15303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"/>
          <p:cNvGrpSpPr/>
          <p:nvPr/>
        </p:nvGrpSpPr>
        <p:grpSpPr>
          <a:xfrm>
            <a:off x="835200" y="1042920"/>
            <a:ext cx="4329000" cy="1152360"/>
            <a:chOff x="835200" y="1042920"/>
            <a:chExt cx="4329000" cy="1152360"/>
          </a:xfrm>
        </p:grpSpPr>
        <p:grpSp>
          <p:nvGrpSpPr>
            <p:cNvPr id="330" name=""/>
            <p:cNvGrpSpPr/>
            <p:nvPr/>
          </p:nvGrpSpPr>
          <p:grpSpPr>
            <a:xfrm>
              <a:off x="835200" y="1042920"/>
              <a:ext cx="4329000" cy="1152360"/>
              <a:chOff x="835200" y="1042920"/>
              <a:chExt cx="4329000" cy="115236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835200" y="1042920"/>
                <a:ext cx="2122200" cy="267840"/>
                <a:chOff x="835200" y="1042920"/>
                <a:chExt cx="2122200" cy="2678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835200" y="1042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073160" y="10490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311120" y="10555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549440" y="10616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87400" y="10681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025720" y="10746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263680" y="10807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502000" y="10872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739960" y="1093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843120" y="13255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81440" y="133164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19400" y="13381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557720" y="134460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795680" y="135072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033640" y="1357200"/>
                <a:ext cx="217800" cy="21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271960" y="13636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509920" y="1369800"/>
                <a:ext cx="21780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748240" y="1376280"/>
                <a:ext cx="217440" cy="217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878040" y="1608120"/>
                <a:ext cx="2122200" cy="267840"/>
                <a:chOff x="878040" y="1608120"/>
                <a:chExt cx="2122200" cy="2678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78040" y="16081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116000" y="16142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353960" y="16207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592280" y="162684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0240" y="1633320"/>
                  <a:ext cx="21780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068560" y="16398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306520" y="164592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544840" y="1652400"/>
                  <a:ext cx="217440" cy="21708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782800" y="16585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14760" y="1876320"/>
                <a:ext cx="2122200" cy="268200"/>
                <a:chOff x="914760" y="1876320"/>
                <a:chExt cx="2122200" cy="2682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914760" y="187632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152720" y="18828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629000" y="18954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66960" y="1901520"/>
                  <a:ext cx="217800" cy="21780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105280" y="19080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343240" y="1914480"/>
                  <a:ext cx="21780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581560" y="192060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819520" y="1927080"/>
                  <a:ext cx="217440" cy="21744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962440" y="1093680"/>
                <a:ext cx="2201760" cy="1101600"/>
                <a:chOff x="2962440" y="1093680"/>
                <a:chExt cx="2201760" cy="1101600"/>
              </a:xfrm>
            </p:grpSpPr>
            <p:grpSp>
              <p:nvGrpSpPr>
                <p:cNvPr id="370" name=""/>
                <p:cNvGrpSpPr/>
                <p:nvPr/>
              </p:nvGrpSpPr>
              <p:grpSpPr>
                <a:xfrm>
                  <a:off x="2962440" y="1093680"/>
                  <a:ext cx="2122560" cy="268200"/>
                  <a:chOff x="2962440" y="1093680"/>
                  <a:chExt cx="2122560" cy="26820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2962440" y="1093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3200760" y="1100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438720" y="110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3677040" y="1112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3915000" y="11188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4152960" y="11253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4391280" y="1131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4629240" y="1137960"/>
                    <a:ext cx="21780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4867560" y="114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2970360" y="1376280"/>
                  <a:ext cx="2122560" cy="268200"/>
                  <a:chOff x="2970360" y="1376280"/>
                  <a:chExt cx="2122560" cy="26820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2970360" y="13762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3208680" y="13824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446640" y="138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684960" y="13953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3922920" y="140148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161240" y="140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4399200" y="14144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4637160" y="14205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4875480" y="142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3005280" y="1658880"/>
                  <a:ext cx="2122560" cy="268200"/>
                  <a:chOff x="3005280" y="1658880"/>
                  <a:chExt cx="2122560" cy="26820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3005280" y="16588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3243600" y="166500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3481560" y="16714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3719880" y="16779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3957840" y="1684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4196160" y="1690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4434120" y="16970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4672080" y="170316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4910400" y="17096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3042000" y="1927080"/>
                  <a:ext cx="2122200" cy="268200"/>
                  <a:chOff x="3042000" y="1927080"/>
                  <a:chExt cx="2122200" cy="26820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3042000" y="19270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3279960" y="19335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3518280" y="193968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3756240" y="19461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994200" y="19526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4232520" y="195876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4470480" y="1965240"/>
                    <a:ext cx="21780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4708800" y="1971360"/>
                    <a:ext cx="217440" cy="217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4946760" y="1977840"/>
                    <a:ext cx="217440" cy="217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10" name=""/>
            <p:cNvSpPr/>
            <p:nvPr/>
          </p:nvSpPr>
          <p:spPr>
            <a:xfrm>
              <a:off x="1397160" y="1911240"/>
              <a:ext cx="217440" cy="2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 flipV="1">
            <a:off x="3656880" y="4888800"/>
            <a:ext cx="1695960" cy="97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3" y="5657"/>
                </a:moveTo>
                <a:arcTo wR="10800" hR="10800" stAng="-9093663" swAng="7311620"/>
                <a:lnTo>
                  <a:pt x="10800" y="10800"/>
                </a:lnTo>
                <a:close/>
              </a:path>
              <a:path fill="none" w="21600" h="21600">
                <a:moveTo>
                  <a:pt x="1303" y="5657"/>
                </a:moveTo>
                <a:arcTo wR="10800" hR="10800" stAng="-9093663" swAng="7311620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920" y="61560"/>
            <a:ext cx="886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verting Chemical Fuels into Wor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8080" y="1164960"/>
            <a:ext cx="8705880" cy="305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table of free energy for some fuels: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what you get when you burn th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lem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f you could convert the free energy of gas perfectly into work, how many miles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r gallon would your car achieve?  (Wow, can we really do this problem?  Sure: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: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need to know how much work it takes to drive the car 1 mile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bviously that depends on a number of factors: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peed, tire friction, wind resistance, etc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ctually a simple experiment can give us the answ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termine the decelerating force!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 Work = force x distan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292400" y="1644840"/>
            <a:ext cx="2771640" cy="1110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ue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MS PGothic"/>
              </a:rPr>
              <a:t>Free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M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18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Ethanol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24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Gasoline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MS PGothic"/>
              </a:rPr>
              <a:t> 35 MJ / l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73200" y="317988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17988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" name="Group 7"/>
          <p:cNvGrpSpPr/>
          <p:nvPr/>
        </p:nvGrpSpPr>
        <p:grpSpPr>
          <a:xfrm>
            <a:off x="2452680" y="6098400"/>
            <a:ext cx="3011400" cy="368280"/>
            <a:chOff x="2452680" y="6098400"/>
            <a:chExt cx="3011400" cy="368280"/>
          </a:xfrm>
        </p:grpSpPr>
        <p:sp>
          <p:nvSpPr>
            <p:cNvPr id="56" name="Line 8"/>
            <p:cNvSpPr/>
            <p:nvPr/>
          </p:nvSpPr>
          <p:spPr>
            <a:xfrm flipH="1">
              <a:off x="3681360" y="6301080"/>
              <a:ext cx="709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Group 9"/>
            <p:cNvGrpSpPr/>
            <p:nvPr/>
          </p:nvGrpSpPr>
          <p:grpSpPr>
            <a:xfrm>
              <a:off x="2452680" y="6098400"/>
              <a:ext cx="3011400" cy="368280"/>
              <a:chOff x="2452680" y="6098400"/>
              <a:chExt cx="3011400" cy="368280"/>
            </a:xfrm>
          </p:grpSpPr>
          <p:graphicFrame>
            <p:nvGraphicFramePr>
              <p:cNvPr id="58" name=""/>
              <p:cNvGraphicFramePr/>
              <p:nvPr/>
            </p:nvGraphicFramePr>
            <p:xfrm>
              <a:off x="2452680" y="6118200"/>
              <a:ext cx="1143000" cy="30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452680" y="6118200"/>
                        <a:ext cx="1143000" cy="30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" name="Text Box 11"/>
              <p:cNvSpPr/>
              <p:nvPr/>
            </p:nvSpPr>
            <p:spPr>
              <a:xfrm>
                <a:off x="4128120" y="6098400"/>
                <a:ext cx="133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Forc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4923000" y="1616040"/>
            <a:ext cx="37256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http://en.wikipedia.org/wiki/Alcohol_fuel#Methanol_and_ethan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Ethanol has less free energy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per liter than gasoline does.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 You’ll get worse mileag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83560" y="5416560"/>
            <a:ext cx="2084040" cy="903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Question to ponder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  <a:ea typeface="MS PGothic"/>
              </a:rPr>
              <a:t>Why don’t the tables 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  <a:ea typeface="MS PGothic"/>
              </a:rPr>
              <a:t>free energy mention T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  <a:ea typeface="MS PGothic"/>
              </a:rPr>
              <a:t>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  <a:ea typeface="MS PGothic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2529000" y="2021040"/>
            <a:ext cx="45352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of free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w of atmospheres, revis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660240" y="78840"/>
            <a:ext cx="78235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71520" y="146844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tunately for us, Professor Kwiat did the experi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find that when I depress the clutch at 65 mph, my car slows to 55 mph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10 seconds.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 m/s)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orce of wind and friction = m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V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 = (2000 kg)(5 m/s)/(10 sec) = 1000 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ork to drive 1 mile =  (1000 N)(1600 m) = 1.6 MJ (megajoul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free energy of gas were converted perfectly into work, he would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.6 MJ / (33 MJ / liter) = 0.048 liters = 0.011 gallons of fue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refore,</a:t>
            </a: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f his car were powered by a perfect Carnot engine,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 could expect  ~90 miles per gall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ypical gasoline engine achieves about half of the ideal Carnot efficiency </a:t>
            </a:r>
            <a:br>
              <a:rPr sz="10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is is not a bad estimate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en.wikipedia.org/wiki/Internal_combustion_engine#Energy_efficienc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This calculation is pretty crude.  The purpose is to demonstrate that                     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ree Energy applies to physics, chemistry and engineering.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54000" y="222120"/>
          <a:ext cx="1143000" cy="3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2212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102440" y="307800"/>
          <a:ext cx="114300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307800"/>
                    <a:ext cx="1143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7"/>
          <p:cNvSpPr/>
          <p:nvPr/>
        </p:nvSpPr>
        <p:spPr>
          <a:xfrm>
            <a:off x="3232800" y="2161080"/>
            <a:ext cx="2137680" cy="3070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1 mph = 0.45 m/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42920" y="61920"/>
            <a:ext cx="886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as Mile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81160" y="695160"/>
            <a:ext cx="8308800" cy="59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ast time: Free energ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h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available work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e can get from a system that is connected to a reservoir (environment) at temperature 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reservoi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Equilibrium corresponds to maximum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+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small system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When we calculate </a:t>
            </a:r>
            <a:r>
              <a:rPr b="0" lang="en-US" sz="1600" spc="-1" strike="noStrike">
                <a:solidFill>
                  <a:srgbClr val="66ff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, we only need to know the temperature of the reservoir.  In minimizing F (equivalent to maximizing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tot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) we don’t have to deal explicitly with S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reservoir 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Consider exchange of material (particles) between two containers.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se are two small systems in equilibrium with a reservoir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(not shown) at temperature T.  In equilibrium, dF/dN</a:t>
            </a:r>
            <a:r>
              <a:rPr b="0" lang="en-US" sz="16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 = 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The derivative of free energy with respect to particle number is </a:t>
            </a:r>
            <a:br>
              <a:rPr sz="1600"/>
            </a:b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so important that we define a special name and symbol for it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cc"/>
                </a:solidFill>
                <a:latin typeface="Arial"/>
                <a:ea typeface="MS PGothic"/>
              </a:rPr>
              <a:t>For two subsystems exchanging particles, the equilibrium condition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Free Energy, Equilibrium and Chemical Potential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266840" y="21495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467160" y="57690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  <a:ea typeface="MS PGothic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" name="Group 6"/>
          <p:cNvGrpSpPr/>
          <p:nvPr/>
        </p:nvGrpSpPr>
        <p:grpSpPr>
          <a:xfrm>
            <a:off x="102240" y="6444720"/>
            <a:ext cx="8326800" cy="337320"/>
            <a:chOff x="102240" y="6444720"/>
            <a:chExt cx="8326800" cy="337320"/>
          </a:xfrm>
        </p:grpSpPr>
        <p:sp>
          <p:nvSpPr>
            <p:cNvPr id="77" name="Text Box 7"/>
            <p:cNvSpPr/>
            <p:nvPr/>
          </p:nvSpPr>
          <p:spPr>
            <a:xfrm>
              <a:off x="102240" y="6444720"/>
              <a:ext cx="832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MS PGothic"/>
                </a:rPr>
                <a:t>Maximum Total Entropy           Minimum Free Energy         Equal chemical potenti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Line 8"/>
            <p:cNvSpPr/>
            <p:nvPr/>
          </p:nvSpPr>
          <p:spPr>
            <a:xfrm>
              <a:off x="2727360" y="662292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Line 9"/>
            <p:cNvSpPr/>
            <p:nvPr/>
          </p:nvSpPr>
          <p:spPr>
            <a:xfrm>
              <a:off x="5375520" y="663264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80" name="Object 10"/>
          <p:cNvGraphicFramePr/>
          <p:nvPr/>
        </p:nvGraphicFramePr>
        <p:xfrm>
          <a:off x="793800" y="3662280"/>
          <a:ext cx="2293920" cy="9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3662280"/>
                    <a:ext cx="2293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" name="Group 11"/>
          <p:cNvGrpSpPr/>
          <p:nvPr/>
        </p:nvGrpSpPr>
        <p:grpSpPr>
          <a:xfrm>
            <a:off x="6757200" y="3815640"/>
            <a:ext cx="1961640" cy="983160"/>
            <a:chOff x="6757200" y="3815640"/>
            <a:chExt cx="1961640" cy="983160"/>
          </a:xfrm>
        </p:grpSpPr>
        <p:grpSp>
          <p:nvGrpSpPr>
            <p:cNvPr id="83" name="Group 12"/>
            <p:cNvGrpSpPr/>
            <p:nvPr/>
          </p:nvGrpSpPr>
          <p:grpSpPr>
            <a:xfrm>
              <a:off x="7985880" y="4070160"/>
              <a:ext cx="732960" cy="263160"/>
              <a:chOff x="7985880" y="4070160"/>
              <a:chExt cx="732960" cy="263160"/>
            </a:xfrm>
          </p:grpSpPr>
          <p:sp>
            <p:nvSpPr>
              <p:cNvPr id="84" name="Rectangle 13"/>
              <p:cNvSpPr/>
              <p:nvPr/>
            </p:nvSpPr>
            <p:spPr>
              <a:xfrm>
                <a:off x="8094600" y="4211280"/>
                <a:ext cx="624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MS PGothic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985880" y="4070160"/>
                <a:ext cx="68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  <a:ea typeface="MS PGothic"/>
                  </a:rPr>
                  <a:t>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6" name="Freeform 15"/>
            <p:cNvSpPr/>
            <p:nvPr/>
          </p:nvSpPr>
          <p:spPr>
            <a:xfrm>
              <a:off x="7321320" y="4211640"/>
              <a:ext cx="674640" cy="44748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8" h="565">
                  <a:moveTo>
                    <a:pt x="0" y="0"/>
                  </a:moveTo>
                  <a:lnTo>
                    <a:pt x="32" y="65"/>
                  </a:lnTo>
                  <a:lnTo>
                    <a:pt x="63" y="131"/>
                  </a:lnTo>
                  <a:lnTo>
                    <a:pt x="94" y="194"/>
                  </a:lnTo>
                  <a:lnTo>
                    <a:pt x="124" y="255"/>
                  </a:lnTo>
                  <a:lnTo>
                    <a:pt x="155" y="311"/>
                  </a:lnTo>
                  <a:lnTo>
                    <a:pt x="184" y="363"/>
                  </a:lnTo>
                  <a:lnTo>
                    <a:pt x="213" y="409"/>
                  </a:lnTo>
                  <a:lnTo>
                    <a:pt x="226" y="428"/>
                  </a:lnTo>
                  <a:lnTo>
                    <a:pt x="240" y="447"/>
                  </a:lnTo>
                  <a:lnTo>
                    <a:pt x="266" y="480"/>
                  </a:lnTo>
                  <a:lnTo>
                    <a:pt x="290" y="507"/>
                  </a:lnTo>
                  <a:lnTo>
                    <a:pt x="314" y="530"/>
                  </a:lnTo>
                  <a:lnTo>
                    <a:pt x="336" y="547"/>
                  </a:lnTo>
                  <a:lnTo>
                    <a:pt x="359" y="559"/>
                  </a:lnTo>
                  <a:lnTo>
                    <a:pt x="382" y="565"/>
                  </a:lnTo>
                  <a:lnTo>
                    <a:pt x="407" y="565"/>
                  </a:lnTo>
                  <a:lnTo>
                    <a:pt x="432" y="559"/>
                  </a:lnTo>
                  <a:lnTo>
                    <a:pt x="445" y="553"/>
                  </a:lnTo>
                  <a:lnTo>
                    <a:pt x="460" y="545"/>
                  </a:lnTo>
                  <a:lnTo>
                    <a:pt x="476" y="536"/>
                  </a:lnTo>
                  <a:lnTo>
                    <a:pt x="491" y="524"/>
                  </a:lnTo>
                  <a:lnTo>
                    <a:pt x="522" y="497"/>
                  </a:lnTo>
                  <a:lnTo>
                    <a:pt x="553" y="465"/>
                  </a:lnTo>
                  <a:lnTo>
                    <a:pt x="585" y="428"/>
                  </a:lnTo>
                  <a:lnTo>
                    <a:pt x="616" y="392"/>
                  </a:lnTo>
                  <a:lnTo>
                    <a:pt x="645" y="353"/>
                  </a:lnTo>
                  <a:lnTo>
                    <a:pt x="672" y="319"/>
                  </a:lnTo>
                  <a:lnTo>
                    <a:pt x="722" y="248"/>
                  </a:lnTo>
                  <a:lnTo>
                    <a:pt x="766" y="173"/>
                  </a:lnTo>
                  <a:lnTo>
                    <a:pt x="808" y="94"/>
                  </a:lnTo>
                  <a:lnTo>
                    <a:pt x="848" y="1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6757200" y="3815640"/>
              <a:ext cx="1390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F = 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+F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Line 17"/>
            <p:cNvSpPr/>
            <p:nvPr/>
          </p:nvSpPr>
          <p:spPr>
            <a:xfrm flipV="1">
              <a:off x="7041960" y="3968640"/>
              <a:ext cx="0" cy="83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Line 18"/>
            <p:cNvSpPr/>
            <p:nvPr/>
          </p:nvSpPr>
          <p:spPr>
            <a:xfrm>
              <a:off x="7051680" y="4159080"/>
              <a:ext cx="118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Group 19"/>
          <p:cNvGrpSpPr/>
          <p:nvPr/>
        </p:nvGrpSpPr>
        <p:grpSpPr>
          <a:xfrm>
            <a:off x="6820920" y="2700360"/>
            <a:ext cx="1702440" cy="843840"/>
            <a:chOff x="6820920" y="2700360"/>
            <a:chExt cx="1702440" cy="843840"/>
          </a:xfrm>
        </p:grpSpPr>
        <p:grpSp>
          <p:nvGrpSpPr>
            <p:cNvPr id="91" name="Group 20"/>
            <p:cNvGrpSpPr/>
            <p:nvPr/>
          </p:nvGrpSpPr>
          <p:grpSpPr>
            <a:xfrm>
              <a:off x="6820920" y="2700360"/>
              <a:ext cx="1702440" cy="843840"/>
              <a:chOff x="6820920" y="2700360"/>
              <a:chExt cx="1702440" cy="843840"/>
            </a:xfrm>
          </p:grpSpPr>
          <p:grpSp>
            <p:nvGrpSpPr>
              <p:cNvPr id="92" name="Group 21"/>
              <p:cNvGrpSpPr/>
              <p:nvPr/>
            </p:nvGrpSpPr>
            <p:grpSpPr>
              <a:xfrm>
                <a:off x="6820920" y="3346200"/>
                <a:ext cx="740160" cy="188280"/>
                <a:chOff x="6820920" y="3346200"/>
                <a:chExt cx="740160" cy="188280"/>
              </a:xfrm>
            </p:grpSpPr>
            <p:sp>
              <p:nvSpPr>
                <p:cNvPr id="93" name="Rectangle 22"/>
                <p:cNvSpPr/>
                <p:nvPr/>
              </p:nvSpPr>
              <p:spPr>
                <a:xfrm>
                  <a:off x="6820920" y="334620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23"/>
                <p:cNvSpPr/>
                <p:nvPr/>
              </p:nvSpPr>
              <p:spPr>
                <a:xfrm>
                  <a:off x="6932160" y="341244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1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24"/>
              <p:cNvGrpSpPr/>
              <p:nvPr/>
            </p:nvGrpSpPr>
            <p:grpSpPr>
              <a:xfrm>
                <a:off x="7784640" y="3355560"/>
                <a:ext cx="738720" cy="188640"/>
                <a:chOff x="7784640" y="3355560"/>
                <a:chExt cx="738720" cy="188640"/>
              </a:xfrm>
            </p:grpSpPr>
            <p:sp>
              <p:nvSpPr>
                <p:cNvPr id="96" name="Rectangle 25"/>
                <p:cNvSpPr/>
                <p:nvPr/>
              </p:nvSpPr>
              <p:spPr>
                <a:xfrm>
                  <a:off x="7784640" y="3355560"/>
                  <a:ext cx="682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Rectangle 26"/>
                <p:cNvSpPr/>
                <p:nvPr/>
              </p:nvSpPr>
              <p:spPr>
                <a:xfrm>
                  <a:off x="7894440" y="3422160"/>
                  <a:ext cx="6289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MS PGothic"/>
                    </a:rPr>
                    <a:t>2</a:t>
                  </a:r>
                  <a:endParaRPr b="0" lang="en-US" sz="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27"/>
              <p:cNvGrpSpPr/>
              <p:nvPr/>
            </p:nvGrpSpPr>
            <p:grpSpPr>
              <a:xfrm>
                <a:off x="6845400" y="2700360"/>
                <a:ext cx="1523520" cy="570960"/>
                <a:chOff x="6845400" y="2700360"/>
                <a:chExt cx="1523520" cy="570960"/>
              </a:xfrm>
            </p:grpSpPr>
            <p:grpSp>
              <p:nvGrpSpPr>
                <p:cNvPr id="99" name="Group 28"/>
                <p:cNvGrpSpPr/>
                <p:nvPr/>
              </p:nvGrpSpPr>
              <p:grpSpPr>
                <a:xfrm>
                  <a:off x="6845400" y="2700360"/>
                  <a:ext cx="1523520" cy="570960"/>
                  <a:chOff x="6845400" y="2700360"/>
                  <a:chExt cx="1523520" cy="570960"/>
                </a:xfrm>
              </p:grpSpPr>
              <p:sp>
                <p:nvSpPr>
                  <p:cNvPr id="100" name="Line 29"/>
                  <p:cNvSpPr/>
                  <p:nvPr/>
                </p:nvSpPr>
                <p:spPr>
                  <a:xfrm>
                    <a:off x="6845400" y="2700360"/>
                    <a:ext cx="72360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Line 30"/>
                  <p:cNvSpPr/>
                  <p:nvPr/>
                </p:nvSpPr>
                <p:spPr>
                  <a:xfrm>
                    <a:off x="684540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2" name="Group 31"/>
                  <p:cNvGrpSpPr/>
                  <p:nvPr/>
                </p:nvGrpSpPr>
                <p:grpSpPr>
                  <a:xfrm>
                    <a:off x="7569000" y="2700360"/>
                    <a:ext cx="1440" cy="570600"/>
                    <a:chOff x="7569000" y="2700360"/>
                    <a:chExt cx="1440" cy="570600"/>
                  </a:xfrm>
                </p:grpSpPr>
                <p:sp>
                  <p:nvSpPr>
                    <p:cNvPr id="103" name="Line 32"/>
                    <p:cNvSpPr/>
                    <p:nvPr/>
                  </p:nvSpPr>
                  <p:spPr>
                    <a:xfrm>
                      <a:off x="756900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Line 33"/>
                    <p:cNvSpPr/>
                    <p:nvPr/>
                  </p:nvSpPr>
                  <p:spPr>
                    <a:xfrm>
                      <a:off x="756900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" name="Line 34"/>
                  <p:cNvSpPr/>
                  <p:nvPr/>
                </p:nvSpPr>
                <p:spPr>
                  <a:xfrm>
                    <a:off x="6858000" y="3258720"/>
                    <a:ext cx="72504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Line 35"/>
                  <p:cNvSpPr/>
                  <p:nvPr/>
                </p:nvSpPr>
                <p:spPr>
                  <a:xfrm>
                    <a:off x="7569000" y="294156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Line 36"/>
                  <p:cNvSpPr/>
                  <p:nvPr/>
                </p:nvSpPr>
                <p:spPr>
                  <a:xfrm>
                    <a:off x="7569000" y="3042720"/>
                    <a:ext cx="4330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" name="Group 37"/>
                  <p:cNvGrpSpPr/>
                  <p:nvPr/>
                </p:nvGrpSpPr>
                <p:grpSpPr>
                  <a:xfrm>
                    <a:off x="7988040" y="2700360"/>
                    <a:ext cx="1440" cy="570600"/>
                    <a:chOff x="7988040" y="2700360"/>
                    <a:chExt cx="1440" cy="570600"/>
                  </a:xfrm>
                </p:grpSpPr>
                <p:sp>
                  <p:nvSpPr>
                    <p:cNvPr id="109" name="Line 38"/>
                    <p:cNvSpPr/>
                    <p:nvPr/>
                  </p:nvSpPr>
                  <p:spPr>
                    <a:xfrm>
                      <a:off x="7988040" y="2700360"/>
                      <a:ext cx="1440" cy="25380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Line 39"/>
                    <p:cNvSpPr/>
                    <p:nvPr/>
                  </p:nvSpPr>
                  <p:spPr>
                    <a:xfrm>
                      <a:off x="7988040" y="3042720"/>
                      <a:ext cx="1440" cy="2282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1" name="Line 40"/>
                  <p:cNvSpPr/>
                  <p:nvPr/>
                </p:nvSpPr>
                <p:spPr>
                  <a:xfrm>
                    <a:off x="7988040" y="2700360"/>
                    <a:ext cx="367920" cy="144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Line 41"/>
                  <p:cNvSpPr/>
                  <p:nvPr/>
                </p:nvSpPr>
                <p:spPr>
                  <a:xfrm>
                    <a:off x="8002440" y="3258720"/>
                    <a:ext cx="366480" cy="108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Line 42"/>
                  <p:cNvSpPr/>
                  <p:nvPr/>
                </p:nvSpPr>
                <p:spPr>
                  <a:xfrm>
                    <a:off x="8356320" y="2700360"/>
                    <a:ext cx="1440" cy="570960"/>
                  </a:xfrm>
                  <a:prstGeom prst="line">
                    <a:avLst/>
                  </a:prstGeom>
                  <a:ln w="936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" name="Oval 43"/>
                <p:cNvSpPr/>
                <p:nvPr/>
              </p:nvSpPr>
              <p:spPr>
                <a:xfrm>
                  <a:off x="7061040" y="2966760"/>
                  <a:ext cx="93240" cy="9180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Oval 44"/>
                <p:cNvSpPr/>
                <p:nvPr/>
              </p:nvSpPr>
              <p:spPr>
                <a:xfrm>
                  <a:off x="7213320" y="3119040"/>
                  <a:ext cx="936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Oval 45"/>
                <p:cNvSpPr/>
                <p:nvPr/>
              </p:nvSpPr>
              <p:spPr>
                <a:xfrm>
                  <a:off x="6870600" y="309348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Oval 46"/>
                <p:cNvSpPr/>
                <p:nvPr/>
              </p:nvSpPr>
              <p:spPr>
                <a:xfrm>
                  <a:off x="7226280" y="2827080"/>
                  <a:ext cx="914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Oval 47"/>
                <p:cNvSpPr/>
                <p:nvPr/>
              </p:nvSpPr>
              <p:spPr>
                <a:xfrm>
                  <a:off x="7035840" y="2763720"/>
                  <a:ext cx="9144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Oval 48"/>
                <p:cNvSpPr/>
                <p:nvPr/>
              </p:nvSpPr>
              <p:spPr>
                <a:xfrm>
                  <a:off x="7378560" y="3030120"/>
                  <a:ext cx="9180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49"/>
                <p:cNvSpPr/>
                <p:nvPr/>
              </p:nvSpPr>
              <p:spPr>
                <a:xfrm>
                  <a:off x="8192880" y="2801880"/>
                  <a:ext cx="90360" cy="914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Oval 50"/>
                <p:cNvSpPr/>
                <p:nvPr/>
              </p:nvSpPr>
              <p:spPr>
                <a:xfrm>
                  <a:off x="8064360" y="294156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Oval 51"/>
                <p:cNvSpPr/>
                <p:nvPr/>
              </p:nvSpPr>
              <p:spPr>
                <a:xfrm>
                  <a:off x="8204040" y="3131640"/>
                  <a:ext cx="93240" cy="93240"/>
                </a:xfrm>
                <a:prstGeom prst="ellipse">
                  <a:avLst/>
                </a:prstGeom>
                <a:noFill/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" name="Line 52"/>
            <p:cNvSpPr/>
            <p:nvPr/>
          </p:nvSpPr>
          <p:spPr>
            <a:xfrm flipV="1">
              <a:off x="7647120" y="2841480"/>
              <a:ext cx="246240" cy="9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" name="Rectangle 55"/>
          <p:cNvSpPr/>
          <p:nvPr/>
        </p:nvSpPr>
        <p:spPr>
          <a:xfrm>
            <a:off x="3570120" y="5418000"/>
            <a:ext cx="4278600" cy="27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MS PGothic"/>
              </a:rPr>
              <a:t>The chemical potential of subsystem “i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Object 56"/>
          <p:cNvGraphicFramePr/>
          <p:nvPr/>
        </p:nvGraphicFramePr>
        <p:xfrm>
          <a:off x="2468520" y="5295960"/>
          <a:ext cx="83340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8520" y="5295960"/>
                    <a:ext cx="833400" cy="6001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7" name="Object 58"/>
          <p:cNvGraphicFramePr/>
          <p:nvPr/>
        </p:nvGraphicFramePr>
        <p:xfrm>
          <a:off x="6910560" y="5904000"/>
          <a:ext cx="1049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Object 5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0560" y="5904000"/>
                    <a:ext cx="1049040" cy="484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6660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Why Bother with Yet Another Definition?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81160" y="1295280"/>
            <a:ext cx="83088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It makes the various equilibrium conditions look the sam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xchang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Volume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p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Energy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T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Partic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1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66ffcc"/>
                </a:solidFill>
                <a:latin typeface="Arial"/>
                <a:ea typeface="MS P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1371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Why does the last equation use dF/dn, instead of d</a:t>
            </a:r>
            <a:r>
              <a:rPr b="0" lang="en-US" sz="1800" spc="-1" strike="noStrike">
                <a:solidFill>
                  <a:srgbClr val="66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  <a:ea typeface="MS PGothic"/>
              </a:rPr>
              <a:t>/dN?  Remember that there is a thermal reservoir (not shown). When particles are exchanged, the reservoir’s entropy might change.  (It might gain or lose energy.)  That’s what F takes care o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5645160" y="2406600"/>
            <a:ext cx="2955960" cy="1130400"/>
            <a:chOff x="5645160" y="2406600"/>
            <a:chExt cx="2955960" cy="1130400"/>
          </a:xfrm>
        </p:grpSpPr>
        <p:sp>
          <p:nvSpPr>
            <p:cNvPr id="132" name="Rectangle 5"/>
            <p:cNvSpPr/>
            <p:nvPr/>
          </p:nvSpPr>
          <p:spPr>
            <a:xfrm>
              <a:off x="5645160" y="2406600"/>
              <a:ext cx="112536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7475400" y="2411280"/>
              <a:ext cx="1125720" cy="1125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6753240" y="2960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Text Box 8"/>
            <p:cNvSpPr/>
            <p:nvPr/>
          </p:nvSpPr>
          <p:spPr>
            <a:xfrm>
              <a:off x="572688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7547760" y="281448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  <a:ea typeface="MS PGothic"/>
                </a:rPr>
                <a:t>System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Line 10"/>
          <p:cNvSpPr/>
          <p:nvPr/>
        </p:nvSpPr>
        <p:spPr>
          <a:xfrm flipV="1">
            <a:off x="7113600" y="3022560"/>
            <a:ext cx="0" cy="1028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950080" y="4049640"/>
            <a:ext cx="2323440" cy="459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The two systems can exchang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volume, energy, or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Object 12"/>
          <p:cNvGraphicFramePr/>
          <p:nvPr/>
        </p:nvGraphicFramePr>
        <p:xfrm>
          <a:off x="1735200" y="2530440"/>
          <a:ext cx="122544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2530440"/>
                    <a:ext cx="122544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3"/>
          <p:cNvGraphicFramePr/>
          <p:nvPr/>
        </p:nvGraphicFramePr>
        <p:xfrm>
          <a:off x="1727280" y="3351240"/>
          <a:ext cx="1245960" cy="7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7280" y="3351240"/>
                    <a:ext cx="12459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14"/>
          <p:cNvGraphicFramePr/>
          <p:nvPr/>
        </p:nvGraphicFramePr>
        <p:xfrm>
          <a:off x="1736640" y="4179960"/>
          <a:ext cx="1225800" cy="72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36640" y="4179960"/>
                    <a:ext cx="12258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52440" y="1053720"/>
            <a:ext cx="8089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call the situation when systems can exchange energy.  The definition of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emperature: 1/T = dS/dU (holding V and N fixed) tells us that temperatures are equal in thermal equilibrium.  Otherwise we could increase S by exchanging so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lso know what happens when the systems are out of equilibrium (unequal T).  Because high T means a small derivative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flows from the hot system to the cold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look at the situation when we have particle ex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om the definition of chemical potential, we have alread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een that in thermal and particle equilibrium, the chemical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otentials are equal: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t of equilibrium 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larg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ystem has a larger dF/dN, so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 flow from hig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o low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 that d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dN (= d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/dN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must be positiv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r equilibrium isn’t st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87200" y="61920"/>
            <a:ext cx="875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  <a:ea typeface="MS PGothic"/>
              </a:rPr>
              <a:t>Equilibrium and Chemical Potent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6880320" y="4021200"/>
          <a:ext cx="115704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4021200"/>
                    <a:ext cx="115704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5"/>
          <p:cNvSpPr/>
          <p:nvPr/>
        </p:nvSpPr>
        <p:spPr>
          <a:xfrm>
            <a:off x="1809720" y="5645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6708600" y="5135400"/>
            <a:ext cx="1737000" cy="479520"/>
            <a:chOff x="6708600" y="5135400"/>
            <a:chExt cx="1737000" cy="479520"/>
          </a:xfrm>
        </p:grpSpPr>
        <p:sp>
          <p:nvSpPr>
            <p:cNvPr id="151" name="Rectangle 7"/>
            <p:cNvSpPr/>
            <p:nvPr/>
          </p:nvSpPr>
          <p:spPr>
            <a:xfrm>
              <a:off x="6708600" y="514008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8"/>
            <p:cNvSpPr/>
            <p:nvPr/>
          </p:nvSpPr>
          <p:spPr>
            <a:xfrm>
              <a:off x="7856640" y="5135400"/>
              <a:ext cx="588960" cy="47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7315200" y="5360760"/>
              <a:ext cx="53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Text Box 10"/>
            <p:cNvSpPr/>
            <p:nvPr/>
          </p:nvSpPr>
          <p:spPr>
            <a:xfrm>
              <a:off x="7313040" y="5194080"/>
              <a:ext cx="56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nergy </a:t>
              </a:r>
              <a:br>
                <a:rPr sz="800"/>
              </a:b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articl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Text Box 11"/>
            <p:cNvSpPr/>
            <p:nvPr/>
          </p:nvSpPr>
          <p:spPr>
            <a:xfrm>
              <a:off x="8016480" y="5236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6859080" y="5238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Arc 13"/>
          <p:cNvSpPr/>
          <p:nvPr/>
        </p:nvSpPr>
        <p:spPr>
          <a:xfrm flipV="1">
            <a:off x="7058160" y="6091200"/>
            <a:ext cx="1052280" cy="230400"/>
          </a:xfrm>
          <a:custGeom>
            <a:avLst/>
            <a:gdLst>
              <a:gd name="textAreaLeft" fmla="*/ 0 w 1052280"/>
              <a:gd name="textAreaRight" fmla="*/ 1052640 w 1052280"/>
              <a:gd name="textAreaTop" fmla="*/ 360 h 230400"/>
              <a:gd name="textAreaBottom" fmla="*/ 231120 h 230400"/>
            </a:gdLst>
            <a:ahLst/>
            <a:rect l="textAreaLeft" t="textAreaTop" r="textAreaRight" b="textAreaBottom"/>
            <a:pathLst>
              <a:path fill="none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</a:path>
              <a:path stroke="0" w="39145" h="21600">
                <a:moveTo>
                  <a:pt x="-1" y="11931"/>
                </a:moveTo>
                <a:cubicBezTo>
                  <a:pt x="3660" y="4618"/>
                  <a:pt x="11136" y="-1"/>
                  <a:pt x="19315" y="0"/>
                </a:cubicBezTo>
                <a:cubicBezTo>
                  <a:pt x="27934" y="0"/>
                  <a:pt x="35728" y="5124"/>
                  <a:pt x="39145" y="13036"/>
                </a:cubicBezTo>
                <a:lnTo>
                  <a:pt x="19315" y="2160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6858000" y="5864400"/>
            <a:ext cx="0" cy="70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6858000" y="6559560"/>
            <a:ext cx="145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8140680" y="63435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6820200" y="57722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0960" y="61560"/>
            <a:ext cx="822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Path Ahead..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2760" y="1243080"/>
            <a:ext cx="8192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Having considered thermal equilibrium when volume and energy exchang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we’ll consider systems in which particles can be exchanged (or “created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imization of total free energy will allow us to understand a wide variety of different physical proc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examples: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move from place to pl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Particles can combine into new types (</a:t>
            </a:r>
            <a:r>
              <a:rPr b="0" i="1" lang="en-US" sz="1800" spc="-1" strike="noStrike">
                <a:solidFill>
                  <a:srgbClr val="66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, chemical reac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This will lead to the concept of “chemical equilibrium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And lots and lots of application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cc"/>
                </a:solidFill>
                <a:latin typeface="Arial"/>
              </a:rPr>
              <a:t>Let’s start with a concrete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02:52:46Z</dcterms:modified>
  <cp:revision>54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