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812C2CB-D725-4250-9356-F4ADB65DDF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lecture is about 5-10 minutes too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ith heat g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mpare with metal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heel (I’d skip i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F13AED09-082E-4B92-AD3D-E6153B61F32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7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0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3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4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1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1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231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245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252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253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256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259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262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265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268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271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274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277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280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5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286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295" name="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296" name="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7" name="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8" name="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303" name="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313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5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325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27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9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330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2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96720" y="1103040"/>
            <a:ext cx="8578800" cy="2925720"/>
            <a:chOff x="396720" y="1103040"/>
            <a:chExt cx="8578800" cy="2925720"/>
          </a:xfrm>
        </p:grpSpPr>
        <p:sp>
          <p:nvSpPr>
            <p:cNvPr id="364" name="PlaceHolder 2"/>
            <p:cNvSpPr>
              <a:spLocks noGrp="1"/>
            </p:cNvSpPr>
            <p:nvPr>
              <p:ph/>
            </p:nvPr>
          </p:nvSpPr>
          <p:spPr>
            <a:xfrm>
              <a:off x="396720" y="110304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65" name="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377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8T01:22:56Z</dcterms:modified>
  <cp:revision>31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