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1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12.jpeg" ContentType="image/jpeg"/>
  <Override PartName="/ppt/media/image18.wmf" ContentType="image/x-wmf"/>
  <Override PartName="/ppt/media/image17.wmf" ContentType="image/x-wmf"/>
  <Override PartName="/ppt/media/image16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4.wmf" ContentType="image/x-wmf"/>
  <Override PartName="/ppt/media/image15.wmf" ContentType="image/x-wmf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F7098AC5-0263-4CF9-A658-D08E53C9012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Brass block in boiling water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Water/washer heat cap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Unburnable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ods in L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ss around rods, ice on blocks, unburnable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ify R_thermal formul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winter, put on more (thicker) layers to stay wa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 minimize surface area (sometimes by cuddling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son to electric RC network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cite block demo – C depends on the size of the block – c divides out the mass/number of parti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 aluminum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 kg of Al has more atoms than a kg of lead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igher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_Al = 900 J/kg-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_Pb = 128 J/kg-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 dropped balls example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opped (lead) balls…dropped 20 x 1 m.  DeltaU=mgh = C deltaT = mc del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taT = mgh/mc = gh/c = 9.8x20/128 = 1.53C = 2.8F (we measured ~2F – some of the thermal energy went into the plastic, sound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ss block and boiling water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to circuits:  I ~ Delta V (large differenc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arge curr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4, p </a:t>
            </a:r>
            <a:fld id="{9E995576-9E68-4B92-8683-641E82E3DDD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200" y="58680"/>
            <a:ext cx="8933040" cy="12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20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 4:</a:t>
            </a:r>
            <a:br>
              <a:rPr sz="2800"/>
            </a:b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Classical Illustrations of Macroscopic Thermal Effects 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86920" y="2044440"/>
            <a:ext cx="6288120" cy="20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t capacity of solids &amp; liqui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mal conduc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270040" y="5376960"/>
            <a:ext cx="264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Reference for Lecture 5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20600" y="5376960"/>
            <a:ext cx="298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References for this Lectu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3,4A-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84240" y="63360"/>
            <a:ext cx="7162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Heat Conduction (2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8040" y="1303200"/>
            <a:ext cx="8292960" cy="34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Heat current dens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J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is the heat flow per unit area through a material.</a:t>
            </a:r>
            <a:br>
              <a:rPr sz="1800"/>
            </a:b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Units: Watts/m</a:t>
            </a:r>
            <a:r>
              <a:rPr b="0" lang="en-US" sz="1800" spc="-1" strike="noStrike" baseline="30000">
                <a:solidFill>
                  <a:srgbClr val="00ff99"/>
                </a:solidFill>
                <a:latin typeface="Arial"/>
                <a:ea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J = 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dT / dx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  <a:ea typeface="Times New Roman"/>
              </a:rPr>
              <a:t>(- sign because heat flows toward cold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hermal conductiv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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is the proportionality constant, a property of the material.</a:t>
            </a:r>
            <a:br>
              <a:rPr sz="1800"/>
            </a:b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Units: Watts/m</a:t>
            </a:r>
            <a:r>
              <a:rPr b="0" lang="en-US" sz="1800" spc="-1" strike="noStrike" baseline="30000">
                <a:solidFill>
                  <a:srgbClr val="00ff99"/>
                </a:solidFill>
                <a:latin typeface="Arial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otal heat curren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H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is the total heat flow through the material.</a:t>
            </a:r>
            <a:br>
              <a:rPr sz="1800"/>
            </a:b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Units: Wat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2840"/>
                <a:tab algn="l" pos="23432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H = J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54280" y="2103480"/>
            <a:ext cx="1811520" cy="515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664000" y="4297320"/>
            <a:ext cx="1144440" cy="479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575080" y="5051520"/>
            <a:ext cx="3852720" cy="1538280"/>
            <a:chOff x="2575080" y="5051520"/>
            <a:chExt cx="3852720" cy="1538280"/>
          </a:xfrm>
        </p:grpSpPr>
        <p:grpSp>
          <p:nvGrpSpPr>
            <p:cNvPr id="121" name=""/>
            <p:cNvGrpSpPr/>
            <p:nvPr/>
          </p:nvGrpSpPr>
          <p:grpSpPr>
            <a:xfrm>
              <a:off x="2575080" y="5051520"/>
              <a:ext cx="3321000" cy="1261440"/>
              <a:chOff x="2575080" y="5051520"/>
              <a:chExt cx="3321000" cy="1261440"/>
            </a:xfrm>
          </p:grpSpPr>
          <p:sp>
            <p:nvSpPr>
              <p:cNvPr id="122" name=""/>
              <p:cNvSpPr/>
              <p:nvPr/>
            </p:nvSpPr>
            <p:spPr>
              <a:xfrm>
                <a:off x="2575080" y="5052960"/>
                <a:ext cx="738360" cy="1260000"/>
              </a:xfrm>
              <a:prstGeom prst="ellipse">
                <a:avLst/>
              </a:prstGeom>
              <a:gradFill rotWithShape="0">
                <a:gsLst>
                  <a:gs pos="0">
                    <a:srgbClr val="00ff99"/>
                  </a:gs>
                  <a:gs pos="50000">
                    <a:srgbClr val="007546"/>
                  </a:gs>
                  <a:gs pos="100000">
                    <a:srgbClr val="00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957760" y="5060880"/>
                <a:ext cx="2573280" cy="1252080"/>
              </a:xfrm>
              <a:prstGeom prst="rect">
                <a:avLst/>
              </a:prstGeom>
              <a:gradFill rotWithShape="0">
                <a:gsLst>
                  <a:gs pos="0">
                    <a:srgbClr val="00ff99"/>
                  </a:gs>
                  <a:gs pos="50000">
                    <a:srgbClr val="007546"/>
                  </a:gs>
                  <a:gs pos="100000">
                    <a:srgbClr val="00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158080" y="5051520"/>
                <a:ext cx="738000" cy="126000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9080">
                <a:solidFill>
                  <a:srgbClr val="00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2698200" y="6302520"/>
              <a:ext cx="41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Ho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283360" y="6313320"/>
              <a:ext cx="49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Col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538960" y="5407200"/>
              <a:ext cx="125280" cy="21240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24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92600" y="5513400"/>
              <a:ext cx="4525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530680" y="5780160"/>
              <a:ext cx="8971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5915160" y="5014800"/>
            <a:ext cx="1320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J is the heat flow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per unit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87680" y="5843520"/>
            <a:ext cx="174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H is the total heat flow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through the whole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3560" y="64800"/>
            <a:ext cx="86979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ypical Problem in Heat Conduction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311120" y="4019400"/>
          <a:ext cx="3114720" cy="198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1120" y="4019400"/>
                    <a:ext cx="3114720" cy="19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5423040" y="4035600"/>
            <a:ext cx="3539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rmal resistance is defined to make the similarity to electrical current  flow (Ohm’s Law) clear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5849280" y="4900320"/>
            <a:ext cx="2566080" cy="1306440"/>
            <a:chOff x="5849280" y="4900320"/>
            <a:chExt cx="2566080" cy="1306440"/>
          </a:xfrm>
        </p:grpSpPr>
        <p:graphicFrame>
          <p:nvGraphicFramePr>
            <p:cNvPr id="137" name=""/>
            <p:cNvGraphicFramePr/>
            <p:nvPr/>
          </p:nvGraphicFramePr>
          <p:xfrm>
            <a:off x="5875200" y="5616720"/>
            <a:ext cx="682920" cy="511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875200" y="5616720"/>
                      <a:ext cx="682920" cy="51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39" name=""/>
            <p:cNvGrpSpPr/>
            <p:nvPr/>
          </p:nvGrpSpPr>
          <p:grpSpPr>
            <a:xfrm>
              <a:off x="5849280" y="4900320"/>
              <a:ext cx="2127960" cy="673920"/>
              <a:chOff x="5849280" y="4900320"/>
              <a:chExt cx="2127960" cy="67392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6446880" y="5031000"/>
                <a:ext cx="1530360" cy="263520"/>
                <a:chOff x="6446880" y="5031000"/>
                <a:chExt cx="1530360" cy="26352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6446880" y="5173920"/>
                  <a:ext cx="546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V="1">
                  <a:off x="7000920" y="5045040"/>
                  <a:ext cx="65160" cy="128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flipV="1">
                  <a:off x="7375320" y="5057640"/>
                  <a:ext cx="65160" cy="128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075800" y="5045400"/>
                  <a:ext cx="36360" cy="249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7180560" y="5040360"/>
                  <a:ext cx="36360" cy="2494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H="1">
                  <a:off x="7126200" y="5031000"/>
                  <a:ext cx="36360" cy="249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7227720" y="5045400"/>
                  <a:ext cx="36360" cy="249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H="1">
                  <a:off x="7323120" y="5040360"/>
                  <a:ext cx="36360" cy="2494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269480" y="5031000"/>
                  <a:ext cx="36360" cy="249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431120" y="5169240"/>
                  <a:ext cx="546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1" name=""/>
              <p:cNvSpPr/>
              <p:nvPr/>
            </p:nvSpPr>
            <p:spPr>
              <a:xfrm>
                <a:off x="6353280" y="5072400"/>
                <a:ext cx="379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849280" y="4900320"/>
                <a:ext cx="81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I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783480" y="5236920"/>
                <a:ext cx="888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6630840" y="5592600"/>
              <a:ext cx="178452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      </a:t>
              </a:r>
              <a:r>
                <a:rPr b="0" lang="en-US" sz="16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V = V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1 </a:t>
              </a: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- V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= voltage dro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1828800" y="2473200"/>
            <a:ext cx="1855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terial with thermal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nductivity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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064120" y="847800"/>
            <a:ext cx="1552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s side is at T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051440" y="1943640"/>
            <a:ext cx="8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rea 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611520" y="933480"/>
            <a:ext cx="1487520" cy="2197080"/>
            <a:chOff x="3611520" y="933480"/>
            <a:chExt cx="1487520" cy="2197080"/>
          </a:xfrm>
        </p:grpSpPr>
        <p:sp>
          <p:nvSpPr>
            <p:cNvPr id="159" name=""/>
            <p:cNvSpPr/>
            <p:nvPr/>
          </p:nvSpPr>
          <p:spPr>
            <a:xfrm flipV="1" rot="5400000">
              <a:off x="3135960" y="1409400"/>
              <a:ext cx="2194200" cy="1243080"/>
            </a:xfrm>
            <a:prstGeom prst="parallelogram">
              <a:avLst>
                <a:gd name="adj" fmla="val 65277"/>
              </a:avLst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 rot="5400000">
              <a:off x="3377160" y="1411920"/>
              <a:ext cx="2193840" cy="1243080"/>
            </a:xfrm>
            <a:prstGeom prst="parallelogram">
              <a:avLst>
                <a:gd name="adj" fmla="val 65266"/>
              </a:avLst>
            </a:prstGeom>
            <a:blipFill rotWithShape="0">
              <a:blip r:embed="rId5">
                <a:alphaModFix amt="18000"/>
              </a:blip>
              <a:srcRect/>
              <a:tile tx="0" ty="0" sx="100000" sy="100000" algn="ctr"/>
            </a:blip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13320" y="1757520"/>
              <a:ext cx="2300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865760" y="933480"/>
              <a:ext cx="2300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69000" y="2311560"/>
              <a:ext cx="2300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18000" y="3121200"/>
              <a:ext cx="2300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3127320" y="847800"/>
            <a:ext cx="1552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s side is at T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62320" y="315180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ckness 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256360" y="3932280"/>
            <a:ext cx="3381120" cy="24336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57240"/>
            <a:ext cx="9144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xercise: Heat Loss Through Window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3840" y="1243080"/>
            <a:ext cx="628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If it’s 22°C inside, and 0°C outsid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at is the heat flow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through a glass window of area 0.3 m</a:t>
            </a:r>
            <a:r>
              <a:rPr b="0" lang="en-US" sz="2000" spc="-1" strike="noStrike" baseline="30000">
                <a:solidFill>
                  <a:srgbClr val="00ff99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and thickness 0.5 cm 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 thermal conductivity of glass is about 1 W/m</a:t>
            </a:r>
            <a:r>
              <a:rPr b="0" lang="en-US" sz="2000" spc="-1" strike="noStrike" baseline="30000">
                <a:solidFill>
                  <a:srgbClr val="00ff99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K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7048440" y="1341360"/>
            <a:ext cx="1371600" cy="1371600"/>
            <a:chOff x="7048440" y="1341360"/>
            <a:chExt cx="1371600" cy="1371600"/>
          </a:xfrm>
        </p:grpSpPr>
        <p:sp>
          <p:nvSpPr>
            <p:cNvPr id="173" name=""/>
            <p:cNvSpPr/>
            <p:nvPr/>
          </p:nvSpPr>
          <p:spPr>
            <a:xfrm>
              <a:off x="7048440" y="1341360"/>
              <a:ext cx="1371600" cy="1371600"/>
            </a:xfrm>
            <a:prstGeom prst="rect">
              <a:avLst/>
            </a:prstGeom>
            <a:noFill/>
            <a:ln w="5724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124760" y="1417320"/>
              <a:ext cx="1218960" cy="1219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734240" y="1417320"/>
              <a:ext cx="0" cy="1219320"/>
            </a:xfrm>
            <a:prstGeom prst="line">
              <a:avLst/>
            </a:prstGeom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124760" y="2027160"/>
              <a:ext cx="1218960" cy="0"/>
            </a:xfrm>
            <a:prstGeom prst="line">
              <a:avLst/>
            </a:prstGeom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982800" y="65160"/>
            <a:ext cx="7165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7246800" y="1224000"/>
            <a:ext cx="1371600" cy="1371600"/>
            <a:chOff x="7246800" y="1224000"/>
            <a:chExt cx="1371600" cy="1371600"/>
          </a:xfrm>
        </p:grpSpPr>
        <p:sp>
          <p:nvSpPr>
            <p:cNvPr id="179" name=""/>
            <p:cNvSpPr/>
            <p:nvPr/>
          </p:nvSpPr>
          <p:spPr>
            <a:xfrm>
              <a:off x="7246800" y="1224000"/>
              <a:ext cx="1371600" cy="1371600"/>
            </a:xfrm>
            <a:prstGeom prst="rect">
              <a:avLst/>
            </a:prstGeom>
            <a:noFill/>
            <a:ln w="5724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323120" y="1299960"/>
              <a:ext cx="1218960" cy="1219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932600" y="1299960"/>
              <a:ext cx="0" cy="1219320"/>
            </a:xfrm>
            <a:prstGeom prst="line">
              <a:avLst/>
            </a:prstGeom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23120" y="1909800"/>
              <a:ext cx="1218960" cy="0"/>
            </a:xfrm>
            <a:prstGeom prst="line">
              <a:avLst/>
            </a:prstGeom>
            <a:ln w="381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407880" y="1222200"/>
            <a:ext cx="821844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How much heat is lost through a double-pane version 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of that window, with a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.5-cm air gap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? 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 thermal conductivity of air is about 0.03 W/(m K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nt:  Ignore the glass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, which has a much higher conductivity than air.  </a:t>
            </a:r>
            <a:br>
              <a:rPr sz="1600"/>
            </a:b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H is limited by the high resistance air gap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 20 W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 40 W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 1320 W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d)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 44,000 W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0880" y="56880"/>
            <a:ext cx="883116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rmal conductivities (</a:t>
            </a:r>
            <a:r>
              <a:rPr b="0" lang="en-US" sz="4000" spc="-1" strike="noStrike">
                <a:solidFill>
                  <a:srgbClr val="ff7c80"/>
                </a:solidFill>
                <a:latin typeface="Symbol"/>
                <a:ea typeface="Symbol"/>
              </a:rPr>
              <a:t>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at 300 K):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90720" y="1163520"/>
            <a:ext cx="71625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i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.03 W/m-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o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.1 W/m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lass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 W/m-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uminu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40 W/m-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pp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00 W/m-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How small can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be ??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eroge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8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/m-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’s aeroge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368160" y="57240"/>
            <a:ext cx="239724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erogel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84280" y="2664000"/>
            <a:ext cx="3612600" cy="3791160"/>
            <a:chOff x="584280" y="2664000"/>
            <a:chExt cx="3612600" cy="3791160"/>
          </a:xfrm>
        </p:grpSpPr>
        <p:pic>
          <p:nvPicPr>
            <p:cNvPr id="190" name="" descr=""/>
            <p:cNvPicPr/>
            <p:nvPr/>
          </p:nvPicPr>
          <p:blipFill>
            <a:blip r:embed="rId1"/>
            <a:stretch/>
          </p:blipFill>
          <p:spPr>
            <a:xfrm>
              <a:off x="815760" y="2664000"/>
              <a:ext cx="3381120" cy="338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 flipV="1">
              <a:off x="1353960" y="3910320"/>
              <a:ext cx="1261800" cy="217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flipV="1">
              <a:off x="2714400" y="5557680"/>
              <a:ext cx="1440" cy="46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84280" y="6086880"/>
              <a:ext cx="156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5 kg bric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427120" y="6061320"/>
              <a:ext cx="161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 g aerog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5156280" y="2695680"/>
            <a:ext cx="2743200" cy="4016160"/>
            <a:chOff x="5156280" y="2695680"/>
            <a:chExt cx="2743200" cy="4016160"/>
          </a:xfrm>
        </p:grpSpPr>
        <p:pic>
          <p:nvPicPr>
            <p:cNvPr id="196" name="" descr=""/>
            <p:cNvPicPr/>
            <p:nvPr/>
          </p:nvPicPr>
          <p:blipFill>
            <a:blip r:embed="rId2"/>
            <a:stretch/>
          </p:blipFill>
          <p:spPr>
            <a:xfrm>
              <a:off x="5156280" y="2695680"/>
              <a:ext cx="274320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5462280" y="6343560"/>
              <a:ext cx="207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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= 8 x 10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-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/m-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771480" y="961920"/>
            <a:ext cx="7647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An artificial substance formed by specially drying a wet silica gel, resulting in a solid mesh of microscopic strand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Used on space missions to catch comet dus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e least dense solid material known (</a:t>
            </a:r>
            <a:r>
              <a:rPr b="0" lang="en-US" sz="1800" spc="-1" strike="noStrike">
                <a:solidFill>
                  <a:srgbClr val="00ff99"/>
                </a:solidFill>
                <a:latin typeface="Symbol"/>
                <a:ea typeface="Symbol"/>
              </a:rPr>
              <a:t>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= 1.9 mg/cm</a:t>
            </a:r>
            <a:r>
              <a:rPr b="0" lang="en-US" sz="1800" spc="-1" strike="noStrike" baseline="30000">
                <a:solidFill>
                  <a:srgbClr val="00ff99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ff99"/>
                </a:solidFill>
                <a:latin typeface="Symbol"/>
                <a:ea typeface="Symbol"/>
              </a:rPr>
              <a:t></a:t>
            </a:r>
            <a:r>
              <a:rPr b="0" lang="en-US" sz="1800" spc="-1" strike="noStrike" baseline="-25000">
                <a:solidFill>
                  <a:srgbClr val="00ff99"/>
                </a:solidFill>
                <a:latin typeface="Arial"/>
              </a:rPr>
              <a:t>air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= 1.2 mg/cm</a:t>
            </a:r>
            <a:r>
              <a:rPr b="0" lang="en-US" sz="1800" spc="-1" strike="noStrike" baseline="30000">
                <a:solidFill>
                  <a:srgbClr val="00ff99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).</a:t>
            </a:r>
            <a:br>
              <a:rPr sz="1800"/>
            </a:b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98% porous, but nevertheless, quite rigi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6960" y="57240"/>
            <a:ext cx="8848440" cy="63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How Long Does Heat Conduction Take?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31800" y="3732120"/>
            <a:ext cx="7756560" cy="28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 heat current </a:t>
            </a:r>
            <a:r>
              <a:rPr b="0" i="1" lang="en-US" sz="2000" spc="-1" strike="noStrike">
                <a:solidFill>
                  <a:srgbClr val="00ff99"/>
                </a:solidFill>
                <a:latin typeface="Arial"/>
              </a:rPr>
              <a:t>H 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depends on the temperature difference between the two samples, and the thermal resistance: R</a:t>
            </a:r>
            <a:r>
              <a:rPr b="0" lang="en-US" sz="2000" spc="-1" strike="noStrike" baseline="-25000">
                <a:solidFill>
                  <a:srgbClr val="00ff99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= d/A</a:t>
            </a:r>
            <a:r>
              <a:rPr b="0" lang="en-US" sz="2000" spc="-1" strike="noStrike">
                <a:solidFill>
                  <a:srgbClr val="00ff99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Assume that all the heat leaving A enters B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 temperature of the samples depends on their initial temperatures, the amount of heat flowing into (out of) them, and their heat capaciti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general, the time to reach thermal equilibrium is a nontrivial problem (Friday...), but we can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stima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 time it will tak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043000" y="1135080"/>
            <a:ext cx="4932360" cy="2122560"/>
            <a:chOff x="2043000" y="1135080"/>
            <a:chExt cx="4932360" cy="2122560"/>
          </a:xfrm>
        </p:grpSpPr>
        <p:sp>
          <p:nvSpPr>
            <p:cNvPr id="204" name=""/>
            <p:cNvSpPr/>
            <p:nvPr/>
          </p:nvSpPr>
          <p:spPr>
            <a:xfrm>
              <a:off x="2043000" y="1135080"/>
              <a:ext cx="4932360" cy="21225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05" name=""/>
            <p:cNvGraphicFramePr/>
            <p:nvPr/>
          </p:nvGraphicFramePr>
          <p:xfrm>
            <a:off x="2265120" y="1328760"/>
            <a:ext cx="4363920" cy="1663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65120" y="1328760"/>
                      <a:ext cx="4363920" cy="166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7" name=""/>
            <p:cNvSpPr/>
            <p:nvPr/>
          </p:nvSpPr>
          <p:spPr>
            <a:xfrm>
              <a:off x="4291920" y="1681200"/>
              <a:ext cx="424440" cy="370800"/>
            </a:xfrm>
            <a:prstGeom prst="rect">
              <a:avLst/>
            </a:pr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40"/>
                  </a:solidFill>
                  <a:latin typeface="Arial"/>
                  <a:ea typeface="Times New Roman"/>
                </a:rPr>
                <a:t>R</a:t>
              </a:r>
              <a:r>
                <a:rPr b="0" lang="en-US" sz="1600" spc="-1" strike="noStrike" baseline="-25000">
                  <a:solidFill>
                    <a:srgbClr val="000040"/>
                  </a:solidFill>
                  <a:latin typeface="Arial"/>
                  <a:ea typeface="Times New Roman"/>
                </a:rPr>
                <a:t>t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96960" y="57240"/>
            <a:ext cx="775008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How Long to Equilibrate a Rod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12560" y="2165040"/>
            <a:ext cx="873108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rate at which heat flows from hot to cold is about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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H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 / 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heat capacity is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 =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m = c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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ol) = c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(dA)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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den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 the rate at which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 is reduced is abou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lternatively, the typical distance that the thermal energy has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diffuse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varies with the square root of the time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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. This fact is a result of the random nature of heat flow, which we’ll discuss more next lectu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241280" y="955800"/>
            <a:ext cx="5962680" cy="838080"/>
            <a:chOff x="1241280" y="955800"/>
            <a:chExt cx="5962680" cy="838080"/>
          </a:xfrm>
        </p:grpSpPr>
        <p:sp>
          <p:nvSpPr>
            <p:cNvPr id="211" name=""/>
            <p:cNvSpPr/>
            <p:nvPr/>
          </p:nvSpPr>
          <p:spPr>
            <a:xfrm flipV="1">
              <a:off x="2017800" y="969120"/>
              <a:ext cx="5170320" cy="150840"/>
            </a:xfrm>
            <a:prstGeom prst="parallelogram">
              <a:avLst>
                <a:gd name="adj" fmla="val 302937"/>
              </a:avLst>
            </a:prstGeom>
            <a:solidFill>
              <a:srgbClr val="cc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519280" y="1123920"/>
              <a:ext cx="4684680" cy="658800"/>
            </a:xfrm>
            <a:prstGeom prst="rect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159800" y="1293840"/>
              <a:ext cx="108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ength 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5400000">
              <a:off x="1845000" y="1124640"/>
              <a:ext cx="838080" cy="500040"/>
            </a:xfrm>
            <a:prstGeom prst="parallelogram">
              <a:avLst>
                <a:gd name="adj" fmla="val 33575"/>
              </a:avLst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241280" y="114300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rea  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791760" y="121464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643120" y="1206720"/>
              <a:ext cx="118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+</a:t>
              </a:r>
              <a:r>
                <a:rPr b="0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558880" y="1251000"/>
              <a:ext cx="459612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19" name=""/>
          <p:cNvGraphicFramePr/>
          <p:nvPr/>
        </p:nvGraphicFramePr>
        <p:xfrm>
          <a:off x="150840" y="3773520"/>
          <a:ext cx="860904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840" y="3773520"/>
                    <a:ext cx="860904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81000" y="61920"/>
            <a:ext cx="712008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ast time: Heat capacit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742000" y="3789360"/>
          <a:ext cx="1065240" cy="78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42000" y="3789360"/>
                    <a:ext cx="106524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595440" y="1146240"/>
            <a:ext cx="8021520" cy="53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ember the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aw of Thermodynamic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Q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 + W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Arial"/>
              </a:rPr>
              <a:t>b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(conservation of energy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If we add heat to a system, it can do two thing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Raise the temperature (internal energy increases)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Do mechanical work (</a:t>
            </a:r>
            <a:r>
              <a:rPr b="0" i="1" lang="en-US" sz="1800" spc="-1" strike="noStrike">
                <a:solidFill>
                  <a:srgbClr val="00ff99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, expanding ga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much does the temperature ris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fine heat capacity to be the amount of heat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quired to raise the temperature by 1 K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Arial"/>
              </a:rPr>
              <a:t>The heat capacity is proportional to the amount of materi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Arial"/>
              </a:rPr>
              <a:t>It can be measured either at constant volume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V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Arial"/>
              </a:rPr>
              <a:t>) or constant pressure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Arial"/>
              </a:rPr>
              <a:t>). 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Arial"/>
              </a:rPr>
              <a:t>It depends on the material, and may also be a function of temperatur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22440" y="3776760"/>
            <a:ext cx="6316560" cy="830160"/>
            <a:chOff x="622440" y="3776760"/>
            <a:chExt cx="6316560" cy="830160"/>
          </a:xfrm>
        </p:grpSpPr>
        <p:sp>
          <p:nvSpPr>
            <p:cNvPr id="53" name=""/>
            <p:cNvSpPr/>
            <p:nvPr/>
          </p:nvSpPr>
          <p:spPr>
            <a:xfrm>
              <a:off x="622440" y="3776760"/>
              <a:ext cx="6316560" cy="826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3778200"/>
              <a:ext cx="0" cy="828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512640" y="1141560"/>
            <a:ext cx="81248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You are cooking with two pots that have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e volume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. Pot B has half the height, but twice the area as Pot A.  Initially the pots are both full of boiling water (e.g., 100 </a:t>
            </a:r>
            <a:r>
              <a:rPr b="0" lang="en-US" sz="2000" spc="-1" strike="noStrike">
                <a:solidFill>
                  <a:srgbClr val="00ff99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C).  You set them each on the bottom of your metal sink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cools faster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Pot 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Pot 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They cool at same r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79680" y="63360"/>
            <a:ext cx="597852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3: Cooling po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90720" y="33670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4221000" y="2627280"/>
            <a:ext cx="4000680" cy="1219320"/>
            <a:chOff x="4221000" y="2627280"/>
            <a:chExt cx="4000680" cy="1219320"/>
          </a:xfrm>
        </p:grpSpPr>
        <p:sp>
          <p:nvSpPr>
            <p:cNvPr id="227" name=""/>
            <p:cNvSpPr/>
            <p:nvPr/>
          </p:nvSpPr>
          <p:spPr>
            <a:xfrm rot="16200000">
              <a:off x="6374520" y="2773800"/>
              <a:ext cx="522360" cy="1028520"/>
            </a:xfrm>
            <a:prstGeom prst="rect">
              <a:avLst/>
            </a:prstGeom>
            <a:solidFill>
              <a:srgbClr val="c0c0c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221000" y="3584520"/>
              <a:ext cx="4000680" cy="26208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799160" y="2627280"/>
              <a:ext cx="522000" cy="914400"/>
            </a:xfrm>
            <a:prstGeom prst="rect">
              <a:avLst/>
            </a:prstGeom>
            <a:solidFill>
              <a:srgbClr val="c0c0c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890960" y="2932200"/>
              <a:ext cx="37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4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397560" y="3100320"/>
              <a:ext cx="37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3487680"/>
            <a:ext cx="8296200" cy="30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t “into” A: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uess solution: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(t)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(t=0) e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-t/</a:t>
            </a:r>
            <a:r>
              <a:rPr b="0" lang="en-US" sz="2000" spc="-1" strike="noStrike" baseline="30000">
                <a:solidFill>
                  <a:srgbClr val="fafd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  or   T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t) = T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+ (T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A0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– T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-t/</a:t>
            </a:r>
            <a:r>
              <a:rPr b="0" lang="en-US" sz="2000" spc="-1" strike="noStrike" baseline="30000">
                <a:solidFill>
                  <a:srgbClr val="fafd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ug into above DiffEQ: 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R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(like a discharging capacitor!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40960" y="2631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Comic Sans MS"/>
              </a:rPr>
              <a:t>Heat conduction – How long does it take?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" y="1209600"/>
            <a:ext cx="77565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simplicity we assume that system B is really big (a “thermal reservoir”), so that it’s temperature is always 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6889680" y="2487600"/>
          <a:ext cx="1981440" cy="68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9680" y="2487600"/>
                    <a:ext cx="198144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966960" y="3567240"/>
          <a:ext cx="7957800" cy="87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66960" y="3567240"/>
                    <a:ext cx="795780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"/>
          <p:cNvSpPr/>
          <p:nvPr/>
        </p:nvSpPr>
        <p:spPr>
          <a:xfrm>
            <a:off x="1273320" y="2195640"/>
            <a:ext cx="750600" cy="53820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004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(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58920" y="2766960"/>
            <a:ext cx="2498760" cy="424080"/>
          </a:xfrm>
          <a:prstGeom prst="rect">
            <a:avLst/>
          </a:prstGeom>
          <a:solidFill>
            <a:srgbClr val="ff00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163520" y="2724120"/>
            <a:ext cx="7509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3216240" y="1755360"/>
            <a:ext cx="4997160" cy="1514880"/>
            <a:chOff x="3216240" y="1755360"/>
            <a:chExt cx="4997160" cy="1514880"/>
          </a:xfrm>
        </p:grpSpPr>
        <p:sp>
          <p:nvSpPr>
            <p:cNvPr id="245" name=""/>
            <p:cNvSpPr/>
            <p:nvPr/>
          </p:nvSpPr>
          <p:spPr>
            <a:xfrm>
              <a:off x="4179960" y="3257640"/>
              <a:ext cx="2678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4195800" y="2129040"/>
              <a:ext cx="0" cy="114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151160" y="2006640"/>
              <a:ext cx="255276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(t) = T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B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+ 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T(t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216240" y="2357640"/>
              <a:ext cx="979560" cy="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 flipV="1">
              <a:off x="4197240" y="1755000"/>
              <a:ext cx="4016160" cy="120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371760" y="2256120"/>
              <a:ext cx="750960" cy="53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A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072120" y="2686320"/>
              <a:ext cx="750960" cy="53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r>
                <a:rPr b="1" lang="en-US" sz="2000" spc="-1" strike="noStrike" baseline="-25000">
                  <a:solidFill>
                    <a:srgbClr val="fafd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52" name=""/>
          <p:cNvGraphicFramePr/>
          <p:nvPr/>
        </p:nvGraphicFramePr>
        <p:xfrm>
          <a:off x="1278000" y="4410000"/>
          <a:ext cx="2617560" cy="874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78000" y="4410000"/>
                    <a:ext cx="261756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4" name=""/>
          <p:cNvGrpSpPr/>
          <p:nvPr/>
        </p:nvGrpSpPr>
        <p:grpSpPr>
          <a:xfrm>
            <a:off x="3998880" y="3506760"/>
            <a:ext cx="4970520" cy="1401840"/>
            <a:chOff x="3998880" y="3506760"/>
            <a:chExt cx="4970520" cy="1401840"/>
          </a:xfrm>
        </p:grpSpPr>
        <p:sp>
          <p:nvSpPr>
            <p:cNvPr id="255" name=""/>
            <p:cNvSpPr/>
            <p:nvPr/>
          </p:nvSpPr>
          <p:spPr>
            <a:xfrm>
              <a:off x="4230720" y="3559320"/>
              <a:ext cx="1241280" cy="874800"/>
            </a:xfrm>
            <a:prstGeom prst="roundRect">
              <a:avLst>
                <a:gd name="adj" fmla="val 16667"/>
              </a:avLst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250040" y="3506760"/>
              <a:ext cx="1719360" cy="1121040"/>
            </a:xfrm>
            <a:prstGeom prst="roundRect">
              <a:avLst>
                <a:gd name="adj" fmla="val 16667"/>
              </a:avLst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98880" y="4434120"/>
              <a:ext cx="750960" cy="453960"/>
            </a:xfrm>
            <a:custGeom>
              <a:avLst/>
              <a:gdLst/>
              <a:ahLst/>
              <a:rect l="l" t="t" r="r" b="b"/>
              <a:pathLst>
                <a:path w="473" h="286">
                  <a:moveTo>
                    <a:pt x="473" y="0"/>
                  </a:moveTo>
                  <a:cubicBezTo>
                    <a:pt x="465" y="97"/>
                    <a:pt x="457" y="194"/>
                    <a:pt x="378" y="240"/>
                  </a:cubicBezTo>
                  <a:cubicBezTo>
                    <a:pt x="299" y="286"/>
                    <a:pt x="149" y="280"/>
                    <a:pt x="0" y="275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245120" y="4542120"/>
              <a:ext cx="2987640" cy="366480"/>
            </a:xfrm>
            <a:custGeom>
              <a:avLst/>
              <a:gdLst/>
              <a:ahLst/>
              <a:rect l="l" t="t" r="r" b="b"/>
              <a:pathLst>
                <a:path w="1882" h="231">
                  <a:moveTo>
                    <a:pt x="0" y="215"/>
                  </a:moveTo>
                  <a:cubicBezTo>
                    <a:pt x="333" y="223"/>
                    <a:pt x="667" y="231"/>
                    <a:pt x="928" y="215"/>
                  </a:cubicBezTo>
                  <a:cubicBezTo>
                    <a:pt x="1189" y="199"/>
                    <a:pt x="1405" y="157"/>
                    <a:pt x="1564" y="121"/>
                  </a:cubicBezTo>
                  <a:cubicBezTo>
                    <a:pt x="1723" y="85"/>
                    <a:pt x="1802" y="42"/>
                    <a:pt x="1882" y="0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79560" y="61560"/>
            <a:ext cx="716256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4: Exponential Cool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72840" y="1010880"/>
            <a:ext cx="831204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 hot steel bearing (at T = 200 C) is dropped into a large vat of          cold water at 10 C.  Compare the time it takes the bearing to cool      from 200 to 190 C to the time it takes to cool from 100 to 90 C.(Assume the specific heat of steel is ~constant over this temperature range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90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90C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90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90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90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00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90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490320" y="1565280"/>
            <a:ext cx="8321400" cy="423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is it that random motion can give heat flow in a particular direc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mal energy randomly diffuses around, spreading out.  However, the heat flow out of a region is proportional to the amount of energy that is there at that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ook at region 2.  More heat will randomly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iffuse in from a high T region than from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ow T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J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J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3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there will be a net flow of heat in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irection of decreasing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1-D the heat current density is: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r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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s the thermal conductivity, a property of the materi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title"/>
          </p:nvPr>
        </p:nvSpPr>
        <p:spPr>
          <a:xfrm>
            <a:off x="789120" y="63000"/>
            <a:ext cx="7572240" cy="7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YI: Thermal Diffusion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nd Heat Conduc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5460840" y="3087720"/>
            <a:ext cx="3211560" cy="1861920"/>
            <a:chOff x="5460840" y="3087720"/>
            <a:chExt cx="3211560" cy="1861920"/>
          </a:xfrm>
        </p:grpSpPr>
        <p:sp>
          <p:nvSpPr>
            <p:cNvPr id="266" name=""/>
            <p:cNvSpPr/>
            <p:nvPr/>
          </p:nvSpPr>
          <p:spPr>
            <a:xfrm>
              <a:off x="8372520" y="4641840"/>
              <a:ext cx="2998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045120" y="3338640"/>
              <a:ext cx="1984320" cy="12063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60840" y="3087720"/>
              <a:ext cx="328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753160" y="4627440"/>
              <a:ext cx="2851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5759280" y="3186000"/>
              <a:ext cx="0" cy="144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71" name=""/>
          <p:cNvGraphicFramePr/>
          <p:nvPr/>
        </p:nvGraphicFramePr>
        <p:xfrm>
          <a:off x="1860480" y="5124600"/>
          <a:ext cx="1341360" cy="66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0480" y="5124600"/>
                    <a:ext cx="1341360" cy="6602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73" name=""/>
          <p:cNvSpPr/>
          <p:nvPr/>
        </p:nvSpPr>
        <p:spPr>
          <a:xfrm>
            <a:off x="6515280" y="3314880"/>
            <a:ext cx="0" cy="13096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010280" y="3314880"/>
            <a:ext cx="0" cy="13096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132600" y="310212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       2     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5995800" y="4130640"/>
            <a:ext cx="700200" cy="443160"/>
            <a:chOff x="5995800" y="4130640"/>
            <a:chExt cx="700200" cy="443160"/>
          </a:xfrm>
        </p:grpSpPr>
        <p:sp>
          <p:nvSpPr>
            <p:cNvPr id="277" name=""/>
            <p:cNvSpPr/>
            <p:nvPr/>
          </p:nvSpPr>
          <p:spPr>
            <a:xfrm>
              <a:off x="6276960" y="4257720"/>
              <a:ext cx="419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6338520" y="4448160"/>
              <a:ext cx="2905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995800" y="4130640"/>
              <a:ext cx="3272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J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003720" y="4306680"/>
              <a:ext cx="3272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J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6791400" y="4130640"/>
            <a:ext cx="691920" cy="443520"/>
            <a:chOff x="6791400" y="4130640"/>
            <a:chExt cx="691920" cy="443520"/>
          </a:xfrm>
        </p:grpSpPr>
        <p:sp>
          <p:nvSpPr>
            <p:cNvPr id="282" name=""/>
            <p:cNvSpPr/>
            <p:nvPr/>
          </p:nvSpPr>
          <p:spPr>
            <a:xfrm>
              <a:off x="6791400" y="4257720"/>
              <a:ext cx="419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6852600" y="4448160"/>
              <a:ext cx="2905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148160" y="4130640"/>
              <a:ext cx="3272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J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23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56080" y="4307040"/>
              <a:ext cx="3272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J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3273480" y="66600"/>
            <a:ext cx="261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ＭＳ Ｐゴシック"/>
              </a:rPr>
              <a:t>Next Tim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Rectangle 2"/>
          <p:cNvSpPr/>
          <p:nvPr/>
        </p:nvSpPr>
        <p:spPr>
          <a:xfrm>
            <a:off x="2198520" y="2133720"/>
            <a:ext cx="4897440" cy="27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andom Walk and Particle Diffu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unting and Proba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icrostates and Macrosta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he meaning of equilibrium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6600" y="65160"/>
            <a:ext cx="842328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Heat Capacity of a Solid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11720" y="1146240"/>
            <a:ext cx="7490160" cy="50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e atoms in a solid behave like little balls </a:t>
            </a:r>
            <a:br>
              <a:rPr sz="1800"/>
            </a:b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connected by springs.  Here’s one ato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It has x, y, and z springs as well as x, y, and z mo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If T is not too low, the equipartition theorem applies, an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ach kinetic and potential term contributes ½ kT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to the internal energ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U = 3(½ kT) + 3(½ kT) = 3k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erefore, a solid with N atoms has this heat capacit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 = 3Nk = 3n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Note: For solids (and most liquids), the volume doesn’t change much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s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~ 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(no work is don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e temperature dependence of C is usually much larger in solids 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liquids than in gases </a:t>
            </a:r>
            <a:r>
              <a:rPr b="0" lang="en-US" sz="1600" spc="-1" strike="noStrike">
                <a:solidFill>
                  <a:srgbClr val="00ff99"/>
                </a:solidFill>
                <a:latin typeface="Arial"/>
              </a:rPr>
              <a:t>(because the forces between atoms are more important)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7296120" y="708120"/>
            <a:ext cx="1428480" cy="1414440"/>
            <a:chOff x="7296120" y="708120"/>
            <a:chExt cx="1428480" cy="1414440"/>
          </a:xfrm>
        </p:grpSpPr>
        <p:sp>
          <p:nvSpPr>
            <p:cNvPr id="58" name=""/>
            <p:cNvSpPr/>
            <p:nvPr/>
          </p:nvSpPr>
          <p:spPr>
            <a:xfrm>
              <a:off x="7862760" y="1600200"/>
              <a:ext cx="401760" cy="85680"/>
            </a:xfrm>
            <a:custGeom>
              <a:avLst/>
              <a:gdLst/>
              <a:ahLst/>
              <a:rect l="l" t="t" r="r" b="b"/>
              <a:pathLst>
                <a:path w="334" h="373">
                  <a:moveTo>
                    <a:pt x="0" y="154"/>
                  </a:moveTo>
                  <a:cubicBezTo>
                    <a:pt x="20" y="77"/>
                    <a:pt x="41" y="1"/>
                    <a:pt x="61" y="33"/>
                  </a:cubicBezTo>
                  <a:cubicBezTo>
                    <a:pt x="81" y="65"/>
                    <a:pt x="97" y="351"/>
                    <a:pt x="122" y="346"/>
                  </a:cubicBezTo>
                  <a:cubicBezTo>
                    <a:pt x="147" y="341"/>
                    <a:pt x="186" y="0"/>
                    <a:pt x="213" y="2"/>
                  </a:cubicBezTo>
                  <a:cubicBezTo>
                    <a:pt x="240" y="4"/>
                    <a:pt x="263" y="339"/>
                    <a:pt x="283" y="356"/>
                  </a:cubicBezTo>
                  <a:cubicBezTo>
                    <a:pt x="303" y="373"/>
                    <a:pt x="324" y="143"/>
                    <a:pt x="334" y="10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9960" bIns="39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296120" y="1581120"/>
              <a:ext cx="401400" cy="81000"/>
            </a:xfrm>
            <a:custGeom>
              <a:avLst/>
              <a:gdLst/>
              <a:ahLst/>
              <a:rect l="l" t="t" r="r" b="b"/>
              <a:pathLst>
                <a:path w="334" h="373">
                  <a:moveTo>
                    <a:pt x="0" y="154"/>
                  </a:moveTo>
                  <a:cubicBezTo>
                    <a:pt x="20" y="77"/>
                    <a:pt x="41" y="1"/>
                    <a:pt x="61" y="33"/>
                  </a:cubicBezTo>
                  <a:cubicBezTo>
                    <a:pt x="81" y="65"/>
                    <a:pt x="97" y="351"/>
                    <a:pt x="122" y="346"/>
                  </a:cubicBezTo>
                  <a:cubicBezTo>
                    <a:pt x="147" y="341"/>
                    <a:pt x="186" y="0"/>
                    <a:pt x="213" y="2"/>
                  </a:cubicBezTo>
                  <a:cubicBezTo>
                    <a:pt x="240" y="4"/>
                    <a:pt x="263" y="339"/>
                    <a:pt x="283" y="356"/>
                  </a:cubicBezTo>
                  <a:cubicBezTo>
                    <a:pt x="303" y="373"/>
                    <a:pt x="324" y="143"/>
                    <a:pt x="334" y="10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5280" bIns="35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rot="19227600">
              <a:off x="7792920" y="1415880"/>
              <a:ext cx="401760" cy="75960"/>
            </a:xfrm>
            <a:custGeom>
              <a:avLst/>
              <a:gdLst/>
              <a:ahLst/>
              <a:rect l="l" t="t" r="r" b="b"/>
              <a:pathLst>
                <a:path w="334" h="373">
                  <a:moveTo>
                    <a:pt x="0" y="154"/>
                  </a:moveTo>
                  <a:cubicBezTo>
                    <a:pt x="20" y="77"/>
                    <a:pt x="41" y="1"/>
                    <a:pt x="61" y="33"/>
                  </a:cubicBezTo>
                  <a:cubicBezTo>
                    <a:pt x="81" y="65"/>
                    <a:pt x="97" y="351"/>
                    <a:pt x="122" y="346"/>
                  </a:cubicBezTo>
                  <a:cubicBezTo>
                    <a:pt x="147" y="341"/>
                    <a:pt x="186" y="0"/>
                    <a:pt x="213" y="2"/>
                  </a:cubicBezTo>
                  <a:cubicBezTo>
                    <a:pt x="240" y="4"/>
                    <a:pt x="263" y="339"/>
                    <a:pt x="283" y="356"/>
                  </a:cubicBezTo>
                  <a:cubicBezTo>
                    <a:pt x="303" y="373"/>
                    <a:pt x="324" y="143"/>
                    <a:pt x="334" y="10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240" bIns="30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rot="16200000">
              <a:off x="7580880" y="1306800"/>
              <a:ext cx="401400" cy="76320"/>
            </a:xfrm>
            <a:custGeom>
              <a:avLst/>
              <a:gdLst/>
              <a:ahLst/>
              <a:rect l="l" t="t" r="r" b="b"/>
              <a:pathLst>
                <a:path w="334" h="373">
                  <a:moveTo>
                    <a:pt x="0" y="154"/>
                  </a:moveTo>
                  <a:cubicBezTo>
                    <a:pt x="20" y="77"/>
                    <a:pt x="41" y="1"/>
                    <a:pt x="61" y="33"/>
                  </a:cubicBezTo>
                  <a:cubicBezTo>
                    <a:pt x="81" y="65"/>
                    <a:pt x="97" y="351"/>
                    <a:pt x="122" y="346"/>
                  </a:cubicBezTo>
                  <a:cubicBezTo>
                    <a:pt x="147" y="341"/>
                    <a:pt x="186" y="0"/>
                    <a:pt x="213" y="2"/>
                  </a:cubicBezTo>
                  <a:cubicBezTo>
                    <a:pt x="240" y="4"/>
                    <a:pt x="263" y="339"/>
                    <a:pt x="283" y="356"/>
                  </a:cubicBezTo>
                  <a:cubicBezTo>
                    <a:pt x="303" y="373"/>
                    <a:pt x="324" y="143"/>
                    <a:pt x="334" y="10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6200000">
              <a:off x="7581600" y="1886040"/>
              <a:ext cx="401760" cy="71280"/>
            </a:xfrm>
            <a:custGeom>
              <a:avLst/>
              <a:gdLst/>
              <a:ahLst/>
              <a:rect l="l" t="t" r="r" b="b"/>
              <a:pathLst>
                <a:path w="334" h="373">
                  <a:moveTo>
                    <a:pt x="0" y="154"/>
                  </a:moveTo>
                  <a:cubicBezTo>
                    <a:pt x="20" y="77"/>
                    <a:pt x="41" y="1"/>
                    <a:pt x="61" y="33"/>
                  </a:cubicBezTo>
                  <a:cubicBezTo>
                    <a:pt x="81" y="65"/>
                    <a:pt x="97" y="351"/>
                    <a:pt x="122" y="346"/>
                  </a:cubicBezTo>
                  <a:cubicBezTo>
                    <a:pt x="147" y="341"/>
                    <a:pt x="186" y="0"/>
                    <a:pt x="213" y="2"/>
                  </a:cubicBezTo>
                  <a:cubicBezTo>
                    <a:pt x="240" y="4"/>
                    <a:pt x="263" y="339"/>
                    <a:pt x="283" y="356"/>
                  </a:cubicBezTo>
                  <a:cubicBezTo>
                    <a:pt x="303" y="373"/>
                    <a:pt x="324" y="143"/>
                    <a:pt x="334" y="10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5560" bIns="25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19227600">
              <a:off x="7354440" y="1758600"/>
              <a:ext cx="401400" cy="76320"/>
            </a:xfrm>
            <a:custGeom>
              <a:avLst/>
              <a:gdLst/>
              <a:ahLst/>
              <a:rect l="l" t="t" r="r" b="b"/>
              <a:pathLst>
                <a:path w="334" h="373">
                  <a:moveTo>
                    <a:pt x="0" y="154"/>
                  </a:moveTo>
                  <a:cubicBezTo>
                    <a:pt x="20" y="77"/>
                    <a:pt x="41" y="1"/>
                    <a:pt x="61" y="33"/>
                  </a:cubicBezTo>
                  <a:cubicBezTo>
                    <a:pt x="81" y="65"/>
                    <a:pt x="97" y="351"/>
                    <a:pt x="122" y="346"/>
                  </a:cubicBezTo>
                  <a:cubicBezTo>
                    <a:pt x="147" y="341"/>
                    <a:pt x="186" y="0"/>
                    <a:pt x="213" y="2"/>
                  </a:cubicBezTo>
                  <a:cubicBezTo>
                    <a:pt x="240" y="4"/>
                    <a:pt x="263" y="339"/>
                    <a:pt x="283" y="356"/>
                  </a:cubicBezTo>
                  <a:cubicBezTo>
                    <a:pt x="303" y="373"/>
                    <a:pt x="324" y="143"/>
                    <a:pt x="334" y="10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315280" y="1644840"/>
              <a:ext cx="311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8192880" y="1141200"/>
              <a:ext cx="25092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7778520" y="779760"/>
              <a:ext cx="0" cy="31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467560" y="16272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797600" y="7081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383320" y="11080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678440" y="1536840"/>
              <a:ext cx="182880" cy="182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1501920" y="4064040"/>
            <a:ext cx="2027160" cy="5871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6377040" y="3011400"/>
            <a:ext cx="2570040" cy="582840"/>
            <a:chOff x="6377040" y="3011400"/>
            <a:chExt cx="2570040" cy="582840"/>
          </a:xfrm>
        </p:grpSpPr>
        <p:sp>
          <p:nvSpPr>
            <p:cNvPr id="73" name=""/>
            <p:cNvSpPr/>
            <p:nvPr/>
          </p:nvSpPr>
          <p:spPr>
            <a:xfrm>
              <a:off x="6377040" y="3043080"/>
              <a:ext cx="2570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quipartition often works near room temperature and above.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414840" y="3011400"/>
              <a:ext cx="2492640" cy="58284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5159520" y="1647720"/>
            <a:ext cx="1672920" cy="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87080" y="65160"/>
            <a:ext cx="81961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Heat Capacity and Specific Hea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7250040" y="3513240"/>
          <a:ext cx="857160" cy="73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50040" y="3513240"/>
                    <a:ext cx="857160" cy="7347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7250040" y="4392720"/>
          <a:ext cx="1020960" cy="65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50040" y="4392720"/>
                    <a:ext cx="1020960" cy="6588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7250040" y="1322280"/>
          <a:ext cx="951120" cy="66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250040" y="1322280"/>
                    <a:ext cx="951120" cy="6652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723960" y="722160"/>
            <a:ext cx="7216560" cy="60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t capacity: 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 heat energy required to raise the temperature of an object by 1K (=1º C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depends on the amount of material.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    Units:  J / 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fic heat: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The heat capacity normalized to a 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standard amount of material (mass or moles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only depends on the kind of materi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Normalize to mass: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Units: J/kg</a:t>
            </a:r>
            <a:r>
              <a:rPr b="0" lang="en-US" sz="2000" spc="-1" strike="noStrike" baseline="30000">
                <a:solidFill>
                  <a:srgbClr val="00ff99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Normalize to moles: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Units: J/mole</a:t>
            </a:r>
            <a:r>
              <a:rPr b="0" lang="en-US" sz="2000" spc="-1" strike="noStrike" baseline="30000">
                <a:solidFill>
                  <a:srgbClr val="00ff99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K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“molar specific heat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Normalize to volume: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Units: J/m</a:t>
            </a:r>
            <a:r>
              <a:rPr b="0" lang="en-US" sz="2000" spc="-1" strike="noStrike" baseline="30000">
                <a:solidFill>
                  <a:srgbClr val="00ff99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K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“volume specific heat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estion: 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Which has the higher c, aluminum or lead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227560" y="3890880"/>
            <a:ext cx="1665360" cy="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84880" y="4581360"/>
            <a:ext cx="1665360" cy="558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292600" y="1468440"/>
            <a:ext cx="660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pper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ase “C”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31840" y="3657600"/>
            <a:ext cx="633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ower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ase “c”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7218360" y="5268960"/>
          <a:ext cx="977760" cy="65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218360" y="5268960"/>
                    <a:ext cx="977760" cy="6588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5167440" y="5472000"/>
            <a:ext cx="1965240" cy="810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97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-214200" y="140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87400" y="64440"/>
            <a:ext cx="73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-1111320" y="1481040"/>
            <a:ext cx="3571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674720" y="1481040"/>
          <a:ext cx="3571920" cy="338040"/>
        </p:xfrm>
        <a:graphic>
          <a:graphicData uri="http://schemas.openxmlformats.org/drawingml/2006/table">
            <a:tbl>
              <a:tblPr/>
              <a:tblGrid>
                <a:gridCol w="35719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345960" y="1022400"/>
            <a:ext cx="833616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485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-gram brass block sits in boiling water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10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C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).  It is taken out of the boiling water and placed in a cup containing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485 grams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 of ice water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C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).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What is the final temperature,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,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 of the system (</a:t>
            </a:r>
            <a:r>
              <a:rPr b="0" i="1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i.e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, when the two objects have the same T)?  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bras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  380 J/kg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;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wat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= 4184 J/kg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1680" y="2552760"/>
            <a:ext cx="7061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a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&lt; 50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C 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b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= 50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C 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c.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&gt; 50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Times New Roman"/>
              </a:rPr>
              <a:t> C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87040" y="56880"/>
            <a:ext cx="73659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Home Exercises: Cook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36680" y="1161720"/>
            <a:ext cx="80690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7000"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While cooking a turkey in a microwave oven that puts out 500 W of power, you notice that the temperature probe in the turkey shows a 1°C temperature increase every 30 seconds.  If you assume that the turkey has roughly the same specific heat as water (c= 4184 J/kg-K), what is your estimate for the mass of the turke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You place a copper ladle of mass m</a:t>
            </a:r>
            <a:r>
              <a:rPr b="0" lang="en-US" sz="1800" spc="-1" strike="noStrike" baseline="-25000">
                <a:solidFill>
                  <a:srgbClr val="00ff99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=0.15 kg (c</a:t>
            </a:r>
            <a:r>
              <a:rPr b="0" lang="en-US" sz="1800" spc="-1" strike="noStrike" baseline="-25000">
                <a:solidFill>
                  <a:srgbClr val="00ff99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= 386 J/kg-K) - initially at room temperature, T</a:t>
            </a:r>
            <a:r>
              <a:rPr b="0" lang="en-US" sz="1800" spc="-1" strike="noStrike" baseline="-25000">
                <a:solidFill>
                  <a:srgbClr val="00ff99"/>
                </a:solidFill>
                <a:latin typeface="Arial"/>
              </a:rPr>
              <a:t>room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= 20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Arial"/>
              </a:rPr>
              <a:t>°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C - into a pot containing 0.6 kg of hot cider </a:t>
            </a:r>
            <a:br>
              <a:rPr sz="1800"/>
            </a:b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(c</a:t>
            </a:r>
            <a:r>
              <a:rPr b="0" lang="en-US" sz="1800" spc="-1" strike="noStrike" baseline="-25000">
                <a:solidFill>
                  <a:srgbClr val="00ff99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= 4184 J/kg-K), initially at 90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  <a:ea typeface="Arial"/>
              </a:rPr>
              <a:t>°</a:t>
            </a: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 C.  If you forget about the ladle while watching a football game on TV, roughly what is its temperature when you try to pick it up after a few minut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88680" y="5357880"/>
            <a:ext cx="1690920" cy="36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88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C = 190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955200" y="2633760"/>
            <a:ext cx="802440" cy="36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3.6 k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83880" y="6336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Heat Conduc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4080" y="1081080"/>
            <a:ext cx="76201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rmal energy randomly diffuses equally in all directions, 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like gas particles (next lecture).  More energy diffuses out </a:t>
            </a:r>
            <a:br>
              <a:rPr sz="2000"/>
            </a:b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of a high T region than out of a low T region, implying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et energy flow from HOT to COLD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The heat current, H, depends on the gradient of temperature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For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inuous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change of T along x: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dT / d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33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For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arp interface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 between hot and cold:</a:t>
            </a:r>
            <a:r>
              <a:rPr b="0" lang="en-US" sz="20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H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612880" y="2700360"/>
            <a:ext cx="3353040" cy="714240"/>
            <a:chOff x="2612880" y="2700360"/>
            <a:chExt cx="3353040" cy="714240"/>
          </a:xfrm>
        </p:grpSpPr>
        <p:sp>
          <p:nvSpPr>
            <p:cNvPr id="109" name=""/>
            <p:cNvSpPr/>
            <p:nvPr/>
          </p:nvSpPr>
          <p:spPr>
            <a:xfrm>
              <a:off x="2612880" y="2700360"/>
              <a:ext cx="1640160" cy="70488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238640" y="2709720"/>
              <a:ext cx="1727280" cy="704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917800" y="2852640"/>
              <a:ext cx="75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HO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22920" y="285264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40"/>
                  </a:solidFill>
                  <a:latin typeface="Arial"/>
                </a:rPr>
                <a:t>COL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913200" y="2909880"/>
              <a:ext cx="682560" cy="4680"/>
            </a:xfrm>
            <a:prstGeom prst="line">
              <a:avLst/>
            </a:prstGeom>
            <a:ln w="38160">
              <a:solidFill>
                <a:srgbClr val="000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917880" y="3243240"/>
              <a:ext cx="682560" cy="4680"/>
            </a:xfrm>
            <a:prstGeom prst="line">
              <a:avLst/>
            </a:prstGeom>
            <a:ln w="38160">
              <a:solidFill>
                <a:srgbClr val="000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3908520" y="3081240"/>
              <a:ext cx="682560" cy="4680"/>
            </a:xfrm>
            <a:prstGeom prst="line">
              <a:avLst/>
            </a:prstGeom>
            <a:ln w="38160">
              <a:solidFill>
                <a:srgbClr val="000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1-09-03T16:22:22Z</dcterms:modified>
  <cp:revision>35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