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0D18D7F-ED2B-47F0-A9F2-2849E5E928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5BC8CA85-2568-4CD3-A3D1-33CA9DCADE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71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82720" y="4554360"/>
            <a:ext cx="163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7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1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30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10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3560" y="5416560"/>
            <a:ext cx="2084040" cy="90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Question to ponde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Why don’t the tables 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free energy mention T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0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9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9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0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3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5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2:52:46Z</dcterms:modified>
  <cp:revision>5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