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wmf" ContentType="image/x-wmf"/>
  <Override PartName="/ppt/media/image23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17.jpeg" ContentType="image/jpeg"/>
  <Override PartName="/ppt/media/image19.jpeg" ContentType="image/jpeg"/>
  <Override PartName="/ppt/media/image25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.wmf" ContentType="image/x-wmf"/>
  <Override PartName="/ppt/media/image21.jpeg" ContentType="image/jpe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100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A61506-90B0-441D-86E2-272F936C7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256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Light bu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pectrum with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high temp. limit:  &lt;E&gt;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 this as an example (no time for a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potential energy (hence highest reservoir entropy) is when the band is stretch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band entropy is when the segments are random (L=0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of total entropy i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idn’t get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86E0A77B-5981-42E3-B98D-19C67FE5DC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arner.org/jnorth/images/graphics/m/Muscle_RubberBand2.jpg&amp;imgrefurl=http://www.learner.org/jnorth/tm/spring/Muscles.html&amp;h=480&amp;w=640&amp;sz=177&amp;tbnid=PIMZn_rYvU4J:&amp;tbnh=101&amp;tbnw=135&amp;start=1&amp;prev=/images%3Fq%3Drubber%2Bband%26hl%3Den%26lr%3D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66920" y="2107440"/>
            <a:ext cx="717696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asticity of a Polym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 !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53640"/>
            <a:ext cx="82188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br>
              <a:rPr sz="16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7080" y="5364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1440" y="536112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4D-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94200"/>
            <a:ext cx="1251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 on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idte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9360" y="4300560"/>
            <a:ext cx="457200" cy="243000"/>
          </a:xfrm>
          <a:prstGeom prst="rightArrow">
            <a:avLst>
              <a:gd name="adj1" fmla="val 50000"/>
              <a:gd name="adj2" fmla="val 47037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4600" y="1212480"/>
            <a:ext cx="796608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we are stretching the band rapidl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an example of an adiabatic proces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 = 0 =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-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 = 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retching the band does work on it, so U increas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inks themselves have no U, so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energy goes into the usual kinetic energy (vibrational) mod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 increas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adiabatically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ompressi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 ideal gas (cf. ‘firestarter’ demo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8920" y="61920"/>
            <a:ext cx="7162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 Discus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4840" y="4608360"/>
            <a:ext cx="563688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often used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-pd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You could redo all the thermal physics, instead for elastic materials, us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F dl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batteries, using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+V dq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 for magnets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600" y="1058760"/>
            <a:ext cx="8691480" cy="41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use the Boltzmann  factor to calculate the average thermal energy, &lt;E&gt;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 particle and the internal energy, U, of a system.  We will consider a collection of harmonic oscilla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th is simple (even I can do it!), and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’s a good approximation to reality, not only for mechanical oscillation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but also for electromagnetic radi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rt with the Boltzmann probability distribu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eed to calculate the partition func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do the sum, remember the energy level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harmonic oscillator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Equally spac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49960" y="2803680"/>
          <a:ext cx="132696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960" y="2803680"/>
                    <a:ext cx="132696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359000" y="4910040"/>
          <a:ext cx="348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9000" y="4910040"/>
                    <a:ext cx="348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H="1">
            <a:off x="2438280" y="3260880"/>
            <a:ext cx="143208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78840" y="3504960"/>
            <a:ext cx="1598400" cy="1696320"/>
            <a:chOff x="7278840" y="3504960"/>
            <a:chExt cx="1598400" cy="1696320"/>
          </a:xfrm>
        </p:grpSpPr>
        <p:sp>
          <p:nvSpPr>
            <p:cNvPr id="151" name=""/>
            <p:cNvSpPr/>
            <p:nvPr/>
          </p:nvSpPr>
          <p:spPr>
            <a:xfrm>
              <a:off x="7278840" y="47246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78840" y="417204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78840" y="388620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78840" y="445788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90120" y="3719160"/>
              <a:ext cx="987120" cy="14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n</a:t>
              </a: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5840" indent="-28584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8840" y="4972320"/>
              <a:ext cx="704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678800" y="350496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646600" y="4170240"/>
            <a:ext cx="1425600" cy="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9480" y="4299120"/>
          <a:ext cx="10224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4299120"/>
                    <a:ext cx="10224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018400" y="5086440"/>
            <a:ext cx="1343520" cy="459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ic seri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3960" y="858960"/>
            <a:ext cx="766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i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T is important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Let’s look at the probability for an oscillato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have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for various values of that rati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19000" y="3349800"/>
          <a:ext cx="409608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3349800"/>
                    <a:ext cx="4096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00920" y="6062760"/>
            <a:ext cx="6840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important feature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t low temperatures, only a few states have significant probabil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59320" y="3780000"/>
            <a:ext cx="3383640" cy="2262600"/>
            <a:chOff x="4459320" y="3780000"/>
            <a:chExt cx="3383640" cy="2262600"/>
          </a:xfrm>
        </p:grpSpPr>
        <p:sp>
          <p:nvSpPr>
            <p:cNvPr id="170" name=""/>
            <p:cNvSpPr/>
            <p:nvPr/>
          </p:nvSpPr>
          <p:spPr>
            <a:xfrm>
              <a:off x="5311800" y="53658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11800" y="500688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1800" y="464652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1800" y="42879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11800" y="392760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8400" y="3935520"/>
              <a:ext cx="90360" cy="17906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0880" y="3954600"/>
              <a:ext cx="91800" cy="17715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23000" y="3973680"/>
              <a:ext cx="92160" cy="17524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5120" y="3987720"/>
              <a:ext cx="92160" cy="173844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69040" y="4006800"/>
              <a:ext cx="92160" cy="171936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91160" y="4025880"/>
              <a:ext cx="98640" cy="17002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21560" y="4038480"/>
              <a:ext cx="90360" cy="168768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1800" y="3927600"/>
              <a:ext cx="0" cy="17985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11800" y="5726160"/>
              <a:ext cx="245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5357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578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979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20388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4263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549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8785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0100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32312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54524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769160" y="5725800"/>
              <a:ext cx="0" cy="58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3000" y="4746600"/>
              <a:ext cx="6422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kT=100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9320" y="3780000"/>
              <a:ext cx="860400" cy="21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0.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00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1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57440" y="5735520"/>
              <a:ext cx="258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 1   2  3   4 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43680" y="4059360"/>
              <a:ext cx="92160" cy="16668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5800" y="4071960"/>
              <a:ext cx="92160" cy="16542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88280" y="4091040"/>
              <a:ext cx="92160" cy="163512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12200" y="4111560"/>
              <a:ext cx="90360" cy="1614600"/>
            </a:xfrm>
            <a:prstGeom prst="rect">
              <a:avLst/>
            </a:prstGeom>
            <a:solidFill>
              <a:srgbClr val="00ff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784760" y="1643040"/>
            <a:ext cx="2908800" cy="1832760"/>
            <a:chOff x="4784760" y="1643040"/>
            <a:chExt cx="2908800" cy="1832760"/>
          </a:xfrm>
        </p:grpSpPr>
        <p:sp>
          <p:nvSpPr>
            <p:cNvPr id="203" name=""/>
            <p:cNvSpPr/>
            <p:nvPr/>
          </p:nvSpPr>
          <p:spPr>
            <a:xfrm>
              <a:off x="5258880" y="316872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4760" y="164304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95960" y="24415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95960" y="176688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53200" y="2260440"/>
              <a:ext cx="85680" cy="855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801880"/>
              <a:ext cx="87120" cy="314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73680" y="3002040"/>
              <a:ext cx="95400" cy="114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2920" y="3078000"/>
              <a:ext cx="85680" cy="381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2440" y="3097080"/>
              <a:ext cx="85680" cy="19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11960" y="3106800"/>
              <a:ext cx="85680" cy="93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5960" y="176688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5960" y="31161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054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164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9356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14520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3547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5642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737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8328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20252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41204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621560" y="311616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97200" y="1987560"/>
              <a:ext cx="48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1600" y="1658880"/>
            <a:ext cx="2909160" cy="1832760"/>
            <a:chOff x="831600" y="1658880"/>
            <a:chExt cx="2909160" cy="1832760"/>
          </a:xfrm>
        </p:grpSpPr>
        <p:sp>
          <p:nvSpPr>
            <p:cNvPr id="228" name=""/>
            <p:cNvSpPr/>
            <p:nvPr/>
          </p:nvSpPr>
          <p:spPr>
            <a:xfrm>
              <a:off x="1306080" y="3184560"/>
              <a:ext cx="243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 1  2   3  4                        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600" y="1658880"/>
              <a:ext cx="5572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43160" y="245736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3160" y="178272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00040" y="1830240"/>
              <a:ext cx="106560" cy="130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09560" y="3084480"/>
              <a:ext cx="87480" cy="46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43160" y="1782720"/>
              <a:ext cx="0" cy="134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43160" y="3132000"/>
              <a:ext cx="2325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5526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636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828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9240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4019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6114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8209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048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24972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45924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668760" y="3132000"/>
              <a:ext cx="0" cy="85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44760" y="2003400"/>
              <a:ext cx="80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kT=0.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832120" y="3970440"/>
            <a:ext cx="85572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1680" y="4713120"/>
            <a:ext cx="982440" cy="274680"/>
          </a:xfrm>
          <a:prstGeom prst="rect">
            <a:avLst/>
          </a:prstGeom>
          <a:solidFill>
            <a:srgbClr val="000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=100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60360" y="1255680"/>
            <a:ext cx="79786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alculate the average oscillator energy, and then the heat capacit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high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kT, equipartition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low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when kT &lt;&l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&gt;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lt;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/k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&lt; k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requires that kT is much larger than the energy level spacing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that there are many states with E &lt; k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38120" y="1738440"/>
          <a:ext cx="407844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738440"/>
                    <a:ext cx="4078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801960" y="23684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e supplemental slide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for the algebra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3640" y="3089160"/>
            <a:ext cx="336240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299200" y="3368520"/>
            <a:ext cx="3341520" cy="1990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532640" y="41878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Actual 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8480" y="3691080"/>
            <a:ext cx="16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=kT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(equiparti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8400" y="5226120"/>
            <a:ext cx="379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            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 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 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         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09120" y="3162240"/>
            <a:ext cx="389520" cy="22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3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2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1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00004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0840" y="3094200"/>
            <a:ext cx="45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40"/>
                </a:solidFill>
                <a:latin typeface="Arial"/>
              </a:rPr>
              <a:t>&lt;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77280" y="3452760"/>
            <a:ext cx="0" cy="289080"/>
          </a:xfrm>
          <a:prstGeom prst="line">
            <a:avLst/>
          </a:prstGeom>
          <a:ln w="32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9600" y="3473280"/>
            <a:ext cx="38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.5</a:t>
            </a:r>
            <a:r>
              <a:rPr b="0" lang="en-US" sz="9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4400" y="3900600"/>
            <a:ext cx="285588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120" y="5972040"/>
            <a:ext cx="7651800" cy="59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60360" y="125568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lculate the heat capacity by taking the derivativ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25320" y="1878120"/>
          <a:ext cx="469296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8120"/>
                    <a:ext cx="469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609840" y="55440"/>
            <a:ext cx="79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eat Capacity &amp; Equiparti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3840" y="4438800"/>
            <a:ext cx="621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what temperature is equipartition reached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answer this, we need to know how bi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use a fact from QM (P214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hf, whe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 is Planck’s constant = 6.6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-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  is the oscillator frequenc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604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typical vibrations in molecules and solids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= hf in the range 40 K to 4,000 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672160" y="1928880"/>
            <a:ext cx="3157560" cy="2666880"/>
            <a:chOff x="5672160" y="1928880"/>
            <a:chExt cx="3157560" cy="2666880"/>
          </a:xfrm>
        </p:grpSpPr>
        <p:sp>
          <p:nvSpPr>
            <p:cNvPr id="272" name=""/>
            <p:cNvSpPr/>
            <p:nvPr/>
          </p:nvSpPr>
          <p:spPr>
            <a:xfrm>
              <a:off x="6056640" y="3954240"/>
              <a:ext cx="1197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ibrations are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“frozen out”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low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672160" y="2104920"/>
              <a:ext cx="3157560" cy="1765800"/>
              <a:chOff x="5672160" y="2104920"/>
              <a:chExt cx="3157560" cy="1765800"/>
            </a:xfrm>
          </p:grpSpPr>
          <p:sp>
            <p:nvSpPr>
              <p:cNvPr id="274" name=""/>
              <p:cNvSpPr/>
              <p:nvPr/>
            </p:nvSpPr>
            <p:spPr>
              <a:xfrm>
                <a:off x="6981840" y="3493800"/>
                <a:ext cx="1440" cy="100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43760" y="2720520"/>
                <a:ext cx="2371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143920" y="31842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21560" y="353340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.5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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6143760" y="2442960"/>
                <a:ext cx="1440" cy="11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43760" y="3544560"/>
                <a:ext cx="2514600" cy="1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72160" y="25239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43760" y="2727000"/>
                <a:ext cx="2381040" cy="803160"/>
              </a:xfrm>
              <a:custGeom>
                <a:avLst/>
                <a:gdLst/>
                <a:ahLst/>
                <a:rect l="l" t="t" r="r" b="b"/>
                <a:pathLst>
                  <a:path w="1500" h="506">
                    <a:moveTo>
                      <a:pt x="0" y="506"/>
                    </a:moveTo>
                    <a:cubicBezTo>
                      <a:pt x="95" y="505"/>
                      <a:pt x="190" y="504"/>
                      <a:pt x="276" y="458"/>
                    </a:cubicBezTo>
                    <a:cubicBezTo>
                      <a:pt x="362" y="412"/>
                      <a:pt x="426" y="300"/>
                      <a:pt x="516" y="230"/>
                    </a:cubicBezTo>
                    <a:cubicBezTo>
                      <a:pt x="606" y="160"/>
                      <a:pt x="652" y="76"/>
                      <a:pt x="816" y="38"/>
                    </a:cubicBezTo>
                    <a:cubicBezTo>
                      <a:pt x="980" y="0"/>
                      <a:pt x="1386" y="8"/>
                      <a:pt x="1500" y="2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64120" y="210492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>
              <a:off x="6524640" y="361440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43920" y="1928880"/>
              <a:ext cx="14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quipartition hold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t high 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40960" y="2263680"/>
              <a:ext cx="0" cy="353880"/>
            </a:xfrm>
            <a:prstGeom prst="line">
              <a:avLst/>
            </a:prstGeom>
            <a:ln w="3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720" y="476280"/>
            <a:ext cx="828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an Einstein Solid 3N SHO’s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162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olid as atomic masses connected by springs (the atomic bond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571840" y="2133360"/>
            <a:ext cx="2761920" cy="1962360"/>
            <a:chOff x="2571840" y="2133360"/>
            <a:chExt cx="2761920" cy="1962360"/>
          </a:xfrm>
        </p:grpSpPr>
        <p:grpSp>
          <p:nvGrpSpPr>
            <p:cNvPr id="291" name=""/>
            <p:cNvGrpSpPr/>
            <p:nvPr/>
          </p:nvGrpSpPr>
          <p:grpSpPr>
            <a:xfrm>
              <a:off x="2638800" y="2245680"/>
              <a:ext cx="2088720" cy="1850040"/>
              <a:chOff x="2638800" y="2245680"/>
              <a:chExt cx="2088720" cy="18500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2638800" y="2245680"/>
                <a:ext cx="2088720" cy="111960"/>
                <a:chOff x="2638800" y="2245680"/>
                <a:chExt cx="2088720" cy="111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59288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1209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6493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17772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38800" y="22456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2638800" y="3534840"/>
                <a:ext cx="2088720" cy="111960"/>
                <a:chOff x="2638800" y="3534840"/>
                <a:chExt cx="2088720" cy="111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9288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1209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493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17772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638800" y="353484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38800" y="3983760"/>
                <a:ext cx="2088720" cy="111960"/>
                <a:chOff x="2638800" y="3983760"/>
                <a:chExt cx="2088720" cy="111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59288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209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493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7772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638800" y="398376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638800" y="2638080"/>
                <a:ext cx="2088720" cy="111960"/>
                <a:chOff x="2638800" y="2638080"/>
                <a:chExt cx="2088720" cy="111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59288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1209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6493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17772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638800" y="2638080"/>
                  <a:ext cx="134640" cy="1119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459288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09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49320" y="3086640"/>
                <a:ext cx="134640" cy="111960"/>
              </a:xfrm>
              <a:prstGeom prst="ellipse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7772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38800" y="3086640"/>
                <a:ext cx="134640" cy="1119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245040" y="2693880"/>
              <a:ext cx="943200" cy="896760"/>
            </a:xfrm>
            <a:prstGeom prst="rect">
              <a:avLst/>
            </a:prstGeom>
            <a:noFill/>
            <a:ln w="12600">
              <a:solidFill>
                <a:srgbClr val="00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432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45040" y="3086640"/>
              <a:ext cx="403920" cy="130680"/>
            </a:xfrm>
            <a:custGeom>
              <a:avLst/>
              <a:gdLst/>
              <a:ahLst/>
              <a:rect l="l" t="t" r="r" b="b"/>
              <a:pathLst>
                <a:path w="456" h="224">
                  <a:moveTo>
                    <a:pt x="0" y="112"/>
                  </a:moveTo>
                  <a:cubicBezTo>
                    <a:pt x="60" y="56"/>
                    <a:pt x="120" y="0"/>
                    <a:pt x="144" y="16"/>
                  </a:cubicBezTo>
                  <a:cubicBezTo>
                    <a:pt x="168" y="32"/>
                    <a:pt x="152" y="192"/>
                    <a:pt x="144" y="208"/>
                  </a:cubicBezTo>
                  <a:cubicBezTo>
                    <a:pt x="136" y="224"/>
                    <a:pt x="80" y="144"/>
                    <a:pt x="96" y="112"/>
                  </a:cubicBezTo>
                  <a:cubicBezTo>
                    <a:pt x="112" y="80"/>
                    <a:pt x="216" y="0"/>
                    <a:pt x="240" y="16"/>
                  </a:cubicBezTo>
                  <a:cubicBezTo>
                    <a:pt x="264" y="32"/>
                    <a:pt x="248" y="192"/>
                    <a:pt x="240" y="208"/>
                  </a:cubicBezTo>
                  <a:cubicBezTo>
                    <a:pt x="232" y="224"/>
                    <a:pt x="176" y="144"/>
                    <a:pt x="192" y="112"/>
                  </a:cubicBezTo>
                  <a:cubicBezTo>
                    <a:pt x="208" y="80"/>
                    <a:pt x="312" y="0"/>
                    <a:pt x="336" y="16"/>
                  </a:cubicBezTo>
                  <a:cubicBezTo>
                    <a:pt x="360" y="32"/>
                    <a:pt x="344" y="192"/>
                    <a:pt x="336" y="208"/>
                  </a:cubicBezTo>
                  <a:cubicBezTo>
                    <a:pt x="328" y="224"/>
                    <a:pt x="272" y="144"/>
                    <a:pt x="288" y="112"/>
                  </a:cubicBezTo>
                  <a:cubicBezTo>
                    <a:pt x="304" y="80"/>
                    <a:pt x="408" y="16"/>
                    <a:pt x="432" y="16"/>
                  </a:cubicBezTo>
                  <a:cubicBezTo>
                    <a:pt x="456" y="16"/>
                    <a:pt x="444" y="64"/>
                    <a:pt x="432" y="112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49320" y="319860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9320" y="2750040"/>
              <a:ext cx="134640" cy="33624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255920" y="3646800"/>
              <a:ext cx="53892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71840" y="2133360"/>
              <a:ext cx="538560" cy="448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84320" y="325440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638800" y="2133360"/>
              <a:ext cx="1010520" cy="840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638800" y="353484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043080" y="3646800"/>
              <a:ext cx="471600" cy="392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64932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323240" y="24138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240" y="286200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638800" y="303048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121280" y="2189520"/>
              <a:ext cx="471600" cy="3924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86640" y="2693880"/>
              <a:ext cx="1347120" cy="2804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457520" y="3086640"/>
              <a:ext cx="875880" cy="22428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375160" y="2368440"/>
            <a:ext cx="2703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mall system (one ato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nstein pretends it oscillates independently of other atom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1440" y="4137120"/>
            <a:ext cx="840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high T,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Equipartition Theore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T for each quadratic term in the energ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727280" y="4516560"/>
          <a:ext cx="5054400" cy="6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4516560"/>
                    <a:ext cx="50544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743040" y="51436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nergy and heat capacity of the entire solid (N atoms) i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227320" y="5433840"/>
                <a:ext cx="4349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  <m:m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U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</m:e>
                      </m:mr>
                    </m:m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N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85800" y="5962680"/>
            <a:ext cx="739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at about low temperatur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89680" y="6140520"/>
            <a:ext cx="2228760" cy="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264440" y="4645080"/>
            <a:ext cx="944640" cy="785880"/>
            <a:chOff x="7264440" y="4645080"/>
            <a:chExt cx="944640" cy="785880"/>
          </a:xfrm>
        </p:grpSpPr>
        <p:grpSp>
          <p:nvGrpSpPr>
            <p:cNvPr id="348" name=""/>
            <p:cNvGrpSpPr/>
            <p:nvPr/>
          </p:nvGrpSpPr>
          <p:grpSpPr>
            <a:xfrm>
              <a:off x="7264440" y="4645080"/>
              <a:ext cx="944640" cy="785880"/>
              <a:chOff x="7264440" y="4645080"/>
              <a:chExt cx="944640" cy="785880"/>
            </a:xfrm>
          </p:grpSpPr>
          <p:sp>
            <p:nvSpPr>
              <p:cNvPr id="349" name=""/>
              <p:cNvSpPr/>
              <p:nvPr/>
            </p:nvSpPr>
            <p:spPr>
              <a:xfrm>
                <a:off x="7669440" y="4983120"/>
                <a:ext cx="135000" cy="1112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804440" y="4981680"/>
                <a:ext cx="40464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64440" y="4981680"/>
                <a:ext cx="405000" cy="131760"/>
              </a:xfrm>
              <a:custGeom>
                <a:avLst/>
                <a:gdLst/>
                <a:ahLst/>
                <a:rect l="l" t="t" r="r" b="b"/>
                <a:pathLst>
                  <a:path w="456" h="224">
                    <a:moveTo>
                      <a:pt x="0" y="112"/>
                    </a:moveTo>
                    <a:cubicBezTo>
                      <a:pt x="60" y="56"/>
                      <a:pt x="120" y="0"/>
                      <a:pt x="144" y="16"/>
                    </a:cubicBezTo>
                    <a:cubicBezTo>
                      <a:pt x="168" y="32"/>
                      <a:pt x="152" y="192"/>
                      <a:pt x="144" y="208"/>
                    </a:cubicBezTo>
                    <a:cubicBezTo>
                      <a:pt x="136" y="224"/>
                      <a:pt x="80" y="144"/>
                      <a:pt x="96" y="112"/>
                    </a:cubicBezTo>
                    <a:cubicBezTo>
                      <a:pt x="112" y="80"/>
                      <a:pt x="216" y="0"/>
                      <a:pt x="240" y="16"/>
                    </a:cubicBezTo>
                    <a:cubicBezTo>
                      <a:pt x="264" y="32"/>
                      <a:pt x="248" y="192"/>
                      <a:pt x="240" y="208"/>
                    </a:cubicBezTo>
                    <a:cubicBezTo>
                      <a:pt x="232" y="224"/>
                      <a:pt x="176" y="144"/>
                      <a:pt x="192" y="112"/>
                    </a:cubicBezTo>
                    <a:cubicBezTo>
                      <a:pt x="208" y="80"/>
                      <a:pt x="312" y="0"/>
                      <a:pt x="336" y="16"/>
                    </a:cubicBezTo>
                    <a:cubicBezTo>
                      <a:pt x="360" y="32"/>
                      <a:pt x="344" y="192"/>
                      <a:pt x="336" y="208"/>
                    </a:cubicBezTo>
                    <a:cubicBezTo>
                      <a:pt x="328" y="224"/>
                      <a:pt x="272" y="144"/>
                      <a:pt x="288" y="112"/>
                    </a:cubicBezTo>
                    <a:cubicBezTo>
                      <a:pt x="304" y="80"/>
                      <a:pt x="408" y="16"/>
                      <a:pt x="432" y="16"/>
                    </a:cubicBezTo>
                    <a:cubicBezTo>
                      <a:pt x="456" y="16"/>
                      <a:pt x="444" y="64"/>
                      <a:pt x="432" y="112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69440" y="509436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69440" y="4645080"/>
                <a:ext cx="135000" cy="336600"/>
              </a:xfrm>
              <a:custGeom>
                <a:avLst/>
                <a:gdLst/>
                <a:ahLst/>
                <a:rect l="l" t="t" r="r" b="b"/>
                <a:pathLst>
                  <a:path w="224" h="336">
                    <a:moveTo>
                      <a:pt x="112" y="0"/>
                    </a:moveTo>
                    <a:cubicBezTo>
                      <a:pt x="168" y="40"/>
                      <a:pt x="224" y="80"/>
                      <a:pt x="208" y="96"/>
                    </a:cubicBezTo>
                    <a:cubicBezTo>
                      <a:pt x="192" y="112"/>
                      <a:pt x="32" y="104"/>
                      <a:pt x="16" y="96"/>
                    </a:cubicBezTo>
                    <a:cubicBezTo>
                      <a:pt x="0" y="88"/>
                      <a:pt x="80" y="32"/>
                      <a:pt x="112" y="48"/>
                    </a:cubicBezTo>
                    <a:cubicBezTo>
                      <a:pt x="144" y="64"/>
                      <a:pt x="224" y="168"/>
                      <a:pt x="208" y="192"/>
                    </a:cubicBezTo>
                    <a:cubicBezTo>
                      <a:pt x="192" y="216"/>
                      <a:pt x="32" y="200"/>
                      <a:pt x="16" y="192"/>
                    </a:cubicBezTo>
                    <a:cubicBezTo>
                      <a:pt x="0" y="184"/>
                      <a:pt x="80" y="128"/>
                      <a:pt x="112" y="144"/>
                    </a:cubicBezTo>
                    <a:cubicBezTo>
                      <a:pt x="144" y="160"/>
                      <a:pt x="224" y="264"/>
                      <a:pt x="208" y="288"/>
                    </a:cubicBezTo>
                    <a:cubicBezTo>
                      <a:pt x="192" y="312"/>
                      <a:pt x="32" y="296"/>
                      <a:pt x="16" y="288"/>
                    </a:cubicBezTo>
                    <a:cubicBezTo>
                      <a:pt x="0" y="280"/>
                      <a:pt x="96" y="232"/>
                      <a:pt x="112" y="240"/>
                    </a:cubicBezTo>
                    <a:cubicBezTo>
                      <a:pt x="128" y="248"/>
                      <a:pt x="112" y="320"/>
                      <a:pt x="112" y="336"/>
                    </a:cubicBezTo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061800">
              <a:off x="7872840" y="472752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061800">
              <a:off x="7512480" y="5021280"/>
              <a:ext cx="106200" cy="287280"/>
            </a:xfrm>
            <a:custGeom>
              <a:avLst/>
              <a:gdLst/>
              <a:ahLst/>
              <a:rect l="l" t="t" r="r" b="b"/>
              <a:pathLst>
                <a:path w="224" h="336">
                  <a:moveTo>
                    <a:pt x="112" y="0"/>
                  </a:moveTo>
                  <a:cubicBezTo>
                    <a:pt x="168" y="40"/>
                    <a:pt x="224" y="80"/>
                    <a:pt x="208" y="96"/>
                  </a:cubicBezTo>
                  <a:cubicBezTo>
                    <a:pt x="192" y="112"/>
                    <a:pt x="32" y="104"/>
                    <a:pt x="16" y="96"/>
                  </a:cubicBezTo>
                  <a:cubicBezTo>
                    <a:pt x="0" y="88"/>
                    <a:pt x="80" y="32"/>
                    <a:pt x="112" y="48"/>
                  </a:cubicBezTo>
                  <a:cubicBezTo>
                    <a:pt x="144" y="64"/>
                    <a:pt x="224" y="168"/>
                    <a:pt x="208" y="192"/>
                  </a:cubicBezTo>
                  <a:cubicBezTo>
                    <a:pt x="192" y="216"/>
                    <a:pt x="32" y="200"/>
                    <a:pt x="16" y="192"/>
                  </a:cubicBezTo>
                  <a:cubicBezTo>
                    <a:pt x="0" y="184"/>
                    <a:pt x="80" y="128"/>
                    <a:pt x="112" y="144"/>
                  </a:cubicBezTo>
                  <a:cubicBezTo>
                    <a:pt x="144" y="160"/>
                    <a:pt x="224" y="264"/>
                    <a:pt x="208" y="288"/>
                  </a:cubicBezTo>
                  <a:cubicBezTo>
                    <a:pt x="192" y="312"/>
                    <a:pt x="32" y="296"/>
                    <a:pt x="16" y="288"/>
                  </a:cubicBezTo>
                  <a:cubicBezTo>
                    <a:pt x="0" y="280"/>
                    <a:pt x="96" y="232"/>
                    <a:pt x="112" y="240"/>
                  </a:cubicBezTo>
                  <a:cubicBezTo>
                    <a:pt x="128" y="248"/>
                    <a:pt x="112" y="320"/>
                    <a:pt x="112" y="336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45720" y="30780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FYI: Heat Capacity of Einstein soli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3681360" y="1039680"/>
          <a:ext cx="335916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1360" y="1039680"/>
                    <a:ext cx="3359160" cy="81936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819000" y="1104840"/>
            <a:ext cx="30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 solid with N atoms,   total vibrational energ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22827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at capacity at constant volume 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68720" y="163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3-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5334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55760" y="3529080"/>
            <a:ext cx="8051760" cy="2991960"/>
            <a:chOff x="455760" y="3529080"/>
            <a:chExt cx="8051760" cy="2991960"/>
          </a:xfrm>
        </p:grpSpPr>
        <p:grpSp>
          <p:nvGrpSpPr>
            <p:cNvPr id="364" name=""/>
            <p:cNvGrpSpPr/>
            <p:nvPr/>
          </p:nvGrpSpPr>
          <p:grpSpPr>
            <a:xfrm>
              <a:off x="2916360" y="3529080"/>
              <a:ext cx="3754440" cy="780120"/>
              <a:chOff x="2916360" y="3529080"/>
              <a:chExt cx="3754440" cy="780120"/>
            </a:xfrm>
          </p:grpSpPr>
          <p:sp>
            <p:nvSpPr>
              <p:cNvPr id="365" name=""/>
              <p:cNvSpPr/>
              <p:nvPr/>
            </p:nvSpPr>
            <p:spPr>
              <a:xfrm>
                <a:off x="3511440" y="4044960"/>
                <a:ext cx="0" cy="12708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29080" y="397188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7" name=""/>
              <p:cNvGrpSpPr/>
              <p:nvPr/>
            </p:nvGrpSpPr>
            <p:grpSpPr>
              <a:xfrm>
                <a:off x="2916360" y="3592440"/>
                <a:ext cx="459720" cy="571680"/>
                <a:chOff x="2916360" y="3592440"/>
                <a:chExt cx="459720" cy="571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916360" y="41641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916360" y="378288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916360" y="359244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16360" y="3973320"/>
                  <a:ext cx="4597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5749920" y="3592440"/>
                    <a:ext cx="17784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73" name=""/>
              <p:cNvGrpSpPr/>
              <p:nvPr/>
            </p:nvGrpSpPr>
            <p:grpSpPr>
              <a:xfrm>
                <a:off x="5597640" y="3592440"/>
                <a:ext cx="458280" cy="571680"/>
                <a:chOff x="5597640" y="3592440"/>
                <a:chExt cx="458280" cy="571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597640" y="41641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97640" y="378288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597640" y="359244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597640" y="3973320"/>
                  <a:ext cx="45828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6210360" y="3529080"/>
                <a:ext cx="0" cy="63504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10360" y="3719520"/>
                <a:ext cx="46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k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0" name=""/>
                  <p:cNvSpPr txBox="1"/>
                  <p:nvPr/>
                </p:nvSpPr>
                <p:spPr>
                  <a:xfrm>
                    <a:off x="3070080" y="3592440"/>
                    <a:ext cx="176400" cy="16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ε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81" name=""/>
            <p:cNvGrpSpPr/>
            <p:nvPr/>
          </p:nvGrpSpPr>
          <p:grpSpPr>
            <a:xfrm>
              <a:off x="455760" y="4495320"/>
              <a:ext cx="8010360" cy="1040400"/>
              <a:chOff x="455760" y="4495320"/>
              <a:chExt cx="8010360" cy="1040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5779800" y="4495320"/>
                <a:ext cx="1425960" cy="854280"/>
                <a:chOff x="5779800" y="4495320"/>
                <a:chExt cx="1425960" cy="85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 flipV="1">
                  <a:off x="5779800" y="4495320"/>
                  <a:ext cx="230040" cy="253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827680" y="4544640"/>
                  <a:ext cx="1378080" cy="804960"/>
                </a:xfrm>
                <a:custGeom>
                  <a:avLst/>
                  <a:gdLst/>
                  <a:ahLst/>
                  <a:rect l="l" t="t" r="r" b="b"/>
                  <a:pathLst>
                    <a:path w="864" h="608">
                      <a:moveTo>
                        <a:pt x="0" y="0"/>
                      </a:moveTo>
                      <a:cubicBezTo>
                        <a:pt x="216" y="272"/>
                        <a:pt x="432" y="544"/>
                        <a:pt x="528" y="576"/>
                      </a:cubicBezTo>
                      <a:cubicBezTo>
                        <a:pt x="624" y="608"/>
                        <a:pt x="520" y="232"/>
                        <a:pt x="576" y="192"/>
                      </a:cubicBezTo>
                      <a:cubicBezTo>
                        <a:pt x="632" y="152"/>
                        <a:pt x="816" y="312"/>
                        <a:pt x="864" y="336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924600" y="4768920"/>
                <a:ext cx="1541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ny levels populat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2092320" y="4938840"/>
                <a:ext cx="946080" cy="596880"/>
                <a:chOff x="2092320" y="4938840"/>
                <a:chExt cx="946080" cy="5968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857680" y="5479920"/>
                  <a:ext cx="180720" cy="558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092320" y="4938840"/>
                  <a:ext cx="849240" cy="563400"/>
                </a:xfrm>
                <a:custGeom>
                  <a:avLst/>
                  <a:gdLst/>
                  <a:ahLst/>
                  <a:rect l="l" t="t" r="r" b="b"/>
                  <a:pathLst>
                    <a:path w="672" h="480">
                      <a:moveTo>
                        <a:pt x="672" y="480"/>
                      </a:moveTo>
                      <a:cubicBezTo>
                        <a:pt x="444" y="416"/>
                        <a:pt x="216" y="352"/>
                        <a:pt x="144" y="288"/>
                      </a:cubicBezTo>
                      <a:cubicBezTo>
                        <a:pt x="72" y="224"/>
                        <a:pt x="264" y="144"/>
                        <a:pt x="240" y="96"/>
                      </a:cubicBezTo>
                      <a:cubicBezTo>
                        <a:pt x="216" y="48"/>
                        <a:pt x="40" y="16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455760" y="4549680"/>
                <a:ext cx="20397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w levels populated, heat capacity goes to zero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920960" y="3909960"/>
              <a:ext cx="6586560" cy="2611080"/>
              <a:chOff x="1920960" y="3909960"/>
              <a:chExt cx="6586560" cy="261108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2533680" y="4036680"/>
                <a:ext cx="0" cy="1778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33680" y="5815080"/>
                <a:ext cx="4135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93" name=""/>
              <p:cNvGraphicFramePr/>
              <p:nvPr/>
            </p:nvGraphicFramePr>
            <p:xfrm>
              <a:off x="1920960" y="3909960"/>
              <a:ext cx="369720" cy="284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9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20960" y="3909960"/>
                        <a:ext cx="369720" cy="28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5" name=""/>
              <p:cNvSpPr/>
              <p:nvPr/>
            </p:nvSpPr>
            <p:spPr>
              <a:xfrm>
                <a:off x="2533680" y="4354560"/>
                <a:ext cx="3598920" cy="1460520"/>
              </a:xfrm>
              <a:custGeom>
                <a:avLst/>
                <a:gdLst/>
                <a:ahLst/>
                <a:rect l="l" t="t" r="r" b="b"/>
                <a:pathLst>
                  <a:path w="2256" h="1104">
                    <a:moveTo>
                      <a:pt x="0" y="1104"/>
                    </a:moveTo>
                    <a:cubicBezTo>
                      <a:pt x="76" y="1092"/>
                      <a:pt x="152" y="1080"/>
                      <a:pt x="240" y="1008"/>
                    </a:cubicBezTo>
                    <a:cubicBezTo>
                      <a:pt x="328" y="936"/>
                      <a:pt x="432" y="776"/>
                      <a:pt x="528" y="672"/>
                    </a:cubicBezTo>
                    <a:cubicBezTo>
                      <a:pt x="624" y="568"/>
                      <a:pt x="696" y="480"/>
                      <a:pt x="816" y="384"/>
                    </a:cubicBezTo>
                    <a:cubicBezTo>
                      <a:pt x="936" y="288"/>
                      <a:pt x="1008" y="160"/>
                      <a:pt x="1248" y="96"/>
                    </a:cubicBezTo>
                    <a:cubicBezTo>
                      <a:pt x="1488" y="32"/>
                      <a:pt x="1872" y="16"/>
                      <a:pt x="2256" y="0"/>
                    </a:cubicBezTo>
                  </a:path>
                </a:pathLst>
              </a:custGeom>
              <a:noFill/>
              <a:ln w="572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70080" y="530712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376440" y="5052960"/>
                <a:ext cx="15264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59120" y="4799160"/>
                <a:ext cx="152640" cy="12672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448160" y="441792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13520" y="4354560"/>
                <a:ext cx="15372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4000" y="4290840"/>
                <a:ext cx="152280" cy="127080"/>
              </a:xfrm>
              <a:prstGeom prst="ellipse">
                <a:avLst/>
              </a:prstGeom>
              <a:solidFill>
                <a:srgbClr val="fef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132600" y="5751360"/>
                <a:ext cx="0" cy="127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79600" y="5878440"/>
                <a:ext cx="429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 1300K  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516720" y="4354560"/>
                <a:ext cx="612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1720" y="4164120"/>
                <a:ext cx="122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N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5618160"/>
                <a:ext cx="54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7008840" y="1068480"/>
            <a:ext cx="1809720" cy="1184760"/>
            <a:chOff x="7008840" y="1068480"/>
            <a:chExt cx="1809720" cy="1184760"/>
          </a:xfrm>
        </p:grpSpPr>
        <p:sp>
          <p:nvSpPr>
            <p:cNvPr id="408" name=""/>
            <p:cNvSpPr/>
            <p:nvPr/>
          </p:nvSpPr>
          <p:spPr>
            <a:xfrm>
              <a:off x="8501040" y="194616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142400" y="1319040"/>
              <a:ext cx="144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42400" y="2082960"/>
              <a:ext cx="14032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08840" y="1068480"/>
              <a:ext cx="37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142400" y="1436760"/>
              <a:ext cx="1635120" cy="623880"/>
              <a:chOff x="7142400" y="1436760"/>
              <a:chExt cx="1635120" cy="623880"/>
            </a:xfrm>
          </p:grpSpPr>
          <p:sp>
            <p:nvSpPr>
              <p:cNvPr id="413" name=""/>
              <p:cNvSpPr/>
              <p:nvPr/>
            </p:nvSpPr>
            <p:spPr>
              <a:xfrm>
                <a:off x="7142400" y="1436760"/>
                <a:ext cx="1233360" cy="623880"/>
              </a:xfrm>
              <a:custGeom>
                <a:avLst/>
                <a:gdLst/>
                <a:ahLst/>
                <a:rect l="l" t="t" r="r" b="b"/>
                <a:pathLst>
                  <a:path w="1392" h="864">
                    <a:moveTo>
                      <a:pt x="0" y="864"/>
                    </a:moveTo>
                    <a:cubicBezTo>
                      <a:pt x="80" y="852"/>
                      <a:pt x="160" y="840"/>
                      <a:pt x="240" y="816"/>
                    </a:cubicBezTo>
                    <a:cubicBezTo>
                      <a:pt x="320" y="792"/>
                      <a:pt x="392" y="768"/>
                      <a:pt x="480" y="720"/>
                    </a:cubicBezTo>
                    <a:cubicBezTo>
                      <a:pt x="568" y="672"/>
                      <a:pt x="616" y="648"/>
                      <a:pt x="768" y="528"/>
                    </a:cubicBezTo>
                    <a:cubicBezTo>
                      <a:pt x="920" y="408"/>
                      <a:pt x="1156" y="204"/>
                      <a:pt x="1392" y="0"/>
                    </a:cubicBezTo>
                  </a:path>
                </a:pathLst>
              </a:custGeom>
              <a:noFill/>
              <a:ln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124840" y="1629000"/>
                <a:ext cx="652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00"/>
                    </a:solidFill>
                    <a:latin typeface="Times New Roman"/>
                  </a:rPr>
                  <a:t>3Nk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 flipV="1">
                <a:off x="8048520" y="1730520"/>
                <a:ext cx="114120" cy="1238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6" name=""/>
          <p:cNvGraphicFramePr/>
          <p:nvPr/>
        </p:nvGraphicFramePr>
        <p:xfrm>
          <a:off x="3444840" y="2139840"/>
          <a:ext cx="1341360" cy="81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2139840"/>
                    <a:ext cx="134136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8" name=""/>
          <p:cNvGrpSpPr/>
          <p:nvPr/>
        </p:nvGrpSpPr>
        <p:grpSpPr>
          <a:xfrm>
            <a:off x="4940280" y="2303640"/>
            <a:ext cx="2376000" cy="392760"/>
            <a:chOff x="4940280" y="2303640"/>
            <a:chExt cx="2376000" cy="392760"/>
          </a:xfrm>
        </p:grpSpPr>
        <p:sp>
          <p:nvSpPr>
            <p:cNvPr id="419" name=""/>
            <p:cNvSpPr/>
            <p:nvPr/>
          </p:nvSpPr>
          <p:spPr>
            <a:xfrm>
              <a:off x="4940280" y="232812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lope of th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22760" y="2303640"/>
              <a:ext cx="893520" cy="294480"/>
            </a:xfrm>
            <a:custGeom>
              <a:avLst/>
              <a:gdLst/>
              <a:ahLst/>
              <a:rect l="l" t="t" r="r" b="b"/>
              <a:pathLst>
                <a:path w="497" h="143">
                  <a:moveTo>
                    <a:pt x="0" y="137"/>
                  </a:moveTo>
                  <a:cubicBezTo>
                    <a:pt x="104" y="140"/>
                    <a:pt x="208" y="143"/>
                    <a:pt x="291" y="120"/>
                  </a:cubicBezTo>
                  <a:cubicBezTo>
                    <a:pt x="374" y="97"/>
                    <a:pt x="435" y="48"/>
                    <a:pt x="497" y="0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759720" y="340668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</a:rPr>
              <a:t>Classical Result (Lecture 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4160" y="3854520"/>
            <a:ext cx="0" cy="2826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5440" y="1131480"/>
            <a:ext cx="8239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a molecule has several modes of motion, some may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e in equipartition, while others may be “frozen out”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sider a diatomic molecule (H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has three quadratic energy mod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br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larger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rresponding to T ~ 10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moderate energy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pacings,corresponding to T ~ 100 K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l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ave a continuous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nge of energies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ver ‘frozen’ ou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t T = 300 K, translations and rotation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tribute to the heat capacity,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ut not bond vibrations.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555200" y="5544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ny Modes of Motion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145120" y="2724120"/>
            <a:ext cx="3762360" cy="3394080"/>
            <a:chOff x="5145120" y="2724120"/>
            <a:chExt cx="3762360" cy="3394080"/>
          </a:xfrm>
        </p:grpSpPr>
        <p:grpSp>
          <p:nvGrpSpPr>
            <p:cNvPr id="426" name=""/>
            <p:cNvGrpSpPr/>
            <p:nvPr/>
          </p:nvGrpSpPr>
          <p:grpSpPr>
            <a:xfrm>
              <a:off x="5145120" y="2724120"/>
              <a:ext cx="3762360" cy="3394080"/>
              <a:chOff x="5145120" y="2724120"/>
              <a:chExt cx="3762360" cy="339408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6143760" y="3281400"/>
                <a:ext cx="2209320" cy="1252440"/>
                <a:chOff x="6143760" y="3281400"/>
                <a:chExt cx="2209320" cy="1252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8214840" y="3287520"/>
                  <a:ext cx="1382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6143760" y="3281400"/>
                  <a:ext cx="2080800" cy="1252440"/>
                  <a:chOff x="6143760" y="3281400"/>
                  <a:chExt cx="2080800" cy="1252440"/>
                </a:xfrm>
              </p:grpSpPr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143760" y="3916440"/>
                    <a:ext cx="852120" cy="617400"/>
                    <a:chOff x="6143760" y="3916440"/>
                    <a:chExt cx="852120" cy="61740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6143760" y="4533840"/>
                      <a:ext cx="40464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541920" y="3916440"/>
                      <a:ext cx="453960" cy="61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6986520" y="3281400"/>
                    <a:ext cx="1023480" cy="636480"/>
                    <a:chOff x="6986520" y="3281400"/>
                    <a:chExt cx="1023480" cy="63648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6986520" y="3917880"/>
                      <a:ext cx="481680" cy="0"/>
                    </a:xfrm>
                    <a:prstGeom prst="line">
                      <a:avLst/>
                    </a:prstGeom>
                    <a:ln w="2844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7468200" y="3281400"/>
                      <a:ext cx="541800" cy="63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592">
                          <a:moveTo>
                            <a:pt x="0" y="592"/>
                          </a:moveTo>
                          <a:cubicBezTo>
                            <a:pt x="40" y="584"/>
                            <a:pt x="80" y="577"/>
                            <a:pt x="105" y="532"/>
                          </a:cubicBezTo>
                          <a:cubicBezTo>
                            <a:pt x="130" y="487"/>
                            <a:pt x="130" y="402"/>
                            <a:pt x="150" y="322"/>
                          </a:cubicBezTo>
                          <a:cubicBezTo>
                            <a:pt x="170" y="242"/>
                            <a:pt x="200" y="104"/>
                            <a:pt x="225" y="52"/>
                          </a:cubicBezTo>
                          <a:cubicBezTo>
                            <a:pt x="250" y="0"/>
                            <a:pt x="275" y="3"/>
                            <a:pt x="300" y="7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6" name=""/>
                  <p:cNvSpPr/>
                  <p:nvPr/>
                </p:nvSpPr>
                <p:spPr>
                  <a:xfrm>
                    <a:off x="8010360" y="3289320"/>
                    <a:ext cx="21420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5523120" y="2724120"/>
                <a:ext cx="63324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87960" y="4340160"/>
                <a:ext cx="88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154480" y="3714840"/>
                <a:ext cx="97488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5120" y="3079800"/>
                <a:ext cx="94788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7/2 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464680" y="5442120"/>
                <a:ext cx="442800" cy="67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931000" y="2892600"/>
                <a:ext cx="0" cy="249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5946840" y="3290760"/>
                <a:ext cx="135000" cy="1846440"/>
                <a:chOff x="5946840" y="3290760"/>
                <a:chExt cx="135000" cy="184644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5946840" y="4214160"/>
                  <a:ext cx="135000" cy="923040"/>
                  <a:chOff x="5946840" y="4214160"/>
                  <a:chExt cx="135000" cy="92304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5946840" y="51372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946840" y="48294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946840" y="452160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946840" y="3290760"/>
                  <a:ext cx="135000" cy="923400"/>
                  <a:chOff x="5946840" y="3290760"/>
                  <a:chExt cx="135000" cy="9234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946840" y="42141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946840" y="39063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946840" y="35985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946840" y="3290760"/>
                    <a:ext cx="135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5934240" y="5153040"/>
                <a:ext cx="2737800" cy="257040"/>
                <a:chOff x="5934240" y="5153040"/>
                <a:chExt cx="2737800" cy="2570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934240" y="5408640"/>
                  <a:ext cx="273780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57280" y="5153040"/>
                  <a:ext cx="0" cy="249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805160" y="5172120"/>
                  <a:ext cx="0" cy="230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"/>
              <p:cNvSpPr/>
              <p:nvPr/>
            </p:nvSpPr>
            <p:spPr>
              <a:xfrm>
                <a:off x="5643720" y="5440320"/>
                <a:ext cx="282420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K            100K          1000K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02880" y="2747880"/>
              <a:ext cx="216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eat Capacity of H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58080" y="4586400"/>
            <a:ext cx="113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l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ver  freeze 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01200" y="398160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t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55200" y="3332160"/>
            <a:ext cx="11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ibrations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tribute abov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 ~ 1000 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: Boltzmann Distrib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040" y="1143000"/>
            <a:ext cx="8015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we have a system that is coupled to a heat reservoir at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of the reservoir decreases when the small system extract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is will be less likely (fewer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for the small system to be in a particular state with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given by the Boltzmann fa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,                            to mak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1960" indent="0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is called the “partition function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3289320"/>
          <a:ext cx="232092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289320"/>
                    <a:ext cx="2320920" cy="1198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392120" y="4597560"/>
          <a:ext cx="167976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4597560"/>
                    <a:ext cx="16797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6720" y="1346040"/>
            <a:ext cx="7320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Very sensitive mass measurements 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8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 sensitivity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n be made with nanocantilevers, like the one show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antilever vibrates with a frequenc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27 M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YI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= 6.6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-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= 1.3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J/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spacing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etween this oscillator’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 levels?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6.6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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t what temperatur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, will equipartition fail for this oscillato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2173320"/>
                <a:tab algn="l" pos="4059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8.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6.1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 = 295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203880" y="1425600"/>
            <a:ext cx="2874960" cy="2030400"/>
            <a:chOff x="6203880" y="1425600"/>
            <a:chExt cx="2874960" cy="2030400"/>
          </a:xfrm>
        </p:grpSpPr>
        <p:pic>
          <p:nvPicPr>
            <p:cNvPr id="468" name="" descr=""/>
            <p:cNvPicPr/>
            <p:nvPr/>
          </p:nvPicPr>
          <p:blipFill>
            <a:blip r:embed="rId1"/>
            <a:stretch/>
          </p:blipFill>
          <p:spPr>
            <a:xfrm>
              <a:off x="6303960" y="1425600"/>
              <a:ext cx="27050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6203880" y="3209760"/>
              <a:ext cx="287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i, e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Arial"/>
                </a:rPr>
                <a:t>t al.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 Nature Nanotechnology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,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p114 (2007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YI: Recent Physics Mileston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31400" y="57240"/>
            <a:ext cx="706932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Basics of Thermal Radia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505320" y="1600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960480" y="4764240"/>
          <a:ext cx="3066840" cy="82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4764240"/>
                    <a:ext cx="306684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46120" y="977760"/>
            <a:ext cx="79930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ery object in thermal equilibrium emits (and absorbs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magnetic (EM) waves from its surface. (It glows.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much? What colo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our purpos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feature of EM waves is that they oscillate with a frequency, f, just like a mechanical oscillator.  Therefore, the energy of an EM wave is a multiple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hf, just like a mechanical oscillator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e: Each of these packets of energ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hf is called a “photon”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means that in thermal equilibriu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verage energy of an EM wave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equency f is the same as the averag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ergy of a mechanical oscillator wi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ame 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8840" y="928800"/>
            <a:ext cx="2154240" cy="871560"/>
            <a:chOff x="6738840" y="928800"/>
            <a:chExt cx="2154240" cy="8715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6738840" y="928800"/>
              <a:ext cx="2154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7245720" y="963720"/>
              <a:ext cx="216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54200" y="1279440"/>
              <a:ext cx="27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69880" y="3602160"/>
            <a:ext cx="4086360" cy="2127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110200" y="3513240"/>
            <a:ext cx="3874680" cy="2311560"/>
            <a:chOff x="5110200" y="3513240"/>
            <a:chExt cx="3874680" cy="2311560"/>
          </a:xfrm>
        </p:grpSpPr>
        <p:sp>
          <p:nvSpPr>
            <p:cNvPr id="486" name=""/>
            <p:cNvSpPr/>
            <p:nvPr/>
          </p:nvSpPr>
          <p:spPr>
            <a:xfrm>
              <a:off x="5119560" y="3513240"/>
              <a:ext cx="3862440" cy="2304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581800" y="3844800"/>
              <a:ext cx="3071520" cy="18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5707440" y="5548320"/>
              <a:ext cx="3277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        kT        2kT       3kT        4kT       5kT       6kT  </a:t>
              </a: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hf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10200" y="3520800"/>
              <a:ext cx="686880" cy="21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40"/>
                  </a:solidFill>
                  <a:latin typeface="Arial"/>
                </a:rPr>
                <a:t>&lt;E&gt;  </a:t>
              </a: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8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6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4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.2k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2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40"/>
                  </a:solidFill>
                  <a:latin typeface="Arial"/>
                </a:rPr>
                <a:t>0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84800" y="607212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 frequency modes (such th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hf &lt;&lt; kT) satisfy equipartition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have &lt;E&gt; = kT.  High frequency modes do no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8800" y="3789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86080" y="50990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Equipartition </a:t>
            </a:r>
            <a:br>
              <a:rPr sz="900"/>
            </a:br>
            <a:r>
              <a:rPr b="0" lang="en-US" sz="900" spc="-1" strike="noStrike">
                <a:solidFill>
                  <a:srgbClr val="000040"/>
                </a:solidFill>
                <a:latin typeface="Arial"/>
              </a:rPr>
              <a:t>is not satisfi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9560" y="3513240"/>
            <a:ext cx="3862440" cy="2305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581800" y="3844800"/>
            <a:ext cx="3071520" cy="181296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5118120" y="5548320"/>
            <a:ext cx="3875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        kT        2kT       3kT        4kT       5kT       6kT  </a:t>
            </a: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h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8400" y="3510000"/>
            <a:ext cx="690840" cy="23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Arial"/>
              </a:rPr>
              <a:t>&lt;E&gt;  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8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6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4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.2k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0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1040" y="55440"/>
            <a:ext cx="7440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Planck Radiation Law </a:t>
            </a:r>
            <a:br>
              <a:rPr sz="4000"/>
            </a:b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“Black Body Radiatio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5280" y="5823000"/>
            <a:ext cx="723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formula applies to almost any hot object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 doesn’t matt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it’s hot gas on the sun, or the filament of a tungsten lam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4280" y="1373040"/>
            <a:ext cx="85662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calculation of &lt;E&gt; on the previous slide is for each mode (specific f).  However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we really want to know is how much energy there is per frequency interval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The more frequency modes there are near a particular frequency, the brighter the object is at that frequency.  This is similar to the degeneracy effect from last lec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density of frequency modes is proportional to f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ee “Elements” for the derivation)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the EM radiation intensity as a function of frequency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31400" y="3508200"/>
            <a:ext cx="3612600" cy="2354400"/>
            <a:chOff x="5531400" y="3508200"/>
            <a:chExt cx="3612600" cy="2354400"/>
          </a:xfrm>
        </p:grpSpPr>
        <p:sp>
          <p:nvSpPr>
            <p:cNvPr id="503" name=""/>
            <p:cNvSpPr/>
            <p:nvPr/>
          </p:nvSpPr>
          <p:spPr>
            <a:xfrm flipV="1">
              <a:off x="6434280" y="3735360"/>
              <a:ext cx="0" cy="156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35720" y="5299200"/>
              <a:ext cx="2540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23040" y="518940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819840" y="5322960"/>
              <a:ext cx="1050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.8 k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40640" y="5283360"/>
              <a:ext cx="1503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f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n energ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34280" y="4203720"/>
              <a:ext cx="2482560" cy="1095480"/>
            </a:xfrm>
            <a:custGeom>
              <a:avLst/>
              <a:gdLst/>
              <a:ahLst/>
              <a:rect l="l" t="t" r="r" b="b"/>
              <a:pathLst>
                <a:path w="1360" h="470">
                  <a:moveTo>
                    <a:pt x="0" y="470"/>
                  </a:moveTo>
                  <a:cubicBezTo>
                    <a:pt x="37" y="454"/>
                    <a:pt x="74" y="438"/>
                    <a:pt x="143" y="361"/>
                  </a:cubicBezTo>
                  <a:cubicBezTo>
                    <a:pt x="212" y="284"/>
                    <a:pt x="279" y="14"/>
                    <a:pt x="412" y="7"/>
                  </a:cubicBezTo>
                  <a:cubicBezTo>
                    <a:pt x="545" y="0"/>
                    <a:pt x="785" y="245"/>
                    <a:pt x="943" y="316"/>
                  </a:cubicBezTo>
                  <a:cubicBezTo>
                    <a:pt x="1101" y="387"/>
                    <a:pt x="1230" y="411"/>
                    <a:pt x="1360" y="436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54800" y="3508200"/>
              <a:ext cx="56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40600" y="3557520"/>
              <a:ext cx="1508040" cy="5806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he peak is at</a:t>
              </a:r>
              <a:br>
                <a:rPr sz="1600"/>
              </a:b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hf = 2.8k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31400" y="418464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98560" y="4300560"/>
              <a:ext cx="886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-hf/kT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ominat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8680" y="4641840"/>
              <a:ext cx="374400" cy="3398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47120" y="4735440"/>
              <a:ext cx="11160" cy="3160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8520" y="3900600"/>
            <a:ext cx="5184720" cy="1613880"/>
            <a:chOff x="398520" y="3900600"/>
            <a:chExt cx="5184720" cy="1613880"/>
          </a:xfrm>
        </p:grpSpPr>
        <p:graphicFrame>
          <p:nvGraphicFramePr>
            <p:cNvPr id="516" name=""/>
            <p:cNvGraphicFramePr/>
            <p:nvPr/>
          </p:nvGraphicFramePr>
          <p:xfrm>
            <a:off x="507960" y="3900600"/>
            <a:ext cx="3846600" cy="12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7960" y="3900600"/>
                      <a:ext cx="3846600" cy="12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8" name=""/>
            <p:cNvSpPr/>
            <p:nvPr/>
          </p:nvSpPr>
          <p:spPr>
            <a:xfrm>
              <a:off x="2219400" y="5025240"/>
              <a:ext cx="154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verage energ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er m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33640" y="5055480"/>
              <a:ext cx="17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umber of modes per 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28960" y="4148280"/>
              <a:ext cx="560520" cy="62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27160" y="3914640"/>
              <a:ext cx="1782720" cy="1149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8520" y="5049000"/>
              <a:ext cx="142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nergy per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equency interv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5240" y="63360"/>
            <a:ext cx="87138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Dependence of Color on Temperature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5600" y="1084320"/>
            <a:ext cx="8085240" cy="109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You can also write the Planck distribution in terms of power/unit wavelength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U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)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stead of power/unit frequency, U(f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. The energy distribution varies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3192480" y="1884240"/>
          <a:ext cx="229392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2480" y="1884240"/>
                    <a:ext cx="22939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77960" y="3678120"/>
            <a:ext cx="2185920" cy="438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4680" y="3338640"/>
            <a:ext cx="344160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e peak wavelength: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 = 0.00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9 m-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This relation is known a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en’s Displacement law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163560" y="1979640"/>
            <a:ext cx="2015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f = c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f 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d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  </a:t>
            </a:r>
            <a:br>
              <a:rPr sz="1600"/>
            </a:br>
            <a:r>
              <a:rPr b="0" lang="en-US" sz="1200" spc="-1" strike="noStrike">
                <a:solidFill>
                  <a:srgbClr val="00ffff"/>
                </a:solidFill>
                <a:latin typeface="Arial"/>
              </a:rPr>
              <a:t>(The - sign doesn’t matter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>
            <a:lum contrast="54000"/>
          </a:blip>
          <a:srcRect l="0" t="0" r="0" b="6857"/>
          <a:stretch/>
        </p:blipFill>
        <p:spPr>
          <a:xfrm>
            <a:off x="4354560" y="2946240"/>
            <a:ext cx="4497480" cy="31100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4319640" y="323676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U(</a:t>
            </a:r>
            <a:r>
              <a:rPr b="1" lang="en-US" sz="1400" spc="-1" strike="noStrike">
                <a:solidFill>
                  <a:srgbClr val="000040"/>
                </a:solidFill>
                <a:latin typeface="Symbol"/>
                <a:ea typeface="Symbol"/>
              </a:rPr>
              <a:t></a:t>
            </a:r>
            <a:r>
              <a:rPr b="1" lang="en-US" sz="1400" spc="-1" strike="noStrike">
                <a:solidFill>
                  <a:srgbClr val="00004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56000" y="6059520"/>
            <a:ext cx="4496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Wavelength (</a:t>
            </a:r>
            <a:r>
              <a:rPr b="0" lang="en-US" sz="1000" spc="-1" strike="noStrike">
                <a:solidFill>
                  <a:srgbClr val="00004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40"/>
                </a:solidFill>
                <a:latin typeface="Arial"/>
              </a:rPr>
              <a:t>m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9920" y="57240"/>
            <a:ext cx="858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Clas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Next Week: Heat Engi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04400" y="3929040"/>
            <a:ext cx="7162920" cy="292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processes and entr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modynamic cy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acting work from 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35080" y="915840"/>
            <a:ext cx="71629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Atmosp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579600" y="2208240"/>
          <a:ext cx="44035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208240"/>
                    <a:ext cx="44035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"/>
          <p:cNvSpPr/>
          <p:nvPr/>
        </p:nvSpPr>
        <p:spPr>
          <a:xfrm>
            <a:off x="955080" y="55440"/>
            <a:ext cx="7244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Derivation of &lt;E&gt; for the Harmonic Oscil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99240" y="17845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always tr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2880" y="3441600"/>
            <a:ext cx="2381400" cy="72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6280" y="438156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Arial"/>
              </a:rPr>
              <a:t>This is true for the harmonic oscill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863640" y="4670280"/>
          <a:ext cx="3892680" cy="205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3640" y="4670280"/>
                    <a:ext cx="38926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6" name=""/>
          <p:cNvSpPr/>
          <p:nvPr/>
        </p:nvSpPr>
        <p:spPr>
          <a:xfrm>
            <a:off x="844560" y="6121440"/>
            <a:ext cx="2139840" cy="59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7840" y="884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ymers play a major role in societ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0, Wallace Carothers (PhD UIUC, 1924) et. al at DuPont invent neopre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In 1935 Carothers goes on to invent nylon – “the miracle fiber” (but commits suicide in 1937, just before it’s importance is realized).  In WWII, nylon production was directed to making parachute canopi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Rubber also played a major role in WWII.  You </a:t>
            </a:r>
            <a:r>
              <a:rPr b="0" i="1" lang="en-US" sz="2200" spc="-1" strike="noStrike">
                <a:solidFill>
                  <a:srgbClr val="00ffff"/>
                </a:solidFill>
                <a:latin typeface="Arial"/>
              </a:rPr>
              <a:t>need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rubber for tires, gas masks, plane gasket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1941 our access to 90% of the rubber-producing countries was cut off by the Japanese attack on Pearl Harb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to do?  Make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syntheti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ubber.  Who did it fir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89960" indent="-17820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arl “Speed” Marvel, UIUC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Today, “plastics” are used for many, many, many thing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825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Other polymers of note: cellulose, proteins, DNA, 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49440" y="387360"/>
            <a:ext cx="620856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On the importance of polymers…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1760" y="54000"/>
            <a:ext cx="83390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erivation of Equipartition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for quadratic degrees of freedom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5920" y="1726920"/>
            <a:ext cx="82389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alculate &lt;E&gt;, we must perform a s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kT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energy spacing), then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can turn this sum into an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 is the variable that determines E 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speed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only subtle part is 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(q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This is the density of energy states p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nit q, needed to do the counting right.  For simplicity, we’ll assume that </a:t>
            </a:r>
            <a:r>
              <a:rPr b="0" i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lculate &lt;E&gt;, assuming that E = aq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, equipartition follows naturally fro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 assumptions, and we know when it fai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e the supplement for the behavior of linear mo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61120" y="3925800"/>
          <a:ext cx="28112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1120" y="3925800"/>
                    <a:ext cx="28112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5332320" y="1587600"/>
          <a:ext cx="15001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2320" y="1587600"/>
                    <a:ext cx="15001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5364000" y="2189160"/>
          <a:ext cx="2814840" cy="7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189160"/>
                    <a:ext cx="28148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7440" y="56880"/>
            <a:ext cx="815976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quipartition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for Linear Degrees of Freedo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06440" y="1536840"/>
            <a:ext cx="829152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we talk about equipartition, (&lt;E&gt; = ½kT per mode) we say “quadratic”, to remind us that the energy is a quadratic function of the variable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½mv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ever, sometimes the energy is a linear function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E = mgh)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es equipartition work in that ca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oltzmann tells us the answ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calculate &lt;E&gt;, assuming that there are lots of states with E &lt; kT, (necessary for equipartition), and that these states are uniformly spaced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y (to simplify the calculation). Suppose E(y) = a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linear mode has twice as much energy, kT, as each quadratic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950760" y="4394160"/>
          <a:ext cx="575640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4394160"/>
                    <a:ext cx="57564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0600" y="54000"/>
            <a:ext cx="87058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tatistical Mechanics of a Polym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999720"/>
            <a:ext cx="76122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olymer is a molecular chai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rubber), consist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many parts linked together.  The joints are flexib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 we consider a simple (i.e., crude) model of a polymer, to understand one aspect of some of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weight hanging from a chain.  Each link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s length a, and can only point up or down.  Thus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 system containing “2-state” component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similar to the spin problem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link has two energy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ason is that when a link flips from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wn to up, the weight rises by 2a.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We ignore the weight of the chain itself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molecular version of this experiment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eight is replaced by an atomic force instr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664320" y="2905200"/>
            <a:ext cx="2103480" cy="3107520"/>
            <a:chOff x="6664320" y="2905200"/>
            <a:chExt cx="2103480" cy="3107520"/>
          </a:xfrm>
        </p:grpSpPr>
        <p:sp>
          <p:nvSpPr>
            <p:cNvPr id="63" name=""/>
            <p:cNvSpPr/>
            <p:nvPr/>
          </p:nvSpPr>
          <p:spPr>
            <a:xfrm>
              <a:off x="7593120" y="29052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69080" y="3287880"/>
              <a:ext cx="15264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846920" y="298296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96160" y="4278240"/>
              <a:ext cx="15264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3880" y="387180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4200" y="434196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3280" y="4761000"/>
              <a:ext cx="152280" cy="759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9080" y="290664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74000" y="305928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04200" y="441792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43880" y="3948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7796160" y="38847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1400" y="3922560"/>
              <a:ext cx="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821720" y="298296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7974000" y="3440160"/>
              <a:ext cx="152280" cy="507960"/>
              <a:chOff x="7974000" y="3440160"/>
              <a:chExt cx="152280" cy="507960"/>
            </a:xfrm>
          </p:grpSpPr>
          <p:sp>
            <p:nvSpPr>
              <p:cNvPr id="78" name=""/>
              <p:cNvSpPr/>
              <p:nvPr/>
            </p:nvSpPr>
            <p:spPr>
              <a:xfrm>
                <a:off x="7974000" y="344016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974000" y="3871800"/>
                <a:ext cx="152280" cy="7632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07560" y="3508560"/>
                <a:ext cx="0" cy="380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7211880" y="2916360"/>
              <a:ext cx="1330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43840" y="4836960"/>
              <a:ext cx="990360" cy="68580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56440" y="50022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0"/>
                  </a:solidFill>
                  <a:latin typeface="Arial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4560" y="2962440"/>
              <a:ext cx="0" cy="1861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64320" y="36752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386920" y="3503520"/>
              <a:ext cx="380880" cy="390600"/>
              <a:chOff x="8386920" y="3503520"/>
              <a:chExt cx="380880" cy="390600"/>
            </a:xfrm>
          </p:grpSpPr>
          <p:sp>
            <p:nvSpPr>
              <p:cNvPr id="87" name=""/>
              <p:cNvSpPr/>
              <p:nvPr/>
            </p:nvSpPr>
            <p:spPr>
              <a:xfrm>
                <a:off x="8402760" y="3513240"/>
                <a:ext cx="0" cy="38088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386920" y="350352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604280" y="5332320"/>
              <a:ext cx="9360" cy="398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4200" y="5675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 = m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611600" y="4295880"/>
            <a:ext cx="1714320" cy="425520"/>
            <a:chOff x="4611600" y="4295880"/>
            <a:chExt cx="1714320" cy="425520"/>
          </a:xfrm>
        </p:grpSpPr>
        <p:sp>
          <p:nvSpPr>
            <p:cNvPr id="92" name=""/>
            <p:cNvSpPr/>
            <p:nvPr/>
          </p:nvSpPr>
          <p:spPr>
            <a:xfrm>
              <a:off x="4638600" y="429588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11600" y="4721400"/>
              <a:ext cx="12952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116320" y="433080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73200" y="43243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 = 2a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169120" y="1306440"/>
            <a:ext cx="152280" cy="507960"/>
            <a:chOff x="8169120" y="1306440"/>
            <a:chExt cx="152280" cy="507960"/>
          </a:xfrm>
        </p:grpSpPr>
        <p:sp>
          <p:nvSpPr>
            <p:cNvPr id="97" name=""/>
            <p:cNvSpPr/>
            <p:nvPr/>
          </p:nvSpPr>
          <p:spPr>
            <a:xfrm>
              <a:off x="8169120" y="130644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69120" y="1738080"/>
              <a:ext cx="152280" cy="763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02680" y="137484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80160" y="1527120"/>
            <a:ext cx="14889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88560" y="61920"/>
            <a:ext cx="7162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29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ur  polymer ha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30 segmen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ach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ength 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ch segment can be oriented up or d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chain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entropy stat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30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L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0 &lt; L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&lt; 3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chai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3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18360" y="933480"/>
            <a:ext cx="1528920" cy="4136760"/>
            <a:chOff x="7218360" y="933480"/>
            <a:chExt cx="1528920" cy="4136760"/>
          </a:xfrm>
        </p:grpSpPr>
        <p:grpSp>
          <p:nvGrpSpPr>
            <p:cNvPr id="104" name=""/>
            <p:cNvGrpSpPr/>
            <p:nvPr/>
          </p:nvGrpSpPr>
          <p:grpSpPr>
            <a:xfrm>
              <a:off x="7639200" y="947520"/>
              <a:ext cx="1108080" cy="4122720"/>
              <a:chOff x="7639200" y="947520"/>
              <a:chExt cx="1108080" cy="4122720"/>
            </a:xfrm>
          </p:grpSpPr>
          <p:sp>
            <p:nvSpPr>
              <p:cNvPr id="105" name=""/>
              <p:cNvSpPr/>
              <p:nvPr/>
            </p:nvSpPr>
            <p:spPr>
              <a:xfrm>
                <a:off x="8015400" y="2208240"/>
                <a:ext cx="152280" cy="75960"/>
              </a:xfrm>
              <a:prstGeom prst="ellips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639200" y="947520"/>
                <a:ext cx="1108080" cy="4122720"/>
                <a:chOff x="7639200" y="947520"/>
                <a:chExt cx="1108080" cy="4122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882200" y="94752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975800" y="134748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99560" y="178740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920" y="263052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120160" y="3062160"/>
                  <a:ext cx="15228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04240" y="3483000"/>
                  <a:ext cx="152640" cy="7596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55000" y="386208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055000" y="4298760"/>
                  <a:ext cx="152640" cy="76320"/>
                </a:xfrm>
                <a:prstGeom prst="ellipse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974000" y="1022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016840" y="186192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190000" y="39304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8031240" y="35510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131320" y="313344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267760" y="271620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26640" y="1430280"/>
                  <a:ext cx="0" cy="380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159760" y="2257200"/>
                  <a:ext cx="0" cy="381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7639200" y="4384440"/>
                  <a:ext cx="1108080" cy="685800"/>
                  <a:chOff x="7639200" y="4384440"/>
                  <a:chExt cx="1108080" cy="68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7639200" y="4384440"/>
                    <a:ext cx="990720" cy="685800"/>
                  </a:xfrm>
                  <a:prstGeom prst="rect">
                    <a:avLst/>
                  </a:prstGeom>
                  <a:solidFill>
                    <a:srgbClr val="feff7e"/>
                  </a:solidFill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680600" y="4503600"/>
                    <a:ext cx="1066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40"/>
                        </a:solidFill>
                        <a:latin typeface="Arial"/>
                      </a:rPr>
                      <a:t>w = mg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 flipV="1">
              <a:off x="7218360" y="933480"/>
              <a:ext cx="13176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47280" y="1258920"/>
            <a:ext cx="826452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 is mathematically the same as the spin system with the substit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     w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length of the rubber band is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compare with magnetization resul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verage energy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the polymer stretches, its entropy decreases, and the reservoir’s entropy increases (becaus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s)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aximum total entropy occurs at an intermediate leng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at L=0 or L=Na), where the two effects canc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happens when you heat the rubber b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0200" y="17254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16040" y="2246400"/>
          <a:ext cx="26132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2246400"/>
                    <a:ext cx="26132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63560" y="3460680"/>
          <a:ext cx="157500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460680"/>
                    <a:ext cx="157500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53040" y="2743200"/>
            <a:ext cx="204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= # segments,           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= segment leng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 = m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69640" y="60120"/>
            <a:ext cx="8582040" cy="61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Equilibrium Length 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88560" y="61560"/>
            <a:ext cx="71629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3200" y="1010880"/>
            <a:ext cx="736416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rapidly stretc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rubber band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egment configurations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decrea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remain the sa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600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9040" y="1932120"/>
            <a:ext cx="2705040" cy="202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6T14:23:32Z</dcterms:created>
  <dc:creator>Mike Weissman</dc:creator>
  <dc:description/>
  <cp:keywords/>
  <dc:language>en-US</dc:language>
  <cp:lastModifiedBy>kwiat</cp:lastModifiedBy>
  <cp:lastPrinted>1997-01-30T13:11:51Z</cp:lastPrinted>
  <dcterms:modified xsi:type="dcterms:W3CDTF">2013-02-18T03:36:04Z</dcterms:modified>
  <cp:revision>602</cp:revision>
  <dc:subject/>
  <dc:title>Physics 113: Lecture 1 Fluids and Thermal Physics  Agenda for Tod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