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542BC42-EDE9-43ED-9A9F-6C84E44A8B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88720" y="70488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gizmodo.com/gadgets/darwin-at-work/why-you-shouldnt-smash-a-can-of-wd+40-280250.php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3560" bIns="435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ic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y” molecu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p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ot air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LN2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ry ice 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e/N2 whis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Fir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ntro.chem.okstate.edu/1314F00/Laboratory/GLP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This is sometimes important, when the interaction of one component of a gas depends 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only on the pressure of that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liter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1 atm =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4 p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them alpha-ideal gase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gizmodo.com/gadgets/darwin-at-work/why-you-shouldnt-smash-a-can-of-wd+40-280250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.aol.com/video-detail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v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2000-fps/2303150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How cold can you get?  &lt; 100pK pres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ycle p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-starter demo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ilberforce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omputer demo – start with all he. Add one Neon. Although it moves more slowly, the mass makes up for it, so that the average energy i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http://galileo.phys.virginia.edu/classes/109N/more_stuff/Applets/Piston/jarapple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9080" y="70488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Hot air balloon: constant P, increase 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ase V, lower rho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uy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 Can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sk what’s chang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N cannon is not due to the gas heating up, but the change in state – N is chang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62920" y="6632640"/>
            <a:ext cx="1081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 </a:t>
            </a:r>
            <a:fld id="{1632F9AD-B35F-427A-8ECE-0DAA2147CA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38CA4363-882D-4817-99E0-B58E600C37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ntro.chem.okstate.edu/1314F00/Laboratory/GLP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280200" y="1479600"/>
            <a:ext cx="1809720" cy="2155680"/>
            <a:chOff x="6280200" y="1479600"/>
            <a:chExt cx="1809720" cy="2155680"/>
          </a:xfrm>
        </p:grpSpPr>
        <p:grpSp>
          <p:nvGrpSpPr>
            <p:cNvPr id="85" name=""/>
            <p:cNvGrpSpPr/>
            <p:nvPr/>
          </p:nvGrpSpPr>
          <p:grpSpPr>
            <a:xfrm>
              <a:off x="6513480" y="1479600"/>
              <a:ext cx="1413000" cy="1341360"/>
              <a:chOff x="6513480" y="1479600"/>
              <a:chExt cx="1413000" cy="1341360"/>
            </a:xfrm>
          </p:grpSpPr>
          <p:sp>
            <p:nvSpPr>
              <p:cNvPr id="86" name=""/>
              <p:cNvSpPr/>
              <p:nvPr/>
            </p:nvSpPr>
            <p:spPr>
              <a:xfrm>
                <a:off x="6932880" y="243504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518520" y="157932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45240" y="1785960"/>
                <a:ext cx="1157400" cy="187200"/>
              </a:xfrm>
              <a:prstGeom prst="rect">
                <a:avLst/>
              </a:prstGeom>
              <a:solidFill>
                <a:srgbClr val="7144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3480" y="2762280"/>
                <a:ext cx="1378080" cy="5868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829640" y="1585800"/>
                <a:ext cx="96840" cy="12319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77240" y="253836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243920" y="235584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32880" y="21780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77240" y="228132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43920" y="2097000"/>
                <a:ext cx="6840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160" bIns="-111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4680" y="248760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39040" y="2590560"/>
                <a:ext cx="6984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05720" y="2408040"/>
                <a:ext cx="68400" cy="478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-11880" bIns="-1188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388280" y="220176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33000" y="23050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53300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737400" y="251136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82120" y="2614680"/>
                <a:ext cx="680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37400" y="2046240"/>
                <a:ext cx="6840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09040" y="2252520"/>
                <a:ext cx="69840" cy="493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70840" y="2665440"/>
                <a:ext cx="69840" cy="489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77360" y="261468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26480" y="2046240"/>
                <a:ext cx="69840" cy="475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004160" y="1479600"/>
                <a:ext cx="433440" cy="309600"/>
                <a:chOff x="7004160" y="1479600"/>
                <a:chExt cx="433440" cy="3096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21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00416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437600" y="1479600"/>
                  <a:ext cx="0" cy="309600"/>
                </a:xfrm>
                <a:prstGeom prst="line">
                  <a:avLst/>
                </a:prstGeom>
                <a:ln w="25560">
                  <a:solidFill>
                    <a:srgbClr val="fafd00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6280200" y="2835360"/>
              <a:ext cx="1809720" cy="799920"/>
              <a:chOff x="6280200" y="2835360"/>
              <a:chExt cx="1809720" cy="799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6280200" y="3197160"/>
                <a:ext cx="1809720" cy="438120"/>
                <a:chOff x="6280200" y="3197160"/>
                <a:chExt cx="1809720" cy="4381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80200" y="3197160"/>
                  <a:ext cx="1809720" cy="20628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280200" y="3251160"/>
                  <a:ext cx="1809720" cy="384120"/>
                </a:xfrm>
                <a:prstGeom prst="rect">
                  <a:avLst/>
                </a:prstGeom>
                <a:solidFill>
                  <a:srgbClr val="a50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6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hermal reservoi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722160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0416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39040" y="2835360"/>
                <a:ext cx="0" cy="3092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0" name=""/>
          <p:cNvGraphicFramePr/>
          <p:nvPr/>
        </p:nvGraphicFramePr>
        <p:xfrm>
          <a:off x="5295960" y="3848040"/>
          <a:ext cx="328752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3848040"/>
                    <a:ext cx="328752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07960" y="1700280"/>
            <a:ext cx="464184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5000"/>
          </a:bodyPr>
          <a:p>
            <a:pPr marL="148320" indent="-1483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ar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aw of Thermodyna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tern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19120" y="65160"/>
            <a:ext cx="629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2: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000" y="6022800"/>
            <a:ext cx="4641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: Elements Ch.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934320" y="1295280"/>
          <a:ext cx="1350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95280"/>
                    <a:ext cx="1350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38280" y="1208160"/>
            <a:ext cx="666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fixed volume of an ideal gas. Becaus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V = NkT, if you double either T or N, p goes up b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actor of 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double 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times as oft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ular molecule hit the container wall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x1.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x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78560" y="66600"/>
            <a:ext cx="690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 Ideal gas behavi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64960" y="61920"/>
            <a:ext cx="85978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alton’s Law of Partial Pressure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or Ideal G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274760"/>
            <a:ext cx="809784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derivation of pV=NkT, we never assumed that the molecul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re all the same.  All we used was equipartition and that the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n’t interact muc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is the total number of molecules in the gas, independent of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p is proportional to N, if a gas has multiple component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ressure is the sum of the individual partial pressur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 where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T /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ir is 78%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by number of molecules, not by mass), so the parti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 of the N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0.78 atmosph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8480" y="5592600"/>
            <a:ext cx="834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Dalton’s law does not hold for internal energy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energy per molecule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do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 on the type.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per molecule is proportional to the number of energy mo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65160"/>
            <a:ext cx="7418520" cy="107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Avogadro Constant, N</a:t>
            </a:r>
            <a:r>
              <a:rPr b="0" lang="en-US" sz="4000" spc="-1" strike="noStrike" baseline="-25000">
                <a:solidFill>
                  <a:srgbClr val="ff7c8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and the Gas Constant, R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4920" y="14871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6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metimes it is useful to specify the number of mo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stead of the number of atoms or molecules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deal gas law can be written in terms o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V = NkT = n(N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k)T = nR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 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 N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gas constant = 8.314 J/mol-K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mole of an ideal gas at atmospheric pressure and 0º C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 = 0º C = 273 K, and p = 1 atm = 1.0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Pa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59000" y="2205000"/>
          <a:ext cx="122868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205000"/>
                    <a:ext cx="122868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2994480" y="2182680"/>
            <a:ext cx="41486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</a:rPr>
              <a:t>A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6.022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/m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vogadro consta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373040" y="5500800"/>
          <a:ext cx="5346720" cy="64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3040" y="5500800"/>
                    <a:ext cx="534672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130400" y="9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0720" y="1149480"/>
            <a:ext cx="823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Equipartition applies: U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k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” means that the molecules interact very weakly (no liquids or solid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constant over limited ranges of temperatures (cf Elements, Ch. 3C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9000" y="260280"/>
            <a:ext cx="698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Classical Ideal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6680" y="1910520"/>
            <a:ext cx="17366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At room temperature, </a:t>
            </a:r>
            <a:br>
              <a:rPr sz="1200"/>
            </a:br>
            <a:r>
              <a:rPr b="1" i="1" lang="en-US" sz="1200" spc="-1" strike="noStrike">
                <a:solidFill>
                  <a:srgbClr val="fafd00"/>
                </a:solidFill>
                <a:latin typeface="Arial"/>
              </a:rPr>
              <a:t>for most gases</a:t>
            </a:r>
            <a:r>
              <a:rPr b="1" i="1" lang="en-US" sz="900" spc="-1" strike="noStrike">
                <a:solidFill>
                  <a:srgbClr val="fafd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5200" y="2538360"/>
            <a:ext cx="296640" cy="2905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1320" y="2527200"/>
          <a:ext cx="1138320" cy="3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1320" y="2527200"/>
                    <a:ext cx="1138320" cy="378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72760" y="2433600"/>
            <a:ext cx="4401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atomic 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He, Ne, Ar, …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CO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2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linear rigid molecul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(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N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translational modes (x, y, 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 3 rotational modes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classical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pends on the type of molecu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421320" y="3511440"/>
          <a:ext cx="108900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1320" y="3511440"/>
                    <a:ext cx="1089000" cy="3859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398520" y="3554280"/>
            <a:ext cx="742680" cy="290520"/>
            <a:chOff x="398520" y="3554280"/>
            <a:chExt cx="742680" cy="290520"/>
          </a:xfrm>
        </p:grpSpPr>
        <p:sp>
          <p:nvSpPr>
            <p:cNvPr id="248" name=""/>
            <p:cNvSpPr/>
            <p:nvPr/>
          </p:nvSpPr>
          <p:spPr>
            <a:xfrm>
              <a:off x="39852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4200" y="3554280"/>
              <a:ext cx="297000" cy="29052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5400" y="3699360"/>
              <a:ext cx="445680" cy="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25520" y="4606920"/>
            <a:ext cx="742680" cy="651960"/>
            <a:chOff x="425520" y="4606920"/>
            <a:chExt cx="742680" cy="651960"/>
          </a:xfrm>
        </p:grpSpPr>
        <p:sp>
          <p:nvSpPr>
            <p:cNvPr id="252" name=""/>
            <p:cNvSpPr/>
            <p:nvPr/>
          </p:nvSpPr>
          <p:spPr>
            <a:xfrm>
              <a:off x="42552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1200" y="4606920"/>
              <a:ext cx="297000" cy="2898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8360" y="4969440"/>
              <a:ext cx="297000" cy="2894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20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97040" y="4752000"/>
              <a:ext cx="222840" cy="36216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57" name=""/>
          <p:cNvGraphicFramePr/>
          <p:nvPr/>
        </p:nvGraphicFramePr>
        <p:xfrm>
          <a:off x="6421320" y="4614840"/>
          <a:ext cx="1001880" cy="31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1320" y="4614840"/>
                    <a:ext cx="1001880" cy="311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55760" y="6448320"/>
            <a:ext cx="731016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se relations for ideal gases only apply in some ranges of 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423120" y="5719680"/>
          <a:ext cx="171108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3120" y="5719680"/>
                    <a:ext cx="1711080" cy="3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7680" y="484200"/>
            <a:ext cx="930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666720" y="1436760"/>
            <a:ext cx="7675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essurized gas bottle (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V = 0.05 m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contains helium gas at a press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 = 1x10</a:t>
            </a:r>
            <a:r>
              <a:rPr b="0" lang="en-US" sz="1800" spc="-1" strike="noStrike" baseline="30000">
                <a:solidFill>
                  <a:srgbClr val="ffff66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P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emperature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What is the internal thermal energy of this gas?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1960" y="65160"/>
            <a:ext cx="8212320" cy="69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: Internal Energy of a Ga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579600" y="1262160"/>
            <a:ext cx="783108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iner A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gas (a monatomic gas) a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sure 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Container B contain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droge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a diatomic gas) a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p, 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mpare the thermal energ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Compare the temperat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 the two cas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18960" y="65160"/>
            <a:ext cx="8804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Kinetic Energy of a G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01200" y="1065240"/>
            <a:ext cx="8101080" cy="23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room at room temperature (T = 300 K) and atmospheric pressure measures 3.0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.4 m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.2 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Estimate  the number of molecules in the ro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Estimate the total translational KE associated with the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)  If we assume these molecules are primarily nitrogen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molecules, what is their average (rms)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8794800" cy="41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Changing the Internal Energ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2892600"/>
            <a:ext cx="57290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a “state” function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 depends only on the sta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system (that is, on 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, V,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, etc.) </a:t>
            </a:r>
            <a:br>
              <a:rPr sz="1800"/>
            </a:b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does not depend on the history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are “process” energi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They only tell you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out the flow of energy, not how much there is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and Q depend on the history of the system,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it evolves from one state to an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840" y="1081080"/>
            <a:ext cx="759492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are two simple ways to change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ternal energy (U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a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the environment d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ork (W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 the syste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at (Q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low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o the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enviro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360" y="5759280"/>
            <a:ext cx="870732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menclature: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One can also talk about work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he system on the environment: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-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Be careful abou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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ig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by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expands; W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o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positive if the system is compressed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041480" y="2311560"/>
            <a:ext cx="2035080" cy="3224160"/>
            <a:chOff x="1041480" y="2311560"/>
            <a:chExt cx="2035080" cy="3224160"/>
          </a:xfrm>
        </p:grpSpPr>
        <p:sp>
          <p:nvSpPr>
            <p:cNvPr id="275" name=""/>
            <p:cNvSpPr/>
            <p:nvPr/>
          </p:nvSpPr>
          <p:spPr>
            <a:xfrm>
              <a:off x="1290600" y="3273120"/>
              <a:ext cx="1219320" cy="276120"/>
            </a:xfrm>
            <a:prstGeom prst="rect">
              <a:avLst/>
            </a:prstGeom>
            <a:solidFill>
              <a:srgbClr val="7144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152720" y="2968560"/>
              <a:ext cx="1487520" cy="1829520"/>
              <a:chOff x="1152720" y="2968560"/>
              <a:chExt cx="1487520" cy="182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1157400" y="2968560"/>
                <a:ext cx="10152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52720" y="4711320"/>
                <a:ext cx="1450800" cy="867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538360" y="2977560"/>
                <a:ext cx="101880" cy="181584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387440" y="3655800"/>
              <a:ext cx="1063800" cy="986760"/>
              <a:chOff x="1387440" y="3655800"/>
              <a:chExt cx="1063800" cy="986760"/>
            </a:xfrm>
          </p:grpSpPr>
          <p:sp>
            <p:nvSpPr>
              <p:cNvPr id="281" name=""/>
              <p:cNvSpPr/>
              <p:nvPr/>
            </p:nvSpPr>
            <p:spPr>
              <a:xfrm>
                <a:off x="1594080" y="4230360"/>
                <a:ext cx="7272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46360" y="438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0960" y="41126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594080" y="3849120"/>
                <a:ext cx="7272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746360" y="40017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20960" y="37317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74960" y="430632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27240" y="445896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01840" y="41889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5760" bIns="5760" anchor="ctr">
                <a:noAutofit/>
              </a:bodyPr>
              <a:p>
                <a:pPr marL="285840" indent="-28584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73240" y="38840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25880" y="40366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2588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87440" y="43412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4008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744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463760" y="396036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44640" y="456984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378160" y="4493880"/>
                <a:ext cx="73080" cy="72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2360" y="3655800"/>
                <a:ext cx="73080" cy="7272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613160" y="2788920"/>
              <a:ext cx="465120" cy="456840"/>
              <a:chOff x="1613160" y="2788920"/>
              <a:chExt cx="465120" cy="45684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184464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61316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078280" y="2788920"/>
                <a:ext cx="0" cy="456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1041480" y="5297400"/>
              <a:ext cx="2035080" cy="23832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rmal reservo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130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44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41640" y="4848120"/>
              <a:ext cx="0" cy="4568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77840" y="487512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76080" y="2311560"/>
              <a:ext cx="58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W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24000" y="3695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5960" y="316692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abl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38240" y="3419640"/>
            <a:ext cx="412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268560" y="74520"/>
            <a:ext cx="9673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&amp;  Absolute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empera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2440" y="950760"/>
            <a:ext cx="79992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of the principal aims of this course is to gain a generally applicable definition of absolute temperature from statistical mechanics (counting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ow: absolute temperature T is proportional to the average translational kinetic energy of a particle in a g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K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ra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gt; = constant  x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fact, each independent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quadrati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rm in the energy of a particle in the gas  (e.g., ½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½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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ut not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found to have the averag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lt;Energy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od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&gt; = ½ k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artition Theor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= Boltzmann constant = 1.38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/K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independent of the particle’s properties (mass, charg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337000"/>
            <a:ext cx="531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0240" y="5770440"/>
            <a:ext cx="67708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will show later why and when this theorem appl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6160" y="4357800"/>
            <a:ext cx="608472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139840" y="10843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is conserved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0520" y="65160"/>
            <a:ext cx="8569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First Law of Thermodynamics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2779560" y="2004840"/>
            <a:ext cx="3710160" cy="64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+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05560" y="319896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done</a:t>
            </a:r>
            <a:br>
              <a:rPr sz="1800"/>
            </a:b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6080" y="315612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intern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74960" y="3184560"/>
            <a:ext cx="180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t added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7680" y="267660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2960" y="4206960"/>
            <a:ext cx="33274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U   =   Q  -  W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14880" y="2679840"/>
            <a:ext cx="288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2679840"/>
            <a:ext cx="3240" cy="550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56120" y="5645160"/>
            <a:ext cx="630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For the rest of the course, unless explicitly stated, we will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gnore K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only consider internal energy that does not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ribute to the motion of the system as a who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601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Heat?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04640" y="885960"/>
            <a:ext cx="8504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 to mid-1800’s heat was usually considered to be a distinct substance, caloric fluid, stored in an objects and transferred between objects.  In the 1840s Joule, Rumford, and others discovered that heat is ener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term “heat” (Q) is now used to describe thermal energy flow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mal energy transferred into or out of a system from some other object that has thermal energy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cf. cash transfers into and out of your bank account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 not confuse heat (Q) with the system’s internal thermal energy (U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’s confusing the account balance with the deposits and withdraw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gn conven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gt; 0:  Thermal energy is flowing i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&lt; 0:   Thermal energy is flowing o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36160" y="66240"/>
            <a:ext cx="86583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2044440"/>
            <a:ext cx="6288120" cy="20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y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principal processes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cho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bar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sothermal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  <a:p>
            <a:pPr marL="142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iabatic</a:t>
            </a:r>
            <a:endParaRPr b="0" lang="en-US" sz="2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5000" y="56880"/>
            <a:ext cx="868860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quipartition of Energy: Examples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10480" y="2733840"/>
            <a:ext cx="612720" cy="185040"/>
            <a:chOff x="7710480" y="2733840"/>
            <a:chExt cx="612720" cy="185040"/>
          </a:xfrm>
        </p:grpSpPr>
        <p:sp>
          <p:nvSpPr>
            <p:cNvPr id="132" name=""/>
            <p:cNvSpPr/>
            <p:nvPr/>
          </p:nvSpPr>
          <p:spPr>
            <a:xfrm>
              <a:off x="7710480" y="2733840"/>
              <a:ext cx="18108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42480" y="2738160"/>
              <a:ext cx="180720" cy="180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07400" y="2832120"/>
              <a:ext cx="230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6200" y="1113840"/>
            <a:ext cx="8869680" cy="55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 point partic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nly translational kinetic energy 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(x, y, z component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verage energy is independent of mas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tomic molecul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ranslational and rotational kinetic energy</a:t>
            </a:r>
            <a:br>
              <a:rPr sz="1800"/>
            </a:b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(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normal temperatures, vibrations aren’t active in molecules.  We’ll see why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n a spring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and potential ener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brations in solid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inetic + potential energy in 3 dimen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+ &lt;½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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+&lt;½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v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gt; =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average thermal energy per ato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re are N atoms in the solid, the total thermal energy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13640" y="1723680"/>
            <a:ext cx="901440" cy="397440"/>
            <a:chOff x="7613640" y="1723680"/>
            <a:chExt cx="901440" cy="397440"/>
          </a:xfrm>
        </p:grpSpPr>
        <p:sp>
          <p:nvSpPr>
            <p:cNvPr id="137" name=""/>
            <p:cNvSpPr/>
            <p:nvPr/>
          </p:nvSpPr>
          <p:spPr>
            <a:xfrm>
              <a:off x="7613640" y="1815840"/>
              <a:ext cx="165240" cy="16164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66280" y="1733400"/>
              <a:ext cx="312480" cy="12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0200" y="1723680"/>
              <a:ext cx="884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53280" y="3776400"/>
            <a:ext cx="1780920" cy="1240200"/>
            <a:chOff x="7253280" y="3776400"/>
            <a:chExt cx="1780920" cy="1240200"/>
          </a:xfrm>
        </p:grpSpPr>
        <p:sp>
          <p:nvSpPr>
            <p:cNvPr id="141" name=""/>
            <p:cNvSpPr/>
            <p:nvPr/>
          </p:nvSpPr>
          <p:spPr>
            <a:xfrm>
              <a:off x="8321400" y="4594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3280" y="4334040"/>
              <a:ext cx="125388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94400" y="4684680"/>
              <a:ext cx="130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524720" y="4592520"/>
              <a:ext cx="63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840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80320" y="4592520"/>
              <a:ext cx="6480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360" y="4592520"/>
              <a:ext cx="6372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0884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768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8038800" y="4684680"/>
              <a:ext cx="651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650000" y="4592520"/>
              <a:ext cx="6516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4684680"/>
              <a:ext cx="128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37520" y="4592520"/>
              <a:ext cx="25848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2640" y="445464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9000" y="430200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55000" y="4011480"/>
              <a:ext cx="12600" cy="9064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92320" y="3776400"/>
              <a:ext cx="109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00ffff"/>
                  </a:solidFill>
                  <a:latin typeface="Arial"/>
                </a:rPr>
                <a:t>x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99080" y="4175280"/>
              <a:ext cx="85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84760" y="4068720"/>
              <a:ext cx="4320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1364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653240" y="4068360"/>
              <a:ext cx="4428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699320" y="4068720"/>
              <a:ext cx="410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73892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83200" y="4068720"/>
              <a:ext cx="4320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824600" y="4174920"/>
              <a:ext cx="428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27960" y="406872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567560" y="4068360"/>
              <a:ext cx="428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70680" y="41752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56360" y="4059360"/>
              <a:ext cx="258840" cy="182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67320" y="3930480"/>
              <a:ext cx="131760" cy="4604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2360" y="382752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         </a:t>
              </a:r>
              <a:r>
                <a:rPr b="0" i="1" lang="en-US" sz="900" spc="-1" strike="noStrike">
                  <a:solidFill>
                    <a:srgbClr val="00ffcc"/>
                  </a:solidFill>
                  <a:latin typeface="Arial"/>
                </a:rPr>
                <a:t>Equilibrium posit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353680" y="793800"/>
            <a:ext cx="4105080" cy="335880"/>
          </a:xfrm>
          <a:prstGeom prst="rect">
            <a:avLst/>
          </a:prstGeom>
          <a:noFill/>
          <a:ln w="12600">
            <a:solidFill>
              <a:srgbClr val="ce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½kT per quadratic degree of free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95440" y="6583320"/>
            <a:ext cx="423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ff"/>
                </a:solidFill>
                <a:uFillTx/>
                <a:latin typeface="Times New Roman"/>
                <a:hlinkClick r:id="rId1"/>
              </a:rPr>
              <a:t>http://intro.chem.okstate.edu/1314F00/Laboratory/GLP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6400" y="60120"/>
            <a:ext cx="7532640" cy="67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Bowling Ball Puzzle   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19080" y="1235160"/>
            <a:ext cx="6359400" cy="26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y does the Bowling ball slow down?  Explain using the Equipartition Theorem. (Hint: Treat the ball as one big particle.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’s the average speed of the bowling ball after it comes into equilibrium with the room?  Assume that M = 10 kg and T = 300 K. Neglect the motion in the z direction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84280" y="1197000"/>
            <a:ext cx="1104840" cy="4518000"/>
            <a:chOff x="584280" y="1197000"/>
            <a:chExt cx="1104840" cy="4518000"/>
          </a:xfrm>
        </p:grpSpPr>
        <p:sp>
          <p:nvSpPr>
            <p:cNvPr id="180" name=""/>
            <p:cNvSpPr/>
            <p:nvPr/>
          </p:nvSpPr>
          <p:spPr>
            <a:xfrm flipH="1">
              <a:off x="938160" y="1387440"/>
              <a:ext cx="341280" cy="360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280" y="4967280"/>
              <a:ext cx="666720" cy="747720"/>
            </a:xfrm>
            <a:prstGeom prst="ellipse">
              <a:avLst/>
            </a:prstGeom>
            <a:solidFill>
              <a:srgbClr val="cc0000">
                <a:alpha val="5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14400" y="1197000"/>
              <a:ext cx="774720" cy="185760"/>
              <a:chOff x="914400" y="1197000"/>
              <a:chExt cx="774720" cy="185760"/>
            </a:xfrm>
          </p:grpSpPr>
          <p:sp>
            <p:nvSpPr>
              <p:cNvPr id="183" name=""/>
              <p:cNvSpPr/>
              <p:nvPr/>
            </p:nvSpPr>
            <p:spPr>
              <a:xfrm>
                <a:off x="914400" y="1374840"/>
                <a:ext cx="774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135080" y="119700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327320" y="120168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521000" y="120024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922320" y="1204920"/>
                <a:ext cx="136440" cy="177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53040" y="69840"/>
            <a:ext cx="6057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Speed of Sou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150920"/>
            <a:ext cx="78483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peed of sound in a gas is roughly equal to the average speed of the particles.  Compare the speed of a typical helium atom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amu) to that of a typical nitrogen molecule (m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N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 x 14 amu) in a gas mixture in thermal equilibrium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expect to be the ratio of sound speeds in pure helium and nitrog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61920"/>
            <a:ext cx="820872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From Last Lecture: 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e Ideal Gas Law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411200" y="1919160"/>
          <a:ext cx="31845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0" y="1919160"/>
                    <a:ext cx="3184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409760" y="3606840"/>
          <a:ext cx="58798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3606840"/>
                    <a:ext cx="58798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939600" y="1411200"/>
            <a:ext cx="6061680" cy="50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 that we derived this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essure-energy rela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dd equipart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gives u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deal Gas La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pV = Nk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34000" y="5118120"/>
            <a:ext cx="415440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relation is independent of the internal modes of the molecul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it does require that the molecules don’t interact much with each ot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89200" y="5280120"/>
            <a:ext cx="2354040" cy="755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90440" y="4621320"/>
            <a:ext cx="3600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or an ideal gas at constant T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 is inversely proportional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the volum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2880" y="60480"/>
            <a:ext cx="805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deal Gas p-V, p-T  Dia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1360" y="1104840"/>
          <a:ext cx="13888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1360" y="1104840"/>
                    <a:ext cx="1388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5840" y="2082960"/>
          <a:ext cx="3419280" cy="25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082960"/>
                    <a:ext cx="341928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847800" y="5815080"/>
            <a:ext cx="6046560" cy="94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eal gases may obey more complicated equations of state, but two of these variables always determine the thir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Ordinary gases are often quite close to ide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080" y="1735200"/>
            <a:ext cx="3682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 at various constant T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70440" y="2114640"/>
          <a:ext cx="3029040" cy="23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70440" y="2114640"/>
                    <a:ext cx="302904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289400" y="3639960"/>
            <a:ext cx="15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stant Volume</a:t>
            </a:r>
            <a:br>
              <a:rPr sz="1200"/>
            </a:b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Gas Therm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0880"/>
            <a:ext cx="300996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ressure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zero a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bsolute zero, because the thermal kinetic energy of the molecules vanish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3560" y="1739880"/>
            <a:ext cx="246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 at constant 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22760" y="24004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Isother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338560" y="2583000"/>
            <a:ext cx="1388880" cy="7477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60320" y="2665440"/>
            <a:ext cx="1266840" cy="92232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822400" y="2776680"/>
            <a:ext cx="1098720" cy="103824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36880" y="1004760"/>
            <a:ext cx="2994120" cy="5237280"/>
            <a:chOff x="3836880" y="1004760"/>
            <a:chExt cx="2994120" cy="5237280"/>
          </a:xfrm>
        </p:grpSpPr>
        <p:sp>
          <p:nvSpPr>
            <p:cNvPr id="218" name=""/>
            <p:cNvSpPr/>
            <p:nvPr/>
          </p:nvSpPr>
          <p:spPr>
            <a:xfrm>
              <a:off x="4800600" y="5732640"/>
              <a:ext cx="2030400" cy="50940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4782960" y="2023920"/>
              <a:ext cx="694080" cy="3727440"/>
            </a:xfrm>
            <a:prstGeom prst="line">
              <a:avLst/>
            </a:prstGeom>
            <a:ln w="32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36880" y="1004760"/>
              <a:ext cx="1625760" cy="103032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18:26:54Z</dcterms:modified>
  <cp:revision>3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