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78749B7-0AFC-4EE6-A816-F49697BBA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0D552EE5-5A85-4318-AA87-69BE1D4905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2200" y="51498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E, 10A-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3880" y="1262160"/>
            <a:ext cx="5106960" cy="25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blocks, each with heat capacity*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 = 1 J/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initially at differen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350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then placed into contact, and eventually reach a final temperature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0 K. (Why?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can you say abou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change in entropy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 0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508560" y="62640"/>
            <a:ext cx="210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29520" y="1363320"/>
            <a:ext cx="3331800" cy="2293560"/>
            <a:chOff x="5429520" y="1363320"/>
            <a:chExt cx="3331800" cy="2293560"/>
          </a:xfrm>
        </p:grpSpPr>
        <p:sp>
          <p:nvSpPr>
            <p:cNvPr id="162" name="Text Box 4"/>
            <p:cNvSpPr/>
            <p:nvPr/>
          </p:nvSpPr>
          <p:spPr>
            <a:xfrm>
              <a:off x="5429520" y="144828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6494760" y="1449720"/>
              <a:ext cx="9903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579384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210000" y="2269080"/>
              <a:ext cx="948960" cy="440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7335720" y="1363320"/>
              <a:ext cx="1425600" cy="13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1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250K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2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50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  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</a:t>
              </a:r>
              <a:r>
                <a:rPr b="0" lang="en-US" sz="1400" spc="-1" strike="noStrike" baseline="-25000">
                  <a:solidFill>
                    <a:srgbClr val="00ffcc"/>
                  </a:solidFill>
                  <a:latin typeface="Arial"/>
                  <a:ea typeface="MS PGothic"/>
                </a:rPr>
                <a:t>f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 = 300 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6391440" y="2832840"/>
              <a:ext cx="2226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Two masses each with heat capacity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Arial"/>
                  <a:ea typeface="MS PGothic"/>
                </a:rPr>
                <a:t>C = 1J/K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Text Box 14"/>
          <p:cNvSpPr/>
          <p:nvPr/>
        </p:nvSpPr>
        <p:spPr>
          <a:xfrm>
            <a:off x="211680" y="6404040"/>
            <a:ext cx="5255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cc"/>
                </a:solidFill>
                <a:latin typeface="Arial"/>
                <a:ea typeface="MS PGothic"/>
              </a:rPr>
              <a:t>*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For a solid, C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V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= C</a:t>
            </a:r>
            <a:r>
              <a:rPr b="1" lang="en-US" sz="12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p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, to good approximation, since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V </a:t>
            </a:r>
            <a:r>
              <a:rPr b="1" lang="en-US" sz="12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1" lang="en-US" sz="1200" spc="-1" strike="noStrike">
                <a:solidFill>
                  <a:srgbClr val="00ffcc"/>
                </a:solidFill>
                <a:latin typeface="Arial"/>
                <a:ea typeface="MS PGothic"/>
              </a:rPr>
              <a:t> 0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173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186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6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219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231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270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284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285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86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7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8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320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322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336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38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373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398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403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424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425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2360" y="1160640"/>
            <a:ext cx="4502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ich processes in a Stirling cyc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rrespond to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eat flow diagra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 and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 and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247000" y="1116720"/>
            <a:ext cx="4855680" cy="4942080"/>
            <a:chOff x="5247000" y="1116720"/>
            <a:chExt cx="4855680" cy="4942080"/>
          </a:xfrm>
        </p:grpSpPr>
        <p:grpSp>
          <p:nvGrpSpPr>
            <p:cNvPr id="448" name=""/>
            <p:cNvGrpSpPr/>
            <p:nvPr/>
          </p:nvGrpSpPr>
          <p:grpSpPr>
            <a:xfrm>
              <a:off x="5247000" y="1116720"/>
              <a:ext cx="4855680" cy="4942080"/>
              <a:chOff x="5247000" y="1116720"/>
              <a:chExt cx="4855680" cy="4942080"/>
            </a:xfrm>
          </p:grpSpPr>
          <p:sp>
            <p:nvSpPr>
              <p:cNvPr id="449" name=""/>
              <p:cNvSpPr/>
              <p:nvPr/>
            </p:nvSpPr>
            <p:spPr>
              <a:xfrm>
                <a:off x="8523360" y="56736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570640" y="29574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3240" y="56912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18400" y="52005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402680" y="46432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6600" y="56880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23400" y="56880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247000" y="2787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69120" y="112788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36760" y="16282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60840" y="111672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31720" y="16221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616800" y="39942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51920" y="46400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16800" y="49323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51920" y="52941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6365160" y="4325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65200" y="4097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25640" y="4840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4040" y="5164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5000760" y="560520"/>
            <a:ext cx="3961800" cy="2261520"/>
            <a:chOff x="5000760" y="560520"/>
            <a:chExt cx="3961800" cy="2261520"/>
          </a:xfrm>
        </p:grpSpPr>
        <p:sp>
          <p:nvSpPr>
            <p:cNvPr id="470" name=""/>
            <p:cNvSpPr/>
            <p:nvPr/>
          </p:nvSpPr>
          <p:spPr>
            <a:xfrm>
              <a:off x="8424720" y="1587960"/>
              <a:ext cx="53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22720" y="1379880"/>
              <a:ext cx="156672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42000" y="560520"/>
              <a:ext cx="240624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94160" y="98136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6926040" y="981360"/>
              <a:ext cx="1085760" cy="1450440"/>
              <a:chOff x="6926040" y="981360"/>
              <a:chExt cx="1085760" cy="1450440"/>
            </a:xfrm>
          </p:grpSpPr>
          <p:sp>
            <p:nvSpPr>
              <p:cNvPr id="475" name=""/>
              <p:cNvSpPr/>
              <p:nvPr/>
            </p:nvSpPr>
            <p:spPr>
              <a:xfrm>
                <a:off x="6926040" y="169560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38640" y="1695600"/>
                <a:ext cx="42336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35280" y="98136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35280" y="1460520"/>
                <a:ext cx="38088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576560" y="1623960"/>
                <a:ext cx="4348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49760" y="1905120"/>
                <a:ext cx="64728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8011800" y="162396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000760" y="15544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705440" y="1762560"/>
              <a:ext cx="73944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6430680" y="97956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99000" y="1000440"/>
              <a:ext cx="46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69000" y="2416320"/>
              <a:ext cx="242676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456240" y="201456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0400" y="2080080"/>
              <a:ext cx="663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491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506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523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538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555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69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3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605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2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627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628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not Engin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65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3400" y="58320"/>
            <a:ext cx="855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53680" y="1269720"/>
            <a:ext cx="834876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e entropy of a gas increases during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si-static isothermal expansion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tropy of the environ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Consider instead the ‘free’ expansion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quasi-st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of a gas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total entrop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uring this proc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lt;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701800" y="5432400"/>
            <a:ext cx="3048120" cy="797040"/>
            <a:chOff x="2701800" y="5432400"/>
            <a:chExt cx="3048120" cy="797040"/>
          </a:xfrm>
        </p:grpSpPr>
        <p:sp>
          <p:nvSpPr>
            <p:cNvPr id="87" name=""/>
            <p:cNvSpPr/>
            <p:nvPr/>
          </p:nvSpPr>
          <p:spPr>
            <a:xfrm>
              <a:off x="2701800" y="5437080"/>
              <a:ext cx="1117800" cy="511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03520" y="551160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10080" y="5432400"/>
              <a:ext cx="3039840" cy="509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3440" y="5983200"/>
              <a:ext cx="165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ve the barri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27520" y="5438520"/>
              <a:ext cx="0" cy="501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00240" y="55180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96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104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108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130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132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139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20T04:23:53Z</dcterms:modified>
  <cp:revision>27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