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6281ABDD-B995-4FAD-AC36-D612CEB58BA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1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1187280" y="703440"/>
            <a:ext cx="4631040" cy="347328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7280" y="703440"/>
            <a:ext cx="4631040" cy="347328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7280" y="703440"/>
            <a:ext cx="4631040" cy="347328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7280" y="703440"/>
            <a:ext cx="4631040" cy="347328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7280" y="703440"/>
            <a:ext cx="4631040" cy="347328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7280" y="703440"/>
            <a:ext cx="4631040" cy="347328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7280" y="703440"/>
            <a:ext cx="4631040" cy="347328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7280" y="703440"/>
            <a:ext cx="4631040" cy="347328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85D45015-FCDA-4C43-A25E-CFF007365F3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1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1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23"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7"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28" name=""/>
          <p:cNvGrpSpPr/>
          <p:nvPr/>
        </p:nvGrpSpPr>
        <p:grpSpPr>
          <a:xfrm>
            <a:off x="2612880" y="2700360"/>
            <a:ext cx="3353040" cy="714240"/>
            <a:chOff x="2612880" y="2700360"/>
            <a:chExt cx="3353040" cy="714240"/>
          </a:xfrm>
        </p:grpSpPr>
        <p:sp>
          <p:nvSpPr>
            <p:cNvPr id="129"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32"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33"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4"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37"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38"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9"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0" name=""/>
          <p:cNvGrpSpPr/>
          <p:nvPr/>
        </p:nvGrpSpPr>
        <p:grpSpPr>
          <a:xfrm>
            <a:off x="2575080" y="5051520"/>
            <a:ext cx="3852720" cy="1538280"/>
            <a:chOff x="2575080" y="5051520"/>
            <a:chExt cx="3852720" cy="1538280"/>
          </a:xfrm>
        </p:grpSpPr>
        <p:grpSp>
          <p:nvGrpSpPr>
            <p:cNvPr id="141" name=""/>
            <p:cNvGrpSpPr/>
            <p:nvPr/>
          </p:nvGrpSpPr>
          <p:grpSpPr>
            <a:xfrm>
              <a:off x="2575080" y="5051520"/>
              <a:ext cx="3321000" cy="1261440"/>
              <a:chOff x="2575080" y="5051520"/>
              <a:chExt cx="3321000" cy="1261440"/>
            </a:xfrm>
          </p:grpSpPr>
          <p:sp>
            <p:nvSpPr>
              <p:cNvPr id="142"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45"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46"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47"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8"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51"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3" name=""/>
          <p:cNvGraphicFramePr/>
          <p:nvPr/>
        </p:nvGraphicFramePr>
        <p:xfrm>
          <a:off x="1262160" y="4019400"/>
          <a:ext cx="3214440" cy="1989360"/>
        </p:xfrm>
        <a:graphic>
          <a:graphicData uri="http://schemas.openxmlformats.org/presentationml/2006/ole">
            <p:oleObj r:id="rId1" spid="">
              <p:embed/>
              <p:pic>
                <p:nvPicPr>
                  <p:cNvPr id="154"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55"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56" name=""/>
          <p:cNvGrpSpPr/>
          <p:nvPr/>
        </p:nvGrpSpPr>
        <p:grpSpPr>
          <a:xfrm>
            <a:off x="5849280" y="4900320"/>
            <a:ext cx="2566080" cy="1306440"/>
            <a:chOff x="5849280" y="4900320"/>
            <a:chExt cx="2566080" cy="1306440"/>
          </a:xfrm>
        </p:grpSpPr>
        <p:graphicFrame>
          <p:nvGraphicFramePr>
            <p:cNvPr id="157" name=""/>
            <p:cNvGraphicFramePr/>
            <p:nvPr/>
          </p:nvGraphicFramePr>
          <p:xfrm>
            <a:off x="5875200" y="5616720"/>
            <a:ext cx="682920" cy="511200"/>
          </p:xfrm>
          <a:graphic>
            <a:graphicData uri="http://schemas.openxmlformats.org/presentationml/2006/ole">
              <p:oleObj r:id="rId3" spid="">
                <p:embed/>
                <p:pic>
                  <p:nvPicPr>
                    <p:cNvPr id="158"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59" name=""/>
            <p:cNvGrpSpPr/>
            <p:nvPr/>
          </p:nvGrpSpPr>
          <p:grpSpPr>
            <a:xfrm>
              <a:off x="5849280" y="4900320"/>
              <a:ext cx="2127960" cy="673920"/>
              <a:chOff x="5849280" y="4900320"/>
              <a:chExt cx="2127960" cy="673920"/>
            </a:xfrm>
          </p:grpSpPr>
          <p:grpSp>
            <p:nvGrpSpPr>
              <p:cNvPr id="160" name=""/>
              <p:cNvGrpSpPr/>
              <p:nvPr/>
            </p:nvGrpSpPr>
            <p:grpSpPr>
              <a:xfrm>
                <a:off x="6446880" y="5031000"/>
                <a:ext cx="1530360" cy="263520"/>
                <a:chOff x="6446880" y="5031000"/>
                <a:chExt cx="1530360" cy="263520"/>
              </a:xfrm>
            </p:grpSpPr>
            <p:sp>
              <p:nvSpPr>
                <p:cNvPr id="161"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173"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174"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175"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176"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177"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178" name=""/>
          <p:cNvGrpSpPr/>
          <p:nvPr/>
        </p:nvGrpSpPr>
        <p:grpSpPr>
          <a:xfrm>
            <a:off x="3611520" y="933480"/>
            <a:ext cx="1487520" cy="2197080"/>
            <a:chOff x="3611520" y="933480"/>
            <a:chExt cx="1487520" cy="2197080"/>
          </a:xfrm>
        </p:grpSpPr>
        <p:sp>
          <p:nvSpPr>
            <p:cNvPr id="179"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0"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86"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187"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191"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192" name=""/>
          <p:cNvGrpSpPr/>
          <p:nvPr/>
        </p:nvGrpSpPr>
        <p:grpSpPr>
          <a:xfrm>
            <a:off x="7048440" y="1341360"/>
            <a:ext cx="1371600" cy="1371600"/>
            <a:chOff x="7048440" y="1341360"/>
            <a:chExt cx="1371600" cy="1371600"/>
          </a:xfrm>
        </p:grpSpPr>
        <p:sp>
          <p:nvSpPr>
            <p:cNvPr id="193"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198" name=""/>
          <p:cNvGrpSpPr/>
          <p:nvPr/>
        </p:nvGrpSpPr>
        <p:grpSpPr>
          <a:xfrm>
            <a:off x="7246800" y="1224000"/>
            <a:ext cx="1371600" cy="1371600"/>
            <a:chOff x="7246800" y="1224000"/>
            <a:chExt cx="1371600" cy="1371600"/>
          </a:xfrm>
        </p:grpSpPr>
        <p:sp>
          <p:nvSpPr>
            <p:cNvPr id="199"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5"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
        <p:nvSpPr>
          <p:cNvPr id="206" name=""/>
          <p:cNvSpPr/>
          <p:nvPr/>
        </p:nvSpPr>
        <p:spPr>
          <a:xfrm>
            <a:off x="784080" y="4962600"/>
            <a:ext cx="7647120" cy="16761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08"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
          <p:cNvGraphicFramePr/>
          <p:nvPr/>
        </p:nvGraphicFramePr>
        <p:xfrm>
          <a:off x="7250040" y="3513240"/>
          <a:ext cx="857160" cy="734760"/>
        </p:xfrm>
        <a:graphic>
          <a:graphicData uri="http://schemas.openxmlformats.org/presentationml/2006/ole">
            <p:oleObj r:id="rId1" spid="">
              <p:embed/>
              <p:pic>
                <p:nvPicPr>
                  <p:cNvPr id="80"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
          <p:cNvGraphicFramePr/>
          <p:nvPr/>
        </p:nvGraphicFramePr>
        <p:xfrm>
          <a:off x="7250040" y="4392720"/>
          <a:ext cx="1020960" cy="658800"/>
        </p:xfrm>
        <a:graphic>
          <a:graphicData uri="http://schemas.openxmlformats.org/presentationml/2006/ole">
            <p:oleObj r:id="rId3" spid="">
              <p:embed/>
              <p:pic>
                <p:nvPicPr>
                  <p:cNvPr id="82"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
          <p:cNvGraphicFramePr/>
          <p:nvPr/>
        </p:nvGraphicFramePr>
        <p:xfrm>
          <a:off x="7250040" y="1322280"/>
          <a:ext cx="951120" cy="665280"/>
        </p:xfrm>
        <a:graphic>
          <a:graphicData uri="http://schemas.openxmlformats.org/presentationml/2006/ole">
            <p:oleObj r:id="rId5" spid="">
              <p:embed/>
              <p:pic>
                <p:nvPicPr>
                  <p:cNvPr id="84"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6"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8"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9"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90" name=""/>
          <p:cNvGraphicFramePr/>
          <p:nvPr/>
        </p:nvGraphicFramePr>
        <p:xfrm>
          <a:off x="7218360" y="5268960"/>
          <a:ext cx="977760" cy="658800"/>
        </p:xfrm>
        <a:graphic>
          <a:graphicData uri="http://schemas.openxmlformats.org/presentationml/2006/ole">
            <p:oleObj r:id="rId7" spid="">
              <p:embed/>
              <p:pic>
                <p:nvPicPr>
                  <p:cNvPr id="91"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5"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6" name=""/>
          <p:cNvGrpSpPr/>
          <p:nvPr/>
        </p:nvGrpSpPr>
        <p:grpSpPr>
          <a:xfrm>
            <a:off x="4173120" y="2300760"/>
            <a:ext cx="1395720" cy="902880"/>
            <a:chOff x="4173120" y="2300760"/>
            <a:chExt cx="1395720" cy="902880"/>
          </a:xfrm>
        </p:grpSpPr>
        <p:sp>
          <p:nvSpPr>
            <p:cNvPr id="97"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1"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04"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9"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0"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11"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12"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13"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11:45Z</dcterms:modified>
  <cp:revision>37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