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7A962A-D825-4CBF-BB1D-76C20A98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87560" y="285840"/>
            <a:ext cx="1245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with volume exchang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multiple oscil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lls us that a lot of the probability is in that one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- Omega(1/2)/Omega(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n(P(1/2)) = sigma(1/2)/sigma(all)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1/2) = exp(-7) ~ 1/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pled harmonic osc.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23098C57-40BF-4C81-80A5-7636A01A13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63360"/>
            <a:ext cx="8007480" cy="209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8</a:t>
            </a:r>
            <a:br>
              <a:rPr sz="4000"/>
            </a:br>
            <a:br>
              <a:rPr sz="28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The Second Law of Thermodynamics;</a:t>
            </a:r>
            <a:br>
              <a:rPr sz="3600"/>
            </a:b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Energy Exchange</a:t>
            </a:r>
            <a:br>
              <a:rPr sz="40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974960" y="2421000"/>
            <a:ext cx="5554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 of energy exchang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6" name="Text Box 17"/>
          <p:cNvSpPr/>
          <p:nvPr/>
        </p:nvSpPr>
        <p:spPr>
          <a:xfrm>
            <a:off x="966600" y="50832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this Lecture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7" name="Text Box 20"/>
          <p:cNvSpPr/>
          <p:nvPr/>
        </p:nvSpPr>
        <p:spPr>
          <a:xfrm>
            <a:off x="5010120" y="5062680"/>
            <a:ext cx="291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for Lecture 10: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8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7800" y="63000"/>
            <a:ext cx="85140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79040" y="1801440"/>
            <a:ext cx="7767720" cy="177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wo oscillators exchange energy.  The total energy i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4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: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is the total number of microstat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5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6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-10642680" y="3701880"/>
            <a:ext cx="2549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4161760" indent="-568800">
              <a:lnSpc>
                <a:spcPct val="90000"/>
              </a:lnSpc>
              <a:spcBef>
                <a:spcPts val="75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359000" y="4000680"/>
            <a:ext cx="1066680" cy="1828800"/>
            <a:chOff x="1359000" y="4000680"/>
            <a:chExt cx="1066680" cy="1828800"/>
          </a:xfrm>
        </p:grpSpPr>
        <p:grpSp>
          <p:nvGrpSpPr>
            <p:cNvPr id="135" name="Group 9"/>
            <p:cNvGrpSpPr/>
            <p:nvPr/>
          </p:nvGrpSpPr>
          <p:grpSpPr>
            <a:xfrm>
              <a:off x="1359000" y="4000680"/>
              <a:ext cx="685800" cy="1828800"/>
              <a:chOff x="1359000" y="4000680"/>
              <a:chExt cx="685800" cy="1828800"/>
            </a:xfrm>
          </p:grpSpPr>
          <p:sp>
            <p:nvSpPr>
              <p:cNvPr id="136" name="Line 10"/>
              <p:cNvSpPr/>
              <p:nvPr/>
            </p:nvSpPr>
            <p:spPr>
              <a:xfrm>
                <a:off x="1739880" y="54486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7" name="Line 11"/>
              <p:cNvSpPr/>
              <p:nvPr/>
            </p:nvSpPr>
            <p:spPr>
              <a:xfrm>
                <a:off x="1739880" y="57531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8" name="Line 12"/>
              <p:cNvSpPr/>
              <p:nvPr/>
            </p:nvSpPr>
            <p:spPr>
              <a:xfrm>
                <a:off x="1739880" y="51436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39" name="Line 13"/>
              <p:cNvSpPr/>
              <p:nvPr/>
            </p:nvSpPr>
            <p:spPr>
              <a:xfrm>
                <a:off x="1739880" y="453420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0" name="Line 14"/>
              <p:cNvSpPr/>
              <p:nvPr/>
            </p:nvSpPr>
            <p:spPr>
              <a:xfrm>
                <a:off x="1739880" y="48387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41" name="Line 15"/>
              <p:cNvSpPr/>
              <p:nvPr/>
            </p:nvSpPr>
            <p:spPr>
              <a:xfrm>
                <a:off x="1739880" y="422928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142" name="Group 16"/>
              <p:cNvGrpSpPr/>
              <p:nvPr/>
            </p:nvGrpSpPr>
            <p:grpSpPr>
              <a:xfrm>
                <a:off x="1359000" y="4000680"/>
                <a:ext cx="533520" cy="1828800"/>
                <a:chOff x="1359000" y="4000680"/>
                <a:chExt cx="533520" cy="1828800"/>
              </a:xfrm>
            </p:grpSpPr>
            <p:sp>
              <p:nvSpPr>
                <p:cNvPr id="143" name="Line 17"/>
                <p:cNvSpPr/>
                <p:nvPr/>
              </p:nvSpPr>
              <p:spPr>
                <a:xfrm flipV="1">
                  <a:off x="1892520" y="400068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44" name=""/>
                <p:cNvGraphicFramePr/>
                <p:nvPr/>
              </p:nvGraphicFramePr>
              <p:xfrm>
                <a:off x="1359000" y="4457880"/>
                <a:ext cx="295200" cy="13716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4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359000" y="4457880"/>
                          <a:ext cx="295200" cy="1371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46" name="Group 19"/>
            <p:cNvGrpSpPr/>
            <p:nvPr/>
          </p:nvGrpSpPr>
          <p:grpSpPr>
            <a:xfrm>
              <a:off x="2121120" y="4000680"/>
              <a:ext cx="304560" cy="1752480"/>
              <a:chOff x="2121120" y="4000680"/>
              <a:chExt cx="304560" cy="1752480"/>
            </a:xfrm>
          </p:grpSpPr>
          <p:grpSp>
            <p:nvGrpSpPr>
              <p:cNvPr id="147" name="Group 20"/>
              <p:cNvGrpSpPr/>
              <p:nvPr/>
            </p:nvGrpSpPr>
            <p:grpSpPr>
              <a:xfrm>
                <a:off x="2121120" y="4228920"/>
                <a:ext cx="304560" cy="1523880"/>
                <a:chOff x="2121120" y="4228920"/>
                <a:chExt cx="304560" cy="1523880"/>
              </a:xfrm>
            </p:grpSpPr>
            <p:sp>
              <p:nvSpPr>
                <p:cNvPr id="148" name="Line 21"/>
                <p:cNvSpPr/>
                <p:nvPr/>
              </p:nvSpPr>
              <p:spPr>
                <a:xfrm>
                  <a:off x="2121120" y="54478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22"/>
                <p:cNvSpPr/>
                <p:nvPr/>
              </p:nvSpPr>
              <p:spPr>
                <a:xfrm>
                  <a:off x="2121120" y="57528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23"/>
                <p:cNvSpPr/>
                <p:nvPr/>
              </p:nvSpPr>
              <p:spPr>
                <a:xfrm>
                  <a:off x="2121120" y="514296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24"/>
                <p:cNvSpPr/>
                <p:nvPr/>
              </p:nvSpPr>
              <p:spPr>
                <a:xfrm>
                  <a:off x="2121120" y="4533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5"/>
                <p:cNvSpPr/>
                <p:nvPr/>
              </p:nvSpPr>
              <p:spPr>
                <a:xfrm>
                  <a:off x="2121120" y="483840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6"/>
                <p:cNvSpPr/>
                <p:nvPr/>
              </p:nvSpPr>
              <p:spPr>
                <a:xfrm>
                  <a:off x="2121120" y="4228920"/>
                  <a:ext cx="3045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Line 27"/>
              <p:cNvSpPr/>
              <p:nvPr/>
            </p:nvSpPr>
            <p:spPr>
              <a:xfrm flipV="1">
                <a:off x="2273400" y="4000680"/>
                <a:ext cx="0" cy="175248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Oval 113"/>
          <p:cNvSpPr/>
          <p:nvPr/>
        </p:nvSpPr>
        <p:spPr>
          <a:xfrm>
            <a:off x="2197080" y="445788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6" name="Oval 114"/>
          <p:cNvSpPr/>
          <p:nvPr/>
        </p:nvSpPr>
        <p:spPr>
          <a:xfrm>
            <a:off x="1816200" y="567684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7" name="Text Box 115"/>
          <p:cNvSpPr/>
          <p:nvPr/>
        </p:nvSpPr>
        <p:spPr>
          <a:xfrm>
            <a:off x="376200" y="4737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q =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73440" y="2268360"/>
            <a:ext cx="25200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general we say U = q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ere q is the number of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nergy quanta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24680" y="5823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c1  Osc2</a:t>
            </a:r>
            <a:endParaRPr b="1" lang="en-US" sz="12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12840" y="455940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’s one microstat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61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ercise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Energy exchange between 3 oscillators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4920" y="1339560"/>
            <a:ext cx="771372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ree oscillators have tot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q = 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81"/>
          <p:cNvSpPr/>
          <p:nvPr/>
        </p:nvSpPr>
        <p:spPr>
          <a:xfrm>
            <a:off x="457200" y="6172200"/>
            <a:ext cx="34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,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 are integers (n + </a:t>
            </a:r>
            <a:r>
              <a:rPr b="0" lang="en-US" sz="20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cript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+ m = 2)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164" name="Text Box 183"/>
          <p:cNvSpPr/>
          <p:nvPr/>
        </p:nvSpPr>
        <p:spPr>
          <a:xfrm>
            <a:off x="739800" y="4495680"/>
            <a:ext cx="20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cillator  #1   #2    #3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65" name="Group 184"/>
          <p:cNvGrpSpPr/>
          <p:nvPr/>
        </p:nvGrpSpPr>
        <p:grpSpPr>
          <a:xfrm>
            <a:off x="1600200" y="2440080"/>
            <a:ext cx="1181160" cy="2055600"/>
            <a:chOff x="1600200" y="2440080"/>
            <a:chExt cx="1181160" cy="2055600"/>
          </a:xfrm>
        </p:grpSpPr>
        <p:grpSp>
          <p:nvGrpSpPr>
            <p:cNvPr id="166" name="Group 185"/>
            <p:cNvGrpSpPr/>
            <p:nvPr/>
          </p:nvGrpSpPr>
          <p:grpSpPr>
            <a:xfrm>
              <a:off x="1600200" y="2743200"/>
              <a:ext cx="1066320" cy="1752480"/>
              <a:chOff x="1600200" y="2743200"/>
              <a:chExt cx="1066320" cy="1752480"/>
            </a:xfrm>
          </p:grpSpPr>
          <p:grpSp>
            <p:nvGrpSpPr>
              <p:cNvPr id="167" name="Group 186"/>
              <p:cNvGrpSpPr/>
              <p:nvPr/>
            </p:nvGrpSpPr>
            <p:grpSpPr>
              <a:xfrm>
                <a:off x="1981080" y="2743200"/>
                <a:ext cx="304560" cy="1752480"/>
                <a:chOff x="1981080" y="2743200"/>
                <a:chExt cx="304560" cy="1752480"/>
              </a:xfrm>
            </p:grpSpPr>
            <p:grpSp>
              <p:nvGrpSpPr>
                <p:cNvPr id="168" name="Group 187"/>
                <p:cNvGrpSpPr/>
                <p:nvPr/>
              </p:nvGrpSpPr>
              <p:grpSpPr>
                <a:xfrm>
                  <a:off x="1981080" y="2971440"/>
                  <a:ext cx="304560" cy="1523880"/>
                  <a:chOff x="1981080" y="2971440"/>
                  <a:chExt cx="304560" cy="1523880"/>
                </a:xfrm>
              </p:grpSpPr>
              <p:sp>
                <p:nvSpPr>
                  <p:cNvPr id="169" name="Line 188"/>
                  <p:cNvSpPr/>
                  <p:nvPr/>
                </p:nvSpPr>
                <p:spPr>
                  <a:xfrm>
                    <a:off x="198108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189"/>
                  <p:cNvSpPr/>
                  <p:nvPr/>
                </p:nvSpPr>
                <p:spPr>
                  <a:xfrm>
                    <a:off x="198108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190"/>
                  <p:cNvSpPr/>
                  <p:nvPr/>
                </p:nvSpPr>
                <p:spPr>
                  <a:xfrm>
                    <a:off x="198108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191"/>
                  <p:cNvSpPr/>
                  <p:nvPr/>
                </p:nvSpPr>
                <p:spPr>
                  <a:xfrm>
                    <a:off x="198108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92"/>
                  <p:cNvSpPr/>
                  <p:nvPr/>
                </p:nvSpPr>
                <p:spPr>
                  <a:xfrm>
                    <a:off x="198108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93"/>
                  <p:cNvSpPr/>
                  <p:nvPr/>
                </p:nvSpPr>
                <p:spPr>
                  <a:xfrm>
                    <a:off x="198108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5" name="Line 194"/>
                <p:cNvSpPr/>
                <p:nvPr/>
              </p:nvSpPr>
              <p:spPr>
                <a:xfrm flipV="1">
                  <a:off x="213336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95"/>
              <p:cNvGrpSpPr/>
              <p:nvPr/>
            </p:nvGrpSpPr>
            <p:grpSpPr>
              <a:xfrm>
                <a:off x="1600200" y="2743200"/>
                <a:ext cx="304560" cy="1752480"/>
                <a:chOff x="1600200" y="2743200"/>
                <a:chExt cx="304560" cy="1752480"/>
              </a:xfrm>
            </p:grpSpPr>
            <p:grpSp>
              <p:nvGrpSpPr>
                <p:cNvPr id="177" name="Group 196"/>
                <p:cNvGrpSpPr/>
                <p:nvPr/>
              </p:nvGrpSpPr>
              <p:grpSpPr>
                <a:xfrm>
                  <a:off x="1600200" y="2971440"/>
                  <a:ext cx="304560" cy="1523880"/>
                  <a:chOff x="1600200" y="2971440"/>
                  <a:chExt cx="304560" cy="1523880"/>
                </a:xfrm>
              </p:grpSpPr>
              <p:sp>
                <p:nvSpPr>
                  <p:cNvPr id="178" name="Line 197"/>
                  <p:cNvSpPr/>
                  <p:nvPr/>
                </p:nvSpPr>
                <p:spPr>
                  <a:xfrm>
                    <a:off x="160020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98"/>
                  <p:cNvSpPr/>
                  <p:nvPr/>
                </p:nvSpPr>
                <p:spPr>
                  <a:xfrm>
                    <a:off x="160020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99"/>
                  <p:cNvSpPr/>
                  <p:nvPr/>
                </p:nvSpPr>
                <p:spPr>
                  <a:xfrm>
                    <a:off x="160020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200"/>
                  <p:cNvSpPr/>
                  <p:nvPr/>
                </p:nvSpPr>
                <p:spPr>
                  <a:xfrm>
                    <a:off x="160020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201"/>
                  <p:cNvSpPr/>
                  <p:nvPr/>
                </p:nvSpPr>
                <p:spPr>
                  <a:xfrm>
                    <a:off x="160020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202"/>
                  <p:cNvSpPr/>
                  <p:nvPr/>
                </p:nvSpPr>
                <p:spPr>
                  <a:xfrm>
                    <a:off x="160020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Line 203"/>
                <p:cNvSpPr/>
                <p:nvPr/>
              </p:nvSpPr>
              <p:spPr>
                <a:xfrm flipV="1">
                  <a:off x="175248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4"/>
              <p:cNvGrpSpPr/>
              <p:nvPr/>
            </p:nvGrpSpPr>
            <p:grpSpPr>
              <a:xfrm>
                <a:off x="2361960" y="2743200"/>
                <a:ext cx="304560" cy="1752480"/>
                <a:chOff x="2361960" y="2743200"/>
                <a:chExt cx="304560" cy="1752480"/>
              </a:xfrm>
            </p:grpSpPr>
            <p:grpSp>
              <p:nvGrpSpPr>
                <p:cNvPr id="186" name="Group 205"/>
                <p:cNvGrpSpPr/>
                <p:nvPr/>
              </p:nvGrpSpPr>
              <p:grpSpPr>
                <a:xfrm>
                  <a:off x="2361960" y="2971440"/>
                  <a:ext cx="304560" cy="1523880"/>
                  <a:chOff x="2361960" y="2971440"/>
                  <a:chExt cx="304560" cy="1523880"/>
                </a:xfrm>
              </p:grpSpPr>
              <p:sp>
                <p:nvSpPr>
                  <p:cNvPr id="187" name="Line 206"/>
                  <p:cNvSpPr/>
                  <p:nvPr/>
                </p:nvSpPr>
                <p:spPr>
                  <a:xfrm>
                    <a:off x="2361960" y="41904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07"/>
                  <p:cNvSpPr/>
                  <p:nvPr/>
                </p:nvSpPr>
                <p:spPr>
                  <a:xfrm>
                    <a:off x="2361960" y="44953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08"/>
                  <p:cNvSpPr/>
                  <p:nvPr/>
                </p:nvSpPr>
                <p:spPr>
                  <a:xfrm>
                    <a:off x="2361960" y="388548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09"/>
                  <p:cNvSpPr/>
                  <p:nvPr/>
                </p:nvSpPr>
                <p:spPr>
                  <a:xfrm>
                    <a:off x="2361960" y="327600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210"/>
                  <p:cNvSpPr/>
                  <p:nvPr/>
                </p:nvSpPr>
                <p:spPr>
                  <a:xfrm>
                    <a:off x="2361960" y="358092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11"/>
                  <p:cNvSpPr/>
                  <p:nvPr/>
                </p:nvSpPr>
                <p:spPr>
                  <a:xfrm>
                    <a:off x="2361960" y="2971440"/>
                    <a:ext cx="30456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Line 212"/>
                <p:cNvSpPr/>
                <p:nvPr/>
              </p:nvSpPr>
              <p:spPr>
                <a:xfrm flipV="1">
                  <a:off x="2514240" y="2743200"/>
                  <a:ext cx="0" cy="1752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665360" y="2440080"/>
                  <a:ext cx="1116000" cy="30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ℓ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 E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1202040" y="2809800"/>
            <a:ext cx="381960" cy="18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16040" y="4896000"/>
          <a:ext cx="924120" cy="108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4896000"/>
                    <a:ext cx="924120" cy="10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9840" y="58680"/>
            <a:ext cx="8271000" cy="8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robability of observing energy E</a:t>
            </a:r>
            <a:r>
              <a:rPr b="0" lang="en-US" sz="4000" spc="-1" strike="noStrike" baseline="-25000">
                <a:solidFill>
                  <a:srgbClr val="ff9966"/>
                </a:solidFill>
                <a:latin typeface="Comic Sans MS"/>
              </a:rPr>
              <a:t>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640" y="1267920"/>
            <a:ext cx="8412480" cy="303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probability that oscillator #1 has energy 0,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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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the solution to the exerc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0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3/6 = 1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2/6 = 1/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20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that oscillator #1 has energy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/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75040" y="4397400"/>
            <a:ext cx="49212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crease as 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is an important general feature of energy distributions in thermal equilibrium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discuss it more next week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6160" y="4040280"/>
            <a:ext cx="2784600" cy="1862640"/>
            <a:chOff x="776160" y="4040280"/>
            <a:chExt cx="2784600" cy="1862640"/>
          </a:xfrm>
        </p:grpSpPr>
        <p:grpSp>
          <p:nvGrpSpPr>
            <p:cNvPr id="204" name="Group 4"/>
            <p:cNvGrpSpPr/>
            <p:nvPr/>
          </p:nvGrpSpPr>
          <p:grpSpPr>
            <a:xfrm>
              <a:off x="1690560" y="4879800"/>
              <a:ext cx="838440" cy="456840"/>
              <a:chOff x="1690560" y="4879800"/>
              <a:chExt cx="838440" cy="456840"/>
            </a:xfrm>
          </p:grpSpPr>
          <p:sp>
            <p:nvSpPr>
              <p:cNvPr id="205" name="Oval 5"/>
              <p:cNvSpPr/>
              <p:nvPr/>
            </p:nvSpPr>
            <p:spPr>
              <a:xfrm>
                <a:off x="1690560" y="487980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6" name="Oval 6"/>
              <p:cNvSpPr/>
              <p:nvPr/>
            </p:nvSpPr>
            <p:spPr>
              <a:xfrm>
                <a:off x="2300400" y="518436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7" name="Oval 7"/>
              <p:cNvSpPr/>
              <p:nvPr/>
            </p:nvSpPr>
            <p:spPr>
              <a:xfrm>
                <a:off x="1995480" y="5032080"/>
                <a:ext cx="152280" cy="151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08" name="Line 8"/>
              <p:cNvSpPr/>
              <p:nvPr/>
            </p:nvSpPr>
            <p:spPr>
              <a:xfrm>
                <a:off x="1690560" y="4879800"/>
                <a:ext cx="838440" cy="45684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09" name="Text Box 12"/>
            <p:cNvSpPr/>
            <p:nvPr/>
          </p:nvSpPr>
          <p:spPr>
            <a:xfrm>
              <a:off x="776160" y="4346280"/>
              <a:ext cx="6098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5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1552680" y="4040280"/>
              <a:ext cx="531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3027240" y="522756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12" name="Group 15"/>
            <p:cNvGrpSpPr/>
            <p:nvPr/>
          </p:nvGrpSpPr>
          <p:grpSpPr>
            <a:xfrm>
              <a:off x="1309680" y="4194000"/>
              <a:ext cx="1676520" cy="1370880"/>
              <a:chOff x="1309680" y="4194000"/>
              <a:chExt cx="1676520" cy="1370880"/>
            </a:xfrm>
          </p:grpSpPr>
          <p:sp>
            <p:nvSpPr>
              <p:cNvPr id="213" name="Line 16"/>
              <p:cNvSpPr/>
              <p:nvPr/>
            </p:nvSpPr>
            <p:spPr>
              <a:xfrm flipV="1">
                <a:off x="1461960" y="4194000"/>
                <a:ext cx="0" cy="1218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4" name="Line 17"/>
              <p:cNvSpPr/>
              <p:nvPr/>
            </p:nvSpPr>
            <p:spPr>
              <a:xfrm>
                <a:off x="1461960" y="5412960"/>
                <a:ext cx="1524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5" name="Line 18"/>
              <p:cNvSpPr/>
              <p:nvPr/>
            </p:nvSpPr>
            <p:spPr>
              <a:xfrm>
                <a:off x="1309680" y="4955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6" name="Line 19"/>
              <p:cNvSpPr/>
              <p:nvPr/>
            </p:nvSpPr>
            <p:spPr>
              <a:xfrm>
                <a:off x="1309680" y="44985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7" name="Line 20"/>
              <p:cNvSpPr/>
              <p:nvPr/>
            </p:nvSpPr>
            <p:spPr>
              <a:xfrm>
                <a:off x="1309680" y="54129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8" name="Line 21"/>
              <p:cNvSpPr/>
              <p:nvPr/>
            </p:nvSpPr>
            <p:spPr>
              <a:xfrm>
                <a:off x="176688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19" name="Line 22"/>
              <p:cNvSpPr/>
              <p:nvPr/>
            </p:nvSpPr>
            <p:spPr>
              <a:xfrm>
                <a:off x="237636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20" name="Line 23"/>
              <p:cNvSpPr/>
              <p:nvPr/>
            </p:nvSpPr>
            <p:spPr>
              <a:xfrm>
                <a:off x="2071800" y="5336640"/>
                <a:ext cx="0" cy="22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4"/>
            <p:cNvSpPr/>
            <p:nvPr/>
          </p:nvSpPr>
          <p:spPr>
            <a:xfrm>
              <a:off x="1614600" y="55656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7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Average energi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0796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n example wi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3 SHO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be the average thermal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n the first SHO?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60440"/>
                <a:tab algn="l" pos="1374840"/>
                <a:tab algn="l" pos="2289240"/>
                <a:tab algn="l" pos="3430440"/>
                <a:tab algn="l" pos="4344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/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2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1880" y="58680"/>
            <a:ext cx="7162560" cy="6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me Exercis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363680"/>
            <a:ext cx="723420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system of 3 oscillator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3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probability that oscillator #1 has energy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042920" y="5248440"/>
            <a:ext cx="7194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you state in words why P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s with increas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important that you understand this.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615040" y="2319480"/>
            <a:ext cx="3120480" cy="2789640"/>
            <a:chOff x="2615040" y="2319480"/>
            <a:chExt cx="3120480" cy="2789640"/>
          </a:xfrm>
        </p:grpSpPr>
        <p:sp>
          <p:nvSpPr>
            <p:cNvPr id="228" name="Line 4"/>
            <p:cNvSpPr/>
            <p:nvPr/>
          </p:nvSpPr>
          <p:spPr>
            <a:xfrm flipV="1">
              <a:off x="2743200" y="2354400"/>
              <a:ext cx="0" cy="167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335268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0" name="Line 8"/>
            <p:cNvSpPr/>
            <p:nvPr/>
          </p:nvSpPr>
          <p:spPr>
            <a:xfrm>
              <a:off x="4662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422604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3789360" y="44877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33" name="Group 11"/>
            <p:cNvGrpSpPr/>
            <p:nvPr/>
          </p:nvGrpSpPr>
          <p:grpSpPr>
            <a:xfrm>
              <a:off x="2971800" y="2506320"/>
              <a:ext cx="2438280" cy="2057760"/>
              <a:chOff x="2971800" y="2506320"/>
              <a:chExt cx="2438280" cy="2057760"/>
            </a:xfrm>
          </p:grpSpPr>
          <p:sp>
            <p:nvSpPr>
              <p:cNvPr id="234" name="Line 12"/>
              <p:cNvSpPr/>
              <p:nvPr/>
            </p:nvSpPr>
            <p:spPr>
              <a:xfrm flipV="1">
                <a:off x="2971800" y="2506320"/>
                <a:ext cx="0" cy="2057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2971800" y="4564080"/>
                <a:ext cx="2438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236" name="Text Box 14"/>
            <p:cNvSpPr/>
            <p:nvPr/>
          </p:nvSpPr>
          <p:spPr>
            <a:xfrm>
              <a:off x="3013200" y="2319480"/>
              <a:ext cx="44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7" name="Line 15"/>
            <p:cNvSpPr/>
            <p:nvPr/>
          </p:nvSpPr>
          <p:spPr>
            <a:xfrm>
              <a:off x="2895480" y="30402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5126040" y="459900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endParaRPr b="1" lang="en-US" sz="2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3200400" y="4672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1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2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3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15040" y="2860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49440" y="3460680"/>
            <a:ext cx="816912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the same as the formula for N identical particles in M bins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nerg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quanta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scillator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 energy quanta are identical (indistinguishable) “particles”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oscillators are multiple-occupancy “bins” for those quanta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7160"/>
                <a:tab algn="l" pos="461880"/>
                <a:tab algn="l" pos="2290680"/>
                <a:tab algn="l" pos="251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the derivation in last lecture’s Appendix. 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60600" y="466236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6800" y="63360"/>
            <a:ext cx="81360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lief from Counting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07960" y="1200240"/>
            <a:ext cx="820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formula for the number of microstates in a system of N  oscillators sharing q energy quanta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414440" y="2252520"/>
          <a:ext cx="213048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4440" y="2252520"/>
                    <a:ext cx="2130480" cy="876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Text Box 7"/>
          <p:cNvSpPr/>
          <p:nvPr/>
        </p:nvSpPr>
        <p:spPr>
          <a:xfrm>
            <a:off x="5171760" y="2502000"/>
            <a:ext cx="26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’ll call it the “q-formula”. 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333840" y="4044960"/>
            <a:ext cx="2381400" cy="109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ware !!!</a:t>
            </a:r>
            <a:br>
              <a:rPr sz="20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means different things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 the two situations.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orry for the notation)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4911840"/>
            <a:ext cx="72396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82800" y="60120"/>
            <a:ext cx="716256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How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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depends on </a:t>
            </a:r>
            <a:r>
              <a:rPr b="0" lang="en-US" sz="4000" spc="-1" strike="noStrike">
                <a:solidFill>
                  <a:srgbClr val="ff9966"/>
                </a:solidFill>
                <a:latin typeface="Arial"/>
              </a:rPr>
              <a:t>U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8200" y="1072800"/>
            <a:ext cx="5573520" cy="121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he q-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2-SHO system,  N=2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q+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=3, here’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q = 0, 1, 2, 3, 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184560" y="5979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898720" y="2563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56" name="Group 6"/>
          <p:cNvGrpSpPr/>
          <p:nvPr/>
        </p:nvGrpSpPr>
        <p:grpSpPr>
          <a:xfrm>
            <a:off x="2362320" y="2819520"/>
            <a:ext cx="457200" cy="2059560"/>
            <a:chOff x="2362320" y="2819520"/>
            <a:chExt cx="457200" cy="2059560"/>
          </a:xfrm>
        </p:grpSpPr>
        <p:sp>
          <p:nvSpPr>
            <p:cNvPr id="257" name="Text Box 7"/>
            <p:cNvSpPr/>
            <p:nvPr/>
          </p:nvSpPr>
          <p:spPr>
            <a:xfrm>
              <a:off x="2362320" y="2819520"/>
              <a:ext cx="457200" cy="18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2438280" y="45720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048120" y="4876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1    2    3    4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4267080" y="3809880"/>
            <a:ext cx="15264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3505320" y="4495680"/>
            <a:ext cx="152280" cy="15264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2743200" y="34290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 flipV="1">
            <a:off x="28195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2789280" y="480060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3200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4724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69" name="Line 19"/>
          <p:cNvSpPr/>
          <p:nvPr/>
        </p:nvSpPr>
        <p:spPr>
          <a:xfrm>
            <a:off x="396252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0" name="Line 20"/>
          <p:cNvSpPr/>
          <p:nvPr/>
        </p:nvSpPr>
        <p:spPr>
          <a:xfrm>
            <a:off x="3581280" y="4724280"/>
            <a:ext cx="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1" name="Line 21"/>
          <p:cNvSpPr/>
          <p:nvPr/>
        </p:nvSpPr>
        <p:spPr>
          <a:xfrm>
            <a:off x="2743200" y="47242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2743200" y="29718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3" name="Line 23"/>
          <p:cNvSpPr/>
          <p:nvPr/>
        </p:nvSpPr>
        <p:spPr>
          <a:xfrm>
            <a:off x="2743200" y="388620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4" name="Line 24"/>
          <p:cNvSpPr/>
          <p:nvPr/>
        </p:nvSpPr>
        <p:spPr>
          <a:xfrm>
            <a:off x="2743200" y="41911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5" name="Line 25"/>
          <p:cNvSpPr/>
          <p:nvPr/>
        </p:nvSpPr>
        <p:spPr>
          <a:xfrm>
            <a:off x="2743200" y="449568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2362320" y="32767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77" name="Group 27"/>
          <p:cNvGrpSpPr/>
          <p:nvPr/>
        </p:nvGrpSpPr>
        <p:grpSpPr>
          <a:xfrm>
            <a:off x="3124080" y="3352680"/>
            <a:ext cx="1676520" cy="1447920"/>
            <a:chOff x="3124080" y="3352680"/>
            <a:chExt cx="1676520" cy="1447920"/>
          </a:xfrm>
        </p:grpSpPr>
        <p:sp>
          <p:nvSpPr>
            <p:cNvPr id="278" name="Oval 28"/>
            <p:cNvSpPr/>
            <p:nvPr/>
          </p:nvSpPr>
          <p:spPr>
            <a:xfrm>
              <a:off x="4648320" y="3352680"/>
              <a:ext cx="152280" cy="1526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79" name="Group 29"/>
            <p:cNvGrpSpPr/>
            <p:nvPr/>
          </p:nvGrpSpPr>
          <p:grpSpPr>
            <a:xfrm>
              <a:off x="3124080" y="3429000"/>
              <a:ext cx="1600200" cy="1371600"/>
              <a:chOff x="3124080" y="3429000"/>
              <a:chExt cx="1600200" cy="1371600"/>
            </a:xfrm>
          </p:grpSpPr>
          <p:sp>
            <p:nvSpPr>
              <p:cNvPr id="280" name="Oval 30"/>
              <p:cNvSpPr/>
              <p:nvPr/>
            </p:nvSpPr>
            <p:spPr>
              <a:xfrm>
                <a:off x="3124080" y="4648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1" name="Freeform 31"/>
              <p:cNvSpPr/>
              <p:nvPr/>
            </p:nvSpPr>
            <p:spPr>
              <a:xfrm>
                <a:off x="3200400" y="3429000"/>
                <a:ext cx="1523880" cy="1295280"/>
              </a:xfrm>
              <a:prstGeom prst="pie">
                <a:avLst/>
              </a:pr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Text Box 33"/>
          <p:cNvSpPr/>
          <p:nvPr/>
        </p:nvSpPr>
        <p:spPr>
          <a:xfrm>
            <a:off x="5616720" y="3054240"/>
            <a:ext cx="3178080" cy="1333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=3: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512640"/>
                <a:tab algn="l" pos="114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(q+2)(q+1)/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q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q is larg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552600" y="2684520"/>
            <a:ext cx="999720" cy="3467880"/>
            <a:chOff x="552600" y="2684520"/>
            <a:chExt cx="999720" cy="3467880"/>
          </a:xfrm>
        </p:grpSpPr>
        <p:sp>
          <p:nvSpPr>
            <p:cNvPr id="284" name="Text Box 36"/>
            <p:cNvSpPr/>
            <p:nvPr/>
          </p:nvSpPr>
          <p:spPr>
            <a:xfrm>
              <a:off x="552600" y="2684520"/>
              <a:ext cx="9997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q    </a:t>
              </a:r>
              <a:r>
                <a:rPr b="1" lang="en-US" sz="20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</a:t>
              </a: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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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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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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285" name="Group 37"/>
            <p:cNvGrpSpPr/>
            <p:nvPr/>
          </p:nvGrpSpPr>
          <p:grpSpPr>
            <a:xfrm>
              <a:off x="657720" y="2745000"/>
              <a:ext cx="805320" cy="2228760"/>
              <a:chOff x="657720" y="2745000"/>
              <a:chExt cx="805320" cy="2228760"/>
            </a:xfrm>
          </p:grpSpPr>
          <p:sp>
            <p:nvSpPr>
              <p:cNvPr id="286" name="Line 38"/>
              <p:cNvSpPr/>
              <p:nvPr/>
            </p:nvSpPr>
            <p:spPr>
              <a:xfrm>
                <a:off x="991080" y="2745000"/>
                <a:ext cx="0" cy="2228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7" name="Line 39"/>
              <p:cNvSpPr/>
              <p:nvPr/>
            </p:nvSpPr>
            <p:spPr>
              <a:xfrm>
                <a:off x="675720" y="495972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8" name="Line 40"/>
              <p:cNvSpPr/>
              <p:nvPr/>
            </p:nvSpPr>
            <p:spPr>
              <a:xfrm>
                <a:off x="671760" y="458640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89" name="Line 41"/>
              <p:cNvSpPr/>
              <p:nvPr/>
            </p:nvSpPr>
            <p:spPr>
              <a:xfrm>
                <a:off x="670320" y="421668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0" name="Line 42"/>
              <p:cNvSpPr/>
              <p:nvPr/>
            </p:nvSpPr>
            <p:spPr>
              <a:xfrm>
                <a:off x="688320" y="383256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1" name="Line 43"/>
              <p:cNvSpPr/>
              <p:nvPr/>
            </p:nvSpPr>
            <p:spPr>
              <a:xfrm>
                <a:off x="691920" y="3481560"/>
                <a:ext cx="771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657720" y="3083040"/>
                <a:ext cx="771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Text Box 45"/>
          <p:cNvSpPr/>
          <p:nvPr/>
        </p:nvSpPr>
        <p:spPr>
          <a:xfrm>
            <a:off x="5410080" y="4572000"/>
            <a:ext cx="3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4" name="Text Box 46"/>
          <p:cNvSpPr/>
          <p:nvPr/>
        </p:nvSpPr>
        <p:spPr>
          <a:xfrm>
            <a:off x="783000" y="5451480"/>
            <a:ext cx="7499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N oscillators when q &gt;&gt; N (or, U &gt;&gt; Nε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happens when the average energy per oscillator, U/N,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23520" y="1293840"/>
            <a:ext cx="151128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 = q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320" y="61560"/>
            <a:ext cx="883584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rmal Equilibrium 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ith Energy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487760" y="4183200"/>
          <a:ext cx="1508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7760" y="4183200"/>
                    <a:ext cx="1508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10"/>
          <p:cNvSpPr/>
          <p:nvPr/>
        </p:nvSpPr>
        <p:spPr>
          <a:xfrm>
            <a:off x="4194000" y="4888080"/>
            <a:ext cx="494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expression for thermal equilibrium was obtained by maximizing the entropy subject to a constraint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result is very similar to the one for volume exchang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see last lecture’s summary slide)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s form results from the sharing of some quantity among systems.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We’ll see other examples.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6111720" y="2649600"/>
            <a:ext cx="2732040" cy="1966320"/>
            <a:chOff x="6111720" y="2649600"/>
            <a:chExt cx="2732040" cy="1966320"/>
          </a:xfrm>
        </p:grpSpPr>
        <p:grpSp>
          <p:nvGrpSpPr>
            <p:cNvPr id="301" name="Group 12"/>
            <p:cNvGrpSpPr/>
            <p:nvPr/>
          </p:nvGrpSpPr>
          <p:grpSpPr>
            <a:xfrm>
              <a:off x="6111720" y="2649600"/>
              <a:ext cx="2732040" cy="1966320"/>
              <a:chOff x="6111720" y="2649600"/>
              <a:chExt cx="2732040" cy="1966320"/>
            </a:xfrm>
          </p:grpSpPr>
          <p:grpSp>
            <p:nvGrpSpPr>
              <p:cNvPr id="302" name="Group 13"/>
              <p:cNvGrpSpPr/>
              <p:nvPr/>
            </p:nvGrpSpPr>
            <p:grpSpPr>
              <a:xfrm>
                <a:off x="6267240" y="2790720"/>
                <a:ext cx="2075040" cy="1463760"/>
                <a:chOff x="6267240" y="2790720"/>
                <a:chExt cx="2075040" cy="1463760"/>
              </a:xfrm>
            </p:grpSpPr>
            <p:sp>
              <p:nvSpPr>
                <p:cNvPr id="303" name="Line 14"/>
                <p:cNvSpPr/>
                <p:nvPr/>
              </p:nvSpPr>
              <p:spPr>
                <a:xfrm>
                  <a:off x="6267240" y="4254480"/>
                  <a:ext cx="2075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5"/>
                <p:cNvSpPr/>
                <p:nvPr/>
              </p:nvSpPr>
              <p:spPr>
                <a:xfrm flipV="1">
                  <a:off x="6267240" y="2790720"/>
                  <a:ext cx="0" cy="1463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16"/>
                <p:cNvSpPr/>
                <p:nvPr/>
              </p:nvSpPr>
              <p:spPr>
                <a:xfrm>
                  <a:off x="6276960" y="3763800"/>
                  <a:ext cx="1665360" cy="48132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17"/>
                <p:cNvSpPr/>
                <p:nvPr/>
              </p:nvSpPr>
              <p:spPr>
                <a:xfrm flipH="1">
                  <a:off x="6279480" y="3022560"/>
                  <a:ext cx="1665000" cy="122400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Freeform 18"/>
              <p:cNvSpPr/>
              <p:nvPr/>
            </p:nvSpPr>
            <p:spPr>
              <a:xfrm>
                <a:off x="6257880" y="2784600"/>
                <a:ext cx="1674720" cy="939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8" name="Line 19"/>
              <p:cNvSpPr/>
              <p:nvPr/>
            </p:nvSpPr>
            <p:spPr>
              <a:xfrm>
                <a:off x="6729480" y="2649600"/>
                <a:ext cx="0" cy="174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09" name="Text Box 20"/>
              <p:cNvSpPr/>
              <p:nvPr/>
            </p:nvSpPr>
            <p:spPr>
              <a:xfrm>
                <a:off x="8332560" y="4113360"/>
                <a:ext cx="5112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0" name="Text Box 21"/>
              <p:cNvSpPr/>
              <p:nvPr/>
            </p:nvSpPr>
            <p:spPr>
              <a:xfrm>
                <a:off x="6111720" y="4245120"/>
                <a:ext cx="2481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0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             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- U</a:t>
                </a:r>
                <a:r>
                  <a:rPr b="0" lang="en-US" sz="1400" spc="-1" strike="noStrike" baseline="-25000">
                    <a:solidFill>
                      <a:srgbClr val="fafd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 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11" name="Line 22"/>
              <p:cNvSpPr/>
              <p:nvPr/>
            </p:nvSpPr>
            <p:spPr>
              <a:xfrm>
                <a:off x="7951680" y="4094280"/>
                <a:ext cx="0" cy="23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312" name="Text Box 23"/>
            <p:cNvSpPr/>
            <p:nvPr/>
          </p:nvSpPr>
          <p:spPr>
            <a:xfrm>
              <a:off x="7080120" y="2649600"/>
              <a:ext cx="6112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tot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</a:t>
              </a:r>
              <a:r>
                <a:rPr b="1" lang="en-US" sz="1400" spc="-1" strike="noStrike" baseline="-25000">
                  <a:solidFill>
                    <a:srgbClr val="fafd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13" name="Text Box 24"/>
          <p:cNvSpPr/>
          <p:nvPr/>
        </p:nvSpPr>
        <p:spPr>
          <a:xfrm>
            <a:off x="7696080" y="652320"/>
            <a:ext cx="844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474840" y="1558800"/>
            <a:ext cx="8431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e systems are large (N &gt;&gt; 1), so that we can take derivatives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maximizing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we vary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keeping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07960" y="2697120"/>
          <a:ext cx="3510000" cy="29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2697120"/>
                    <a:ext cx="35100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2214720" y="4768920"/>
            <a:ext cx="1879560" cy="97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8360" y="5902200"/>
            <a:ext cx="35211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are holding V constant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’s the reason for the partial deriv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s a function of both U and V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1405080" y="2296080"/>
            <a:ext cx="61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998640" y="63360"/>
            <a:ext cx="7162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ast Time</a:t>
            </a:r>
            <a:endParaRPr b="1" lang="en-US" sz="4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320" y="60120"/>
            <a:ext cx="882792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General Definition of Tempera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40" y="968400"/>
            <a:ext cx="883440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t’s use the energy sharing result to write a more general definition of temperatur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does not assume equipartition which (as we’ll see soon) is not always valid.  Recall that equipartition is needed for the ideal gas law, pV = NkT, so the new definition will free us from relying on ideal gases to measure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with the energy sharing result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rmal equilibriu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fine the absolute temperature 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definition,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equilibrium.  That’s nice, but to be useful it must give other results that we all know and love.  For 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ut of equilibrium, heat flows from hot to col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 everyday conditions (large objects, not near absolute zero) we ha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of energy: U = ½kT for each energy m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4030560" y="3157560"/>
          <a:ext cx="168768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3157560"/>
                    <a:ext cx="1687680" cy="9396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6467400" y="2522520"/>
          <a:ext cx="12636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7400" y="2522520"/>
                    <a:ext cx="1263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</a:t>
            </a:r>
            <a:r>
              <a:rPr b="0" lang="en-US" sz="4000" spc="-1" strike="noStrike">
                <a:solidFill>
                  <a:srgbClr val="ff9966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 and T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51544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eviously saw that for a large collection of harmonic oscillator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-1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~U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, so that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ln U + cons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s shown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ich point corresponds to a higher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458680" y="1252440"/>
            <a:ext cx="3603960" cy="1675080"/>
            <a:chOff x="5458680" y="1252440"/>
            <a:chExt cx="3603960" cy="1675080"/>
          </a:xfrm>
        </p:grpSpPr>
        <p:sp>
          <p:nvSpPr>
            <p:cNvPr id="330" name="Freeform 11"/>
            <p:cNvSpPr/>
            <p:nvPr/>
          </p:nvSpPr>
          <p:spPr>
            <a:xfrm>
              <a:off x="5950080" y="1796760"/>
              <a:ext cx="2514600" cy="9144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331" name="Group 23"/>
            <p:cNvGrpSpPr/>
            <p:nvPr/>
          </p:nvGrpSpPr>
          <p:grpSpPr>
            <a:xfrm>
              <a:off x="5458680" y="1252440"/>
              <a:ext cx="3603960" cy="1675080"/>
              <a:chOff x="5458680" y="1252440"/>
              <a:chExt cx="3603960" cy="1675080"/>
            </a:xfrm>
          </p:grpSpPr>
          <p:sp>
            <p:nvSpPr>
              <p:cNvPr id="332" name="Line 24"/>
              <p:cNvSpPr/>
              <p:nvPr/>
            </p:nvSpPr>
            <p:spPr>
              <a:xfrm flipV="1">
                <a:off x="5874120" y="1391760"/>
                <a:ext cx="0" cy="136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3" name="Line 25"/>
              <p:cNvSpPr/>
              <p:nvPr/>
            </p:nvSpPr>
            <p:spPr>
              <a:xfrm>
                <a:off x="5874120" y="2761920"/>
                <a:ext cx="2971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4" name="Text Box 26"/>
              <p:cNvSpPr/>
              <p:nvPr/>
            </p:nvSpPr>
            <p:spPr>
              <a:xfrm>
                <a:off x="8717400" y="2559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35" name="Text Box 27"/>
              <p:cNvSpPr/>
              <p:nvPr/>
            </p:nvSpPr>
            <p:spPr>
              <a:xfrm>
                <a:off x="5458680" y="1252440"/>
                <a:ext cx="33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5994360" y="2990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67720" y="3044880"/>
            <a:ext cx="41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183360" y="2579760"/>
            <a:ext cx="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912080" y="2157120"/>
            <a:ext cx="1440" cy="9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9800" y="63360"/>
            <a:ext cx="476856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: Heat Flow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97000" y="1177560"/>
            <a:ext cx="8246880" cy="43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entropies of two system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rmal contact.  System 1 starts wit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nal energ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&g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direction will energy fl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1 to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rom 2 to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no f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ystem has a higher initial tempera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1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ystem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either (equal temperat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59320" y="1038240"/>
            <a:ext cx="3681360" cy="2944440"/>
            <a:chOff x="5359320" y="1038240"/>
            <a:chExt cx="3681360" cy="2944440"/>
          </a:xfrm>
        </p:grpSpPr>
        <p:grpSp>
          <p:nvGrpSpPr>
            <p:cNvPr id="343" name="Group 7"/>
            <p:cNvGrpSpPr/>
            <p:nvPr/>
          </p:nvGrpSpPr>
          <p:grpSpPr>
            <a:xfrm>
              <a:off x="5359320" y="1038240"/>
              <a:ext cx="3681360" cy="2867760"/>
              <a:chOff x="5359320" y="1038240"/>
              <a:chExt cx="3681360" cy="2867760"/>
            </a:xfrm>
          </p:grpSpPr>
          <p:sp>
            <p:nvSpPr>
              <p:cNvPr id="344" name="Line 8"/>
              <p:cNvSpPr/>
              <p:nvPr/>
            </p:nvSpPr>
            <p:spPr>
              <a:xfrm flipV="1">
                <a:off x="8364240" y="1255680"/>
                <a:ext cx="0" cy="2133360"/>
              </a:xfrm>
              <a:prstGeom prst="line">
                <a:avLst/>
              </a:prstGeom>
              <a:ln w="12600">
                <a:solidFill>
                  <a:srgbClr val="808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45" name="Line 9"/>
              <p:cNvSpPr/>
              <p:nvPr/>
            </p:nvSpPr>
            <p:spPr>
              <a:xfrm flipV="1">
                <a:off x="7412040" y="1331280"/>
                <a:ext cx="0" cy="2057400"/>
              </a:xfrm>
              <a:prstGeom prst="line">
                <a:avLst/>
              </a:prstGeom>
              <a:ln w="12600">
                <a:solidFill>
                  <a:srgbClr val="ff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46" name="Group 10"/>
              <p:cNvGrpSpPr/>
              <p:nvPr/>
            </p:nvGrpSpPr>
            <p:grpSpPr>
              <a:xfrm>
                <a:off x="5849640" y="1636560"/>
                <a:ext cx="2514240" cy="1752480"/>
                <a:chOff x="5849640" y="1636560"/>
                <a:chExt cx="2514240" cy="1752480"/>
              </a:xfrm>
            </p:grpSpPr>
            <p:sp>
              <p:nvSpPr>
                <p:cNvPr id="347" name="Freeform 11"/>
                <p:cNvSpPr/>
                <p:nvPr/>
              </p:nvSpPr>
              <p:spPr>
                <a:xfrm>
                  <a:off x="5849640" y="2474640"/>
                  <a:ext cx="2514240" cy="914400"/>
                </a:xfrm>
                <a:prstGeom prst="pie">
                  <a:avLst/>
                </a:pr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12"/>
                <p:cNvSpPr/>
                <p:nvPr/>
              </p:nvSpPr>
              <p:spPr>
                <a:xfrm>
                  <a:off x="5849640" y="1636560"/>
                  <a:ext cx="2514240" cy="1752480"/>
                </a:xfrm>
                <a:prstGeom prst="pie">
                  <a:avLst/>
                </a:prstGeom>
                <a:noFill/>
                <a:ln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3"/>
                <p:cNvSpPr/>
                <p:nvPr/>
              </p:nvSpPr>
              <p:spPr>
                <a:xfrm>
                  <a:off x="6459120" y="17888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14"/>
                <p:cNvSpPr/>
                <p:nvPr/>
              </p:nvSpPr>
              <p:spPr>
                <a:xfrm>
                  <a:off x="6459120" y="277956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15"/>
                <p:cNvSpPr/>
                <p:nvPr/>
              </p:nvSpPr>
              <p:spPr>
                <a:xfrm>
                  <a:off x="5925600" y="1712880"/>
                  <a:ext cx="761760" cy="13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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16"/>
              <p:cNvGrpSpPr/>
              <p:nvPr/>
            </p:nvGrpSpPr>
            <p:grpSpPr>
              <a:xfrm>
                <a:off x="5849640" y="1265040"/>
                <a:ext cx="2514240" cy="2276640"/>
                <a:chOff x="5849640" y="1265040"/>
                <a:chExt cx="2514240" cy="2276640"/>
              </a:xfrm>
            </p:grpSpPr>
            <p:sp>
              <p:nvSpPr>
                <p:cNvPr id="353" name="Freeform 17"/>
                <p:cNvSpPr/>
                <p:nvPr/>
              </p:nvSpPr>
              <p:spPr>
                <a:xfrm>
                  <a:off x="5849640" y="1407960"/>
                  <a:ext cx="2514240" cy="1079640"/>
                </a:xfrm>
                <a:prstGeom prst="pie">
                  <a:avLst/>
                </a:prstGeom>
                <a:noFill/>
                <a:ln w="255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8"/>
                <p:cNvSpPr/>
                <p:nvPr/>
              </p:nvSpPr>
              <p:spPr>
                <a:xfrm>
                  <a:off x="6459120" y="1331640"/>
                  <a:ext cx="15192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9"/>
                <p:cNvSpPr/>
                <p:nvPr/>
              </p:nvSpPr>
              <p:spPr>
                <a:xfrm>
                  <a:off x="6535080" y="3313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56" name="Text Box 20"/>
                <p:cNvSpPr/>
                <p:nvPr/>
              </p:nvSpPr>
              <p:spPr>
                <a:xfrm>
                  <a:off x="7297200" y="1265040"/>
                  <a:ext cx="99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285840" indent="-285840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</a:t>
                  </a:r>
                  <a:r>
                    <a:rPr b="0" lang="en-US" sz="20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</a:t>
                  </a:r>
                  <a:r>
                    <a:rPr b="0" lang="en-US" sz="2000" spc="-1" strike="noStrike" baseline="-25000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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21"/>
              <p:cNvSpPr/>
              <p:nvPr/>
            </p:nvSpPr>
            <p:spPr>
              <a:xfrm>
                <a:off x="7243560" y="3500280"/>
                <a:ext cx="526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1i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358" name="Text Box 22"/>
              <p:cNvSpPr/>
              <p:nvPr/>
            </p:nvSpPr>
            <p:spPr>
              <a:xfrm>
                <a:off x="8101800" y="3490920"/>
                <a:ext cx="491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U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Arial"/>
                  </a:rPr>
                  <a:t>tot</a:t>
                </a:r>
                <a:endParaRPr b="1" lang="en-US" sz="18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359" name="Group 23"/>
              <p:cNvGrpSpPr/>
              <p:nvPr/>
            </p:nvGrpSpPr>
            <p:grpSpPr>
              <a:xfrm>
                <a:off x="5359320" y="1038240"/>
                <a:ext cx="3681360" cy="2439000"/>
                <a:chOff x="5359320" y="1038240"/>
                <a:chExt cx="3681360" cy="2439000"/>
              </a:xfrm>
            </p:grpSpPr>
            <p:sp>
              <p:nvSpPr>
                <p:cNvPr id="360" name="Line 24"/>
                <p:cNvSpPr/>
                <p:nvPr/>
              </p:nvSpPr>
              <p:spPr>
                <a:xfrm flipV="1">
                  <a:off x="5773680" y="1255320"/>
                  <a:ext cx="0" cy="2133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5"/>
                <p:cNvSpPr/>
                <p:nvPr/>
              </p:nvSpPr>
              <p:spPr>
                <a:xfrm>
                  <a:off x="5773680" y="3389040"/>
                  <a:ext cx="2971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6"/>
                <p:cNvSpPr/>
                <p:nvPr/>
              </p:nvSpPr>
              <p:spPr>
                <a:xfrm>
                  <a:off x="8622360" y="3071520"/>
                  <a:ext cx="418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1" lang="en-US" sz="18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363" name="Text Box 27"/>
                <p:cNvSpPr/>
                <p:nvPr/>
              </p:nvSpPr>
              <p:spPr>
                <a:xfrm>
                  <a:off x="5359320" y="1038240"/>
                  <a:ext cx="334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Text Box 31"/>
            <p:cNvSpPr/>
            <p:nvPr/>
          </p:nvSpPr>
          <p:spPr>
            <a:xfrm>
              <a:off x="6291000" y="3576960"/>
              <a:ext cx="491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q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680" y="63360"/>
            <a:ext cx="8208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Heat Flow from Hot to Cold Is Irreversibl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169920" y="3193920"/>
            <a:ext cx="6265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olated systems evolve toward the macrostate that has maximum total entropy (maximum probability)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most all the probability is very near to the equilibrium macrostate, so once equilibrium is reached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very unlikely that the system will go         anywhere else.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97000" y="5689440"/>
            <a:ext cx="499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age of the universe is short compared to how long you’d have to wait for the energy to re-separate!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04920" y="149076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prepare an isolated system out of equilibrium,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47760" y="21225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ystem will irreversibly adjust itself to: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2" name="Group 7"/>
          <p:cNvGrpSpPr/>
          <p:nvPr/>
        </p:nvGrpSpPr>
        <p:grpSpPr>
          <a:xfrm>
            <a:off x="6423120" y="1425600"/>
            <a:ext cx="1371600" cy="380880"/>
            <a:chOff x="6423120" y="1425600"/>
            <a:chExt cx="1371600" cy="380880"/>
          </a:xfrm>
        </p:grpSpPr>
        <p:sp>
          <p:nvSpPr>
            <p:cNvPr id="373" name="Rectangle 8"/>
            <p:cNvSpPr/>
            <p:nvPr/>
          </p:nvSpPr>
          <p:spPr>
            <a:xfrm>
              <a:off x="6423120" y="14256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4" name="Rectangle 9"/>
            <p:cNvSpPr/>
            <p:nvPr/>
          </p:nvSpPr>
          <p:spPr>
            <a:xfrm>
              <a:off x="7108920" y="14256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375" name="Text Box 10"/>
          <p:cNvSpPr/>
          <p:nvPr/>
        </p:nvSpPr>
        <p:spPr>
          <a:xfrm>
            <a:off x="6575400" y="18828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gt;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5361120" y="267660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  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77" name="Group 12"/>
          <p:cNvGrpSpPr/>
          <p:nvPr/>
        </p:nvGrpSpPr>
        <p:grpSpPr>
          <a:xfrm>
            <a:off x="5208480" y="2219400"/>
            <a:ext cx="1371600" cy="380880"/>
            <a:chOff x="5208480" y="2219400"/>
            <a:chExt cx="1371600" cy="380880"/>
          </a:xfrm>
        </p:grpSpPr>
        <p:sp>
          <p:nvSpPr>
            <p:cNvPr id="378" name="Rectangle 13"/>
            <p:cNvSpPr/>
            <p:nvPr/>
          </p:nvSpPr>
          <p:spPr>
            <a:xfrm>
              <a:off x="5208480" y="2219400"/>
              <a:ext cx="685800" cy="38088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79" name="Rectangle 14"/>
            <p:cNvSpPr/>
            <p:nvPr/>
          </p:nvSpPr>
          <p:spPr>
            <a:xfrm>
              <a:off x="5894280" y="2219400"/>
              <a:ext cx="685800" cy="380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08840" y="3979800"/>
            <a:ext cx="303516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at about Equipartition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0640" y="752400"/>
            <a:ext cx="824400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holds for everyday phenomena.  In this situation, U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, each oscillator (atom, or something similar) has many energy quanta, because q = U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arge objects also have N &gt;&gt; 1:  N-1 ~ 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e don’t actually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is approximation, but it makes the math simpler, since &lt;U&gt;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ost likel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our new definition of temperature agrees with the usual on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ich is based on the ideal gas law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n the everyday regim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n particular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to verify that equipartition hold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which case the ideal gas formulas for specific heat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will work out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consider harmonic oscillator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we know how to do the calculation.  Recall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200640" y="4386240"/>
          <a:ext cx="233676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4386240"/>
                    <a:ext cx="233676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879560" y="5068800"/>
          <a:ext cx="294156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5068800"/>
                    <a:ext cx="29415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7156800" y="4013280"/>
            <a:ext cx="182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sing the above approximations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26280" y="4221000"/>
            <a:ext cx="0" cy="373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39880" y="5440320"/>
            <a:ext cx="1351080" cy="401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91440" y="6084720"/>
            <a:ext cx="144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constant contains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among other things) 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volume dependence.</a:t>
            </a:r>
            <a:endParaRPr b="1" lang="en-US" sz="9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64160" y="5845320"/>
            <a:ext cx="1658880" cy="846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647960" y="5773680"/>
            <a:ext cx="153720" cy="222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473880" y="5105520"/>
            <a:ext cx="2304720" cy="1206000"/>
            <a:chOff x="6473880" y="5105520"/>
            <a:chExt cx="2304720" cy="1206000"/>
          </a:xfrm>
        </p:grpSpPr>
        <p:sp>
          <p:nvSpPr>
            <p:cNvPr id="394" name="Arc 7"/>
            <p:cNvSpPr/>
            <p:nvPr/>
          </p:nvSpPr>
          <p:spPr>
            <a:xfrm flipH="1">
              <a:off x="6500880" y="5425920"/>
              <a:ext cx="2201760" cy="885600"/>
            </a:xfrm>
            <a:prstGeom prst="pie">
              <a:avLst/>
            </a:pr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 flipV="1">
              <a:off x="6473880" y="6297120"/>
              <a:ext cx="21924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V="1">
              <a:off x="6473880" y="5236560"/>
              <a:ext cx="0" cy="10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6483600" y="510552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8469720" y="6000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1" lang="en-US" sz="14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partition (2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0640" y="1319040"/>
            <a:ext cx="79502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w calculate the temperature of N oscillators that have internal energy 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Nk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Equipartition holds if q &gt;&gt;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’s a more practical way to write the q &gt;&gt; N cond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 = q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gt;&gt;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U/N &gt;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refore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T = U/N &gt;&gt;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quipartition holds if the thermal energy, kT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much larger than the energy spacing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ipartition fails at low temperature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study this phenomenon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33480" y="1758960"/>
          <a:ext cx="352908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1758960"/>
                    <a:ext cx="35290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6469200" y="1963800"/>
            <a:ext cx="233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ant doesn’t depend on U, so its   partial derivative is zero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3880" y="4633920"/>
            <a:ext cx="4762440" cy="63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280" y="63360"/>
            <a:ext cx="74977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2880" y="2019240"/>
            <a:ext cx="5932440" cy="135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ltzmann factor (and applic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equipartition fail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360" y="60120"/>
            <a:ext cx="7729200" cy="129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Quick Review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e Scope of Thermodynamic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539360"/>
            <a:ext cx="8169480" cy="417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en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d syste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an explore some number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of microstate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icrostates are equally likel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that you obser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is: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</a:t>
            </a:r>
            <a:br>
              <a:rPr sz="1800"/>
            </a:b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fraction of all the microstates that look like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tropy of a system is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er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unts all possible states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fore, P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proportional to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400" spc="-1" strike="noStrike" baseline="10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a big system, the entropy of the most likely macrostat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not much less than the total entropy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513160"/>
                <a:tab algn="l" pos="3427560"/>
                <a:tab algn="l" pos="6059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spins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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2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ln(2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7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400" spc="-1" strike="noStrike" baseline="-12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 up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ln(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/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 5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!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= 6931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27040" y="5664240"/>
            <a:ext cx="796608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odynamics applies to systems that are big enough so that this is tr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800" y="6256440"/>
            <a:ext cx="89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hat is the probability that in a system of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spins, exactly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will be pointing up?</a:t>
            </a:r>
            <a:endParaRPr b="1" lang="en-US" sz="16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047000" y="3875040"/>
          <a:ext cx="7347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7000" y="3875040"/>
                    <a:ext cx="7347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831960" y="934920"/>
            <a:ext cx="7388280" cy="1009440"/>
            <a:chOff x="831960" y="934920"/>
            <a:chExt cx="7388280" cy="1009440"/>
          </a:xfrm>
        </p:grpSpPr>
        <p:graphicFrame>
          <p:nvGraphicFramePr>
            <p:cNvPr id="59" name=""/>
            <p:cNvGraphicFramePr/>
            <p:nvPr/>
          </p:nvGraphicFramePr>
          <p:xfrm>
            <a:off x="6974280" y="1088640"/>
            <a:ext cx="1042920" cy="693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74280" y="1088640"/>
                      <a:ext cx="1042920" cy="6937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Rectangle 6"/>
            <p:cNvSpPr/>
            <p:nvPr/>
          </p:nvSpPr>
          <p:spPr>
            <a:xfrm>
              <a:off x="1043280" y="1120680"/>
              <a:ext cx="605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Entropy of an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solated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system can only increas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or remain constant) as a function of time.</a:t>
              </a:r>
              <a:endParaRPr b="1" lang="en-US" sz="18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831960" y="934920"/>
              <a:ext cx="7388280" cy="1009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285840" indent="-285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60120"/>
            <a:ext cx="8607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he Second Law of Thermodynamic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2120" y="2160720"/>
            <a:ext cx="7551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consequence of  probability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croscopic systems have very sharply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eaked probability distribution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much sharper than shown he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far from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volve towards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where most of the microstates are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x is initially near its most likely position, x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then it will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main there.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has its maximum value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availabl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equally likely, but in big system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vast majority of them correspond to very simila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rost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bout 50% spin up)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714560" y="2039400"/>
            <a:ext cx="4324680" cy="1530720"/>
            <a:chOff x="4714560" y="2039400"/>
            <a:chExt cx="4324680" cy="1530720"/>
          </a:xfrm>
        </p:grpSpPr>
        <p:sp>
          <p:nvSpPr>
            <p:cNvPr id="66" name="Text Box 17"/>
            <p:cNvSpPr/>
            <p:nvPr/>
          </p:nvSpPr>
          <p:spPr>
            <a:xfrm>
              <a:off x="7051680" y="2698200"/>
              <a:ext cx="198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croscopic quantity, x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.g., position of partition)</a:t>
              </a:r>
              <a:endParaRPr b="1" lang="en-US" sz="12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714560" y="2039400"/>
              <a:ext cx="3026160" cy="1530720"/>
              <a:chOff x="4714560" y="2039400"/>
              <a:chExt cx="3026160" cy="1530720"/>
            </a:xfrm>
          </p:grpSpPr>
          <p:sp>
            <p:nvSpPr>
              <p:cNvPr id="68" name="Text Box 11"/>
              <p:cNvSpPr/>
              <p:nvPr/>
            </p:nvSpPr>
            <p:spPr>
              <a:xfrm>
                <a:off x="6387840" y="3199320"/>
                <a:ext cx="39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1" lang="en-US" sz="16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grpSp>
            <p:nvGrpSpPr>
              <p:cNvPr id="69" name="Group 12"/>
              <p:cNvGrpSpPr/>
              <p:nvPr/>
            </p:nvGrpSpPr>
            <p:grpSpPr>
              <a:xfrm>
                <a:off x="5394240" y="2185560"/>
                <a:ext cx="2346480" cy="1057680"/>
                <a:chOff x="5394240" y="2185560"/>
                <a:chExt cx="2346480" cy="1057680"/>
              </a:xfrm>
            </p:grpSpPr>
            <p:sp>
              <p:nvSpPr>
                <p:cNvPr id="70" name="Line 13"/>
                <p:cNvSpPr/>
                <p:nvPr/>
              </p:nvSpPr>
              <p:spPr>
                <a:xfrm flipV="1">
                  <a:off x="5394240" y="2185560"/>
                  <a:ext cx="0" cy="1057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1" name="Line 14"/>
                <p:cNvSpPr/>
                <p:nvPr/>
              </p:nvSpPr>
              <p:spPr>
                <a:xfrm>
                  <a:off x="5394240" y="3243240"/>
                  <a:ext cx="2346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15"/>
                <p:cNvSpPr/>
                <p:nvPr/>
              </p:nvSpPr>
              <p:spPr>
                <a:xfrm>
                  <a:off x="6203160" y="2224080"/>
                  <a:ext cx="649440" cy="1019160"/>
                </a:xfrm>
                <a:prstGeom prst="pie">
                  <a:avLst/>
                </a:pr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Text Box 16"/>
              <p:cNvSpPr/>
              <p:nvPr/>
            </p:nvSpPr>
            <p:spPr>
              <a:xfrm>
                <a:off x="4714560" y="2039400"/>
                <a:ext cx="656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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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(or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</a:t>
                </a:r>
                <a:endParaRPr b="1" lang="en-US" sz="14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74" name="Line 18"/>
              <p:cNvSpPr/>
              <p:nvPr/>
            </p:nvSpPr>
            <p:spPr>
              <a:xfrm>
                <a:off x="6540480" y="3191040"/>
                <a:ext cx="0" cy="106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75" name=""/>
          <p:cNvGraphicFramePr/>
          <p:nvPr/>
        </p:nvGraphicFramePr>
        <p:xfrm>
          <a:off x="7072200" y="4673520"/>
          <a:ext cx="70812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4673520"/>
                    <a:ext cx="70812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81040" y="5400720"/>
            <a:ext cx="6845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8120" y="63000"/>
            <a:ext cx="8221680" cy="7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ssons from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4240"/>
            <a:ext cx="6292800" cy="484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learned last lecture: 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the system consists of independent par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number of states of the whole was the product of the number of states of the pa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 entropy to be the ln(# microstat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 big system in equilibrium we almost certainly se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macrostate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o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determine equilibrium, maximize the total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maximizing the sum of the entropies of the parts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parts can exchange volum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 each part must have the sam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rivative of its entropy with respect to its volu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This argument doesn’t rely on the parts </a:t>
            </a:r>
            <a:br>
              <a:rPr sz="1800"/>
            </a:br>
            <a:r>
              <a:rPr b="1" i="1" lang="en-US" sz="1800" spc="-1" strike="noStrike">
                <a:solidFill>
                  <a:srgbClr val="00ffcc"/>
                </a:solidFill>
                <a:latin typeface="Arial"/>
              </a:rPr>
              <a:t>being the same (or even similar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use the same principle for systems tha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hang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83560" y="1862280"/>
          <a:ext cx="1522080" cy="11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3560" y="1862280"/>
                    <a:ext cx="152208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199200" y="4325760"/>
          <a:ext cx="254016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99200" y="432576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211800" y="5607000"/>
          <a:ext cx="254016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5607000"/>
                    <a:ext cx="2540160" cy="95256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63360"/>
            <a:ext cx="8758080" cy="98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Model System for Energy Exchange:</a:t>
            </a:r>
            <a:br>
              <a:rPr sz="3600"/>
            </a:br>
            <a:r>
              <a:rPr b="0" lang="en-US" sz="3200" spc="-1" strike="noStrike">
                <a:solidFill>
                  <a:srgbClr val="ff9966"/>
                </a:solidFill>
                <a:latin typeface="Arial"/>
              </a:rPr>
              <a:t>Simple Harmonic Oscillator (SHO)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0440" y="1285560"/>
            <a:ext cx="823752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make the mathematics simple we use a system with discrete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qually-spaced energy levels,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ε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here n = 1,2,3 … (quantum #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the energy levels for a mass on a sp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ystem was studied in P214.  All you need to kno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level formula (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O is an exact description of photons, and a very good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ption of vibrations of atoms in solids (= “phonons”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notation convention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energy of a single oscillat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 = internal energy of a multi-oscillato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1400" y="2387520"/>
            <a:ext cx="5729400" cy="932400"/>
            <a:chOff x="941400" y="2387520"/>
            <a:chExt cx="5729400" cy="932400"/>
          </a:xfrm>
        </p:grpSpPr>
        <p:grpSp>
          <p:nvGrpSpPr>
            <p:cNvPr id="89" name="Group 15"/>
            <p:cNvGrpSpPr/>
            <p:nvPr/>
          </p:nvGrpSpPr>
          <p:grpSpPr>
            <a:xfrm>
              <a:off x="941400" y="2387520"/>
              <a:ext cx="1676520" cy="932400"/>
              <a:chOff x="941400" y="2387520"/>
              <a:chExt cx="1676520" cy="932400"/>
            </a:xfrm>
          </p:grpSpPr>
          <p:grpSp>
            <p:nvGrpSpPr>
              <p:cNvPr id="90" name="Group 16"/>
              <p:cNvGrpSpPr/>
              <p:nvPr/>
            </p:nvGrpSpPr>
            <p:grpSpPr>
              <a:xfrm>
                <a:off x="941400" y="2387520"/>
                <a:ext cx="1676520" cy="914400"/>
                <a:chOff x="941400" y="2387520"/>
                <a:chExt cx="1676520" cy="914400"/>
              </a:xfrm>
            </p:grpSpPr>
            <p:grpSp>
              <p:nvGrpSpPr>
                <p:cNvPr id="91" name="Group 17"/>
                <p:cNvGrpSpPr/>
                <p:nvPr/>
              </p:nvGrpSpPr>
              <p:grpSpPr>
                <a:xfrm>
                  <a:off x="2237040" y="2616120"/>
                  <a:ext cx="380880" cy="381240"/>
                  <a:chOff x="2237040" y="2616120"/>
                  <a:chExt cx="380880" cy="381240"/>
                </a:xfrm>
              </p:grpSpPr>
              <p:sp>
                <p:nvSpPr>
                  <p:cNvPr id="92" name="Rectangle 18"/>
                  <p:cNvSpPr/>
                  <p:nvPr/>
                </p:nvSpPr>
                <p:spPr>
                  <a:xfrm>
                    <a:off x="2237040" y="2616120"/>
                    <a:ext cx="380880" cy="381240"/>
                  </a:xfrm>
                  <a:prstGeom prst="rect">
                    <a:avLst/>
                  </a:prstGeom>
                  <a:noFill/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Text Box 19"/>
                  <p:cNvSpPr/>
                  <p:nvPr/>
                </p:nvSpPr>
                <p:spPr>
                  <a:xfrm>
                    <a:off x="2237040" y="2616120"/>
                    <a:ext cx="380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285840" indent="-285840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</a:t>
                    </a:r>
                    <a:endParaRPr b="1" lang="en-US" sz="1800" spc="-1" strike="noStrike">
                      <a:solidFill>
                        <a:srgbClr val="00004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" name="Freeform 20"/>
                <p:cNvSpPr/>
                <p:nvPr/>
              </p:nvSpPr>
              <p:spPr>
                <a:xfrm>
                  <a:off x="1094040" y="2603520"/>
                  <a:ext cx="1143000" cy="406440"/>
                </a:xfrm>
                <a:prstGeom prst="pie">
                  <a:avLst/>
                </a:pr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1"/>
                <p:cNvSpPr/>
                <p:nvPr/>
              </p:nvSpPr>
              <p:spPr>
                <a:xfrm>
                  <a:off x="1094040" y="2387520"/>
                  <a:ext cx="0" cy="91440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2"/>
                <p:cNvSpPr/>
                <p:nvPr/>
              </p:nvSpPr>
              <p:spPr>
                <a:xfrm flipH="1">
                  <a:off x="941400" y="24638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7" name="Line 23"/>
                <p:cNvSpPr/>
                <p:nvPr/>
              </p:nvSpPr>
              <p:spPr>
                <a:xfrm flipH="1">
                  <a:off x="941400" y="29210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8" name="Line 24"/>
                <p:cNvSpPr/>
                <p:nvPr/>
              </p:nvSpPr>
              <p:spPr>
                <a:xfrm flipH="1">
                  <a:off x="941400" y="26924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 flipH="1">
                  <a:off x="941400" y="3149640"/>
                  <a:ext cx="152640" cy="763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1" lang="en-US" sz="2000" spc="-1" strike="noStrike">
                    <a:solidFill>
                      <a:srgbClr val="00004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26"/>
              <p:cNvSpPr/>
              <p:nvPr/>
            </p:nvSpPr>
            <p:spPr>
              <a:xfrm>
                <a:off x="1474920" y="2921040"/>
                <a:ext cx="3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</a:t>
                </a: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1" name=""/>
            <p:cNvGraphicFramePr/>
            <p:nvPr/>
          </p:nvGraphicFramePr>
          <p:xfrm>
            <a:off x="2745000" y="2566800"/>
            <a:ext cx="3925800" cy="51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5000" y="2566800"/>
                      <a:ext cx="3925800" cy="51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Text Box 31"/>
          <p:cNvSpPr/>
          <p:nvPr/>
        </p:nvSpPr>
        <p:spPr>
          <a:xfrm>
            <a:off x="7522560" y="3693960"/>
            <a:ext cx="166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 to 214 folks: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 drop the 0.5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ε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for convenience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ince only energ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ifferences matter.</a:t>
            </a:r>
            <a:endParaRPr b="1" lang="en-US" sz="14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18720" y="1370160"/>
            <a:ext cx="669240" cy="2189520"/>
            <a:chOff x="8118720" y="1370160"/>
            <a:chExt cx="669240" cy="2189520"/>
          </a:xfrm>
        </p:grpSpPr>
        <p:sp>
          <p:nvSpPr>
            <p:cNvPr id="105" name="Line 7"/>
            <p:cNvSpPr/>
            <p:nvPr/>
          </p:nvSpPr>
          <p:spPr>
            <a:xfrm>
              <a:off x="8483400" y="3070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8483400" y="3451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8483400" y="268920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8483400" y="192708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8483400" y="2308320"/>
              <a:ext cx="30456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8635680" y="1622160"/>
              <a:ext cx="0" cy="1825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18720" y="1370160"/>
              <a:ext cx="38196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endParaRPr b="1" lang="en-US" sz="16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61920"/>
            <a:ext cx="765036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erminology for HW, Lab, etc.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4680" y="1606680"/>
            <a:ext cx="7372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oscillators in 1 dimension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D Einstein Soli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collection of N atoms each oscillating in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 dimensions: 3N oscillators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ll assume that each oscillator has the same frequency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i.e., we ignore the frequency dependence of the “normal modes”).</a:t>
            </a:r>
            <a:endParaRPr b="1" lang="en-US" sz="1800" spc="-1" strike="noStrike">
              <a:solidFill>
                <a:srgbClr val="00004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62120" y="3009600"/>
            <a:ext cx="1278360" cy="2009520"/>
            <a:chOff x="6162120" y="3009600"/>
            <a:chExt cx="1278360" cy="2009520"/>
          </a:xfrm>
        </p:grpSpPr>
        <p:sp>
          <p:nvSpPr>
            <p:cNvPr id="117" name="Freeform 7"/>
            <p:cNvSpPr/>
            <p:nvPr/>
          </p:nvSpPr>
          <p:spPr>
            <a:xfrm>
              <a:off x="6165720" y="395100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 rot="5251200">
              <a:off x="6367680" y="4509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58000" y="3931920"/>
              <a:ext cx="58248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 rot="5251200">
              <a:off x="6353280" y="3420360"/>
              <a:ext cx="917280" cy="98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62120" y="3422880"/>
              <a:ext cx="1263600" cy="1239840"/>
              <a:chOff x="6162120" y="3422880"/>
              <a:chExt cx="1263600" cy="1239840"/>
            </a:xfrm>
          </p:grpSpPr>
          <p:sp>
            <p:nvSpPr>
              <p:cNvPr id="122" name="Freeform 11"/>
              <p:cNvSpPr/>
              <p:nvPr/>
            </p:nvSpPr>
            <p:spPr>
              <a:xfrm rot="8439600">
                <a:off x="6638040" y="3684240"/>
                <a:ext cx="856800" cy="87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  <p:sp>
            <p:nvSpPr>
              <p:cNvPr id="123" name="Freeform 12"/>
              <p:cNvSpPr/>
              <p:nvPr/>
            </p:nvSpPr>
            <p:spPr>
              <a:xfrm rot="8439600">
                <a:off x="6092640" y="4314240"/>
                <a:ext cx="856440" cy="867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 rot="10800000">
                <a:no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40"/>
                  </a:solidFill>
                  <a:latin typeface="Arial"/>
                </a:endParaRPr>
              </a:p>
            </p:txBody>
          </p:sp>
        </p:grpSp>
        <p:sp>
          <p:nvSpPr>
            <p:cNvPr id="124" name="Oval 13"/>
            <p:cNvSpPr/>
            <p:nvPr/>
          </p:nvSpPr>
          <p:spPr>
            <a:xfrm>
              <a:off x="6737400" y="3885840"/>
              <a:ext cx="163440" cy="2365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  <p:grpSp>
        <p:nvGrpSpPr>
          <p:cNvPr id="125" name="Group 14"/>
          <p:cNvGrpSpPr/>
          <p:nvPr/>
        </p:nvGrpSpPr>
        <p:grpSpPr>
          <a:xfrm>
            <a:off x="5877000" y="1995480"/>
            <a:ext cx="1950120" cy="254880"/>
            <a:chOff x="5877000" y="1995480"/>
            <a:chExt cx="1950120" cy="254880"/>
          </a:xfrm>
        </p:grpSpPr>
        <p:sp>
          <p:nvSpPr>
            <p:cNvPr id="126" name="Freeform 15"/>
            <p:cNvSpPr/>
            <p:nvPr/>
          </p:nvSpPr>
          <p:spPr>
            <a:xfrm>
              <a:off x="5877000" y="19954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7" name="Freeform 16"/>
            <p:cNvSpPr/>
            <p:nvPr/>
          </p:nvSpPr>
          <p:spPr>
            <a:xfrm>
              <a:off x="656856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8" name="Freeform 17"/>
            <p:cNvSpPr/>
            <p:nvPr/>
          </p:nvSpPr>
          <p:spPr>
            <a:xfrm>
              <a:off x="7244280" y="2017080"/>
              <a:ext cx="58284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711000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6420240" y="2014200"/>
              <a:ext cx="163800" cy="2361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4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2:51:00Z</dcterms:created>
  <dc:creator>j-wolfe</dc:creator>
  <dc:description/>
  <cp:keywords/>
  <dc:language>en-US</dc:language>
  <cp:lastModifiedBy>kwiat</cp:lastModifiedBy>
  <cp:lastPrinted>1997-01-30T13:11:51Z</cp:lastPrinted>
  <dcterms:modified xsi:type="dcterms:W3CDTF">2011-09-03T16:33:14Z</dcterms:modified>
  <cp:revision>31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