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8631A10-20D2-435A-8C53-CCDAEF4BB1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 ca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ere’s a pressure drop. How?  Your ears pop when you go up.  He balloons rise –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tarted with a quick 211 derivation of the pressure gradient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alloons rise because the pressure at the top is less than the pressure at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 forces:  p(h) A + mg = p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h) – p(0) = -mg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/dh = mg/Ag = mg/v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10 g, Vol = (.2 m)^3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p/dh = 12.2 Pa/m  (compare later on with calculated va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534F083F-EA68-47AE-8DD2-9E1B6BA818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8, p </a:t>
            </a:r>
            <a:fld id="{F30DE9B4-4747-4FFF-B378-B624A46B35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1640" y="9684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8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Review &amp;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86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00480" y="4857840"/>
            <a:ext cx="429912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35480" y="4132440"/>
            <a:ext cx="4073400" cy="71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37240" y="4265640"/>
            <a:ext cx="1768680" cy="516960"/>
            <a:chOff x="6537240" y="4265640"/>
            <a:chExt cx="1768680" cy="516960"/>
          </a:xfrm>
        </p:grpSpPr>
        <p:sp>
          <p:nvSpPr>
            <p:cNvPr id="139" name=""/>
            <p:cNvSpPr/>
            <p:nvPr/>
          </p:nvSpPr>
          <p:spPr>
            <a:xfrm>
              <a:off x="6537240" y="426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4498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4560" y="43556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17000" y="456228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6080" y="43239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3800" y="426672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99480" y="4660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2680" y="444456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81960" y="458280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85240" y="4694040"/>
              <a:ext cx="8892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459320" y="4241880"/>
            <a:ext cx="1689120" cy="552240"/>
            <a:chOff x="4459320" y="4241880"/>
            <a:chExt cx="1689120" cy="552240"/>
          </a:xfrm>
        </p:grpSpPr>
        <p:sp>
          <p:nvSpPr>
            <p:cNvPr id="150" name=""/>
            <p:cNvSpPr/>
            <p:nvPr/>
          </p:nvSpPr>
          <p:spPr>
            <a:xfrm>
              <a:off x="4616640" y="4346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59320" y="45529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21200" y="4651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18080" y="46418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11600" y="470556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8840" y="43880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00720" y="4270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7960" y="443556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61040" y="45626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00840" y="462744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59520" y="424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256360" y="37940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8240" y="414036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654120" y="1544760"/>
            <a:ext cx="7880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How does including the rotational energy and entropy of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 change it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, compared to what you’d have if it were monatomic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In other words, what is the effect on F per molecul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 chan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De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Increas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MS PGothic"/>
              </a:rPr>
              <a:t>) Not enough in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546120" y="79200"/>
            <a:ext cx="8150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ACT 2: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  <a:ea typeface="Arial"/>
              </a:rPr>
              <a:t>Chemical Potential of Diatomic 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7600" y="75960"/>
            <a:ext cx="8682120" cy="73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Contribution of Internal Modes to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060200"/>
            <a:ext cx="811692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of that internal modes lower 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ideal gases, the internal contributions to F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re independent of the other contrib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N is their contribution to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dF/d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- T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calculate F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y remembering that the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ternal modes contribute to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ways true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cause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always positi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thermal excitation of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al modes of a molecu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lways lowers its </a:t>
            </a:r>
            <a:r>
              <a:rPr b="1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th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its equilibrium concentra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44640" y="3638520"/>
          <a:ext cx="463212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638520"/>
                    <a:ext cx="463212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5737320" y="1265400"/>
            <a:ext cx="2952720" cy="2830320"/>
            <a:chOff x="5737320" y="1265400"/>
            <a:chExt cx="2952720" cy="2830320"/>
          </a:xfrm>
        </p:grpSpPr>
        <p:sp>
          <p:nvSpPr>
            <p:cNvPr id="423" name="Text Box 6"/>
            <p:cNvSpPr/>
            <p:nvPr/>
          </p:nvSpPr>
          <p:spPr>
            <a:xfrm>
              <a:off x="8413920" y="3556080"/>
              <a:ext cx="2761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8"/>
            <p:cNvSpPr/>
            <p:nvPr/>
          </p:nvSpPr>
          <p:spPr>
            <a:xfrm>
              <a:off x="6147000" y="3557520"/>
              <a:ext cx="231948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0K        100K   1000K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Group 9"/>
            <p:cNvGrpSpPr/>
            <p:nvPr/>
          </p:nvGrpSpPr>
          <p:grpSpPr>
            <a:xfrm>
              <a:off x="6405840" y="1835280"/>
              <a:ext cx="1814040" cy="1004400"/>
              <a:chOff x="6405840" y="1835280"/>
              <a:chExt cx="1814040" cy="1004400"/>
            </a:xfrm>
          </p:grpSpPr>
          <p:sp>
            <p:nvSpPr>
              <p:cNvPr id="426" name="Line 10"/>
              <p:cNvSpPr/>
              <p:nvPr/>
            </p:nvSpPr>
            <p:spPr>
              <a:xfrm>
                <a:off x="8106480" y="1839960"/>
                <a:ext cx="11340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7" name="Group 11"/>
              <p:cNvGrpSpPr/>
              <p:nvPr/>
            </p:nvGrpSpPr>
            <p:grpSpPr>
              <a:xfrm>
                <a:off x="6405840" y="1835280"/>
                <a:ext cx="1708560" cy="1004400"/>
                <a:chOff x="6405840" y="1835280"/>
                <a:chExt cx="1708560" cy="1004400"/>
              </a:xfrm>
            </p:grpSpPr>
            <p:grpSp>
              <p:nvGrpSpPr>
                <p:cNvPr id="428" name="Group 12"/>
                <p:cNvGrpSpPr/>
                <p:nvPr/>
              </p:nvGrpSpPr>
              <p:grpSpPr>
                <a:xfrm>
                  <a:off x="6405840" y="2344680"/>
                  <a:ext cx="699840" cy="495000"/>
                  <a:chOff x="6405840" y="2344680"/>
                  <a:chExt cx="699840" cy="495000"/>
                </a:xfrm>
              </p:grpSpPr>
              <p:sp>
                <p:nvSpPr>
                  <p:cNvPr id="429" name="Line 13"/>
                  <p:cNvSpPr/>
                  <p:nvPr/>
                </p:nvSpPr>
                <p:spPr>
                  <a:xfrm>
                    <a:off x="6405840" y="2839680"/>
                    <a:ext cx="33228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Freeform 14"/>
                  <p:cNvSpPr/>
                  <p:nvPr/>
                </p:nvSpPr>
                <p:spPr>
                  <a:xfrm>
                    <a:off x="6733080" y="2344680"/>
                    <a:ext cx="372600" cy="49500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1" name="Group 15"/>
                <p:cNvGrpSpPr/>
                <p:nvPr/>
              </p:nvGrpSpPr>
              <p:grpSpPr>
                <a:xfrm>
                  <a:off x="7098120" y="1835280"/>
                  <a:ext cx="840600" cy="510480"/>
                  <a:chOff x="7098120" y="1835280"/>
                  <a:chExt cx="840600" cy="510480"/>
                </a:xfrm>
              </p:grpSpPr>
              <p:sp>
                <p:nvSpPr>
                  <p:cNvPr id="432" name="Line 16"/>
                  <p:cNvSpPr/>
                  <p:nvPr/>
                </p:nvSpPr>
                <p:spPr>
                  <a:xfrm>
                    <a:off x="7098120" y="2345760"/>
                    <a:ext cx="395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Freeform 17"/>
                  <p:cNvSpPr/>
                  <p:nvPr/>
                </p:nvSpPr>
                <p:spPr>
                  <a:xfrm>
                    <a:off x="7493760" y="1835280"/>
                    <a:ext cx="444960" cy="510480"/>
                  </a:xfrm>
                  <a:prstGeom prst="pie">
                    <a:avLst/>
                  </a:pr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Line 18"/>
                <p:cNvSpPr/>
                <p:nvPr/>
              </p:nvSpPr>
              <p:spPr>
                <a:xfrm>
                  <a:off x="7938720" y="1841400"/>
                  <a:ext cx="1756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5" name="Text Box 19"/>
            <p:cNvSpPr/>
            <p:nvPr/>
          </p:nvSpPr>
          <p:spPr>
            <a:xfrm>
              <a:off x="5856480" y="1265400"/>
              <a:ext cx="520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20"/>
            <p:cNvSpPr/>
            <p:nvPr/>
          </p:nvSpPr>
          <p:spPr>
            <a:xfrm>
              <a:off x="5772240" y="2675160"/>
              <a:ext cx="7257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Text Box 21"/>
            <p:cNvSpPr/>
            <p:nvPr/>
          </p:nvSpPr>
          <p:spPr>
            <a:xfrm>
              <a:off x="5745240" y="2173320"/>
              <a:ext cx="8002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22"/>
            <p:cNvSpPr/>
            <p:nvPr/>
          </p:nvSpPr>
          <p:spPr>
            <a:xfrm>
              <a:off x="5737320" y="1665360"/>
              <a:ext cx="7779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7/2 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Line 23"/>
            <p:cNvSpPr/>
            <p:nvPr/>
          </p:nvSpPr>
          <p:spPr>
            <a:xfrm flipV="1">
              <a:off x="6382080" y="1514520"/>
              <a:ext cx="0" cy="200016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24"/>
            <p:cNvGrpSpPr/>
            <p:nvPr/>
          </p:nvGrpSpPr>
          <p:grpSpPr>
            <a:xfrm>
              <a:off x="6396120" y="1833840"/>
              <a:ext cx="109800" cy="1480680"/>
              <a:chOff x="6396120" y="1833840"/>
              <a:chExt cx="109800" cy="1480680"/>
            </a:xfrm>
          </p:grpSpPr>
          <p:grpSp>
            <p:nvGrpSpPr>
              <p:cNvPr id="441" name="Group 25"/>
              <p:cNvGrpSpPr/>
              <p:nvPr/>
            </p:nvGrpSpPr>
            <p:grpSpPr>
              <a:xfrm>
                <a:off x="6396120" y="2574360"/>
                <a:ext cx="109800" cy="740160"/>
                <a:chOff x="6396120" y="2574360"/>
                <a:chExt cx="109800" cy="740160"/>
              </a:xfrm>
            </p:grpSpPr>
            <p:sp>
              <p:nvSpPr>
                <p:cNvPr id="442" name="Line 26"/>
                <p:cNvSpPr/>
                <p:nvPr/>
              </p:nvSpPr>
              <p:spPr>
                <a:xfrm>
                  <a:off x="6396120" y="331452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27"/>
                <p:cNvSpPr/>
                <p:nvPr/>
              </p:nvSpPr>
              <p:spPr>
                <a:xfrm>
                  <a:off x="6396120" y="30675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8"/>
                <p:cNvSpPr/>
                <p:nvPr/>
              </p:nvSpPr>
              <p:spPr>
                <a:xfrm>
                  <a:off x="6396120" y="28209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Line 29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30"/>
              <p:cNvGrpSpPr/>
              <p:nvPr/>
            </p:nvGrpSpPr>
            <p:grpSpPr>
              <a:xfrm>
                <a:off x="6396120" y="1833840"/>
                <a:ext cx="109800" cy="740520"/>
                <a:chOff x="6396120" y="1833840"/>
                <a:chExt cx="109800" cy="740520"/>
              </a:xfrm>
            </p:grpSpPr>
            <p:sp>
              <p:nvSpPr>
                <p:cNvPr id="447" name="Line 31"/>
                <p:cNvSpPr/>
                <p:nvPr/>
              </p:nvSpPr>
              <p:spPr>
                <a:xfrm>
                  <a:off x="6396120" y="257436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Line 32"/>
                <p:cNvSpPr/>
                <p:nvPr/>
              </p:nvSpPr>
              <p:spPr>
                <a:xfrm>
                  <a:off x="6396120" y="232740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Line 33"/>
                <p:cNvSpPr/>
                <p:nvPr/>
              </p:nvSpPr>
              <p:spPr>
                <a:xfrm>
                  <a:off x="6396120" y="20804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Line 34"/>
                <p:cNvSpPr/>
                <p:nvPr/>
              </p:nvSpPr>
              <p:spPr>
                <a:xfrm>
                  <a:off x="6396120" y="1833840"/>
                  <a:ext cx="109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Group 35"/>
            <p:cNvGrpSpPr/>
            <p:nvPr/>
          </p:nvGrpSpPr>
          <p:grpSpPr>
            <a:xfrm>
              <a:off x="6384960" y="3327480"/>
              <a:ext cx="2249640" cy="204840"/>
              <a:chOff x="6384960" y="3327480"/>
              <a:chExt cx="2249640" cy="204840"/>
            </a:xfrm>
          </p:grpSpPr>
          <p:sp>
            <p:nvSpPr>
              <p:cNvPr id="452" name="Line 36"/>
              <p:cNvSpPr/>
              <p:nvPr/>
            </p:nvSpPr>
            <p:spPr>
              <a:xfrm>
                <a:off x="6384960" y="3531240"/>
                <a:ext cx="2249640" cy="108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Line 37"/>
              <p:cNvSpPr/>
              <p:nvPr/>
            </p:nvSpPr>
            <p:spPr>
              <a:xfrm>
                <a:off x="7143120" y="3327480"/>
                <a:ext cx="0" cy="19836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Line 38"/>
              <p:cNvSpPr/>
              <p:nvPr/>
            </p:nvSpPr>
            <p:spPr>
              <a:xfrm>
                <a:off x="7921800" y="3342600"/>
                <a:ext cx="0" cy="18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Text Box 39"/>
            <p:cNvSpPr/>
            <p:nvPr/>
          </p:nvSpPr>
          <p:spPr>
            <a:xfrm>
              <a:off x="7185240" y="1581120"/>
              <a:ext cx="139860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Vib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Ro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Transl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90400" y="5438880"/>
            <a:ext cx="1981440" cy="276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12680" y="72720"/>
            <a:ext cx="712008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Work from Free Energy 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ue to Non-equilibrium </a:t>
            </a:r>
            <a:r>
              <a:rPr b="0" lang="en-US" sz="36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47360" y="1316160"/>
            <a:ext cx="7397640" cy="39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Mechanical Work  (isothermal expansion of N particles at temp 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90880" y="1665360"/>
            <a:ext cx="17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     n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9720" y="204948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si-static expansio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n external force on the piston prevents it from being free expansion)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78000" y="4513320"/>
            <a:ext cx="690732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 + T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NkT ln(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T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ideal g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ok familiar? Same old physics, different langua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we use these concepts to do something new ?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483000" y="2023920"/>
            <a:ext cx="3040200" cy="811440"/>
            <a:chOff x="3483000" y="2023920"/>
            <a:chExt cx="3040200" cy="811440"/>
          </a:xfrm>
        </p:grpSpPr>
        <p:sp>
          <p:nvSpPr>
            <p:cNvPr id="465" name=""/>
            <p:cNvSpPr/>
            <p:nvPr/>
          </p:nvSpPr>
          <p:spPr>
            <a:xfrm>
              <a:off x="4067280" y="247644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2278080"/>
              <a:ext cx="7452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4440" y="2658960"/>
              <a:ext cx="7452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492360" y="2023920"/>
              <a:ext cx="2060640" cy="811440"/>
              <a:chOff x="3492360" y="2023920"/>
              <a:chExt cx="2060640" cy="811440"/>
            </a:xfrm>
          </p:grpSpPr>
          <p:sp>
            <p:nvSpPr>
              <p:cNvPr id="469" name=""/>
              <p:cNvSpPr/>
              <p:nvPr/>
            </p:nvSpPr>
            <p:spPr>
              <a:xfrm>
                <a:off x="3493800" y="202392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95600" y="2835360"/>
                <a:ext cx="2057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446360" y="2063880"/>
                <a:ext cx="1800" cy="7398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666960" y="21258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38400" y="218772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320" y="2482920"/>
                <a:ext cx="7488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246560" y="24195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95800" y="214776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584520" y="234144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1120" y="262260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7480" y="262116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60800" y="2298600"/>
                <a:ext cx="74520" cy="74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19320" y="24098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595680" y="265428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492360" y="2028960"/>
                <a:ext cx="0" cy="790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00720" y="2430360"/>
              <a:ext cx="506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45040" y="2071800"/>
              <a:ext cx="1800" cy="739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27560" y="2257560"/>
              <a:ext cx="89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acuu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83000" y="2030400"/>
              <a:ext cx="3040200" cy="79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78080" y="2835360"/>
            <a:ext cx="368928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00320" y="5857920"/>
            <a:ext cx="5608440" cy="334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2400" y="1554120"/>
            <a:ext cx="6958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this situation.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 different ideal gases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al pressur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ne starts on the left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one on the 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ach will expand to fill the volume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his situation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uch work, if any, could be extract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kT*ln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60920" y="23734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920" y="164772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6997680" y="1781280"/>
            <a:ext cx="1767960" cy="516960"/>
            <a:chOff x="6997680" y="1781280"/>
            <a:chExt cx="1767960" cy="516960"/>
          </a:xfrm>
        </p:grpSpPr>
        <p:sp>
          <p:nvSpPr>
            <p:cNvPr id="494" name=""/>
            <p:cNvSpPr/>
            <p:nvPr/>
          </p:nvSpPr>
          <p:spPr>
            <a:xfrm>
              <a:off x="6997680" y="178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2560" y="2014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4640" y="18712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677080" y="207792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426160" y="18396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73880" y="178236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59560" y="2176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62760" y="196020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42040" y="209844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5320" y="2209680"/>
              <a:ext cx="88560" cy="88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19760" y="1757520"/>
            <a:ext cx="1689120" cy="552240"/>
            <a:chOff x="4919760" y="1757520"/>
            <a:chExt cx="1689120" cy="552240"/>
          </a:xfrm>
        </p:grpSpPr>
        <p:sp>
          <p:nvSpPr>
            <p:cNvPr id="505" name=""/>
            <p:cNvSpPr/>
            <p:nvPr/>
          </p:nvSpPr>
          <p:spPr>
            <a:xfrm>
              <a:off x="5077080" y="1862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919760" y="20685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381640" y="21672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8520" y="2157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72040" y="22212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99280" y="19036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1160" y="17859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88400" y="19512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21480" y="2078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61280" y="2143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19960" y="17575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5497560" y="12812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15800" y="3297240"/>
            <a:ext cx="82774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oth gases will have expanded to fill the entire volume.  The purple molecules will have done work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p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k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n2, on the membrane (quasistatic expansion).  The free energy of the green molecules is lost (free expans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Can we get the green gas to do work as wel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9840" y="249228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44480" y="1766880"/>
            <a:ext cx="407376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846600" y="1900080"/>
            <a:ext cx="1767960" cy="517680"/>
            <a:chOff x="3846600" y="1900080"/>
            <a:chExt cx="1767960" cy="517680"/>
          </a:xfrm>
        </p:grpSpPr>
        <p:sp>
          <p:nvSpPr>
            <p:cNvPr id="522" name=""/>
            <p:cNvSpPr/>
            <p:nvPr/>
          </p:nvSpPr>
          <p:spPr>
            <a:xfrm>
              <a:off x="3846600" y="1900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81480" y="2133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03560" y="19904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26000" y="219708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75080" y="19587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22800" y="190152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08480" y="2295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11680" y="207936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90960" y="221760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94240" y="2328840"/>
              <a:ext cx="88560" cy="889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768320" y="1876320"/>
            <a:ext cx="1689120" cy="552240"/>
            <a:chOff x="1768320" y="1876320"/>
            <a:chExt cx="1689120" cy="552240"/>
          </a:xfrm>
        </p:grpSpPr>
        <p:sp>
          <p:nvSpPr>
            <p:cNvPr id="533" name=""/>
            <p:cNvSpPr/>
            <p:nvPr/>
          </p:nvSpPr>
          <p:spPr>
            <a:xfrm>
              <a:off x="1925640" y="1981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68320" y="21873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30200" y="228600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27080" y="22762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20600" y="2340000"/>
              <a:ext cx="88920" cy="88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47840" y="20224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09720" y="190476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6960" y="2070000"/>
              <a:ext cx="8856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70040" y="21970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9840" y="226188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68520" y="1876320"/>
              <a:ext cx="88920" cy="88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565360" y="142884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Get the Workou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57600" y="1774800"/>
            <a:ext cx="0" cy="690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1071720"/>
            <a:ext cx="28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mipermeable membrane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at only lets green molecules throug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677400" y="1306440"/>
            <a:ext cx="329220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6826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68260"/>
              </a:path>
            </a:pathLst>
          </a:custGeom>
          <a:noFill/>
          <a:ln w="9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3280" y="4527720"/>
            <a:ext cx="4298760" cy="631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40"/>
                </a:solidFill>
                <a:latin typeface="Arial"/>
              </a:rPr>
              <a:t>Thermal Bath,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808280" y="3801960"/>
            <a:ext cx="4073400" cy="7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08080" y="39355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4960" y="4168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84720" y="402588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06920" y="42321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73480" y="39942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30600" y="393696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24360" y="4330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51360" y="411480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05080" y="425304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79840" y="4363920"/>
            <a:ext cx="88920" cy="88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55920" y="40165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92240" y="42228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00440" y="4321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51320" y="43117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79600" y="437508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33880" y="40575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981600" y="394020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03760" y="4105440"/>
            <a:ext cx="88920" cy="88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82920" y="42321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2080" y="429732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3911760"/>
            <a:ext cx="88920" cy="88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28800" y="3463920"/>
            <a:ext cx="22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60480" y="3809880"/>
            <a:ext cx="0" cy="690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24240" y="66240"/>
            <a:ext cx="2489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945360" y="770040"/>
            <a:ext cx="5672160" cy="3519720"/>
            <a:chOff x="945360" y="770040"/>
            <a:chExt cx="5672160" cy="3519720"/>
          </a:xfrm>
        </p:grpSpPr>
        <p:sp>
          <p:nvSpPr>
            <p:cNvPr id="578" name=""/>
            <p:cNvSpPr/>
            <p:nvPr/>
          </p:nvSpPr>
          <p:spPr>
            <a:xfrm>
              <a:off x="2547720" y="2362320"/>
              <a:ext cx="2406600" cy="1005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58880" y="2340360"/>
              <a:ext cx="237816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7720" y="1314720"/>
              <a:ext cx="2406600" cy="1004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8600" y="1346400"/>
              <a:ext cx="23461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654200" y="1211400"/>
              <a:ext cx="912600" cy="641520"/>
              <a:chOff x="1654200" y="1211400"/>
              <a:chExt cx="912600" cy="641520"/>
            </a:xfrm>
          </p:grpSpPr>
          <p:sp>
            <p:nvSpPr>
              <p:cNvPr id="583" name=""/>
              <p:cNvSpPr/>
              <p:nvPr/>
            </p:nvSpPr>
            <p:spPr>
              <a:xfrm>
                <a:off x="1654200" y="1211400"/>
                <a:ext cx="457200" cy="64152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520"/>
                  <a:gd name="textAreaBottom" fmla="*/ 619200 h 641520"/>
                </a:gdLst>
                <a:ahLst/>
                <a:rect l="textAreaLeft" t="textAreaTop" r="textAreaRight" b="textAreaBottom"/>
                <a:pathLst>
                  <a:path w="21600" h="30301">
                    <a:moveTo>
                      <a:pt x="3600" y="0"/>
                    </a:moveTo>
                    <a:arcTo wR="3600" hR="3600" stAng="16200000" swAng="-5400000"/>
                    <a:lnTo>
                      <a:pt x="0" y="26701"/>
                    </a:lnTo>
                    <a:arcTo wR="3600" hR="3600" stAng="10800000" swAng="-5400000"/>
                    <a:lnTo>
                      <a:pt x="18000" y="3030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711080" y="1351080"/>
                <a:ext cx="366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0240" y="1548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09600" y="15289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09600" y="15670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1020960" y="7700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ydrogen gas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ou pay for thi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6680" y="109224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tinum cataly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94200" y="1338480"/>
              <a:ext cx="1218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(p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+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afd00"/>
                  </a:solidFill>
                  <a:latin typeface="Arial"/>
                </a:rPr>
                <a:t>-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36200" y="16876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31520" y="264348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th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644480" y="2756160"/>
              <a:ext cx="912600" cy="641160"/>
              <a:chOff x="1644480" y="2756160"/>
              <a:chExt cx="912600" cy="641160"/>
            </a:xfrm>
          </p:grpSpPr>
          <p:sp>
            <p:nvSpPr>
              <p:cNvPr id="594" name=""/>
              <p:cNvSpPr/>
              <p:nvPr/>
            </p:nvSpPr>
            <p:spPr>
              <a:xfrm>
                <a:off x="1644480" y="275616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696320" y="2895480"/>
                <a:ext cx="3772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O</a:t>
                </a:r>
                <a:r>
                  <a:rPr b="0" lang="en-US" sz="1400" spc="-1" strike="noStrike" baseline="-25000">
                    <a:solidFill>
                      <a:srgbClr val="00004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090520" y="30924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99880" y="307332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099880" y="3111480"/>
                <a:ext cx="457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945360" y="2467080"/>
              <a:ext cx="1352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xygen gas (air)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o cos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59320" y="2092680"/>
              <a:ext cx="326880" cy="579240"/>
            </a:xfrm>
            <a:prstGeom prst="downArrow">
              <a:avLst>
                <a:gd name="adj1" fmla="val 50000"/>
                <a:gd name="adj2" fmla="val 44301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00560" y="2046600"/>
              <a:ext cx="20232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emipermeable membra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ly protons can pass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944960" y="176076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44960" y="2857680"/>
              <a:ext cx="5587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16640" y="1756080"/>
              <a:ext cx="0" cy="1092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4760" y="2086200"/>
              <a:ext cx="190440" cy="46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34520" y="14846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ic circui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04480" y="2087640"/>
              <a:ext cx="1013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, moto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5440" y="1889280"/>
              <a:ext cx="520920" cy="88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6" y="0"/>
                  </a:moveTo>
                  <a:arcTo wR="10800" hR="10800" stAng="-5398055" swAng="10523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6" y="0"/>
                  </a:moveTo>
                  <a:arcTo wR="10800" hR="10800" stAng="-5398055" swAng="10523524"/>
                </a:path>
              </a:pathLst>
            </a:custGeom>
            <a:noFill/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43600" y="2163960"/>
              <a:ext cx="29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60400" y="220860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p</a:t>
              </a:r>
              <a:r>
                <a:rPr b="0" lang="en-US" sz="1200" spc="-1" strike="noStrike" baseline="30000">
                  <a:solidFill>
                    <a:srgbClr val="00004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12920" y="3830760"/>
              <a:ext cx="148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ater.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e waste product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4281480" y="3362760"/>
              <a:ext cx="641160" cy="912600"/>
              <a:chOff x="4281480" y="3362760"/>
              <a:chExt cx="641160" cy="912600"/>
            </a:xfrm>
          </p:grpSpPr>
          <p:sp>
            <p:nvSpPr>
              <p:cNvPr id="613" name=""/>
              <p:cNvSpPr/>
              <p:nvPr/>
            </p:nvSpPr>
            <p:spPr>
              <a:xfrm rot="16200000">
                <a:off x="4373280" y="3726000"/>
                <a:ext cx="457200" cy="641160"/>
              </a:xfrm>
              <a:custGeom>
                <a:avLst/>
                <a:gdLst>
                  <a:gd name="textAreaLeft" fmla="*/ 22320 w 457200"/>
                  <a:gd name="textAreaRight" fmla="*/ 434880 w 457200"/>
                  <a:gd name="textAreaTop" fmla="*/ 22320 h 641160"/>
                  <a:gd name="textAreaBottom" fmla="*/ 618840 h 641160"/>
                </a:gdLst>
                <a:ahLst/>
                <a:rect l="textAreaLeft" t="textAreaTop" r="textAreaRight" b="textAreaBottom"/>
                <a:pathLst>
                  <a:path w="21600" h="30284">
                    <a:moveTo>
                      <a:pt x="3600" y="0"/>
                    </a:moveTo>
                    <a:arcTo wR="3600" hR="3600" stAng="16200000" swAng="-5400000"/>
                    <a:lnTo>
                      <a:pt x="0" y="26684"/>
                    </a:lnTo>
                    <a:arcTo wR="3600" hR="3600" stAng="10800000" swAng="-5400000"/>
                    <a:lnTo>
                      <a:pt x="18000" y="3028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618080" y="3372120"/>
                <a:ext cx="0" cy="457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459900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637160" y="336276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>
              <a:off x="4345920" y="390060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H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4240" y="3089520"/>
              <a:ext cx="2088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O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+4p + 4e </a:t>
              </a:r>
              <a:r>
                <a:rPr b="0" lang="en-US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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2H</a:t>
              </a:r>
              <a:r>
                <a:rPr b="0" lang="en-US" sz="12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0 + energ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7960" y="4479840"/>
            <a:ext cx="80074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el cell requires concentration gradients in two plac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the platinum catalys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concentration of 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below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quilibrium value, so the react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 diffusion out of the anode (through the membrane)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cathode and anod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Keep the proton (and elect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centration low on the cathode side, so diffusion will continu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ter production does th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23840" y="66600"/>
            <a:ext cx="348444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uel Cell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920" y="1417680"/>
            <a:ext cx="84754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emipermeable membrane forces the electrons to take a differ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th to the low concentration region.  This path, through the load, i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re we get useful work from the fuel cell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nlike typical heat engines, which first burn fuel to make hea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conversion to heat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 Carnot efficiency limit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latinum catalyst speeds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(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reaction by increasing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ncentratio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cally (at the surface).  We’ll see next week tha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el cells are used in specialty application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Howev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op executives from General Motors Corp. and Toyota Motor Corp. Tuesday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xpressed doubts about the viability of hydrogen fuel cells for mass-marke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duction in the near term and suggested their companies are now betting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at electric cars will prove to be a better way to reduce fuel consumption and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ut tailpipe emissions on a large scale.”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WSJ, 3/5/200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6834240" y="3668760"/>
          <a:ext cx="1198440" cy="86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4240" y="3668760"/>
                    <a:ext cx="119844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920000" cy="12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/Discussion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Fuel 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3560" y="1515960"/>
            <a:ext cx="808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work output comes from the excess free energy (above the equilibrium value) of the starting chemicals (the fue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atmosphere containing O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fu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’s lot’s of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H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 in the oce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we therefore have plenty of fu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2286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no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ay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36520" y="781200"/>
            <a:ext cx="6464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Last time we looked at the chemic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potential for an ideal (monatomic) ga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Consider the case of no external potential (u is a constant):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kT ln(n) - constant 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pply it to the free expansion probl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036960" y="3936960"/>
            <a:ext cx="2147400" cy="811080"/>
            <a:chOff x="3036960" y="3936960"/>
            <a:chExt cx="2147400" cy="811080"/>
          </a:xfrm>
        </p:grpSpPr>
        <p:sp>
          <p:nvSpPr>
            <p:cNvPr id="165" name="Line 4"/>
            <p:cNvSpPr/>
            <p:nvPr/>
          </p:nvSpPr>
          <p:spPr>
            <a:xfrm>
              <a:off x="3038400" y="393696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3039840" y="4748040"/>
              <a:ext cx="214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>
              <a:off x="3218760" y="403848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3501720" y="41004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3313080" y="43956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822480" y="433224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69560" y="4060800"/>
              <a:ext cx="774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3132360" y="425448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3483360" y="453528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3802680" y="45338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3628800" y="4211640"/>
              <a:ext cx="7776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481920" y="432252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144240" y="4566960"/>
              <a:ext cx="7740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036960" y="394164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79440" y="40719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Remove the pis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9"/>
          <p:cNvGrpSpPr/>
          <p:nvPr/>
        </p:nvGrpSpPr>
        <p:grpSpPr>
          <a:xfrm>
            <a:off x="3036960" y="4968720"/>
            <a:ext cx="2234880" cy="811440"/>
            <a:chOff x="3036960" y="4968720"/>
            <a:chExt cx="2234880" cy="811440"/>
          </a:xfrm>
        </p:grpSpPr>
        <p:sp>
          <p:nvSpPr>
            <p:cNvPr id="181" name="Line 20"/>
            <p:cNvSpPr/>
            <p:nvPr/>
          </p:nvSpPr>
          <p:spPr>
            <a:xfrm>
              <a:off x="3038760" y="496872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3040200" y="5780160"/>
              <a:ext cx="223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22"/>
            <p:cNvSpPr/>
            <p:nvPr/>
          </p:nvSpPr>
          <p:spPr>
            <a:xfrm>
              <a:off x="3226320" y="507060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Oval 23"/>
            <p:cNvSpPr/>
            <p:nvPr/>
          </p:nvSpPr>
          <p:spPr>
            <a:xfrm>
              <a:off x="3520440" y="5132520"/>
              <a:ext cx="8100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Oval 24"/>
            <p:cNvSpPr/>
            <p:nvPr/>
          </p:nvSpPr>
          <p:spPr>
            <a:xfrm>
              <a:off x="3773880" y="5335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Oval 25"/>
            <p:cNvSpPr/>
            <p:nvPr/>
          </p:nvSpPr>
          <p:spPr>
            <a:xfrm>
              <a:off x="4366440" y="561492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5115240" y="54975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7"/>
            <p:cNvSpPr/>
            <p:nvPr/>
          </p:nvSpPr>
          <p:spPr>
            <a:xfrm>
              <a:off x="3249000" y="534024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8"/>
            <p:cNvSpPr/>
            <p:nvPr/>
          </p:nvSpPr>
          <p:spPr>
            <a:xfrm>
              <a:off x="3501720" y="5567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Oval 29"/>
            <p:cNvSpPr/>
            <p:nvPr/>
          </p:nvSpPr>
          <p:spPr>
            <a:xfrm>
              <a:off x="3834000" y="5565600"/>
              <a:ext cx="80640" cy="74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30"/>
            <p:cNvSpPr/>
            <p:nvPr/>
          </p:nvSpPr>
          <p:spPr>
            <a:xfrm>
              <a:off x="4674600" y="521640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31"/>
            <p:cNvSpPr/>
            <p:nvPr/>
          </p:nvSpPr>
          <p:spPr>
            <a:xfrm>
              <a:off x="4111560" y="516096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Oval 32"/>
            <p:cNvSpPr/>
            <p:nvPr/>
          </p:nvSpPr>
          <p:spPr>
            <a:xfrm>
              <a:off x="3148920" y="5599080"/>
              <a:ext cx="80640" cy="74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33"/>
            <p:cNvSpPr/>
            <p:nvPr/>
          </p:nvSpPr>
          <p:spPr>
            <a:xfrm>
              <a:off x="3036960" y="4973760"/>
              <a:ext cx="0" cy="79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674640" y="511344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me time lat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35"/>
          <p:cNvGrpSpPr/>
          <p:nvPr/>
        </p:nvGrpSpPr>
        <p:grpSpPr>
          <a:xfrm>
            <a:off x="2585880" y="2368440"/>
            <a:ext cx="3200400" cy="1318680"/>
            <a:chOff x="2585880" y="2368440"/>
            <a:chExt cx="3200400" cy="1318680"/>
          </a:xfrm>
        </p:grpSpPr>
        <p:sp>
          <p:nvSpPr>
            <p:cNvPr id="197" name="Text Box 36"/>
            <p:cNvSpPr/>
            <p:nvPr/>
          </p:nvSpPr>
          <p:spPr>
            <a:xfrm>
              <a:off x="2585880" y="2368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ig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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ow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37"/>
            <p:cNvGrpSpPr/>
            <p:nvPr/>
          </p:nvGrpSpPr>
          <p:grpSpPr>
            <a:xfrm>
              <a:off x="3036600" y="2671560"/>
              <a:ext cx="2060640" cy="1015560"/>
              <a:chOff x="3036600" y="2671560"/>
              <a:chExt cx="2060640" cy="1015560"/>
            </a:xfrm>
          </p:grpSpPr>
          <p:sp>
            <p:nvSpPr>
              <p:cNvPr id="199" name="Oval 38"/>
              <p:cNvSpPr/>
              <p:nvPr/>
            </p:nvSpPr>
            <p:spPr>
              <a:xfrm>
                <a:off x="3036600" y="332856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Oval 39"/>
              <p:cNvSpPr/>
              <p:nvPr/>
            </p:nvSpPr>
            <p:spPr>
              <a:xfrm>
                <a:off x="3036600" y="313020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Oval 40"/>
              <p:cNvSpPr/>
              <p:nvPr/>
            </p:nvSpPr>
            <p:spPr>
              <a:xfrm>
                <a:off x="3036600" y="3511080"/>
                <a:ext cx="74880" cy="74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2" name="Group 41"/>
              <p:cNvGrpSpPr/>
              <p:nvPr/>
            </p:nvGrpSpPr>
            <p:grpSpPr>
              <a:xfrm>
                <a:off x="3036600" y="2876040"/>
                <a:ext cx="2060640" cy="811080"/>
                <a:chOff x="3036600" y="2876040"/>
                <a:chExt cx="2060640" cy="811080"/>
              </a:xfrm>
            </p:grpSpPr>
            <p:sp>
              <p:nvSpPr>
                <p:cNvPr id="203" name="Line 42"/>
                <p:cNvSpPr/>
                <p:nvPr/>
              </p:nvSpPr>
              <p:spPr>
                <a:xfrm>
                  <a:off x="3038040" y="287604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3"/>
                <p:cNvSpPr/>
                <p:nvPr/>
              </p:nvSpPr>
              <p:spPr>
                <a:xfrm>
                  <a:off x="3039840" y="3687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44"/>
                <p:cNvSpPr/>
                <p:nvPr/>
              </p:nvSpPr>
              <p:spPr>
                <a:xfrm>
                  <a:off x="3990600" y="2915640"/>
                  <a:ext cx="1800" cy="739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45"/>
                <p:cNvSpPr/>
                <p:nvPr/>
              </p:nvSpPr>
              <p:spPr>
                <a:xfrm>
                  <a:off x="3211200" y="29775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46"/>
                <p:cNvSpPr/>
                <p:nvPr/>
              </p:nvSpPr>
              <p:spPr>
                <a:xfrm>
                  <a:off x="3482640" y="303948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47"/>
                <p:cNvSpPr/>
                <p:nvPr/>
              </p:nvSpPr>
              <p:spPr>
                <a:xfrm>
                  <a:off x="3301560" y="3334680"/>
                  <a:ext cx="7488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48"/>
                <p:cNvSpPr/>
                <p:nvPr/>
              </p:nvSpPr>
              <p:spPr>
                <a:xfrm>
                  <a:off x="3790800" y="32713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49"/>
                <p:cNvSpPr/>
                <p:nvPr/>
              </p:nvSpPr>
              <p:spPr>
                <a:xfrm>
                  <a:off x="3740040" y="299952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50"/>
                <p:cNvSpPr/>
                <p:nvPr/>
              </p:nvSpPr>
              <p:spPr>
                <a:xfrm>
                  <a:off x="3128760" y="319320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51"/>
                <p:cNvSpPr/>
                <p:nvPr/>
              </p:nvSpPr>
              <p:spPr>
                <a:xfrm>
                  <a:off x="3465360" y="347436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52"/>
                <p:cNvSpPr/>
                <p:nvPr/>
              </p:nvSpPr>
              <p:spPr>
                <a:xfrm>
                  <a:off x="3771720" y="347292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53"/>
                <p:cNvSpPr/>
                <p:nvPr/>
              </p:nvSpPr>
              <p:spPr>
                <a:xfrm>
                  <a:off x="3605040" y="3150360"/>
                  <a:ext cx="74520" cy="745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54"/>
                <p:cNvSpPr/>
                <p:nvPr/>
              </p:nvSpPr>
              <p:spPr>
                <a:xfrm>
                  <a:off x="3463560" y="326160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55"/>
                <p:cNvSpPr/>
                <p:nvPr/>
              </p:nvSpPr>
              <p:spPr>
                <a:xfrm>
                  <a:off x="3139920" y="3506040"/>
                  <a:ext cx="74520" cy="741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56"/>
                <p:cNvSpPr/>
                <p:nvPr/>
              </p:nvSpPr>
              <p:spPr>
                <a:xfrm>
                  <a:off x="3036600" y="2880720"/>
                  <a:ext cx="0" cy="790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Line 57"/>
              <p:cNvSpPr/>
              <p:nvPr/>
            </p:nvSpPr>
            <p:spPr>
              <a:xfrm>
                <a:off x="3036600" y="26715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58"/>
              <p:cNvSpPr/>
              <p:nvPr/>
            </p:nvSpPr>
            <p:spPr>
              <a:xfrm flipH="1">
                <a:off x="4663440" y="2765160"/>
                <a:ext cx="336600" cy="32508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Text Box 59"/>
          <p:cNvSpPr/>
          <p:nvPr/>
        </p:nvSpPr>
        <p:spPr>
          <a:xfrm>
            <a:off x="5423040" y="5065560"/>
            <a:ext cx="226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n equilibrium,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i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the same everyw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60"/>
          <p:cNvSpPr/>
          <p:nvPr/>
        </p:nvSpPr>
        <p:spPr>
          <a:xfrm>
            <a:off x="5415120" y="3929040"/>
            <a:ext cx="219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iffus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Particles move from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high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to low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ysical Significance of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</a:t>
            </a:r>
            <a:r>
              <a:rPr b="0" lang="en-US" sz="4000" spc="-1" strike="noStrike">
                <a:solidFill>
                  <a:srgbClr val="fafd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3" name="Object 63"/>
          <p:cNvGraphicFramePr/>
          <p:nvPr/>
        </p:nvGraphicFramePr>
        <p:xfrm>
          <a:off x="4613400" y="816120"/>
          <a:ext cx="254772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3400" y="816120"/>
                    <a:ext cx="25477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64"/>
          <p:cNvSpPr/>
          <p:nvPr/>
        </p:nvSpPr>
        <p:spPr>
          <a:xfrm>
            <a:off x="4359240" y="773280"/>
            <a:ext cx="2924280" cy="73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64800"/>
            <a:ext cx="7543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hemical Potential with Potential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54120" y="364500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076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86072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173480" y="4478400"/>
            <a:ext cx="61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31720" y="1787400"/>
            <a:ext cx="8128080" cy="164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potential energy per particle, PE, makes an additional contribution     N·PE to the free energy: 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F = U - T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, the chemical potential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= dF/dN) gains an additional contribution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d(N·PE)/dN = P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It’s the energy that one particle adds to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Atom in gravi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588680" indent="9711720">
              <a:lnSpc>
                <a:spcPct val="100000"/>
              </a:lnSpc>
              <a:spcBef>
                <a:spcPts val="1125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Molecule with binding energ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124000" y="3267000"/>
          <a:ext cx="180360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267000"/>
                    <a:ext cx="1803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2"/>
          <p:cNvSpPr/>
          <p:nvPr/>
        </p:nvSpPr>
        <p:spPr>
          <a:xfrm>
            <a:off x="4363920" y="34041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 = N/V  particle den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308480" y="4309920"/>
          <a:ext cx="194004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4309920"/>
                    <a:ext cx="19400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311720" y="5110200"/>
          <a:ext cx="162540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1720" y="5110200"/>
                    <a:ext cx="1625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20240" y="1274760"/>
            <a:ext cx="7705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gas density n and pressure p of the gas vary with height from the earth’s (or any planet’s) surf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mpare region 2 at height h with region 1 at height  0. (equal volu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very state in region 1 there’s a corresponding state in region 2 with mgh mor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sume that the temperature is in equilibrium (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rite the ideal gas law like th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 = nkT. (n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/ 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838080" y="174600"/>
            <a:ext cx="7543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003640" y="3835440"/>
            <a:ext cx="2446560" cy="1685520"/>
            <a:chOff x="5003640" y="3835440"/>
            <a:chExt cx="2446560" cy="1685520"/>
          </a:xfrm>
        </p:grpSpPr>
        <p:sp>
          <p:nvSpPr>
            <p:cNvPr id="245" name="Text Box 9"/>
            <p:cNvSpPr/>
            <p:nvPr/>
          </p:nvSpPr>
          <p:spPr>
            <a:xfrm>
              <a:off x="7145280" y="49482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003640" y="3882960"/>
              <a:ext cx="2362320" cy="1638000"/>
              <a:chOff x="5003640" y="3882960"/>
              <a:chExt cx="2362320" cy="1638000"/>
            </a:xfrm>
          </p:grpSpPr>
          <p:sp>
            <p:nvSpPr>
              <p:cNvPr id="247" name="Line 8"/>
              <p:cNvSpPr/>
              <p:nvPr/>
            </p:nvSpPr>
            <p:spPr>
              <a:xfrm flipV="1">
                <a:off x="5003640" y="38829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>
                <a:off x="5003640" y="55209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7139160" y="385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6141960" y="3835440"/>
              <a:ext cx="790560" cy="456840"/>
              <a:chOff x="6141960" y="3835440"/>
              <a:chExt cx="790560" cy="456840"/>
            </a:xfrm>
          </p:grpSpPr>
          <p:sp>
            <p:nvSpPr>
              <p:cNvPr id="251" name="Text Box 65"/>
              <p:cNvSpPr/>
              <p:nvPr/>
            </p:nvSpPr>
            <p:spPr>
              <a:xfrm>
                <a:off x="6256800" y="38862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960" y="3835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6141960" y="4964040"/>
              <a:ext cx="790560" cy="456840"/>
              <a:chOff x="6141960" y="4964040"/>
              <a:chExt cx="790560" cy="456840"/>
            </a:xfrm>
          </p:grpSpPr>
          <p:sp>
            <p:nvSpPr>
              <p:cNvPr id="254" name="Text Box 65"/>
              <p:cNvSpPr/>
              <p:nvPr/>
            </p:nvSpPr>
            <p:spPr>
              <a:xfrm>
                <a:off x="6258600" y="50223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141960" y="49640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0" y="165240"/>
            <a:ext cx="13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imple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5232240"/>
            <a:ext cx="76320" cy="763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4280" y="550692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27360" y="530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3760" y="364644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51000" y="3692520"/>
            <a:ext cx="0" cy="1798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397160" y="3846600"/>
            <a:ext cx="1904400" cy="1675800"/>
            <a:chOff x="1397160" y="3846600"/>
            <a:chExt cx="1904400" cy="1675800"/>
          </a:xfrm>
        </p:grpSpPr>
        <p:sp>
          <p:nvSpPr>
            <p:cNvPr id="263" name=""/>
            <p:cNvSpPr/>
            <p:nvPr/>
          </p:nvSpPr>
          <p:spPr>
            <a:xfrm>
              <a:off x="26161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589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8752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30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4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017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82600" y="51415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980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35240" y="49892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25400" y="48369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30320" y="491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11200" y="47606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3320" y="49892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82600" y="46083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92440" y="48369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49440" y="445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63840" y="4151160"/>
              <a:ext cx="7560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25600" y="468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39800" y="445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066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1040" y="4227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98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638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112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25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494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716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49440" y="52178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73120" y="5065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352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06640" y="544644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5400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1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172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75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6840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970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398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5600" y="5217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3320" y="52941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7332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684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21040" y="53701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4720" y="5370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25600" y="54464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25600" y="407484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25400" y="3922560"/>
              <a:ext cx="75960" cy="7560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92440" y="384660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29160" y="3605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11280" y="54975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8680" y="3308400"/>
            <a:ext cx="84438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suming the system is in equilibrium, compare the chemical potentials at height 0 and height 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l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0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&gt;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4720" y="72720"/>
            <a:ext cx="7601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976640" y="1023840"/>
            <a:ext cx="2446560" cy="1685520"/>
            <a:chOff x="4976640" y="1023840"/>
            <a:chExt cx="2446560" cy="1685520"/>
          </a:xfrm>
        </p:grpSpPr>
        <p:sp>
          <p:nvSpPr>
            <p:cNvPr id="316" name="Text Box 9"/>
            <p:cNvSpPr/>
            <p:nvPr/>
          </p:nvSpPr>
          <p:spPr>
            <a:xfrm>
              <a:off x="7118280" y="2136600"/>
              <a:ext cx="304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76640" y="1071360"/>
              <a:ext cx="2362320" cy="1638000"/>
              <a:chOff x="4976640" y="1071360"/>
              <a:chExt cx="2362320" cy="1638000"/>
            </a:xfrm>
          </p:grpSpPr>
          <p:sp>
            <p:nvSpPr>
              <p:cNvPr id="318" name="Line 8"/>
              <p:cNvSpPr/>
              <p:nvPr/>
            </p:nvSpPr>
            <p:spPr>
              <a:xfrm flipV="1">
                <a:off x="4976640" y="1071360"/>
                <a:ext cx="0" cy="163800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Line 12"/>
              <p:cNvSpPr/>
              <p:nvPr/>
            </p:nvSpPr>
            <p:spPr>
              <a:xfrm>
                <a:off x="4976640" y="2709360"/>
                <a:ext cx="236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7112160" y="104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114960" y="1023840"/>
              <a:ext cx="790560" cy="456840"/>
              <a:chOff x="6114960" y="1023840"/>
              <a:chExt cx="790560" cy="456840"/>
            </a:xfrm>
          </p:grpSpPr>
          <p:sp>
            <p:nvSpPr>
              <p:cNvPr id="322" name="Text Box 65"/>
              <p:cNvSpPr/>
              <p:nvPr/>
            </p:nvSpPr>
            <p:spPr>
              <a:xfrm>
                <a:off x="6229800" y="107460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14960" y="10238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114960" y="2152440"/>
              <a:ext cx="790560" cy="456840"/>
              <a:chOff x="6114960" y="2152440"/>
              <a:chExt cx="790560" cy="456840"/>
            </a:xfrm>
          </p:grpSpPr>
          <p:sp>
            <p:nvSpPr>
              <p:cNvPr id="325" name="Text Box 65"/>
              <p:cNvSpPr/>
              <p:nvPr/>
            </p:nvSpPr>
            <p:spPr>
              <a:xfrm>
                <a:off x="6231600" y="2210760"/>
                <a:ext cx="5954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p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, n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  <a:ea typeface="MS PGothic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14960" y="2152440"/>
                <a:ext cx="790560" cy="4568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3017880" y="2421000"/>
            <a:ext cx="76320" cy="759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2695680"/>
            <a:ext cx="2362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360" y="24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06760" y="835200"/>
            <a:ext cx="118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ress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p(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24000" y="880560"/>
            <a:ext cx="0" cy="179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0160" y="1035000"/>
            <a:ext cx="1904400" cy="1676520"/>
            <a:chOff x="1370160" y="1035000"/>
            <a:chExt cx="1904400" cy="1676520"/>
          </a:xfrm>
        </p:grpSpPr>
        <p:sp>
          <p:nvSpPr>
            <p:cNvPr id="333" name=""/>
            <p:cNvSpPr/>
            <p:nvPr/>
          </p:nvSpPr>
          <p:spPr>
            <a:xfrm>
              <a:off x="25891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19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6052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3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17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747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55600" y="23302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1280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8240" y="2178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98400" y="20257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03320" y="21016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4200" y="19494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6320" y="21780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5600" y="17971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5440" y="20257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22440" y="16444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6840" y="1339920"/>
              <a:ext cx="7560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98600" y="18730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2800" y="16444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796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4040" y="1415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28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368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842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98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4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7016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2440" y="24066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120" y="2254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82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79640" y="26352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2700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4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7472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05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4140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700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128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8600" y="2406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24829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4632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14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94040" y="255888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7720" y="255888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8600" y="26352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600" y="1263600"/>
              <a:ext cx="7596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98400" y="1111320"/>
              <a:ext cx="7596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5440" y="1035000"/>
              <a:ext cx="7560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902160" y="79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84280" y="26859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Earth’s su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32"/>
          <p:cNvSpPr/>
          <p:nvPr/>
        </p:nvSpPr>
        <p:spPr>
          <a:xfrm>
            <a:off x="447840" y="1214280"/>
            <a:ext cx="839124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two regions can exchange particles (molecules)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so imagine that they are connected by a narrow tube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The rest of the atmosphere is the thermal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Equilibrium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MS PGothic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ffff00"/>
                </a:solidFill>
                <a:latin typeface="Arial"/>
                <a:ea typeface="MS P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Chemical potentia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(ideal ga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200400"/>
                <a:tab algn="l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Ideal gas law: p/n = k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  <a:ea typeface="MS PGothic"/>
              </a:rPr>
              <a:t>   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(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1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= T</a:t>
            </a:r>
            <a:r>
              <a:rPr b="1" lang="en-US" sz="16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2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MS PGothic"/>
              </a:rPr>
              <a:t> in equilibriu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3920" y="4038480"/>
          <a:ext cx="133488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4038480"/>
                    <a:ext cx="133488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5"/>
          <p:cNvSpPr/>
          <p:nvPr/>
        </p:nvSpPr>
        <p:spPr>
          <a:xfrm>
            <a:off x="4419720" y="5562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703680" y="2698920"/>
          <a:ext cx="250200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3680" y="2698920"/>
                    <a:ext cx="250200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2"/>
          <p:cNvSpPr/>
          <p:nvPr/>
        </p:nvSpPr>
        <p:spPr>
          <a:xfrm>
            <a:off x="826920" y="6516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Law of Atmosphere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988320" y="1330200"/>
            <a:ext cx="1263600" cy="2455920"/>
            <a:chOff x="6988320" y="1330200"/>
            <a:chExt cx="1263600" cy="2455920"/>
          </a:xfrm>
        </p:grpSpPr>
        <p:sp>
          <p:nvSpPr>
            <p:cNvPr id="391" name="Text Box 7"/>
            <p:cNvSpPr/>
            <p:nvPr/>
          </p:nvSpPr>
          <p:spPr>
            <a:xfrm>
              <a:off x="6988320" y="1330200"/>
              <a:ext cx="564840" cy="55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27"/>
            <p:cNvSpPr/>
            <p:nvPr/>
          </p:nvSpPr>
          <p:spPr>
            <a:xfrm>
              <a:off x="7869240" y="2253960"/>
              <a:ext cx="38268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Line 28"/>
            <p:cNvSpPr/>
            <p:nvPr/>
          </p:nvSpPr>
          <p:spPr>
            <a:xfrm>
              <a:off x="7818480" y="355752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29"/>
            <p:cNvSpPr/>
            <p:nvPr/>
          </p:nvSpPr>
          <p:spPr>
            <a:xfrm>
              <a:off x="7788240" y="1611000"/>
              <a:ext cx="37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0"/>
            <p:cNvSpPr/>
            <p:nvPr/>
          </p:nvSpPr>
          <p:spPr>
            <a:xfrm flipV="1">
              <a:off x="7988400" y="1612800"/>
              <a:ext cx="6120" cy="61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Line 31"/>
            <p:cNvSpPr/>
            <p:nvPr/>
          </p:nvSpPr>
          <p:spPr>
            <a:xfrm>
              <a:off x="7996320" y="2707920"/>
              <a:ext cx="0" cy="84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6988320" y="3230280"/>
              <a:ext cx="564840" cy="555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N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5760" y="1881000"/>
              <a:ext cx="96840" cy="134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95160" y="1397160"/>
            <a:ext cx="795672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rocess will happen spontaneously if the free energy would be decrea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just another way of saying that, left on their own, systems will ten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thermal equilibrium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minimum fre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you have to do work on a system (the opposite of a spontaneous process), you are increasing the free energy of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 matches bur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fter you strike them)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burned state has less free energy than the unburned 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must you strike the match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an energy barrier - it needs help getting star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uild Your Intu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411200" y="4908600"/>
            <a:ext cx="4048200" cy="1640160"/>
            <a:chOff x="1411200" y="4908600"/>
            <a:chExt cx="4048200" cy="1640160"/>
          </a:xfrm>
        </p:grpSpPr>
        <p:grpSp>
          <p:nvGrpSpPr>
            <p:cNvPr id="404" name="Group 5"/>
            <p:cNvGrpSpPr/>
            <p:nvPr/>
          </p:nvGrpSpPr>
          <p:grpSpPr>
            <a:xfrm>
              <a:off x="2868480" y="4908600"/>
              <a:ext cx="2590920" cy="1640160"/>
              <a:chOff x="2868480" y="4908600"/>
              <a:chExt cx="2590920" cy="1640160"/>
            </a:xfrm>
          </p:grpSpPr>
          <p:sp>
            <p:nvSpPr>
              <p:cNvPr id="405" name="Line 6"/>
              <p:cNvSpPr/>
              <p:nvPr/>
            </p:nvSpPr>
            <p:spPr>
              <a:xfrm flipV="1">
                <a:off x="3147840" y="5004000"/>
                <a:ext cx="0" cy="117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Line 7"/>
              <p:cNvSpPr/>
              <p:nvPr/>
            </p:nvSpPr>
            <p:spPr>
              <a:xfrm>
                <a:off x="3147840" y="6181920"/>
                <a:ext cx="2311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Freeform 8"/>
              <p:cNvSpPr/>
              <p:nvPr/>
            </p:nvSpPr>
            <p:spPr>
              <a:xfrm>
                <a:off x="3305160" y="5075280"/>
                <a:ext cx="1724040" cy="909720"/>
              </a:xfrm>
              <a:custGeom>
                <a:avLst/>
                <a:gdLst>
                  <a:gd name="textAreaLeft" fmla="*/ 0 w 1724040"/>
                  <a:gd name="textAreaRight" fmla="*/ 1724400 w 172404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1086" h="573">
                    <a:moveTo>
                      <a:pt x="0" y="0"/>
                    </a:moveTo>
                    <a:cubicBezTo>
                      <a:pt x="14" y="30"/>
                      <a:pt x="47" y="132"/>
                      <a:pt x="84" y="182"/>
                    </a:cubicBezTo>
                    <a:cubicBezTo>
                      <a:pt x="121" y="232"/>
                      <a:pt x="171" y="303"/>
                      <a:pt x="222" y="299"/>
                    </a:cubicBezTo>
                    <a:cubicBezTo>
                      <a:pt x="273" y="295"/>
                      <a:pt x="337" y="156"/>
                      <a:pt x="388" y="155"/>
                    </a:cubicBezTo>
                    <a:cubicBezTo>
                      <a:pt x="439" y="154"/>
                      <a:pt x="484" y="241"/>
                      <a:pt x="527" y="293"/>
                    </a:cubicBezTo>
                    <a:cubicBezTo>
                      <a:pt x="570" y="345"/>
                      <a:pt x="602" y="421"/>
                      <a:pt x="643" y="465"/>
                    </a:cubicBezTo>
                    <a:cubicBezTo>
                      <a:pt x="684" y="509"/>
                      <a:pt x="721" y="573"/>
                      <a:pt x="770" y="559"/>
                    </a:cubicBezTo>
                    <a:cubicBezTo>
                      <a:pt x="819" y="545"/>
                      <a:pt x="883" y="464"/>
                      <a:pt x="936" y="382"/>
                    </a:cubicBezTo>
                    <a:cubicBezTo>
                      <a:pt x="989" y="300"/>
                      <a:pt x="1037" y="183"/>
                      <a:pt x="1086" y="66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Line 9"/>
              <p:cNvSpPr/>
              <p:nvPr/>
            </p:nvSpPr>
            <p:spPr>
              <a:xfrm flipV="1">
                <a:off x="3639960" y="607680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Line 10"/>
              <p:cNvSpPr/>
              <p:nvPr/>
            </p:nvSpPr>
            <p:spPr>
              <a:xfrm flipV="1">
                <a:off x="4530600" y="6087960"/>
                <a:ext cx="0" cy="176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Text Box 11"/>
              <p:cNvSpPr/>
              <p:nvPr/>
            </p:nvSpPr>
            <p:spPr>
              <a:xfrm>
                <a:off x="3285360" y="6302520"/>
                <a:ext cx="71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un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Text Box 12"/>
              <p:cNvSpPr/>
              <p:nvPr/>
            </p:nvSpPr>
            <p:spPr>
              <a:xfrm>
                <a:off x="4241160" y="6302520"/>
                <a:ext cx="573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burned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Text Box 13"/>
              <p:cNvSpPr/>
              <p:nvPr/>
            </p:nvSpPr>
            <p:spPr>
              <a:xfrm>
                <a:off x="2868480" y="490860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4"/>
            <p:cNvSpPr/>
            <p:nvPr/>
          </p:nvSpPr>
          <p:spPr>
            <a:xfrm>
              <a:off x="1411200" y="5386680"/>
              <a:ext cx="13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 local minimum of F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>
              <a:off x="2724120" y="5529600"/>
              <a:ext cx="74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9-27T03:54:13Z</dcterms:modified>
  <cp:revision>5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