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17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9.png" ContentType="image/png"/>
  <Override PartName="/ppt/media/image22.jpeg" ContentType="image/jpeg"/>
  <Override PartName="/ppt/media/image16.wmf" ContentType="image/x-wmf"/>
  <Override PartName="/ppt/media/image18.wmf" ContentType="image/x-wmf"/>
  <Override PartName="/ppt/media/image19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0A4A0C2-117A-4BE9-8F4C-11487C7C5F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4203E697-6F1A-4397-BAAC-626BA4E53B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385000"/>
            <a:ext cx="7176960" cy="24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15240" y="5415120"/>
            <a:ext cx="28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211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226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240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245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252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253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7000" y="103320"/>
            <a:ext cx="81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30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318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351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376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3801960" y="2368440"/>
            <a:ext cx="32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supplemental slide for the algeb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"/>
          <p:cNvSpPr/>
          <p:nvPr/>
        </p:nvSpPr>
        <p:spPr>
          <a:xfrm>
            <a:off x="151200" y="1033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eat Capacity &amp; Harmonic Oscillators (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42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42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84124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approximate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45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50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50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52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52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3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3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4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4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54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55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5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56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57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57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bond vibrations do not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58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al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61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105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128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147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6040" y="15084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36240" y="1795320"/>
            <a:ext cx="8578440" cy="2926080"/>
            <a:chOff x="336240" y="1795320"/>
            <a:chExt cx="8578440" cy="2926080"/>
          </a:xfrm>
        </p:grpSpPr>
        <p:sp>
          <p:nvSpPr>
            <p:cNvPr id="157" name="PlaceHolder 2"/>
            <p:cNvSpPr>
              <a:spLocks noGrp="1"/>
            </p:cNvSpPr>
            <p:nvPr>
              <p:ph/>
            </p:nvPr>
          </p:nvSpPr>
          <p:spPr>
            <a:xfrm>
              <a:off x="336240" y="1795320"/>
              <a:ext cx="8578440" cy="29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(or down) is just N times the probabilit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macroscopic properties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1375200" y="2722680"/>
            <a:ext cx="5320080" cy="66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5200" y="2722680"/>
                      <a:ext cx="53200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0" name=""/>
          <p:cNvGrpSpPr/>
          <p:nvPr/>
        </p:nvGrpSpPr>
        <p:grpSpPr>
          <a:xfrm>
            <a:off x="1757520" y="942480"/>
            <a:ext cx="2779560" cy="865440"/>
            <a:chOff x="1757520" y="942480"/>
            <a:chExt cx="2779560" cy="865440"/>
          </a:xfrm>
        </p:grpSpPr>
        <p:grpSp>
          <p:nvGrpSpPr>
            <p:cNvPr id="161" name=""/>
            <p:cNvGrpSpPr/>
            <p:nvPr/>
          </p:nvGrpSpPr>
          <p:grpSpPr>
            <a:xfrm>
              <a:off x="2300400" y="1009440"/>
              <a:ext cx="2236680" cy="798480"/>
              <a:chOff x="2300400" y="10094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3483000" y="10094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3505320" y="15109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4" name=""/>
              <p:cNvSpPr/>
              <p:nvPr/>
            </p:nvSpPr>
            <p:spPr>
              <a:xfrm flipH="1">
                <a:off x="2414520" y="16430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414520" y="11286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300400" y="15476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19480" y="10522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1757520" y="942480"/>
              <a:ext cx="401760" cy="824040"/>
              <a:chOff x="1757520" y="942480"/>
              <a:chExt cx="401760" cy="824040"/>
            </a:xfrm>
          </p:grpSpPr>
          <p:sp>
            <p:nvSpPr>
              <p:cNvPr id="169" name=""/>
              <p:cNvSpPr/>
              <p:nvPr/>
            </p:nvSpPr>
            <p:spPr>
              <a:xfrm flipV="1">
                <a:off x="2127600" y="9424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57520" y="11966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1" name=""/>
          <p:cNvGraphicFramePr/>
          <p:nvPr/>
        </p:nvGraphicFramePr>
        <p:xfrm>
          <a:off x="5356080" y="4278240"/>
          <a:ext cx="378792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278240"/>
                    <a:ext cx="37879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176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187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198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4-02-18T01:24:17Z</dcterms:modified>
  <cp:revision>620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