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png" ContentType="image/png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2869200" y="88567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4F0D4B7-D7B3-4A35-8F67-BC14355A0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87560" y="285840"/>
            <a:ext cx="1245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cture 8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with volume exchange resu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with multiple oscill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ells us that a lot of the probability is in that one sta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1/2) - Omega(1/2)/Omega(a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n(P(1/2)) = sigma(1/2)/sigma(all) = 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1/2) = exp(-7) ~ 1/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pled harmonic osc. Dem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8, p </a:t>
            </a:r>
            <a:fld id="{A58081AB-BCA4-48D7-8009-1B844D144DF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63360"/>
            <a:ext cx="8007480" cy="209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8</a:t>
            </a:r>
            <a:br>
              <a:rPr sz="4000"/>
            </a:br>
            <a:br>
              <a:rPr sz="28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The Second Law of Thermodynamics;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Energy Exchange</a:t>
            </a:r>
            <a:br>
              <a:rPr sz="4000"/>
            </a:b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974960" y="2421000"/>
            <a:ext cx="55544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econd law of thermodynamics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istics of energy exchange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al definition of temperature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heat flows from hot to cold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6" name="Text Box 17"/>
          <p:cNvSpPr/>
          <p:nvPr/>
        </p:nvSpPr>
        <p:spPr>
          <a:xfrm>
            <a:off x="966600" y="5083200"/>
            <a:ext cx="295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this Lecture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7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7" name="Text Box 20"/>
          <p:cNvSpPr/>
          <p:nvPr/>
        </p:nvSpPr>
        <p:spPr>
          <a:xfrm>
            <a:off x="5010120" y="5062680"/>
            <a:ext cx="291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Lecture 10: 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8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7800" y="63000"/>
            <a:ext cx="8514000" cy="7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Energy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79040" y="1801440"/>
            <a:ext cx="7767720" cy="177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wo oscillators exchange energy.  The total energy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4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is: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re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total number of microstat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5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7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-10642680" y="3701880"/>
            <a:ext cx="25492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4161760" indent="-568800">
              <a:lnSpc>
                <a:spcPct val="90000"/>
              </a:lnSpc>
              <a:spcBef>
                <a:spcPts val="751"/>
              </a:spcBef>
              <a:tabLst>
                <a:tab algn="l" pos="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134" name="Group 8"/>
          <p:cNvGrpSpPr/>
          <p:nvPr/>
        </p:nvGrpSpPr>
        <p:grpSpPr>
          <a:xfrm>
            <a:off x="1359000" y="4000680"/>
            <a:ext cx="1066680" cy="1828800"/>
            <a:chOff x="1359000" y="4000680"/>
            <a:chExt cx="1066680" cy="1828800"/>
          </a:xfrm>
        </p:grpSpPr>
        <p:grpSp>
          <p:nvGrpSpPr>
            <p:cNvPr id="135" name="Group 9"/>
            <p:cNvGrpSpPr/>
            <p:nvPr/>
          </p:nvGrpSpPr>
          <p:grpSpPr>
            <a:xfrm>
              <a:off x="1359000" y="4000680"/>
              <a:ext cx="685800" cy="1828800"/>
              <a:chOff x="1359000" y="4000680"/>
              <a:chExt cx="685800" cy="1828800"/>
            </a:xfrm>
          </p:grpSpPr>
          <p:sp>
            <p:nvSpPr>
              <p:cNvPr id="136" name="Line 10"/>
              <p:cNvSpPr/>
              <p:nvPr/>
            </p:nvSpPr>
            <p:spPr>
              <a:xfrm>
                <a:off x="1739880" y="5448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37" name="Line 11"/>
              <p:cNvSpPr/>
              <p:nvPr/>
            </p:nvSpPr>
            <p:spPr>
              <a:xfrm>
                <a:off x="1739880" y="57531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38" name="Line 12"/>
              <p:cNvSpPr/>
              <p:nvPr/>
            </p:nvSpPr>
            <p:spPr>
              <a:xfrm>
                <a:off x="1739880" y="51436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39" name="Line 13"/>
              <p:cNvSpPr/>
              <p:nvPr/>
            </p:nvSpPr>
            <p:spPr>
              <a:xfrm>
                <a:off x="1739880" y="45342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40" name="Line 14"/>
              <p:cNvSpPr/>
              <p:nvPr/>
            </p:nvSpPr>
            <p:spPr>
              <a:xfrm>
                <a:off x="1739880" y="48387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41" name="Line 15"/>
              <p:cNvSpPr/>
              <p:nvPr/>
            </p:nvSpPr>
            <p:spPr>
              <a:xfrm>
                <a:off x="1739880" y="42292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142" name="Group 16"/>
              <p:cNvGrpSpPr/>
              <p:nvPr/>
            </p:nvGrpSpPr>
            <p:grpSpPr>
              <a:xfrm>
                <a:off x="1359000" y="4000680"/>
                <a:ext cx="533520" cy="1828800"/>
                <a:chOff x="1359000" y="4000680"/>
                <a:chExt cx="533520" cy="1828800"/>
              </a:xfrm>
            </p:grpSpPr>
            <p:sp>
              <p:nvSpPr>
                <p:cNvPr id="143" name="Line 17"/>
                <p:cNvSpPr/>
                <p:nvPr/>
              </p:nvSpPr>
              <p:spPr>
                <a:xfrm flipV="1">
                  <a:off x="1892520" y="400068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144" name=""/>
                <p:cNvGraphicFramePr/>
                <p:nvPr/>
              </p:nvGraphicFramePr>
              <p:xfrm>
                <a:off x="1359000" y="4457880"/>
                <a:ext cx="295200" cy="13716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145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1359000" y="4457880"/>
                          <a:ext cx="295200" cy="13716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  <p:grpSp>
          <p:nvGrpSpPr>
            <p:cNvPr id="146" name="Group 19"/>
            <p:cNvGrpSpPr/>
            <p:nvPr/>
          </p:nvGrpSpPr>
          <p:grpSpPr>
            <a:xfrm>
              <a:off x="2121120" y="4000680"/>
              <a:ext cx="304560" cy="1752480"/>
              <a:chOff x="2121120" y="4000680"/>
              <a:chExt cx="304560" cy="1752480"/>
            </a:xfrm>
          </p:grpSpPr>
          <p:grpSp>
            <p:nvGrpSpPr>
              <p:cNvPr id="147" name="Group 20"/>
              <p:cNvGrpSpPr/>
              <p:nvPr/>
            </p:nvGrpSpPr>
            <p:grpSpPr>
              <a:xfrm>
                <a:off x="2121120" y="4228920"/>
                <a:ext cx="304560" cy="1523880"/>
                <a:chOff x="2121120" y="4228920"/>
                <a:chExt cx="304560" cy="1523880"/>
              </a:xfrm>
            </p:grpSpPr>
            <p:sp>
              <p:nvSpPr>
                <p:cNvPr id="148" name="Line 21"/>
                <p:cNvSpPr/>
                <p:nvPr/>
              </p:nvSpPr>
              <p:spPr>
                <a:xfrm>
                  <a:off x="212112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49" name="Line 22"/>
                <p:cNvSpPr/>
                <p:nvPr/>
              </p:nvSpPr>
              <p:spPr>
                <a:xfrm>
                  <a:off x="212112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50" name="Line 23"/>
                <p:cNvSpPr/>
                <p:nvPr/>
              </p:nvSpPr>
              <p:spPr>
                <a:xfrm>
                  <a:off x="212112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51" name="Line 24"/>
                <p:cNvSpPr/>
                <p:nvPr/>
              </p:nvSpPr>
              <p:spPr>
                <a:xfrm>
                  <a:off x="212112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52" name="Line 25"/>
                <p:cNvSpPr/>
                <p:nvPr/>
              </p:nvSpPr>
              <p:spPr>
                <a:xfrm>
                  <a:off x="212112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53" name="Line 26"/>
                <p:cNvSpPr/>
                <p:nvPr/>
              </p:nvSpPr>
              <p:spPr>
                <a:xfrm>
                  <a:off x="212112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Line 27"/>
              <p:cNvSpPr/>
              <p:nvPr/>
            </p:nvSpPr>
            <p:spPr>
              <a:xfrm flipV="1">
                <a:off x="227340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155" name="Oval 113"/>
          <p:cNvSpPr/>
          <p:nvPr/>
        </p:nvSpPr>
        <p:spPr>
          <a:xfrm>
            <a:off x="2197080" y="445788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6" name="Oval 114"/>
          <p:cNvSpPr/>
          <p:nvPr/>
        </p:nvSpPr>
        <p:spPr>
          <a:xfrm>
            <a:off x="1816200" y="567684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7" name="Text Box 115"/>
          <p:cNvSpPr/>
          <p:nvPr/>
        </p:nvSpPr>
        <p:spPr>
          <a:xfrm>
            <a:off x="376200" y="473724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q = 4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373440" y="2268360"/>
            <a:ext cx="2520000" cy="8240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 general we say U = q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ere q is the number of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energy quanta.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624680" y="582300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c1  Osc2</a:t>
            </a:r>
            <a:endParaRPr b="1" lang="en-US" sz="12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012840" y="4559400"/>
            <a:ext cx="24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ere’s one microstate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90720" y="615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</a:t>
            </a:r>
            <a:br>
              <a:rPr sz="4000"/>
            </a:b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Energy exchange between 3 oscillato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64920" y="1339560"/>
            <a:ext cx="771372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ree oscillators have tot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2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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q = 2)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ind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181"/>
          <p:cNvSpPr/>
          <p:nvPr/>
        </p:nvSpPr>
        <p:spPr>
          <a:xfrm>
            <a:off x="457200" y="6172200"/>
            <a:ext cx="344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,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m are integers (n +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cript"/>
              </a:rPr>
              <a:t>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+ m = 2)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64" name="Text Box 183"/>
          <p:cNvSpPr/>
          <p:nvPr/>
        </p:nvSpPr>
        <p:spPr>
          <a:xfrm>
            <a:off x="739800" y="4495680"/>
            <a:ext cx="20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scillator  #1   #2    #3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165" name="Group 184"/>
          <p:cNvGrpSpPr/>
          <p:nvPr/>
        </p:nvGrpSpPr>
        <p:grpSpPr>
          <a:xfrm>
            <a:off x="1600200" y="2440080"/>
            <a:ext cx="1181160" cy="2055600"/>
            <a:chOff x="1600200" y="2440080"/>
            <a:chExt cx="1181160" cy="2055600"/>
          </a:xfrm>
        </p:grpSpPr>
        <p:grpSp>
          <p:nvGrpSpPr>
            <p:cNvPr id="166" name="Group 185"/>
            <p:cNvGrpSpPr/>
            <p:nvPr/>
          </p:nvGrpSpPr>
          <p:grpSpPr>
            <a:xfrm>
              <a:off x="1600200" y="2743200"/>
              <a:ext cx="1066320" cy="1752480"/>
              <a:chOff x="1600200" y="2743200"/>
              <a:chExt cx="1066320" cy="1752480"/>
            </a:xfrm>
          </p:grpSpPr>
          <p:grpSp>
            <p:nvGrpSpPr>
              <p:cNvPr id="167" name="Group 186"/>
              <p:cNvGrpSpPr/>
              <p:nvPr/>
            </p:nvGrpSpPr>
            <p:grpSpPr>
              <a:xfrm>
                <a:off x="1981080" y="2743200"/>
                <a:ext cx="304560" cy="1752480"/>
                <a:chOff x="1981080" y="2743200"/>
                <a:chExt cx="304560" cy="1752480"/>
              </a:xfrm>
            </p:grpSpPr>
            <p:grpSp>
              <p:nvGrpSpPr>
                <p:cNvPr id="168" name="Group 187"/>
                <p:cNvGrpSpPr/>
                <p:nvPr/>
              </p:nvGrpSpPr>
              <p:grpSpPr>
                <a:xfrm>
                  <a:off x="1981080" y="2971440"/>
                  <a:ext cx="304560" cy="1523880"/>
                  <a:chOff x="1981080" y="2971440"/>
                  <a:chExt cx="304560" cy="1523880"/>
                </a:xfrm>
              </p:grpSpPr>
              <p:sp>
                <p:nvSpPr>
                  <p:cNvPr id="169" name="Line 188"/>
                  <p:cNvSpPr/>
                  <p:nvPr/>
                </p:nvSpPr>
                <p:spPr>
                  <a:xfrm>
                    <a:off x="198108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Line 189"/>
                  <p:cNvSpPr/>
                  <p:nvPr/>
                </p:nvSpPr>
                <p:spPr>
                  <a:xfrm>
                    <a:off x="198108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Line 190"/>
                  <p:cNvSpPr/>
                  <p:nvPr/>
                </p:nvSpPr>
                <p:spPr>
                  <a:xfrm>
                    <a:off x="198108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Line 191"/>
                  <p:cNvSpPr/>
                  <p:nvPr/>
                </p:nvSpPr>
                <p:spPr>
                  <a:xfrm>
                    <a:off x="198108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Line 192"/>
                  <p:cNvSpPr/>
                  <p:nvPr/>
                </p:nvSpPr>
                <p:spPr>
                  <a:xfrm>
                    <a:off x="198108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Line 193"/>
                  <p:cNvSpPr/>
                  <p:nvPr/>
                </p:nvSpPr>
                <p:spPr>
                  <a:xfrm>
                    <a:off x="198108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5" name="Line 194"/>
                <p:cNvSpPr/>
                <p:nvPr/>
              </p:nvSpPr>
              <p:spPr>
                <a:xfrm flipV="1">
                  <a:off x="213336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6" name="Group 195"/>
              <p:cNvGrpSpPr/>
              <p:nvPr/>
            </p:nvGrpSpPr>
            <p:grpSpPr>
              <a:xfrm>
                <a:off x="1600200" y="2743200"/>
                <a:ext cx="304560" cy="1752480"/>
                <a:chOff x="1600200" y="2743200"/>
                <a:chExt cx="304560" cy="1752480"/>
              </a:xfrm>
            </p:grpSpPr>
            <p:grpSp>
              <p:nvGrpSpPr>
                <p:cNvPr id="177" name="Group 196"/>
                <p:cNvGrpSpPr/>
                <p:nvPr/>
              </p:nvGrpSpPr>
              <p:grpSpPr>
                <a:xfrm>
                  <a:off x="1600200" y="2971440"/>
                  <a:ext cx="304560" cy="1523880"/>
                  <a:chOff x="1600200" y="2971440"/>
                  <a:chExt cx="304560" cy="1523880"/>
                </a:xfrm>
              </p:grpSpPr>
              <p:sp>
                <p:nvSpPr>
                  <p:cNvPr id="178" name="Line 197"/>
                  <p:cNvSpPr/>
                  <p:nvPr/>
                </p:nvSpPr>
                <p:spPr>
                  <a:xfrm>
                    <a:off x="160020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Line 198"/>
                  <p:cNvSpPr/>
                  <p:nvPr/>
                </p:nvSpPr>
                <p:spPr>
                  <a:xfrm>
                    <a:off x="160020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Line 199"/>
                  <p:cNvSpPr/>
                  <p:nvPr/>
                </p:nvSpPr>
                <p:spPr>
                  <a:xfrm>
                    <a:off x="160020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Line 200"/>
                  <p:cNvSpPr/>
                  <p:nvPr/>
                </p:nvSpPr>
                <p:spPr>
                  <a:xfrm>
                    <a:off x="160020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Line 201"/>
                  <p:cNvSpPr/>
                  <p:nvPr/>
                </p:nvSpPr>
                <p:spPr>
                  <a:xfrm>
                    <a:off x="160020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Line 202"/>
                  <p:cNvSpPr/>
                  <p:nvPr/>
                </p:nvSpPr>
                <p:spPr>
                  <a:xfrm>
                    <a:off x="160020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4" name="Line 203"/>
                <p:cNvSpPr/>
                <p:nvPr/>
              </p:nvSpPr>
              <p:spPr>
                <a:xfrm flipV="1">
                  <a:off x="175248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5" name="Group 204"/>
              <p:cNvGrpSpPr/>
              <p:nvPr/>
            </p:nvGrpSpPr>
            <p:grpSpPr>
              <a:xfrm>
                <a:off x="2361960" y="2743200"/>
                <a:ext cx="304560" cy="1752480"/>
                <a:chOff x="2361960" y="2743200"/>
                <a:chExt cx="304560" cy="1752480"/>
              </a:xfrm>
            </p:grpSpPr>
            <p:grpSp>
              <p:nvGrpSpPr>
                <p:cNvPr id="186" name="Group 205"/>
                <p:cNvGrpSpPr/>
                <p:nvPr/>
              </p:nvGrpSpPr>
              <p:grpSpPr>
                <a:xfrm>
                  <a:off x="2361960" y="2971440"/>
                  <a:ext cx="304560" cy="1523880"/>
                  <a:chOff x="2361960" y="2971440"/>
                  <a:chExt cx="304560" cy="1523880"/>
                </a:xfrm>
              </p:grpSpPr>
              <p:sp>
                <p:nvSpPr>
                  <p:cNvPr id="187" name="Line 206"/>
                  <p:cNvSpPr/>
                  <p:nvPr/>
                </p:nvSpPr>
                <p:spPr>
                  <a:xfrm>
                    <a:off x="236196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Line 207"/>
                  <p:cNvSpPr/>
                  <p:nvPr/>
                </p:nvSpPr>
                <p:spPr>
                  <a:xfrm>
                    <a:off x="236196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Line 208"/>
                  <p:cNvSpPr/>
                  <p:nvPr/>
                </p:nvSpPr>
                <p:spPr>
                  <a:xfrm>
                    <a:off x="236196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Line 209"/>
                  <p:cNvSpPr/>
                  <p:nvPr/>
                </p:nvSpPr>
                <p:spPr>
                  <a:xfrm>
                    <a:off x="236196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Line 210"/>
                  <p:cNvSpPr/>
                  <p:nvPr/>
                </p:nvSpPr>
                <p:spPr>
                  <a:xfrm>
                    <a:off x="236196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Line 211"/>
                  <p:cNvSpPr/>
                  <p:nvPr/>
                </p:nvSpPr>
                <p:spPr>
                  <a:xfrm>
                    <a:off x="236196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3" name="Line 212"/>
                <p:cNvSpPr/>
                <p:nvPr/>
              </p:nvSpPr>
              <p:spPr>
                <a:xfrm flipV="1">
                  <a:off x="251424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mc:AlternateContent>
          <mc:Choice xmlns:a14="http://schemas.microsoft.com/office/drawing/2010/main" Requires="a14">
            <p:sp>
              <p:nvSpPr>
                <p:cNvPr id="194" name=""/>
                <p:cNvSpPr txBox="1"/>
                <p:nvPr/>
              </p:nvSpPr>
              <p:spPr>
                <a:xfrm>
                  <a:off x="1665360" y="2440080"/>
                  <a:ext cx="1116000" cy="30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ℓ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5" name=""/>
          <p:cNvSpPr/>
          <p:nvPr/>
        </p:nvSpPr>
        <p:spPr>
          <a:xfrm>
            <a:off x="1202040" y="2809800"/>
            <a:ext cx="381960" cy="18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1616040" y="4896000"/>
          <a:ext cx="924120" cy="108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4896000"/>
                    <a:ext cx="924120" cy="108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29840" y="58680"/>
            <a:ext cx="8271000" cy="82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robability of observing energy E</a:t>
            </a:r>
            <a:r>
              <a:rPr b="0" lang="en-US" sz="4000" spc="-1" strike="noStrike" baseline="-25000">
                <a:solidFill>
                  <a:srgbClr val="ff9966"/>
                </a:solidFill>
                <a:latin typeface="Comic Sans MS"/>
              </a:rPr>
              <a:t>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31640" y="1267920"/>
            <a:ext cx="8412480" cy="303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is the probability that oscillator #1 has energy 0,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</a:t>
            </a:r>
            <a:r>
              <a:rPr b="0" lang="en-US" sz="2000" spc="-1" strike="noStrike">
                <a:solidFill>
                  <a:srgbClr val="00ffcc"/>
                </a:solidFill>
                <a:latin typeface="Times New Roman"/>
              </a:rPr>
              <a:t>or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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ook at the solution to the exerci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that oscillator #1 has energy 0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3/6 = 1/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that oscillator #1 has energy 1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2/6 = 1/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that oscillator #1 has energy 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1/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3875040" y="4397400"/>
            <a:ext cx="4921200" cy="16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does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ecrease as E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creases?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s is an important general feature of energy distributions in thermal equilibrium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discuss it more next week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776160" y="4040280"/>
            <a:ext cx="2784600" cy="1862640"/>
            <a:chOff x="776160" y="4040280"/>
            <a:chExt cx="2784600" cy="1862640"/>
          </a:xfrm>
        </p:grpSpPr>
        <p:grpSp>
          <p:nvGrpSpPr>
            <p:cNvPr id="204" name="Group 4"/>
            <p:cNvGrpSpPr/>
            <p:nvPr/>
          </p:nvGrpSpPr>
          <p:grpSpPr>
            <a:xfrm>
              <a:off x="1690560" y="4879800"/>
              <a:ext cx="838440" cy="456840"/>
              <a:chOff x="1690560" y="4879800"/>
              <a:chExt cx="838440" cy="456840"/>
            </a:xfrm>
          </p:grpSpPr>
          <p:sp>
            <p:nvSpPr>
              <p:cNvPr id="205" name="Oval 5"/>
              <p:cNvSpPr/>
              <p:nvPr/>
            </p:nvSpPr>
            <p:spPr>
              <a:xfrm>
                <a:off x="1690560" y="4879800"/>
                <a:ext cx="152640" cy="15228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06" name="Oval 6"/>
              <p:cNvSpPr/>
              <p:nvPr/>
            </p:nvSpPr>
            <p:spPr>
              <a:xfrm>
                <a:off x="2300400" y="5184360"/>
                <a:ext cx="152280" cy="15192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07" name="Oval 7"/>
              <p:cNvSpPr/>
              <p:nvPr/>
            </p:nvSpPr>
            <p:spPr>
              <a:xfrm>
                <a:off x="1995480" y="5032080"/>
                <a:ext cx="152280" cy="15192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08" name="Line 8"/>
              <p:cNvSpPr/>
              <p:nvPr/>
            </p:nvSpPr>
            <p:spPr>
              <a:xfrm>
                <a:off x="1690560" y="4879800"/>
                <a:ext cx="838440" cy="4568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209" name="Text Box 12"/>
            <p:cNvSpPr/>
            <p:nvPr/>
          </p:nvSpPr>
          <p:spPr>
            <a:xfrm>
              <a:off x="776160" y="4346280"/>
              <a:ext cx="60984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10" name="Text Box 13"/>
            <p:cNvSpPr/>
            <p:nvPr/>
          </p:nvSpPr>
          <p:spPr>
            <a:xfrm>
              <a:off x="1552680" y="4040280"/>
              <a:ext cx="531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11" name="Text Box 14"/>
            <p:cNvSpPr/>
            <p:nvPr/>
          </p:nvSpPr>
          <p:spPr>
            <a:xfrm>
              <a:off x="3027240" y="5227560"/>
              <a:ext cx="53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212" name="Group 15"/>
            <p:cNvGrpSpPr/>
            <p:nvPr/>
          </p:nvGrpSpPr>
          <p:grpSpPr>
            <a:xfrm>
              <a:off x="1309680" y="4194000"/>
              <a:ext cx="1676520" cy="1370880"/>
              <a:chOff x="1309680" y="4194000"/>
              <a:chExt cx="1676520" cy="1370880"/>
            </a:xfrm>
          </p:grpSpPr>
          <p:sp>
            <p:nvSpPr>
              <p:cNvPr id="213" name="Line 16"/>
              <p:cNvSpPr/>
              <p:nvPr/>
            </p:nvSpPr>
            <p:spPr>
              <a:xfrm flipV="1">
                <a:off x="1461960" y="4194000"/>
                <a:ext cx="0" cy="1218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14" name="Line 17"/>
              <p:cNvSpPr/>
              <p:nvPr/>
            </p:nvSpPr>
            <p:spPr>
              <a:xfrm>
                <a:off x="1461960" y="5412960"/>
                <a:ext cx="15242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15" name="Line 18"/>
              <p:cNvSpPr/>
              <p:nvPr/>
            </p:nvSpPr>
            <p:spPr>
              <a:xfrm>
                <a:off x="1309680" y="495576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16" name="Line 19"/>
              <p:cNvSpPr/>
              <p:nvPr/>
            </p:nvSpPr>
            <p:spPr>
              <a:xfrm>
                <a:off x="1309680" y="449856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17" name="Line 20"/>
              <p:cNvSpPr/>
              <p:nvPr/>
            </p:nvSpPr>
            <p:spPr>
              <a:xfrm>
                <a:off x="1309680" y="541296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18" name="Line 21"/>
              <p:cNvSpPr/>
              <p:nvPr/>
            </p:nvSpPr>
            <p:spPr>
              <a:xfrm>
                <a:off x="1766880" y="5336640"/>
                <a:ext cx="0" cy="22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19" name="Line 22"/>
              <p:cNvSpPr/>
              <p:nvPr/>
            </p:nvSpPr>
            <p:spPr>
              <a:xfrm>
                <a:off x="2376360" y="5336640"/>
                <a:ext cx="0" cy="22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20" name="Line 23"/>
              <p:cNvSpPr/>
              <p:nvPr/>
            </p:nvSpPr>
            <p:spPr>
              <a:xfrm>
                <a:off x="2071800" y="5336640"/>
                <a:ext cx="0" cy="22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221" name="Text Box 24"/>
            <p:cNvSpPr/>
            <p:nvPr/>
          </p:nvSpPr>
          <p:spPr>
            <a:xfrm>
              <a:off x="1614600" y="5565600"/>
              <a:ext cx="1447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1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2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80640" y="63360"/>
            <a:ext cx="7162920" cy="75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Average energi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507960" y="185436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an example with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 3 SHO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a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uld be the average thermal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the first SHO?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01880" y="58680"/>
            <a:ext cx="7162560" cy="68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me Exercis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90360" y="1363680"/>
            <a:ext cx="7234200" cy="103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 system of 3 oscillators wi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3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lot P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probability that oscillator #1 has energy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18"/>
          <p:cNvSpPr/>
          <p:nvPr/>
        </p:nvSpPr>
        <p:spPr>
          <a:xfrm>
            <a:off x="1042920" y="5248440"/>
            <a:ext cx="71946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an you state in words why P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s with increasing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t is very important that you understand this.</a:t>
            </a:r>
            <a:r>
              <a:rPr b="0" lang="en-US" sz="2000" spc="-1" strike="noStrike">
                <a:solidFill>
                  <a:srgbClr val="00ff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2615040" y="2319480"/>
            <a:ext cx="3120480" cy="2789640"/>
            <a:chOff x="2615040" y="2319480"/>
            <a:chExt cx="3120480" cy="2789640"/>
          </a:xfrm>
        </p:grpSpPr>
        <p:sp>
          <p:nvSpPr>
            <p:cNvPr id="228" name="Line 4"/>
            <p:cNvSpPr/>
            <p:nvPr/>
          </p:nvSpPr>
          <p:spPr>
            <a:xfrm flipV="1">
              <a:off x="2743200" y="2354400"/>
              <a:ext cx="0" cy="16761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29" name="Line 7"/>
            <p:cNvSpPr/>
            <p:nvPr/>
          </p:nvSpPr>
          <p:spPr>
            <a:xfrm>
              <a:off x="335268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30" name="Line 8"/>
            <p:cNvSpPr/>
            <p:nvPr/>
          </p:nvSpPr>
          <p:spPr>
            <a:xfrm>
              <a:off x="466236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31" name="Line 9"/>
            <p:cNvSpPr/>
            <p:nvPr/>
          </p:nvSpPr>
          <p:spPr>
            <a:xfrm>
              <a:off x="422604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32" name="Line 10"/>
            <p:cNvSpPr/>
            <p:nvPr/>
          </p:nvSpPr>
          <p:spPr>
            <a:xfrm>
              <a:off x="378936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233" name="Group 11"/>
            <p:cNvGrpSpPr/>
            <p:nvPr/>
          </p:nvGrpSpPr>
          <p:grpSpPr>
            <a:xfrm>
              <a:off x="2971800" y="2506320"/>
              <a:ext cx="2438280" cy="2057760"/>
              <a:chOff x="2971800" y="2506320"/>
              <a:chExt cx="2438280" cy="2057760"/>
            </a:xfrm>
          </p:grpSpPr>
          <p:sp>
            <p:nvSpPr>
              <p:cNvPr id="234" name="Line 12"/>
              <p:cNvSpPr/>
              <p:nvPr/>
            </p:nvSpPr>
            <p:spPr>
              <a:xfrm flipV="1">
                <a:off x="2971800" y="2506320"/>
                <a:ext cx="0" cy="2057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35" name="Line 13"/>
              <p:cNvSpPr/>
              <p:nvPr/>
            </p:nvSpPr>
            <p:spPr>
              <a:xfrm>
                <a:off x="2971800" y="4564080"/>
                <a:ext cx="24382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236" name="Text Box 14"/>
            <p:cNvSpPr/>
            <p:nvPr/>
          </p:nvSpPr>
          <p:spPr>
            <a:xfrm>
              <a:off x="3013200" y="2319480"/>
              <a:ext cx="449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1" lang="en-US" sz="1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37" name="Line 15"/>
            <p:cNvSpPr/>
            <p:nvPr/>
          </p:nvSpPr>
          <p:spPr>
            <a:xfrm>
              <a:off x="2895480" y="304020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38" name="Text Box 16"/>
            <p:cNvSpPr/>
            <p:nvPr/>
          </p:nvSpPr>
          <p:spPr>
            <a:xfrm>
              <a:off x="5126040" y="459900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24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39" name="Text Box 17"/>
            <p:cNvSpPr/>
            <p:nvPr/>
          </p:nvSpPr>
          <p:spPr>
            <a:xfrm>
              <a:off x="3200400" y="467208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1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2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3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615040" y="2860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6"/>
          <p:cNvSpPr/>
          <p:nvPr/>
        </p:nvSpPr>
        <p:spPr>
          <a:xfrm>
            <a:off x="649440" y="3460680"/>
            <a:ext cx="8169120" cy="33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27160"/>
                <a:tab algn="l" pos="461880"/>
                <a:tab algn="l" pos="2290680"/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the same as the formula for N identical particles in M bins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*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articl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Energy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nergy quanta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scillators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7160"/>
                <a:tab algn="l" pos="461880"/>
                <a:tab algn="l" pos="2290680"/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q energy quanta are identical (indistinguishable) “particles”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 oscillators are multiple-occupancy “bins” for those quanta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7160"/>
                <a:tab algn="l" pos="461880"/>
                <a:tab algn="l" pos="2290680"/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ee the derivation in last lecture’s Appendix. 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60600" y="4662360"/>
            <a:ext cx="72396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96800" y="63360"/>
            <a:ext cx="8136000" cy="7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lief from Counting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507960" y="1200240"/>
            <a:ext cx="820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general formula for the number of microstates in a system of N  oscillators sharing q energy quanta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1414440" y="2252520"/>
          <a:ext cx="2130480" cy="87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4440" y="2252520"/>
                    <a:ext cx="2130480" cy="8766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49" name="Text Box 7"/>
          <p:cNvSpPr/>
          <p:nvPr/>
        </p:nvSpPr>
        <p:spPr>
          <a:xfrm>
            <a:off x="5171760" y="2502000"/>
            <a:ext cx="26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e’ll call it the “q-formula”. 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50" name="Text Box 10"/>
          <p:cNvSpPr/>
          <p:nvPr/>
        </p:nvSpPr>
        <p:spPr>
          <a:xfrm>
            <a:off x="6333840" y="4044960"/>
            <a:ext cx="2381400" cy="1098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ware !!!</a:t>
            </a:r>
            <a:br>
              <a:rPr sz="20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 means different things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 the two situations.</a:t>
            </a:r>
            <a:br>
              <a:rPr sz="16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sorry for the notation)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460600" y="4911840"/>
            <a:ext cx="72396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82800" y="60120"/>
            <a:ext cx="7162560" cy="82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</a:t>
            </a: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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depends on </a:t>
            </a:r>
            <a:r>
              <a:rPr b="0" lang="en-US" sz="4000" spc="-1" strike="noStrike">
                <a:solidFill>
                  <a:srgbClr val="ff9966"/>
                </a:solidFill>
                <a:latin typeface="Arial"/>
              </a:rPr>
              <a:t>U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8200" y="1072800"/>
            <a:ext cx="5573520" cy="121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the q-formul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 2-SHO system,  N=2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q+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=3, here’s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or q = 0, 1, 2, 3, 4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184560" y="5979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2898720" y="2563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256" name="Group 6"/>
          <p:cNvGrpSpPr/>
          <p:nvPr/>
        </p:nvGrpSpPr>
        <p:grpSpPr>
          <a:xfrm>
            <a:off x="2362320" y="2819520"/>
            <a:ext cx="457200" cy="2059560"/>
            <a:chOff x="2362320" y="2819520"/>
            <a:chExt cx="457200" cy="2059560"/>
          </a:xfrm>
        </p:grpSpPr>
        <p:sp>
          <p:nvSpPr>
            <p:cNvPr id="257" name="Text Box 7"/>
            <p:cNvSpPr/>
            <p:nvPr/>
          </p:nvSpPr>
          <p:spPr>
            <a:xfrm>
              <a:off x="2362320" y="2819520"/>
              <a:ext cx="457200" cy="184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58" name="Text Box 8"/>
            <p:cNvSpPr/>
            <p:nvPr/>
          </p:nvSpPr>
          <p:spPr>
            <a:xfrm>
              <a:off x="2438280" y="457200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259" name="Text Box 9"/>
          <p:cNvSpPr/>
          <p:nvPr/>
        </p:nvSpPr>
        <p:spPr>
          <a:xfrm>
            <a:off x="3048120" y="4876920"/>
            <a:ext cx="19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   1    2    3    4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0" name="Oval 10"/>
          <p:cNvSpPr/>
          <p:nvPr/>
        </p:nvSpPr>
        <p:spPr>
          <a:xfrm>
            <a:off x="4267080" y="3809880"/>
            <a:ext cx="15264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1" name="Oval 11"/>
          <p:cNvSpPr/>
          <p:nvPr/>
        </p:nvSpPr>
        <p:spPr>
          <a:xfrm>
            <a:off x="3886200" y="419112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2" name="Oval 12"/>
          <p:cNvSpPr/>
          <p:nvPr/>
        </p:nvSpPr>
        <p:spPr>
          <a:xfrm>
            <a:off x="3505320" y="449568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3" name="Line 13"/>
          <p:cNvSpPr/>
          <p:nvPr/>
        </p:nvSpPr>
        <p:spPr>
          <a:xfrm>
            <a:off x="2743200" y="34290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4" name="Line 14"/>
          <p:cNvSpPr/>
          <p:nvPr/>
        </p:nvSpPr>
        <p:spPr>
          <a:xfrm flipV="1">
            <a:off x="2819520" y="2666520"/>
            <a:ext cx="0" cy="2133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5" name="Line 15"/>
          <p:cNvSpPr/>
          <p:nvPr/>
        </p:nvSpPr>
        <p:spPr>
          <a:xfrm>
            <a:off x="2789280" y="4800600"/>
            <a:ext cx="25909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6" name="Line 16"/>
          <p:cNvSpPr/>
          <p:nvPr/>
        </p:nvSpPr>
        <p:spPr>
          <a:xfrm>
            <a:off x="320040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7" name="Line 17"/>
          <p:cNvSpPr/>
          <p:nvPr/>
        </p:nvSpPr>
        <p:spPr>
          <a:xfrm>
            <a:off x="472428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8" name="Line 18"/>
          <p:cNvSpPr/>
          <p:nvPr/>
        </p:nvSpPr>
        <p:spPr>
          <a:xfrm>
            <a:off x="434340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9" name="Line 19"/>
          <p:cNvSpPr/>
          <p:nvPr/>
        </p:nvSpPr>
        <p:spPr>
          <a:xfrm>
            <a:off x="396252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70" name="Line 20"/>
          <p:cNvSpPr/>
          <p:nvPr/>
        </p:nvSpPr>
        <p:spPr>
          <a:xfrm>
            <a:off x="358128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71" name="Line 21"/>
          <p:cNvSpPr/>
          <p:nvPr/>
        </p:nvSpPr>
        <p:spPr>
          <a:xfrm>
            <a:off x="2743200" y="472428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72" name="Line 22"/>
          <p:cNvSpPr/>
          <p:nvPr/>
        </p:nvSpPr>
        <p:spPr>
          <a:xfrm>
            <a:off x="2743200" y="29718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73" name="Line 23"/>
          <p:cNvSpPr/>
          <p:nvPr/>
        </p:nvSpPr>
        <p:spPr>
          <a:xfrm>
            <a:off x="2743200" y="38862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74" name="Line 24"/>
          <p:cNvSpPr/>
          <p:nvPr/>
        </p:nvSpPr>
        <p:spPr>
          <a:xfrm>
            <a:off x="2743200" y="419112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75" name="Line 25"/>
          <p:cNvSpPr/>
          <p:nvPr/>
        </p:nvSpPr>
        <p:spPr>
          <a:xfrm>
            <a:off x="2743200" y="449568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76" name="Text Box 26"/>
          <p:cNvSpPr/>
          <p:nvPr/>
        </p:nvSpPr>
        <p:spPr>
          <a:xfrm>
            <a:off x="2362320" y="327672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277" name="Group 27"/>
          <p:cNvGrpSpPr/>
          <p:nvPr/>
        </p:nvGrpSpPr>
        <p:grpSpPr>
          <a:xfrm>
            <a:off x="3124080" y="3352680"/>
            <a:ext cx="1676520" cy="1447920"/>
            <a:chOff x="3124080" y="3352680"/>
            <a:chExt cx="1676520" cy="1447920"/>
          </a:xfrm>
        </p:grpSpPr>
        <p:sp>
          <p:nvSpPr>
            <p:cNvPr id="278" name="Oval 28"/>
            <p:cNvSpPr/>
            <p:nvPr/>
          </p:nvSpPr>
          <p:spPr>
            <a:xfrm>
              <a:off x="4648320" y="3352680"/>
              <a:ext cx="15228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279" name="Group 29"/>
            <p:cNvGrpSpPr/>
            <p:nvPr/>
          </p:nvGrpSpPr>
          <p:grpSpPr>
            <a:xfrm>
              <a:off x="3124080" y="3429000"/>
              <a:ext cx="1600200" cy="1371600"/>
              <a:chOff x="3124080" y="3429000"/>
              <a:chExt cx="1600200" cy="1371600"/>
            </a:xfrm>
          </p:grpSpPr>
          <p:sp>
            <p:nvSpPr>
              <p:cNvPr id="280" name="Oval 30"/>
              <p:cNvSpPr/>
              <p:nvPr/>
            </p:nvSpPr>
            <p:spPr>
              <a:xfrm>
                <a:off x="3124080" y="4648320"/>
                <a:ext cx="152640" cy="15228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81" name="Freeform 31"/>
              <p:cNvSpPr/>
              <p:nvPr/>
            </p:nvSpPr>
            <p:spPr>
              <a:xfrm>
                <a:off x="3200400" y="3429000"/>
                <a:ext cx="1523880" cy="1295280"/>
              </a:xfrm>
              <a:prstGeom prst="pie">
                <a:avLst/>
              </a:pr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282" name="Text Box 33"/>
          <p:cNvSpPr/>
          <p:nvPr/>
        </p:nvSpPr>
        <p:spPr>
          <a:xfrm>
            <a:off x="5616720" y="3054240"/>
            <a:ext cx="3178080" cy="1333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51264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N=3: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51264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(q+2)(q+1)/2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q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q is large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283" name="Group 35"/>
          <p:cNvGrpSpPr/>
          <p:nvPr/>
        </p:nvGrpSpPr>
        <p:grpSpPr>
          <a:xfrm>
            <a:off x="552600" y="2684520"/>
            <a:ext cx="999720" cy="3467880"/>
            <a:chOff x="552600" y="2684520"/>
            <a:chExt cx="999720" cy="3467880"/>
          </a:xfrm>
        </p:grpSpPr>
        <p:sp>
          <p:nvSpPr>
            <p:cNvPr id="284" name="Text Box 36"/>
            <p:cNvSpPr/>
            <p:nvPr/>
          </p:nvSpPr>
          <p:spPr>
            <a:xfrm>
              <a:off x="552600" y="2684520"/>
              <a:ext cx="999720" cy="346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ff00"/>
                  </a:solidFill>
                  <a:latin typeface="Arial"/>
                </a:rPr>
                <a:t>q    </a:t>
              </a:r>
              <a:r>
                <a:rPr b="1" lang="en-US" sz="20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</a:t>
              </a: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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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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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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285" name="Group 37"/>
            <p:cNvGrpSpPr/>
            <p:nvPr/>
          </p:nvGrpSpPr>
          <p:grpSpPr>
            <a:xfrm>
              <a:off x="657720" y="2745000"/>
              <a:ext cx="805320" cy="2228760"/>
              <a:chOff x="657720" y="2745000"/>
              <a:chExt cx="805320" cy="2228760"/>
            </a:xfrm>
          </p:grpSpPr>
          <p:sp>
            <p:nvSpPr>
              <p:cNvPr id="286" name="Line 38"/>
              <p:cNvSpPr/>
              <p:nvPr/>
            </p:nvSpPr>
            <p:spPr>
              <a:xfrm>
                <a:off x="991080" y="2745000"/>
                <a:ext cx="0" cy="2228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87" name="Line 39"/>
              <p:cNvSpPr/>
              <p:nvPr/>
            </p:nvSpPr>
            <p:spPr>
              <a:xfrm>
                <a:off x="675720" y="495972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88" name="Line 40"/>
              <p:cNvSpPr/>
              <p:nvPr/>
            </p:nvSpPr>
            <p:spPr>
              <a:xfrm>
                <a:off x="671760" y="458640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89" name="Line 41"/>
              <p:cNvSpPr/>
              <p:nvPr/>
            </p:nvSpPr>
            <p:spPr>
              <a:xfrm>
                <a:off x="670320" y="421668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90" name="Line 42"/>
              <p:cNvSpPr/>
              <p:nvPr/>
            </p:nvSpPr>
            <p:spPr>
              <a:xfrm>
                <a:off x="688320" y="383256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91" name="Line 43"/>
              <p:cNvSpPr/>
              <p:nvPr/>
            </p:nvSpPr>
            <p:spPr>
              <a:xfrm>
                <a:off x="691920" y="3481560"/>
                <a:ext cx="771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92" name="Line 44"/>
              <p:cNvSpPr/>
              <p:nvPr/>
            </p:nvSpPr>
            <p:spPr>
              <a:xfrm>
                <a:off x="657720" y="308304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293" name="Text Box 45"/>
          <p:cNvSpPr/>
          <p:nvPr/>
        </p:nvSpPr>
        <p:spPr>
          <a:xfrm>
            <a:off x="5410080" y="4572000"/>
            <a:ext cx="30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94" name="Text Box 46"/>
          <p:cNvSpPr/>
          <p:nvPr/>
        </p:nvSpPr>
        <p:spPr>
          <a:xfrm>
            <a:off x="783000" y="5451480"/>
            <a:ext cx="74991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general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-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or N oscillators when q &gt;&gt; N (or, U &gt;&gt; Nε)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: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is happens when the average energy per oscillator, U/N,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s much larger than the energy spacing,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023520" y="1293840"/>
            <a:ext cx="1511280" cy="703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member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q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57320" y="61560"/>
            <a:ext cx="8835840" cy="122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rmal Equilibrium 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ith Energy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487760" y="4183200"/>
          <a:ext cx="150840" cy="31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87760" y="4183200"/>
                    <a:ext cx="150840" cy="31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Text Box 10"/>
          <p:cNvSpPr/>
          <p:nvPr/>
        </p:nvSpPr>
        <p:spPr>
          <a:xfrm>
            <a:off x="4194000" y="4888080"/>
            <a:ext cx="4946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expression for thermal equilibrium was obtained by maximizing the entropy subject to a constraint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result is very similar to the one for volume exchange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(see last lecture’s summary slide)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. 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ts form results from the sharing of some quantity among systems.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We’ll see other examples.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300" name="Group 11"/>
          <p:cNvGrpSpPr/>
          <p:nvPr/>
        </p:nvGrpSpPr>
        <p:grpSpPr>
          <a:xfrm>
            <a:off x="6111720" y="2649600"/>
            <a:ext cx="2732040" cy="1966320"/>
            <a:chOff x="6111720" y="2649600"/>
            <a:chExt cx="2732040" cy="1966320"/>
          </a:xfrm>
        </p:grpSpPr>
        <p:grpSp>
          <p:nvGrpSpPr>
            <p:cNvPr id="301" name="Group 12"/>
            <p:cNvGrpSpPr/>
            <p:nvPr/>
          </p:nvGrpSpPr>
          <p:grpSpPr>
            <a:xfrm>
              <a:off x="6111720" y="2649600"/>
              <a:ext cx="2732040" cy="1966320"/>
              <a:chOff x="6111720" y="2649600"/>
              <a:chExt cx="2732040" cy="1966320"/>
            </a:xfrm>
          </p:grpSpPr>
          <p:grpSp>
            <p:nvGrpSpPr>
              <p:cNvPr id="302" name="Group 13"/>
              <p:cNvGrpSpPr/>
              <p:nvPr/>
            </p:nvGrpSpPr>
            <p:grpSpPr>
              <a:xfrm>
                <a:off x="6267240" y="2790720"/>
                <a:ext cx="2075040" cy="1463760"/>
                <a:chOff x="6267240" y="2790720"/>
                <a:chExt cx="2075040" cy="1463760"/>
              </a:xfrm>
            </p:grpSpPr>
            <p:sp>
              <p:nvSpPr>
                <p:cNvPr id="303" name="Line 14"/>
                <p:cNvSpPr/>
                <p:nvPr/>
              </p:nvSpPr>
              <p:spPr>
                <a:xfrm>
                  <a:off x="6267240" y="4254480"/>
                  <a:ext cx="2075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04" name="Line 15"/>
                <p:cNvSpPr/>
                <p:nvPr/>
              </p:nvSpPr>
              <p:spPr>
                <a:xfrm flipV="1">
                  <a:off x="6267240" y="2790720"/>
                  <a:ext cx="0" cy="1463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05" name="Freeform 16"/>
                <p:cNvSpPr/>
                <p:nvPr/>
              </p:nvSpPr>
              <p:spPr>
                <a:xfrm>
                  <a:off x="6276960" y="3763800"/>
                  <a:ext cx="1665360" cy="481320"/>
                </a:xfrm>
                <a:prstGeom prst="pie">
                  <a:avLst/>
                </a:pr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06" name="Freeform 17"/>
                <p:cNvSpPr/>
                <p:nvPr/>
              </p:nvSpPr>
              <p:spPr>
                <a:xfrm flipH="1">
                  <a:off x="6279480" y="3022560"/>
                  <a:ext cx="1665000" cy="1224000"/>
                </a:xfrm>
                <a:prstGeom prst="pie">
                  <a:avLst/>
                </a:pr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7" name="Freeform 18"/>
              <p:cNvSpPr/>
              <p:nvPr/>
            </p:nvSpPr>
            <p:spPr>
              <a:xfrm>
                <a:off x="6257880" y="2784600"/>
                <a:ext cx="1674720" cy="93960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308" name="Line 19"/>
              <p:cNvSpPr/>
              <p:nvPr/>
            </p:nvSpPr>
            <p:spPr>
              <a:xfrm>
                <a:off x="6729480" y="2649600"/>
                <a:ext cx="0" cy="1744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309" name="Text Box 20"/>
              <p:cNvSpPr/>
              <p:nvPr/>
            </p:nvSpPr>
            <p:spPr>
              <a:xfrm>
                <a:off x="8332560" y="4113360"/>
                <a:ext cx="5112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1" lang="en-US" sz="1600" spc="-1" strike="noStrike" baseline="-25000">
                    <a:solidFill>
                      <a:srgbClr val="fafd00"/>
                    </a:solidFill>
                    <a:latin typeface="Arial"/>
                  </a:rPr>
                  <a:t>1</a:t>
                </a:r>
                <a:endParaRPr b="1" lang="en-US" sz="16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310" name="Text Box 21"/>
              <p:cNvSpPr/>
              <p:nvPr/>
            </p:nvSpPr>
            <p:spPr>
              <a:xfrm>
                <a:off x="6111720" y="4245120"/>
                <a:ext cx="24814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0</a:t>
                </a: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      </a:t>
                </a: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400" spc="-1" strike="noStrike" baseline="-25000">
                    <a:solidFill>
                      <a:srgbClr val="fafd00"/>
                    </a:solidFill>
                    <a:latin typeface="Arial"/>
                  </a:rPr>
                  <a:t>eq</a:t>
                </a: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             </a:t>
                </a: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4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- U</a:t>
                </a:r>
                <a:r>
                  <a:rPr b="0" lang="en-US" sz="1400" spc="-1" strike="noStrike" baseline="-25000">
                    <a:solidFill>
                      <a:srgbClr val="fafd00"/>
                    </a:solidFill>
                    <a:latin typeface="Arial"/>
                  </a:rPr>
                  <a:t>1</a:t>
                </a:r>
                <a:r>
                  <a:rPr b="1" lang="en-US" sz="1600" spc="-1" strike="noStrike" baseline="-25000">
                    <a:solidFill>
                      <a:srgbClr val="fafd00"/>
                    </a:solidFill>
                    <a:latin typeface="Arial"/>
                  </a:rPr>
                  <a:t> </a:t>
                </a:r>
                <a:endParaRPr b="1" lang="en-US" sz="16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311" name="Line 22"/>
              <p:cNvSpPr/>
              <p:nvPr/>
            </p:nvSpPr>
            <p:spPr>
              <a:xfrm>
                <a:off x="7951680" y="4094280"/>
                <a:ext cx="0" cy="230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312" name="Text Box 23"/>
            <p:cNvSpPr/>
            <p:nvPr/>
          </p:nvSpPr>
          <p:spPr>
            <a:xfrm>
              <a:off x="7080120" y="2649600"/>
              <a:ext cx="611280" cy="17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</a:t>
              </a:r>
              <a:r>
                <a:rPr b="1" lang="en-US" sz="1400" spc="-1" strike="noStrike" baseline="-25000">
                  <a:solidFill>
                    <a:srgbClr val="fafd00"/>
                  </a:solidFill>
                  <a:latin typeface="Arial"/>
                </a:rPr>
                <a:t>tot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</a:t>
              </a:r>
              <a:r>
                <a:rPr b="1" lang="en-US" sz="14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</a:t>
              </a:r>
              <a:r>
                <a:rPr b="1" lang="en-US" sz="14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313" name="Text Box 24"/>
          <p:cNvSpPr/>
          <p:nvPr/>
        </p:nvSpPr>
        <p:spPr>
          <a:xfrm>
            <a:off x="7696080" y="652320"/>
            <a:ext cx="844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14" name="Text Box 25"/>
          <p:cNvSpPr/>
          <p:nvPr/>
        </p:nvSpPr>
        <p:spPr>
          <a:xfrm>
            <a:off x="474840" y="1558800"/>
            <a:ext cx="84312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sume the systems are large (N &gt;&gt; 1), so that we can take derivatives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culate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y maximizing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s we vary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keeping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+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507960" y="2697120"/>
          <a:ext cx="3510000" cy="299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960" y="2697120"/>
                    <a:ext cx="3510000" cy="29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"/>
          <p:cNvSpPr/>
          <p:nvPr/>
        </p:nvSpPr>
        <p:spPr>
          <a:xfrm>
            <a:off x="2214720" y="4768920"/>
            <a:ext cx="1879560" cy="971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98360" y="5902200"/>
            <a:ext cx="3521160" cy="9464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 are holding V constant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at’s the reason for the partial derivative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is a function of both U and V.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2"/>
          <p:cNvSpPr/>
          <p:nvPr/>
        </p:nvSpPr>
        <p:spPr>
          <a:xfrm>
            <a:off x="1405080" y="2296080"/>
            <a:ext cx="61563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ing microstates of combined systems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exchange between systems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ition of Entropy and its role in equilibrium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998640" y="63360"/>
            <a:ext cx="71625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st Time</a:t>
            </a:r>
            <a:endParaRPr b="1" lang="en-US" sz="4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7320" y="60120"/>
            <a:ext cx="8827920" cy="82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eneral Definition of Temperat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0440" y="968400"/>
            <a:ext cx="8834400" cy="374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et’s use the energy sharing result to write a more general definition of temperatur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does not assume equipartition which (as we’ll see soon) is not always valid.  Recall that equipartition is needed for the ideal gas law, pV = NkT, so the new definition will free us from relying on ideal gases to measure tempera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 with the energy sharing result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thermal equilibriu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fine the absolute temperature 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definition,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equilibrium.  That’s nice, but to be useful it must give other results that we all know and love.  For exampl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ut of equilibrium, heat flows from hot to col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nder everyday conditions (large objects, not near absolute zero) we have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ipartition of energy: U = ½kT for each energy mo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4030560" y="3157560"/>
          <a:ext cx="1687680" cy="93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0560" y="3157560"/>
                    <a:ext cx="1687680" cy="93960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25" name=""/>
          <p:cNvGraphicFramePr/>
          <p:nvPr/>
        </p:nvGraphicFramePr>
        <p:xfrm>
          <a:off x="6467400" y="2522520"/>
          <a:ext cx="1263600" cy="71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67400" y="2522520"/>
                    <a:ext cx="12636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</a:t>
            </a: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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and 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51544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previously saw that for a large collection of harmonic oscillators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-1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~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, so that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ln U + const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s shown 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ich point corresponds to a higher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5458680" y="1252440"/>
            <a:ext cx="3603960" cy="1675080"/>
            <a:chOff x="5458680" y="1252440"/>
            <a:chExt cx="3603960" cy="1675080"/>
          </a:xfrm>
        </p:grpSpPr>
        <p:sp>
          <p:nvSpPr>
            <p:cNvPr id="330" name="Freeform 11"/>
            <p:cNvSpPr/>
            <p:nvPr/>
          </p:nvSpPr>
          <p:spPr>
            <a:xfrm>
              <a:off x="5950080" y="1796760"/>
              <a:ext cx="2514600" cy="91440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331" name="Group 23"/>
            <p:cNvGrpSpPr/>
            <p:nvPr/>
          </p:nvGrpSpPr>
          <p:grpSpPr>
            <a:xfrm>
              <a:off x="5458680" y="1252440"/>
              <a:ext cx="3603960" cy="1675080"/>
              <a:chOff x="5458680" y="1252440"/>
              <a:chExt cx="3603960" cy="1675080"/>
            </a:xfrm>
          </p:grpSpPr>
          <p:sp>
            <p:nvSpPr>
              <p:cNvPr id="332" name="Line 24"/>
              <p:cNvSpPr/>
              <p:nvPr/>
            </p:nvSpPr>
            <p:spPr>
              <a:xfrm flipV="1">
                <a:off x="5874120" y="1391760"/>
                <a:ext cx="0" cy="1369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333" name="Line 25"/>
              <p:cNvSpPr/>
              <p:nvPr/>
            </p:nvSpPr>
            <p:spPr>
              <a:xfrm>
                <a:off x="5874120" y="2761920"/>
                <a:ext cx="2971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334" name="Text Box 26"/>
              <p:cNvSpPr/>
              <p:nvPr/>
            </p:nvSpPr>
            <p:spPr>
              <a:xfrm>
                <a:off x="8717400" y="255924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335" name="Text Box 27"/>
              <p:cNvSpPr/>
              <p:nvPr/>
            </p:nvSpPr>
            <p:spPr>
              <a:xfrm>
                <a:off x="5458680" y="1252440"/>
                <a:ext cx="334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</a:t>
                </a: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336" name=""/>
          <p:cNvSpPr/>
          <p:nvPr/>
        </p:nvSpPr>
        <p:spPr>
          <a:xfrm>
            <a:off x="5994360" y="2990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767720" y="3044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6183360" y="2579760"/>
            <a:ext cx="0" cy="425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H="1" flipV="1">
            <a:off x="7912080" y="2157120"/>
            <a:ext cx="1440" cy="912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Heat Flow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82468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e entropies of two system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rmal contact.  System 1 starts with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ern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direction will energy flow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1 to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to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no flo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ystem has a higher initial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equal temperatu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5359320" y="1038240"/>
            <a:ext cx="3681360" cy="2944440"/>
            <a:chOff x="5359320" y="1038240"/>
            <a:chExt cx="3681360" cy="2944440"/>
          </a:xfrm>
        </p:grpSpPr>
        <p:grpSp>
          <p:nvGrpSpPr>
            <p:cNvPr id="343" name="Group 7"/>
            <p:cNvGrpSpPr/>
            <p:nvPr/>
          </p:nvGrpSpPr>
          <p:grpSpPr>
            <a:xfrm>
              <a:off x="5359320" y="1038240"/>
              <a:ext cx="3681360" cy="2867760"/>
              <a:chOff x="5359320" y="1038240"/>
              <a:chExt cx="3681360" cy="2867760"/>
            </a:xfrm>
          </p:grpSpPr>
          <p:sp>
            <p:nvSpPr>
              <p:cNvPr id="344" name="Line 8"/>
              <p:cNvSpPr/>
              <p:nvPr/>
            </p:nvSpPr>
            <p:spPr>
              <a:xfrm flipV="1">
                <a:off x="8364240" y="1255680"/>
                <a:ext cx="0" cy="2133360"/>
              </a:xfrm>
              <a:prstGeom prst="line">
                <a:avLst/>
              </a:prstGeom>
              <a:ln w="12600">
                <a:solidFill>
                  <a:srgbClr val="808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345" name="Line 9"/>
              <p:cNvSpPr/>
              <p:nvPr/>
            </p:nvSpPr>
            <p:spPr>
              <a:xfrm flipV="1">
                <a:off x="7412040" y="1331280"/>
                <a:ext cx="0" cy="2057400"/>
              </a:xfrm>
              <a:prstGeom prst="line">
                <a:avLst/>
              </a:prstGeom>
              <a:ln w="12600">
                <a:solidFill>
                  <a:srgbClr val="ff0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346" name="Group 10"/>
              <p:cNvGrpSpPr/>
              <p:nvPr/>
            </p:nvGrpSpPr>
            <p:grpSpPr>
              <a:xfrm>
                <a:off x="5849640" y="1636560"/>
                <a:ext cx="2514240" cy="1752480"/>
                <a:chOff x="5849640" y="1636560"/>
                <a:chExt cx="2514240" cy="1752480"/>
              </a:xfrm>
            </p:grpSpPr>
            <p:sp>
              <p:nvSpPr>
                <p:cNvPr id="347" name="Freeform 11"/>
                <p:cNvSpPr/>
                <p:nvPr/>
              </p:nvSpPr>
              <p:spPr>
                <a:xfrm>
                  <a:off x="5849640" y="2474640"/>
                  <a:ext cx="2514240" cy="914400"/>
                </a:xfrm>
                <a:prstGeom prst="pie">
                  <a:avLst/>
                </a:pr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48" name="Freeform 12"/>
                <p:cNvSpPr/>
                <p:nvPr/>
              </p:nvSpPr>
              <p:spPr>
                <a:xfrm>
                  <a:off x="5849640" y="1636560"/>
                  <a:ext cx="2514240" cy="1752480"/>
                </a:xfrm>
                <a:prstGeom prst="pie">
                  <a:avLst/>
                </a:prstGeom>
                <a:noFill/>
                <a:ln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49" name="Oval 13"/>
                <p:cNvSpPr/>
                <p:nvPr/>
              </p:nvSpPr>
              <p:spPr>
                <a:xfrm>
                  <a:off x="6459120" y="17888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50" name="Oval 14"/>
                <p:cNvSpPr/>
                <p:nvPr/>
              </p:nvSpPr>
              <p:spPr>
                <a:xfrm>
                  <a:off x="6459120" y="277956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51" name="Text Box 15"/>
                <p:cNvSpPr/>
                <p:nvPr/>
              </p:nvSpPr>
              <p:spPr>
                <a:xfrm>
                  <a:off x="5925600" y="1712880"/>
                  <a:ext cx="761760" cy="136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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2" name="Group 16"/>
              <p:cNvGrpSpPr/>
              <p:nvPr/>
            </p:nvGrpSpPr>
            <p:grpSpPr>
              <a:xfrm>
                <a:off x="5849640" y="1265040"/>
                <a:ext cx="2514240" cy="2276640"/>
                <a:chOff x="5849640" y="1265040"/>
                <a:chExt cx="2514240" cy="2276640"/>
              </a:xfrm>
            </p:grpSpPr>
            <p:sp>
              <p:nvSpPr>
                <p:cNvPr id="353" name="Freeform 17"/>
                <p:cNvSpPr/>
                <p:nvPr/>
              </p:nvSpPr>
              <p:spPr>
                <a:xfrm>
                  <a:off x="5849640" y="1407960"/>
                  <a:ext cx="2514240" cy="1079640"/>
                </a:xfrm>
                <a:prstGeom prst="pie">
                  <a:avLst/>
                </a:prstGeom>
                <a:noFill/>
                <a:ln w="255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54" name="Oval 18"/>
                <p:cNvSpPr/>
                <p:nvPr/>
              </p:nvSpPr>
              <p:spPr>
                <a:xfrm>
                  <a:off x="6459120" y="13316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55" name="Line 19"/>
                <p:cNvSpPr/>
                <p:nvPr/>
              </p:nvSpPr>
              <p:spPr>
                <a:xfrm>
                  <a:off x="6535080" y="3313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56" name="Text Box 20"/>
                <p:cNvSpPr/>
                <p:nvPr/>
              </p:nvSpPr>
              <p:spPr>
                <a:xfrm>
                  <a:off x="7297200" y="1265040"/>
                  <a:ext cx="9903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</a:t>
                  </a: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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7" name="Text Box 21"/>
              <p:cNvSpPr/>
              <p:nvPr/>
            </p:nvSpPr>
            <p:spPr>
              <a:xfrm>
                <a:off x="7243560" y="3500280"/>
                <a:ext cx="5266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1i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358" name="Text Box 22"/>
              <p:cNvSpPr/>
              <p:nvPr/>
            </p:nvSpPr>
            <p:spPr>
              <a:xfrm>
                <a:off x="8101800" y="3490920"/>
                <a:ext cx="491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359" name="Group 23"/>
              <p:cNvGrpSpPr/>
              <p:nvPr/>
            </p:nvGrpSpPr>
            <p:grpSpPr>
              <a:xfrm>
                <a:off x="5359320" y="1038240"/>
                <a:ext cx="3681360" cy="2439000"/>
                <a:chOff x="5359320" y="1038240"/>
                <a:chExt cx="3681360" cy="2439000"/>
              </a:xfrm>
            </p:grpSpPr>
            <p:sp>
              <p:nvSpPr>
                <p:cNvPr id="360" name="Line 24"/>
                <p:cNvSpPr/>
                <p:nvPr/>
              </p:nvSpPr>
              <p:spPr>
                <a:xfrm flipV="1">
                  <a:off x="5773680" y="1255320"/>
                  <a:ext cx="0" cy="2133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61" name="Line 25"/>
                <p:cNvSpPr/>
                <p:nvPr/>
              </p:nvSpPr>
              <p:spPr>
                <a:xfrm>
                  <a:off x="5773680" y="3389040"/>
                  <a:ext cx="2971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62" name="Text Box 26"/>
                <p:cNvSpPr/>
                <p:nvPr/>
              </p:nvSpPr>
              <p:spPr>
                <a:xfrm>
                  <a:off x="8622360" y="3071520"/>
                  <a:ext cx="4183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63" name="Text Box 27"/>
                <p:cNvSpPr/>
                <p:nvPr/>
              </p:nvSpPr>
              <p:spPr>
                <a:xfrm>
                  <a:off x="5359320" y="1038240"/>
                  <a:ext cx="334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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4" name="Text Box 31"/>
            <p:cNvSpPr/>
            <p:nvPr/>
          </p:nvSpPr>
          <p:spPr>
            <a:xfrm>
              <a:off x="6291000" y="3576960"/>
              <a:ext cx="491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eq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63680" y="63360"/>
            <a:ext cx="8208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y Heat Flow from Hot to Cold Is Irreversibl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8" name="Text Box 3"/>
          <p:cNvSpPr/>
          <p:nvPr/>
        </p:nvSpPr>
        <p:spPr>
          <a:xfrm>
            <a:off x="169920" y="3193920"/>
            <a:ext cx="626580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olated systems evolve toward the macrostate that has maximum total entropy (maximum probability)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most all the probability is very near to the equilibrium macrostate, so once equilibrium is reached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t is very unlikely that the system will go         anywhere else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97000" y="5689440"/>
            <a:ext cx="499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age of the universe is short compared to how long you’d have to wait for the energy to re-separate!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70" name="Text Box 3"/>
          <p:cNvSpPr/>
          <p:nvPr/>
        </p:nvSpPr>
        <p:spPr>
          <a:xfrm>
            <a:off x="304920" y="149076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prepare an isolated system out of equilibrium,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71" name="Text Box 4"/>
          <p:cNvSpPr/>
          <p:nvPr/>
        </p:nvSpPr>
        <p:spPr>
          <a:xfrm>
            <a:off x="347760" y="212256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ystem will irreversibly adjust itself to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372" name="Group 7"/>
          <p:cNvGrpSpPr/>
          <p:nvPr/>
        </p:nvGrpSpPr>
        <p:grpSpPr>
          <a:xfrm>
            <a:off x="6423120" y="1425600"/>
            <a:ext cx="1371600" cy="380880"/>
            <a:chOff x="6423120" y="1425600"/>
            <a:chExt cx="1371600" cy="380880"/>
          </a:xfrm>
        </p:grpSpPr>
        <p:sp>
          <p:nvSpPr>
            <p:cNvPr id="373" name="Rectangle 8"/>
            <p:cNvSpPr/>
            <p:nvPr/>
          </p:nvSpPr>
          <p:spPr>
            <a:xfrm>
              <a:off x="6423120" y="1425600"/>
              <a:ext cx="685800" cy="38088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374" name="Rectangle 9"/>
            <p:cNvSpPr/>
            <p:nvPr/>
          </p:nvSpPr>
          <p:spPr>
            <a:xfrm>
              <a:off x="7108920" y="1425600"/>
              <a:ext cx="685800" cy="3808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375" name="Text Box 10"/>
          <p:cNvSpPr/>
          <p:nvPr/>
        </p:nvSpPr>
        <p:spPr>
          <a:xfrm>
            <a:off x="6575400" y="1882800"/>
            <a:ext cx="12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1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&gt;   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76" name="Text Box 11"/>
          <p:cNvSpPr/>
          <p:nvPr/>
        </p:nvSpPr>
        <p:spPr>
          <a:xfrm>
            <a:off x="5361120" y="2676600"/>
            <a:ext cx="12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1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=   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377" name="Group 12"/>
          <p:cNvGrpSpPr/>
          <p:nvPr/>
        </p:nvGrpSpPr>
        <p:grpSpPr>
          <a:xfrm>
            <a:off x="5208480" y="2219400"/>
            <a:ext cx="1371600" cy="380880"/>
            <a:chOff x="5208480" y="2219400"/>
            <a:chExt cx="1371600" cy="380880"/>
          </a:xfrm>
        </p:grpSpPr>
        <p:sp>
          <p:nvSpPr>
            <p:cNvPr id="378" name="Rectangle 13"/>
            <p:cNvSpPr/>
            <p:nvPr/>
          </p:nvSpPr>
          <p:spPr>
            <a:xfrm>
              <a:off x="5208480" y="2219400"/>
              <a:ext cx="685800" cy="38088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379" name="Rectangle 14"/>
            <p:cNvSpPr/>
            <p:nvPr/>
          </p:nvSpPr>
          <p:spPr>
            <a:xfrm>
              <a:off x="5894280" y="2219400"/>
              <a:ext cx="685800" cy="3808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6108840" y="3979800"/>
            <a:ext cx="3035160" cy="23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09280" y="63360"/>
            <a:ext cx="7497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at about Equipartition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20640" y="752400"/>
            <a:ext cx="8244000" cy="13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9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ipartition holds for everyday phenomena.  In this situation, U &gt;&gt;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is, each oscillator (atom, or something similar) has many energy quanta, because q = U/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&gt; 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arge objects also have N &gt;&gt; 1:  N-1 ~ N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We don’t actually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e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is approximation, but it makes the math simpler, since &lt;U&gt;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most likel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ant to verify that our new definition of temperature agrees with the usual one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which is based on the ideal gas law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 the everyday regim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n particular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ant to verify that equipartition hold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in which case the ideal gas formulas for specific heat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will work out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consider harmonic oscillator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we know how to do the calculation.  Recall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6200640" y="4386240"/>
          <a:ext cx="2336760" cy="62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00640" y="4386240"/>
                    <a:ext cx="2336760" cy="6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5" name=""/>
          <p:cNvGraphicFramePr/>
          <p:nvPr/>
        </p:nvGraphicFramePr>
        <p:xfrm>
          <a:off x="1879560" y="5068800"/>
          <a:ext cx="2941560" cy="79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79560" y="5068800"/>
                    <a:ext cx="294156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7" name=""/>
          <p:cNvSpPr/>
          <p:nvPr/>
        </p:nvSpPr>
        <p:spPr>
          <a:xfrm>
            <a:off x="7156800" y="4013280"/>
            <a:ext cx="1825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Using the above approximations</a:t>
            </a:r>
            <a:endParaRPr b="1" lang="en-US" sz="9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8126280" y="4221000"/>
            <a:ext cx="0" cy="37332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639880" y="5440320"/>
            <a:ext cx="1351080" cy="401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591440" y="6084720"/>
            <a:ext cx="1441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The constant contains 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(among other things) 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the volume dependence.</a:t>
            </a:r>
            <a:endParaRPr b="1" lang="en-US" sz="9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664160" y="5845320"/>
            <a:ext cx="1658880" cy="8460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H="1" flipV="1">
            <a:off x="4647960" y="5773680"/>
            <a:ext cx="153720" cy="22248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6473880" y="5105520"/>
            <a:ext cx="2304720" cy="1206000"/>
            <a:chOff x="6473880" y="5105520"/>
            <a:chExt cx="2304720" cy="1206000"/>
          </a:xfrm>
        </p:grpSpPr>
        <p:sp>
          <p:nvSpPr>
            <p:cNvPr id="394" name="Arc 7"/>
            <p:cNvSpPr/>
            <p:nvPr/>
          </p:nvSpPr>
          <p:spPr>
            <a:xfrm flipH="1">
              <a:off x="6500880" y="5425920"/>
              <a:ext cx="2201760" cy="88560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395" name="Line 8"/>
            <p:cNvSpPr/>
            <p:nvPr/>
          </p:nvSpPr>
          <p:spPr>
            <a:xfrm flipV="1">
              <a:off x="6473880" y="6297120"/>
              <a:ext cx="2192400" cy="14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396" name="Line 9"/>
            <p:cNvSpPr/>
            <p:nvPr/>
          </p:nvSpPr>
          <p:spPr>
            <a:xfrm flipV="1">
              <a:off x="6473880" y="5236560"/>
              <a:ext cx="0" cy="104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397" name="Text Box 10"/>
            <p:cNvSpPr/>
            <p:nvPr/>
          </p:nvSpPr>
          <p:spPr>
            <a:xfrm>
              <a:off x="6483600" y="510552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398" name="Text Box 11"/>
            <p:cNvSpPr/>
            <p:nvPr/>
          </p:nvSpPr>
          <p:spPr>
            <a:xfrm>
              <a:off x="8469720" y="600048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09280" y="63360"/>
            <a:ext cx="7497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quipartition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20640" y="1319040"/>
            <a:ext cx="7950240" cy="13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5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w calculate the temperature of N oscillators that have internal energy U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u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Nk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Equipartition holds if q &gt;&gt; 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’s a more practical way to write the q &gt;&gt; N condi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 = q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&gt;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r U/N &gt;&g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Therefore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kT = U/N &gt;&g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quipartition holds if the thermal energy, kT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 much larger than the energy spacing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ipartition fails at low temperature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study this phenomenon la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1833480" y="1758960"/>
          <a:ext cx="3529080" cy="5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3480" y="1758960"/>
                    <a:ext cx="352908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"/>
          <p:cNvSpPr/>
          <p:nvPr/>
        </p:nvSpPr>
        <p:spPr>
          <a:xfrm>
            <a:off x="6469200" y="1963800"/>
            <a:ext cx="233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constant doesn’t depend on U, so its   partial derivative is zero.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23880" y="4633920"/>
            <a:ext cx="4762440" cy="639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09280" y="63360"/>
            <a:ext cx="7497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Week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02880" y="2019240"/>
            <a:ext cx="5932440" cy="13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Boltzmann factor (and application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when equipartition fail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1360" y="60120"/>
            <a:ext cx="7729200" cy="129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Quick Review: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Scope of Thermodynamic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539360"/>
            <a:ext cx="8169480" cy="4179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lated syste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an explore some number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of microstates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microstates are equally likel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that you observ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crostat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 is: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</a:t>
            </a:r>
            <a:br>
              <a:rPr sz="1800"/>
            </a:b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fraction of all the microstates that look like 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entropy of a system is ln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er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ounts all possible state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fore,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proportional to e</a:t>
            </a:r>
            <a:r>
              <a:rPr b="0" lang="en-US" sz="1800" spc="-1" strike="noStrike" baseline="30000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400" spc="-1" strike="noStrike" baseline="10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inc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ln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 a big system, the entropy of the most likely macrostate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 not much less than the total entropy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pin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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ln(2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400" spc="-1" strike="noStrike" baseline="6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=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ln(2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693147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400" spc="-1" strike="noStrike" baseline="-12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 up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ln(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! / 5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! 5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!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69314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27040" y="5664240"/>
            <a:ext cx="796608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modynamics applies to systems that are big enough so that this is true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2800" y="6256440"/>
            <a:ext cx="89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at is the probability that in a system of 10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spins, exactly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will be pointing up?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7047000" y="3875040"/>
          <a:ext cx="73476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7000" y="3875040"/>
                    <a:ext cx="73476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8" name=""/>
          <p:cNvGrpSpPr/>
          <p:nvPr/>
        </p:nvGrpSpPr>
        <p:grpSpPr>
          <a:xfrm>
            <a:off x="831960" y="934920"/>
            <a:ext cx="7388280" cy="1009440"/>
            <a:chOff x="831960" y="934920"/>
            <a:chExt cx="7388280" cy="1009440"/>
          </a:xfrm>
        </p:grpSpPr>
        <p:graphicFrame>
          <p:nvGraphicFramePr>
            <p:cNvPr id="59" name=""/>
            <p:cNvGraphicFramePr/>
            <p:nvPr/>
          </p:nvGraphicFramePr>
          <p:xfrm>
            <a:off x="6974280" y="1088640"/>
            <a:ext cx="1042920" cy="693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974280" y="1088640"/>
                      <a:ext cx="1042920" cy="693720"/>
                    </a:xfrm>
                    <a:prstGeom prst="rect">
                      <a:avLst/>
                    </a:prstGeom>
                    <a:ln w="936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1" name="Rectangle 6"/>
            <p:cNvSpPr/>
            <p:nvPr/>
          </p:nvSpPr>
          <p:spPr>
            <a:xfrm>
              <a:off x="1043280" y="1120680"/>
              <a:ext cx="6059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The Entropy of an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solated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system can only increase </a:t>
              </a:r>
              <a:br>
                <a:rPr sz="1800"/>
              </a:b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(or remain constant) as a function of time.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62" name="Rectangle 7"/>
            <p:cNvSpPr/>
            <p:nvPr/>
          </p:nvSpPr>
          <p:spPr>
            <a:xfrm>
              <a:off x="831960" y="934920"/>
              <a:ext cx="7388280" cy="10094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60120"/>
            <a:ext cx="86076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The Second Law of Thermodynamic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492120" y="2160720"/>
            <a:ext cx="7551720" cy="43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consequence of  probability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acroscopic systems have very sharply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eaked probability distribution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much sharper than shown here)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x is initially far from its most likely position, x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, then it will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volve towards x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where most of the microstates are)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x is initially near its most likely position, x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, then it will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ain there.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has its maximum value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l availabl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crost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re equally likely, but in big system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vast majority of them correspond to very simila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crost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bout 50% spin up)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4714560" y="2039400"/>
            <a:ext cx="4324680" cy="1530720"/>
            <a:chOff x="4714560" y="2039400"/>
            <a:chExt cx="4324680" cy="1530720"/>
          </a:xfrm>
        </p:grpSpPr>
        <p:sp>
          <p:nvSpPr>
            <p:cNvPr id="66" name="Text Box 17"/>
            <p:cNvSpPr/>
            <p:nvPr/>
          </p:nvSpPr>
          <p:spPr>
            <a:xfrm>
              <a:off x="7051680" y="2698200"/>
              <a:ext cx="1987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Macroscopic quantity, x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e.g., position of partition)</a:t>
              </a:r>
              <a:endParaRPr b="1" lang="en-US" sz="12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4714560" y="2039400"/>
              <a:ext cx="3026160" cy="1530720"/>
              <a:chOff x="4714560" y="2039400"/>
              <a:chExt cx="3026160" cy="1530720"/>
            </a:xfrm>
          </p:grpSpPr>
          <p:sp>
            <p:nvSpPr>
              <p:cNvPr id="68" name="Text Box 11"/>
              <p:cNvSpPr/>
              <p:nvPr/>
            </p:nvSpPr>
            <p:spPr>
              <a:xfrm>
                <a:off x="6387840" y="3199320"/>
                <a:ext cx="3952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1" lang="en-US" sz="16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69" name="Group 12"/>
              <p:cNvGrpSpPr/>
              <p:nvPr/>
            </p:nvGrpSpPr>
            <p:grpSpPr>
              <a:xfrm>
                <a:off x="5394240" y="2185560"/>
                <a:ext cx="2346480" cy="1057680"/>
                <a:chOff x="5394240" y="2185560"/>
                <a:chExt cx="2346480" cy="1057680"/>
              </a:xfrm>
            </p:grpSpPr>
            <p:sp>
              <p:nvSpPr>
                <p:cNvPr id="70" name="Line 13"/>
                <p:cNvSpPr/>
                <p:nvPr/>
              </p:nvSpPr>
              <p:spPr>
                <a:xfrm flipV="1">
                  <a:off x="5394240" y="2185560"/>
                  <a:ext cx="0" cy="10573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1" name="Line 14"/>
                <p:cNvSpPr/>
                <p:nvPr/>
              </p:nvSpPr>
              <p:spPr>
                <a:xfrm>
                  <a:off x="5394240" y="3243240"/>
                  <a:ext cx="23464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15"/>
                <p:cNvSpPr/>
                <p:nvPr/>
              </p:nvSpPr>
              <p:spPr>
                <a:xfrm>
                  <a:off x="6203160" y="2224080"/>
                  <a:ext cx="649440" cy="1019160"/>
                </a:xfrm>
                <a:prstGeom prst="pie">
                  <a:avLst/>
                </a:pr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" name="Text Box 16"/>
              <p:cNvSpPr/>
              <p:nvPr/>
            </p:nvSpPr>
            <p:spPr>
              <a:xfrm>
                <a:off x="4714560" y="2039400"/>
                <a:ext cx="656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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(or 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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</a:t>
                </a:r>
                <a:endParaRPr b="1" lang="en-US" sz="14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4" name="Line 18"/>
              <p:cNvSpPr/>
              <p:nvPr/>
            </p:nvSpPr>
            <p:spPr>
              <a:xfrm>
                <a:off x="6540480" y="3191040"/>
                <a:ext cx="0" cy="106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75" name=""/>
          <p:cNvGraphicFramePr/>
          <p:nvPr/>
        </p:nvGraphicFramePr>
        <p:xfrm>
          <a:off x="7072200" y="4673520"/>
          <a:ext cx="708120" cy="560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72200" y="4673520"/>
                    <a:ext cx="70812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581040" y="5400720"/>
            <a:ext cx="684540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38120" y="63000"/>
            <a:ext cx="8221680" cy="72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ssons from Volume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6292800" cy="484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 learned last lecture: 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n the system consists of independent part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number of states of the whole was the product of the number of states of the par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define entropy to be the ln(# microstate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a big system in equilibrium we almost certainly se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macrostate that maximize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or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determine equilibrium, maximize the total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maximizing the sum of the entropies of the part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the parts can exchange volum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equilibrium each part must have the sam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rivative of its entropy with respect to its volu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ffcc"/>
                </a:solidFill>
                <a:latin typeface="Arial"/>
              </a:rPr>
              <a:t>This argument doesn’t rely on the parts </a:t>
            </a:r>
            <a:br>
              <a:rPr sz="1800"/>
            </a:br>
            <a:r>
              <a:rPr b="1" i="1" lang="en-US" sz="1800" spc="-1" strike="noStrike">
                <a:solidFill>
                  <a:srgbClr val="00ffcc"/>
                </a:solidFill>
                <a:latin typeface="Arial"/>
              </a:rPr>
              <a:t>being the same (or even similar)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use the same principle for systems tha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change ENER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6883560" y="1862280"/>
          <a:ext cx="1522080" cy="111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83560" y="1862280"/>
                    <a:ext cx="1522080" cy="111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6199200" y="4325760"/>
          <a:ext cx="2540160" cy="95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99200" y="4325760"/>
                    <a:ext cx="2540160" cy="95256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6211800" y="5607000"/>
          <a:ext cx="2540160" cy="952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11800" y="5607000"/>
                    <a:ext cx="2540160" cy="95256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5760" y="63360"/>
            <a:ext cx="8758080" cy="98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Model System for Energy Exchange:</a:t>
            </a:r>
            <a:br>
              <a:rPr sz="36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Simple Harmonic Oscillator (SHO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0440" y="1285560"/>
            <a:ext cx="823752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7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make the mathematics simple we use a system with discrete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ally-spaced energy levels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ε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re n = 1,2,3 … (quantum #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se are the energy levels for a mass on a spr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system was studied in P214.  All you need to know i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ergy level formula (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HO is an exact description of photons, and a very good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scription of vibrations of atoms in solids (= “phonons”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r notation convention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 = energy of a single oscillato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internal energy of a multi-oscillator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941400" y="2387520"/>
            <a:ext cx="5729400" cy="932400"/>
            <a:chOff x="941400" y="2387520"/>
            <a:chExt cx="5729400" cy="932400"/>
          </a:xfrm>
        </p:grpSpPr>
        <p:grpSp>
          <p:nvGrpSpPr>
            <p:cNvPr id="89" name="Group 15"/>
            <p:cNvGrpSpPr/>
            <p:nvPr/>
          </p:nvGrpSpPr>
          <p:grpSpPr>
            <a:xfrm>
              <a:off x="941400" y="2387520"/>
              <a:ext cx="1676520" cy="932400"/>
              <a:chOff x="941400" y="2387520"/>
              <a:chExt cx="1676520" cy="932400"/>
            </a:xfrm>
          </p:grpSpPr>
          <p:grpSp>
            <p:nvGrpSpPr>
              <p:cNvPr id="90" name="Group 16"/>
              <p:cNvGrpSpPr/>
              <p:nvPr/>
            </p:nvGrpSpPr>
            <p:grpSpPr>
              <a:xfrm>
                <a:off x="941400" y="2387520"/>
                <a:ext cx="1676520" cy="914400"/>
                <a:chOff x="941400" y="2387520"/>
                <a:chExt cx="1676520" cy="914400"/>
              </a:xfrm>
            </p:grpSpPr>
            <p:grpSp>
              <p:nvGrpSpPr>
                <p:cNvPr id="91" name="Group 17"/>
                <p:cNvGrpSpPr/>
                <p:nvPr/>
              </p:nvGrpSpPr>
              <p:grpSpPr>
                <a:xfrm>
                  <a:off x="2237040" y="2616120"/>
                  <a:ext cx="380880" cy="381240"/>
                  <a:chOff x="2237040" y="2616120"/>
                  <a:chExt cx="380880" cy="381240"/>
                </a:xfrm>
              </p:grpSpPr>
              <p:sp>
                <p:nvSpPr>
                  <p:cNvPr id="92" name="Rectangle 18"/>
                  <p:cNvSpPr/>
                  <p:nvPr/>
                </p:nvSpPr>
                <p:spPr>
                  <a:xfrm>
                    <a:off x="2237040" y="2616120"/>
                    <a:ext cx="380880" cy="3812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Text Box 19"/>
                  <p:cNvSpPr/>
                  <p:nvPr/>
                </p:nvSpPr>
                <p:spPr>
                  <a:xfrm>
                    <a:off x="2237040" y="2616120"/>
                    <a:ext cx="3808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285840" indent="-285840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m</a:t>
                    </a:r>
                    <a:endParaRPr b="1" lang="en-US" sz="18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4" name="Freeform 20"/>
                <p:cNvSpPr/>
                <p:nvPr/>
              </p:nvSpPr>
              <p:spPr>
                <a:xfrm>
                  <a:off x="1094040" y="2603520"/>
                  <a:ext cx="1143000" cy="406440"/>
                </a:xfrm>
                <a:prstGeom prst="pie">
                  <a:avLst/>
                </a:prstGeom>
                <a:noFill/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5" name="Line 21"/>
                <p:cNvSpPr/>
                <p:nvPr/>
              </p:nvSpPr>
              <p:spPr>
                <a:xfrm>
                  <a:off x="1094040" y="2387520"/>
                  <a:ext cx="0" cy="9144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6" name="Line 22"/>
                <p:cNvSpPr/>
                <p:nvPr/>
              </p:nvSpPr>
              <p:spPr>
                <a:xfrm flipH="1">
                  <a:off x="941400" y="24638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7" name="Line 23"/>
                <p:cNvSpPr/>
                <p:nvPr/>
              </p:nvSpPr>
              <p:spPr>
                <a:xfrm flipH="1">
                  <a:off x="941400" y="29210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8" name="Line 24"/>
                <p:cNvSpPr/>
                <p:nvPr/>
              </p:nvSpPr>
              <p:spPr>
                <a:xfrm flipH="1">
                  <a:off x="941400" y="26924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9" name="Line 25"/>
                <p:cNvSpPr/>
                <p:nvPr/>
              </p:nvSpPr>
              <p:spPr>
                <a:xfrm flipH="1">
                  <a:off x="941400" y="31496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" name="Text Box 26"/>
              <p:cNvSpPr/>
              <p:nvPr/>
            </p:nvSpPr>
            <p:spPr>
              <a:xfrm>
                <a:off x="1474920" y="292104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</a:t>
                </a: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graphicFrame>
          <p:nvGraphicFramePr>
            <p:cNvPr id="101" name=""/>
            <p:cNvGraphicFramePr/>
            <p:nvPr/>
          </p:nvGraphicFramePr>
          <p:xfrm>
            <a:off x="2745000" y="2566800"/>
            <a:ext cx="3925800" cy="518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45000" y="2566800"/>
                      <a:ext cx="3925800" cy="51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3" name="Text Box 31"/>
          <p:cNvSpPr/>
          <p:nvPr/>
        </p:nvSpPr>
        <p:spPr>
          <a:xfrm>
            <a:off x="7522560" y="3693960"/>
            <a:ext cx="16621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ote to 214 folks: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e drop the 0.5</a:t>
            </a:r>
            <a:r>
              <a:rPr b="0" lang="en-US" sz="1400" spc="-1" strike="noStrike">
                <a:solidFill>
                  <a:srgbClr val="00ffcc"/>
                </a:solidFill>
                <a:latin typeface="Symbol"/>
                <a:ea typeface="Symbol"/>
              </a:rPr>
              <a:t>ε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for convenience,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ince only energy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differences matter.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8118720" y="1370160"/>
            <a:ext cx="669240" cy="2189520"/>
            <a:chOff x="8118720" y="1370160"/>
            <a:chExt cx="669240" cy="2189520"/>
          </a:xfrm>
        </p:grpSpPr>
        <p:sp>
          <p:nvSpPr>
            <p:cNvPr id="105" name="Line 7"/>
            <p:cNvSpPr/>
            <p:nvPr/>
          </p:nvSpPr>
          <p:spPr>
            <a:xfrm>
              <a:off x="8483400" y="307008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6" name="Line 8"/>
            <p:cNvSpPr/>
            <p:nvPr/>
          </p:nvSpPr>
          <p:spPr>
            <a:xfrm>
              <a:off x="8483400" y="345132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7" name="Line 9"/>
            <p:cNvSpPr/>
            <p:nvPr/>
          </p:nvSpPr>
          <p:spPr>
            <a:xfrm>
              <a:off x="8483400" y="268920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8" name="Line 10"/>
            <p:cNvSpPr/>
            <p:nvPr/>
          </p:nvSpPr>
          <p:spPr>
            <a:xfrm>
              <a:off x="8483400" y="192708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9" name="Line 11"/>
            <p:cNvSpPr/>
            <p:nvPr/>
          </p:nvSpPr>
          <p:spPr>
            <a:xfrm>
              <a:off x="8483400" y="230832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10" name="Line 12"/>
            <p:cNvSpPr/>
            <p:nvPr/>
          </p:nvSpPr>
          <p:spPr>
            <a:xfrm flipV="1">
              <a:off x="8635680" y="1622160"/>
              <a:ext cx="0" cy="18255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118720" y="1370160"/>
              <a:ext cx="38196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32960" y="61920"/>
            <a:ext cx="7650360" cy="79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erminology for HW, Lab, etc.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544680" y="1606680"/>
            <a:ext cx="7372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-D Einstein Soli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collection of N oscillators in 1 dimension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-D Einstein Soli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collection of N atoms each oscillating in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 dimensions: 3N oscillators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’ll assume that each oscillator has the same frequency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i.e., we ignore the frequency dependence of the “normal modes”)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6162120" y="3009600"/>
            <a:ext cx="1278360" cy="2009520"/>
            <a:chOff x="6162120" y="3009600"/>
            <a:chExt cx="1278360" cy="2009520"/>
          </a:xfrm>
        </p:grpSpPr>
        <p:sp>
          <p:nvSpPr>
            <p:cNvPr id="117" name="Freeform 7"/>
            <p:cNvSpPr/>
            <p:nvPr/>
          </p:nvSpPr>
          <p:spPr>
            <a:xfrm>
              <a:off x="6165720" y="3951000"/>
              <a:ext cx="58284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18" name="Freeform 8"/>
            <p:cNvSpPr/>
            <p:nvPr/>
          </p:nvSpPr>
          <p:spPr>
            <a:xfrm rot="5251200">
              <a:off x="6367680" y="4509360"/>
              <a:ext cx="917280" cy="986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19" name="Freeform 9"/>
            <p:cNvSpPr/>
            <p:nvPr/>
          </p:nvSpPr>
          <p:spPr>
            <a:xfrm>
              <a:off x="6858000" y="3931920"/>
              <a:ext cx="58248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20" name="Freeform 10"/>
            <p:cNvSpPr/>
            <p:nvPr/>
          </p:nvSpPr>
          <p:spPr>
            <a:xfrm rot="5251200">
              <a:off x="6353280" y="3420360"/>
              <a:ext cx="917280" cy="986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6162120" y="3422880"/>
              <a:ext cx="1263600" cy="1239840"/>
              <a:chOff x="6162120" y="3422880"/>
              <a:chExt cx="1263600" cy="1239840"/>
            </a:xfrm>
          </p:grpSpPr>
          <p:sp>
            <p:nvSpPr>
              <p:cNvPr id="122" name="Freeform 11"/>
              <p:cNvSpPr/>
              <p:nvPr/>
            </p:nvSpPr>
            <p:spPr>
              <a:xfrm rot="8439600">
                <a:off x="6638040" y="3684240"/>
                <a:ext cx="856800" cy="8712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 rot="10800000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23" name="Freeform 12"/>
              <p:cNvSpPr/>
              <p:nvPr/>
            </p:nvSpPr>
            <p:spPr>
              <a:xfrm rot="8439600">
                <a:off x="6092640" y="4314240"/>
                <a:ext cx="856440" cy="8676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 rot="10800000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124" name="Oval 13"/>
            <p:cNvSpPr/>
            <p:nvPr/>
          </p:nvSpPr>
          <p:spPr>
            <a:xfrm>
              <a:off x="6737400" y="3885840"/>
              <a:ext cx="163440" cy="2365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grpSp>
        <p:nvGrpSpPr>
          <p:cNvPr id="125" name="Group 14"/>
          <p:cNvGrpSpPr/>
          <p:nvPr/>
        </p:nvGrpSpPr>
        <p:grpSpPr>
          <a:xfrm>
            <a:off x="5877000" y="1995480"/>
            <a:ext cx="1950120" cy="254880"/>
            <a:chOff x="5877000" y="1995480"/>
            <a:chExt cx="1950120" cy="254880"/>
          </a:xfrm>
        </p:grpSpPr>
        <p:sp>
          <p:nvSpPr>
            <p:cNvPr id="126" name="Freeform 15"/>
            <p:cNvSpPr/>
            <p:nvPr/>
          </p:nvSpPr>
          <p:spPr>
            <a:xfrm>
              <a:off x="5877000" y="1995480"/>
              <a:ext cx="58284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27" name="Freeform 16"/>
            <p:cNvSpPr/>
            <p:nvPr/>
          </p:nvSpPr>
          <p:spPr>
            <a:xfrm>
              <a:off x="6568560" y="2017080"/>
              <a:ext cx="58284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28" name="Freeform 17"/>
            <p:cNvSpPr/>
            <p:nvPr/>
          </p:nvSpPr>
          <p:spPr>
            <a:xfrm>
              <a:off x="7244280" y="2017080"/>
              <a:ext cx="58284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29" name="Oval 18"/>
            <p:cNvSpPr/>
            <p:nvPr/>
          </p:nvSpPr>
          <p:spPr>
            <a:xfrm>
              <a:off x="7110000" y="2014200"/>
              <a:ext cx="163800" cy="2361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30" name="Oval 19"/>
            <p:cNvSpPr/>
            <p:nvPr/>
          </p:nvSpPr>
          <p:spPr>
            <a:xfrm>
              <a:off x="6420240" y="2014200"/>
              <a:ext cx="163800" cy="2361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3T02:51:00Z</dcterms:created>
  <dc:creator>j-wolfe</dc:creator>
  <dc:description/>
  <cp:keywords/>
  <dc:language>en-US</dc:language>
  <cp:lastModifiedBy>kwiat</cp:lastModifiedBy>
  <cp:lastPrinted>1997-01-30T13:11:51Z</cp:lastPrinted>
  <dcterms:modified xsi:type="dcterms:W3CDTF">2011-09-03T16:33:14Z</dcterms:modified>
  <cp:revision>311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