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DFB93149-40A2-4E72-A7A9-FA208F585E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 ca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 ca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ere’s a pressure drop. How?  Your ears pop when you go up.  He balloons rise –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tarted with a quick 211 derivation of the pressure gradient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balloons rise because the pressure at the top is less than the pressure at the bot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ize forces:  p(h) A + mg = p(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h) – p(0) = -mg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/dh = mg/Ag = mg/v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= 10 g, Vol = (.2 m)^3 -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p/dh = 12.2 Pa/m  (compare later on with calculated valu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8, p </a:t>
            </a:r>
            <a:fld id="{B5CCAFC7-E4CD-460C-9AD7-F7CC39AC3BF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8, p </a:t>
            </a:r>
            <a:fld id="{85E2D49A-A6A9-4C2C-B517-07655AEAC89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71640" y="9684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8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Review &amp; Exam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4880" y="5232240"/>
            <a:ext cx="76320" cy="763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4280" y="5506920"/>
            <a:ext cx="2362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7360" y="5307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251000" y="3692520"/>
            <a:ext cx="0" cy="179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397160" y="3846600"/>
            <a:ext cx="1904400" cy="1675800"/>
            <a:chOff x="1397160" y="3846600"/>
            <a:chExt cx="1904400" cy="1675800"/>
          </a:xfrm>
        </p:grpSpPr>
        <p:sp>
          <p:nvSpPr>
            <p:cNvPr id="86" name=""/>
            <p:cNvSpPr/>
            <p:nvPr/>
          </p:nvSpPr>
          <p:spPr>
            <a:xfrm>
              <a:off x="26161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589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8752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30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44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017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8260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3980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35240" y="49892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25400" y="48369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30320" y="491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311200" y="47606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73320" y="49892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82600" y="46083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92440" y="48369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49440" y="44557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63840" y="41511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25600" y="468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39800" y="44557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066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210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398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638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112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25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494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9716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9440" y="52178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731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352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06640" y="54464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5400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01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01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875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684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970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398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256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73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733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68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210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44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256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25600" y="4074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25400" y="3922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92440" y="384660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929160" y="3605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11280" y="54975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arth’s su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00480" y="4857840"/>
            <a:ext cx="429912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35480" y="4132440"/>
            <a:ext cx="4073400" cy="71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537240" y="4265640"/>
            <a:ext cx="1768680" cy="516960"/>
            <a:chOff x="6537240" y="4265640"/>
            <a:chExt cx="1768680" cy="516960"/>
          </a:xfrm>
        </p:grpSpPr>
        <p:sp>
          <p:nvSpPr>
            <p:cNvPr id="139" name=""/>
            <p:cNvSpPr/>
            <p:nvPr/>
          </p:nvSpPr>
          <p:spPr>
            <a:xfrm>
              <a:off x="6537240" y="426564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72480" y="44985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94560" y="435564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17000" y="456228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66080" y="43239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13800" y="426672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899480" y="46605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02680" y="44445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81960" y="458280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85240" y="469404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459320" y="4241880"/>
            <a:ext cx="1689120" cy="552240"/>
            <a:chOff x="4459320" y="4241880"/>
            <a:chExt cx="1689120" cy="552240"/>
          </a:xfrm>
        </p:grpSpPr>
        <p:sp>
          <p:nvSpPr>
            <p:cNvPr id="150" name=""/>
            <p:cNvSpPr/>
            <p:nvPr/>
          </p:nvSpPr>
          <p:spPr>
            <a:xfrm>
              <a:off x="4616640" y="43466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59320" y="45529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21200" y="46515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18080" y="46418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11600" y="470556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38840" y="43880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00720" y="42703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27960" y="4435560"/>
              <a:ext cx="8856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61040" y="45626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00840" y="46274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59520" y="42418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256360" y="379404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48240" y="4140360"/>
            <a:ext cx="0" cy="69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654120" y="1544760"/>
            <a:ext cx="788040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How does including the rotational energy and entropy of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 change it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, compared to what you’d have if it were monatomic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In other words, what is the effect on F per molecul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No chan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Decreas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Increas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Not enough inf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Rectangle 2"/>
          <p:cNvSpPr/>
          <p:nvPr/>
        </p:nvSpPr>
        <p:spPr>
          <a:xfrm>
            <a:off x="546120" y="79200"/>
            <a:ext cx="81500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Arial"/>
              </a:rPr>
              <a:t>ACT 2: 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Arial"/>
              </a:rPr>
              <a:t>Chemical Potential of Diatomic G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7600" y="75960"/>
            <a:ext cx="8682120" cy="73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Contribution of Internal Modes to </a:t>
            </a:r>
            <a:r>
              <a:rPr b="0" lang="en-US" sz="3600" spc="-1" strike="noStrike">
                <a:solidFill>
                  <a:srgbClr val="ff9966"/>
                </a:solidFill>
                <a:latin typeface="Symbol"/>
                <a:ea typeface="Symbol"/>
              </a:rPr>
              <a:t>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160" y="1060200"/>
            <a:ext cx="8116920" cy="513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of that internal modes lower 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ideal gases, the internal contributions to F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re independent of the other contribu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N is their contribution to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dF/d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 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calculate 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y remembering that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ternal modes contribute to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lways true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ecause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always positi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e thermal excitation of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al modes of a molecu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ways lowers its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thu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 its equilibrium concentrat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944640" y="3638520"/>
          <a:ext cx="4632120" cy="16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3638520"/>
                    <a:ext cx="463212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2" name=""/>
          <p:cNvGrpSpPr/>
          <p:nvPr/>
        </p:nvGrpSpPr>
        <p:grpSpPr>
          <a:xfrm>
            <a:off x="5737320" y="1265400"/>
            <a:ext cx="2952720" cy="2830320"/>
            <a:chOff x="5737320" y="1265400"/>
            <a:chExt cx="2952720" cy="2830320"/>
          </a:xfrm>
        </p:grpSpPr>
        <p:sp>
          <p:nvSpPr>
            <p:cNvPr id="423" name="Text Box 6"/>
            <p:cNvSpPr/>
            <p:nvPr/>
          </p:nvSpPr>
          <p:spPr>
            <a:xfrm>
              <a:off x="8413920" y="3556080"/>
              <a:ext cx="2761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Text Box 8"/>
            <p:cNvSpPr/>
            <p:nvPr/>
          </p:nvSpPr>
          <p:spPr>
            <a:xfrm>
              <a:off x="6147000" y="3557520"/>
              <a:ext cx="231948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0K        100K   1000K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5" name="Group 9"/>
            <p:cNvGrpSpPr/>
            <p:nvPr/>
          </p:nvGrpSpPr>
          <p:grpSpPr>
            <a:xfrm>
              <a:off x="6405840" y="1835280"/>
              <a:ext cx="1814040" cy="1004400"/>
              <a:chOff x="6405840" y="1835280"/>
              <a:chExt cx="1814040" cy="1004400"/>
            </a:xfrm>
          </p:grpSpPr>
          <p:sp>
            <p:nvSpPr>
              <p:cNvPr id="426" name="Line 10"/>
              <p:cNvSpPr/>
              <p:nvPr/>
            </p:nvSpPr>
            <p:spPr>
              <a:xfrm>
                <a:off x="8106480" y="1839960"/>
                <a:ext cx="11340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27" name="Group 11"/>
              <p:cNvGrpSpPr/>
              <p:nvPr/>
            </p:nvGrpSpPr>
            <p:grpSpPr>
              <a:xfrm>
                <a:off x="6405840" y="1835280"/>
                <a:ext cx="1708560" cy="1004400"/>
                <a:chOff x="6405840" y="1835280"/>
                <a:chExt cx="1708560" cy="1004400"/>
              </a:xfrm>
            </p:grpSpPr>
            <p:grpSp>
              <p:nvGrpSpPr>
                <p:cNvPr id="428" name="Group 12"/>
                <p:cNvGrpSpPr/>
                <p:nvPr/>
              </p:nvGrpSpPr>
              <p:grpSpPr>
                <a:xfrm>
                  <a:off x="6405840" y="2344680"/>
                  <a:ext cx="699840" cy="495000"/>
                  <a:chOff x="6405840" y="2344680"/>
                  <a:chExt cx="699840" cy="495000"/>
                </a:xfrm>
              </p:grpSpPr>
              <p:sp>
                <p:nvSpPr>
                  <p:cNvPr id="429" name="Line 13"/>
                  <p:cNvSpPr/>
                  <p:nvPr/>
                </p:nvSpPr>
                <p:spPr>
                  <a:xfrm>
                    <a:off x="6405840" y="2839680"/>
                    <a:ext cx="33228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Freeform 14"/>
                  <p:cNvSpPr/>
                  <p:nvPr/>
                </p:nvSpPr>
                <p:spPr>
                  <a:xfrm>
                    <a:off x="6733080" y="2344680"/>
                    <a:ext cx="372600" cy="49500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1" name="Group 15"/>
                <p:cNvGrpSpPr/>
                <p:nvPr/>
              </p:nvGrpSpPr>
              <p:grpSpPr>
                <a:xfrm>
                  <a:off x="7098120" y="1835280"/>
                  <a:ext cx="840600" cy="510480"/>
                  <a:chOff x="7098120" y="1835280"/>
                  <a:chExt cx="840600" cy="510480"/>
                </a:xfrm>
              </p:grpSpPr>
              <p:sp>
                <p:nvSpPr>
                  <p:cNvPr id="432" name="Line 16"/>
                  <p:cNvSpPr/>
                  <p:nvPr/>
                </p:nvSpPr>
                <p:spPr>
                  <a:xfrm>
                    <a:off x="7098120" y="2345760"/>
                    <a:ext cx="395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Freeform 17"/>
                  <p:cNvSpPr/>
                  <p:nvPr/>
                </p:nvSpPr>
                <p:spPr>
                  <a:xfrm>
                    <a:off x="7493760" y="1835280"/>
                    <a:ext cx="444960" cy="5104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4" name="Line 18"/>
                <p:cNvSpPr/>
                <p:nvPr/>
              </p:nvSpPr>
              <p:spPr>
                <a:xfrm>
                  <a:off x="7938720" y="1841400"/>
                  <a:ext cx="1756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5" name="Text Box 19"/>
            <p:cNvSpPr/>
            <p:nvPr/>
          </p:nvSpPr>
          <p:spPr>
            <a:xfrm>
              <a:off x="5856480" y="1265400"/>
              <a:ext cx="5205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Text Box 20"/>
            <p:cNvSpPr/>
            <p:nvPr/>
          </p:nvSpPr>
          <p:spPr>
            <a:xfrm>
              <a:off x="5772240" y="2675160"/>
              <a:ext cx="7257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/2 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Text Box 21"/>
            <p:cNvSpPr/>
            <p:nvPr/>
          </p:nvSpPr>
          <p:spPr>
            <a:xfrm>
              <a:off x="5745240" y="2173320"/>
              <a:ext cx="8002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5/2 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Text Box 22"/>
            <p:cNvSpPr/>
            <p:nvPr/>
          </p:nvSpPr>
          <p:spPr>
            <a:xfrm>
              <a:off x="5737320" y="1665360"/>
              <a:ext cx="7779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7/2 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Line 23"/>
            <p:cNvSpPr/>
            <p:nvPr/>
          </p:nvSpPr>
          <p:spPr>
            <a:xfrm flipV="1">
              <a:off x="6382080" y="1514520"/>
              <a:ext cx="0" cy="2000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0" name="Group 24"/>
            <p:cNvGrpSpPr/>
            <p:nvPr/>
          </p:nvGrpSpPr>
          <p:grpSpPr>
            <a:xfrm>
              <a:off x="6396120" y="1833840"/>
              <a:ext cx="109800" cy="1480680"/>
              <a:chOff x="6396120" y="1833840"/>
              <a:chExt cx="109800" cy="1480680"/>
            </a:xfrm>
          </p:grpSpPr>
          <p:grpSp>
            <p:nvGrpSpPr>
              <p:cNvPr id="441" name="Group 25"/>
              <p:cNvGrpSpPr/>
              <p:nvPr/>
            </p:nvGrpSpPr>
            <p:grpSpPr>
              <a:xfrm>
                <a:off x="6396120" y="2574360"/>
                <a:ext cx="109800" cy="740160"/>
                <a:chOff x="6396120" y="2574360"/>
                <a:chExt cx="109800" cy="740160"/>
              </a:xfrm>
            </p:grpSpPr>
            <p:sp>
              <p:nvSpPr>
                <p:cNvPr id="442" name="Line 26"/>
                <p:cNvSpPr/>
                <p:nvPr/>
              </p:nvSpPr>
              <p:spPr>
                <a:xfrm>
                  <a:off x="6396120" y="331452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Line 27"/>
                <p:cNvSpPr/>
                <p:nvPr/>
              </p:nvSpPr>
              <p:spPr>
                <a:xfrm>
                  <a:off x="6396120" y="30675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28"/>
                <p:cNvSpPr/>
                <p:nvPr/>
              </p:nvSpPr>
              <p:spPr>
                <a:xfrm>
                  <a:off x="6396120" y="28209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Line 29"/>
                <p:cNvSpPr/>
                <p:nvPr/>
              </p:nvSpPr>
              <p:spPr>
                <a:xfrm>
                  <a:off x="6396120" y="25743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Group 30"/>
              <p:cNvGrpSpPr/>
              <p:nvPr/>
            </p:nvGrpSpPr>
            <p:grpSpPr>
              <a:xfrm>
                <a:off x="6396120" y="1833840"/>
                <a:ext cx="109800" cy="740520"/>
                <a:chOff x="6396120" y="1833840"/>
                <a:chExt cx="109800" cy="740520"/>
              </a:xfrm>
            </p:grpSpPr>
            <p:sp>
              <p:nvSpPr>
                <p:cNvPr id="447" name="Line 31"/>
                <p:cNvSpPr/>
                <p:nvPr/>
              </p:nvSpPr>
              <p:spPr>
                <a:xfrm>
                  <a:off x="6396120" y="25743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Line 32"/>
                <p:cNvSpPr/>
                <p:nvPr/>
              </p:nvSpPr>
              <p:spPr>
                <a:xfrm>
                  <a:off x="6396120" y="232740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Line 33"/>
                <p:cNvSpPr/>
                <p:nvPr/>
              </p:nvSpPr>
              <p:spPr>
                <a:xfrm>
                  <a:off x="6396120" y="208044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Line 34"/>
                <p:cNvSpPr/>
                <p:nvPr/>
              </p:nvSpPr>
              <p:spPr>
                <a:xfrm>
                  <a:off x="6396120" y="183384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1" name="Group 35"/>
            <p:cNvGrpSpPr/>
            <p:nvPr/>
          </p:nvGrpSpPr>
          <p:grpSpPr>
            <a:xfrm>
              <a:off x="6384960" y="3327480"/>
              <a:ext cx="2249640" cy="204840"/>
              <a:chOff x="6384960" y="3327480"/>
              <a:chExt cx="2249640" cy="204840"/>
            </a:xfrm>
          </p:grpSpPr>
          <p:sp>
            <p:nvSpPr>
              <p:cNvPr id="452" name="Line 36"/>
              <p:cNvSpPr/>
              <p:nvPr/>
            </p:nvSpPr>
            <p:spPr>
              <a:xfrm>
                <a:off x="6384960" y="3531240"/>
                <a:ext cx="2249640" cy="108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Line 37"/>
              <p:cNvSpPr/>
              <p:nvPr/>
            </p:nvSpPr>
            <p:spPr>
              <a:xfrm>
                <a:off x="7143120" y="3327480"/>
                <a:ext cx="0" cy="1983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Line 38"/>
              <p:cNvSpPr/>
              <p:nvPr/>
            </p:nvSpPr>
            <p:spPr>
              <a:xfrm>
                <a:off x="7921800" y="3342600"/>
                <a:ext cx="0" cy="1832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5" name="Text Box 39"/>
            <p:cNvSpPr/>
            <p:nvPr/>
          </p:nvSpPr>
          <p:spPr>
            <a:xfrm>
              <a:off x="7185240" y="1581120"/>
              <a:ext cx="1398600" cy="15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ib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Rot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ransl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590400" y="5438880"/>
            <a:ext cx="1981440" cy="276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12680" y="72720"/>
            <a:ext cx="712008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Work from Free Energy 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ue to Non-equilibrium </a:t>
            </a:r>
            <a:r>
              <a:rPr b="0" lang="en-US" sz="3600" spc="-1" strike="noStrike">
                <a:solidFill>
                  <a:srgbClr val="ff9966"/>
                </a:solidFill>
                <a:latin typeface="Symbol"/>
                <a:ea typeface="Symbol"/>
              </a:rPr>
              <a:t>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47360" y="1316160"/>
            <a:ext cx="7397640" cy="39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echanical Work  (isothermal expansion of N particles at temp 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890880" y="1665360"/>
            <a:ext cx="1725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     n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39720" y="204948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asi-static expansio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an external force on the piston prevents it from being free expansion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78000" y="4513320"/>
            <a:ext cx="6907320" cy="17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-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 + T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NkT ln(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T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= 0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ideal ga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ok familiar? Same old physics, different languag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we use these concepts to do something new ??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3483000" y="2023920"/>
            <a:ext cx="3040200" cy="811440"/>
            <a:chOff x="3483000" y="2023920"/>
            <a:chExt cx="3040200" cy="811440"/>
          </a:xfrm>
        </p:grpSpPr>
        <p:sp>
          <p:nvSpPr>
            <p:cNvPr id="465" name=""/>
            <p:cNvSpPr/>
            <p:nvPr/>
          </p:nvSpPr>
          <p:spPr>
            <a:xfrm>
              <a:off x="4067280" y="2476440"/>
              <a:ext cx="7452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778200" y="2278080"/>
              <a:ext cx="7452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4440" y="2658960"/>
              <a:ext cx="7452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3492360" y="2023920"/>
              <a:ext cx="2060640" cy="811440"/>
              <a:chOff x="3492360" y="2023920"/>
              <a:chExt cx="2060640" cy="811440"/>
            </a:xfrm>
          </p:grpSpPr>
          <p:sp>
            <p:nvSpPr>
              <p:cNvPr id="469" name=""/>
              <p:cNvSpPr/>
              <p:nvPr/>
            </p:nvSpPr>
            <p:spPr>
              <a:xfrm>
                <a:off x="3493800" y="2023920"/>
                <a:ext cx="2057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495600" y="2835360"/>
                <a:ext cx="2057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446360" y="2063880"/>
                <a:ext cx="1800" cy="7398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666960" y="212580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938400" y="218772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757320" y="2482920"/>
                <a:ext cx="7488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246560" y="241956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195800" y="2147760"/>
                <a:ext cx="74520" cy="74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584520" y="2341440"/>
                <a:ext cx="74520" cy="74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921120" y="262260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227480" y="262116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060800" y="2298600"/>
                <a:ext cx="74520" cy="74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919320" y="240984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595680" y="265428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492360" y="2028960"/>
                <a:ext cx="0" cy="790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4500720" y="2430360"/>
              <a:ext cx="50616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45040" y="2071800"/>
              <a:ext cx="1800" cy="73980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27560" y="225756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483000" y="2030400"/>
              <a:ext cx="3040200" cy="793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178080" y="2835360"/>
            <a:ext cx="368928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300320" y="5857920"/>
            <a:ext cx="5608440" cy="334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302400" y="1554120"/>
            <a:ext cx="6958080" cy="31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this situation. 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wo different ideal gases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qual press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ne starts on the left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one on the righ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ach will expand to fill the volume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his situatio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uch work, if any, could be extracte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G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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k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kT*ln(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660920" y="2373480"/>
            <a:ext cx="429876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795920" y="1647720"/>
            <a:ext cx="4073400" cy="7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6997680" y="1781280"/>
            <a:ext cx="1767960" cy="516960"/>
            <a:chOff x="6997680" y="1781280"/>
            <a:chExt cx="1767960" cy="516960"/>
          </a:xfrm>
        </p:grpSpPr>
        <p:sp>
          <p:nvSpPr>
            <p:cNvPr id="494" name=""/>
            <p:cNvSpPr/>
            <p:nvPr/>
          </p:nvSpPr>
          <p:spPr>
            <a:xfrm>
              <a:off x="6997680" y="178128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432560" y="20142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54640" y="187128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677080" y="207792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426160" y="18396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73880" y="178236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359560" y="21762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862760" y="19602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142040" y="209844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45320" y="220968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4919760" y="1757520"/>
            <a:ext cx="1689120" cy="552240"/>
            <a:chOff x="4919760" y="1757520"/>
            <a:chExt cx="1689120" cy="552240"/>
          </a:xfrm>
        </p:grpSpPr>
        <p:sp>
          <p:nvSpPr>
            <p:cNvPr id="505" name=""/>
            <p:cNvSpPr/>
            <p:nvPr/>
          </p:nvSpPr>
          <p:spPr>
            <a:xfrm>
              <a:off x="5077080" y="18622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919760" y="20685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381640" y="216720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978520" y="21574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72040" y="222120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399280" y="19036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861160" y="17859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188400" y="1951200"/>
              <a:ext cx="8856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21480" y="20782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461280" y="21430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519960" y="17575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5497560" y="128124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74720" y="72720"/>
            <a:ext cx="7601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415800" y="3297240"/>
            <a:ext cx="827748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th gases will have expanded to fill the entire volume.  The purple molecules will have done work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k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n2, on the membrane (quasistatic expansion).  The free energy of the green molecules is lost (free expans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Can we get the green gas to do work as well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509840" y="2492280"/>
            <a:ext cx="429876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644480" y="1766880"/>
            <a:ext cx="4073760" cy="7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3846600" y="1900080"/>
            <a:ext cx="1767960" cy="517680"/>
            <a:chOff x="3846600" y="1900080"/>
            <a:chExt cx="1767960" cy="517680"/>
          </a:xfrm>
        </p:grpSpPr>
        <p:sp>
          <p:nvSpPr>
            <p:cNvPr id="522" name=""/>
            <p:cNvSpPr/>
            <p:nvPr/>
          </p:nvSpPr>
          <p:spPr>
            <a:xfrm>
              <a:off x="3846600" y="190008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281480" y="21333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903560" y="199044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526000" y="219708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75080" y="19587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222800" y="190152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208480" y="22953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711680" y="20793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990960" y="221760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494240" y="232884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1768320" y="1876320"/>
            <a:ext cx="1689120" cy="552240"/>
            <a:chOff x="1768320" y="1876320"/>
            <a:chExt cx="1689120" cy="552240"/>
          </a:xfrm>
        </p:grpSpPr>
        <p:sp>
          <p:nvSpPr>
            <p:cNvPr id="533" name=""/>
            <p:cNvSpPr/>
            <p:nvPr/>
          </p:nvSpPr>
          <p:spPr>
            <a:xfrm>
              <a:off x="1925640" y="19810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68320" y="21873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230200" y="228600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827080" y="22762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920600" y="234000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247840" y="20224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09720" y="19047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036960" y="2070000"/>
              <a:ext cx="8856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570040" y="21970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309840" y="22618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68520" y="18763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2565360" y="142884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74720" y="72720"/>
            <a:ext cx="7601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Get the Workou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657600" y="1774800"/>
            <a:ext cx="0" cy="69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219640" y="1071720"/>
            <a:ext cx="280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emipermeable membrane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at only lets green molecules through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3677400" y="1306440"/>
            <a:ext cx="3292200" cy="77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682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68260"/>
              </a:path>
            </a:pathLst>
          </a:custGeom>
          <a:noFill/>
          <a:ln w="93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673280" y="4527720"/>
            <a:ext cx="429876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808280" y="3801960"/>
            <a:ext cx="4073400" cy="7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008080" y="393552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44960" y="41688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284720" y="402588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506920" y="423216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73480" y="39942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730600" y="393696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24360" y="43308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951360" y="41148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305080" y="425304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79840" y="436392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455920" y="401652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92240" y="422280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800440" y="432108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351320" y="431172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379600" y="437508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33880" y="405756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981600" y="394020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703760" y="4105440"/>
            <a:ext cx="88920" cy="88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382920" y="423216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02080" y="429732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564160" y="391176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728800" y="346392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860480" y="3809880"/>
            <a:ext cx="0" cy="690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324240" y="66240"/>
            <a:ext cx="2489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uel Cell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945360" y="770040"/>
            <a:ext cx="5672160" cy="3519720"/>
            <a:chOff x="945360" y="770040"/>
            <a:chExt cx="5672160" cy="3519720"/>
          </a:xfrm>
        </p:grpSpPr>
        <p:sp>
          <p:nvSpPr>
            <p:cNvPr id="578" name=""/>
            <p:cNvSpPr/>
            <p:nvPr/>
          </p:nvSpPr>
          <p:spPr>
            <a:xfrm>
              <a:off x="2547720" y="2362320"/>
              <a:ext cx="2406600" cy="1005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558880" y="2340360"/>
              <a:ext cx="2378160" cy="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547720" y="1314720"/>
              <a:ext cx="2406600" cy="1004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568600" y="1346400"/>
              <a:ext cx="234612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1654200" y="1211400"/>
              <a:ext cx="912600" cy="641520"/>
              <a:chOff x="1654200" y="1211400"/>
              <a:chExt cx="912600" cy="641520"/>
            </a:xfrm>
          </p:grpSpPr>
          <p:sp>
            <p:nvSpPr>
              <p:cNvPr id="583" name=""/>
              <p:cNvSpPr/>
              <p:nvPr/>
            </p:nvSpPr>
            <p:spPr>
              <a:xfrm>
                <a:off x="1654200" y="1211400"/>
                <a:ext cx="457200" cy="64152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41520"/>
                  <a:gd name="textAreaBottom" fmla="*/ 619200 h 641520"/>
                </a:gdLst>
                <a:ahLst/>
                <a:rect l="textAreaLeft" t="textAreaTop" r="textAreaRight" b="textAreaBottom"/>
                <a:pathLst>
                  <a:path w="21600" h="30301">
                    <a:moveTo>
                      <a:pt x="3600" y="0"/>
                    </a:moveTo>
                    <a:arcTo wR="3600" hR="3600" stAng="16200000" swAng="-5400000"/>
                    <a:lnTo>
                      <a:pt x="0" y="26701"/>
                    </a:lnTo>
                    <a:arcTo wR="3600" hR="3600" stAng="10800000" swAng="-5400000"/>
                    <a:lnTo>
                      <a:pt x="18000" y="3030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711080" y="1351080"/>
                <a:ext cx="3668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4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100240" y="1548000"/>
                <a:ext cx="4572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109600" y="152892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109600" y="156708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1020960" y="770040"/>
              <a:ext cx="128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ydrogen gas.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ou pay for this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046680" y="1092240"/>
              <a:ext cx="133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tinum catalys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094200" y="1338480"/>
              <a:ext cx="1218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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2H</a:t>
              </a:r>
              <a:r>
                <a:rPr b="0" lang="en-US" sz="1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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2(p</a:t>
              </a:r>
              <a:r>
                <a:rPr b="0" lang="en-US" sz="1200" spc="-1" strike="noStrike" baseline="30000">
                  <a:solidFill>
                    <a:srgbClr val="fafd00"/>
                  </a:solidFill>
                  <a:latin typeface="Arial"/>
                </a:rPr>
                <a:t>+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1200" spc="-1" strike="noStrike" baseline="30000">
                  <a:solidFill>
                    <a:srgbClr val="fafd00"/>
                  </a:solidFill>
                  <a:latin typeface="Arial"/>
                </a:rPr>
                <a:t>-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536200" y="168768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31520" y="2643480"/>
              <a:ext cx="104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ath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1644480" y="2756160"/>
              <a:ext cx="912600" cy="641160"/>
              <a:chOff x="1644480" y="2756160"/>
              <a:chExt cx="912600" cy="641160"/>
            </a:xfrm>
          </p:grpSpPr>
          <p:sp>
            <p:nvSpPr>
              <p:cNvPr id="594" name=""/>
              <p:cNvSpPr/>
              <p:nvPr/>
            </p:nvSpPr>
            <p:spPr>
              <a:xfrm>
                <a:off x="1644480" y="2756160"/>
                <a:ext cx="457200" cy="64116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41160"/>
                  <a:gd name="textAreaBottom" fmla="*/ 618840 h 641160"/>
                </a:gdLst>
                <a:ahLst/>
                <a:rect l="textAreaLeft" t="textAreaTop" r="textAreaRight" b="textAreaBottom"/>
                <a:pathLst>
                  <a:path w="21600" h="30284">
                    <a:moveTo>
                      <a:pt x="3600" y="0"/>
                    </a:moveTo>
                    <a:arcTo wR="3600" hR="3600" stAng="16200000" swAng="-5400000"/>
                    <a:lnTo>
                      <a:pt x="0" y="26684"/>
                    </a:lnTo>
                    <a:arcTo wR="3600" hR="3600" stAng="10800000" swAng="-5400000"/>
                    <a:lnTo>
                      <a:pt x="18000" y="3028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696320" y="2895480"/>
                <a:ext cx="3772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O</a:t>
                </a:r>
                <a:r>
                  <a:rPr b="0" lang="en-US" sz="1400" spc="-1" strike="noStrike" baseline="-25000">
                    <a:solidFill>
                      <a:srgbClr val="00004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090520" y="3092400"/>
                <a:ext cx="4572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099880" y="307332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099880" y="311148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945360" y="2467080"/>
              <a:ext cx="1352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xygen gas (air).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o cost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459320" y="2092680"/>
              <a:ext cx="326880" cy="579240"/>
            </a:xfrm>
            <a:prstGeom prst="downArrow">
              <a:avLst>
                <a:gd name="adj1" fmla="val 50000"/>
                <a:gd name="adj2" fmla="val 44301"/>
              </a:avLst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500560" y="2046600"/>
              <a:ext cx="20232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emipermeable membra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nly protons can pass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944960" y="1760760"/>
              <a:ext cx="5587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944960" y="2857680"/>
              <a:ext cx="5587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16640" y="1756080"/>
              <a:ext cx="0" cy="1092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14760" y="2086200"/>
              <a:ext cx="190440" cy="46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934520" y="1484640"/>
              <a:ext cx="112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ectric circui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604480" y="2087640"/>
              <a:ext cx="1013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e.g.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, moto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825440" y="1889280"/>
              <a:ext cx="52092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6" y="0"/>
                  </a:moveTo>
                  <a:arcTo wR="10800" hR="10800" stAng="-5398055" swAng="10523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6" y="0"/>
                  </a:moveTo>
                  <a:arcTo wR="10800" hR="10800" stAng="-5398055" swAng="10523524"/>
                </a:path>
              </a:pathLst>
            </a:custGeom>
            <a:noFill/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043600" y="2163960"/>
              <a:ext cx="29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460400" y="220860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p</a:t>
              </a:r>
              <a:r>
                <a:rPr b="0" lang="en-US" sz="1200" spc="-1" strike="noStrike" baseline="30000">
                  <a:solidFill>
                    <a:srgbClr val="00004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912920" y="3830760"/>
              <a:ext cx="1482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.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e waste product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4281480" y="3362760"/>
              <a:ext cx="641160" cy="912600"/>
              <a:chOff x="4281480" y="3362760"/>
              <a:chExt cx="641160" cy="912600"/>
            </a:xfrm>
          </p:grpSpPr>
          <p:sp>
            <p:nvSpPr>
              <p:cNvPr id="613" name=""/>
              <p:cNvSpPr/>
              <p:nvPr/>
            </p:nvSpPr>
            <p:spPr>
              <a:xfrm rot="16200000">
                <a:off x="4373280" y="3726000"/>
                <a:ext cx="457200" cy="64116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41160"/>
                  <a:gd name="textAreaBottom" fmla="*/ 618840 h 641160"/>
                </a:gdLst>
                <a:ahLst/>
                <a:rect l="textAreaLeft" t="textAreaTop" r="textAreaRight" b="textAreaBottom"/>
                <a:pathLst>
                  <a:path w="21600" h="30284">
                    <a:moveTo>
                      <a:pt x="3600" y="0"/>
                    </a:moveTo>
                    <a:arcTo wR="3600" hR="3600" stAng="16200000" swAng="-5400000"/>
                    <a:lnTo>
                      <a:pt x="0" y="26684"/>
                    </a:lnTo>
                    <a:arcTo wR="3600" hR="3600" stAng="10800000" swAng="-5400000"/>
                    <a:lnTo>
                      <a:pt x="18000" y="3028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4618080" y="3372120"/>
                <a:ext cx="0" cy="4572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4599000" y="3362760"/>
                <a:ext cx="0" cy="457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4637160" y="3362760"/>
                <a:ext cx="0" cy="457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7" name=""/>
            <p:cNvSpPr/>
            <p:nvPr/>
          </p:nvSpPr>
          <p:spPr>
            <a:xfrm>
              <a:off x="4345920" y="390060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H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94240" y="3089520"/>
              <a:ext cx="2088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O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+4p + 4e </a:t>
              </a:r>
              <a:r>
                <a:rPr b="0" lang="en-US" sz="1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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2H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0 + energ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507960" y="4479840"/>
            <a:ext cx="80074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uel cell requires concentration gradients in two plac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the platinum catalyst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Keep the concentration of 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elow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value, so the reaction will continu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ton diffusion out of the anode (through the membrane) does th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ween the cathode and anod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Keep the proton (and electron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centration low on the cathode side, so diffusion will continu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production does th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823840" y="66600"/>
            <a:ext cx="348444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uel Cell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77920" y="1417680"/>
            <a:ext cx="847548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emipermeable membrane forces the electrons to take a differen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ath to the low concentration region.  This path, through the load, i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re we get useful work from the fuel cell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nlike typical heat engines, which first burn fuel to make heat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no conversion to heat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 Carnot efficiency limit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latinum catalyst speeds the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(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reaction by increasing the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ncentratio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cally (at the surface).  We’ll see next week tha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el cells are used in specialty application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Howev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op executives from General Motors Corp. and Toyota Motor Corp. Tuesday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pressed doubts about the viability of hydrogen fuel cells for mass-market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duction in the near term and suggested their companies are now betting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at electric cars will prove to be a better way to reduce fuel consumption and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ut tailpipe emissions on a large scale.”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WSJ, 3/5/2008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6834240" y="3668760"/>
          <a:ext cx="1198440" cy="86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4240" y="3668760"/>
                    <a:ext cx="119844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92000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/Discussion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Fuel 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93560" y="1515960"/>
            <a:ext cx="8089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ork output comes from the excess free energy (above the equilibrium value) of the starting chemicals (the fue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atmosphere containing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fu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’s lot’s of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in the ocea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 we therefore have plenty of fue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y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no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ay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36520" y="781200"/>
            <a:ext cx="6464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Last time we looked at the chemic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potential for an ideal (monatomic) gas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Consider the case of no external potential (u is a constant):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kT ln(n) - constant .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Apply it to the free expansion probl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3036960" y="3936960"/>
            <a:ext cx="2147400" cy="811080"/>
            <a:chOff x="3036960" y="3936960"/>
            <a:chExt cx="2147400" cy="811080"/>
          </a:xfrm>
        </p:grpSpPr>
        <p:sp>
          <p:nvSpPr>
            <p:cNvPr id="165" name="Line 4"/>
            <p:cNvSpPr/>
            <p:nvPr/>
          </p:nvSpPr>
          <p:spPr>
            <a:xfrm>
              <a:off x="3038400" y="3936960"/>
              <a:ext cx="214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Line 5"/>
            <p:cNvSpPr/>
            <p:nvPr/>
          </p:nvSpPr>
          <p:spPr>
            <a:xfrm>
              <a:off x="3039840" y="4748040"/>
              <a:ext cx="214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Oval 6"/>
            <p:cNvSpPr/>
            <p:nvPr/>
          </p:nvSpPr>
          <p:spPr>
            <a:xfrm>
              <a:off x="3218760" y="403848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Oval 7"/>
            <p:cNvSpPr/>
            <p:nvPr/>
          </p:nvSpPr>
          <p:spPr>
            <a:xfrm>
              <a:off x="3501720" y="410040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Oval 8"/>
            <p:cNvSpPr/>
            <p:nvPr/>
          </p:nvSpPr>
          <p:spPr>
            <a:xfrm>
              <a:off x="3313080" y="439560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Oval 9"/>
            <p:cNvSpPr/>
            <p:nvPr/>
          </p:nvSpPr>
          <p:spPr>
            <a:xfrm>
              <a:off x="3822480" y="433224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Oval 10"/>
            <p:cNvSpPr/>
            <p:nvPr/>
          </p:nvSpPr>
          <p:spPr>
            <a:xfrm>
              <a:off x="3769560" y="406080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Oval 11"/>
            <p:cNvSpPr/>
            <p:nvPr/>
          </p:nvSpPr>
          <p:spPr>
            <a:xfrm>
              <a:off x="3132360" y="4254480"/>
              <a:ext cx="7776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Oval 12"/>
            <p:cNvSpPr/>
            <p:nvPr/>
          </p:nvSpPr>
          <p:spPr>
            <a:xfrm>
              <a:off x="3483360" y="4535280"/>
              <a:ext cx="7740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Oval 13"/>
            <p:cNvSpPr/>
            <p:nvPr/>
          </p:nvSpPr>
          <p:spPr>
            <a:xfrm>
              <a:off x="3802680" y="4533840"/>
              <a:ext cx="7776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Oval 14"/>
            <p:cNvSpPr/>
            <p:nvPr/>
          </p:nvSpPr>
          <p:spPr>
            <a:xfrm>
              <a:off x="3628800" y="4211640"/>
              <a:ext cx="7776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Oval 15"/>
            <p:cNvSpPr/>
            <p:nvPr/>
          </p:nvSpPr>
          <p:spPr>
            <a:xfrm>
              <a:off x="3481920" y="4322520"/>
              <a:ext cx="7740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Oval 16"/>
            <p:cNvSpPr/>
            <p:nvPr/>
          </p:nvSpPr>
          <p:spPr>
            <a:xfrm>
              <a:off x="3144240" y="4566960"/>
              <a:ext cx="7740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17"/>
            <p:cNvSpPr/>
            <p:nvPr/>
          </p:nvSpPr>
          <p:spPr>
            <a:xfrm>
              <a:off x="3036960" y="3941640"/>
              <a:ext cx="0" cy="79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Text Box 18"/>
          <p:cNvSpPr/>
          <p:nvPr/>
        </p:nvSpPr>
        <p:spPr>
          <a:xfrm>
            <a:off x="379440" y="40719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Remove the pis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Group 19"/>
          <p:cNvGrpSpPr/>
          <p:nvPr/>
        </p:nvGrpSpPr>
        <p:grpSpPr>
          <a:xfrm>
            <a:off x="3036960" y="4968720"/>
            <a:ext cx="2234880" cy="811440"/>
            <a:chOff x="3036960" y="4968720"/>
            <a:chExt cx="2234880" cy="811440"/>
          </a:xfrm>
        </p:grpSpPr>
        <p:sp>
          <p:nvSpPr>
            <p:cNvPr id="181" name="Line 20"/>
            <p:cNvSpPr/>
            <p:nvPr/>
          </p:nvSpPr>
          <p:spPr>
            <a:xfrm>
              <a:off x="3038760" y="4968720"/>
              <a:ext cx="223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21"/>
            <p:cNvSpPr/>
            <p:nvPr/>
          </p:nvSpPr>
          <p:spPr>
            <a:xfrm>
              <a:off x="3040200" y="5780160"/>
              <a:ext cx="223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Oval 22"/>
            <p:cNvSpPr/>
            <p:nvPr/>
          </p:nvSpPr>
          <p:spPr>
            <a:xfrm>
              <a:off x="3226320" y="5070600"/>
              <a:ext cx="810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Oval 23"/>
            <p:cNvSpPr/>
            <p:nvPr/>
          </p:nvSpPr>
          <p:spPr>
            <a:xfrm>
              <a:off x="3520440" y="5132520"/>
              <a:ext cx="810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Oval 24"/>
            <p:cNvSpPr/>
            <p:nvPr/>
          </p:nvSpPr>
          <p:spPr>
            <a:xfrm>
              <a:off x="3773880" y="533556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Oval 25"/>
            <p:cNvSpPr/>
            <p:nvPr/>
          </p:nvSpPr>
          <p:spPr>
            <a:xfrm>
              <a:off x="4366440" y="561492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Oval 26"/>
            <p:cNvSpPr/>
            <p:nvPr/>
          </p:nvSpPr>
          <p:spPr>
            <a:xfrm>
              <a:off x="5115240" y="549756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Oval 27"/>
            <p:cNvSpPr/>
            <p:nvPr/>
          </p:nvSpPr>
          <p:spPr>
            <a:xfrm>
              <a:off x="3249000" y="534024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Oval 28"/>
            <p:cNvSpPr/>
            <p:nvPr/>
          </p:nvSpPr>
          <p:spPr>
            <a:xfrm>
              <a:off x="3501720" y="556740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Oval 29"/>
            <p:cNvSpPr/>
            <p:nvPr/>
          </p:nvSpPr>
          <p:spPr>
            <a:xfrm>
              <a:off x="3834000" y="5565600"/>
              <a:ext cx="8064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Oval 30"/>
            <p:cNvSpPr/>
            <p:nvPr/>
          </p:nvSpPr>
          <p:spPr>
            <a:xfrm>
              <a:off x="4674600" y="521640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Oval 31"/>
            <p:cNvSpPr/>
            <p:nvPr/>
          </p:nvSpPr>
          <p:spPr>
            <a:xfrm>
              <a:off x="4111560" y="516096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Oval 32"/>
            <p:cNvSpPr/>
            <p:nvPr/>
          </p:nvSpPr>
          <p:spPr>
            <a:xfrm>
              <a:off x="3148920" y="559908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Line 33"/>
            <p:cNvSpPr/>
            <p:nvPr/>
          </p:nvSpPr>
          <p:spPr>
            <a:xfrm>
              <a:off x="3036960" y="4973760"/>
              <a:ext cx="0" cy="79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" name="Text Box 34"/>
          <p:cNvSpPr/>
          <p:nvPr/>
        </p:nvSpPr>
        <p:spPr>
          <a:xfrm>
            <a:off x="674640" y="511344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Some time lat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Group 35"/>
          <p:cNvGrpSpPr/>
          <p:nvPr/>
        </p:nvGrpSpPr>
        <p:grpSpPr>
          <a:xfrm>
            <a:off x="2585880" y="2368440"/>
            <a:ext cx="3200400" cy="1318680"/>
            <a:chOff x="2585880" y="2368440"/>
            <a:chExt cx="3200400" cy="1318680"/>
          </a:xfrm>
        </p:grpSpPr>
        <p:sp>
          <p:nvSpPr>
            <p:cNvPr id="197" name="Text Box 36"/>
            <p:cNvSpPr/>
            <p:nvPr/>
          </p:nvSpPr>
          <p:spPr>
            <a:xfrm>
              <a:off x="2585880" y="236844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igh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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low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8" name="Group 37"/>
            <p:cNvGrpSpPr/>
            <p:nvPr/>
          </p:nvGrpSpPr>
          <p:grpSpPr>
            <a:xfrm>
              <a:off x="3036600" y="2671560"/>
              <a:ext cx="2060640" cy="1015560"/>
              <a:chOff x="3036600" y="2671560"/>
              <a:chExt cx="2060640" cy="1015560"/>
            </a:xfrm>
          </p:grpSpPr>
          <p:sp>
            <p:nvSpPr>
              <p:cNvPr id="199" name="Oval 38"/>
              <p:cNvSpPr/>
              <p:nvPr/>
            </p:nvSpPr>
            <p:spPr>
              <a:xfrm>
                <a:off x="3036600" y="3328560"/>
                <a:ext cx="74880" cy="74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Oval 39"/>
              <p:cNvSpPr/>
              <p:nvPr/>
            </p:nvSpPr>
            <p:spPr>
              <a:xfrm>
                <a:off x="3036600" y="3130200"/>
                <a:ext cx="74880" cy="74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Oval 40"/>
              <p:cNvSpPr/>
              <p:nvPr/>
            </p:nvSpPr>
            <p:spPr>
              <a:xfrm>
                <a:off x="3036600" y="3511080"/>
                <a:ext cx="74880" cy="74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2" name="Group 41"/>
              <p:cNvGrpSpPr/>
              <p:nvPr/>
            </p:nvGrpSpPr>
            <p:grpSpPr>
              <a:xfrm>
                <a:off x="3036600" y="2876040"/>
                <a:ext cx="2060640" cy="811080"/>
                <a:chOff x="3036600" y="2876040"/>
                <a:chExt cx="2060640" cy="811080"/>
              </a:xfrm>
            </p:grpSpPr>
            <p:sp>
              <p:nvSpPr>
                <p:cNvPr id="203" name="Line 42"/>
                <p:cNvSpPr/>
                <p:nvPr/>
              </p:nvSpPr>
              <p:spPr>
                <a:xfrm>
                  <a:off x="3038040" y="2876040"/>
                  <a:ext cx="2057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Line 43"/>
                <p:cNvSpPr/>
                <p:nvPr/>
              </p:nvSpPr>
              <p:spPr>
                <a:xfrm>
                  <a:off x="3039840" y="3687120"/>
                  <a:ext cx="2057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Line 44"/>
                <p:cNvSpPr/>
                <p:nvPr/>
              </p:nvSpPr>
              <p:spPr>
                <a:xfrm>
                  <a:off x="3990600" y="2915640"/>
                  <a:ext cx="1800" cy="73944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Oval 45"/>
                <p:cNvSpPr/>
                <p:nvPr/>
              </p:nvSpPr>
              <p:spPr>
                <a:xfrm>
                  <a:off x="3211200" y="297756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Oval 46"/>
                <p:cNvSpPr/>
                <p:nvPr/>
              </p:nvSpPr>
              <p:spPr>
                <a:xfrm>
                  <a:off x="3482640" y="303948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Oval 47"/>
                <p:cNvSpPr/>
                <p:nvPr/>
              </p:nvSpPr>
              <p:spPr>
                <a:xfrm>
                  <a:off x="3301560" y="3334680"/>
                  <a:ext cx="7488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Oval 48"/>
                <p:cNvSpPr/>
                <p:nvPr/>
              </p:nvSpPr>
              <p:spPr>
                <a:xfrm>
                  <a:off x="3790800" y="327132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Oval 49"/>
                <p:cNvSpPr/>
                <p:nvPr/>
              </p:nvSpPr>
              <p:spPr>
                <a:xfrm>
                  <a:off x="3740040" y="2999520"/>
                  <a:ext cx="74520" cy="74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Oval 50"/>
                <p:cNvSpPr/>
                <p:nvPr/>
              </p:nvSpPr>
              <p:spPr>
                <a:xfrm>
                  <a:off x="3128760" y="3193200"/>
                  <a:ext cx="74520" cy="74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Oval 51"/>
                <p:cNvSpPr/>
                <p:nvPr/>
              </p:nvSpPr>
              <p:spPr>
                <a:xfrm>
                  <a:off x="3465360" y="347436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52"/>
                <p:cNvSpPr/>
                <p:nvPr/>
              </p:nvSpPr>
              <p:spPr>
                <a:xfrm>
                  <a:off x="3771720" y="347292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Oval 53"/>
                <p:cNvSpPr/>
                <p:nvPr/>
              </p:nvSpPr>
              <p:spPr>
                <a:xfrm>
                  <a:off x="3605040" y="3150360"/>
                  <a:ext cx="74520" cy="74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Oval 54"/>
                <p:cNvSpPr/>
                <p:nvPr/>
              </p:nvSpPr>
              <p:spPr>
                <a:xfrm>
                  <a:off x="3463560" y="326160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Oval 55"/>
                <p:cNvSpPr/>
                <p:nvPr/>
              </p:nvSpPr>
              <p:spPr>
                <a:xfrm>
                  <a:off x="3139920" y="350604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Line 56"/>
                <p:cNvSpPr/>
                <p:nvPr/>
              </p:nvSpPr>
              <p:spPr>
                <a:xfrm>
                  <a:off x="3036600" y="2880720"/>
                  <a:ext cx="0" cy="790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8" name="Line 57"/>
              <p:cNvSpPr/>
              <p:nvPr/>
            </p:nvSpPr>
            <p:spPr>
              <a:xfrm>
                <a:off x="3036600" y="2671560"/>
                <a:ext cx="336600" cy="325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Line 58"/>
              <p:cNvSpPr/>
              <p:nvPr/>
            </p:nvSpPr>
            <p:spPr>
              <a:xfrm flipH="1">
                <a:off x="4663440" y="2765160"/>
                <a:ext cx="336600" cy="325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0" name="Text Box 59"/>
          <p:cNvSpPr/>
          <p:nvPr/>
        </p:nvSpPr>
        <p:spPr>
          <a:xfrm>
            <a:off x="5423040" y="5065560"/>
            <a:ext cx="226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In equilibrium,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i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the same everywher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60"/>
          <p:cNvSpPr/>
          <p:nvPr/>
        </p:nvSpPr>
        <p:spPr>
          <a:xfrm>
            <a:off x="5415120" y="3929040"/>
            <a:ext cx="219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iffus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Particles move from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high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 to low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ysical Significance of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</a:t>
            </a:r>
            <a:r>
              <a:rPr b="0" lang="en-US" sz="4000" spc="-1" strike="noStrike">
                <a:solidFill>
                  <a:srgbClr val="fafd00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23" name="Object 63"/>
          <p:cNvGraphicFramePr/>
          <p:nvPr/>
        </p:nvGraphicFramePr>
        <p:xfrm>
          <a:off x="4613400" y="816120"/>
          <a:ext cx="254772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3400" y="816120"/>
                    <a:ext cx="254772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Rectangle 64"/>
          <p:cNvSpPr/>
          <p:nvPr/>
        </p:nvSpPr>
        <p:spPr>
          <a:xfrm>
            <a:off x="4359240" y="773280"/>
            <a:ext cx="2924280" cy="739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6560" y="64800"/>
            <a:ext cx="7543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with Potential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654120" y="3645000"/>
            <a:ext cx="50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PGothic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5076720" y="44784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4860720" y="44784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4173480" y="44784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531720" y="1787400"/>
            <a:ext cx="8128080" cy="164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he potential energy per particle, PE, makes an additional contribution     N·PE to the free energy: 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MS PGothic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F = U - T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So, the chemical potential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dF/dN) gains an additional contribution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d(N·PE)/dN = P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It’s the energy that one particle adds to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Exampl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588680" indent="9711720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Atom in gravit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588680" indent="9711720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588680" indent="9711720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Molecule with binding energ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124000" y="3267000"/>
          <a:ext cx="180360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267000"/>
                    <a:ext cx="18036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Text Box 12"/>
          <p:cNvSpPr/>
          <p:nvPr/>
        </p:nvSpPr>
        <p:spPr>
          <a:xfrm>
            <a:off x="4363920" y="340416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 = N/V  particle dens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308480" y="4309920"/>
          <a:ext cx="194004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8480" y="4309920"/>
                    <a:ext cx="19400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311720" y="5110200"/>
          <a:ext cx="1625400" cy="6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11720" y="5110200"/>
                    <a:ext cx="16254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020240" y="1274760"/>
            <a:ext cx="77058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gas density n and pressure p of the gas vary with height from the earth’s (or any planet’s)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mpare region 2 at height h with region 1 at height  0. (equal volum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very state in region 1 there’s a corresponding state in region 2 with mgh mor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ssume that the temperature is in equilibrium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rite the ideal gas law like th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 = nkT. (n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/ 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838080" y="174600"/>
            <a:ext cx="75438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Law of Atmospheres (1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003640" y="3835440"/>
            <a:ext cx="2446560" cy="1685520"/>
            <a:chOff x="5003640" y="3835440"/>
            <a:chExt cx="2446560" cy="1685520"/>
          </a:xfrm>
        </p:grpSpPr>
        <p:sp>
          <p:nvSpPr>
            <p:cNvPr id="245" name="Text Box 9"/>
            <p:cNvSpPr/>
            <p:nvPr/>
          </p:nvSpPr>
          <p:spPr>
            <a:xfrm>
              <a:off x="7145280" y="4948200"/>
              <a:ext cx="304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5003640" y="3882960"/>
              <a:ext cx="2362320" cy="1638000"/>
              <a:chOff x="5003640" y="3882960"/>
              <a:chExt cx="2362320" cy="1638000"/>
            </a:xfrm>
          </p:grpSpPr>
          <p:sp>
            <p:nvSpPr>
              <p:cNvPr id="247" name="Line 8"/>
              <p:cNvSpPr/>
              <p:nvPr/>
            </p:nvSpPr>
            <p:spPr>
              <a:xfrm flipV="1">
                <a:off x="5003640" y="3882960"/>
                <a:ext cx="0" cy="1638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Line 12"/>
              <p:cNvSpPr/>
              <p:nvPr/>
            </p:nvSpPr>
            <p:spPr>
              <a:xfrm>
                <a:off x="5003640" y="5520960"/>
                <a:ext cx="236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7139160" y="3859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6141960" y="3835440"/>
              <a:ext cx="790560" cy="456840"/>
              <a:chOff x="6141960" y="3835440"/>
              <a:chExt cx="790560" cy="456840"/>
            </a:xfrm>
          </p:grpSpPr>
          <p:sp>
            <p:nvSpPr>
              <p:cNvPr id="251" name="Text Box 65"/>
              <p:cNvSpPr/>
              <p:nvPr/>
            </p:nvSpPr>
            <p:spPr>
              <a:xfrm>
                <a:off x="6256800" y="388620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141960" y="38354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6141960" y="4964040"/>
              <a:ext cx="790560" cy="456840"/>
              <a:chOff x="6141960" y="4964040"/>
              <a:chExt cx="790560" cy="456840"/>
            </a:xfrm>
          </p:grpSpPr>
          <p:sp>
            <p:nvSpPr>
              <p:cNvPr id="254" name="Text Box 65"/>
              <p:cNvSpPr/>
              <p:nvPr/>
            </p:nvSpPr>
            <p:spPr>
              <a:xfrm>
                <a:off x="6258600" y="502236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141960" y="49640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6" name=""/>
          <p:cNvSpPr/>
          <p:nvPr/>
        </p:nvSpPr>
        <p:spPr>
          <a:xfrm>
            <a:off x="0" y="165240"/>
            <a:ext cx="13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Simple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4880" y="5232240"/>
            <a:ext cx="76320" cy="763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14280" y="5506920"/>
            <a:ext cx="2362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27360" y="5307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33760" y="3646440"/>
            <a:ext cx="1187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ress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1251000" y="3692520"/>
            <a:ext cx="0" cy="179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397160" y="3846600"/>
            <a:ext cx="1904400" cy="1675800"/>
            <a:chOff x="1397160" y="3846600"/>
            <a:chExt cx="1904400" cy="1675800"/>
          </a:xfrm>
        </p:grpSpPr>
        <p:sp>
          <p:nvSpPr>
            <p:cNvPr id="263" name=""/>
            <p:cNvSpPr/>
            <p:nvPr/>
          </p:nvSpPr>
          <p:spPr>
            <a:xfrm>
              <a:off x="26161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589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8752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30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44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017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8260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3980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235240" y="49892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25400" y="48369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30320" y="491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311200" y="47606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73320" y="49892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82600" y="46083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92440" y="48369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49440" y="44557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63840" y="41511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25600" y="468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39800" y="44557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0066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210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398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638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112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25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494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9716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49440" y="52178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731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352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06640" y="54464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5400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01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01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875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684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9970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398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256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73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733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68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210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44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256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225600" y="4074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25400" y="3922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92440" y="384660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929160" y="3605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11280" y="54975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arth’s su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28680" y="3308400"/>
            <a:ext cx="84438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ssuming the system is in equilibrium, compare the chemical potentials at height 0 and height h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&lt;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h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h)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&gt;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74720" y="72720"/>
            <a:ext cx="7601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976640" y="1023840"/>
            <a:ext cx="2446560" cy="1685520"/>
            <a:chOff x="4976640" y="1023840"/>
            <a:chExt cx="2446560" cy="1685520"/>
          </a:xfrm>
        </p:grpSpPr>
        <p:sp>
          <p:nvSpPr>
            <p:cNvPr id="316" name="Text Box 9"/>
            <p:cNvSpPr/>
            <p:nvPr/>
          </p:nvSpPr>
          <p:spPr>
            <a:xfrm>
              <a:off x="7118280" y="2136600"/>
              <a:ext cx="304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4976640" y="1071360"/>
              <a:ext cx="2362320" cy="1638000"/>
              <a:chOff x="4976640" y="1071360"/>
              <a:chExt cx="2362320" cy="1638000"/>
            </a:xfrm>
          </p:grpSpPr>
          <p:sp>
            <p:nvSpPr>
              <p:cNvPr id="318" name="Line 8"/>
              <p:cNvSpPr/>
              <p:nvPr/>
            </p:nvSpPr>
            <p:spPr>
              <a:xfrm flipV="1">
                <a:off x="4976640" y="1071360"/>
                <a:ext cx="0" cy="1638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Line 12"/>
              <p:cNvSpPr/>
              <p:nvPr/>
            </p:nvSpPr>
            <p:spPr>
              <a:xfrm>
                <a:off x="4976640" y="2709360"/>
                <a:ext cx="236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7112160" y="104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114960" y="1023840"/>
              <a:ext cx="790560" cy="456840"/>
              <a:chOff x="6114960" y="1023840"/>
              <a:chExt cx="790560" cy="456840"/>
            </a:xfrm>
          </p:grpSpPr>
          <p:sp>
            <p:nvSpPr>
              <p:cNvPr id="322" name="Text Box 65"/>
              <p:cNvSpPr/>
              <p:nvPr/>
            </p:nvSpPr>
            <p:spPr>
              <a:xfrm>
                <a:off x="6229800" y="107460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114960" y="10238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114960" y="2152440"/>
              <a:ext cx="790560" cy="456840"/>
              <a:chOff x="6114960" y="2152440"/>
              <a:chExt cx="790560" cy="456840"/>
            </a:xfrm>
          </p:grpSpPr>
          <p:sp>
            <p:nvSpPr>
              <p:cNvPr id="325" name="Text Box 65"/>
              <p:cNvSpPr/>
              <p:nvPr/>
            </p:nvSpPr>
            <p:spPr>
              <a:xfrm>
                <a:off x="6231600" y="221076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114960" y="21524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3017880" y="2421000"/>
            <a:ext cx="76320" cy="7596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87280" y="2695680"/>
            <a:ext cx="2362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00360" y="249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06760" y="835200"/>
            <a:ext cx="1187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ress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1224000" y="880560"/>
            <a:ext cx="0" cy="1798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370160" y="1035000"/>
            <a:ext cx="1904400" cy="1676520"/>
            <a:chOff x="1370160" y="1035000"/>
            <a:chExt cx="1904400" cy="1676520"/>
          </a:xfrm>
        </p:grpSpPr>
        <p:sp>
          <p:nvSpPr>
            <p:cNvPr id="333" name=""/>
            <p:cNvSpPr/>
            <p:nvPr/>
          </p:nvSpPr>
          <p:spPr>
            <a:xfrm>
              <a:off x="258912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1319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360520" y="23302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033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1772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674720" y="225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55600" y="23302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512800" y="225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08240" y="21780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98400" y="20257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03320" y="21016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84200" y="19494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46320" y="21780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55600" y="1797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65440" y="20257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522440" y="16444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436840" y="13399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98600" y="18730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12800" y="16444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979640" y="1415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94040" y="1415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1280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4368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842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5984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224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7016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522440" y="24066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46120" y="225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082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79640" y="26352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82700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7472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7472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3605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74140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97000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51280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19860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04632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7414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940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1772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1986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98600" y="1263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98400" y="1111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665440" y="10350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902160" y="79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84280" y="26859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arth’s su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32"/>
          <p:cNvSpPr/>
          <p:nvPr/>
        </p:nvSpPr>
        <p:spPr>
          <a:xfrm>
            <a:off x="447840" y="1214280"/>
            <a:ext cx="8391240" cy="41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he two regions can exchange particles (molecule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so imagine that they are connected by a narrow tube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he rest of the atmosphere is the thermal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Equilibrium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Arial"/>
                <a:ea typeface="MS PGothic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MS PGothic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Arial"/>
                <a:ea typeface="MS PGothic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Chemical potentia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(ideal gas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Ideal gas law: p/n = k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 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(T</a:t>
            </a:r>
            <a:r>
              <a:rPr b="1" lang="en-US" sz="16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1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 = T</a:t>
            </a:r>
            <a:r>
              <a:rPr b="1" lang="en-US" sz="16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2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 in equilibriu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223920" y="4038480"/>
          <a:ext cx="1334880" cy="25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4038480"/>
                    <a:ext cx="133488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Rectangle 5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3703680" y="2698920"/>
          <a:ext cx="2502000" cy="16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3680" y="2698920"/>
                    <a:ext cx="250200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Rectangle 2"/>
          <p:cNvSpPr/>
          <p:nvPr/>
        </p:nvSpPr>
        <p:spPr>
          <a:xfrm>
            <a:off x="826920" y="65160"/>
            <a:ext cx="75438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Law of Atmospheres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6988320" y="1330200"/>
            <a:ext cx="1263600" cy="2455920"/>
            <a:chOff x="6988320" y="1330200"/>
            <a:chExt cx="1263600" cy="2455920"/>
          </a:xfrm>
        </p:grpSpPr>
        <p:sp>
          <p:nvSpPr>
            <p:cNvPr id="391" name="Text Box 7"/>
            <p:cNvSpPr/>
            <p:nvPr/>
          </p:nvSpPr>
          <p:spPr>
            <a:xfrm>
              <a:off x="6988320" y="1330200"/>
              <a:ext cx="564840" cy="55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Text Box 27"/>
            <p:cNvSpPr/>
            <p:nvPr/>
          </p:nvSpPr>
          <p:spPr>
            <a:xfrm>
              <a:off x="7869240" y="2253960"/>
              <a:ext cx="38268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Line 28"/>
            <p:cNvSpPr/>
            <p:nvPr/>
          </p:nvSpPr>
          <p:spPr>
            <a:xfrm>
              <a:off x="7818480" y="3557520"/>
              <a:ext cx="37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Line 29"/>
            <p:cNvSpPr/>
            <p:nvPr/>
          </p:nvSpPr>
          <p:spPr>
            <a:xfrm>
              <a:off x="7788240" y="1611000"/>
              <a:ext cx="37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Line 30"/>
            <p:cNvSpPr/>
            <p:nvPr/>
          </p:nvSpPr>
          <p:spPr>
            <a:xfrm flipV="1">
              <a:off x="7988400" y="1612800"/>
              <a:ext cx="6120" cy="619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Line 31"/>
            <p:cNvSpPr/>
            <p:nvPr/>
          </p:nvSpPr>
          <p:spPr>
            <a:xfrm>
              <a:off x="7996320" y="2707920"/>
              <a:ext cx="0" cy="841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Text Box 7"/>
            <p:cNvSpPr/>
            <p:nvPr/>
          </p:nvSpPr>
          <p:spPr>
            <a:xfrm>
              <a:off x="6988320" y="3230280"/>
              <a:ext cx="564840" cy="555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05760" y="1881000"/>
              <a:ext cx="96840" cy="1346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695160" y="1397160"/>
            <a:ext cx="795672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ocess will happen spontaneously if the free energy would be decreas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just another way of saying that, left on their own, systems will ten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thermal equilibrium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minimum fre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you have to do work on a system (the opposite of a spontaneous process), you are increasing the free energy of the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 matches bur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fter you strike them)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urned state has less free energy than the unburned 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must you strike the match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nergy barrier - it needs help getting star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Build Your Intu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1411200" y="4908600"/>
            <a:ext cx="4048200" cy="1640160"/>
            <a:chOff x="1411200" y="4908600"/>
            <a:chExt cx="4048200" cy="1640160"/>
          </a:xfrm>
        </p:grpSpPr>
        <p:grpSp>
          <p:nvGrpSpPr>
            <p:cNvPr id="404" name="Group 5"/>
            <p:cNvGrpSpPr/>
            <p:nvPr/>
          </p:nvGrpSpPr>
          <p:grpSpPr>
            <a:xfrm>
              <a:off x="2868480" y="4908600"/>
              <a:ext cx="2590920" cy="1640160"/>
              <a:chOff x="2868480" y="4908600"/>
              <a:chExt cx="2590920" cy="1640160"/>
            </a:xfrm>
          </p:grpSpPr>
          <p:sp>
            <p:nvSpPr>
              <p:cNvPr id="405" name="Line 6"/>
              <p:cNvSpPr/>
              <p:nvPr/>
            </p:nvSpPr>
            <p:spPr>
              <a:xfrm flipV="1">
                <a:off x="3147840" y="5004000"/>
                <a:ext cx="0" cy="117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Line 7"/>
              <p:cNvSpPr/>
              <p:nvPr/>
            </p:nvSpPr>
            <p:spPr>
              <a:xfrm>
                <a:off x="3147840" y="6181920"/>
                <a:ext cx="2311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Freeform 8"/>
              <p:cNvSpPr/>
              <p:nvPr/>
            </p:nvSpPr>
            <p:spPr>
              <a:xfrm>
                <a:off x="3305160" y="5075280"/>
                <a:ext cx="1724040" cy="909720"/>
              </a:xfrm>
              <a:custGeom>
                <a:avLst/>
                <a:gdLst>
                  <a:gd name="textAreaLeft" fmla="*/ 0 w 1724040"/>
                  <a:gd name="textAreaRight" fmla="*/ 1724400 w 1724040"/>
                  <a:gd name="textAreaTop" fmla="*/ 0 h 909720"/>
                  <a:gd name="textAreaBottom" fmla="*/ 910080 h 909720"/>
                </a:gdLst>
                <a:ahLst/>
                <a:rect l="textAreaLeft" t="textAreaTop" r="textAreaRight" b="textAreaBottom"/>
                <a:pathLst>
                  <a:path w="1086" h="573">
                    <a:moveTo>
                      <a:pt x="0" y="0"/>
                    </a:moveTo>
                    <a:cubicBezTo>
                      <a:pt x="14" y="30"/>
                      <a:pt x="47" y="132"/>
                      <a:pt x="84" y="182"/>
                    </a:cubicBezTo>
                    <a:cubicBezTo>
                      <a:pt x="121" y="232"/>
                      <a:pt x="171" y="303"/>
                      <a:pt x="222" y="299"/>
                    </a:cubicBezTo>
                    <a:cubicBezTo>
                      <a:pt x="273" y="295"/>
                      <a:pt x="337" y="156"/>
                      <a:pt x="388" y="155"/>
                    </a:cubicBezTo>
                    <a:cubicBezTo>
                      <a:pt x="439" y="154"/>
                      <a:pt x="484" y="241"/>
                      <a:pt x="527" y="293"/>
                    </a:cubicBezTo>
                    <a:cubicBezTo>
                      <a:pt x="570" y="345"/>
                      <a:pt x="602" y="421"/>
                      <a:pt x="643" y="465"/>
                    </a:cubicBezTo>
                    <a:cubicBezTo>
                      <a:pt x="684" y="509"/>
                      <a:pt x="721" y="573"/>
                      <a:pt x="770" y="559"/>
                    </a:cubicBezTo>
                    <a:cubicBezTo>
                      <a:pt x="819" y="545"/>
                      <a:pt x="883" y="464"/>
                      <a:pt x="936" y="382"/>
                    </a:cubicBezTo>
                    <a:cubicBezTo>
                      <a:pt x="989" y="300"/>
                      <a:pt x="1037" y="183"/>
                      <a:pt x="1086" y="66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Line 9"/>
              <p:cNvSpPr/>
              <p:nvPr/>
            </p:nvSpPr>
            <p:spPr>
              <a:xfrm flipV="1">
                <a:off x="3639960" y="6076800"/>
                <a:ext cx="0" cy="176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Line 10"/>
              <p:cNvSpPr/>
              <p:nvPr/>
            </p:nvSpPr>
            <p:spPr>
              <a:xfrm flipV="1">
                <a:off x="4530600" y="6087960"/>
                <a:ext cx="0" cy="176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Text Box 11"/>
              <p:cNvSpPr/>
              <p:nvPr/>
            </p:nvSpPr>
            <p:spPr>
              <a:xfrm>
                <a:off x="3285360" y="6302520"/>
                <a:ext cx="71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unburned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Text Box 12"/>
              <p:cNvSpPr/>
              <p:nvPr/>
            </p:nvSpPr>
            <p:spPr>
              <a:xfrm>
                <a:off x="4241160" y="6302520"/>
                <a:ext cx="573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burned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Text Box 13"/>
              <p:cNvSpPr/>
              <p:nvPr/>
            </p:nvSpPr>
            <p:spPr>
              <a:xfrm>
                <a:off x="2868480" y="490860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3" name="Text Box 14"/>
            <p:cNvSpPr/>
            <p:nvPr/>
          </p:nvSpPr>
          <p:spPr>
            <a:xfrm>
              <a:off x="1411200" y="5386680"/>
              <a:ext cx="13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A local minimum of F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Line 15"/>
            <p:cNvSpPr/>
            <p:nvPr/>
          </p:nvSpPr>
          <p:spPr>
            <a:xfrm>
              <a:off x="2724120" y="5529600"/>
              <a:ext cx="747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09-27T03:54:13Z</dcterms:modified>
  <cp:revision>51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