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A9B5FEE-48F2-45A6-B0F0-234BEEAB6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F051F8E9-2B93-413C-AE99-6DEA58F5796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35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36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7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8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9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40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41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42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43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44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45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46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47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48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6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7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64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65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166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167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168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169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5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177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178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4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186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187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3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5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204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205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06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07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08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209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10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11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12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213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4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5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6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7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8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9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20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221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228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29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0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1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2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33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234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35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236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7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8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2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9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9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56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257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58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259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0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1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2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3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4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5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6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7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8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9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0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1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2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3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4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5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6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77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278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79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280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1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prstGeom prst="pie">
                <a:avLst/>
              </a:pr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82" name="Text Box 33"/>
          <p:cNvSpPr/>
          <p:nvPr/>
        </p:nvSpPr>
        <p:spPr>
          <a:xfrm>
            <a:off x="5616720" y="3054240"/>
            <a:ext cx="3178080" cy="1333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=3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83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284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85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286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7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8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9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90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91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92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94" name="Text Box 46"/>
          <p:cNvSpPr/>
          <p:nvPr/>
        </p:nvSpPr>
        <p:spPr>
          <a:xfrm>
            <a:off x="783000" y="5451480"/>
            <a:ext cx="7499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N oscillators when q &gt;&gt; N (or, U &gt;&gt; Nε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00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301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302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303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08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09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10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11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312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313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4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1405080" y="2296080"/>
            <a:ext cx="6156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1" lang="en-US" sz="4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330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331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332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33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34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35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343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344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45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346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347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49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0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1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353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4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6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58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359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360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61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62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63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4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72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373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74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375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76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77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378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79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591440" y="6084720"/>
            <a:ext cx="144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64160" y="5845320"/>
            <a:ext cx="1658880" cy="84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394" name="Arc 7"/>
            <p:cNvSpPr/>
            <p:nvPr/>
          </p:nvSpPr>
          <p:spPr>
            <a:xfrm flipH="1">
              <a:off x="6500880" y="5425920"/>
              <a:ext cx="2201760" cy="8856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5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6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7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8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" name="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59" name="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1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2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66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1" lang="en-US" sz="12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68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69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70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1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1" lang="en-US" sz="14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4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75" name="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883560" y="186228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86228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ε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89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90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91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92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1" lang="en-US" sz="18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prstGeom prst="pie">
                  <a:avLst/>
                </a:pr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7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8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9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01" name="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3" name="Text Box 31"/>
          <p:cNvSpPr/>
          <p:nvPr/>
        </p:nvSpPr>
        <p:spPr>
          <a:xfrm>
            <a:off x="752256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ε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05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6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7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8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9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0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17" name="Freeform 7"/>
            <p:cNvSpPr/>
            <p:nvPr/>
          </p:nvSpPr>
          <p:spPr>
            <a:xfrm>
              <a:off x="6165720" y="395100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8" name="Freeform 8"/>
            <p:cNvSpPr/>
            <p:nvPr/>
          </p:nvSpPr>
          <p:spPr>
            <a:xfrm rot="5251200">
              <a:off x="6367680" y="4509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6858000" y="3931920"/>
              <a:ext cx="58248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 rot="5251200">
              <a:off x="6353280" y="3420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22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23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124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125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26" name="Freeform 15"/>
            <p:cNvSpPr/>
            <p:nvPr/>
          </p:nvSpPr>
          <p:spPr>
            <a:xfrm>
              <a:off x="5877000" y="19954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7" name="Freeform 16"/>
            <p:cNvSpPr/>
            <p:nvPr/>
          </p:nvSpPr>
          <p:spPr>
            <a:xfrm>
              <a:off x="656856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8" name="Freeform 17"/>
            <p:cNvSpPr/>
            <p:nvPr/>
          </p:nvSpPr>
          <p:spPr>
            <a:xfrm>
              <a:off x="724428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9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30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cp:keywords/>
  <dc:language>en-US</dc:language>
  <cp:lastModifiedBy>kwiat</cp:lastModifiedBy>
  <cp:lastPrinted>1997-01-30T13:11:51Z</cp:lastPrinted>
  <dcterms:modified xsi:type="dcterms:W3CDTF">2011-09-03T16:33:14Z</dcterms:modified>
  <cp:revision>31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