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579C28B-3A94-46CF-93B1-D8C31007F8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gizmodo.com/gadgets/darwin-at-work/why-you-shouldnt-smash-a-can-of-wd+40-280250.php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88AC375B-C389-4265-BE82-24F7D07FF18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AD6BAAE1-4470-44E2-BBDF-27F9A73283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8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2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5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7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81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0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3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8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18:26:54Z</dcterms:modified>
  <cp:revision>3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