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97C4494-D49D-4315-AA16-9C5CCAC7C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47080" y="208080"/>
            <a:ext cx="1686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cture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bit long.  I only made it through slide 12, partly because I needed to finish lecture 19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heated water!! They lo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rush the gallon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oiling of salty and pu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eat p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alcohol thermomet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yl alcohol   0.08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 0.03 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vailable work.  If we increase p (at constant) of pist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compresse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available work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free energ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rger chemical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792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‘triple point’, where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07F28760-84B2-4947-A37E-79E8BF0E99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2560" y="66240"/>
            <a:ext cx="5423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20</a:t>
            </a:r>
            <a:br>
              <a:rPr sz="4000"/>
            </a:br>
            <a:br>
              <a:rPr sz="20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Phase Transition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93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94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99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302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306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308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0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311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314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319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322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328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3649680" y="2629080"/>
            <a:ext cx="743040" cy="733320"/>
            <a:chOff x="3649680" y="2629080"/>
            <a:chExt cx="743040" cy="733320"/>
          </a:xfrm>
        </p:grpSpPr>
        <p:sp>
          <p:nvSpPr>
            <p:cNvPr id="333" name=""/>
            <p:cNvSpPr/>
            <p:nvPr/>
          </p:nvSpPr>
          <p:spPr>
            <a:xfrm>
              <a:off x="3649680" y="2629080"/>
              <a:ext cx="573120" cy="64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37200" y="2712960"/>
              <a:ext cx="1555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378480" y="2620800"/>
            <a:ext cx="1373400" cy="727200"/>
            <a:chOff x="6378480" y="2620800"/>
            <a:chExt cx="1373400" cy="727200"/>
          </a:xfrm>
        </p:grpSpPr>
        <p:sp>
          <p:nvSpPr>
            <p:cNvPr id="336" name=""/>
            <p:cNvSpPr/>
            <p:nvPr/>
          </p:nvSpPr>
          <p:spPr>
            <a:xfrm>
              <a:off x="6378480" y="2620800"/>
              <a:ext cx="6462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27920" y="2727360"/>
              <a:ext cx="60948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40640" y="3068640"/>
              <a:ext cx="111240" cy="27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033560" y="2624040"/>
            <a:ext cx="353880" cy="760680"/>
            <a:chOff x="1033560" y="2624040"/>
            <a:chExt cx="353880" cy="760680"/>
          </a:xfrm>
        </p:grpSpPr>
        <p:sp>
          <p:nvSpPr>
            <p:cNvPr id="340" name=""/>
            <p:cNvSpPr/>
            <p:nvPr/>
          </p:nvSpPr>
          <p:spPr>
            <a:xfrm>
              <a:off x="1033560" y="2624040"/>
              <a:ext cx="258840" cy="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05000" y="2662200"/>
              <a:ext cx="82440" cy="72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346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348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203640" y="3830760"/>
            <a:ext cx="58928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liquid phase is not stable for any T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ubstance sublimes at temperature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increase the pressure, the gas curve moves to the right.  There is 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which all three curves pass through a point.  The three phases can coexist only at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 are two phase transition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-liquid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liquid-gas at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301760" y="1496880"/>
            <a:ext cx="0" cy="1154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7680" y="12762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352520" y="5990760"/>
            <a:ext cx="0" cy="203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1752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641600" y="5502240"/>
            <a:ext cx="0" cy="7192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84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746360" y="5157720"/>
            <a:ext cx="0" cy="10699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324160" y="5162400"/>
            <a:ext cx="0" cy="10605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4628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189160" y="6213600"/>
            <a:ext cx="322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2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hase Diagram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2320" y="3147480"/>
            <a:ext cx="3809880" cy="44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pecial transition lines, two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very special “triple points”, those line cross and three phases are s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9"/>
          <p:cNvSpPr/>
          <p:nvPr/>
        </p:nvSpPr>
        <p:spPr>
          <a:xfrm flipV="1">
            <a:off x="4129200" y="3185640"/>
            <a:ext cx="2570040" cy="108756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 flipV="1">
            <a:off x="6337440" y="3949560"/>
            <a:ext cx="722160" cy="11908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11"/>
          <p:cNvGrpSpPr/>
          <p:nvPr/>
        </p:nvGrpSpPr>
        <p:grpSpPr>
          <a:xfrm>
            <a:off x="5268960" y="1482840"/>
            <a:ext cx="2966040" cy="2716200"/>
            <a:chOff x="5268960" y="1482840"/>
            <a:chExt cx="2966040" cy="2716200"/>
          </a:xfrm>
        </p:grpSpPr>
        <p:grpSp>
          <p:nvGrpSpPr>
            <p:cNvPr id="384" name="Group 12"/>
            <p:cNvGrpSpPr/>
            <p:nvPr/>
          </p:nvGrpSpPr>
          <p:grpSpPr>
            <a:xfrm>
              <a:off x="5435280" y="2028600"/>
              <a:ext cx="2799720" cy="2170440"/>
              <a:chOff x="5435280" y="2028600"/>
              <a:chExt cx="2799720" cy="2170440"/>
            </a:xfrm>
          </p:grpSpPr>
          <p:sp>
            <p:nvSpPr>
              <p:cNvPr id="385" name="Line 13"/>
              <p:cNvSpPr/>
              <p:nvPr/>
            </p:nvSpPr>
            <p:spPr>
              <a:xfrm flipV="1">
                <a:off x="5435280" y="2028600"/>
                <a:ext cx="0" cy="2064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14"/>
              <p:cNvSpPr/>
              <p:nvPr/>
            </p:nvSpPr>
            <p:spPr>
              <a:xfrm>
                <a:off x="5446800" y="4105440"/>
                <a:ext cx="225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15"/>
              <p:cNvSpPr/>
              <p:nvPr/>
            </p:nvSpPr>
            <p:spPr>
              <a:xfrm>
                <a:off x="5792760" y="3227040"/>
                <a:ext cx="916920" cy="866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16"/>
              <p:cNvSpPr/>
              <p:nvPr/>
            </p:nvSpPr>
            <p:spPr>
              <a:xfrm flipH="1">
                <a:off x="6721560" y="2111400"/>
                <a:ext cx="345600" cy="1115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7"/>
              <p:cNvSpPr/>
              <p:nvPr/>
            </p:nvSpPr>
            <p:spPr>
              <a:xfrm>
                <a:off x="6721560" y="2598120"/>
                <a:ext cx="1215360" cy="6051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Text Box 18"/>
              <p:cNvSpPr/>
              <p:nvPr/>
            </p:nvSpPr>
            <p:spPr>
              <a:xfrm>
                <a:off x="7758360" y="3891960"/>
                <a:ext cx="476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19"/>
            <p:cNvSpPr/>
            <p:nvPr/>
          </p:nvSpPr>
          <p:spPr>
            <a:xfrm>
              <a:off x="5268960" y="148284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Text Box 20"/>
          <p:cNvSpPr/>
          <p:nvPr/>
        </p:nvSpPr>
        <p:spPr>
          <a:xfrm>
            <a:off x="5500800" y="1987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7120080" y="2082960"/>
            <a:ext cx="11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6823080" y="34974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26"/>
          <p:cNvGrpSpPr/>
          <p:nvPr/>
        </p:nvGrpSpPr>
        <p:grpSpPr>
          <a:xfrm>
            <a:off x="3833640" y="2584080"/>
            <a:ext cx="3637080" cy="1132200"/>
            <a:chOff x="3833640" y="2584080"/>
            <a:chExt cx="3637080" cy="1132200"/>
          </a:xfrm>
        </p:grpSpPr>
        <p:sp>
          <p:nvSpPr>
            <p:cNvPr id="396" name="Line 8"/>
            <p:cNvSpPr/>
            <p:nvPr/>
          </p:nvSpPr>
          <p:spPr>
            <a:xfrm flipV="1">
              <a:off x="3875040" y="2584080"/>
              <a:ext cx="3062160" cy="7239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 flipV="1">
              <a:off x="3833640" y="2897280"/>
              <a:ext cx="3637080" cy="433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3854520" y="3352680"/>
              <a:ext cx="2442960" cy="363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581280" y="5213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in almost all the (p.T) plane, only ONE phase is stable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38040" y="61560"/>
            <a:ext cx="6669000" cy="63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920" y="938160"/>
            <a:ext cx="9144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06440" y="1461960"/>
            <a:ext cx="850572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think a bit about energy flow during phase trans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heat flows slowly into 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 water containing some ice cubes (maintaining equilibrium)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to the energy added to the syst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ic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warms the water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It breaks ice b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39160" y="3218040"/>
            <a:ext cx="1603440" cy="2033280"/>
            <a:chOff x="7139160" y="3218040"/>
            <a:chExt cx="1603440" cy="2033280"/>
          </a:xfrm>
        </p:grpSpPr>
        <p:sp>
          <p:nvSpPr>
            <p:cNvPr id="406" name="Line 8"/>
            <p:cNvSpPr/>
            <p:nvPr/>
          </p:nvSpPr>
          <p:spPr>
            <a:xfrm>
              <a:off x="71391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8456760" y="321804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7139160" y="4730760"/>
              <a:ext cx="1330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7392960" y="3664080"/>
              <a:ext cx="325440" cy="3124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7885080" y="3633840"/>
              <a:ext cx="405000" cy="37764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8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7153200" y="3719520"/>
              <a:ext cx="2318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7721640" y="3719520"/>
              <a:ext cx="187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8296200" y="3719520"/>
              <a:ext cx="146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6"/>
            <p:cNvSpPr/>
            <p:nvPr/>
          </p:nvSpPr>
          <p:spPr>
            <a:xfrm>
              <a:off x="7446960" y="4105440"/>
              <a:ext cx="6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0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 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9"/>
            <p:cNvSpPr/>
            <p:nvPr/>
          </p:nvSpPr>
          <p:spPr>
            <a:xfrm>
              <a:off x="7616160" y="3281400"/>
              <a:ext cx="4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Group 21"/>
            <p:cNvGrpSpPr/>
            <p:nvPr/>
          </p:nvGrpSpPr>
          <p:grpSpPr>
            <a:xfrm>
              <a:off x="8215560" y="3599280"/>
              <a:ext cx="527040" cy="936720"/>
              <a:chOff x="8215560" y="3599280"/>
              <a:chExt cx="527040" cy="936720"/>
            </a:xfrm>
          </p:grpSpPr>
          <p:sp>
            <p:nvSpPr>
              <p:cNvPr id="417" name="Oval 22"/>
              <p:cNvSpPr/>
              <p:nvPr/>
            </p:nvSpPr>
            <p:spPr>
              <a:xfrm rot="1513800">
                <a:off x="8241840" y="4347360"/>
                <a:ext cx="162000" cy="161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23"/>
              <p:cNvSpPr/>
              <p:nvPr/>
            </p:nvSpPr>
            <p:spPr>
              <a:xfrm rot="1513800">
                <a:off x="8494920" y="3575520"/>
                <a:ext cx="74520" cy="8287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24"/>
              <p:cNvSpPr/>
              <p:nvPr/>
            </p:nvSpPr>
            <p:spPr>
              <a:xfrm flipV="1">
                <a:off x="8330400" y="3925080"/>
                <a:ext cx="231480" cy="491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AutoShape 25"/>
            <p:cNvSpPr/>
            <p:nvPr/>
          </p:nvSpPr>
          <p:spPr>
            <a:xfrm>
              <a:off x="7750080" y="4743360"/>
              <a:ext cx="209520" cy="507960"/>
            </a:xfrm>
            <a:prstGeom prst="upArrow">
              <a:avLst>
                <a:gd name="adj1" fmla="val 50000"/>
                <a:gd name="adj2" fmla="val 60610"/>
              </a:avLst>
            </a:prstGeom>
            <a:solidFill>
              <a:srgbClr val="ff00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6"/>
            <p:cNvSpPr/>
            <p:nvPr/>
          </p:nvSpPr>
          <p:spPr>
            <a:xfrm>
              <a:off x="7924320" y="48927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06440" y="1376280"/>
            <a:ext cx="8082000" cy="52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63360"/>
            <a:ext cx="78310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4040" y="1057320"/>
            <a:ext cx="55306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liguid-gas phase transition at constant pressure.  The phase diagram doesn’t tell the whol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ory.  Look at how the system changes as we add he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 temperatu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amount of heat add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e 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: Q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of the energy goes into break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onds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), and some goes into raising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eight (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-T diagram doesn’t show either of thes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heat we need to add to effect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e change is called “latent hea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373800" y="1300320"/>
            <a:ext cx="2368440" cy="1778760"/>
            <a:chOff x="6373800" y="1300320"/>
            <a:chExt cx="2368440" cy="1778760"/>
          </a:xfrm>
        </p:grpSpPr>
        <p:grpSp>
          <p:nvGrpSpPr>
            <p:cNvPr id="426" name=""/>
            <p:cNvGrpSpPr/>
            <p:nvPr/>
          </p:nvGrpSpPr>
          <p:grpSpPr>
            <a:xfrm>
              <a:off x="6373800" y="1300320"/>
              <a:ext cx="2368440" cy="1778760"/>
              <a:chOff x="6373800" y="1300320"/>
              <a:chExt cx="2368440" cy="1778760"/>
            </a:xfrm>
          </p:grpSpPr>
          <p:sp>
            <p:nvSpPr>
              <p:cNvPr id="427" name="Text Box 32"/>
              <p:cNvSpPr/>
              <p:nvPr/>
            </p:nvSpPr>
            <p:spPr>
              <a:xfrm>
                <a:off x="7551720" y="2446920"/>
                <a:ext cx="54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8"/>
              <p:cNvSpPr/>
              <p:nvPr/>
            </p:nvSpPr>
            <p:spPr>
              <a:xfrm flipV="1">
                <a:off x="6678720" y="1395360"/>
                <a:ext cx="0" cy="1657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9"/>
              <p:cNvSpPr/>
              <p:nvPr/>
            </p:nvSpPr>
            <p:spPr>
              <a:xfrm>
                <a:off x="6686640" y="306216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20"/>
              <p:cNvSpPr/>
              <p:nvPr/>
            </p:nvSpPr>
            <p:spPr>
              <a:xfrm>
                <a:off x="6797520" y="2346480"/>
                <a:ext cx="586080" cy="69516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 flipH="1">
                <a:off x="7389000" y="1461960"/>
                <a:ext cx="24948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2"/>
              <p:cNvSpPr/>
              <p:nvPr/>
            </p:nvSpPr>
            <p:spPr>
              <a:xfrm>
                <a:off x="7440480" y="1852560"/>
                <a:ext cx="781200" cy="48600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Text Box 24"/>
              <p:cNvSpPr/>
              <p:nvPr/>
            </p:nvSpPr>
            <p:spPr>
              <a:xfrm>
                <a:off x="8339040" y="274176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Text Box 30"/>
              <p:cNvSpPr/>
              <p:nvPr/>
            </p:nvSpPr>
            <p:spPr>
              <a:xfrm>
                <a:off x="6373800" y="130032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77000" y="20764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22720" y="145584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9840" y="147492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7961400" y="2049480"/>
              <a:ext cx="4608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332360" y="2039760"/>
            <a:ext cx="4398120" cy="1252800"/>
            <a:chOff x="1332360" y="2039760"/>
            <a:chExt cx="4398120" cy="1252800"/>
          </a:xfrm>
        </p:grpSpPr>
        <p:grpSp>
          <p:nvGrpSpPr>
            <p:cNvPr id="440" name="Group 4"/>
            <p:cNvGrpSpPr/>
            <p:nvPr/>
          </p:nvGrpSpPr>
          <p:grpSpPr>
            <a:xfrm>
              <a:off x="1332360" y="2039760"/>
              <a:ext cx="2879640" cy="1154520"/>
              <a:chOff x="1332360" y="2039760"/>
              <a:chExt cx="2879640" cy="1154520"/>
            </a:xfrm>
          </p:grpSpPr>
          <p:grpSp>
            <p:nvGrpSpPr>
              <p:cNvPr id="441" name="Group 5"/>
              <p:cNvGrpSpPr/>
              <p:nvPr/>
            </p:nvGrpSpPr>
            <p:grpSpPr>
              <a:xfrm>
                <a:off x="2353320" y="2039760"/>
                <a:ext cx="1858680" cy="1065960"/>
                <a:chOff x="2353320" y="2039760"/>
                <a:chExt cx="1858680" cy="1065960"/>
              </a:xfrm>
            </p:grpSpPr>
            <p:grpSp>
              <p:nvGrpSpPr>
                <p:cNvPr id="442" name="Group 6"/>
                <p:cNvGrpSpPr/>
                <p:nvPr/>
              </p:nvGrpSpPr>
              <p:grpSpPr>
                <a:xfrm>
                  <a:off x="2353320" y="2039760"/>
                  <a:ext cx="1858680" cy="976320"/>
                  <a:chOff x="2353320" y="2039760"/>
                  <a:chExt cx="1858680" cy="976320"/>
                </a:xfrm>
              </p:grpSpPr>
              <p:sp>
                <p:nvSpPr>
                  <p:cNvPr id="443" name="Oval 7"/>
                  <p:cNvSpPr/>
                  <p:nvPr/>
                </p:nvSpPr>
                <p:spPr>
                  <a:xfrm>
                    <a:off x="3881160" y="2039760"/>
                    <a:ext cx="88920" cy="82800"/>
                  </a:xfrm>
                  <a:prstGeom prst="ellipse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4" name="Group 8"/>
                  <p:cNvGrpSpPr/>
                  <p:nvPr/>
                </p:nvGrpSpPr>
                <p:grpSpPr>
                  <a:xfrm>
                    <a:off x="2353320" y="2129040"/>
                    <a:ext cx="1858680" cy="887040"/>
                    <a:chOff x="2353320" y="2129040"/>
                    <a:chExt cx="1858680" cy="887040"/>
                  </a:xfrm>
                </p:grpSpPr>
                <p:grpSp>
                  <p:nvGrpSpPr>
                    <p:cNvPr id="445" name="Group 9"/>
                    <p:cNvGrpSpPr/>
                    <p:nvPr/>
                  </p:nvGrpSpPr>
                  <p:grpSpPr>
                    <a:xfrm>
                      <a:off x="3222000" y="2321280"/>
                      <a:ext cx="143280" cy="260640"/>
                      <a:chOff x="3222000" y="2321280"/>
                      <a:chExt cx="143280" cy="260640"/>
                    </a:xfrm>
                  </p:grpSpPr>
                  <p:sp>
                    <p:nvSpPr>
                      <p:cNvPr id="446" name="Rectangle 10"/>
                      <p:cNvSpPr/>
                      <p:nvPr/>
                    </p:nvSpPr>
                    <p:spPr>
                      <a:xfrm>
                        <a:off x="3222000" y="2412360"/>
                        <a:ext cx="143280" cy="16956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11"/>
                      <p:cNvSpPr/>
                      <p:nvPr/>
                    </p:nvSpPr>
                    <p:spPr>
                      <a:xfrm>
                        <a:off x="3241800" y="2321280"/>
                        <a:ext cx="90000" cy="8424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960" bIns="129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8" name="Group 12"/>
                    <p:cNvGrpSpPr/>
                    <p:nvPr/>
                  </p:nvGrpSpPr>
                  <p:grpSpPr>
                    <a:xfrm>
                      <a:off x="2527920" y="2494080"/>
                      <a:ext cx="143280" cy="259200"/>
                      <a:chOff x="2527920" y="2494080"/>
                      <a:chExt cx="143280" cy="259200"/>
                    </a:xfrm>
                  </p:grpSpPr>
                  <p:sp>
                    <p:nvSpPr>
                      <p:cNvPr id="449" name="Rectangle 13"/>
                      <p:cNvSpPr/>
                      <p:nvPr/>
                    </p:nvSpPr>
                    <p:spPr>
                      <a:xfrm>
                        <a:off x="2527920" y="2583360"/>
                        <a:ext cx="143280" cy="169920"/>
                      </a:xfrm>
                      <a:prstGeom prst="rect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Oval 14"/>
                      <p:cNvSpPr/>
                      <p:nvPr/>
                    </p:nvSpPr>
                    <p:spPr>
                      <a:xfrm>
                        <a:off x="2547720" y="2494080"/>
                        <a:ext cx="90000" cy="8280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1" name="Rectangle 15"/>
                    <p:cNvSpPr/>
                    <p:nvPr/>
                  </p:nvSpPr>
                  <p:spPr>
                    <a:xfrm>
                      <a:off x="3852720" y="2129040"/>
                      <a:ext cx="141840" cy="1699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52" name="Group 16"/>
                    <p:cNvGrpSpPr/>
                    <p:nvPr/>
                  </p:nvGrpSpPr>
                  <p:grpSpPr>
                    <a:xfrm>
                      <a:off x="2353320" y="2267280"/>
                      <a:ext cx="502920" cy="737280"/>
                      <a:chOff x="2353320" y="2267280"/>
                      <a:chExt cx="502920" cy="737280"/>
                    </a:xfrm>
                  </p:grpSpPr>
                  <p:sp>
                    <p:nvSpPr>
                      <p:cNvPr id="453" name="Line 17"/>
                      <p:cNvSpPr/>
                      <p:nvPr/>
                    </p:nvSpPr>
                    <p:spPr>
                      <a:xfrm flipV="1">
                        <a:off x="235332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Line 18"/>
                      <p:cNvSpPr/>
                      <p:nvPr/>
                    </p:nvSpPr>
                    <p:spPr>
                      <a:xfrm>
                        <a:off x="2354400" y="3004560"/>
                        <a:ext cx="501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5" name="Line 19"/>
                      <p:cNvSpPr/>
                      <p:nvPr/>
                    </p:nvSpPr>
                    <p:spPr>
                      <a:xfrm flipV="1">
                        <a:off x="2856240" y="2267280"/>
                        <a:ext cx="0" cy="7358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6" name="Line 20"/>
                      <p:cNvSpPr/>
                      <p:nvPr/>
                    </p:nvSpPr>
                    <p:spPr>
                      <a:xfrm>
                        <a:off x="2354400" y="2802600"/>
                        <a:ext cx="501480" cy="0"/>
                      </a:xfrm>
                      <a:prstGeom prst="line">
                        <a:avLst/>
                      </a:prstGeom>
                      <a:ln w="7632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7" name="Rectangle 21"/>
                      <p:cNvSpPr/>
                      <p:nvPr/>
                    </p:nvSpPr>
                    <p:spPr>
                      <a:xfrm>
                        <a:off x="2353320" y="2802600"/>
                        <a:ext cx="502920" cy="20160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2160" rIns="92160" tIns="46080" bIns="46080" anchor="ctr">
                        <a:noAutofit/>
                      </a:bodyPr>
                      <a:p>
                        <a:pPr marL="285840" indent="-285840"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8" name="Group 22"/>
                    <p:cNvGrpSpPr/>
                    <p:nvPr/>
                  </p:nvGrpSpPr>
                  <p:grpSpPr>
                    <a:xfrm>
                      <a:off x="3680640" y="2274840"/>
                      <a:ext cx="531360" cy="737280"/>
                      <a:chOff x="3680640" y="2274840"/>
                      <a:chExt cx="531360" cy="737280"/>
                    </a:xfrm>
                  </p:grpSpPr>
                  <p:sp>
                    <p:nvSpPr>
                      <p:cNvPr id="459" name="Line 23"/>
                      <p:cNvSpPr/>
                      <p:nvPr/>
                    </p:nvSpPr>
                    <p:spPr>
                      <a:xfrm flipV="1">
                        <a:off x="36806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Line 24"/>
                      <p:cNvSpPr/>
                      <p:nvPr/>
                    </p:nvSpPr>
                    <p:spPr>
                      <a:xfrm>
                        <a:off x="3681720" y="3012120"/>
                        <a:ext cx="5302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1" name="Line 25"/>
                      <p:cNvSpPr/>
                      <p:nvPr/>
                    </p:nvSpPr>
                    <p:spPr>
                      <a:xfrm flipV="1">
                        <a:off x="4199040" y="2274840"/>
                        <a:ext cx="0" cy="73548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Line 26"/>
                      <p:cNvSpPr/>
                      <p:nvPr/>
                    </p:nvSpPr>
                    <p:spPr>
                      <a:xfrm>
                        <a:off x="3681720" y="2342160"/>
                        <a:ext cx="517320" cy="0"/>
                      </a:xfrm>
                      <a:prstGeom prst="line">
                        <a:avLst/>
                      </a:prstGeom>
                      <a:ln w="50760">
                        <a:solidFill>
                          <a:srgbClr val="00f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27"/>
                      <p:cNvSpPr/>
                      <p:nvPr/>
                    </p:nvSpPr>
                    <p:spPr>
                      <a:xfrm>
                        <a:off x="3904200" y="2475360"/>
                        <a:ext cx="712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28"/>
                      <p:cNvSpPr/>
                      <p:nvPr/>
                    </p:nvSpPr>
                    <p:spPr>
                      <a:xfrm>
                        <a:off x="4051800" y="274284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29"/>
                      <p:cNvSpPr/>
                      <p:nvPr/>
                    </p:nvSpPr>
                    <p:spPr>
                      <a:xfrm>
                        <a:off x="3754800" y="287892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30"/>
                      <p:cNvSpPr/>
                      <p:nvPr/>
                    </p:nvSpPr>
                    <p:spPr>
                      <a:xfrm>
                        <a:off x="3754800" y="2475360"/>
                        <a:ext cx="73080" cy="687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31"/>
                      <p:cNvSpPr/>
                      <p:nvPr/>
                    </p:nvSpPr>
                    <p:spPr>
                      <a:xfrm>
                        <a:off x="4051800" y="2914560"/>
                        <a:ext cx="730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32"/>
                      <p:cNvSpPr/>
                      <p:nvPr/>
                    </p:nvSpPr>
                    <p:spPr>
                      <a:xfrm>
                        <a:off x="3904200" y="2677320"/>
                        <a:ext cx="71280" cy="6552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0" bIns="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9" name="Oval 33"/>
                      <p:cNvSpPr/>
                      <p:nvPr/>
                    </p:nvSpPr>
                    <p:spPr>
                      <a:xfrm>
                        <a:off x="3754800" y="261000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0" name="Oval 34"/>
                      <p:cNvSpPr/>
                      <p:nvPr/>
                    </p:nvSpPr>
                    <p:spPr>
                      <a:xfrm>
                        <a:off x="4051800" y="2408040"/>
                        <a:ext cx="730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Oval 35"/>
                      <p:cNvSpPr/>
                      <p:nvPr/>
                    </p:nvSpPr>
                    <p:spPr>
                      <a:xfrm>
                        <a:off x="3904200" y="2878920"/>
                        <a:ext cx="71280" cy="6696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" bIns="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2" name="Group 36"/>
                    <p:cNvGrpSpPr/>
                    <p:nvPr/>
                  </p:nvGrpSpPr>
                  <p:grpSpPr>
                    <a:xfrm>
                      <a:off x="3038040" y="2278800"/>
                      <a:ext cx="519120" cy="737280"/>
                      <a:chOff x="3038040" y="2278800"/>
                      <a:chExt cx="519120" cy="737280"/>
                    </a:xfrm>
                  </p:grpSpPr>
                  <p:sp>
                    <p:nvSpPr>
                      <p:cNvPr id="473" name="Oval 37"/>
                      <p:cNvSpPr/>
                      <p:nvPr/>
                    </p:nvSpPr>
                    <p:spPr>
                      <a:xfrm>
                        <a:off x="3112560" y="2681280"/>
                        <a:ext cx="73080" cy="65880"/>
                      </a:xfrm>
                      <a:prstGeom prst="ellipse">
                        <a:avLst/>
                      </a:prstGeom>
                      <a:solidFill>
                        <a:srgbClr val="fafd00"/>
                      </a:solidFill>
                      <a:ln w="1260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4" name="Group 38"/>
                      <p:cNvGrpSpPr/>
                      <p:nvPr/>
                    </p:nvGrpSpPr>
                    <p:grpSpPr>
                      <a:xfrm>
                        <a:off x="3038040" y="2278800"/>
                        <a:ext cx="519120" cy="737280"/>
                        <a:chOff x="3038040" y="2278800"/>
                        <a:chExt cx="519120" cy="737280"/>
                      </a:xfrm>
                    </p:grpSpPr>
                    <p:sp>
                      <p:nvSpPr>
                        <p:cNvPr id="475" name="Line 39"/>
                        <p:cNvSpPr/>
                        <p:nvPr/>
                      </p:nvSpPr>
                      <p:spPr>
                        <a:xfrm flipV="1">
                          <a:off x="303804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Line 40"/>
                        <p:cNvSpPr/>
                        <p:nvPr/>
                      </p:nvSpPr>
                      <p:spPr>
                        <a:xfrm>
                          <a:off x="3039480" y="3016080"/>
                          <a:ext cx="517320" cy="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Line 41"/>
                        <p:cNvSpPr/>
                        <p:nvPr/>
                      </p:nvSpPr>
                      <p:spPr>
                        <a:xfrm flipV="1">
                          <a:off x="3557160" y="2278800"/>
                          <a:ext cx="0" cy="735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8" name="Line 42"/>
                        <p:cNvSpPr/>
                        <p:nvPr/>
                      </p:nvSpPr>
                      <p:spPr>
                        <a:xfrm>
                          <a:off x="3039480" y="2613960"/>
                          <a:ext cx="517320" cy="0"/>
                        </a:xfrm>
                        <a:prstGeom prst="line">
                          <a:avLst/>
                        </a:prstGeom>
                        <a:ln w="50760">
                          <a:solidFill>
                            <a:srgbClr val="00f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9" name="Rectangle 43"/>
                        <p:cNvSpPr/>
                        <p:nvPr/>
                      </p:nvSpPr>
                      <p:spPr>
                        <a:xfrm>
                          <a:off x="3038040" y="2882880"/>
                          <a:ext cx="519120" cy="132840"/>
                        </a:xfrm>
                        <a:prstGeom prst="rect">
                          <a:avLst/>
                        </a:pr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2160" rIns="92160" tIns="46080" bIns="46080" anchor="ctr">
                          <a:noAutofit/>
                        </a:bodyPr>
                        <a:p>
                          <a:pPr marL="285840" indent="-285840"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0" name="Oval 44"/>
                        <p:cNvSpPr/>
                        <p:nvPr/>
                      </p:nvSpPr>
                      <p:spPr>
                        <a:xfrm>
                          <a:off x="3333240" y="2747160"/>
                          <a:ext cx="7596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1" name="Oval 45"/>
                        <p:cNvSpPr/>
                        <p:nvPr/>
                      </p:nvSpPr>
                      <p:spPr>
                        <a:xfrm>
                          <a:off x="3185640" y="2747160"/>
                          <a:ext cx="75600" cy="6696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" bIns="72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2" name="Oval 46"/>
                        <p:cNvSpPr/>
                        <p:nvPr/>
                      </p:nvSpPr>
                      <p:spPr>
                        <a:xfrm>
                          <a:off x="3482280" y="2681280"/>
                          <a:ext cx="74520" cy="65880"/>
                        </a:xfrm>
                        <a:prstGeom prst="ellipse">
                          <a:avLst/>
                        </a:prstGeom>
                        <a:solidFill>
                          <a:srgbClr val="fafd00"/>
                        </a:solidFill>
                        <a:ln w="12600">
                          <a:solidFill>
                            <a:srgbClr val="fafd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83" name="Group 47"/>
                <p:cNvGrpSpPr/>
                <p:nvPr/>
              </p:nvGrpSpPr>
              <p:grpSpPr>
                <a:xfrm>
                  <a:off x="2378880" y="3024720"/>
                  <a:ext cx="456840" cy="70560"/>
                  <a:chOff x="2378880" y="3024720"/>
                  <a:chExt cx="456840" cy="70560"/>
                </a:xfrm>
              </p:grpSpPr>
              <p:sp>
                <p:nvSpPr>
                  <p:cNvPr id="484" name="Line 48"/>
                  <p:cNvSpPr/>
                  <p:nvPr/>
                </p:nvSpPr>
                <p:spPr>
                  <a:xfrm flipH="1" flipV="1">
                    <a:off x="2484720" y="3024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49"/>
                  <p:cNvSpPr/>
                  <p:nvPr/>
                </p:nvSpPr>
                <p:spPr>
                  <a:xfrm flipV="1">
                    <a:off x="2457360" y="3030120"/>
                    <a:ext cx="28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50"/>
                  <p:cNvSpPr/>
                  <p:nvPr/>
                </p:nvSpPr>
                <p:spPr>
                  <a:xfrm flipV="1">
                    <a:off x="2523240" y="303228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Line 51"/>
                  <p:cNvSpPr/>
                  <p:nvPr/>
                </p:nvSpPr>
                <p:spPr>
                  <a:xfrm flipV="1">
                    <a:off x="2606400" y="3033720"/>
                    <a:ext cx="4716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52"/>
                  <p:cNvSpPr/>
                  <p:nvPr/>
                </p:nvSpPr>
                <p:spPr>
                  <a:xfrm flipV="1">
                    <a:off x="2685600" y="3037680"/>
                    <a:ext cx="4680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53"/>
                  <p:cNvSpPr/>
                  <p:nvPr/>
                </p:nvSpPr>
                <p:spPr>
                  <a:xfrm flipH="1" flipV="1">
                    <a:off x="2572200" y="3028680"/>
                    <a:ext cx="3312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54"/>
                  <p:cNvSpPr/>
                  <p:nvPr/>
                </p:nvSpPr>
                <p:spPr>
                  <a:xfrm flipH="1" flipV="1">
                    <a:off x="2659320" y="3033720"/>
                    <a:ext cx="3312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55"/>
                  <p:cNvSpPr/>
                  <p:nvPr/>
                </p:nvSpPr>
                <p:spPr>
                  <a:xfrm flipH="1" flipV="1">
                    <a:off x="2736360" y="303912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6"/>
                  <p:cNvSpPr/>
                  <p:nvPr/>
                </p:nvSpPr>
                <p:spPr>
                  <a:xfrm flipH="1">
                    <a:off x="2755800" y="306828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7"/>
                  <p:cNvSpPr/>
                  <p:nvPr/>
                </p:nvSpPr>
                <p:spPr>
                  <a:xfrm flipH="1">
                    <a:off x="2378880" y="306036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58"/>
                <p:cNvGrpSpPr/>
                <p:nvPr/>
              </p:nvGrpSpPr>
              <p:grpSpPr>
                <a:xfrm>
                  <a:off x="3052800" y="3034080"/>
                  <a:ext cx="456480" cy="70920"/>
                  <a:chOff x="3052800" y="3034080"/>
                  <a:chExt cx="456480" cy="70920"/>
                </a:xfrm>
              </p:grpSpPr>
              <p:sp>
                <p:nvSpPr>
                  <p:cNvPr id="495" name="Line 59"/>
                  <p:cNvSpPr/>
                  <p:nvPr/>
                </p:nvSpPr>
                <p:spPr>
                  <a:xfrm flipH="1" flipV="1">
                    <a:off x="3158280" y="303408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0"/>
                  <p:cNvSpPr/>
                  <p:nvPr/>
                </p:nvSpPr>
                <p:spPr>
                  <a:xfrm flipV="1">
                    <a:off x="3131280" y="303948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61"/>
                  <p:cNvSpPr/>
                  <p:nvPr/>
                </p:nvSpPr>
                <p:spPr>
                  <a:xfrm flipV="1">
                    <a:off x="3197160" y="3041640"/>
                    <a:ext cx="4572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62"/>
                  <p:cNvSpPr/>
                  <p:nvPr/>
                </p:nvSpPr>
                <p:spPr>
                  <a:xfrm flipV="1">
                    <a:off x="3280320" y="304272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3"/>
                  <p:cNvSpPr/>
                  <p:nvPr/>
                </p:nvSpPr>
                <p:spPr>
                  <a:xfrm flipV="1">
                    <a:off x="3359160" y="304704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4"/>
                  <p:cNvSpPr/>
                  <p:nvPr/>
                </p:nvSpPr>
                <p:spPr>
                  <a:xfrm flipH="1" flipV="1">
                    <a:off x="3245760" y="303804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5"/>
                  <p:cNvSpPr/>
                  <p:nvPr/>
                </p:nvSpPr>
                <p:spPr>
                  <a:xfrm flipH="1" flipV="1">
                    <a:off x="3332880" y="3043080"/>
                    <a:ext cx="32760" cy="6192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6"/>
                  <p:cNvSpPr/>
                  <p:nvPr/>
                </p:nvSpPr>
                <p:spPr>
                  <a:xfrm flipH="1" flipV="1">
                    <a:off x="3410280" y="304848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7"/>
                  <p:cNvSpPr/>
                  <p:nvPr/>
                </p:nvSpPr>
                <p:spPr>
                  <a:xfrm flipH="1">
                    <a:off x="3429360" y="307764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Line 68"/>
                  <p:cNvSpPr/>
                  <p:nvPr/>
                </p:nvSpPr>
                <p:spPr>
                  <a:xfrm flipH="1">
                    <a:off x="3052800" y="3069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Group 69"/>
                <p:cNvGrpSpPr/>
                <p:nvPr/>
              </p:nvGrpSpPr>
              <p:grpSpPr>
                <a:xfrm>
                  <a:off x="3693600" y="3035160"/>
                  <a:ext cx="456480" cy="70560"/>
                  <a:chOff x="3693600" y="3035160"/>
                  <a:chExt cx="456480" cy="70560"/>
                </a:xfrm>
              </p:grpSpPr>
              <p:sp>
                <p:nvSpPr>
                  <p:cNvPr id="506" name="Line 70"/>
                  <p:cNvSpPr/>
                  <p:nvPr/>
                </p:nvSpPr>
                <p:spPr>
                  <a:xfrm flipH="1" flipV="1">
                    <a:off x="3799080" y="3035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1"/>
                  <p:cNvSpPr/>
                  <p:nvPr/>
                </p:nvSpPr>
                <p:spPr>
                  <a:xfrm flipV="1">
                    <a:off x="3772080" y="3040560"/>
                    <a:ext cx="2844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2"/>
                  <p:cNvSpPr/>
                  <p:nvPr/>
                </p:nvSpPr>
                <p:spPr>
                  <a:xfrm flipV="1">
                    <a:off x="3837960" y="3043080"/>
                    <a:ext cx="45720" cy="52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3"/>
                  <p:cNvSpPr/>
                  <p:nvPr/>
                </p:nvSpPr>
                <p:spPr>
                  <a:xfrm flipV="1">
                    <a:off x="3921120" y="3044160"/>
                    <a:ext cx="46800" cy="536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4"/>
                  <p:cNvSpPr/>
                  <p:nvPr/>
                </p:nvSpPr>
                <p:spPr>
                  <a:xfrm flipV="1">
                    <a:off x="3999960" y="3048120"/>
                    <a:ext cx="47160" cy="5220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75"/>
                  <p:cNvSpPr/>
                  <p:nvPr/>
                </p:nvSpPr>
                <p:spPr>
                  <a:xfrm flipH="1" flipV="1">
                    <a:off x="3886560" y="3039120"/>
                    <a:ext cx="32760" cy="604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76"/>
                  <p:cNvSpPr/>
                  <p:nvPr/>
                </p:nvSpPr>
                <p:spPr>
                  <a:xfrm flipH="1" flipV="1">
                    <a:off x="3973680" y="3044160"/>
                    <a:ext cx="32760" cy="615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7"/>
                  <p:cNvSpPr/>
                  <p:nvPr/>
                </p:nvSpPr>
                <p:spPr>
                  <a:xfrm flipH="1" flipV="1">
                    <a:off x="4051080" y="3049560"/>
                    <a:ext cx="19800" cy="352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78"/>
                  <p:cNvSpPr/>
                  <p:nvPr/>
                </p:nvSpPr>
                <p:spPr>
                  <a:xfrm flipH="1">
                    <a:off x="4070160" y="307872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79"/>
                  <p:cNvSpPr/>
                  <p:nvPr/>
                </p:nvSpPr>
                <p:spPr>
                  <a:xfrm flipH="1">
                    <a:off x="3693600" y="3070800"/>
                    <a:ext cx="7992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6" name="Rectangle 80"/>
              <p:cNvSpPr/>
              <p:nvPr/>
            </p:nvSpPr>
            <p:spPr>
              <a:xfrm>
                <a:off x="1332360" y="2888640"/>
                <a:ext cx="13510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marL="285840" indent="-285840"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eate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4393080" y="2797200"/>
              <a:ext cx="1337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is all happens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the white do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19560" y="3166920"/>
              <a:ext cx="1114200" cy="125640"/>
            </a:xfrm>
            <a:custGeom>
              <a:avLst/>
              <a:gdLst/>
              <a:ahLst/>
              <a:rect l="l" t="t" r="r" b="b"/>
              <a:pathLst>
                <a:path w="726" h="85">
                  <a:moveTo>
                    <a:pt x="726" y="6"/>
                  </a:moveTo>
                  <a:cubicBezTo>
                    <a:pt x="627" y="20"/>
                    <a:pt x="529" y="34"/>
                    <a:pt x="429" y="47"/>
                  </a:cubicBezTo>
                  <a:cubicBezTo>
                    <a:pt x="329" y="60"/>
                    <a:pt x="188" y="79"/>
                    <a:pt x="126" y="82"/>
                  </a:cubicBezTo>
                  <a:cubicBezTo>
                    <a:pt x="64" y="85"/>
                    <a:pt x="75" y="80"/>
                    <a:pt x="54" y="66"/>
                  </a:cubicBezTo>
                  <a:cubicBezTo>
                    <a:pt x="33" y="52"/>
                    <a:pt x="11" y="14"/>
                    <a:pt x="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621400" y="3584520"/>
            <a:ext cx="3064680" cy="2478240"/>
            <a:chOff x="5621400" y="3584520"/>
            <a:chExt cx="3064680" cy="2478240"/>
          </a:xfrm>
        </p:grpSpPr>
        <p:sp>
          <p:nvSpPr>
            <p:cNvPr id="520" name="Rectangle 101"/>
            <p:cNvSpPr/>
            <p:nvPr/>
          </p:nvSpPr>
          <p:spPr>
            <a:xfrm>
              <a:off x="6307200" y="5330880"/>
              <a:ext cx="1952640" cy="731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Heat of transformation 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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Latent Hea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621400" y="3584520"/>
              <a:ext cx="3064680" cy="1753920"/>
              <a:chOff x="5621400" y="3584520"/>
              <a:chExt cx="3064680" cy="1753920"/>
            </a:xfrm>
          </p:grpSpPr>
          <p:sp>
            <p:nvSpPr>
              <p:cNvPr id="522" name="Freeform 88"/>
              <p:cNvSpPr/>
              <p:nvPr/>
            </p:nvSpPr>
            <p:spPr>
              <a:xfrm>
                <a:off x="6280200" y="3822480"/>
                <a:ext cx="2147760" cy="1013040"/>
              </a:xfrm>
              <a:prstGeom prst="pie">
                <a:avLst/>
              </a:prstGeom>
              <a:noFill/>
              <a:ln cap="rnd"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5942160" y="3697200"/>
                <a:ext cx="2381040" cy="1362240"/>
                <a:chOff x="5942160" y="3697200"/>
                <a:chExt cx="2381040" cy="1362240"/>
              </a:xfrm>
            </p:grpSpPr>
            <p:sp>
              <p:nvSpPr>
                <p:cNvPr id="524" name="Line 93"/>
                <p:cNvSpPr/>
                <p:nvPr/>
              </p:nvSpPr>
              <p:spPr>
                <a:xfrm flipV="1">
                  <a:off x="5942160" y="3697200"/>
                  <a:ext cx="0" cy="1362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94"/>
                <p:cNvSpPr/>
                <p:nvPr/>
              </p:nvSpPr>
              <p:spPr>
                <a:xfrm>
                  <a:off x="5943600" y="5059440"/>
                  <a:ext cx="2379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Rectangle 95"/>
              <p:cNvSpPr/>
              <p:nvPr/>
            </p:nvSpPr>
            <p:spPr>
              <a:xfrm>
                <a:off x="8280360" y="4883040"/>
                <a:ext cx="392040" cy="37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96"/>
              <p:cNvSpPr/>
              <p:nvPr/>
            </p:nvSpPr>
            <p:spPr>
              <a:xfrm>
                <a:off x="5621400" y="3584520"/>
                <a:ext cx="4777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97"/>
              <p:cNvSpPr/>
              <p:nvPr/>
            </p:nvSpPr>
            <p:spPr>
              <a:xfrm>
                <a:off x="6672240" y="440208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673680" y="5003640"/>
                <a:ext cx="1312920" cy="334800"/>
                <a:chOff x="6673680" y="5003640"/>
                <a:chExt cx="1312920" cy="334800"/>
              </a:xfrm>
            </p:grpSpPr>
            <p:sp>
              <p:nvSpPr>
                <p:cNvPr id="530" name="Line 98"/>
                <p:cNvSpPr/>
                <p:nvPr/>
              </p:nvSpPr>
              <p:spPr>
                <a:xfrm>
                  <a:off x="7637400" y="5170320"/>
                  <a:ext cx="349200" cy="1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99"/>
                <p:cNvSpPr/>
                <p:nvPr/>
              </p:nvSpPr>
              <p:spPr>
                <a:xfrm flipH="1">
                  <a:off x="6673680" y="5168880"/>
                  <a:ext cx="439560" cy="1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100"/>
                <p:cNvSpPr/>
                <p:nvPr/>
              </p:nvSpPr>
              <p:spPr>
                <a:xfrm>
                  <a:off x="7121520" y="5003640"/>
                  <a:ext cx="65088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1400" spc="-1" strike="noStrike">
                      <a:solidFill>
                        <a:srgbClr val="ffff00"/>
                      </a:solidFill>
                      <a:latin typeface="Arial"/>
                    </a:rPr>
                    <a:t>H</a:t>
                  </a:r>
                  <a:r>
                    <a:rPr b="0" lang="en-US" sz="1400" spc="-1" strike="noStrike" baseline="-25000">
                      <a:solidFill>
                        <a:srgbClr val="ffff00"/>
                      </a:solidFill>
                      <a:latin typeface="Arial"/>
                    </a:rPr>
                    <a:t>l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"/>
              <p:cNvSpPr/>
              <p:nvPr/>
            </p:nvSpPr>
            <p:spPr>
              <a:xfrm>
                <a:off x="8217360" y="3957480"/>
                <a:ext cx="46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804720" y="4102200"/>
                <a:ext cx="1038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 +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42880" y="435744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iqu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97"/>
              <p:cNvSpPr/>
              <p:nvPr/>
            </p:nvSpPr>
            <p:spPr>
              <a:xfrm>
                <a:off x="7989840" y="4392720"/>
                <a:ext cx="3240" cy="65556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600120" y="5910120"/>
            <a:ext cx="390852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44520" y="1015920"/>
            <a:ext cx="730080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heat required to convert the liquid entirely into gas is directly related to the entropy change of the mate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+ p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U + pV is defined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halp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‘heat content’) of a materi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phase transitions: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Heat of vaporization” = “enthalpy change” = “latent heat”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H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iqui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Latent Heat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atent heats are typically given in units of J/mol or J/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 similar latent heat for the solid-liquid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at 1 atm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ce-liquid) = 80 cal/g = 333 kJ/kg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liquid-steam) = 540 cal/g = 2256 kJ/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5280" y="63360"/>
            <a:ext cx="783108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tent Heat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43120" y="3813120"/>
            <a:ext cx="4890960" cy="140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r" pos="1598760"/>
                <a:tab algn="l" pos="2513160"/>
                <a:tab algn="r" pos="3084480"/>
                <a:tab algn="l" pos="3657600"/>
                <a:tab algn="r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t Heats of Evaporation</a:t>
            </a:r>
            <a:br>
              <a:rPr sz="1400"/>
            </a:b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Ga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iling temp (K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 (J/mol)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 (J/mol</a:t>
            </a:r>
            <a:r>
              <a:rPr b="0" lang="en-US" sz="1400" spc="-1" strike="noStrike" u="sng" baseline="30000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lium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2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2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itro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7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5,6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2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xyge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6,8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76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37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40,000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370560" y="4191120"/>
            <a:ext cx="2656440" cy="1915200"/>
            <a:chOff x="6370560" y="4191120"/>
            <a:chExt cx="2656440" cy="1915200"/>
          </a:xfrm>
        </p:grpSpPr>
        <p:sp>
          <p:nvSpPr>
            <p:cNvPr id="542" name="Line 11"/>
            <p:cNvSpPr/>
            <p:nvPr/>
          </p:nvSpPr>
          <p:spPr>
            <a:xfrm flipV="1">
              <a:off x="6379920" y="4227480"/>
              <a:ext cx="0" cy="147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6372000" y="5712120"/>
              <a:ext cx="258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3"/>
            <p:cNvSpPr/>
            <p:nvPr/>
          </p:nvSpPr>
          <p:spPr>
            <a:xfrm>
              <a:off x="6370560" y="41911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Text Box 14"/>
            <p:cNvSpPr/>
            <p:nvPr/>
          </p:nvSpPr>
          <p:spPr>
            <a:xfrm>
              <a:off x="8689320" y="576900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6472080" y="4313520"/>
              <a:ext cx="2443320" cy="1074240"/>
              <a:chOff x="6472080" y="4313520"/>
              <a:chExt cx="2443320" cy="1074240"/>
            </a:xfrm>
          </p:grpSpPr>
          <p:sp>
            <p:nvSpPr>
              <p:cNvPr id="547" name="Line 17"/>
              <p:cNvSpPr/>
              <p:nvPr/>
            </p:nvSpPr>
            <p:spPr>
              <a:xfrm flipV="1">
                <a:off x="6472080" y="5003640"/>
                <a:ext cx="428760" cy="384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91120" y="5004000"/>
                <a:ext cx="4543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 flipV="1">
                <a:off x="7345440" y="4654800"/>
                <a:ext cx="349200" cy="349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20"/>
              <p:cNvSpPr/>
              <p:nvPr/>
            </p:nvSpPr>
            <p:spPr>
              <a:xfrm>
                <a:off x="7692840" y="4653000"/>
                <a:ext cx="86688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8559720" y="4313520"/>
                <a:ext cx="355680" cy="34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2" name="AutoShape 22"/>
            <p:cNvSpPr/>
            <p:nvPr/>
          </p:nvSpPr>
          <p:spPr>
            <a:xfrm rot="16200000">
              <a:off x="7082280" y="4885200"/>
              <a:ext cx="74520" cy="41904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10800 h 419040"/>
                <a:gd name="textAreaBottom" fmla="*/ 40824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6688800" y="5135760"/>
              <a:ext cx="8604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solid-liquid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24"/>
            <p:cNvSpPr/>
            <p:nvPr/>
          </p:nvSpPr>
          <p:spPr>
            <a:xfrm rot="16200000">
              <a:off x="8090640" y="4331160"/>
              <a:ext cx="74520" cy="86076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22320 h 860760"/>
                <a:gd name="textAreaBottom" fmla="*/ 838440 h 86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Text Box 25"/>
            <p:cNvSpPr/>
            <p:nvPr/>
          </p:nvSpPr>
          <p:spPr>
            <a:xfrm>
              <a:off x="7722720" y="4802400"/>
              <a:ext cx="805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liquid-gas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373560" y="4886280"/>
            <a:ext cx="820440" cy="324000"/>
          </a:xfrm>
          <a:prstGeom prst="ellipse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4120" y="1284120"/>
            <a:ext cx="85327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solid-gas equilibrium at constant volume and temperature.  Some substances (e.g., C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don’t exist as liquids at atmospher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has negligible entropy (compared to the ga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ignore it.  In that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N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ga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kT ln(n/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t them equal and solve for the equilibrium ga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quilibrium pressure is called the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por press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 of the solid at temperature T.  If p &lt;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toms will leave the solid until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ap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called sublimation.  For liquids, it’s called evapo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i (28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28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3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= 5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4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(44 g/mol)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vapo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(4.04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atm)(44)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3/2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-0.26eV/.026eV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= 535 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me solids don’t sublimate.  Some do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Does water ice sublimate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64800"/>
            <a:ext cx="9144000" cy="70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-gas equilibrium: vapor press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11280" y="3703680"/>
          <a:ext cx="44578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3703680"/>
                    <a:ext cx="44578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6227640" y="2216160"/>
            <a:ext cx="2651040" cy="1641240"/>
            <a:chOff x="6227640" y="2216160"/>
            <a:chExt cx="2651040" cy="1641240"/>
          </a:xfrm>
        </p:grpSpPr>
        <p:sp>
          <p:nvSpPr>
            <p:cNvPr id="52" name="Line 29"/>
            <p:cNvSpPr/>
            <p:nvPr/>
          </p:nvSpPr>
          <p:spPr>
            <a:xfrm flipV="1">
              <a:off x="6227640" y="25664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30"/>
            <p:cNvSpPr/>
            <p:nvPr/>
          </p:nvSpPr>
          <p:spPr>
            <a:xfrm flipV="1">
              <a:off x="6235560" y="2849040"/>
              <a:ext cx="24588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31"/>
            <p:cNvSpPr/>
            <p:nvPr/>
          </p:nvSpPr>
          <p:spPr>
            <a:xfrm flipV="1">
              <a:off x="8624520" y="2712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32"/>
            <p:cNvSpPr/>
            <p:nvPr/>
          </p:nvSpPr>
          <p:spPr>
            <a:xfrm flipV="1">
              <a:off x="6237000" y="31824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33"/>
            <p:cNvSpPr/>
            <p:nvPr/>
          </p:nvSpPr>
          <p:spPr>
            <a:xfrm flipV="1">
              <a:off x="6230520" y="349344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 flipV="1">
              <a:off x="6845040" y="367668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 flipV="1">
              <a:off x="6507000" y="368460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 flipV="1">
              <a:off x="7192800" y="3676680"/>
              <a:ext cx="24588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 flipV="1">
              <a:off x="7589520" y="367128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 flipV="1">
              <a:off x="7961040" y="3665520"/>
              <a:ext cx="246240" cy="17280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 flipV="1">
              <a:off x="8616600" y="30078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 flipV="1">
              <a:off x="8632440" y="332676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 flipV="1">
              <a:off x="8294400" y="3666600"/>
              <a:ext cx="246240" cy="173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55"/>
            <p:cNvSpPr/>
            <p:nvPr/>
          </p:nvSpPr>
          <p:spPr>
            <a:xfrm flipV="1">
              <a:off x="6646680" y="222084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56"/>
            <p:cNvSpPr/>
            <p:nvPr/>
          </p:nvSpPr>
          <p:spPr>
            <a:xfrm flipV="1">
              <a:off x="6992640" y="22161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57"/>
            <p:cNvSpPr/>
            <p:nvPr/>
          </p:nvSpPr>
          <p:spPr>
            <a:xfrm flipV="1">
              <a:off x="7303680" y="222084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58"/>
            <p:cNvSpPr/>
            <p:nvPr/>
          </p:nvSpPr>
          <p:spPr>
            <a:xfrm flipV="1">
              <a:off x="7713360" y="2228760"/>
              <a:ext cx="26820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59"/>
            <p:cNvSpPr/>
            <p:nvPr/>
          </p:nvSpPr>
          <p:spPr>
            <a:xfrm flipV="1">
              <a:off x="8134200" y="2221920"/>
              <a:ext cx="268200" cy="195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60"/>
            <p:cNvSpPr/>
            <p:nvPr/>
          </p:nvSpPr>
          <p:spPr>
            <a:xfrm flipV="1">
              <a:off x="8481600" y="2239920"/>
              <a:ext cx="268560" cy="195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505200" y="2385720"/>
              <a:ext cx="2124360" cy="1262160"/>
              <a:chOff x="6505200" y="2385720"/>
              <a:chExt cx="2124360" cy="1262160"/>
            </a:xfrm>
          </p:grpSpPr>
          <p:sp>
            <p:nvSpPr>
              <p:cNvPr id="72" name="Text Box 42"/>
              <p:cNvSpPr/>
              <p:nvPr/>
            </p:nvSpPr>
            <p:spPr>
              <a:xfrm>
                <a:off x="6599520" y="2385720"/>
                <a:ext cx="990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V,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600600" y="2579400"/>
                <a:ext cx="1765440" cy="1030320"/>
                <a:chOff x="6600600" y="2579400"/>
                <a:chExt cx="1765440" cy="1030320"/>
              </a:xfrm>
            </p:grpSpPr>
            <p:sp>
              <p:nvSpPr>
                <p:cNvPr id="74" name="Oval 18"/>
                <p:cNvSpPr/>
                <p:nvPr/>
              </p:nvSpPr>
              <p:spPr>
                <a:xfrm>
                  <a:off x="7961040" y="328284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" name="Oval 19"/>
                <p:cNvSpPr/>
                <p:nvPr/>
              </p:nvSpPr>
              <p:spPr>
                <a:xfrm>
                  <a:off x="7440480" y="26272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20"/>
                <p:cNvSpPr/>
                <p:nvPr/>
              </p:nvSpPr>
              <p:spPr>
                <a:xfrm>
                  <a:off x="8119800" y="25794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21"/>
                <p:cNvSpPr/>
                <p:nvPr/>
              </p:nvSpPr>
              <p:spPr>
                <a:xfrm>
                  <a:off x="7840440" y="288612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22"/>
                <p:cNvSpPr/>
                <p:nvPr/>
              </p:nvSpPr>
              <p:spPr>
                <a:xfrm>
                  <a:off x="7083000" y="28954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3"/>
                <p:cNvSpPr/>
                <p:nvPr/>
              </p:nvSpPr>
              <p:spPr>
                <a:xfrm>
                  <a:off x="6675120" y="262224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Oval 24"/>
                <p:cNvSpPr/>
                <p:nvPr/>
              </p:nvSpPr>
              <p:spPr>
                <a:xfrm>
                  <a:off x="8242200" y="2997000"/>
                  <a:ext cx="123840" cy="1335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Oval 25"/>
                <p:cNvSpPr/>
                <p:nvPr/>
              </p:nvSpPr>
              <p:spPr>
                <a:xfrm>
                  <a:off x="7489440" y="3043080"/>
                  <a:ext cx="123840" cy="13320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" name=""/>
                <p:cNvGrpSpPr/>
                <p:nvPr/>
              </p:nvGrpSpPr>
              <p:grpSpPr>
                <a:xfrm>
                  <a:off x="6600600" y="3170160"/>
                  <a:ext cx="631800" cy="439560"/>
                  <a:chOff x="6600600" y="3170160"/>
                  <a:chExt cx="631800" cy="439560"/>
                </a:xfrm>
              </p:grpSpPr>
              <p:sp>
                <p:nvSpPr>
                  <p:cNvPr id="83" name="Oval 17"/>
                  <p:cNvSpPr/>
                  <p:nvPr/>
                </p:nvSpPr>
                <p:spPr>
                  <a:xfrm>
                    <a:off x="6609960" y="32353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Oval 43"/>
                  <p:cNvSpPr/>
                  <p:nvPr/>
                </p:nvSpPr>
                <p:spPr>
                  <a:xfrm>
                    <a:off x="6744960" y="317016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44"/>
                  <p:cNvSpPr/>
                  <p:nvPr/>
                </p:nvSpPr>
                <p:spPr>
                  <a:xfrm>
                    <a:off x="6735600" y="33256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45"/>
                  <p:cNvSpPr/>
                  <p:nvPr/>
                </p:nvSpPr>
                <p:spPr>
                  <a:xfrm>
                    <a:off x="6860880" y="32479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Oval 46"/>
                  <p:cNvSpPr/>
                  <p:nvPr/>
                </p:nvSpPr>
                <p:spPr>
                  <a:xfrm>
                    <a:off x="6600600" y="3381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Oval 47"/>
                  <p:cNvSpPr/>
                  <p:nvPr/>
                </p:nvSpPr>
                <p:spPr>
                  <a:xfrm>
                    <a:off x="6854400" y="339408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48"/>
                  <p:cNvSpPr/>
                  <p:nvPr/>
                </p:nvSpPr>
                <p:spPr>
                  <a:xfrm>
                    <a:off x="6981480" y="333036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49"/>
                  <p:cNvSpPr/>
                  <p:nvPr/>
                </p:nvSpPr>
                <p:spPr>
                  <a:xfrm>
                    <a:off x="69688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Oval 50"/>
                  <p:cNvSpPr/>
                  <p:nvPr/>
                </p:nvSpPr>
                <p:spPr>
                  <a:xfrm>
                    <a:off x="6727680" y="3476520"/>
                    <a:ext cx="123840" cy="1332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Oval 51"/>
                  <p:cNvSpPr/>
                  <p:nvPr/>
                </p:nvSpPr>
                <p:spPr>
                  <a:xfrm>
                    <a:off x="7095960" y="341928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52"/>
                  <p:cNvSpPr/>
                  <p:nvPr/>
                </p:nvSpPr>
                <p:spPr>
                  <a:xfrm>
                    <a:off x="7108560" y="3273120"/>
                    <a:ext cx="123840" cy="13356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6505200" y="2419200"/>
                <a:ext cx="2124360" cy="12286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4204800" y="2468520"/>
            <a:ext cx="137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inding energy of a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om in the soli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62520" y="2705040"/>
            <a:ext cx="304560" cy="123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981760" y="599112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00640" y="6345360"/>
            <a:ext cx="13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he different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’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04880" y="1079640"/>
            <a:ext cx="781848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negative, because (unless highly compressed)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 &gt;&gt; p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 helium at T = 300K and p = 1 atm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l ideal gases will behave similarly, with a logarithmic pressure dependence and an approximately linear temperature dependenc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he curvature is due to the T dependence of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’s a grap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8040" y="71280"/>
            <a:ext cx="84837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of an Ideal Ga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66840" y="22096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77920" y="982800"/>
          <a:ext cx="4295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7920" y="982800"/>
                    <a:ext cx="4295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190520" y="2259000"/>
          <a:ext cx="612936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259000"/>
                    <a:ext cx="61293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21080" y="2011320"/>
          <a:ext cx="388296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2011320"/>
                    <a:ext cx="388296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3446640" y="4376880"/>
            <a:ext cx="3190680" cy="1981080"/>
            <a:chOff x="3446640" y="4376880"/>
            <a:chExt cx="3190680" cy="1981080"/>
          </a:xfrm>
        </p:grpSpPr>
        <p:sp>
          <p:nvSpPr>
            <p:cNvPr id="109" name="Line 11"/>
            <p:cNvSpPr/>
            <p:nvPr/>
          </p:nvSpPr>
          <p:spPr>
            <a:xfrm>
              <a:off x="6234120" y="4456080"/>
              <a:ext cx="0" cy="168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5702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48676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799520" y="441324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000680" y="4376880"/>
              <a:ext cx="35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4"/>
            <p:cNvSpPr/>
            <p:nvPr/>
          </p:nvSpPr>
          <p:spPr>
            <a:xfrm>
              <a:off x="4389480" y="4521240"/>
              <a:ext cx="0" cy="154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H="1">
              <a:off x="4385880" y="4791240"/>
              <a:ext cx="166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6"/>
            <p:cNvSpPr/>
            <p:nvPr/>
          </p:nvSpPr>
          <p:spPr>
            <a:xfrm>
              <a:off x="3446640" y="4711680"/>
              <a:ext cx="936360" cy="11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0"/>
              </a:b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0.33 eV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7"/>
            <p:cNvSpPr/>
            <p:nvPr/>
          </p:nvSpPr>
          <p:spPr>
            <a:xfrm>
              <a:off x="5937120" y="4513320"/>
              <a:ext cx="38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4413240" y="4811760"/>
              <a:ext cx="1328760" cy="11635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 flipV="1">
              <a:off x="5557680" y="4788000"/>
              <a:ext cx="0" cy="100152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23"/>
            <p:cNvSpPr/>
            <p:nvPr/>
          </p:nvSpPr>
          <p:spPr>
            <a:xfrm>
              <a:off x="5256360" y="455760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00 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0"/>
            <p:cNvSpPr/>
            <p:nvPr/>
          </p:nvSpPr>
          <p:spPr>
            <a:xfrm>
              <a:off x="4425840" y="4824360"/>
              <a:ext cx="925560" cy="14940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5435640" y="5911920"/>
              <a:ext cx="87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=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32"/>
            <p:cNvSpPr/>
            <p:nvPr/>
          </p:nvSpPr>
          <p:spPr>
            <a:xfrm>
              <a:off x="4595760" y="6111720"/>
              <a:ext cx="76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l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4435560" y="4824360"/>
              <a:ext cx="1600200" cy="80172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20"/>
            <p:cNvSpPr/>
            <p:nvPr/>
          </p:nvSpPr>
          <p:spPr>
            <a:xfrm flipH="1">
              <a:off x="4432320" y="5746680"/>
              <a:ext cx="1122480" cy="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5886360" y="5602320"/>
              <a:ext cx="7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 &gt; 1 at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292720" y="5145120"/>
              <a:ext cx="0" cy="295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54600" y="5316480"/>
              <a:ext cx="174600" cy="277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225520" y="5016600"/>
            <a:ext cx="2589120" cy="550800"/>
            <a:chOff x="2225520" y="5016600"/>
            <a:chExt cx="2589120" cy="550800"/>
          </a:xfrm>
        </p:grpSpPr>
        <p:sp>
          <p:nvSpPr>
            <p:cNvPr id="130" name=""/>
            <p:cNvSpPr/>
            <p:nvPr/>
          </p:nvSpPr>
          <p:spPr>
            <a:xfrm>
              <a:off x="2225520" y="5016600"/>
              <a:ext cx="1628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temperat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p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de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4440" y="529416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43120" y="4873680"/>
            <a:ext cx="2774520" cy="550800"/>
            <a:chOff x="5343120" y="4873680"/>
            <a:chExt cx="2774520" cy="550800"/>
          </a:xfrm>
        </p:grpSpPr>
        <p:sp>
          <p:nvSpPr>
            <p:cNvPr id="133" name=""/>
            <p:cNvSpPr/>
            <p:nvPr/>
          </p:nvSpPr>
          <p:spPr>
            <a:xfrm>
              <a:off x="6676560" y="4873680"/>
              <a:ext cx="1441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crease the pressure,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olding T constant::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increases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342760" y="5149800"/>
              <a:ext cx="1330200" cy="138240"/>
            </a:xfrm>
            <a:custGeom>
              <a:avLst/>
              <a:gdLst/>
              <a:ahLst/>
              <a:rect l="l" t="t" r="r" b="b"/>
              <a:pathLst>
                <a:path w="785" h="87">
                  <a:moveTo>
                    <a:pt x="0" y="11"/>
                  </a:moveTo>
                  <a:cubicBezTo>
                    <a:pt x="212" y="5"/>
                    <a:pt x="424" y="0"/>
                    <a:pt x="459" y="11"/>
                  </a:cubicBezTo>
                  <a:cubicBezTo>
                    <a:pt x="494" y="22"/>
                    <a:pt x="155" y="63"/>
                    <a:pt x="209" y="75"/>
                  </a:cubicBezTo>
                  <a:cubicBezTo>
                    <a:pt x="263" y="87"/>
                    <a:pt x="665" y="80"/>
                    <a:pt x="785" y="8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2"/>
          <p:cNvSpPr/>
          <p:nvPr/>
        </p:nvSpPr>
        <p:spPr>
          <a:xfrm flipV="1">
            <a:off x="5780160" y="1706400"/>
            <a:ext cx="25200" cy="37008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6154560" y="1692000"/>
            <a:ext cx="24120" cy="35528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V="1">
            <a:off x="6651720" y="1708200"/>
            <a:ext cx="20520" cy="29700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0480"/>
            <a:ext cx="7146720" cy="96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apor Pressure of a Solid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nd the p-T Phase Diagra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720" y="1494000"/>
            <a:ext cx="46530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saw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essentially constant     (-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We can use this to determine graphically the equilibrium pressure (vapor pressure) of the solid as a function of T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given temperature, at w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sure does the curve cros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om this, we can plot the equilibrium curve,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(T), where the two phases can coexist.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his graph is called a p-T phase diagram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t tells us what regions in the (p,T) plane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ake a gas and which make a solid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quilibrium curve separates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just a way to visualize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equ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7280" y="6031080"/>
          <a:ext cx="38638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6031080"/>
                    <a:ext cx="38638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7720" y="4130640"/>
            <a:ext cx="1555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low T or high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solid.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phases coexi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n the equilibrium curv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t high T or low p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quilibrium is all ga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54600" y="1287360"/>
            <a:ext cx="3942360" cy="4455000"/>
            <a:chOff x="4854600" y="1287360"/>
            <a:chExt cx="3942360" cy="4455000"/>
          </a:xfrm>
        </p:grpSpPr>
        <p:grpSp>
          <p:nvGrpSpPr>
            <p:cNvPr id="146" name=""/>
            <p:cNvGrpSpPr/>
            <p:nvPr/>
          </p:nvGrpSpPr>
          <p:grpSpPr>
            <a:xfrm>
              <a:off x="4854600" y="1287360"/>
              <a:ext cx="3942360" cy="1941480"/>
              <a:chOff x="4854600" y="1287360"/>
              <a:chExt cx="3942360" cy="1941480"/>
            </a:xfrm>
          </p:grpSpPr>
          <p:sp>
            <p:nvSpPr>
              <p:cNvPr id="147" name="Line 20"/>
              <p:cNvSpPr/>
              <p:nvPr/>
            </p:nvSpPr>
            <p:spPr>
              <a:xfrm flipH="1">
                <a:off x="5248440" y="2381400"/>
                <a:ext cx="1714320" cy="0"/>
              </a:xfrm>
              <a:prstGeom prst="line">
                <a:avLst/>
              </a:prstGeom>
              <a:ln w="324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4"/>
              <p:cNvSpPr/>
              <p:nvPr/>
            </p:nvSpPr>
            <p:spPr>
              <a:xfrm>
                <a:off x="655668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5"/>
              <p:cNvSpPr/>
              <p:nvPr/>
            </p:nvSpPr>
            <p:spPr>
              <a:xfrm>
                <a:off x="63410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5653440" y="1324080"/>
                <a:ext cx="61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13"/>
              <p:cNvSpPr/>
              <p:nvPr/>
            </p:nvSpPr>
            <p:spPr>
              <a:xfrm>
                <a:off x="4854600" y="1287360"/>
                <a:ext cx="35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5243400" y="1432080"/>
                <a:ext cx="0" cy="154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 flipH="1">
                <a:off x="5239800" y="1701720"/>
                <a:ext cx="1660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Text Box 17"/>
              <p:cNvSpPr/>
              <p:nvPr/>
            </p:nvSpPr>
            <p:spPr>
              <a:xfrm>
                <a:off x="6791400" y="1424160"/>
                <a:ext cx="3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8"/>
              <p:cNvSpPr/>
              <p:nvPr/>
            </p:nvSpPr>
            <p:spPr>
              <a:xfrm>
                <a:off x="5267160" y="1722600"/>
                <a:ext cx="1328760" cy="1163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30"/>
              <p:cNvSpPr/>
              <p:nvPr/>
            </p:nvSpPr>
            <p:spPr>
              <a:xfrm>
                <a:off x="5280120" y="1735200"/>
                <a:ext cx="925560" cy="1493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31"/>
              <p:cNvSpPr/>
              <p:nvPr/>
            </p:nvSpPr>
            <p:spPr>
              <a:xfrm>
                <a:off x="6308640" y="2822400"/>
                <a:ext cx="87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=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32"/>
              <p:cNvSpPr/>
              <p:nvPr/>
            </p:nvSpPr>
            <p:spPr>
              <a:xfrm>
                <a:off x="5440320" y="2975040"/>
                <a:ext cx="76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l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30"/>
              <p:cNvSpPr/>
              <p:nvPr/>
            </p:nvSpPr>
            <p:spPr>
              <a:xfrm>
                <a:off x="5289480" y="1735200"/>
                <a:ext cx="1600200" cy="8017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Text Box 31"/>
              <p:cNvSpPr/>
              <p:nvPr/>
            </p:nvSpPr>
            <p:spPr>
              <a:xfrm>
                <a:off x="6240600" y="1920960"/>
                <a:ext cx="75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p &gt; 1 atm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Oval 24"/>
              <p:cNvSpPr/>
              <p:nvPr/>
            </p:nvSpPr>
            <p:spPr>
              <a:xfrm>
                <a:off x="5754600" y="2332080"/>
                <a:ext cx="7488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Oval 24"/>
              <p:cNvSpPr/>
              <p:nvPr/>
            </p:nvSpPr>
            <p:spPr>
              <a:xfrm>
                <a:off x="6137280" y="233676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Oval 24"/>
              <p:cNvSpPr/>
              <p:nvPr/>
            </p:nvSpPr>
            <p:spPr>
              <a:xfrm>
                <a:off x="6627960" y="23320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21920" y="2230560"/>
                <a:ext cx="324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47520" y="2229840"/>
                <a:ext cx="1549440" cy="276480"/>
                <a:chOff x="7247520" y="2229840"/>
                <a:chExt cx="1549440" cy="276480"/>
              </a:xfrm>
            </p:grpSpPr>
            <p:sp>
              <p:nvSpPr>
                <p:cNvPr id="166" name="Oval 24"/>
                <p:cNvSpPr/>
                <p:nvPr/>
              </p:nvSpPr>
              <p:spPr>
                <a:xfrm>
                  <a:off x="7439040" y="2332440"/>
                  <a:ext cx="74520" cy="745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247520" y="2229840"/>
                  <a:ext cx="1549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285840" indent="-285840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quilibrium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8880" y="3914640"/>
              <a:ext cx="1999800" cy="1827720"/>
              <a:chOff x="5168880" y="3914640"/>
              <a:chExt cx="1999800" cy="18277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61040" y="4216320"/>
                <a:ext cx="1695240" cy="12445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35480" y="4199040"/>
                <a:ext cx="1737000" cy="1368360"/>
              </a:xfrm>
              <a:custGeom>
                <a:avLst/>
                <a:gdLst/>
                <a:ahLst/>
                <a:rect l="l" t="t" r="r" b="b"/>
                <a:pathLst>
                  <a:path w="1094" h="862">
                    <a:moveTo>
                      <a:pt x="7" y="786"/>
                    </a:moveTo>
                    <a:cubicBezTo>
                      <a:pt x="8" y="862"/>
                      <a:pt x="7" y="793"/>
                      <a:pt x="14" y="795"/>
                    </a:cubicBezTo>
                    <a:cubicBezTo>
                      <a:pt x="21" y="797"/>
                      <a:pt x="13" y="802"/>
                      <a:pt x="50" y="799"/>
                    </a:cubicBezTo>
                    <a:cubicBezTo>
                      <a:pt x="87" y="796"/>
                      <a:pt x="171" y="785"/>
                      <a:pt x="234" y="774"/>
                    </a:cubicBezTo>
                    <a:cubicBezTo>
                      <a:pt x="297" y="763"/>
                      <a:pt x="357" y="761"/>
                      <a:pt x="426" y="734"/>
                    </a:cubicBezTo>
                    <a:cubicBezTo>
                      <a:pt x="495" y="707"/>
                      <a:pt x="580" y="666"/>
                      <a:pt x="647" y="611"/>
                    </a:cubicBezTo>
                    <a:cubicBezTo>
                      <a:pt x="714" y="556"/>
                      <a:pt x="776" y="468"/>
                      <a:pt x="827" y="402"/>
                    </a:cubicBezTo>
                    <a:cubicBezTo>
                      <a:pt x="878" y="336"/>
                      <a:pt x="917" y="275"/>
                      <a:pt x="955" y="216"/>
                    </a:cubicBezTo>
                    <a:cubicBezTo>
                      <a:pt x="993" y="157"/>
                      <a:pt x="1033" y="82"/>
                      <a:pt x="1054" y="47"/>
                    </a:cubicBezTo>
                    <a:cubicBezTo>
                      <a:pt x="1075" y="12"/>
                      <a:pt x="1085" y="12"/>
                      <a:pt x="1083" y="6"/>
                    </a:cubicBezTo>
                    <a:cubicBezTo>
                      <a:pt x="1081" y="0"/>
                      <a:pt x="1094" y="11"/>
                      <a:pt x="1042" y="12"/>
                    </a:cubicBezTo>
                    <a:cubicBezTo>
                      <a:pt x="990" y="13"/>
                      <a:pt x="881" y="12"/>
                      <a:pt x="769" y="12"/>
                    </a:cubicBezTo>
                    <a:cubicBezTo>
                      <a:pt x="657" y="12"/>
                      <a:pt x="477" y="12"/>
                      <a:pt x="367" y="12"/>
                    </a:cubicBezTo>
                    <a:cubicBezTo>
                      <a:pt x="257" y="12"/>
                      <a:pt x="164" y="12"/>
                      <a:pt x="111" y="12"/>
                    </a:cubicBezTo>
                    <a:cubicBezTo>
                      <a:pt x="58" y="12"/>
                      <a:pt x="64" y="12"/>
                      <a:pt x="47" y="12"/>
                    </a:cubicBezTo>
                    <a:cubicBezTo>
                      <a:pt x="30" y="12"/>
                      <a:pt x="14" y="4"/>
                      <a:pt x="7" y="12"/>
                    </a:cubicBezTo>
                    <a:cubicBezTo>
                      <a:pt x="0" y="20"/>
                      <a:pt x="7" y="5"/>
                      <a:pt x="7" y="59"/>
                    </a:cubicBezTo>
                    <a:cubicBezTo>
                      <a:pt x="7" y="113"/>
                      <a:pt x="6" y="217"/>
                      <a:pt x="7" y="338"/>
                    </a:cubicBezTo>
                    <a:cubicBezTo>
                      <a:pt x="8" y="459"/>
                      <a:pt x="4" y="707"/>
                      <a:pt x="7" y="786"/>
                    </a:cubicBez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0"/>
              <p:cNvSpPr/>
              <p:nvPr/>
            </p:nvSpPr>
            <p:spPr>
              <a:xfrm flipV="1">
                <a:off x="5246640" y="3995280"/>
                <a:ext cx="0" cy="1675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5168880" y="54608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4"/>
              <p:cNvSpPr/>
              <p:nvPr/>
            </p:nvSpPr>
            <p:spPr>
              <a:xfrm>
                <a:off x="5254560" y="4199040"/>
                <a:ext cx="1701720" cy="125100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15"/>
              <p:cNvSpPr/>
              <p:nvPr/>
            </p:nvSpPr>
            <p:spPr>
              <a:xfrm>
                <a:off x="5745240" y="535464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16"/>
              <p:cNvSpPr/>
              <p:nvPr/>
            </p:nvSpPr>
            <p:spPr>
              <a:xfrm>
                <a:off x="6126120" y="52102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17"/>
              <p:cNvSpPr/>
              <p:nvPr/>
            </p:nvSpPr>
            <p:spPr>
              <a:xfrm>
                <a:off x="6608880" y="4659480"/>
                <a:ext cx="74520" cy="74520"/>
              </a:xfrm>
              <a:prstGeom prst="ellipse">
                <a:avLst/>
              </a:prstGeom>
              <a:noFill/>
              <a:ln w="93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95080" y="5465880"/>
                <a:ext cx="27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71480" y="3914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66680" y="456408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oli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79200" y="5072040"/>
                <a:ext cx="50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64280" y="4229280"/>
                <a:ext cx="0" cy="101088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48480" y="4216320"/>
                <a:ext cx="0" cy="43992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89520" y="4218120"/>
                <a:ext cx="0" cy="1170000"/>
              </a:xfrm>
              <a:prstGeom prst="line">
                <a:avLst/>
              </a:prstGeom>
              <a:ln cap="rnd" w="3240">
                <a:solidFill>
                  <a:srgbClr val="00004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27040" y="932040"/>
            <a:ext cx="833580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ignored the entropy of the solid, because the entropy of the gas was so much larger.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When comparing solids and liquids, we can’t ignore entropy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entropy is small, but not completely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solids and liquid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for a given substanc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solid are more strongly bound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the liquid have more available microstates (due to mot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he chemical potential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ember that F = U-TS,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free energy per particl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very low T, the entropy is not important, so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s T increases, both chemical potentials decreas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ut the liquid decreases fas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solid phase is stable at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ow temperature, while the liquid phase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s stable at high tempera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quilibrium temperature,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elting/freezing temperature.  As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bstance passes through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reez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r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s a phase tran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680" y="63000"/>
            <a:ext cx="8766000" cy="96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 and Liquids, More Accuratel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43400" y="2622240"/>
            <a:ext cx="31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804640" y="4363920"/>
            <a:ext cx="2536200" cy="1708200"/>
            <a:chOff x="5804640" y="4363920"/>
            <a:chExt cx="2536200" cy="1708200"/>
          </a:xfrm>
        </p:grpSpPr>
        <p:sp>
          <p:nvSpPr>
            <p:cNvPr id="188" name=""/>
            <p:cNvSpPr/>
            <p:nvPr/>
          </p:nvSpPr>
          <p:spPr>
            <a:xfrm>
              <a:off x="5817240" y="5092560"/>
              <a:ext cx="37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04640" y="5263920"/>
              <a:ext cx="383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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 flipH="1">
              <a:off x="6168240" y="5276880"/>
              <a:ext cx="83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 flipH="1">
              <a:off x="6165720" y="5411520"/>
              <a:ext cx="8352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V="1">
              <a:off x="6151320" y="446724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6163920" y="4672080"/>
              <a:ext cx="15667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5"/>
            <p:cNvSpPr/>
            <p:nvPr/>
          </p:nvSpPr>
          <p:spPr>
            <a:xfrm>
              <a:off x="6760800" y="5413320"/>
              <a:ext cx="110880" cy="1112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6"/>
            <p:cNvSpPr/>
            <p:nvPr/>
          </p:nvSpPr>
          <p:spPr>
            <a:xfrm>
              <a:off x="7344720" y="49665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quid-solid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lib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319440" y="540864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6333840" y="5298840"/>
              <a:ext cx="1076040" cy="51300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6499080" y="4363920"/>
              <a:ext cx="6836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reez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89280" y="569916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92040" y="557208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84920" y="4373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02040" y="43876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816600" y="4669920"/>
              <a:ext cx="0" cy="8031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87360" y="927000"/>
            <a:ext cx="604836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point corresponds to a liqui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is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ill happ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 substance will m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Free energy will minimize itse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ntropy will maxim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263280" y="754200"/>
            <a:ext cx="2058840" cy="1698480"/>
            <a:chOff x="6263280" y="754200"/>
            <a:chExt cx="2058840" cy="1698480"/>
          </a:xfrm>
        </p:grpSpPr>
        <p:sp>
          <p:nvSpPr>
            <p:cNvPr id="206" name="Freeform 19"/>
            <p:cNvSpPr/>
            <p:nvPr/>
          </p:nvSpPr>
          <p:spPr>
            <a:xfrm>
              <a:off x="6711840" y="1679760"/>
              <a:ext cx="1076400" cy="512640"/>
            </a:xfrm>
            <a:prstGeom prst="pie">
              <a:avLst/>
            </a:prstGeom>
            <a:noFill/>
            <a:ln w="19080">
              <a:solidFill>
                <a:srgbClr val="00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 flipV="1">
              <a:off x="6529320" y="847800"/>
              <a:ext cx="0" cy="160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6541920" y="1052640"/>
              <a:ext cx="1567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8"/>
            <p:cNvSpPr/>
            <p:nvPr/>
          </p:nvSpPr>
          <p:spPr>
            <a:xfrm>
              <a:off x="6697800" y="1789200"/>
              <a:ext cx="1314360" cy="317520"/>
            </a:xfrm>
            <a:prstGeom prst="pie">
              <a:avLst/>
            </a:pr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67640" y="20797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0400" y="1952640"/>
              <a:ext cx="351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3280" y="7542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040" y="7686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6861240" y="170208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7243920" y="1841760"/>
              <a:ext cx="55440" cy="55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5"/>
            <p:cNvSpPr/>
            <p:nvPr/>
          </p:nvSpPr>
          <p:spPr>
            <a:xfrm>
              <a:off x="7758000" y="1987560"/>
              <a:ext cx="55800" cy="5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800" y="140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10720" y="150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39200" y="167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Rectangle 3"/>
          <p:cNvSpPr/>
          <p:nvPr/>
        </p:nvSpPr>
        <p:spPr>
          <a:xfrm>
            <a:off x="979560" y="61920"/>
            <a:ext cx="7162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Solid-Liqui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400" y="60120"/>
            <a:ext cx="8960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-T Diagram with Three Phases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59080" y="952560"/>
            <a:ext cx="2255400" cy="2496600"/>
            <a:chOff x="559080" y="952560"/>
            <a:chExt cx="2255400" cy="2496600"/>
          </a:xfrm>
        </p:grpSpPr>
        <p:grpSp>
          <p:nvGrpSpPr>
            <p:cNvPr id="225" name=""/>
            <p:cNvGrpSpPr/>
            <p:nvPr/>
          </p:nvGrpSpPr>
          <p:grpSpPr>
            <a:xfrm>
              <a:off x="559080" y="1149480"/>
              <a:ext cx="2255400" cy="2299680"/>
              <a:chOff x="559080" y="1149480"/>
              <a:chExt cx="2255400" cy="2299680"/>
            </a:xfrm>
          </p:grpSpPr>
          <p:sp>
            <p:nvSpPr>
              <p:cNvPr id="226" name="Line 34"/>
              <p:cNvSpPr/>
              <p:nvPr/>
            </p:nvSpPr>
            <p:spPr>
              <a:xfrm flipV="1">
                <a:off x="849240" y="126648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5"/>
              <p:cNvSpPr/>
              <p:nvPr/>
            </p:nvSpPr>
            <p:spPr>
              <a:xfrm>
                <a:off x="773280" y="150192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Text Box 36"/>
              <p:cNvSpPr/>
              <p:nvPr/>
            </p:nvSpPr>
            <p:spPr>
              <a:xfrm>
                <a:off x="2484720" y="148428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Text Box 39"/>
              <p:cNvSpPr/>
              <p:nvPr/>
            </p:nvSpPr>
            <p:spPr>
              <a:xfrm>
                <a:off x="559080" y="114948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61920" y="1641600"/>
              <a:ext cx="1636560" cy="1788840"/>
              <a:chOff x="961920" y="1641600"/>
              <a:chExt cx="1636560" cy="1788840"/>
            </a:xfrm>
          </p:grpSpPr>
          <p:sp>
            <p:nvSpPr>
              <p:cNvPr id="231" name="Oval 38"/>
              <p:cNvSpPr/>
              <p:nvPr/>
            </p:nvSpPr>
            <p:spPr>
              <a:xfrm>
                <a:off x="1243080" y="2598840"/>
                <a:ext cx="10476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0"/>
              <p:cNvSpPr/>
              <p:nvPr/>
            </p:nvSpPr>
            <p:spPr>
              <a:xfrm>
                <a:off x="961920" y="1641600"/>
                <a:ext cx="441360" cy="178884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3" name="Group 52"/>
              <p:cNvGrpSpPr/>
              <p:nvPr/>
            </p:nvGrpSpPr>
            <p:grpSpPr>
              <a:xfrm>
                <a:off x="1081080" y="2514600"/>
                <a:ext cx="1517400" cy="512640"/>
                <a:chOff x="1081080" y="2514600"/>
                <a:chExt cx="1517400" cy="512640"/>
              </a:xfrm>
            </p:grpSpPr>
            <p:sp>
              <p:nvSpPr>
                <p:cNvPr id="234" name="Freeform 53"/>
                <p:cNvSpPr/>
                <p:nvPr/>
              </p:nvSpPr>
              <p:spPr>
                <a:xfrm>
                  <a:off x="1081080" y="26240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4"/>
                <p:cNvSpPr/>
                <p:nvPr/>
              </p:nvSpPr>
              <p:spPr>
                <a:xfrm>
                  <a:off x="1097640" y="251460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Text Box 6"/>
            <p:cNvSpPr/>
            <p:nvPr/>
          </p:nvSpPr>
          <p:spPr>
            <a:xfrm>
              <a:off x="1123920" y="952560"/>
              <a:ext cx="568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76640" y="952560"/>
            <a:ext cx="2255400" cy="2493360"/>
            <a:chOff x="3176640" y="952560"/>
            <a:chExt cx="2255400" cy="2493360"/>
          </a:xfrm>
        </p:grpSpPr>
        <p:sp>
          <p:nvSpPr>
            <p:cNvPr id="238" name="Text Box 6"/>
            <p:cNvSpPr/>
            <p:nvPr/>
          </p:nvSpPr>
          <p:spPr>
            <a:xfrm>
              <a:off x="3675240" y="952560"/>
              <a:ext cx="59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535200" y="1569960"/>
              <a:ext cx="1616040" cy="1789200"/>
              <a:chOff x="3535200" y="1569960"/>
              <a:chExt cx="1616040" cy="1789200"/>
            </a:xfrm>
          </p:grpSpPr>
          <p:sp>
            <p:nvSpPr>
              <p:cNvPr id="240" name="Oval 47"/>
              <p:cNvSpPr/>
              <p:nvPr/>
            </p:nvSpPr>
            <p:spPr>
              <a:xfrm>
                <a:off x="4170240" y="2655720"/>
                <a:ext cx="10476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48"/>
              <p:cNvSpPr/>
              <p:nvPr/>
            </p:nvSpPr>
            <p:spPr>
              <a:xfrm>
                <a:off x="3535200" y="1569960"/>
                <a:ext cx="865440" cy="1789200"/>
              </a:xfrm>
              <a:prstGeom prst="pie">
                <a:avLst/>
              </a:prstGeom>
              <a:noFill/>
              <a:ln w="28440">
                <a:solidFill>
                  <a:srgbClr val="00ff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Group 49"/>
              <p:cNvGrpSpPr/>
              <p:nvPr/>
            </p:nvGrpSpPr>
            <p:grpSpPr>
              <a:xfrm>
                <a:off x="3633840" y="2521080"/>
                <a:ext cx="1517400" cy="512640"/>
                <a:chOff x="3633840" y="2521080"/>
                <a:chExt cx="1517400" cy="512640"/>
              </a:xfrm>
            </p:grpSpPr>
            <p:sp>
              <p:nvSpPr>
                <p:cNvPr id="243" name="Freeform 50"/>
                <p:cNvSpPr/>
                <p:nvPr/>
              </p:nvSpPr>
              <p:spPr>
                <a:xfrm>
                  <a:off x="3633840" y="263052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1"/>
                <p:cNvSpPr/>
                <p:nvPr/>
              </p:nvSpPr>
              <p:spPr>
                <a:xfrm>
                  <a:off x="3650400" y="2521080"/>
                  <a:ext cx="1242720" cy="51264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3176640" y="1146240"/>
              <a:ext cx="2255400" cy="2299680"/>
              <a:chOff x="3176640" y="1146240"/>
              <a:chExt cx="2255400" cy="2299680"/>
            </a:xfrm>
          </p:grpSpPr>
          <p:sp>
            <p:nvSpPr>
              <p:cNvPr id="246" name="Line 34"/>
              <p:cNvSpPr/>
              <p:nvPr/>
            </p:nvSpPr>
            <p:spPr>
              <a:xfrm flipV="1">
                <a:off x="3466800" y="1263240"/>
                <a:ext cx="0" cy="218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35"/>
              <p:cNvSpPr/>
              <p:nvPr/>
            </p:nvSpPr>
            <p:spPr>
              <a:xfrm>
                <a:off x="3390840" y="1498680"/>
                <a:ext cx="2041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Text Box 36"/>
              <p:cNvSpPr/>
              <p:nvPr/>
            </p:nvSpPr>
            <p:spPr>
              <a:xfrm>
                <a:off x="5102280" y="148104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3176640" y="1146240"/>
                <a:ext cx="298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54760" y="952560"/>
            <a:ext cx="2255400" cy="2496600"/>
            <a:chOff x="5954760" y="952560"/>
            <a:chExt cx="2255400" cy="2496600"/>
          </a:xfrm>
        </p:grpSpPr>
        <p:sp>
          <p:nvSpPr>
            <p:cNvPr id="251" name="Text Box 6"/>
            <p:cNvSpPr/>
            <p:nvPr/>
          </p:nvSpPr>
          <p:spPr>
            <a:xfrm>
              <a:off x="6423120" y="952560"/>
              <a:ext cx="66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954760" y="1149480"/>
              <a:ext cx="2255400" cy="2299680"/>
              <a:chOff x="5954760" y="1149480"/>
              <a:chExt cx="2255400" cy="2299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6316560" y="1577880"/>
                <a:ext cx="1563840" cy="1788840"/>
                <a:chOff x="6316560" y="1577880"/>
                <a:chExt cx="1563840" cy="1788840"/>
              </a:xfrm>
            </p:grpSpPr>
            <p:sp>
              <p:nvSpPr>
                <p:cNvPr id="254" name="Oval 56"/>
                <p:cNvSpPr/>
                <p:nvPr/>
              </p:nvSpPr>
              <p:spPr>
                <a:xfrm>
                  <a:off x="7581960" y="300492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Oval 58"/>
                <p:cNvSpPr/>
                <p:nvPr/>
              </p:nvSpPr>
              <p:spPr>
                <a:xfrm>
                  <a:off x="6970680" y="2665080"/>
                  <a:ext cx="104760" cy="9540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6"/>
                <p:cNvSpPr/>
                <p:nvPr/>
              </p:nvSpPr>
              <p:spPr>
                <a:xfrm>
                  <a:off x="6316560" y="1577880"/>
                  <a:ext cx="1446480" cy="1788840"/>
                </a:xfrm>
                <a:prstGeom prst="pie">
                  <a:avLst/>
                </a:prstGeom>
                <a:noFill/>
                <a:ln w="28440">
                  <a:solidFill>
                    <a:srgbClr val="00ff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7"/>
                <p:cNvSpPr/>
                <p:nvPr/>
              </p:nvSpPr>
              <p:spPr>
                <a:xfrm>
                  <a:off x="6356520" y="2622240"/>
                  <a:ext cx="1517400" cy="317520"/>
                </a:xfrm>
                <a:prstGeom prst="pie">
                  <a:avLst/>
                </a:prstGeom>
                <a:noFill/>
                <a:ln w="1908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8"/>
                <p:cNvSpPr/>
                <p:nvPr/>
              </p:nvSpPr>
              <p:spPr>
                <a:xfrm>
                  <a:off x="6372360" y="2512800"/>
                  <a:ext cx="1508040" cy="696960"/>
                </a:xfrm>
                <a:prstGeom prst="pie">
                  <a:avLst/>
                </a:prstGeom>
                <a:noFill/>
                <a:ln w="19080">
                  <a:solidFill>
                    <a:srgbClr val="00ff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5954760" y="1149480"/>
                <a:ext cx="2255400" cy="2299680"/>
                <a:chOff x="5954760" y="1149480"/>
                <a:chExt cx="2255400" cy="2299680"/>
              </a:xfrm>
            </p:grpSpPr>
            <p:sp>
              <p:nvSpPr>
                <p:cNvPr id="260" name="Line 34"/>
                <p:cNvSpPr/>
                <p:nvPr/>
              </p:nvSpPr>
              <p:spPr>
                <a:xfrm flipV="1">
                  <a:off x="6244920" y="1266480"/>
                  <a:ext cx="0" cy="2182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35"/>
                <p:cNvSpPr/>
                <p:nvPr/>
              </p:nvSpPr>
              <p:spPr>
                <a:xfrm>
                  <a:off x="6168960" y="1501920"/>
                  <a:ext cx="2041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Text Box 36"/>
                <p:cNvSpPr/>
                <p:nvPr/>
              </p:nvSpPr>
              <p:spPr>
                <a:xfrm>
                  <a:off x="7880400" y="1484280"/>
                  <a:ext cx="304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Text Box 39"/>
                <p:cNvSpPr/>
                <p:nvPr/>
              </p:nvSpPr>
              <p:spPr>
                <a:xfrm>
                  <a:off x="5954760" y="1149480"/>
                  <a:ext cx="298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612000" y="4222440"/>
            <a:ext cx="2375640" cy="2025000"/>
            <a:chOff x="612000" y="4222440"/>
            <a:chExt cx="2375640" cy="2025000"/>
          </a:xfrm>
        </p:grpSpPr>
        <p:sp>
          <p:nvSpPr>
            <p:cNvPr id="265" name="Text Box 32"/>
            <p:cNvSpPr/>
            <p:nvPr/>
          </p:nvSpPr>
          <p:spPr>
            <a:xfrm>
              <a:off x="1797120" y="561528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12000" y="4222440"/>
              <a:ext cx="2375640" cy="2025000"/>
              <a:chOff x="612000" y="4222440"/>
              <a:chExt cx="2375640" cy="2025000"/>
            </a:xfrm>
          </p:grpSpPr>
          <p:sp>
            <p:nvSpPr>
              <p:cNvPr id="267" name="Line 18"/>
              <p:cNvSpPr/>
              <p:nvPr/>
            </p:nvSpPr>
            <p:spPr>
              <a:xfrm flipV="1">
                <a:off x="923760" y="4563720"/>
                <a:ext cx="0" cy="165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9"/>
              <p:cNvSpPr/>
              <p:nvPr/>
            </p:nvSpPr>
            <p:spPr>
              <a:xfrm>
                <a:off x="931680" y="6230880"/>
                <a:ext cx="193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0"/>
              <p:cNvSpPr/>
              <p:nvPr/>
            </p:nvSpPr>
            <p:spPr>
              <a:xfrm>
                <a:off x="1042920" y="5514840"/>
                <a:ext cx="585720" cy="6955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flipH="1">
                <a:off x="1635120" y="4630680"/>
                <a:ext cx="249120" cy="89532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>
                <a:off x="1685880" y="5021280"/>
                <a:ext cx="781200" cy="485640"/>
              </a:xfrm>
              <a:prstGeom prst="pie">
                <a:avLst/>
              </a:pr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612720" y="5803920"/>
                <a:ext cx="376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 Box 24"/>
              <p:cNvSpPr/>
              <p:nvPr/>
            </p:nvSpPr>
            <p:spPr>
              <a:xfrm>
                <a:off x="2584440" y="5910120"/>
                <a:ext cx="4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25"/>
              <p:cNvSpPr/>
              <p:nvPr/>
            </p:nvSpPr>
            <p:spPr>
              <a:xfrm>
                <a:off x="1703520" y="5116320"/>
                <a:ext cx="8244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26"/>
              <p:cNvSpPr/>
              <p:nvPr/>
            </p:nvSpPr>
            <p:spPr>
              <a:xfrm>
                <a:off x="2286000" y="5119560"/>
                <a:ext cx="85680" cy="9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27"/>
              <p:cNvSpPr/>
              <p:nvPr/>
            </p:nvSpPr>
            <p:spPr>
              <a:xfrm>
                <a:off x="1609560" y="5459400"/>
                <a:ext cx="8568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28"/>
              <p:cNvSpPr/>
              <p:nvPr/>
            </p:nvSpPr>
            <p:spPr>
              <a:xfrm>
                <a:off x="1307880" y="5924520"/>
                <a:ext cx="84240" cy="9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30"/>
              <p:cNvSpPr/>
              <p:nvPr/>
            </p:nvSpPr>
            <p:spPr>
              <a:xfrm>
                <a:off x="619200" y="4468680"/>
                <a:ext cx="39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 Box 31"/>
              <p:cNvSpPr/>
              <p:nvPr/>
            </p:nvSpPr>
            <p:spPr>
              <a:xfrm>
                <a:off x="1041480" y="4222440"/>
                <a:ext cx="175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Phase Diagram: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2000" y="50004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21720" y="5349600"/>
                <a:ext cx="3376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920880" y="5960880"/>
                <a:ext cx="434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23760" y="5503680"/>
                <a:ext cx="7128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898200" y="5157720"/>
                <a:ext cx="14158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1067760" y="46242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75240" y="464328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203640" y="4287960"/>
            <a:ext cx="5754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a given p,T, the system will reside in the lowes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ase transitions occur where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 curves cro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raise T at constant p, the sequence of phase transitions depends on the value of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id and liquid curves don’t change with pressure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solids and liquids are nearly incompre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4520" y="184140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5720" y="28954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Liqu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77560" y="2535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5-03T21:16:08Z</cp:lastPrinted>
  <dcterms:modified xsi:type="dcterms:W3CDTF">2013-09-27T03:47:59Z</dcterms:modified>
  <cp:revision>35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