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B8AE283-BF39-4B25-BEE3-10666852C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irling (hand held) - no time for the other Stirling eng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molectric powered f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eam eng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  Because number of states ~V^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show this explicitly in HW for an idea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team engine and thermoelectric fan here 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galileoandeinstein.physics.virginia.edu/more_stuff/flashlets/carno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possibly move to Friday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:  You will get the best efficiency for the largest deltaT, and for the largest “compression ratio,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tirling demo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123DBD24-01B1-474F-8EB9-13411F6BE8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3920" y="54000"/>
            <a:ext cx="7452000" cy="8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3</a:t>
            </a:r>
            <a:br>
              <a:rPr sz="40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Heat Engines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6360" y="2139840"/>
            <a:ext cx="6135840" cy="24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 we define engine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ot cycle: the best possible effic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76800" y="5178600"/>
            <a:ext cx="30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Lecture 14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7040" y="5178600"/>
            <a:ext cx="34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Does this Engine Do Work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2120" y="1125360"/>
            <a:ext cx="769536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 at the two isothermal processes (2 and 4) on the previous sl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2: expanding gas do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expands 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ocess 4: contracting gas is don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y the piston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as it contracts from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o V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W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the net work is positive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true, because the contracting gas is colder (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lower pressur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ing one cycle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t reservoir has lost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cold reservoir has gained some energy (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=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3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+Q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4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engine (the gas cylinder) has neither gained nor lost energ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energy to do work comes from the hot reservoir, not from the engine itsel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et work done by the engine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W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Not all of the energy taken from the hot reservoir becomes useful work.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me is lost into the cold reservoir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ould like to make 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s small as pos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15880" y="4773600"/>
            <a:ext cx="3795840" cy="4539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4160" y="583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6560" y="1076400"/>
            <a:ext cx="7663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 the last slide, why did we 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h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Q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ed to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since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both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re not = 0, but they cancel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They average to zero over many cyc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405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7680" y="58320"/>
            <a:ext cx="84646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Entropy in Macroscopic System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80600" y="1569600"/>
            <a:ext cx="8202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ditional thermodynamic entropy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 = k ln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ant to calculate S from macrostate information (p, V, T, U, N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)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tart with the definition of temperature in terms of 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ntropy changes when T chang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(We’re keeping V and N fixed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C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const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809720" y="4389480"/>
          <a:ext cx="568980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4389480"/>
                    <a:ext cx="568980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2513160" y="2779560"/>
          <a:ext cx="349092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3160" y="2779560"/>
                    <a:ext cx="3490920" cy="749520"/>
                  </a:xfrm>
                  <a:prstGeom prst="rect">
                    <a:avLst/>
                  </a:prstGeom>
                  <a:ln w="3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2320" y="58680"/>
            <a:ext cx="83502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 in Quasi-static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30000" y="1093320"/>
            <a:ext cx="806436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V is constant: 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d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ff00"/>
                </a:solidFill>
                <a:latin typeface="Arial Unicode MS"/>
              </a:rPr>
              <a:t> dU/T = dQ/T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 Unicode MS"/>
                <a:ea typeface="Arial Unicode MS"/>
              </a:rPr>
              <a:t>W = 0, so dU = d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fact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S = dQ/T during any reversib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quasi-static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ven if V chang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reason: In a reversible process, S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ystem plus environment) doesn’t ch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89240" y="3076560"/>
          <a:ext cx="180648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3076560"/>
                    <a:ext cx="18064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9"/>
          <p:cNvSpPr/>
          <p:nvPr/>
        </p:nvSpPr>
        <p:spPr>
          <a:xfrm>
            <a:off x="5118120" y="5506920"/>
            <a:ext cx="29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PGothic"/>
              </a:rPr>
              <a:t>for any reversible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6560" y="5219640"/>
          <a:ext cx="3987720" cy="88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5219640"/>
                    <a:ext cx="3987720" cy="8841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3159000" y="3089160"/>
            <a:ext cx="55468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if process is reversi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 is supplying (or absorbing) he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5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reservoir’s energy gain is the system’s heat los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at’s how they intera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72880" y="57240"/>
            <a:ext cx="85932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 in Isothermal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5200" y="3922560"/>
            <a:ext cx="68864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1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526360" y="3760920"/>
            <a:ext cx="2982600" cy="2709720"/>
            <a:chOff x="5526360" y="3760920"/>
            <a:chExt cx="2982600" cy="2709720"/>
          </a:xfrm>
        </p:grpSpPr>
        <p:sp>
          <p:nvSpPr>
            <p:cNvPr id="450" name=""/>
            <p:cNvSpPr/>
            <p:nvPr/>
          </p:nvSpPr>
          <p:spPr>
            <a:xfrm>
              <a:off x="6404040" y="3881520"/>
              <a:ext cx="655560" cy="1485720"/>
            </a:xfrm>
            <a:custGeom>
              <a:avLst/>
              <a:gdLst/>
              <a:ahLst/>
              <a:rect l="l" t="t" r="r" b="b"/>
              <a:pathLst>
                <a:path w="413" h="936">
                  <a:moveTo>
                    <a:pt x="0" y="0"/>
                  </a:moveTo>
                  <a:cubicBezTo>
                    <a:pt x="4" y="45"/>
                    <a:pt x="17" y="204"/>
                    <a:pt x="27" y="276"/>
                  </a:cubicBezTo>
                  <a:cubicBezTo>
                    <a:pt x="37" y="348"/>
                    <a:pt x="38" y="366"/>
                    <a:pt x="60" y="430"/>
                  </a:cubicBezTo>
                  <a:cubicBezTo>
                    <a:pt x="82" y="494"/>
                    <a:pt x="124" y="595"/>
                    <a:pt x="159" y="661"/>
                  </a:cubicBezTo>
                  <a:cubicBezTo>
                    <a:pt x="194" y="727"/>
                    <a:pt x="227" y="780"/>
                    <a:pt x="269" y="826"/>
                  </a:cubicBezTo>
                  <a:cubicBezTo>
                    <a:pt x="311" y="872"/>
                    <a:pt x="383" y="913"/>
                    <a:pt x="413" y="9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81960" y="4989600"/>
              <a:ext cx="1591920" cy="65700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48280" y="3916440"/>
              <a:ext cx="0" cy="22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0520" y="6073920"/>
              <a:ext cx="26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26360" y="3760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74120" y="6102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10640" y="558180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9200" y="4516560"/>
              <a:ext cx="74520" cy="745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20080" y="4584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74200" y="5708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02320" y="4546440"/>
              <a:ext cx="1452600" cy="107640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7560" y="5619600"/>
              <a:ext cx="79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5800" y="37782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=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06520" y="1190520"/>
            <a:ext cx="84279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5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V &amp; p change but T doesn’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ork is done (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pdV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must enter to keep T constant: dQ = dU+d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al case, ideal g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an ideal gas, if dT = 0, then dU =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1160640" y="2568600"/>
          <a:ext cx="382248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2568600"/>
                    <a:ext cx="382248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1162080" y="4635360"/>
          <a:ext cx="367020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2080" y="4635360"/>
                    <a:ext cx="3670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"/>
          <p:cNvSpPr/>
          <p:nvPr/>
        </p:nvSpPr>
        <p:spPr>
          <a:xfrm>
            <a:off x="5393880" y="2736720"/>
            <a:ext cx="3449880" cy="39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ember: This holds for 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quasi-static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processes, in which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system remains near thermal equilibrium at all tim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98240" y="1386000"/>
            <a:ext cx="640692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definition of an adiabatic pro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and T both change as the applied pressure chang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xample, if p increases (compress the syst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 decreases, and the associated S also decreases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increases, and the associated S also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two effects must exactly cancel 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?  Becau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reversible process, so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 other entropy is changing.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Q = 0, and W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ust moves the piston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a quasi-static adiabatic process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 =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We did not assume that the system is a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deal ga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general resul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157320" y="45720"/>
            <a:ext cx="885024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asi-static Adiabatic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174080" y="2076480"/>
            <a:ext cx="1425240" cy="2185920"/>
            <a:chOff x="7174080" y="2076480"/>
            <a:chExt cx="1425240" cy="2185920"/>
          </a:xfrm>
        </p:grpSpPr>
        <p:sp>
          <p:nvSpPr>
            <p:cNvPr id="472" name=""/>
            <p:cNvSpPr/>
            <p:nvPr/>
          </p:nvSpPr>
          <p:spPr>
            <a:xfrm>
              <a:off x="7286760" y="2198520"/>
              <a:ext cx="787320" cy="841680"/>
            </a:xfrm>
            <a:prstGeom prst="rect">
              <a:avLst/>
            </a:prstGeom>
            <a:noFill/>
            <a:ln w="648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2076480"/>
              <a:ext cx="1415880" cy="18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05640" y="2373480"/>
              <a:ext cx="777960" cy="1161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09600" y="313056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00960" y="2867040"/>
              <a:ext cx="792000" cy="745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91560" y="2408400"/>
              <a:ext cx="0" cy="45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99280" y="3940200"/>
              <a:ext cx="14000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sulated w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494480" y="2774880"/>
              <a:ext cx="800280" cy="762120"/>
              <a:chOff x="7494480" y="2774880"/>
              <a:chExt cx="800280" cy="762120"/>
            </a:xfrm>
          </p:grpSpPr>
          <p:sp>
            <p:nvSpPr>
              <p:cNvPr id="480" name=""/>
              <p:cNvSpPr/>
              <p:nvPr/>
            </p:nvSpPr>
            <p:spPr>
              <a:xfrm>
                <a:off x="750420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294760" y="2774880"/>
                <a:ext cx="0" cy="7621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494480" y="3537000"/>
                <a:ext cx="800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3" name=""/>
          <p:cNvGrpSpPr/>
          <p:nvPr/>
        </p:nvGrpSpPr>
        <p:grpSpPr>
          <a:xfrm>
            <a:off x="6459480" y="4371840"/>
            <a:ext cx="2061720" cy="2091240"/>
            <a:chOff x="6459480" y="4371840"/>
            <a:chExt cx="2061720" cy="2091240"/>
          </a:xfrm>
        </p:grpSpPr>
        <p:sp>
          <p:nvSpPr>
            <p:cNvPr id="484" name=""/>
            <p:cNvSpPr/>
            <p:nvPr/>
          </p:nvSpPr>
          <p:spPr>
            <a:xfrm rot="490800">
              <a:off x="6816240" y="52354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9000">
              <a:off x="6835680" y="4805280"/>
              <a:ext cx="1184400" cy="473040"/>
            </a:xfrm>
            <a:custGeom>
              <a:avLst/>
              <a:gdLst/>
              <a:ahLst/>
              <a:rect l="l" t="t" r="r" b="b"/>
              <a:pathLst>
                <a:path w="1003" h="414">
                  <a:moveTo>
                    <a:pt x="1003" y="414"/>
                  </a:moveTo>
                  <a:cubicBezTo>
                    <a:pt x="947" y="409"/>
                    <a:pt x="743" y="396"/>
                    <a:pt x="660" y="386"/>
                  </a:cubicBezTo>
                  <a:cubicBezTo>
                    <a:pt x="577" y="376"/>
                    <a:pt x="570" y="375"/>
                    <a:pt x="506" y="353"/>
                  </a:cubicBezTo>
                  <a:cubicBezTo>
                    <a:pt x="442" y="331"/>
                    <a:pt x="341" y="289"/>
                    <a:pt x="275" y="254"/>
                  </a:cubicBezTo>
                  <a:cubicBezTo>
                    <a:pt x="209" y="219"/>
                    <a:pt x="156" y="186"/>
                    <a:pt x="110" y="144"/>
                  </a:cubicBezTo>
                  <a:cubicBezTo>
                    <a:pt x="64" y="102"/>
                    <a:pt x="23" y="30"/>
                    <a:pt x="0" y="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8160" y="4535640"/>
              <a:ext cx="0" cy="160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59480" y="6086520"/>
              <a:ext cx="196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6480" y="4371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71280" y="6064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81840" y="4878360"/>
              <a:ext cx="5544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53160" y="5672160"/>
              <a:ext cx="55800" cy="54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13520" y="471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58120" y="5737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02600">
              <a:off x="6927480" y="4962240"/>
              <a:ext cx="731880" cy="677880"/>
            </a:xfrm>
            <a:custGeom>
              <a:avLst/>
              <a:gdLst/>
              <a:ahLst/>
              <a:rect l="l" t="t" r="r" b="b"/>
              <a:pathLst>
                <a:path w="915" h="678">
                  <a:moveTo>
                    <a:pt x="0" y="0"/>
                  </a:moveTo>
                  <a:cubicBezTo>
                    <a:pt x="16" y="52"/>
                    <a:pt x="33" y="105"/>
                    <a:pt x="48" y="144"/>
                  </a:cubicBezTo>
                  <a:cubicBezTo>
                    <a:pt x="63" y="183"/>
                    <a:pt x="74" y="206"/>
                    <a:pt x="90" y="237"/>
                  </a:cubicBezTo>
                  <a:cubicBezTo>
                    <a:pt x="106" y="268"/>
                    <a:pt x="122" y="298"/>
                    <a:pt x="147" y="330"/>
                  </a:cubicBezTo>
                  <a:cubicBezTo>
                    <a:pt x="172" y="362"/>
                    <a:pt x="207" y="401"/>
                    <a:pt x="240" y="432"/>
                  </a:cubicBezTo>
                  <a:cubicBezTo>
                    <a:pt x="273" y="463"/>
                    <a:pt x="313" y="493"/>
                    <a:pt x="348" y="516"/>
                  </a:cubicBezTo>
                  <a:cubicBezTo>
                    <a:pt x="383" y="539"/>
                    <a:pt x="416" y="553"/>
                    <a:pt x="453" y="570"/>
                  </a:cubicBezTo>
                  <a:cubicBezTo>
                    <a:pt x="490" y="587"/>
                    <a:pt x="518" y="602"/>
                    <a:pt x="570" y="618"/>
                  </a:cubicBezTo>
                  <a:cubicBezTo>
                    <a:pt x="622" y="634"/>
                    <a:pt x="721" y="656"/>
                    <a:pt x="768" y="666"/>
                  </a:cubicBezTo>
                  <a:cubicBezTo>
                    <a:pt x="815" y="676"/>
                    <a:pt x="828" y="673"/>
                    <a:pt x="852" y="675"/>
                  </a:cubicBezTo>
                  <a:cubicBezTo>
                    <a:pt x="876" y="677"/>
                    <a:pt x="902" y="678"/>
                    <a:pt x="915" y="678"/>
                  </a:cubicBezTo>
                </a:path>
              </a:pathLst>
            </a:custGeom>
            <a:noFill/>
            <a:ln w="2844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013160" y="5113440"/>
              <a:ext cx="34920" cy="1238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23600" y="522612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38000" y="5638680"/>
              <a:ext cx="389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557600" y="4819680"/>
            <a:ext cx="1173240" cy="425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74800" y="5415120"/>
            <a:ext cx="354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’s the best we can 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will tell 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7160" y="1365120"/>
            <a:ext cx="4243320" cy="3191400"/>
            <a:chOff x="227160" y="1365120"/>
            <a:chExt cx="4243320" cy="3191400"/>
          </a:xfrm>
        </p:grpSpPr>
        <p:graphicFrame>
          <p:nvGraphicFramePr>
            <p:cNvPr id="502" name=""/>
            <p:cNvGraphicFramePr/>
            <p:nvPr/>
          </p:nvGraphicFramePr>
          <p:xfrm>
            <a:off x="969840" y="3166920"/>
            <a:ext cx="2624400" cy="6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69840" y="3166920"/>
                      <a:ext cx="2624400" cy="668520"/>
                    </a:xfrm>
                    <a:prstGeom prst="rect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227160" y="2322360"/>
            <a:ext cx="4243320" cy="58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160" y="2322360"/>
                      <a:ext cx="4243320" cy="58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452520" y="1365120"/>
              <a:ext cx="37018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pay for the heat input, Q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H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, so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ine the efficien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27080" y="3944880"/>
              <a:ext cx="3022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lid for all heat engines.</a:t>
              </a:r>
              <a:br>
                <a:rPr sz="1800"/>
              </a:b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(Conservation of energ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078520" y="1477800"/>
            <a:ext cx="37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toon picture of a heat engin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48400" y="2003400"/>
            <a:ext cx="2573280" cy="390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t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70720" y="3811680"/>
            <a:ext cx="2631960" cy="40140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d reservoir at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6520" y="2405160"/>
            <a:ext cx="0" cy="14065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40560" y="3141720"/>
            <a:ext cx="0" cy="6699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40560" y="3141720"/>
            <a:ext cx="311040" cy="156960"/>
          </a:xfrm>
          <a:custGeom>
            <a:avLst/>
            <a:gdLst/>
            <a:ahLst/>
            <a:rect l="l" t="t" r="r" b="b"/>
            <a:pathLst>
              <a:path w="240" h="152">
                <a:moveTo>
                  <a:pt x="0" y="0"/>
                </a:moveTo>
                <a:cubicBezTo>
                  <a:pt x="11" y="52"/>
                  <a:pt x="23" y="104"/>
                  <a:pt x="48" y="128"/>
                </a:cubicBezTo>
                <a:cubicBezTo>
                  <a:pt x="73" y="152"/>
                  <a:pt x="120" y="141"/>
                  <a:pt x="152" y="144"/>
                </a:cubicBezTo>
                <a:cubicBezTo>
                  <a:pt x="184" y="147"/>
                  <a:pt x="225" y="144"/>
                  <a:pt x="240" y="14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48640" y="2405160"/>
            <a:ext cx="0" cy="468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6840" y="2862360"/>
            <a:ext cx="312840" cy="166680"/>
          </a:xfrm>
          <a:custGeom>
            <a:avLst/>
            <a:gdLst/>
            <a:ahLst/>
            <a:rect l="l" t="t" r="r" b="b"/>
            <a:pathLst>
              <a:path w="201" h="95">
                <a:moveTo>
                  <a:pt x="1" y="0"/>
                </a:moveTo>
                <a:cubicBezTo>
                  <a:pt x="0" y="32"/>
                  <a:pt x="0" y="65"/>
                  <a:pt x="33" y="80"/>
                </a:cubicBezTo>
                <a:cubicBezTo>
                  <a:pt x="66" y="95"/>
                  <a:pt x="173" y="87"/>
                  <a:pt x="201" y="8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126200" y="3019320"/>
            <a:ext cx="357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0440" y="3286080"/>
            <a:ext cx="532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483320" y="3018960"/>
            <a:ext cx="0" cy="2667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32840" y="3152880"/>
            <a:ext cx="542880" cy="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70600" y="2784600"/>
            <a:ext cx="1143000" cy="691920"/>
          </a:xfrm>
          <a:prstGeom prst="rect">
            <a:avLst/>
          </a:prstGeom>
          <a:noFill/>
          <a:ln w="38160">
            <a:solidFill>
              <a:srgbClr val="fe9b0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276960" y="2471760"/>
            <a:ext cx="0" cy="5698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76960" y="3321000"/>
            <a:ext cx="0" cy="4240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81640" y="2408400"/>
            <a:ext cx="4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70480" y="3449520"/>
            <a:ext cx="551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29640" y="3008160"/>
            <a:ext cx="584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35480" y="4226760"/>
            <a:ext cx="34369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Remember: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define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nd Q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as </a:t>
            </a:r>
            <a:r>
              <a:rPr b="0" i="1" lang="en-US" sz="1400" spc="-1" strike="noStrike">
                <a:solidFill>
                  <a:srgbClr val="00ffff"/>
                </a:solidFill>
                <a:latin typeface="Arial"/>
              </a:rPr>
              <a:t>positive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arrows define direction of flow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177160" y="295272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840" y="199404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800" y="55080"/>
            <a:ext cx="83822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A Review of Some Thermodynamic Processes of an Ideal Ga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902120" y="2227320"/>
            <a:ext cx="2030400" cy="1703880"/>
            <a:chOff x="4902120" y="2227320"/>
            <a:chExt cx="2030400" cy="1703880"/>
          </a:xfrm>
        </p:grpSpPr>
        <p:sp>
          <p:nvSpPr>
            <p:cNvPr id="51" name=""/>
            <p:cNvSpPr/>
            <p:nvPr/>
          </p:nvSpPr>
          <p:spPr>
            <a:xfrm>
              <a:off x="5999400" y="3532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5311800" y="2227320"/>
              <a:ext cx="0" cy="1239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311800" y="3455640"/>
              <a:ext cx="1620720" cy="11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02120" y="2684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067440" y="2816280"/>
              <a:ext cx="0" cy="388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67440" y="2552760"/>
              <a:ext cx="0" cy="326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35840" y="3124440"/>
              <a:ext cx="2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48440" y="2344680"/>
              <a:ext cx="1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97600" y="242244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7600" y="3205080"/>
              <a:ext cx="138240" cy="1270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1187280" y="2517840"/>
          <a:ext cx="2587680" cy="12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517840"/>
                    <a:ext cx="2587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" name=""/>
          <p:cNvGrpSpPr/>
          <p:nvPr/>
        </p:nvGrpSpPr>
        <p:grpSpPr>
          <a:xfrm>
            <a:off x="7088040" y="2463840"/>
            <a:ext cx="1432080" cy="1385280"/>
            <a:chOff x="7088040" y="2463840"/>
            <a:chExt cx="1432080" cy="1385280"/>
          </a:xfrm>
        </p:grpSpPr>
        <p:grpSp>
          <p:nvGrpSpPr>
            <p:cNvPr id="64" name=""/>
            <p:cNvGrpSpPr/>
            <p:nvPr/>
          </p:nvGrpSpPr>
          <p:grpSpPr>
            <a:xfrm>
              <a:off x="7601040" y="2463840"/>
              <a:ext cx="641160" cy="881640"/>
              <a:chOff x="7601040" y="2463840"/>
              <a:chExt cx="641160" cy="881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7601040" y="2463840"/>
                <a:ext cx="641160" cy="881640"/>
                <a:chOff x="7601040" y="2463840"/>
                <a:chExt cx="641160" cy="88164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7601040" y="2463840"/>
                  <a:ext cx="641160" cy="615960"/>
                  <a:chOff x="7601040" y="2463840"/>
                  <a:chExt cx="641160" cy="6159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763040" y="2744640"/>
                    <a:ext cx="2844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978680" y="27464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070840" y="29574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89156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601040" y="2468520"/>
                    <a:ext cx="120600" cy="58716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129520" y="246384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604280" y="3043080"/>
                    <a:ext cx="634680" cy="3672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8660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069400" y="2744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738920" y="2849400"/>
                    <a:ext cx="2556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738920" y="2952720"/>
                    <a:ext cx="2556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96752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9308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524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91560" y="2977920"/>
                    <a:ext cx="27000" cy="241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94232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942320" y="279720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815240" y="28749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043840" y="290016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069400" y="2849400"/>
                    <a:ext cx="27000" cy="2232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029440" y="279864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866000" y="29257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07240" y="2498760"/>
                    <a:ext cx="84240" cy="104760"/>
                  </a:xfrm>
                  <a:prstGeom prst="rect">
                    <a:avLst/>
                  </a:pr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18400" y="2600280"/>
                    <a:ext cx="411120" cy="10152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770960" y="2900160"/>
                  <a:ext cx="369720" cy="445320"/>
                  <a:chOff x="7770960" y="2900160"/>
                  <a:chExt cx="369720" cy="4453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770960" y="315576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H="1" flipV="1">
                    <a:off x="7913160" y="2900160"/>
                    <a:ext cx="8280" cy="27000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8062920" y="2502000"/>
                <a:ext cx="84240" cy="1047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088040" y="3390120"/>
              <a:ext cx="143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chang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964040" y="4772160"/>
            <a:ext cx="2098800" cy="1622880"/>
            <a:chOff x="4964040" y="4772160"/>
            <a:chExt cx="2098800" cy="1622880"/>
          </a:xfrm>
        </p:grpSpPr>
        <p:sp>
          <p:nvSpPr>
            <p:cNvPr id="97" name=""/>
            <p:cNvSpPr/>
            <p:nvPr/>
          </p:nvSpPr>
          <p:spPr>
            <a:xfrm>
              <a:off x="6183720" y="59961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21480" y="5180040"/>
              <a:ext cx="947520" cy="70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369040" y="4772160"/>
              <a:ext cx="0" cy="110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69040" y="5889600"/>
              <a:ext cx="169380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040" y="51800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8080" y="5180040"/>
              <a:ext cx="474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95960" y="5180040"/>
              <a:ext cx="406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84680" y="4830840"/>
              <a:ext cx="2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4000" y="4830840"/>
              <a:ext cx="1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53080" y="5122800"/>
              <a:ext cx="135000" cy="112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962760" y="4619880"/>
            <a:ext cx="1782720" cy="1818000"/>
            <a:chOff x="6962760" y="4619880"/>
            <a:chExt cx="1782720" cy="1818000"/>
          </a:xfrm>
        </p:grpSpPr>
        <p:grpSp>
          <p:nvGrpSpPr>
            <p:cNvPr id="109" name=""/>
            <p:cNvGrpSpPr/>
            <p:nvPr/>
          </p:nvGrpSpPr>
          <p:grpSpPr>
            <a:xfrm>
              <a:off x="7448400" y="4619880"/>
              <a:ext cx="860760" cy="1264680"/>
              <a:chOff x="7448400" y="4619880"/>
              <a:chExt cx="860760" cy="1264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7621560" y="5003280"/>
                <a:ext cx="641520" cy="881280"/>
                <a:chOff x="7621560" y="5003280"/>
                <a:chExt cx="641520" cy="88128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7621560" y="5003280"/>
                  <a:ext cx="641520" cy="615240"/>
                  <a:chOff x="7621560" y="5003280"/>
                  <a:chExt cx="641520" cy="61524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7783560" y="5284080"/>
                    <a:ext cx="2844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999560" y="528552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091360" y="549684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91208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621560" y="5007960"/>
                    <a:ext cx="120600" cy="58680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8150400" y="5003280"/>
                    <a:ext cx="112680" cy="595080"/>
                  </a:xfrm>
                  <a:prstGeom prst="rect">
                    <a:avLst/>
                  </a:prstGeom>
                  <a:solidFill>
                    <a:srgbClr val="cc6600"/>
                  </a:solidFill>
                  <a:ln w="17640">
                    <a:solidFill>
                      <a:srgbClr val="000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624800" y="5582520"/>
                    <a:ext cx="635040" cy="36000"/>
                  </a:xfrm>
                  <a:prstGeom prst="rect">
                    <a:avLst/>
                  </a:prstGeom>
                  <a:solidFill>
                    <a:srgbClr val="cc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88688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8089920" y="5284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759800" y="5388840"/>
                    <a:ext cx="252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759800" y="5492160"/>
                    <a:ext cx="252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98840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801360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83576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912080" y="55173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96284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962840" y="5336280"/>
                    <a:ext cx="27000" cy="237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835760" y="54144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64360" y="543960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8089920" y="5388840"/>
                    <a:ext cx="27000" cy="2196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8050320" y="533808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886880" y="5465160"/>
                    <a:ext cx="27000" cy="23400"/>
                  </a:xfrm>
                  <a:prstGeom prst="ellipse">
                    <a:avLst/>
                  </a:prstGeom>
                  <a:solidFill>
                    <a:srgbClr val="ff99ff"/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38920" y="5139720"/>
                    <a:ext cx="411480" cy="101160"/>
                  </a:xfrm>
                  <a:prstGeom prst="rect">
                    <a:avLst/>
                  </a:prstGeom>
                  <a:solidFill>
                    <a:srgbClr val="fafd00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791480" y="5439240"/>
                  <a:ext cx="369720" cy="445320"/>
                  <a:chOff x="7791480" y="5439240"/>
                  <a:chExt cx="369720" cy="445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7791480" y="5694840"/>
                    <a:ext cx="36972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28440" bIns="28440" anchor="t">
                    <a:spAutoFit/>
                  </a:bodyPr>
                  <a:p>
                    <a:pPr>
                      <a:lnSpc>
                        <a:spcPct val="87000"/>
                      </a:lnSpc>
                      <a:tabLst>
                        <a:tab algn="l" pos="0"/>
                        <a:tab algn="l" pos="1028880"/>
                        <a:tab algn="l" pos="2057400"/>
                        <a:tab algn="l" pos="3086280"/>
                        <a:tab algn="l" pos="4114800"/>
                        <a:tab algn="l" pos="5143680"/>
                        <a:tab algn="l" pos="6172200"/>
                        <a:tab algn="l" pos="7201080"/>
                        <a:tab algn="l" pos="8229600"/>
                        <a:tab algn="l" pos="9258480"/>
                        <a:tab algn="l" pos="10287000"/>
                      </a:tabLst>
                    </a:pPr>
                    <a:r>
                      <a:rPr b="1" i="1" lang="en-US" sz="1000" spc="-1" strike="noStrike">
                        <a:solidFill>
                          <a:srgbClr val="ff0000"/>
                        </a:solidFill>
                        <a:latin typeface="Comic Sans MS"/>
                      </a:rPr>
                      <a:t>Q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flipV="1">
                    <a:off x="7933680" y="5439240"/>
                    <a:ext cx="8280" cy="269640"/>
                  </a:xfrm>
                  <a:prstGeom prst="line">
                    <a:avLst/>
                  </a:prstGeom>
                  <a:ln w="19080">
                    <a:solidFill>
                      <a:srgbClr val="00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8" name=""/>
              <p:cNvSpPr/>
              <p:nvPr/>
            </p:nvSpPr>
            <p:spPr>
              <a:xfrm>
                <a:off x="7950240" y="4863600"/>
                <a:ext cx="0" cy="255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48400" y="4619880"/>
                <a:ext cx="86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962760" y="597888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mperature and volum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62840" y="4259160"/>
            <a:ext cx="334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press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50920" y="4908600"/>
          <a:ext cx="33703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0920" y="4908600"/>
                    <a:ext cx="3370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41520" y="1268280"/>
            <a:ext cx="5712840" cy="58068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will assume ideal gases in our treatment of heat engines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cause that simplifies the calcul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240" y="52560"/>
            <a:ext cx="8937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1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544920" y="658800"/>
          <a:ext cx="15732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4920" y="658800"/>
                    <a:ext cx="1573200" cy="5572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584280" y="1500120"/>
            <a:ext cx="75769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alculat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ver one cyc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ng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member: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taken from the hot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= -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heat added to the cold reservoir, so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40040" y="49687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2363760" y="4551480"/>
          <a:ext cx="2789280" cy="17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3760" y="4551480"/>
                    <a:ext cx="2789280" cy="17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2379600" y="2835360"/>
            <a:ext cx="784440" cy="58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26700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802480" y="3657600"/>
            <a:ext cx="1868400" cy="992160"/>
            <a:chOff x="5802480" y="3657600"/>
            <a:chExt cx="1868400" cy="992160"/>
          </a:xfrm>
        </p:grpSpPr>
        <p:sp>
          <p:nvSpPr>
            <p:cNvPr id="540" name=""/>
            <p:cNvSpPr/>
            <p:nvPr/>
          </p:nvSpPr>
          <p:spPr>
            <a:xfrm>
              <a:off x="5984280" y="3657600"/>
              <a:ext cx="147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rom the definition of 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480" y="3873600"/>
              <a:ext cx="1868400" cy="7761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5150880" y="4767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La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1520" y="5452920"/>
            <a:ext cx="1244880" cy="808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47760" y="5545080"/>
            <a:ext cx="2396520" cy="54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nnot be zero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energy is always los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851120" y="893880"/>
          <a:ext cx="497520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893880"/>
                    <a:ext cx="497520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The 2</a:t>
            </a:r>
            <a:r>
              <a:rPr b="0" lang="en-US" sz="3200" spc="-1" strike="noStrike" baseline="30000">
                <a:solidFill>
                  <a:srgbClr val="ff9966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Law Sets the Maximum Efficiency (2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2722680"/>
            <a:ext cx="1441440" cy="833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5680" y="4002120"/>
            <a:ext cx="76183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s is a universal law !!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(equivalent to the 2</a:t>
            </a:r>
            <a:r>
              <a:rPr b="0" lang="en-US" sz="1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la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valid for any procedure that converts thermal energy into work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did not assume any special properties (</a:t>
            </a:r>
            <a:r>
              <a:rPr b="0" i="1" lang="en-US" sz="16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ideal gas)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f the material in the deriv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maximum possible efficiency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- 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is called the Carnot efficiency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statement that heat engines have a maximum efficiency was the first expression of the 2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law, by Sadi Carnot in 182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6200" y="4008600"/>
            <a:ext cx="3343320" cy="43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3467160" y="1854360"/>
          <a:ext cx="3187800" cy="6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67160" y="1854360"/>
                    <a:ext cx="31878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How Efficient Can an Engine be?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19800" y="1133640"/>
            <a:ext cx="770436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n engine that uses steam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hot reservoir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ice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° 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s the cold reservoir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efficient can this engine b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rnot efficiency i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an engine that operates between these two temperatur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, at best, turn only 27% of the steam’s heat energy into useful wor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ues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 might we design an engine that has higher efficienc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y increasing 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That’s more practical than lowering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ical power plants and race cars obtain bet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rformance by operating at a much higher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0360" y="52560"/>
            <a:ext cx="82537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en Is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Less than </a:t>
            </a:r>
            <a:r>
              <a:rPr b="0" lang="en-US" sz="4400" spc="-1" strike="noStrike">
                <a:solidFill>
                  <a:srgbClr val="ff9966"/>
                </a:solidFill>
                <a:latin typeface="Symbol"/>
                <a:ea typeface="Symbol"/>
              </a:rPr>
              <a:t></a:t>
            </a:r>
            <a:r>
              <a:rPr b="0" lang="en-US" sz="3600" spc="-1" strike="noStrike" baseline="-25000">
                <a:solidFill>
                  <a:srgbClr val="ff9966"/>
                </a:solidFill>
                <a:latin typeface="Comic Sans MS"/>
              </a:rPr>
              <a:t>Carnot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41520" y="1754280"/>
          <a:ext cx="412092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1754280"/>
                    <a:ext cx="412092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834840" y="4960800"/>
            <a:ext cx="4010400" cy="1503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irreversible proces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es that increase S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irect heat flow from hot to co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 expansion (far from equilibriu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liding fri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558040" y="1944720"/>
            <a:ext cx="3246120" cy="2209680"/>
            <a:chOff x="5558040" y="1944720"/>
            <a:chExt cx="3246120" cy="2209680"/>
          </a:xfrm>
        </p:grpSpPr>
        <p:grpSp>
          <p:nvGrpSpPr>
            <p:cNvPr id="562" name=""/>
            <p:cNvGrpSpPr/>
            <p:nvPr/>
          </p:nvGrpSpPr>
          <p:grpSpPr>
            <a:xfrm>
              <a:off x="6038640" y="1944720"/>
              <a:ext cx="2765520" cy="2209680"/>
              <a:chOff x="6038640" y="1944720"/>
              <a:chExt cx="2765520" cy="2209680"/>
            </a:xfrm>
          </p:grpSpPr>
          <p:sp>
            <p:nvSpPr>
              <p:cNvPr id="563" name=""/>
              <p:cNvSpPr/>
              <p:nvPr/>
            </p:nvSpPr>
            <p:spPr>
              <a:xfrm>
                <a:off x="6038640" y="1944720"/>
                <a:ext cx="2573280" cy="39024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285840" indent="-2858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Hot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60960" y="3752640"/>
                <a:ext cx="2631960" cy="401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old reservoir at 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476760" y="2346120"/>
                <a:ext cx="0" cy="14065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0800" y="3082680"/>
                <a:ext cx="0" cy="6699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082680"/>
                <a:ext cx="311040" cy="15732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38880" y="2346120"/>
                <a:ext cx="0" cy="468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37080" y="2803320"/>
                <a:ext cx="312840" cy="16668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16800" y="2960640"/>
                <a:ext cx="3571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31040" y="3227400"/>
                <a:ext cx="5317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873920" y="2960280"/>
                <a:ext cx="0" cy="2667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723080" y="3093840"/>
                <a:ext cx="54288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60840" y="2725560"/>
                <a:ext cx="1143000" cy="692280"/>
              </a:xfrm>
              <a:prstGeom prst="rect">
                <a:avLst/>
              </a:prstGeom>
              <a:noFill/>
              <a:ln w="38160">
                <a:solidFill>
                  <a:srgbClr val="fe9b0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67200" y="2413080"/>
                <a:ext cx="0" cy="5698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667200" y="3262320"/>
                <a:ext cx="0" cy="423720"/>
              </a:xfrm>
              <a:prstGeom prst="line">
                <a:avLst/>
              </a:prstGeom>
              <a:ln w="572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72240" y="2349360"/>
                <a:ext cx="469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61080" y="3390840"/>
                <a:ext cx="550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19880" y="2949480"/>
                <a:ext cx="58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5558040" y="291276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443520" y="1006560"/>
            <a:ext cx="45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 write the efficiency loss in terms of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hange of total entro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52120" y="4189320"/>
            <a:ext cx="57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Carno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650960" y="641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5880" y="1012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tropy-increasing processes are irreversibl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reverse processes would reduce entrop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ree-expansion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ctually, any particle flow between regions of different densit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flow between two systems with different temperatur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2760" y="568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rreversible Process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06520" y="2859120"/>
            <a:ext cx="81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e four processes of interest 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thermal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eat flow but no T differenc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iabatic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Q = 0.  No heat flow at al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cho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bar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Heat flow between different T’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Assuming that there are only two reservoirs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30360" y="4664160"/>
            <a:ext cx="7562880" cy="1580040"/>
            <a:chOff x="630360" y="4664160"/>
            <a:chExt cx="7562880" cy="1580040"/>
          </a:xfrm>
        </p:grpSpPr>
        <p:sp>
          <p:nvSpPr>
            <p:cNvPr id="588" name=""/>
            <p:cNvSpPr/>
            <p:nvPr/>
          </p:nvSpPr>
          <p:spPr>
            <a:xfrm>
              <a:off x="1013400" y="5875920"/>
              <a:ext cx="70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reversible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irreversible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    irreversi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630360" y="4664160"/>
              <a:ext cx="1855800" cy="1329120"/>
              <a:chOff x="630360" y="4664160"/>
              <a:chExt cx="1855800" cy="1329120"/>
            </a:xfrm>
          </p:grpSpPr>
          <p:sp>
            <p:nvSpPr>
              <p:cNvPr id="590" name=""/>
              <p:cNvSpPr/>
              <p:nvPr/>
            </p:nvSpPr>
            <p:spPr>
              <a:xfrm>
                <a:off x="2169720" y="5655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92376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23760" y="5677920"/>
                <a:ext cx="145440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03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78000" y="4771800"/>
                <a:ext cx="93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sother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114560" y="4719600"/>
                <a:ext cx="663480" cy="723240"/>
              </a:xfrm>
              <a:custGeom>
                <a:avLst/>
                <a:gdLst/>
                <a:ahLst/>
                <a:rect l="l" t="t" r="r" b="b"/>
                <a:pathLst>
                  <a:path w="619" h="576">
                    <a:moveTo>
                      <a:pt x="0" y="0"/>
                    </a:moveTo>
                    <a:cubicBezTo>
                      <a:pt x="36" y="115"/>
                      <a:pt x="73" y="231"/>
                      <a:pt x="176" y="327"/>
                    </a:cubicBezTo>
                    <a:cubicBezTo>
                      <a:pt x="279" y="423"/>
                      <a:pt x="449" y="499"/>
                      <a:pt x="619" y="576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579760" y="4664160"/>
              <a:ext cx="1822680" cy="1337040"/>
              <a:chOff x="2579760" y="4664160"/>
              <a:chExt cx="1822680" cy="1337040"/>
            </a:xfrm>
          </p:grpSpPr>
          <p:sp>
            <p:nvSpPr>
              <p:cNvPr id="597" name=""/>
              <p:cNvSpPr/>
              <p:nvPr/>
            </p:nvSpPr>
            <p:spPr>
              <a:xfrm>
                <a:off x="3122640" y="4763880"/>
                <a:ext cx="493560" cy="747360"/>
              </a:xfrm>
              <a:custGeom>
                <a:avLst/>
                <a:gdLst/>
                <a:ahLst/>
                <a:rect l="l" t="t" r="r" b="b"/>
                <a:pathLst>
                  <a:path w="588" h="533">
                    <a:moveTo>
                      <a:pt x="0" y="0"/>
                    </a:moveTo>
                    <a:cubicBezTo>
                      <a:pt x="57" y="113"/>
                      <a:pt x="114" y="226"/>
                      <a:pt x="212" y="315"/>
                    </a:cubicBezTo>
                    <a:cubicBezTo>
                      <a:pt x="310" y="404"/>
                      <a:pt x="449" y="468"/>
                      <a:pt x="588" y="533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846520" y="4798800"/>
                <a:ext cx="0" cy="879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846520" y="5677920"/>
                <a:ext cx="1454040" cy="61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87880" y="477036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iaba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086000" y="56638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79760" y="4664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438800" y="4686120"/>
              <a:ext cx="2083320" cy="1322640"/>
              <a:chOff x="4438800" y="4686120"/>
              <a:chExt cx="2083320" cy="132264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4711680" y="4817520"/>
                <a:ext cx="0" cy="8805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11680" y="5698440"/>
                <a:ext cx="14763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283360" y="4876200"/>
                <a:ext cx="0" cy="539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114520" y="4790160"/>
                <a:ext cx="140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ch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9702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438800" y="4686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392880" y="4701960"/>
              <a:ext cx="1800360" cy="1279800"/>
              <a:chOff x="6392880" y="4701960"/>
              <a:chExt cx="1800360" cy="1279800"/>
            </a:xfrm>
          </p:grpSpPr>
          <p:sp>
            <p:nvSpPr>
              <p:cNvPr id="611" name=""/>
              <p:cNvSpPr/>
              <p:nvPr/>
            </p:nvSpPr>
            <p:spPr>
              <a:xfrm flipV="1">
                <a:off x="6664320" y="4839840"/>
                <a:ext cx="0" cy="8330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64320" y="5673240"/>
                <a:ext cx="1428840" cy="576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32600" y="5146200"/>
                <a:ext cx="6523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771080"/>
                <a:ext cx="130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soba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876800" y="5644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92880" y="4701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Stirling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64840" y="1307880"/>
            <a:ext cx="61023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our Stirling engine achieve Carnot effici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Y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094360" y="215640"/>
            <a:ext cx="4855680" cy="4941360"/>
            <a:chOff x="5094360" y="215640"/>
            <a:chExt cx="4855680" cy="4941360"/>
          </a:xfrm>
        </p:grpSpPr>
        <p:grpSp>
          <p:nvGrpSpPr>
            <p:cNvPr id="620" name=""/>
            <p:cNvGrpSpPr/>
            <p:nvPr/>
          </p:nvGrpSpPr>
          <p:grpSpPr>
            <a:xfrm>
              <a:off x="5094360" y="215640"/>
              <a:ext cx="4855680" cy="4941360"/>
              <a:chOff x="5094360" y="215640"/>
              <a:chExt cx="4855680" cy="494136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0720" y="47718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418000" y="2055240"/>
                <a:ext cx="0" cy="2733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30600" y="47894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565760" y="42987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50040" y="37414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47862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070760" y="47862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94360" y="1886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16480" y="226440"/>
                <a:ext cx="373356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84120" y="726840"/>
                <a:ext cx="3735360" cy="373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08200" y="215640"/>
                <a:ext cx="373428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779080" y="720720"/>
                <a:ext cx="3732120" cy="3736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464160" y="3092040"/>
                <a:ext cx="0" cy="9457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199280" y="3738240"/>
                <a:ext cx="0" cy="64584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464160" y="4030560"/>
                <a:ext cx="0" cy="78372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199280" y="4392360"/>
                <a:ext cx="0" cy="44424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6213240" y="3423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713280" y="3195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73720" y="3938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02120" y="4262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58320"/>
            <a:ext cx="858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chieve Carnot Efficienc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100840" y="758880"/>
            <a:ext cx="4854600" cy="5055120"/>
            <a:chOff x="5100840" y="758880"/>
            <a:chExt cx="4854600" cy="5055120"/>
          </a:xfrm>
        </p:grpSpPr>
        <p:sp>
          <p:nvSpPr>
            <p:cNvPr id="645" name=""/>
            <p:cNvSpPr/>
            <p:nvPr/>
          </p:nvSpPr>
          <p:spPr>
            <a:xfrm>
              <a:off x="8377200" y="531504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5424120" y="2598480"/>
              <a:ext cx="0" cy="27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37080" y="5332320"/>
              <a:ext cx="346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72240" y="4842000"/>
              <a:ext cx="469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56160" y="4284720"/>
              <a:ext cx="941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35640" y="5305320"/>
              <a:ext cx="17377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b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a         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c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0840" y="2428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22960" y="769680"/>
              <a:ext cx="373248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59" y="21220"/>
                  </a:moveTo>
                  <a:arcTo wR="10800" hR="10800" stAng="6315115" swAng="3498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7959" y="21220"/>
                  </a:moveTo>
                  <a:arcTo wR="10800" hR="10800" stAng="6315115" swAng="3498494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9520" y="1269720"/>
              <a:ext cx="3736080" cy="373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05" y="21589"/>
                  </a:moveTo>
                  <a:arcTo wR="10800" hR="10800" stAng="5557570" swAng="3360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05" y="21589"/>
                  </a:moveTo>
                  <a:arcTo wR="10800" hR="10800" stAng="5557570" swAng="3360135"/>
                </a:path>
              </a:pathLst>
            </a:cu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14680" y="758880"/>
              <a:ext cx="3732840" cy="37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6" y="20258"/>
                  </a:moveTo>
                  <a:arcTo wR="10800" hR="10800" stAng="7131970" swAng="1745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6" y="20258"/>
                  </a:moveTo>
                  <a:arcTo wR="10800" hR="10800" stAng="7131970" swAng="1745341"/>
                </a:path>
              </a:pathLst>
            </a:custGeom>
            <a:noFill/>
            <a:ln w="19080">
              <a:solidFill>
                <a:srgbClr val="fafd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85920" y="1263240"/>
              <a:ext cx="3730320" cy="3737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06" y="21395"/>
                  </a:moveTo>
                  <a:arcTo wR="10800" hR="10800" stAng="6070854" swAng="1119238"/>
                  <a:lnTo>
                    <a:pt x="10800" y="10800"/>
                  </a:lnTo>
                  <a:close/>
                </a:path>
                <a:path fill="none" w="21600" h="21600">
                  <a:moveTo>
                    <a:pt x="8706" y="21395"/>
                  </a:moveTo>
                  <a:arcTo wR="10800" hR="10800" stAng="6070854" swAng="1119238"/>
                </a:path>
              </a:pathLst>
            </a:custGeom>
            <a:noFill/>
            <a:ln w="1908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94400" y="3625920"/>
              <a:ext cx="0" cy="173196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84960" y="4968720"/>
              <a:ext cx="0" cy="3556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74800" y="403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42800" y="3738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179480" y="4425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0800" y="4852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6477120" y="1257480"/>
              <a:ext cx="1117800" cy="38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9" y="2197"/>
                  </a:moveTo>
                  <a:arcTo wR="10800" hR="10800" stAng="-3168282" swAng="2413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9" y="2197"/>
                  </a:moveTo>
                  <a:arcTo wR="10800" hR="10800" stAng="-3168282" swAng="2413637"/>
                </a:path>
              </a:pathLst>
            </a:custGeom>
            <a:noFill/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7156080" y="2543040"/>
              <a:ext cx="1149120" cy="290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03" y="3548"/>
                  </a:moveTo>
                  <a:arcTo wR="10800" hR="10800" stAng="-2530759" swAng="184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03" y="3548"/>
                  </a:moveTo>
                  <a:arcTo wR="10800" hR="10800" stAng="-2530759" swAng="1843974"/>
                </a:path>
              </a:pathLst>
            </a:custGeom>
            <a:noFill/>
            <a:ln w="19080">
              <a:solidFill>
                <a:srgbClr val="ffff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17960" y="4755960"/>
              <a:ext cx="0" cy="581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2560" y="4294080"/>
              <a:ext cx="0" cy="1050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11120" y="1579680"/>
            <a:ext cx="753696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chieve Carnot efficiency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must replace the isochors (irreversible)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ith reversible processe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Let’s use adiabatic processes, as show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ff"/>
                </a:solidFill>
                <a:latin typeface="Arial"/>
              </a:rPr>
              <a:t>Processes 1 and 3 are now adiabati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sses 2 and 4 are still isotherm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ycle is reversible, which mean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emains constant: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ar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thermal cycle i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cycl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an engine that implements it is call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heat engin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976640" y="1365120"/>
            <a:ext cx="2065320" cy="1819800"/>
            <a:chOff x="4976640" y="1365120"/>
            <a:chExt cx="2065320" cy="1819800"/>
          </a:xfrm>
        </p:grpSpPr>
        <p:sp>
          <p:nvSpPr>
            <p:cNvPr id="146" name=""/>
            <p:cNvSpPr/>
            <p:nvPr/>
          </p:nvSpPr>
          <p:spPr>
            <a:xfrm>
              <a:off x="5704560" y="1840680"/>
              <a:ext cx="911880" cy="883080"/>
            </a:xfrm>
            <a:custGeom>
              <a:avLst/>
              <a:gdLst/>
              <a:ahLst/>
              <a:rect l="l" t="t" r="r" b="b"/>
              <a:pathLst>
                <a:path w="720" h="624">
                  <a:moveTo>
                    <a:pt x="0" y="624"/>
                  </a:moveTo>
                  <a:lnTo>
                    <a:pt x="0" y="0"/>
                  </a:lnTo>
                  <a:cubicBezTo>
                    <a:pt x="2" y="5"/>
                    <a:pt x="3" y="10"/>
                    <a:pt x="5" y="15"/>
                  </a:cubicBezTo>
                  <a:cubicBezTo>
                    <a:pt x="7" y="24"/>
                    <a:pt x="11" y="26"/>
                    <a:pt x="18" y="33"/>
                  </a:cubicBezTo>
                  <a:cubicBezTo>
                    <a:pt x="32" y="47"/>
                    <a:pt x="43" y="65"/>
                    <a:pt x="59" y="78"/>
                  </a:cubicBezTo>
                  <a:cubicBezTo>
                    <a:pt x="66" y="89"/>
                    <a:pt x="73" y="98"/>
                    <a:pt x="86" y="99"/>
                  </a:cubicBezTo>
                  <a:cubicBezTo>
                    <a:pt x="101" y="118"/>
                    <a:pt x="118" y="119"/>
                    <a:pt x="137" y="132"/>
                  </a:cubicBezTo>
                  <a:cubicBezTo>
                    <a:pt x="152" y="157"/>
                    <a:pt x="201" y="182"/>
                    <a:pt x="228" y="194"/>
                  </a:cubicBezTo>
                  <a:cubicBezTo>
                    <a:pt x="239" y="199"/>
                    <a:pt x="249" y="208"/>
                    <a:pt x="261" y="210"/>
                  </a:cubicBezTo>
                  <a:cubicBezTo>
                    <a:pt x="269" y="214"/>
                    <a:pt x="275" y="218"/>
                    <a:pt x="284" y="219"/>
                  </a:cubicBezTo>
                  <a:cubicBezTo>
                    <a:pt x="296" y="225"/>
                    <a:pt x="290" y="223"/>
                    <a:pt x="299" y="225"/>
                  </a:cubicBezTo>
                  <a:cubicBezTo>
                    <a:pt x="308" y="229"/>
                    <a:pt x="319" y="232"/>
                    <a:pt x="329" y="234"/>
                  </a:cubicBezTo>
                  <a:cubicBezTo>
                    <a:pt x="340" y="239"/>
                    <a:pt x="348" y="242"/>
                    <a:pt x="360" y="243"/>
                  </a:cubicBezTo>
                  <a:cubicBezTo>
                    <a:pt x="368" y="246"/>
                    <a:pt x="375" y="251"/>
                    <a:pt x="384" y="252"/>
                  </a:cubicBezTo>
                  <a:cubicBezTo>
                    <a:pt x="395" y="256"/>
                    <a:pt x="408" y="259"/>
                    <a:pt x="419" y="261"/>
                  </a:cubicBezTo>
                  <a:cubicBezTo>
                    <a:pt x="425" y="264"/>
                    <a:pt x="430" y="266"/>
                    <a:pt x="437" y="267"/>
                  </a:cubicBezTo>
                  <a:cubicBezTo>
                    <a:pt x="446" y="271"/>
                    <a:pt x="458" y="270"/>
                    <a:pt x="468" y="272"/>
                  </a:cubicBezTo>
                  <a:cubicBezTo>
                    <a:pt x="475" y="276"/>
                    <a:pt x="483" y="278"/>
                    <a:pt x="491" y="279"/>
                  </a:cubicBezTo>
                  <a:cubicBezTo>
                    <a:pt x="497" y="282"/>
                    <a:pt x="502" y="284"/>
                    <a:pt x="509" y="285"/>
                  </a:cubicBezTo>
                  <a:cubicBezTo>
                    <a:pt x="515" y="288"/>
                    <a:pt x="523" y="290"/>
                    <a:pt x="530" y="291"/>
                  </a:cubicBezTo>
                  <a:cubicBezTo>
                    <a:pt x="542" y="297"/>
                    <a:pt x="556" y="295"/>
                    <a:pt x="569" y="297"/>
                  </a:cubicBezTo>
                  <a:cubicBezTo>
                    <a:pt x="586" y="306"/>
                    <a:pt x="607" y="307"/>
                    <a:pt x="626" y="308"/>
                  </a:cubicBezTo>
                  <a:cubicBezTo>
                    <a:pt x="639" y="310"/>
                    <a:pt x="655" y="316"/>
                    <a:pt x="668" y="320"/>
                  </a:cubicBezTo>
                  <a:cubicBezTo>
                    <a:pt x="676" y="326"/>
                    <a:pt x="689" y="325"/>
                    <a:pt x="698" y="326"/>
                  </a:cubicBezTo>
                  <a:cubicBezTo>
                    <a:pt x="704" y="326"/>
                    <a:pt x="716" y="327"/>
                    <a:pt x="716" y="327"/>
                  </a:cubicBezTo>
                  <a:lnTo>
                    <a:pt x="720" y="62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00360" y="1432800"/>
              <a:ext cx="0" cy="129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76640" y="1874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32960" y="27860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82880" y="1365120"/>
              <a:ext cx="2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6720" y="183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08760" y="2112480"/>
              <a:ext cx="182160" cy="68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04560" y="1840680"/>
              <a:ext cx="0" cy="883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6800" y="2316240"/>
              <a:ext cx="0" cy="407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00360" y="2723760"/>
              <a:ext cx="16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00600" y="1861920"/>
              <a:ext cx="901800" cy="429840"/>
            </a:xfrm>
            <a:custGeom>
              <a:avLst/>
              <a:gdLst/>
              <a:ahLst/>
              <a:rect l="l" t="t" r="r" b="b"/>
              <a:pathLst>
                <a:path w="528" h="240">
                  <a:moveTo>
                    <a:pt x="0" y="0"/>
                  </a:moveTo>
                  <a:cubicBezTo>
                    <a:pt x="52" y="52"/>
                    <a:pt x="104" y="104"/>
                    <a:pt x="192" y="144"/>
                  </a:cubicBezTo>
                  <a:cubicBezTo>
                    <a:pt x="280" y="184"/>
                    <a:pt x="404" y="212"/>
                    <a:pt x="528" y="24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32200" y="178560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33280" y="2205720"/>
              <a:ext cx="145440" cy="1627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993000" y="888840"/>
            <a:ext cx="1861920" cy="2822400"/>
            <a:chOff x="6993000" y="888840"/>
            <a:chExt cx="1861920" cy="2822400"/>
          </a:xfrm>
        </p:grpSpPr>
        <p:grpSp>
          <p:nvGrpSpPr>
            <p:cNvPr id="160" name=""/>
            <p:cNvGrpSpPr/>
            <p:nvPr/>
          </p:nvGrpSpPr>
          <p:grpSpPr>
            <a:xfrm>
              <a:off x="6993000" y="888840"/>
              <a:ext cx="1861920" cy="2254320"/>
              <a:chOff x="6993000" y="888840"/>
              <a:chExt cx="1861920" cy="2254320"/>
            </a:xfrm>
          </p:grpSpPr>
          <mc:AlternateContent>
            <mc:Choice xmlns:a14="http://schemas.microsoft.com/office/drawing/2010/main" Requires="a14">
              <p:sp>
                <p:nvSpPr>
                  <p:cNvPr id="161" name=""/>
                  <p:cNvSpPr txBox="1"/>
                  <p:nvPr/>
                </p:nvSpPr>
                <p:spPr>
                  <a:xfrm>
                    <a:off x="7670880" y="888840"/>
                    <a:ext cx="455400" cy="42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62" name=""/>
              <p:cNvGrpSpPr/>
              <p:nvPr/>
            </p:nvGrpSpPr>
            <p:grpSpPr>
              <a:xfrm>
                <a:off x="6993000" y="1352520"/>
                <a:ext cx="1861920" cy="1790640"/>
                <a:chOff x="6993000" y="1352520"/>
                <a:chExt cx="1861920" cy="179064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6993000" y="1492200"/>
                  <a:ext cx="1861920" cy="1650960"/>
                  <a:chOff x="6993000" y="1492200"/>
                  <a:chExt cx="1861920" cy="1650960"/>
                </a:xfrm>
              </p:grpSpPr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562880" y="1492200"/>
                    <a:ext cx="640800" cy="615960"/>
                    <a:chOff x="7562880" y="1492200"/>
                    <a:chExt cx="640800" cy="6159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724520" y="1773360"/>
                      <a:ext cx="2808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7940520" y="177480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032320" y="198612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785304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7562880" y="1497240"/>
                      <a:ext cx="120240" cy="5871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8091360" y="1492200"/>
                      <a:ext cx="112320" cy="59544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1764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565760" y="2071800"/>
                      <a:ext cx="634680" cy="36360"/>
                    </a:xfrm>
                    <a:prstGeom prst="rect">
                      <a:avLst/>
                    </a:prstGeom>
                    <a:solidFill>
                      <a:srgbClr val="cc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782784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030880" y="1773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7700760" y="1878120"/>
                      <a:ext cx="248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700760" y="1981440"/>
                      <a:ext cx="248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92936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95456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77672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853040" y="20066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90380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7903800" y="1825560"/>
                      <a:ext cx="26640" cy="241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7776720" y="19036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8005320" y="192888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8030880" y="1878120"/>
                      <a:ext cx="26640" cy="2232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991280" y="182736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827840" y="1954440"/>
                      <a:ext cx="26640" cy="23760"/>
                    </a:xfrm>
                    <a:prstGeom prst="ellipse">
                      <a:avLst/>
                    </a:prstGeom>
                    <a:solidFill>
                      <a:srgbClr val="ff99ff"/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79880" y="1629000"/>
                      <a:ext cx="411120" cy="101520"/>
                    </a:xfrm>
                    <a:prstGeom prst="rect">
                      <a:avLst/>
                    </a:prstGeom>
                    <a:solidFill>
                      <a:srgbClr val="fafd00"/>
                    </a:solidFill>
                    <a:ln w="1260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7732800" y="1928880"/>
                    <a:ext cx="369720" cy="445320"/>
                    <a:chOff x="7732800" y="1928880"/>
                    <a:chExt cx="369720" cy="44532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732800" y="2184480"/>
                      <a:ext cx="369720" cy="18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28440" bIns="28440" anchor="t">
                      <a:sp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Q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flipV="1">
                      <a:off x="7875000" y="1928880"/>
                      <a:ext cx="8280" cy="270000"/>
                    </a:xfrm>
                    <a:prstGeom prst="line">
                      <a:avLst/>
                    </a:prstGeom>
                    <a:ln w="1908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7335720" y="2147760"/>
                    <a:ext cx="1201680" cy="995400"/>
                  </a:xfrm>
                  <a:prstGeom prst="rect">
                    <a:avLst/>
                  </a:prstGeom>
                  <a:solidFill>
                    <a:srgbClr val="990099">
                      <a:alpha val="50000"/>
                    </a:srgbClr>
                  </a:solidFill>
                  <a:ln w="3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993000" y="2552400"/>
                    <a:ext cx="1861920" cy="570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Thermal Reservoir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marL="285840" indent="-285840"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7891560" y="1352520"/>
                  <a:ext cx="0" cy="25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7020000" y="325224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and press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015160" y="4435560"/>
            <a:ext cx="2165040" cy="1625760"/>
            <a:chOff x="5015160" y="4435560"/>
            <a:chExt cx="2165040" cy="1625760"/>
          </a:xfrm>
        </p:grpSpPr>
        <p:sp>
          <p:nvSpPr>
            <p:cNvPr id="196" name=""/>
            <p:cNvSpPr/>
            <p:nvPr/>
          </p:nvSpPr>
          <p:spPr>
            <a:xfrm>
              <a:off x="5015160" y="4933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440320" y="4435560"/>
              <a:ext cx="1739880" cy="1625760"/>
              <a:chOff x="5440320" y="4435560"/>
              <a:chExt cx="1739880" cy="1625760"/>
            </a:xfrm>
          </p:grpSpPr>
          <p:sp>
            <p:nvSpPr>
              <p:cNvPr id="198" name=""/>
              <p:cNvSpPr/>
              <p:nvPr/>
            </p:nvSpPr>
            <p:spPr>
              <a:xfrm>
                <a:off x="5762160" y="4728960"/>
                <a:ext cx="966600" cy="586080"/>
              </a:xfrm>
              <a:custGeom>
                <a:avLst/>
                <a:gdLst/>
                <a:ahLst/>
                <a:rect l="l" t="t" r="r" b="b"/>
                <a:pathLst>
                  <a:path w="720" h="480">
                    <a:moveTo>
                      <a:pt x="0" y="0"/>
                    </a:moveTo>
                    <a:lnTo>
                      <a:pt x="0" y="480"/>
                    </a:lnTo>
                    <a:lnTo>
                      <a:pt x="720" y="480"/>
                    </a:lnTo>
                    <a:cubicBezTo>
                      <a:pt x="672" y="464"/>
                      <a:pt x="625" y="443"/>
                      <a:pt x="576" y="432"/>
                    </a:cubicBezTo>
                    <a:cubicBezTo>
                      <a:pt x="569" y="431"/>
                      <a:pt x="583" y="444"/>
                      <a:pt x="585" y="450"/>
                    </a:cubicBezTo>
                    <a:cubicBezTo>
                      <a:pt x="586" y="453"/>
                      <a:pt x="579" y="447"/>
                      <a:pt x="576" y="446"/>
                    </a:cubicBezTo>
                    <a:cubicBezTo>
                      <a:pt x="571" y="444"/>
                      <a:pt x="567" y="443"/>
                      <a:pt x="563" y="440"/>
                    </a:cubicBezTo>
                    <a:cubicBezTo>
                      <a:pt x="568" y="434"/>
                      <a:pt x="570" y="435"/>
                      <a:pt x="576" y="432"/>
                    </a:cubicBezTo>
                    <a:cubicBezTo>
                      <a:pt x="566" y="425"/>
                      <a:pt x="548" y="418"/>
                      <a:pt x="536" y="416"/>
                    </a:cubicBezTo>
                    <a:cubicBezTo>
                      <a:pt x="529" y="413"/>
                      <a:pt x="521" y="411"/>
                      <a:pt x="513" y="410"/>
                    </a:cubicBezTo>
                    <a:cubicBezTo>
                      <a:pt x="507" y="407"/>
                      <a:pt x="501" y="405"/>
                      <a:pt x="495" y="404"/>
                    </a:cubicBezTo>
                    <a:cubicBezTo>
                      <a:pt x="488" y="399"/>
                      <a:pt x="479" y="394"/>
                      <a:pt x="471" y="392"/>
                    </a:cubicBezTo>
                    <a:cubicBezTo>
                      <a:pt x="462" y="385"/>
                      <a:pt x="430" y="376"/>
                      <a:pt x="419" y="374"/>
                    </a:cubicBezTo>
                    <a:cubicBezTo>
                      <a:pt x="384" y="362"/>
                      <a:pt x="352" y="330"/>
                      <a:pt x="315" y="326"/>
                    </a:cubicBezTo>
                    <a:cubicBezTo>
                      <a:pt x="307" y="320"/>
                      <a:pt x="296" y="314"/>
                      <a:pt x="287" y="309"/>
                    </a:cubicBezTo>
                    <a:cubicBezTo>
                      <a:pt x="279" y="298"/>
                      <a:pt x="266" y="297"/>
                      <a:pt x="255" y="291"/>
                    </a:cubicBezTo>
                    <a:cubicBezTo>
                      <a:pt x="247" y="286"/>
                      <a:pt x="241" y="279"/>
                      <a:pt x="233" y="273"/>
                    </a:cubicBezTo>
                    <a:cubicBezTo>
                      <a:pt x="222" y="265"/>
                      <a:pt x="209" y="258"/>
                      <a:pt x="198" y="249"/>
                    </a:cubicBezTo>
                    <a:cubicBezTo>
                      <a:pt x="195" y="239"/>
                      <a:pt x="194" y="239"/>
                      <a:pt x="186" y="234"/>
                    </a:cubicBezTo>
                    <a:cubicBezTo>
                      <a:pt x="182" y="228"/>
                      <a:pt x="174" y="223"/>
                      <a:pt x="168" y="219"/>
                    </a:cubicBezTo>
                    <a:cubicBezTo>
                      <a:pt x="163" y="212"/>
                      <a:pt x="157" y="207"/>
                      <a:pt x="150" y="203"/>
                    </a:cubicBezTo>
                    <a:cubicBezTo>
                      <a:pt x="142" y="193"/>
                      <a:pt x="134" y="182"/>
                      <a:pt x="123" y="176"/>
                    </a:cubicBezTo>
                    <a:cubicBezTo>
                      <a:pt x="103" y="147"/>
                      <a:pt x="72" y="123"/>
                      <a:pt x="57" y="90"/>
                    </a:cubicBezTo>
                    <a:cubicBezTo>
                      <a:pt x="56" y="83"/>
                      <a:pt x="52" y="80"/>
                      <a:pt x="48" y="74"/>
                    </a:cubicBezTo>
                    <a:cubicBezTo>
                      <a:pt x="45" y="66"/>
                      <a:pt x="46" y="61"/>
                      <a:pt x="39" y="57"/>
                    </a:cubicBezTo>
                    <a:cubicBezTo>
                      <a:pt x="35" y="49"/>
                      <a:pt x="29" y="45"/>
                      <a:pt x="24" y="38"/>
                    </a:cubicBezTo>
                    <a:cubicBezTo>
                      <a:pt x="21" y="33"/>
                      <a:pt x="14" y="24"/>
                      <a:pt x="14" y="24"/>
                    </a:cubicBezTo>
                    <a:cubicBezTo>
                      <a:pt x="12" y="15"/>
                      <a:pt x="11" y="11"/>
                      <a:pt x="3" y="6"/>
                    </a:cubicBezTo>
                    <a:cubicBezTo>
                      <a:pt x="0" y="1"/>
                      <a:pt x="0" y="4"/>
                      <a:pt x="0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62160" y="4963320"/>
                <a:ext cx="966600" cy="645120"/>
              </a:xfrm>
              <a:custGeom>
                <a:avLst/>
                <a:gdLst/>
                <a:ahLst/>
                <a:rect l="l" t="t" r="r" b="b"/>
                <a:pathLst>
                  <a:path w="720" h="624">
                    <a:moveTo>
                      <a:pt x="0" y="624"/>
                    </a:moveTo>
                    <a:lnTo>
                      <a:pt x="0" y="0"/>
                    </a:lnTo>
                    <a:cubicBezTo>
                      <a:pt x="2" y="5"/>
                      <a:pt x="3" y="10"/>
                      <a:pt x="5" y="15"/>
                    </a:cubicBezTo>
                    <a:cubicBezTo>
                      <a:pt x="7" y="24"/>
                      <a:pt x="11" y="26"/>
                      <a:pt x="18" y="33"/>
                    </a:cubicBezTo>
                    <a:cubicBezTo>
                      <a:pt x="32" y="47"/>
                      <a:pt x="43" y="65"/>
                      <a:pt x="59" y="78"/>
                    </a:cubicBezTo>
                    <a:cubicBezTo>
                      <a:pt x="66" y="89"/>
                      <a:pt x="73" y="98"/>
                      <a:pt x="86" y="99"/>
                    </a:cubicBezTo>
                    <a:cubicBezTo>
                      <a:pt x="101" y="118"/>
                      <a:pt x="118" y="119"/>
                      <a:pt x="137" y="132"/>
                    </a:cubicBezTo>
                    <a:cubicBezTo>
                      <a:pt x="152" y="157"/>
                      <a:pt x="201" y="182"/>
                      <a:pt x="228" y="194"/>
                    </a:cubicBezTo>
                    <a:cubicBezTo>
                      <a:pt x="239" y="199"/>
                      <a:pt x="249" y="208"/>
                      <a:pt x="261" y="210"/>
                    </a:cubicBezTo>
                    <a:cubicBezTo>
                      <a:pt x="269" y="214"/>
                      <a:pt x="275" y="218"/>
                      <a:pt x="284" y="219"/>
                    </a:cubicBezTo>
                    <a:cubicBezTo>
                      <a:pt x="296" y="225"/>
                      <a:pt x="290" y="223"/>
                      <a:pt x="299" y="225"/>
                    </a:cubicBezTo>
                    <a:cubicBezTo>
                      <a:pt x="308" y="229"/>
                      <a:pt x="319" y="232"/>
                      <a:pt x="329" y="234"/>
                    </a:cubicBezTo>
                    <a:cubicBezTo>
                      <a:pt x="340" y="239"/>
                      <a:pt x="348" y="242"/>
                      <a:pt x="360" y="243"/>
                    </a:cubicBezTo>
                    <a:cubicBezTo>
                      <a:pt x="368" y="246"/>
                      <a:pt x="375" y="251"/>
                      <a:pt x="384" y="252"/>
                    </a:cubicBezTo>
                    <a:cubicBezTo>
                      <a:pt x="395" y="256"/>
                      <a:pt x="408" y="259"/>
                      <a:pt x="419" y="261"/>
                    </a:cubicBezTo>
                    <a:cubicBezTo>
                      <a:pt x="425" y="264"/>
                      <a:pt x="430" y="266"/>
                      <a:pt x="437" y="267"/>
                    </a:cubicBezTo>
                    <a:cubicBezTo>
                      <a:pt x="446" y="271"/>
                      <a:pt x="458" y="270"/>
                      <a:pt x="468" y="272"/>
                    </a:cubicBezTo>
                    <a:cubicBezTo>
                      <a:pt x="475" y="276"/>
                      <a:pt x="483" y="278"/>
                      <a:pt x="491" y="279"/>
                    </a:cubicBezTo>
                    <a:cubicBezTo>
                      <a:pt x="497" y="282"/>
                      <a:pt x="502" y="284"/>
                      <a:pt x="509" y="285"/>
                    </a:cubicBezTo>
                    <a:cubicBezTo>
                      <a:pt x="515" y="288"/>
                      <a:pt x="523" y="290"/>
                      <a:pt x="530" y="291"/>
                    </a:cubicBezTo>
                    <a:cubicBezTo>
                      <a:pt x="542" y="297"/>
                      <a:pt x="556" y="295"/>
                      <a:pt x="569" y="297"/>
                    </a:cubicBezTo>
                    <a:cubicBezTo>
                      <a:pt x="586" y="306"/>
                      <a:pt x="607" y="307"/>
                      <a:pt x="626" y="308"/>
                    </a:cubicBezTo>
                    <a:cubicBezTo>
                      <a:pt x="639" y="310"/>
                      <a:pt x="655" y="316"/>
                      <a:pt x="668" y="320"/>
                    </a:cubicBezTo>
                    <a:cubicBezTo>
                      <a:pt x="676" y="326"/>
                      <a:pt x="689" y="325"/>
                      <a:pt x="698" y="326"/>
                    </a:cubicBezTo>
                    <a:cubicBezTo>
                      <a:pt x="704" y="326"/>
                      <a:pt x="716" y="327"/>
                      <a:pt x="716" y="327"/>
                    </a:cubicBezTo>
                    <a:lnTo>
                      <a:pt x="720" y="624"/>
                    </a:lnTo>
                    <a:lnTo>
                      <a:pt x="0" y="624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440320" y="4493880"/>
                <a:ext cx="0" cy="1114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15760" y="56624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35800" y="4435560"/>
                <a:ext cx="266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2920" y="4847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41520" y="5036760"/>
                <a:ext cx="257760" cy="13932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62160" y="4728960"/>
                <a:ext cx="0" cy="87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28760" y="5256720"/>
                <a:ext cx="0" cy="35172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40320" y="5608440"/>
                <a:ext cx="1739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2160" y="4731120"/>
                <a:ext cx="966600" cy="586440"/>
              </a:xfrm>
              <a:custGeom>
                <a:avLst/>
                <a:gdLst/>
                <a:ahLst/>
                <a:rect l="l" t="t" r="r" b="b"/>
                <a:pathLst>
                  <a:path w="528" h="240">
                    <a:moveTo>
                      <a:pt x="0" y="0"/>
                    </a:moveTo>
                    <a:cubicBezTo>
                      <a:pt x="52" y="52"/>
                      <a:pt x="104" y="104"/>
                      <a:pt x="192" y="144"/>
                    </a:cubicBezTo>
                    <a:cubicBezTo>
                      <a:pt x="280" y="184"/>
                      <a:pt x="404" y="212"/>
                      <a:pt x="528" y="240"/>
                    </a:cubicBezTo>
                  </a:path>
                </a:pathLst>
              </a:custGeom>
              <a:noFill/>
              <a:ln w="381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81520" y="4669920"/>
                <a:ext cx="154440" cy="14040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48120" y="5231880"/>
                <a:ext cx="154440" cy="140760"/>
              </a:xfrm>
              <a:prstGeom prst="ellipse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088040" y="4222800"/>
            <a:ext cx="1783080" cy="1731240"/>
            <a:chOff x="7088040" y="4222800"/>
            <a:chExt cx="1783080" cy="1731240"/>
          </a:xfrm>
        </p:grpSpPr>
        <p:grpSp>
          <p:nvGrpSpPr>
            <p:cNvPr id="212" name=""/>
            <p:cNvGrpSpPr/>
            <p:nvPr/>
          </p:nvGrpSpPr>
          <p:grpSpPr>
            <a:xfrm>
              <a:off x="7645320" y="4222800"/>
              <a:ext cx="677880" cy="1177920"/>
              <a:chOff x="7645320" y="4222800"/>
              <a:chExt cx="677880" cy="1177920"/>
            </a:xfrm>
          </p:grpSpPr>
          <mc:AlternateContent>
            <mc:Choice xmlns:a14="http://schemas.microsoft.com/office/drawing/2010/main" Requires="a14">
              <p:sp>
                <p:nvSpPr>
                  <p:cNvPr id="213" name=""/>
                  <p:cNvSpPr txBox="1"/>
                  <p:nvPr/>
                </p:nvSpPr>
                <p:spPr>
                  <a:xfrm>
                    <a:off x="7723080" y="4222800"/>
                    <a:ext cx="600120" cy="44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∝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γ</m:t>
                                </m:r>
                              </m:sup>
                            </m:s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14" name=""/>
              <p:cNvGrpSpPr/>
              <p:nvPr/>
            </p:nvGrpSpPr>
            <p:grpSpPr>
              <a:xfrm>
                <a:off x="7645320" y="4784760"/>
                <a:ext cx="641520" cy="615960"/>
                <a:chOff x="7645320" y="4784760"/>
                <a:chExt cx="641520" cy="6159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807320" y="5065920"/>
                  <a:ext cx="2844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023320" y="506736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115120" y="527868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93584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645320" y="4789800"/>
                  <a:ext cx="120600" cy="58716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8174160" y="4784760"/>
                  <a:ext cx="112680" cy="595440"/>
                </a:xfrm>
                <a:prstGeom prst="rect">
                  <a:avLst/>
                </a:prstGeom>
                <a:solidFill>
                  <a:srgbClr val="cc6600"/>
                </a:solidFill>
                <a:ln w="1764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48560" y="5364360"/>
                  <a:ext cx="635040" cy="36360"/>
                </a:xfrm>
                <a:prstGeom prst="rect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1064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13680" y="5065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83560" y="5170680"/>
                  <a:ext cx="252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783560" y="5274000"/>
                  <a:ext cx="252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1216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3736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5952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35840" y="52992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8660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986600" y="5118120"/>
                  <a:ext cx="27000" cy="241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859520" y="51962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88120" y="522144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113680" y="5170680"/>
                  <a:ext cx="27000" cy="2232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074080" y="511992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10640" y="5247000"/>
                  <a:ext cx="27000" cy="23760"/>
                </a:xfrm>
                <a:prstGeom prst="ellipse">
                  <a:avLst/>
                </a:prstGeom>
                <a:solidFill>
                  <a:srgbClr val="ff99ff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62680" y="4921560"/>
                  <a:ext cx="411480" cy="10152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974000" y="4645080"/>
                <a:ext cx="0" cy="25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88040" y="5495040"/>
              <a:ext cx="178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, pressure and temperature 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27920" y="126036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hermal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constant temperatur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04880" y="1820880"/>
          <a:ext cx="42181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820880"/>
                    <a:ext cx="4218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388800" y="55440"/>
            <a:ext cx="83822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 (2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3680" y="4043520"/>
            <a:ext cx="284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iabatic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no heat fl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93800" y="4719600"/>
          <a:ext cx="38466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3800" y="4719600"/>
                    <a:ext cx="38466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5480" y="353052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tal work done by the gas is the sum of steps 2 and 4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Efficiency of Stirling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671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06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8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981080" y="3936960"/>
          <a:ext cx="40021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36960"/>
                    <a:ext cx="40021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6036840" y="5497560"/>
            <a:ext cx="228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need a temperatur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erence if we want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t work out of the eng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90520" y="366228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at extracted from the hot reservoir, exhausted to cold reservoi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879560" y="4175280"/>
          <a:ext cx="4673520" cy="15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175280"/>
                    <a:ext cx="467352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95560" y="1176480"/>
            <a:ext cx="3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95800" y="1306440"/>
            <a:ext cx="2669040" cy="2093760"/>
            <a:chOff x="3295800" y="1306440"/>
            <a:chExt cx="2669040" cy="2093760"/>
          </a:xfrm>
        </p:grpSpPr>
        <p:sp>
          <p:nvSpPr>
            <p:cNvPr id="720" name=""/>
            <p:cNvSpPr/>
            <p:nvPr/>
          </p:nvSpPr>
          <p:spPr>
            <a:xfrm flipV="1">
              <a:off x="4273560" y="2423880"/>
              <a:ext cx="76320" cy="7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4273560" y="2386080"/>
              <a:ext cx="6336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73560" y="2424240"/>
              <a:ext cx="76320" cy="63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17680" y="2962440"/>
              <a:ext cx="88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295800" y="1306440"/>
              <a:ext cx="0" cy="168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08400" y="299556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87760" y="170028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03760" y="1370160"/>
              <a:ext cx="1523880" cy="1054080"/>
            </a:xfrm>
            <a:custGeom>
              <a:avLst/>
              <a:gdLst/>
              <a:ahLst/>
              <a:rect l="l" t="t" r="r" b="b"/>
              <a:pathLst>
                <a:path w="960" h="664">
                  <a:moveTo>
                    <a:pt x="0" y="0"/>
                  </a:moveTo>
                  <a:cubicBezTo>
                    <a:pt x="92" y="164"/>
                    <a:pt x="184" y="329"/>
                    <a:pt x="344" y="440"/>
                  </a:cubicBezTo>
                  <a:cubicBezTo>
                    <a:pt x="504" y="551"/>
                    <a:pt x="732" y="607"/>
                    <a:pt x="960" y="66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49800" y="2602080"/>
              <a:ext cx="46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46120" y="2290680"/>
              <a:ext cx="918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9420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41920" y="306396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16280" y="2957400"/>
              <a:ext cx="0" cy="10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64000" y="3063960"/>
              <a:ext cx="622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3994200" y="1687680"/>
              <a:ext cx="0" cy="5968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994200" y="1674720"/>
              <a:ext cx="622080" cy="520920"/>
            </a:xfrm>
            <a:custGeom>
              <a:avLst/>
              <a:gdLst/>
              <a:ahLst/>
              <a:rect l="l" t="t" r="r" b="b"/>
              <a:pathLst>
                <a:path w="392" h="328">
                  <a:moveTo>
                    <a:pt x="0" y="0"/>
                  </a:moveTo>
                  <a:cubicBezTo>
                    <a:pt x="67" y="88"/>
                    <a:pt x="135" y="177"/>
                    <a:pt x="200" y="232"/>
                  </a:cubicBezTo>
                  <a:cubicBezTo>
                    <a:pt x="265" y="287"/>
                    <a:pt x="359" y="311"/>
                    <a:pt x="392" y="328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14840" y="171288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000" y="171288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29240" y="2322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03680" y="2208240"/>
              <a:ext cx="0" cy="406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4200" y="2309760"/>
              <a:ext cx="609480" cy="30492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192"/>
                  </a:moveTo>
                  <a:cubicBezTo>
                    <a:pt x="292" y="160"/>
                    <a:pt x="200" y="128"/>
                    <a:pt x="136" y="96"/>
                  </a:cubicBezTo>
                  <a:cubicBezTo>
                    <a:pt x="72" y="64"/>
                    <a:pt x="21" y="16"/>
                    <a:pt x="0" y="0"/>
                  </a:cubicBezTo>
                </a:path>
              </a:pathLst>
            </a:custGeom>
            <a:noFill/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095720" y="255096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994200" y="2004840"/>
              <a:ext cx="0" cy="292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994200" y="1687680"/>
              <a:ext cx="304920" cy="355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16280" y="2208240"/>
              <a:ext cx="0" cy="253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4222800" y="2475000"/>
              <a:ext cx="380880" cy="139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24320" y="2055960"/>
              <a:ext cx="291960" cy="152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03680" y="2449440"/>
              <a:ext cx="0" cy="1652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993840" y="1687320"/>
              <a:ext cx="12600" cy="3301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4044960" y="1878120"/>
              <a:ext cx="63360" cy="633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4044960" y="2042640"/>
              <a:ext cx="165240" cy="165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4146480" y="2131920"/>
              <a:ext cx="216000" cy="2160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4299120" y="2195640"/>
              <a:ext cx="241200" cy="241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76600" y="2423880"/>
              <a:ext cx="7632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324320" y="1914480"/>
              <a:ext cx="1612440" cy="382680"/>
              <a:chOff x="4324320" y="1914480"/>
              <a:chExt cx="1612440" cy="382680"/>
            </a:xfrm>
          </p:grpSpPr>
          <p:sp>
            <p:nvSpPr>
              <p:cNvPr id="755" name=""/>
              <p:cNvSpPr/>
              <p:nvPr/>
            </p:nvSpPr>
            <p:spPr>
              <a:xfrm>
                <a:off x="4374720" y="1914480"/>
                <a:ext cx="1562040" cy="344520"/>
              </a:xfrm>
              <a:custGeom>
                <a:avLst/>
                <a:gdLst/>
                <a:ahLst/>
                <a:rect l="l" t="t" r="r" b="b"/>
                <a:pathLst>
                  <a:path w="1096" h="217">
                    <a:moveTo>
                      <a:pt x="0" y="217"/>
                    </a:moveTo>
                    <a:cubicBezTo>
                      <a:pt x="96" y="141"/>
                      <a:pt x="193" y="66"/>
                      <a:pt x="376" y="33"/>
                    </a:cubicBezTo>
                    <a:cubicBezTo>
                      <a:pt x="559" y="0"/>
                      <a:pt x="976" y="20"/>
                      <a:pt x="1096" y="17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24320" y="2208240"/>
                <a:ext cx="126720" cy="88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7" name=""/>
          <p:cNvSpPr/>
          <p:nvPr/>
        </p:nvSpPr>
        <p:spPr>
          <a:xfrm>
            <a:off x="6029280" y="1684440"/>
            <a:ext cx="1629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a enclosed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6127920" y="1957320"/>
                <a:ext cx="1338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970600" y="1565280"/>
            <a:ext cx="159084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764" name=""/>
          <p:cNvGraphicFramePr/>
          <p:nvPr/>
        </p:nvGraphicFramePr>
        <p:xfrm>
          <a:off x="1519200" y="2840040"/>
          <a:ext cx="479916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2840040"/>
                    <a:ext cx="47991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1450800" y="1138320"/>
            <a:ext cx="451512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put in some numbers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2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/2   (monatomic gas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73K (boiling water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273K (ice wa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95360" y="5025960"/>
            <a:ext cx="3433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comparison: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ar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 – 273/373 = 26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7840" y="65160"/>
            <a:ext cx="82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Engine 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3009960" y="1311120"/>
          <a:ext cx="11462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1311120"/>
                    <a:ext cx="11462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990720" y="1460520"/>
            <a:ext cx="17780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cycl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he Carnot cyc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not (be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ici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06400" y="4316400"/>
            <a:ext cx="71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not engines are an idealization - impossible to realiz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require very slow processes, and perfect insulation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here’s a net entropy increase, the efficiency is redu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2324160" y="5433840"/>
          <a:ext cx="277488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5433840"/>
                    <a:ext cx="2774880" cy="785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69800" y="142416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energy is dumpe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o the cold reservoi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097080" y="2201760"/>
          <a:ext cx="973440" cy="75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97080" y="2201760"/>
                    <a:ext cx="973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2805120" y="3365640"/>
          <a:ext cx="1558800" cy="75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5120" y="3365640"/>
                    <a:ext cx="155880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>
            <a:off x="5003640" y="2360520"/>
            <a:ext cx="2867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annot be reduced to z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034240" y="3579840"/>
            <a:ext cx="250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ly for reversible cy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90720" y="53640"/>
            <a:ext cx="716256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1954080" y="2039760"/>
            <a:ext cx="49453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Pum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rigerators,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Work and Free Energy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88760" y="55440"/>
            <a:ext cx="7575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losed Thermodynamic Cyc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95400" y="2386080"/>
            <a:ext cx="2994840" cy="2040480"/>
            <a:chOff x="995400" y="2386080"/>
            <a:chExt cx="2994840" cy="2040480"/>
          </a:xfrm>
        </p:grpSpPr>
        <p:sp>
          <p:nvSpPr>
            <p:cNvPr id="251" name=""/>
            <p:cNvSpPr/>
            <p:nvPr/>
          </p:nvSpPr>
          <p:spPr>
            <a:xfrm flipV="1">
              <a:off x="1344600" y="2544480"/>
              <a:ext cx="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0320" y="4027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95400" y="23860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0720" y="3456000"/>
              <a:ext cx="30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4240" y="2735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4600" y="4068720"/>
              <a:ext cx="254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96960" y="3062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47600" y="2913120"/>
              <a:ext cx="1398240" cy="70956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lnTo>
                    <a:pt x="0" y="0"/>
                  </a:lnTo>
                  <a:lnTo>
                    <a:pt x="576" y="144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947600" y="3136680"/>
              <a:ext cx="0" cy="759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58720" y="3003480"/>
              <a:ext cx="328320" cy="6192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462040" y="3375000"/>
              <a:ext cx="328320" cy="1000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65160" y="283680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63760" y="3141720"/>
              <a:ext cx="1630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65160" y="3541680"/>
              <a:ext cx="164880" cy="147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54120" y="1722600"/>
            <a:ext cx="80010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losed cycle is one in which the system returns to the initial state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sam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is a state function.  Theref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net work is the enclosed 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is conserved (1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aw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82960" y="1003320"/>
            <a:ext cx="65588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osed cycles will form the basis of our heat engine discus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446720" y="4464000"/>
          <a:ext cx="16588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720" y="4464000"/>
                    <a:ext cx="1658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126120" y="4794120"/>
            <a:ext cx="185760" cy="590760"/>
          </a:xfrm>
          <a:custGeom>
            <a:avLst/>
            <a:gdLst>
              <a:gd name="textAreaLeft" fmla="*/ 0 w 185760"/>
              <a:gd name="textAreaRight" fmla="*/ 66960 w 185760"/>
              <a:gd name="textAreaTop" fmla="*/ 15120 h 590760"/>
              <a:gd name="textAreaBottom" fmla="*/ 575640 h 5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38960" y="4730760"/>
            <a:ext cx="2705040" cy="82404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reason that neither W nor Q is a state function.  It makes no sense to talk about a state having a certain amount of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560" y="5757840"/>
            <a:ext cx="5537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ugh of course we could us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urves to make a closed cycle, here we will consi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sochoric, isobaric, isothermal, and adiabatic proces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1000" y="58680"/>
            <a:ext cx="8432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roduction to Heat Engin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82120" y="972720"/>
            <a:ext cx="82407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of the primary applications of thermodynamics is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urn heat into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ndard heat engine works on a cyclic proces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xtract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rom a hot reservoi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erform wor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sing some of the extracted hea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ump unused h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to a cold reservoir (often the environment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epea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ver and over.   We represent this process with a diagra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88000" y="3327480"/>
            <a:ext cx="3133800" cy="7333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 “reservoir” is a large body whose temperature doesn’t change when it absorbs or gives up he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225440" y="3333600"/>
            <a:ext cx="3962520" cy="2261520"/>
            <a:chOff x="1225440" y="3333600"/>
            <a:chExt cx="3962520" cy="2261520"/>
          </a:xfrm>
        </p:grpSpPr>
        <p:sp>
          <p:nvSpPr>
            <p:cNvPr id="276" name=""/>
            <p:cNvSpPr/>
            <p:nvPr/>
          </p:nvSpPr>
          <p:spPr>
            <a:xfrm>
              <a:off x="4649760" y="4361040"/>
              <a:ext cx="538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47760" y="4152960"/>
              <a:ext cx="1567080" cy="723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7040" y="3333600"/>
              <a:ext cx="2406600" cy="411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Hot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19200" y="3754440"/>
              <a:ext cx="0" cy="1461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151080" y="3754440"/>
              <a:ext cx="1086120" cy="1450440"/>
              <a:chOff x="3151080" y="3754440"/>
              <a:chExt cx="1086120" cy="1450440"/>
            </a:xfrm>
          </p:grpSpPr>
          <p:sp>
            <p:nvSpPr>
              <p:cNvPr id="281" name=""/>
              <p:cNvSpPr/>
              <p:nvPr/>
            </p:nvSpPr>
            <p:spPr>
              <a:xfrm>
                <a:off x="3151080" y="4468680"/>
                <a:ext cx="0" cy="7362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4468680"/>
                <a:ext cx="423720" cy="221760"/>
              </a:xfrm>
              <a:custGeom>
                <a:avLst/>
                <a:gdLst/>
                <a:ahLst/>
                <a:rect l="l" t="t" r="r" b="b"/>
                <a:pathLst>
                  <a:path w="240" h="152">
                    <a:moveTo>
                      <a:pt x="0" y="0"/>
                    </a:moveTo>
                    <a:cubicBezTo>
                      <a:pt x="11" y="52"/>
                      <a:pt x="23" y="104"/>
                      <a:pt x="48" y="128"/>
                    </a:cubicBezTo>
                    <a:cubicBezTo>
                      <a:pt x="73" y="152"/>
                      <a:pt x="120" y="141"/>
                      <a:pt x="152" y="144"/>
                    </a:cubicBezTo>
                    <a:cubicBezTo>
                      <a:pt x="184" y="147"/>
                      <a:pt x="225" y="144"/>
                      <a:pt x="240" y="144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60680" y="3754440"/>
                <a:ext cx="0" cy="4917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60680" y="4233600"/>
                <a:ext cx="381240" cy="174240"/>
              </a:xfrm>
              <a:custGeom>
                <a:avLst/>
                <a:gdLst/>
                <a:ahLst/>
                <a:rect l="l" t="t" r="r" b="b"/>
                <a:pathLst>
                  <a:path w="201" h="95">
                    <a:moveTo>
                      <a:pt x="1" y="0"/>
                    </a:moveTo>
                    <a:cubicBezTo>
                      <a:pt x="0" y="32"/>
                      <a:pt x="0" y="65"/>
                      <a:pt x="33" y="80"/>
                    </a:cubicBezTo>
                    <a:cubicBezTo>
                      <a:pt x="66" y="95"/>
                      <a:pt x="173" y="87"/>
                      <a:pt x="201" y="88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1960" y="4397040"/>
                <a:ext cx="4352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575160" y="4678200"/>
                <a:ext cx="6476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4237200" y="4397040"/>
                <a:ext cx="0" cy="2808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1225440" y="4327560"/>
              <a:ext cx="101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ngin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930120" y="4535640"/>
              <a:ext cx="739800" cy="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655720" y="3752640"/>
              <a:ext cx="0" cy="431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24040" y="3773520"/>
              <a:ext cx="468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4040" y="518940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old reservoir at 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681280" y="4787640"/>
              <a:ext cx="0" cy="38412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5440" y="4853160"/>
              <a:ext cx="66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274760" y="5935680"/>
            <a:ext cx="4089240" cy="382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268560" indent="-2685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Energy is conserved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+ W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67480" y="4681440"/>
            <a:ext cx="3049560" cy="57852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For heat engines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we will define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Q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, and W</a:t>
            </a:r>
            <a:r>
              <a:rPr b="0" lang="en-US" sz="1400" spc="-1" strike="noStrike" baseline="-25000">
                <a:solidFill>
                  <a:srgbClr val="fafd00"/>
                </a:solidFill>
                <a:latin typeface="Arial"/>
              </a:rPr>
              <a:t>by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as positive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Simple Heat Engine:</a:t>
            </a:r>
            <a:br>
              <a:rPr sz="1800"/>
            </a:br>
            <a:br>
              <a:rPr sz="18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Stirling Cycl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200" y="5119560"/>
            <a:ext cx="6560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reservoir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T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processes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isotherms and two isoch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t work during one cycle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rea of the “parallelogra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62240" y="-92880"/>
            <a:ext cx="4855680" cy="4942080"/>
            <a:chOff x="2262240" y="-92880"/>
            <a:chExt cx="4855680" cy="4942080"/>
          </a:xfrm>
        </p:grpSpPr>
        <p:grpSp>
          <p:nvGrpSpPr>
            <p:cNvPr id="300" name=""/>
            <p:cNvGrpSpPr/>
            <p:nvPr/>
          </p:nvGrpSpPr>
          <p:grpSpPr>
            <a:xfrm>
              <a:off x="2262240" y="-92880"/>
              <a:ext cx="4855680" cy="4942080"/>
              <a:chOff x="2262240" y="-92880"/>
              <a:chExt cx="4855680" cy="4942080"/>
            </a:xfrm>
          </p:grpSpPr>
          <p:sp>
            <p:nvSpPr>
              <p:cNvPr id="301" name=""/>
              <p:cNvSpPr/>
              <p:nvPr/>
            </p:nvSpPr>
            <p:spPr>
              <a:xfrm>
                <a:off x="5538600" y="446400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85880" y="1747800"/>
                <a:ext cx="0" cy="273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8480" y="4481640"/>
                <a:ext cx="346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33640" y="3990960"/>
                <a:ext cx="4701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17920" y="3433680"/>
                <a:ext cx="941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71840" y="4478400"/>
                <a:ext cx="396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238640" y="4478400"/>
                <a:ext cx="622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62240" y="157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360" y="-81720"/>
                <a:ext cx="3733560" cy="3738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9" y="21220"/>
                    </a:moveTo>
                    <a:arcTo wR="10800" hR="10800" stAng="6315115" swAng="34984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9" y="21220"/>
                    </a:moveTo>
                    <a:arcTo wR="10800" hR="10800" stAng="6315115" swAng="3498494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000" y="418680"/>
                <a:ext cx="3735360" cy="373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05" y="21589"/>
                    </a:moveTo>
                    <a:arcTo wR="10800" hR="10800" stAng="5557570" swAng="3877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05" y="21589"/>
                    </a:moveTo>
                    <a:arcTo wR="10800" hR="10800" stAng="5557570" swAng="3877261"/>
                  </a:path>
                </a:pathLst>
              </a:custGeom>
              <a:noFill/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76080" y="-92880"/>
                <a:ext cx="3734280" cy="373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6" y="20258"/>
                    </a:moveTo>
                    <a:arcTo wR="10800" hR="10800" stAng="7131970" swAng="17453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6" y="20258"/>
                    </a:moveTo>
                    <a:arcTo wR="10800" hR="10800" stAng="7131970" swAng="1745341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head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46960" y="412560"/>
                <a:ext cx="3732120" cy="373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83" y="21303"/>
                    </a:moveTo>
                    <a:arcTo wR="10800" hR="10800" stAng="6208640" swAng="146147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83" y="21303"/>
                    </a:moveTo>
                    <a:arcTo wR="10800" hR="10800" stAng="6208640" swAng="1461478"/>
                  </a:path>
                </a:pathLst>
              </a:custGeom>
              <a:noFill/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632040" y="2784600"/>
                <a:ext cx="0" cy="9460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3430440"/>
                <a:ext cx="0" cy="64620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632040" y="3722760"/>
                <a:ext cx="0" cy="7840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67160" y="4084560"/>
                <a:ext cx="0" cy="44460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381120" y="3116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1160" y="2887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1600" y="3630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70000" y="3954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99760" y="52560"/>
            <a:ext cx="79232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tirling Cycle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442120" y="4095720"/>
            <a:ext cx="2436480" cy="2269440"/>
            <a:chOff x="5442120" y="4095720"/>
            <a:chExt cx="2436480" cy="2269440"/>
          </a:xfrm>
        </p:grpSpPr>
        <p:sp>
          <p:nvSpPr>
            <p:cNvPr id="325" name=""/>
            <p:cNvSpPr/>
            <p:nvPr/>
          </p:nvSpPr>
          <p:spPr>
            <a:xfrm>
              <a:off x="5442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51480" y="595944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63360" y="409572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3) Isochor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de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5781600" y="5595840"/>
              <a:ext cx="1677600" cy="331920"/>
              <a:chOff x="5781600" y="5595840"/>
              <a:chExt cx="1677600" cy="3319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5781600" y="5599080"/>
                <a:ext cx="1573200" cy="328680"/>
                <a:chOff x="5781600" y="5599080"/>
                <a:chExt cx="157320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92760" y="59277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792760" y="55990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5781600" y="56023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786720" y="5595840"/>
                <a:ext cx="672480" cy="331560"/>
                <a:chOff x="6786720" y="5595840"/>
                <a:chExt cx="672480" cy="331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786720" y="559584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6788160" y="576036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5797440" y="561348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5973840" y="575928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90724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1640" y="4246560"/>
            <a:ext cx="2525760" cy="2118600"/>
            <a:chOff x="701640" y="4246560"/>
            <a:chExt cx="2525760" cy="2118600"/>
          </a:xfrm>
        </p:grpSpPr>
        <p:sp>
          <p:nvSpPr>
            <p:cNvPr id="340" name=""/>
            <p:cNvSpPr/>
            <p:nvPr/>
          </p:nvSpPr>
          <p:spPr>
            <a:xfrm>
              <a:off x="708120" y="473400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7480" y="595944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084320" y="5602320"/>
              <a:ext cx="1573200" cy="331560"/>
              <a:chOff x="1084320" y="5602320"/>
              <a:chExt cx="1573200" cy="331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084320" y="5605200"/>
                <a:ext cx="1573200" cy="328680"/>
                <a:chOff x="1084320" y="5605200"/>
                <a:chExt cx="1573200" cy="3286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095480" y="59338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5480" y="560520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1084320" y="560844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20720" y="5602320"/>
                <a:ext cx="673200" cy="331560"/>
                <a:chOff x="1620720" y="5602320"/>
                <a:chExt cx="673200" cy="331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20720" y="560232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622520" y="576684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100160" y="561960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731520" y="4246560"/>
              <a:ext cx="206928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4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is compressed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390760" y="5769000"/>
              <a:ext cx="7603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20960" y="542304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3000" y="578952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1640" y="5913360"/>
              <a:ext cx="460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08120" y="1000080"/>
            <a:ext cx="2436840" cy="2221920"/>
            <a:chOff x="708120" y="1000080"/>
            <a:chExt cx="2436840" cy="2221920"/>
          </a:xfrm>
        </p:grpSpPr>
        <p:sp>
          <p:nvSpPr>
            <p:cNvPr id="357" name=""/>
            <p:cNvSpPr/>
            <p:nvPr/>
          </p:nvSpPr>
          <p:spPr>
            <a:xfrm>
              <a:off x="708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480" y="2816280"/>
              <a:ext cx="242748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084320" y="2030400"/>
              <a:ext cx="1573200" cy="331560"/>
              <a:chOff x="1084320" y="2030400"/>
              <a:chExt cx="1573200" cy="33156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1084320" y="2033280"/>
                <a:ext cx="1573200" cy="328680"/>
                <a:chOff x="1084320" y="2033280"/>
                <a:chExt cx="1573200" cy="3286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95480" y="236196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95480" y="203328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1084320" y="203652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620720" y="2030400"/>
                <a:ext cx="673200" cy="331560"/>
                <a:chOff x="1620720" y="2030400"/>
                <a:chExt cx="673200" cy="3315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62072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V="1">
                  <a:off x="1622520" y="2194920"/>
                  <a:ext cx="67140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1100160" y="2047680"/>
                <a:ext cx="50328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29360" y="1000080"/>
              <a:ext cx="23446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) Isochoric</a:t>
              </a:r>
              <a:br>
                <a:rPr sz="14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temperature increase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t constant volume (piston can’t move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6044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8748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442120" y="1103400"/>
            <a:ext cx="2952720" cy="2118600"/>
            <a:chOff x="5442120" y="1103400"/>
            <a:chExt cx="2952720" cy="2118600"/>
          </a:xfrm>
        </p:grpSpPr>
        <p:sp>
          <p:nvSpPr>
            <p:cNvPr id="372" name=""/>
            <p:cNvSpPr/>
            <p:nvPr/>
          </p:nvSpPr>
          <p:spPr>
            <a:xfrm>
              <a:off x="5442120" y="1590840"/>
              <a:ext cx="2406600" cy="4111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1480" y="2816280"/>
              <a:ext cx="2427120" cy="405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818320" y="2030400"/>
              <a:ext cx="1677600" cy="331920"/>
              <a:chOff x="5818320" y="2030400"/>
              <a:chExt cx="1677600" cy="33192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5818320" y="2033640"/>
                <a:ext cx="1573200" cy="328680"/>
                <a:chOff x="5818320" y="2033640"/>
                <a:chExt cx="1573200" cy="328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829480" y="236232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480" y="2033640"/>
                  <a:ext cx="1562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5818320" y="2036880"/>
                  <a:ext cx="0" cy="325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823440" y="2030400"/>
                <a:ext cx="672480" cy="331560"/>
                <a:chOff x="6823440" y="2030400"/>
                <a:chExt cx="672480" cy="3315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23440" y="2030400"/>
                  <a:ext cx="0" cy="331560"/>
                </a:xfrm>
                <a:prstGeom prst="line">
                  <a:avLst/>
                </a:prstGeom>
                <a:ln w="3816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6824880" y="2194920"/>
                  <a:ext cx="671040" cy="3240"/>
                </a:xfrm>
                <a:prstGeom prst="line">
                  <a:avLst/>
                </a:prstGeom>
                <a:ln w="19080">
                  <a:solidFill>
                    <a:srgbClr val="99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834160" y="2048040"/>
                <a:ext cx="981360" cy="307080"/>
              </a:xfrm>
              <a:prstGeom prst="rect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ga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464800" y="1103400"/>
              <a:ext cx="17352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2) Isotherm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as expands at constant T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34160" y="2189160"/>
              <a:ext cx="760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67520" y="2190600"/>
              <a:ext cx="406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8080" y="1771560"/>
              <a:ext cx="7920" cy="371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68920" y="1679400"/>
              <a:ext cx="452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r>
                <a:rPr b="0" lang="en-US" sz="1400" spc="-1" strike="noStrike" baseline="-25000">
                  <a:solidFill>
                    <a:srgbClr val="000040"/>
                  </a:solidFill>
                  <a:latin typeface="Arial"/>
                </a:rPr>
                <a:t>h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71520" y="2345400"/>
            <a:ext cx="2491560" cy="2510280"/>
            <a:chOff x="3071520" y="2345400"/>
            <a:chExt cx="2491560" cy="2510280"/>
          </a:xfrm>
        </p:grpSpPr>
        <p:sp>
          <p:nvSpPr>
            <p:cNvPr id="389" name=""/>
            <p:cNvSpPr/>
            <p:nvPr/>
          </p:nvSpPr>
          <p:spPr>
            <a:xfrm flipH="1" flipV="1" rot="3079200">
              <a:off x="3406680" y="27435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3079200">
              <a:off x="3402000" y="2745360"/>
              <a:ext cx="1828080" cy="17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 rot="19279200">
              <a:off x="3453840" y="268164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 rot="8479200">
              <a:off x="3460680" y="2686320"/>
              <a:ext cx="17186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332160" y="2860560"/>
            <a:ext cx="2011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cycle goes            around like this.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e don’t describe th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chanical parts that move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gas cylinder back and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rth betwee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he reservoir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51160" y="4708440"/>
            <a:ext cx="2389320" cy="198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2-10-01T01:49:39Z</dcterms:modified>
  <cp:revision>2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