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FAEB5D6-E1E5-414A-BF69-0C4F4E351E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321DE047-7CF2-4C09-A673-AE93641D8CC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8" name="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171" name="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0 w 493560"/>
                  <a:gd name="textAreaRight" fmla="*/ 493920 w 4935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82720" y="4554360"/>
            <a:ext cx="1630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stitial-vacancy pa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27" name="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31" name="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6" name="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51" name="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8" name="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0 w 493560"/>
                    <a:gd name="textAreaRight" fmla="*/ 493920 w 49356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lnTo>
                        <a:pt x="0" y="12160"/>
                      </a:lnTo>
                      <a:arcTo wR="12427" hR="9260" stAng="10800000" swAng="5400000"/>
                      <a:lnTo>
                        <a:pt x="15100" y="2900"/>
                      </a:lnTo>
                      <a:lnTo>
                        <a:pt x="15100" y="0"/>
                      </a:lnTo>
                      <a:lnTo>
                        <a:pt x="21600" y="6079"/>
                      </a:lnTo>
                      <a:lnTo>
                        <a:pt x="15100" y="12158"/>
                      </a:lnTo>
                      <a:lnTo>
                        <a:pt x="15100" y="9258"/>
                      </a:lnTo>
                      <a:lnTo>
                        <a:pt x="12427" y="9258"/>
                      </a:lnTo>
                      <a:arcTo wR="6069" hR="2902" stAng="16200000" swAng="-5400000"/>
                      <a:lnTo>
                        <a:pt x="6358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9" name="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74880" y="6300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87520" y="6454800"/>
            <a:ext cx="61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</a:rPr>
              <a:t>This is not Robert Stirling (“Stirling engine”) but James Stirling, Scottish mathematicia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540560" y="5299200"/>
            <a:ext cx="12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rivative is only defined for large 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66840" y="5316480"/>
          <a:ext cx="70167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5316480"/>
                    <a:ext cx="7016760" cy="617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473040" y="5095800"/>
            <a:ext cx="1028880" cy="1015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541920" y="5187960"/>
            <a:ext cx="81936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9" name="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30" name="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370" name="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0" name="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0" name="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10" name="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 flipV="1">
            <a:off x="3656880" y="4888800"/>
            <a:ext cx="1695960" cy="97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3" y="5657"/>
                </a:moveTo>
                <a:arcTo wR="10800" hR="10800" stAng="-9093663" swAng="7311620"/>
                <a:lnTo>
                  <a:pt x="10800" y="10800"/>
                </a:lnTo>
                <a:close/>
              </a:path>
              <a:path fill="none" w="21600" h="21600">
                <a:moveTo>
                  <a:pt x="1303" y="5657"/>
                </a:moveTo>
                <a:arcTo wR="10800" hR="10800" stAng="-9093663" swAng="7311620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resistance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6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8" name="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83560" y="5416560"/>
            <a:ext cx="2084040" cy="903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Question to ponder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  <a:ea typeface="MS PGothic"/>
              </a:rPr>
              <a:t>Why don’t the tables of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  <a:ea typeface="MS PGothic"/>
              </a:rPr>
              <a:t>free energy mention T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  <a:ea typeface="MS PGothic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81160" y="695160"/>
            <a:ext cx="83088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77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80" name="Object 10"/>
          <p:cNvGraphicFramePr/>
          <p:nvPr/>
        </p:nvGraphicFramePr>
        <p:xfrm>
          <a:off x="793800" y="3662280"/>
          <a:ext cx="2293920" cy="95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3662280"/>
                    <a:ext cx="229392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83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84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6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91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92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93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96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99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100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2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03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8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09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1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4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3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" name="Rectangle 55"/>
          <p:cNvSpPr/>
          <p:nvPr/>
        </p:nvSpPr>
        <p:spPr>
          <a:xfrm>
            <a:off x="3570120" y="5418000"/>
            <a:ext cx="4278600" cy="274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The chemical potential of subsystem “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7" name="Object 58"/>
          <p:cNvGraphicFramePr/>
          <p:nvPr/>
        </p:nvGraphicFramePr>
        <p:xfrm>
          <a:off x="6910560" y="5904000"/>
          <a:ext cx="104904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10560" y="5904000"/>
                    <a:ext cx="1049040" cy="4842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32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9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6708600" y="5135400"/>
            <a:ext cx="1737000" cy="479520"/>
            <a:chOff x="6708600" y="5135400"/>
            <a:chExt cx="1737000" cy="479520"/>
          </a:xfrm>
        </p:grpSpPr>
        <p:sp>
          <p:nvSpPr>
            <p:cNvPr id="151" name="Rectangle 7"/>
            <p:cNvSpPr/>
            <p:nvPr/>
          </p:nvSpPr>
          <p:spPr>
            <a:xfrm>
              <a:off x="6708600" y="514008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Rectangle 8"/>
            <p:cNvSpPr/>
            <p:nvPr/>
          </p:nvSpPr>
          <p:spPr>
            <a:xfrm>
              <a:off x="7856640" y="513540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7315200" y="5360760"/>
              <a:ext cx="536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Text Box 10"/>
            <p:cNvSpPr/>
            <p:nvPr/>
          </p:nvSpPr>
          <p:spPr>
            <a:xfrm>
              <a:off x="7313040" y="51940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nergy </a:t>
              </a:r>
              <a:br>
                <a:rPr sz="800"/>
              </a:b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articl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Text Box 11"/>
            <p:cNvSpPr/>
            <p:nvPr/>
          </p:nvSpPr>
          <p:spPr>
            <a:xfrm>
              <a:off x="8016480" y="5236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Text Box 12"/>
            <p:cNvSpPr/>
            <p:nvPr/>
          </p:nvSpPr>
          <p:spPr>
            <a:xfrm>
              <a:off x="6859080" y="5238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Arc 13"/>
          <p:cNvSpPr/>
          <p:nvPr/>
        </p:nvSpPr>
        <p:spPr>
          <a:xfrm flipV="1">
            <a:off x="7058160" y="6091200"/>
            <a:ext cx="1052280" cy="230400"/>
          </a:xfrm>
          <a:custGeom>
            <a:avLst/>
            <a:gdLst>
              <a:gd name="textAreaLeft" fmla="*/ 0 w 1052280"/>
              <a:gd name="textAreaRight" fmla="*/ 1052640 w 1052280"/>
              <a:gd name="textAreaTop" fmla="*/ 360 h 230400"/>
              <a:gd name="textAreaBottom" fmla="*/ 231120 h 230400"/>
            </a:gdLst>
            <a:ahLst/>
            <a:rect l="textAreaLeft" t="textAreaTop" r="textAreaRight" b="textAreaBottom"/>
            <a:pathLst>
              <a:path fill="none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</a:path>
              <a:path stroke="0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  <a:lnTo>
                  <a:pt x="19315" y="21600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14"/>
          <p:cNvSpPr/>
          <p:nvPr/>
        </p:nvSpPr>
        <p:spPr>
          <a:xfrm>
            <a:off x="6858000" y="5864400"/>
            <a:ext cx="0" cy="70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6858000" y="6559560"/>
            <a:ext cx="145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8140680" y="6343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6820200" y="577224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02-18T02:52:46Z</dcterms:modified>
  <cp:revision>54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