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54B6946-EF00-4872-937F-720966FF20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47080" y="20808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F652BB07-C04E-43D5-9538-31A81AADB54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9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9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9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0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0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0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1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1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1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2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2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2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33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36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40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46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48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384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385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396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06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17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26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27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440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441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442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443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4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445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446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8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449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1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52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453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4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5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7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8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459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0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1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9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0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1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2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473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74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475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6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7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8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9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0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1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2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83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484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495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06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6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20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22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24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30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542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547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2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90720" y="66240"/>
            <a:ext cx="71625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208480" cy="114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entropy change per mole of water when water freezes (at p = 1 atm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7047000" y="1565280"/>
            <a:ext cx="1603440" cy="2033280"/>
            <a:chOff x="7047000" y="1565280"/>
            <a:chExt cx="1603440" cy="2033280"/>
          </a:xfrm>
        </p:grpSpPr>
        <p:sp>
          <p:nvSpPr>
            <p:cNvPr id="562" name="Line 8"/>
            <p:cNvSpPr/>
            <p:nvPr/>
          </p:nvSpPr>
          <p:spPr>
            <a:xfrm>
              <a:off x="70470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9"/>
            <p:cNvSpPr/>
            <p:nvPr/>
          </p:nvSpPr>
          <p:spPr>
            <a:xfrm>
              <a:off x="8364600" y="15652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"/>
            <p:cNvSpPr/>
            <p:nvPr/>
          </p:nvSpPr>
          <p:spPr>
            <a:xfrm>
              <a:off x="7047000" y="307800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11"/>
            <p:cNvSpPr/>
            <p:nvPr/>
          </p:nvSpPr>
          <p:spPr>
            <a:xfrm>
              <a:off x="7300800" y="201132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12"/>
            <p:cNvSpPr/>
            <p:nvPr/>
          </p:nvSpPr>
          <p:spPr>
            <a:xfrm>
              <a:off x="7792920" y="198108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>
              <a:off x="7061040" y="206676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4"/>
            <p:cNvSpPr/>
            <p:nvPr/>
          </p:nvSpPr>
          <p:spPr>
            <a:xfrm>
              <a:off x="7629480" y="206676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5"/>
            <p:cNvSpPr/>
            <p:nvPr/>
          </p:nvSpPr>
          <p:spPr>
            <a:xfrm>
              <a:off x="8204040" y="206676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Text Box 16"/>
            <p:cNvSpPr/>
            <p:nvPr/>
          </p:nvSpPr>
          <p:spPr>
            <a:xfrm>
              <a:off x="7354800" y="245268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Text Box 19"/>
            <p:cNvSpPr/>
            <p:nvPr/>
          </p:nvSpPr>
          <p:spPr>
            <a:xfrm>
              <a:off x="7524000" y="162864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2" name="Group 21"/>
            <p:cNvGrpSpPr/>
            <p:nvPr/>
          </p:nvGrpSpPr>
          <p:grpSpPr>
            <a:xfrm>
              <a:off x="8123400" y="1946520"/>
              <a:ext cx="527040" cy="936720"/>
              <a:chOff x="8123400" y="1946520"/>
              <a:chExt cx="527040" cy="936720"/>
            </a:xfrm>
          </p:grpSpPr>
          <p:sp>
            <p:nvSpPr>
              <p:cNvPr id="573" name="Oval 22"/>
              <p:cNvSpPr/>
              <p:nvPr/>
            </p:nvSpPr>
            <p:spPr>
              <a:xfrm rot="1513800">
                <a:off x="8149680" y="269460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Rectangle 23"/>
              <p:cNvSpPr/>
              <p:nvPr/>
            </p:nvSpPr>
            <p:spPr>
              <a:xfrm rot="1513800">
                <a:off x="8402760" y="192276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24"/>
              <p:cNvSpPr/>
              <p:nvPr/>
            </p:nvSpPr>
            <p:spPr>
              <a:xfrm flipV="1">
                <a:off x="8238240" y="227232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6" name="AutoShape 25"/>
            <p:cNvSpPr/>
            <p:nvPr/>
          </p:nvSpPr>
          <p:spPr>
            <a:xfrm>
              <a:off x="7657920" y="309060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Text Box 26"/>
            <p:cNvSpPr/>
            <p:nvPr/>
          </p:nvSpPr>
          <p:spPr>
            <a:xfrm>
              <a:off x="7832160" y="3240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711360" y="1125360"/>
            <a:ext cx="6819840" cy="34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just saw that a mole of water loses entropy when it freezes. Consider a lake that freezes in winter. If the lake lose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ntropy in the process, what is the change of entropy of the environment during this process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0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=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457200"/>
                <a:tab algn="l" pos="228600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 &gt; +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J/K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6480" y="74160"/>
            <a:ext cx="7162920" cy="84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Entropy in freez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2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2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4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2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3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9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30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3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6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7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6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9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8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6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25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26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31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3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34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38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40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2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43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46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51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54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60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265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267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4-02-20T05:09:32Z</dcterms:modified>
  <cp:revision>35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