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3.wmf" ContentType="image/x-wmf"/>
  <Override PartName="/ppt/media/image26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914560" y="8856720"/>
            <a:ext cx="118440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ge </a:t>
            </a:r>
            <a:fld id="{AC6BDEAF-C137-47F8-B0C9-5C8D165A4B0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640" rIns="89640" tIns="45000" bIns="45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6720" y="4416480"/>
            <a:ext cx="51372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491B776F-17C2-46B6-A353-0B92BF063BB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53" name="Group 23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54" name="Freeform 7"/>
            <p:cNvSpPr/>
            <p:nvPr/>
          </p:nvSpPr>
          <p:spPr>
            <a:xfrm>
              <a:off x="6165720" y="395100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5" name="Freeform 8"/>
            <p:cNvSpPr/>
            <p:nvPr/>
          </p:nvSpPr>
          <p:spPr>
            <a:xfrm rot="5251200">
              <a:off x="6367680" y="4509360"/>
              <a:ext cx="917280" cy="9864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6" name="Freeform 9"/>
            <p:cNvSpPr/>
            <p:nvPr/>
          </p:nvSpPr>
          <p:spPr>
            <a:xfrm>
              <a:off x="6858000" y="3931920"/>
              <a:ext cx="582480" cy="15552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7" name="Freeform 10"/>
            <p:cNvSpPr/>
            <p:nvPr/>
          </p:nvSpPr>
          <p:spPr>
            <a:xfrm rot="5251200">
              <a:off x="6353280" y="3420360"/>
              <a:ext cx="917280" cy="9864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158" name="Group 22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59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custGeom>
                <a:avLst/>
                <a:gdLst>
                  <a:gd name="textAreaLeft" fmla="*/ 0 w 856800"/>
                  <a:gd name="textAreaRight" fmla="*/ 857160 w 85680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295" h="125">
                    <a:moveTo>
                      <a:pt x="0" y="82"/>
                    </a:moveTo>
                    <a:cubicBezTo>
                      <a:pt x="17" y="44"/>
                      <a:pt x="35" y="7"/>
                      <a:pt x="48" y="13"/>
                    </a:cubicBezTo>
                    <a:cubicBezTo>
                      <a:pt x="61" y="19"/>
                      <a:pt x="61" y="117"/>
                      <a:pt x="76" y="116"/>
                    </a:cubicBezTo>
                    <a:cubicBezTo>
                      <a:pt x="91" y="115"/>
                      <a:pt x="123" y="7"/>
                      <a:pt x="138" y="7"/>
                    </a:cubicBezTo>
                    <a:cubicBezTo>
                      <a:pt x="153" y="7"/>
                      <a:pt x="150" y="117"/>
                      <a:pt x="165" y="116"/>
                    </a:cubicBezTo>
                    <a:cubicBezTo>
                      <a:pt x="180" y="115"/>
                      <a:pt x="211" y="0"/>
                      <a:pt x="227" y="0"/>
                    </a:cubicBezTo>
                    <a:cubicBezTo>
                      <a:pt x="243" y="0"/>
                      <a:pt x="250" y="107"/>
                      <a:pt x="261" y="116"/>
                    </a:cubicBezTo>
                    <a:cubicBezTo>
                      <a:pt x="272" y="125"/>
                      <a:pt x="283" y="90"/>
                      <a:pt x="295" y="55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60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custGeom>
                <a:avLst/>
                <a:gdLst>
                  <a:gd name="textAreaLeft" fmla="*/ 0 w 856440"/>
                  <a:gd name="textAreaRight" fmla="*/ 856800 w 8564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295" h="125">
                    <a:moveTo>
                      <a:pt x="0" y="82"/>
                    </a:moveTo>
                    <a:cubicBezTo>
                      <a:pt x="17" y="44"/>
                      <a:pt x="35" y="7"/>
                      <a:pt x="48" y="13"/>
                    </a:cubicBezTo>
                    <a:cubicBezTo>
                      <a:pt x="61" y="19"/>
                      <a:pt x="61" y="117"/>
                      <a:pt x="76" y="116"/>
                    </a:cubicBezTo>
                    <a:cubicBezTo>
                      <a:pt x="91" y="115"/>
                      <a:pt x="123" y="7"/>
                      <a:pt x="138" y="7"/>
                    </a:cubicBezTo>
                    <a:cubicBezTo>
                      <a:pt x="153" y="7"/>
                      <a:pt x="150" y="117"/>
                      <a:pt x="165" y="116"/>
                    </a:cubicBezTo>
                    <a:cubicBezTo>
                      <a:pt x="180" y="115"/>
                      <a:pt x="211" y="0"/>
                      <a:pt x="227" y="0"/>
                    </a:cubicBezTo>
                    <a:cubicBezTo>
                      <a:pt x="243" y="0"/>
                      <a:pt x="250" y="107"/>
                      <a:pt x="261" y="116"/>
                    </a:cubicBezTo>
                    <a:cubicBezTo>
                      <a:pt x="272" y="125"/>
                      <a:pt x="283" y="90"/>
                      <a:pt x="295" y="55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161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162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63" name="Freeform 15"/>
            <p:cNvSpPr/>
            <p:nvPr/>
          </p:nvSpPr>
          <p:spPr>
            <a:xfrm>
              <a:off x="5877000" y="199548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6568560" y="201708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65" name="Freeform 17"/>
            <p:cNvSpPr/>
            <p:nvPr/>
          </p:nvSpPr>
          <p:spPr>
            <a:xfrm>
              <a:off x="7244280" y="2017080"/>
              <a:ext cx="582840" cy="155520"/>
            </a:xfrm>
            <a:custGeom>
              <a:avLst/>
              <a:gdLst>
                <a:gd name="textAreaLeft" fmla="*/ 0 w 582840"/>
                <a:gd name="textAreaRight" fmla="*/ 582840 w 582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95" h="125">
                  <a:moveTo>
                    <a:pt x="0" y="82"/>
                  </a:moveTo>
                  <a:cubicBezTo>
                    <a:pt x="17" y="44"/>
                    <a:pt x="35" y="7"/>
                    <a:pt x="48" y="13"/>
                  </a:cubicBezTo>
                  <a:cubicBezTo>
                    <a:pt x="61" y="19"/>
                    <a:pt x="61" y="117"/>
                    <a:pt x="76" y="116"/>
                  </a:cubicBezTo>
                  <a:cubicBezTo>
                    <a:pt x="91" y="115"/>
                    <a:pt x="123" y="7"/>
                    <a:pt x="138" y="7"/>
                  </a:cubicBezTo>
                  <a:cubicBezTo>
                    <a:pt x="153" y="7"/>
                    <a:pt x="150" y="117"/>
                    <a:pt x="165" y="116"/>
                  </a:cubicBezTo>
                  <a:cubicBezTo>
                    <a:pt x="180" y="115"/>
                    <a:pt x="211" y="0"/>
                    <a:pt x="227" y="0"/>
                  </a:cubicBezTo>
                  <a:cubicBezTo>
                    <a:pt x="243" y="0"/>
                    <a:pt x="250" y="107"/>
                    <a:pt x="261" y="116"/>
                  </a:cubicBezTo>
                  <a:cubicBezTo>
                    <a:pt x="272" y="125"/>
                    <a:pt x="283" y="90"/>
                    <a:pt x="295" y="55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66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67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71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72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73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4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5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6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7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8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179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80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81" name="Object 2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82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83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84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85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6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7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8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89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90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3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4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5" name="Rectangle 117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6" name="Text Box 119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7" name="Text Box 120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03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04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205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206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207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208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4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216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217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225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226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233" name="Object 4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4" name="Text Box 299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35" name="Object 300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30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40" name="Group 56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241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242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43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44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45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246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47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48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49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250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1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2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3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4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5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6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7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258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66" name="Group 5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267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68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69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0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1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72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273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74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275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6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7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8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9" name="Text Box 18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1" name="Line 12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84" name="Object 2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6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8" name="Line 14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93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294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5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296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7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9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0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1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2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3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4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5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6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7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8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09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10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11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12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13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14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315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16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317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18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custGeom>
                <a:avLst/>
                <a:gdLst>
                  <a:gd name="textAreaLeft" fmla="*/ 0 w 1523880"/>
                  <a:gd name="textAreaRight" fmla="*/ 1524240 w 1523880"/>
                  <a:gd name="textAreaTop" fmla="*/ 0 h 1295280"/>
                  <a:gd name="textAreaBottom" fmla="*/ 1295280 h 1295280"/>
                </a:gdLst>
                <a:ahLst/>
                <a:rect l="textAreaLeft" t="textAreaTop" r="textAreaRight" b="textAreaBottom"/>
                <a:pathLst>
                  <a:path w="960" h="816">
                    <a:moveTo>
                      <a:pt x="0" y="816"/>
                    </a:moveTo>
                    <a:cubicBezTo>
                      <a:pt x="80" y="792"/>
                      <a:pt x="160" y="768"/>
                      <a:pt x="240" y="720"/>
                    </a:cubicBezTo>
                    <a:cubicBezTo>
                      <a:pt x="320" y="672"/>
                      <a:pt x="400" y="600"/>
                      <a:pt x="480" y="528"/>
                    </a:cubicBezTo>
                    <a:cubicBezTo>
                      <a:pt x="560" y="456"/>
                      <a:pt x="640" y="376"/>
                      <a:pt x="720" y="288"/>
                    </a:cubicBezTo>
                    <a:cubicBezTo>
                      <a:pt x="800" y="200"/>
                      <a:pt x="920" y="48"/>
                      <a:pt x="960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319" name="Text Box 33"/>
          <p:cNvSpPr/>
          <p:nvPr/>
        </p:nvSpPr>
        <p:spPr>
          <a:xfrm>
            <a:off x="5715000" y="3173400"/>
            <a:ext cx="3178080" cy="970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20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321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22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323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24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25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26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27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28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29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330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31" name="Text Box 46"/>
          <p:cNvSpPr/>
          <p:nvPr/>
        </p:nvSpPr>
        <p:spPr>
          <a:xfrm>
            <a:off x="347760" y="5451480"/>
            <a:ext cx="8447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q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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N-1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oscillators when q &gt;&gt; N (or, U &gt;&gt; Nε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32" name="Text Box 47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33" name="TextBox 1"/>
          <p:cNvSpPr/>
          <p:nvPr/>
        </p:nvSpPr>
        <p:spPr>
          <a:xfrm>
            <a:off x="668160" y="2378160"/>
            <a:ext cx="65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=3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34" name="TextBox 46"/>
          <p:cNvSpPr/>
          <p:nvPr/>
        </p:nvSpPr>
        <p:spPr>
          <a:xfrm>
            <a:off x="3238560" y="2575080"/>
            <a:ext cx="102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35" name="Group 4"/>
          <p:cNvGrpSpPr/>
          <p:nvPr/>
        </p:nvGrpSpPr>
        <p:grpSpPr>
          <a:xfrm>
            <a:off x="5778360" y="2556000"/>
            <a:ext cx="2868840" cy="547560"/>
            <a:chOff x="5778360" y="2556000"/>
            <a:chExt cx="2868840" cy="547560"/>
          </a:xfrm>
        </p:grpSpPr>
        <p:graphicFrame>
          <p:nvGraphicFramePr>
            <p:cNvPr id="336" name="Object 2"/>
            <p:cNvGraphicFramePr/>
            <p:nvPr/>
          </p:nvGraphicFramePr>
          <p:xfrm>
            <a:off x="7313400" y="2556000"/>
            <a:ext cx="1333800" cy="547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7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13400" y="2556000"/>
                      <a:ext cx="1333800" cy="54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8" name="TextBox 3"/>
            <p:cNvSpPr/>
            <p:nvPr/>
          </p:nvSpPr>
          <p:spPr>
            <a:xfrm>
              <a:off x="5778360" y="2613600"/>
              <a:ext cx="155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Plug N=3 into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1843200" y="1170360"/>
            <a:ext cx="5776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0" lang="en-US" sz="4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50" name="Group 12"/>
          <p:cNvGrpSpPr/>
          <p:nvPr/>
        </p:nvGrpSpPr>
        <p:grpSpPr>
          <a:xfrm>
            <a:off x="452880" y="2884320"/>
            <a:ext cx="7255440" cy="3854520"/>
            <a:chOff x="452880" y="2884320"/>
            <a:chExt cx="7255440" cy="3854520"/>
          </a:xfrm>
        </p:grpSpPr>
        <p:graphicFrame>
          <p:nvGraphicFramePr>
            <p:cNvPr id="51" name="Object 3"/>
            <p:cNvGraphicFramePr/>
            <p:nvPr/>
          </p:nvGraphicFramePr>
          <p:xfrm>
            <a:off x="2711520" y="4051440"/>
            <a:ext cx="3875400" cy="144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11520" y="4051440"/>
                      <a:ext cx="3875400" cy="14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Rectangle 15"/>
            <p:cNvSpPr/>
            <p:nvPr/>
          </p:nvSpPr>
          <p:spPr>
            <a:xfrm>
              <a:off x="2436840" y="4037040"/>
              <a:ext cx="4443840" cy="1606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" name="AutoShape 16"/>
            <p:cNvSpPr/>
            <p:nvPr/>
          </p:nvSpPr>
          <p:spPr>
            <a:xfrm rot="16200000">
              <a:off x="3966480" y="4385160"/>
              <a:ext cx="419040" cy="2907000"/>
            </a:xfrm>
            <a:custGeom>
              <a:avLst/>
              <a:gdLst>
                <a:gd name="textAreaLeft" fmla="*/ 267840 w 419040"/>
                <a:gd name="textAreaRight" fmla="*/ 419400 w 419040"/>
                <a:gd name="textAreaTop" fmla="*/ 75600 h 2907000"/>
                <a:gd name="textAreaBottom" fmla="*/ 2831400 h 290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5" name="Text Box 17"/>
            <p:cNvSpPr/>
            <p:nvPr/>
          </p:nvSpPr>
          <p:spPr>
            <a:xfrm>
              <a:off x="3097800" y="6005520"/>
              <a:ext cx="2146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eded at high densitie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liquids and solids)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K for gases, too.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6" name="AutoShape 20"/>
            <p:cNvSpPr/>
            <p:nvPr/>
          </p:nvSpPr>
          <p:spPr>
            <a:xfrm rot="16200000">
              <a:off x="6188400" y="5503680"/>
              <a:ext cx="419040" cy="701640"/>
            </a:xfrm>
            <a:custGeom>
              <a:avLst/>
              <a:gdLst>
                <a:gd name="textAreaLeft" fmla="*/ 267840 w 419040"/>
                <a:gd name="textAreaRight" fmla="*/ 419400 w 419040"/>
                <a:gd name="textAreaTop" fmla="*/ 18000 h 701640"/>
                <a:gd name="textAreaBottom" fmla="*/ 683640 h 70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" name="Text Box 21"/>
            <p:cNvSpPr/>
            <p:nvPr/>
          </p:nvSpPr>
          <p:spPr>
            <a:xfrm>
              <a:off x="5533920" y="6060960"/>
              <a:ext cx="171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K at low densitie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gases only)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" name="TextBox 1"/>
            <p:cNvSpPr/>
            <p:nvPr/>
          </p:nvSpPr>
          <p:spPr>
            <a:xfrm>
              <a:off x="653040" y="4102920"/>
              <a:ext cx="16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distinguishable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" name="TextBox 11"/>
            <p:cNvSpPr/>
            <p:nvPr/>
          </p:nvSpPr>
          <p:spPr>
            <a:xfrm>
              <a:off x="452880" y="4993200"/>
              <a:ext cx="186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indistinguishable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0" name="TextBox 2"/>
            <p:cNvSpPr/>
            <p:nvPr/>
          </p:nvSpPr>
          <p:spPr>
            <a:xfrm>
              <a:off x="2381400" y="3432600"/>
              <a:ext cx="1153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unlimited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occupancy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" name="TextBox 13"/>
            <p:cNvSpPr/>
            <p:nvPr/>
          </p:nvSpPr>
          <p:spPr>
            <a:xfrm>
              <a:off x="4231440" y="3432600"/>
              <a:ext cx="1153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singl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occupancy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2" name="TextBox 14"/>
            <p:cNvSpPr/>
            <p:nvPr/>
          </p:nvSpPr>
          <p:spPr>
            <a:xfrm>
              <a:off x="6058800" y="3432600"/>
              <a:ext cx="66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dilut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3" name="TextBox 10"/>
            <p:cNvSpPr/>
            <p:nvPr/>
          </p:nvSpPr>
          <p:spPr>
            <a:xfrm>
              <a:off x="1858680" y="2884320"/>
              <a:ext cx="584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Number of microstates for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objects in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M 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bins is 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aphicFrame>
        <p:nvGraphicFramePr>
          <p:cNvPr id="64" name="Object 15"/>
          <p:cNvGraphicFramePr/>
          <p:nvPr/>
        </p:nvGraphicFramePr>
        <p:xfrm>
          <a:off x="7505640" y="1238400"/>
          <a:ext cx="1514520" cy="118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05640" y="1238400"/>
                    <a:ext cx="1514520" cy="11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Freeform 16"/>
          <p:cNvSpPr/>
          <p:nvPr/>
        </p:nvSpPr>
        <p:spPr>
          <a:xfrm>
            <a:off x="968400" y="639720"/>
            <a:ext cx="1960560" cy="2843280"/>
          </a:xfrm>
          <a:custGeom>
            <a:avLst/>
            <a:gdLst/>
            <a:ahLst/>
            <a:rect l="l" t="t" r="r" b="b"/>
            <a:pathLst>
              <a:path w="1959738" h="2843616">
                <a:moveTo>
                  <a:pt x="1959738" y="524958"/>
                </a:moveTo>
                <a:cubicBezTo>
                  <a:pt x="1835459" y="353508"/>
                  <a:pt x="1711180" y="182059"/>
                  <a:pt x="1491652" y="100416"/>
                </a:cubicBezTo>
                <a:cubicBezTo>
                  <a:pt x="1272124" y="18773"/>
                  <a:pt x="869353" y="-41099"/>
                  <a:pt x="642567" y="35101"/>
                </a:cubicBezTo>
                <a:cubicBezTo>
                  <a:pt x="415781" y="111301"/>
                  <a:pt x="237981" y="336273"/>
                  <a:pt x="130938" y="557616"/>
                </a:cubicBezTo>
                <a:cubicBezTo>
                  <a:pt x="23895" y="778959"/>
                  <a:pt x="-3319" y="1132744"/>
                  <a:pt x="310" y="1363158"/>
                </a:cubicBezTo>
                <a:cubicBezTo>
                  <a:pt x="3939" y="1593572"/>
                  <a:pt x="-17833" y="1693358"/>
                  <a:pt x="152710" y="1940101"/>
                </a:cubicBezTo>
                <a:cubicBezTo>
                  <a:pt x="323253" y="2186844"/>
                  <a:pt x="673410" y="2515230"/>
                  <a:pt x="1023567" y="284361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cxnSp>
        <p:nvCxnSpPr>
          <p:cNvPr id="67" name="Straight Arrow Connector 18"/>
          <p:cNvCxnSpPr/>
          <p:nvPr/>
        </p:nvCxnSpPr>
        <p:spPr>
          <a:xfrm flipH="1">
            <a:off x="6498720" y="1833120"/>
            <a:ext cx="112176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graphicFrame>
        <p:nvGraphicFramePr>
          <p:cNvPr id="68" name="Object 19"/>
          <p:cNvGraphicFramePr/>
          <p:nvPr/>
        </p:nvGraphicFramePr>
        <p:xfrm>
          <a:off x="7556400" y="3284640"/>
          <a:ext cx="14414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0" y="3284640"/>
                    <a:ext cx="1441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Freeform 20"/>
          <p:cNvSpPr/>
          <p:nvPr/>
        </p:nvSpPr>
        <p:spPr>
          <a:xfrm>
            <a:off x="7337520" y="2514600"/>
            <a:ext cx="892080" cy="762120"/>
          </a:xfrm>
          <a:custGeom>
            <a:avLst/>
            <a:gdLst/>
            <a:ahLst/>
            <a:rect l="l" t="t" r="r" b="b"/>
            <a:pathLst>
              <a:path w="892629" h="762000">
                <a:moveTo>
                  <a:pt x="892629" y="762000"/>
                </a:moveTo>
                <a:cubicBezTo>
                  <a:pt x="867229" y="644071"/>
                  <a:pt x="841829" y="526143"/>
                  <a:pt x="729343" y="424543"/>
                </a:cubicBezTo>
                <a:cubicBezTo>
                  <a:pt x="616857" y="322943"/>
                  <a:pt x="339272" y="223157"/>
                  <a:pt x="217715" y="152400"/>
                </a:cubicBezTo>
                <a:cubicBezTo>
                  <a:pt x="96158" y="81643"/>
                  <a:pt x="48079" y="40821"/>
                  <a:pt x="0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1" name="TextBox 24"/>
          <p:cNvSpPr/>
          <p:nvPr/>
        </p:nvSpPr>
        <p:spPr>
          <a:xfrm>
            <a:off x="6913440" y="4290840"/>
            <a:ext cx="223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also known as the multiplicity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45" name="Text Box 25"/>
          <p:cNvSpPr/>
          <p:nvPr/>
        </p:nvSpPr>
        <p:spPr>
          <a:xfrm>
            <a:off x="295200" y="580536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46" name="Text Box 25"/>
          <p:cNvSpPr/>
          <p:nvPr/>
        </p:nvSpPr>
        <p:spPr>
          <a:xfrm>
            <a:off x="322200" y="153180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viously we brought two systems together and allowed them to exchange volume (at fixed T). This led to mechanical equilibrium, and the result that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47" name="Text Box 25"/>
          <p:cNvSpPr/>
          <p:nvPr/>
        </p:nvSpPr>
        <p:spPr>
          <a:xfrm>
            <a:off x="390600" y="331488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bring two systems together and allow them to exchange energy (at fixed V), and determine what’s the most likely final distribution of energy between the two system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348" name="Object 31"/>
          <p:cNvGraphicFramePr/>
          <p:nvPr/>
        </p:nvGraphicFramePr>
        <p:xfrm>
          <a:off x="3675240" y="2327400"/>
          <a:ext cx="117612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9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5240" y="2327400"/>
                    <a:ext cx="1176120" cy="7254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0" name="Line 2054"/>
          <p:cNvSpPr/>
          <p:nvPr/>
        </p:nvSpPr>
        <p:spPr>
          <a:xfrm>
            <a:off x="2063880" y="4292640"/>
            <a:ext cx="0" cy="121932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51" name="Rectangle 2053"/>
          <p:cNvSpPr/>
          <p:nvPr/>
        </p:nvSpPr>
        <p:spPr>
          <a:xfrm>
            <a:off x="1200240" y="4294080"/>
            <a:ext cx="3276360" cy="121932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52" name="Text Box 2056"/>
          <p:cNvSpPr/>
          <p:nvPr/>
        </p:nvSpPr>
        <p:spPr>
          <a:xfrm>
            <a:off x="1460520" y="4448160"/>
            <a:ext cx="4876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 -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-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+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53" name="Line 17"/>
          <p:cNvSpPr/>
          <p:nvPr/>
        </p:nvSpPr>
        <p:spPr>
          <a:xfrm>
            <a:off x="1752480" y="5619600"/>
            <a:ext cx="614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54" name="Text Box 18"/>
          <p:cNvSpPr/>
          <p:nvPr/>
        </p:nvSpPr>
        <p:spPr>
          <a:xfrm>
            <a:off x="1754640" y="56372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low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56" name="Object 3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59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360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361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362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custGeom>
                  <a:avLst/>
                  <a:gdLst>
                    <a:gd name="textAreaLeft" fmla="*/ 0 w 1665360"/>
                    <a:gd name="textAreaRight" fmla="*/ 1665720 w 1665360"/>
                    <a:gd name="textAreaTop" fmla="*/ 0 h 481320"/>
                    <a:gd name="textAreaBottom" fmla="*/ 481680 h 481320"/>
                  </a:gdLst>
                  <a:ahLst/>
                  <a:rect l="textAreaLeft" t="textAreaTop" r="textAreaRight" b="textAreaBottom"/>
                  <a:pathLst>
                    <a:path w="1049" h="594">
                      <a:moveTo>
                        <a:pt x="0" y="594"/>
                      </a:moveTo>
                      <a:cubicBezTo>
                        <a:pt x="35" y="516"/>
                        <a:pt x="71" y="439"/>
                        <a:pt x="120" y="379"/>
                      </a:cubicBezTo>
                      <a:cubicBezTo>
                        <a:pt x="169" y="319"/>
                        <a:pt x="234" y="272"/>
                        <a:pt x="291" y="234"/>
                      </a:cubicBezTo>
                      <a:cubicBezTo>
                        <a:pt x="348" y="196"/>
                        <a:pt x="384" y="180"/>
                        <a:pt x="461" y="151"/>
                      </a:cubicBezTo>
                      <a:cubicBezTo>
                        <a:pt x="538" y="122"/>
                        <a:pt x="654" y="88"/>
                        <a:pt x="752" y="63"/>
                      </a:cubicBezTo>
                      <a:cubicBezTo>
                        <a:pt x="850" y="38"/>
                        <a:pt x="949" y="19"/>
                        <a:pt x="1049" y="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custGeom>
                  <a:avLst/>
                  <a:gdLst>
                    <a:gd name="textAreaLeft" fmla="*/ -360 w 1665000"/>
                    <a:gd name="textAreaRight" fmla="*/ 1665000 w 1665000"/>
                    <a:gd name="textAreaTop" fmla="*/ 0 h 1224000"/>
                    <a:gd name="textAreaBottom" fmla="*/ 1224360 h 1224000"/>
                  </a:gdLst>
                  <a:ahLst/>
                  <a:rect l="textAreaLeft" t="textAreaTop" r="textAreaRight" b="textAreaBottom"/>
                  <a:pathLst>
                    <a:path w="1049" h="594">
                      <a:moveTo>
                        <a:pt x="0" y="594"/>
                      </a:moveTo>
                      <a:cubicBezTo>
                        <a:pt x="35" y="516"/>
                        <a:pt x="71" y="439"/>
                        <a:pt x="120" y="379"/>
                      </a:cubicBezTo>
                      <a:cubicBezTo>
                        <a:pt x="169" y="319"/>
                        <a:pt x="234" y="272"/>
                        <a:pt x="291" y="234"/>
                      </a:cubicBezTo>
                      <a:cubicBezTo>
                        <a:pt x="348" y="196"/>
                        <a:pt x="384" y="180"/>
                        <a:pt x="461" y="151"/>
                      </a:cubicBezTo>
                      <a:cubicBezTo>
                        <a:pt x="538" y="122"/>
                        <a:pt x="654" y="88"/>
                        <a:pt x="752" y="63"/>
                      </a:cubicBezTo>
                      <a:cubicBezTo>
                        <a:pt x="850" y="38"/>
                        <a:pt x="949" y="19"/>
                        <a:pt x="1049" y="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custGeom>
                <a:avLst/>
                <a:gdLst>
                  <a:gd name="textAreaLeft" fmla="*/ 0 w 1674720"/>
                  <a:gd name="textAreaRight" fmla="*/ 1675080 w 1674720"/>
                  <a:gd name="textAreaTop" fmla="*/ 0 h 939600"/>
                  <a:gd name="textAreaBottom" fmla="*/ 939960 h 939600"/>
                </a:gdLst>
                <a:ahLst/>
                <a:rect l="textAreaLeft" t="textAreaTop" r="textAreaRight" b="textAreaBottom"/>
                <a:pathLst>
                  <a:path w="1156" h="604">
                    <a:moveTo>
                      <a:pt x="0" y="143"/>
                    </a:moveTo>
                    <a:cubicBezTo>
                      <a:pt x="33" y="115"/>
                      <a:pt x="67" y="87"/>
                      <a:pt x="107" y="67"/>
                    </a:cubicBezTo>
                    <a:cubicBezTo>
                      <a:pt x="147" y="47"/>
                      <a:pt x="195" y="33"/>
                      <a:pt x="240" y="23"/>
                    </a:cubicBezTo>
                    <a:cubicBezTo>
                      <a:pt x="285" y="13"/>
                      <a:pt x="313" y="0"/>
                      <a:pt x="379" y="10"/>
                    </a:cubicBezTo>
                    <a:cubicBezTo>
                      <a:pt x="445" y="20"/>
                      <a:pt x="559" y="53"/>
                      <a:pt x="638" y="86"/>
                    </a:cubicBezTo>
                    <a:cubicBezTo>
                      <a:pt x="717" y="119"/>
                      <a:pt x="795" y="165"/>
                      <a:pt x="853" y="206"/>
                    </a:cubicBezTo>
                    <a:cubicBezTo>
                      <a:pt x="911" y="247"/>
                      <a:pt x="935" y="267"/>
                      <a:pt x="985" y="333"/>
                    </a:cubicBezTo>
                    <a:cubicBezTo>
                      <a:pt x="1035" y="399"/>
                      <a:pt x="1095" y="501"/>
                      <a:pt x="1156" y="604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67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68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69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70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371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372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73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374" name="Object 20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5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Rectangle 21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77" name="Text Box 22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0" name="Object 3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82" name="Object 11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3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8" name="Group 54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389" name="Freeform 11"/>
            <p:cNvSpPr/>
            <p:nvPr/>
          </p:nvSpPr>
          <p:spPr>
            <a:xfrm>
              <a:off x="5950080" y="1796760"/>
              <a:ext cx="2514600" cy="914400"/>
            </a:xfrm>
            <a:custGeom>
              <a:avLst/>
              <a:gdLst>
                <a:gd name="textAreaLeft" fmla="*/ 0 w 2514600"/>
                <a:gd name="textAreaRight" fmla="*/ 2514960 w 25146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584" h="816">
                  <a:moveTo>
                    <a:pt x="0" y="816"/>
                  </a:moveTo>
                  <a:cubicBezTo>
                    <a:pt x="132" y="620"/>
                    <a:pt x="264" y="424"/>
                    <a:pt x="528" y="288"/>
                  </a:cubicBezTo>
                  <a:cubicBezTo>
                    <a:pt x="792" y="152"/>
                    <a:pt x="1408" y="48"/>
                    <a:pt x="1584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90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391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92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93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94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395" name="Rectangle 56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96" name="Rectangle 57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97" name="Line 58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98" name="Line 59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4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33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402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403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04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405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406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914400"/>
                    <a:gd name="textAreaBottom" fmla="*/ 914760 h 914400"/>
                  </a:gdLst>
                  <a:ahLst/>
                  <a:rect l="textAreaLeft" t="textAreaTop" r="textAreaRight" b="textAreaBottom"/>
                  <a:pathLst>
                    <a:path w="1584" h="816">
                      <a:moveTo>
                        <a:pt x="0" y="816"/>
                      </a:moveTo>
                      <a:cubicBezTo>
                        <a:pt x="132" y="620"/>
                        <a:pt x="264" y="424"/>
                        <a:pt x="528" y="288"/>
                      </a:cubicBezTo>
                      <a:cubicBezTo>
                        <a:pt x="792" y="152"/>
                        <a:pt x="1408" y="48"/>
                        <a:pt x="1584" y="0"/>
                      </a:cubicBez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752480"/>
                    <a:gd name="textAreaBottom" fmla="*/ 1752840 h 1752480"/>
                  </a:gdLst>
                  <a:ahLst/>
                  <a:rect l="textAreaLeft" t="textAreaTop" r="textAreaRight" b="textAreaBottom"/>
                  <a:pathLst>
                    <a:path w="1584" h="1104">
                      <a:moveTo>
                        <a:pt x="0" y="0"/>
                      </a:moveTo>
                      <a:cubicBezTo>
                        <a:pt x="228" y="52"/>
                        <a:pt x="456" y="104"/>
                        <a:pt x="720" y="288"/>
                      </a:cubicBezTo>
                      <a:cubicBezTo>
                        <a:pt x="984" y="472"/>
                        <a:pt x="1440" y="968"/>
                        <a:pt x="1584" y="1104"/>
                      </a:cubicBezTo>
                    </a:path>
                  </a:pathLst>
                </a:cu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08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09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10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1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412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custGeom>
                  <a:avLst/>
                  <a:gdLst>
                    <a:gd name="textAreaLeft" fmla="*/ 0 w 2514240"/>
                    <a:gd name="textAreaRight" fmla="*/ 2514600 w 2514240"/>
                    <a:gd name="textAreaTop" fmla="*/ 0 h 1079640"/>
                    <a:gd name="textAreaBottom" fmla="*/ 1080000 h 1079640"/>
                  </a:gdLst>
                  <a:ahLst/>
                  <a:rect l="textAreaLeft" t="textAreaTop" r="textAreaRight" b="textAreaBottom"/>
                  <a:pathLst>
                    <a:path w="1584" h="680">
                      <a:moveTo>
                        <a:pt x="0" y="152"/>
                      </a:moveTo>
                      <a:cubicBezTo>
                        <a:pt x="136" y="76"/>
                        <a:pt x="272" y="0"/>
                        <a:pt x="432" y="8"/>
                      </a:cubicBezTo>
                      <a:cubicBezTo>
                        <a:pt x="592" y="16"/>
                        <a:pt x="768" y="88"/>
                        <a:pt x="960" y="200"/>
                      </a:cubicBezTo>
                      <a:cubicBezTo>
                        <a:pt x="1152" y="312"/>
                        <a:pt x="1480" y="600"/>
                        <a:pt x="1584" y="680"/>
                      </a:cubicBezTo>
                    </a:path>
                  </a:pathLst>
                </a:cu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13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14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15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6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17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418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419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20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21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22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3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5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26" name="Text Box 60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27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29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430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31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32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3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34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435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36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pic>
        <p:nvPicPr>
          <p:cNvPr id="437" name="Picture 95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2" name="Object 4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Object 18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Text Box 19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0" lang="en-US" sz="9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47" name="Line 20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48" name="Rectangle 21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49" name="Text Box 22"/>
          <p:cNvSpPr/>
          <p:nvPr/>
        </p:nvSpPr>
        <p:spPr>
          <a:xfrm>
            <a:off x="4524480" y="6008760"/>
            <a:ext cx="1715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0" lang="en-US" sz="11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50" name="Oval 23"/>
          <p:cNvSpPr/>
          <p:nvPr/>
        </p:nvSpPr>
        <p:spPr>
          <a:xfrm>
            <a:off x="4392720" y="5823000"/>
            <a:ext cx="1828800" cy="93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51" name="Line 24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52" name="Group 25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453" name="Arc 7"/>
            <p:cNvSpPr/>
            <p:nvPr/>
          </p:nvSpPr>
          <p:spPr>
            <a:xfrm flipH="1">
              <a:off x="6500880" y="5425920"/>
              <a:ext cx="2201760" cy="885600"/>
            </a:xfrm>
            <a:custGeom>
              <a:avLst/>
              <a:gdLst>
                <a:gd name="textAreaLeft" fmla="*/ 360 w 2201760"/>
                <a:gd name="textAreaRight" fmla="*/ 2202480 w 220176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fill="none" w="21834" h="21600">
                  <a:moveTo>
                    <a:pt x="0" y="1"/>
                  </a:moveTo>
                  <a:cubicBezTo>
                    <a:pt x="77" y="0"/>
                    <a:pt x="155" y="-1"/>
                    <a:pt x="234" y="-1"/>
                  </a:cubicBezTo>
                  <a:cubicBezTo>
                    <a:pt x="12163" y="-1"/>
                    <a:pt x="21834" y="9670"/>
                    <a:pt x="21834" y="21600"/>
                  </a:cubicBezTo>
                </a:path>
                <a:path stroke="0" w="21834" h="21600">
                  <a:moveTo>
                    <a:pt x="0" y="1"/>
                  </a:moveTo>
                  <a:cubicBezTo>
                    <a:pt x="77" y="0"/>
                    <a:pt x="155" y="-1"/>
                    <a:pt x="234" y="-1"/>
                  </a:cubicBezTo>
                  <a:cubicBezTo>
                    <a:pt x="12163" y="-1"/>
                    <a:pt x="21834" y="9670"/>
                    <a:pt x="21834" y="21600"/>
                  </a:cubicBezTo>
                  <a:lnTo>
                    <a:pt x="234" y="2160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54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55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56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57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0" name="Object 4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Text Box 8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63" name="Rectangle 9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130320" y="808200"/>
            <a:ext cx="8894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45720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pins: 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5046840" y="187200"/>
          <a:ext cx="134280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6840" y="187200"/>
                    <a:ext cx="1342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4"/>
          <p:cNvGraphicFramePr/>
          <p:nvPr/>
        </p:nvGraphicFramePr>
        <p:xfrm>
          <a:off x="5896080" y="1657440"/>
          <a:ext cx="308592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96080" y="1657440"/>
                    <a:ext cx="30859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83" name="Straight Arrow Connector 6"/>
          <p:cNvCxnSpPr/>
          <p:nvPr/>
        </p:nvCxnSpPr>
        <p:spPr>
          <a:xfrm flipH="1" flipV="1">
            <a:off x="5649480" y="1515600"/>
            <a:ext cx="218160" cy="2260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84" name="Straight Arrow Connector 8"/>
          <p:cNvCxnSpPr/>
          <p:nvPr/>
        </p:nvCxnSpPr>
        <p:spPr>
          <a:xfrm flipH="1">
            <a:off x="4854240" y="555480"/>
            <a:ext cx="164160" cy="253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5" name="Text Box 5"/>
          <p:cNvSpPr/>
          <p:nvPr/>
        </p:nvSpPr>
        <p:spPr>
          <a:xfrm>
            <a:off x="172800" y="232740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86" name="Object 1"/>
          <p:cNvGraphicFramePr/>
          <p:nvPr/>
        </p:nvGraphicFramePr>
        <p:xfrm>
          <a:off x="1938240" y="2778120"/>
          <a:ext cx="5229360" cy="82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" name="Object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38240" y="2778120"/>
                    <a:ext cx="52293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Box 2"/>
          <p:cNvSpPr/>
          <p:nvPr/>
        </p:nvSpPr>
        <p:spPr>
          <a:xfrm>
            <a:off x="150840" y="3738600"/>
            <a:ext cx="652464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not a very big number, it’s not close to 1.  What’s going on??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ar 500,000 there are also approximately 1000 macrostates ranging from 499,500 to 500,500 that are part of the peak in probability.  See lecture 6 slide 26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ifferences within the peak are “thermal fluctuations about the average value.  The macrostate includes all of the states in the peak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7"/>
          <a:stretch/>
        </p:blipFill>
        <p:spPr>
          <a:xfrm>
            <a:off x="6505560" y="4116240"/>
            <a:ext cx="2611440" cy="155448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7151400" y="5640480"/>
            <a:ext cx="154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dth i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/2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Object 2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3" name="Group 21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94" name="Object 3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5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6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97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00" name="Group 23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101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103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104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105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06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custGeom>
                  <a:avLst/>
                  <a:gdLst>
                    <a:gd name="textAreaLeft" fmla="*/ 0 w 649440"/>
                    <a:gd name="textAreaRight" fmla="*/ 649800 w 649440"/>
                    <a:gd name="textAreaTop" fmla="*/ 0 h 1019160"/>
                    <a:gd name="textAreaBottom" fmla="*/ 1019160 h 1019160"/>
                  </a:gdLst>
                  <a:ahLst/>
                  <a:rect l="textAreaLeft" t="textAreaTop" r="textAreaRight" b="textAreaBottom"/>
                  <a:pathLst>
                    <a:path w="866" h="642">
                      <a:moveTo>
                        <a:pt x="0" y="642"/>
                      </a:moveTo>
                      <a:cubicBezTo>
                        <a:pt x="72" y="641"/>
                        <a:pt x="145" y="640"/>
                        <a:pt x="189" y="631"/>
                      </a:cubicBezTo>
                      <a:cubicBezTo>
                        <a:pt x="233" y="622"/>
                        <a:pt x="240" y="624"/>
                        <a:pt x="266" y="587"/>
                      </a:cubicBezTo>
                      <a:cubicBezTo>
                        <a:pt x="292" y="550"/>
                        <a:pt x="323" y="485"/>
                        <a:pt x="344" y="409"/>
                      </a:cubicBezTo>
                      <a:cubicBezTo>
                        <a:pt x="365" y="333"/>
                        <a:pt x="374" y="194"/>
                        <a:pt x="389" y="131"/>
                      </a:cubicBezTo>
                      <a:cubicBezTo>
                        <a:pt x="404" y="68"/>
                        <a:pt x="413" y="0"/>
                        <a:pt x="433" y="31"/>
                      </a:cubicBezTo>
                      <a:cubicBezTo>
                        <a:pt x="453" y="62"/>
                        <a:pt x="485" y="233"/>
                        <a:pt x="511" y="320"/>
                      </a:cubicBezTo>
                      <a:cubicBezTo>
                        <a:pt x="537" y="407"/>
                        <a:pt x="557" y="503"/>
                        <a:pt x="589" y="553"/>
                      </a:cubicBezTo>
                      <a:cubicBezTo>
                        <a:pt x="621" y="603"/>
                        <a:pt x="654" y="607"/>
                        <a:pt x="700" y="620"/>
                      </a:cubicBezTo>
                      <a:cubicBezTo>
                        <a:pt x="746" y="633"/>
                        <a:pt x="806" y="632"/>
                        <a:pt x="866" y="631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0" lang="en-US" sz="14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09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10" name="Object 4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24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Object 3"/>
          <p:cNvGraphicFramePr/>
          <p:nvPr/>
        </p:nvGraphicFramePr>
        <p:xfrm>
          <a:off x="6883560" y="190512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90512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4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9" name="Object 10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1" name="Object 2"/>
          <p:cNvGraphicFramePr/>
          <p:nvPr/>
        </p:nvGraphicFramePr>
        <p:xfrm>
          <a:off x="5870520" y="3449520"/>
          <a:ext cx="3259080" cy="37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70520" y="3449520"/>
                    <a:ext cx="325908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34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128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129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130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131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0" lang="en-US" sz="18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custGeom>
                  <a:avLst/>
                  <a:gdLst>
                    <a:gd name="textAreaLeft" fmla="*/ 0 w 1143000"/>
                    <a:gd name="textAreaRight" fmla="*/ 1143360 w 1143000"/>
                    <a:gd name="textAreaTop" fmla="*/ 0 h 406440"/>
                    <a:gd name="textAreaBottom" fmla="*/ 406800 h 406440"/>
                  </a:gdLst>
                  <a:ahLst/>
                  <a:rect l="textAreaLeft" t="textAreaTop" r="textAreaRight" b="textAreaBottom"/>
                  <a:pathLst>
                    <a:path w="720" h="256">
                      <a:moveTo>
                        <a:pt x="720" y="104"/>
                      </a:moveTo>
                      <a:cubicBezTo>
                        <a:pt x="664" y="56"/>
                        <a:pt x="608" y="8"/>
                        <a:pt x="576" y="8"/>
                      </a:cubicBezTo>
                      <a:cubicBezTo>
                        <a:pt x="544" y="8"/>
                        <a:pt x="528" y="64"/>
                        <a:pt x="528" y="104"/>
                      </a:cubicBezTo>
                      <a:cubicBezTo>
                        <a:pt x="528" y="144"/>
                        <a:pt x="568" y="248"/>
                        <a:pt x="576" y="248"/>
                      </a:cubicBezTo>
                      <a:cubicBezTo>
                        <a:pt x="584" y="248"/>
                        <a:pt x="592" y="144"/>
                        <a:pt x="576" y="104"/>
                      </a:cubicBezTo>
                      <a:cubicBezTo>
                        <a:pt x="560" y="64"/>
                        <a:pt x="504" y="0"/>
                        <a:pt x="480" y="8"/>
                      </a:cubicBezTo>
                      <a:cubicBezTo>
                        <a:pt x="456" y="16"/>
                        <a:pt x="432" y="112"/>
                        <a:pt x="432" y="152"/>
                      </a:cubicBezTo>
                      <a:cubicBezTo>
                        <a:pt x="432" y="192"/>
                        <a:pt x="472" y="248"/>
                        <a:pt x="480" y="248"/>
                      </a:cubicBezTo>
                      <a:cubicBezTo>
                        <a:pt x="488" y="248"/>
                        <a:pt x="496" y="192"/>
                        <a:pt x="480" y="152"/>
                      </a:cubicBezTo>
                      <a:cubicBezTo>
                        <a:pt x="464" y="112"/>
                        <a:pt x="408" y="8"/>
                        <a:pt x="384" y="8"/>
                      </a:cubicBezTo>
                      <a:cubicBezTo>
                        <a:pt x="360" y="8"/>
                        <a:pt x="336" y="112"/>
                        <a:pt x="336" y="152"/>
                      </a:cubicBezTo>
                      <a:cubicBezTo>
                        <a:pt x="336" y="192"/>
                        <a:pt x="376" y="248"/>
                        <a:pt x="384" y="248"/>
                      </a:cubicBezTo>
                      <a:cubicBezTo>
                        <a:pt x="392" y="248"/>
                        <a:pt x="400" y="192"/>
                        <a:pt x="384" y="152"/>
                      </a:cubicBezTo>
                      <a:cubicBezTo>
                        <a:pt x="368" y="112"/>
                        <a:pt x="312" y="8"/>
                        <a:pt x="288" y="8"/>
                      </a:cubicBezTo>
                      <a:cubicBezTo>
                        <a:pt x="264" y="8"/>
                        <a:pt x="240" y="112"/>
                        <a:pt x="240" y="152"/>
                      </a:cubicBezTo>
                      <a:cubicBezTo>
                        <a:pt x="240" y="192"/>
                        <a:pt x="280" y="256"/>
                        <a:pt x="288" y="248"/>
                      </a:cubicBezTo>
                      <a:cubicBezTo>
                        <a:pt x="296" y="240"/>
                        <a:pt x="304" y="144"/>
                        <a:pt x="288" y="104"/>
                      </a:cubicBezTo>
                      <a:cubicBezTo>
                        <a:pt x="272" y="64"/>
                        <a:pt x="216" y="0"/>
                        <a:pt x="192" y="8"/>
                      </a:cubicBezTo>
                      <a:cubicBezTo>
                        <a:pt x="168" y="16"/>
                        <a:pt x="144" y="112"/>
                        <a:pt x="144" y="152"/>
                      </a:cubicBezTo>
                      <a:cubicBezTo>
                        <a:pt x="144" y="192"/>
                        <a:pt x="184" y="256"/>
                        <a:pt x="192" y="248"/>
                      </a:cubicBezTo>
                      <a:cubicBezTo>
                        <a:pt x="200" y="240"/>
                        <a:pt x="208" y="144"/>
                        <a:pt x="192" y="104"/>
                      </a:cubicBezTo>
                      <a:cubicBezTo>
                        <a:pt x="176" y="64"/>
                        <a:pt x="128" y="0"/>
                        <a:pt x="96" y="8"/>
                      </a:cubicBezTo>
                      <a:cubicBezTo>
                        <a:pt x="64" y="16"/>
                        <a:pt x="32" y="84"/>
                        <a:pt x="0" y="152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4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5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6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7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138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aphicFrame>
          <p:nvGraphicFramePr>
            <p:cNvPr id="140" name="Object 3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1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2" name="Text Box 31"/>
          <p:cNvSpPr/>
          <p:nvPr/>
        </p:nvSpPr>
        <p:spPr>
          <a:xfrm>
            <a:off x="752328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143" name="Group 33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44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5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6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7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8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49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50" name="Text Box 32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dc:language>en-US</dc:language>
  <cp:lastModifiedBy>kwiat</cp:lastModifiedBy>
  <cp:lastPrinted>2014-10-29T13:41:25Z</cp:lastPrinted>
  <dcterms:modified xsi:type="dcterms:W3CDTF">2015-02-20T15:41:54Z</dcterms:modified>
  <cp:revision>33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