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A202AC-8F43-4A77-BE9F-9ADE286A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9CB11F66-C073-4770-9974-8276646889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Font typeface="Monotype Sort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7ADC3E7-5C6D-4A0E-920C-9492032E4A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5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3" name="Group 67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4" name="Oval 40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5" name="Rectangle 41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6" name="Rectangle 42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7" name="Rectangle 43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8" name="Rectangle 44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89" name="Oval 45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0" name="Oval 46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1" name="Oval 47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2" name="Oval 48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3" name="Oval 49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4" name="Oval 50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5" name="Oval 51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6" name="Oval 52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7" name="Oval 53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8" name="Oval 54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99" name="Oval 55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0" name="Oval 56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1" name="Oval 57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2" name="Oval 58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3" name="Oval 59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4" name="Oval 60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5" name="Oval 61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06" name="Oval 62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grpSp>
            <p:nvGrpSpPr>
              <p:cNvPr id="107" name="Group 66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08" name="Line 63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64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65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Group 74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2" name="Group 70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3" name="Rectangle 68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69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00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71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6" name="Line 72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17" name="Line 73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18" name="Object 79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83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1" name="Rectangle 86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3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4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Rectangle 6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43" name="Object 8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5" name="Group 43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6" name="Oval 11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7" name="Oval 9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48" name="Line 10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0" name="Oval 16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aphicFrame>
        <p:nvGraphicFramePr>
          <p:cNvPr id="255" name="Object 25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7" name="Text Box 46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58" name="Object 47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0" name="Rectangle 42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630360" y="5759280"/>
            <a:ext cx="8707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72" name="Group 54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3" name="Rectangle 6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274" name="Group 50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5" name="Rectangle 5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6" name="Rectangle 7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77" name="Rectangle 8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4" name="Oval 13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5" name="Oval 14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6" name="Oval 15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7" name="Oval 16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8" name="Oval 17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89" name="Oval 18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0" name="Oval 19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1" name="Oval 20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2" name="Oval 21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3" name="Oval 22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4" name="Oval 23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5" name="Oval 24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6" name="Oval 25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297" name="Oval 26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8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299" name="Line 29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0" name="Line 30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301" name="Line 31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34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6" name="Text Box 45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7" name="Text Box 52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308" name="Rectangle 53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309" name="Text Box 55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0" name="Line 56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1" name="Line 14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2" name="Line 15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6920" y="1294920"/>
            <a:ext cx="67453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Volum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Press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emperature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ant Thermal Energ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0" name="Oval 7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33" name="Rectangle 12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134" name="Group 60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5" name="Oval 11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grpSp>
        <p:nvGrpSpPr>
          <p:cNvPr id="138" name="Group 63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39" name="Rectangle 19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3" name="Rectangle 37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8" name="Rectangle 56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69" name="Rectangle 57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0" name="Text Box 58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  <p:sp>
        <p:nvSpPr>
          <p:cNvPr id="171" name="Rectangle 59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72" name="Rectangle 64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ntro.chem.okstate.edu/1314F00/Laboratory/GLP.htm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Line 5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grpSp>
          <p:nvGrpSpPr>
            <p:cNvPr id="180" name="Group 7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Line 8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9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00"/>
              </a:solidFill>
              <a:latin typeface="Arial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6" name="Oval 17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5-02-19T15:53:15Z</dcterms:modified>
  <cp:revision>34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