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F8AB60A-974F-40DB-934C-24326808A8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0316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48160974-0CD9-417E-8267-74505381DD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7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8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60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2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1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2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8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3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3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3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3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2-01T14:47:04Z</cp:lastPrinted>
  <dcterms:modified xsi:type="dcterms:W3CDTF">2015-02-20T20:55:04Z</dcterms:modified>
  <cp:revision>37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