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3018240" y="9147240"/>
            <a:ext cx="12805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BE7B12E-5674-4BE3-B215-CB74F1531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ic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y”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p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ot air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LN2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Dry ice 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e/N2 whis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Fir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ntro.chem.okstate.edu/1314F00/Laboratory/GL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This is sometimes important, when the interaction of one component of a gas depends 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only on the pressure of that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liter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atm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4 p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m alpha-ideal gas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How cold can you get?  &lt; 100pK pres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ycle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-starter demo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ilberforce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omputer demo – start with all he. Add one Neon. Although it moves more slowly, the mass makes up for it, so that the average energy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Hot air balloon: constant P, increase 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rease V, lower rho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uy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sk what’s changing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N cannon is not due to the gas heating up, but the change in state – N is chang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8062920" y="6632640"/>
            <a:ext cx="1081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 </a:t>
            </a:r>
            <a:fld id="{E26037F1-3A29-4688-9761-EF76EFD2793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Font typeface="Monotype Sort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6B7ED83D-29CB-4970-B31A-1C60B91D4C6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75"/>
          <p:cNvGrpSpPr/>
          <p:nvPr/>
        </p:nvGrpSpPr>
        <p:grpSpPr>
          <a:xfrm>
            <a:off x="6280200" y="1479600"/>
            <a:ext cx="1809720" cy="2155680"/>
            <a:chOff x="6280200" y="1479600"/>
            <a:chExt cx="1809720" cy="2155680"/>
          </a:xfrm>
        </p:grpSpPr>
        <p:grpSp>
          <p:nvGrpSpPr>
            <p:cNvPr id="83" name="Group 67"/>
            <p:cNvGrpSpPr/>
            <p:nvPr/>
          </p:nvGrpSpPr>
          <p:grpSpPr>
            <a:xfrm>
              <a:off x="6513480" y="1479600"/>
              <a:ext cx="1413000" cy="1341360"/>
              <a:chOff x="6513480" y="1479600"/>
              <a:chExt cx="1413000" cy="1341360"/>
            </a:xfrm>
          </p:grpSpPr>
          <p:sp>
            <p:nvSpPr>
              <p:cNvPr id="84" name="Oval 40"/>
              <p:cNvSpPr/>
              <p:nvPr/>
            </p:nvSpPr>
            <p:spPr>
              <a:xfrm>
                <a:off x="6932880" y="243504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5" name="Rectangle 41"/>
              <p:cNvSpPr/>
              <p:nvPr/>
            </p:nvSpPr>
            <p:spPr>
              <a:xfrm>
                <a:off x="6518520" y="157932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6" name="Rectangle 42"/>
              <p:cNvSpPr/>
              <p:nvPr/>
            </p:nvSpPr>
            <p:spPr>
              <a:xfrm>
                <a:off x="6645240" y="1785960"/>
                <a:ext cx="1157400" cy="187200"/>
              </a:xfrm>
              <a:prstGeom prst="rect">
                <a:avLst/>
              </a:prstGeom>
              <a:solidFill>
                <a:srgbClr val="7144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7" name="Rectangle 43"/>
              <p:cNvSpPr/>
              <p:nvPr/>
            </p:nvSpPr>
            <p:spPr>
              <a:xfrm>
                <a:off x="6513480" y="2762280"/>
                <a:ext cx="1378080" cy="5868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8" name="Rectangle 44"/>
              <p:cNvSpPr/>
              <p:nvPr/>
            </p:nvSpPr>
            <p:spPr>
              <a:xfrm>
                <a:off x="7829640" y="158580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9" name="Oval 45"/>
              <p:cNvSpPr/>
              <p:nvPr/>
            </p:nvSpPr>
            <p:spPr>
              <a:xfrm>
                <a:off x="7077240" y="253836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0" name="Oval 46"/>
              <p:cNvSpPr/>
              <p:nvPr/>
            </p:nvSpPr>
            <p:spPr>
              <a:xfrm>
                <a:off x="7243920" y="235584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1" name="Oval 47"/>
              <p:cNvSpPr/>
              <p:nvPr/>
            </p:nvSpPr>
            <p:spPr>
              <a:xfrm>
                <a:off x="6932880" y="21780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2" name="Oval 48"/>
              <p:cNvSpPr/>
              <p:nvPr/>
            </p:nvSpPr>
            <p:spPr>
              <a:xfrm>
                <a:off x="7077240" y="228132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3" name="Oval 49"/>
              <p:cNvSpPr/>
              <p:nvPr/>
            </p:nvSpPr>
            <p:spPr>
              <a:xfrm>
                <a:off x="7243920" y="209700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4" name="Oval 50"/>
              <p:cNvSpPr/>
              <p:nvPr/>
            </p:nvSpPr>
            <p:spPr>
              <a:xfrm>
                <a:off x="7294680" y="24876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5" name="Oval 51"/>
              <p:cNvSpPr/>
              <p:nvPr/>
            </p:nvSpPr>
            <p:spPr>
              <a:xfrm>
                <a:off x="7439040" y="2590560"/>
                <a:ext cx="6984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6" name="Oval 52"/>
              <p:cNvSpPr/>
              <p:nvPr/>
            </p:nvSpPr>
            <p:spPr>
              <a:xfrm>
                <a:off x="7605720" y="2408040"/>
                <a:ext cx="6840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880" bIns="-1188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7" name="Oval 53"/>
              <p:cNvSpPr/>
              <p:nvPr/>
            </p:nvSpPr>
            <p:spPr>
              <a:xfrm>
                <a:off x="7388280" y="220176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8" name="Oval 54"/>
              <p:cNvSpPr/>
              <p:nvPr/>
            </p:nvSpPr>
            <p:spPr>
              <a:xfrm>
                <a:off x="7533000" y="23050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9" name="Oval 55"/>
              <p:cNvSpPr/>
              <p:nvPr/>
            </p:nvSpPr>
            <p:spPr>
              <a:xfrm>
                <a:off x="753300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0" name="Oval 56"/>
              <p:cNvSpPr/>
              <p:nvPr/>
            </p:nvSpPr>
            <p:spPr>
              <a:xfrm>
                <a:off x="6737400" y="251136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1" name="Oval 57"/>
              <p:cNvSpPr/>
              <p:nvPr/>
            </p:nvSpPr>
            <p:spPr>
              <a:xfrm>
                <a:off x="6882120" y="2614680"/>
                <a:ext cx="680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2" name="Oval 58"/>
              <p:cNvSpPr/>
              <p:nvPr/>
            </p:nvSpPr>
            <p:spPr>
              <a:xfrm>
                <a:off x="6737400" y="204624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3" name="Oval 59"/>
              <p:cNvSpPr/>
              <p:nvPr/>
            </p:nvSpPr>
            <p:spPr>
              <a:xfrm>
                <a:off x="6809040" y="225252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4" name="Oval 60"/>
              <p:cNvSpPr/>
              <p:nvPr/>
            </p:nvSpPr>
            <p:spPr>
              <a:xfrm>
                <a:off x="7170840" y="2665440"/>
                <a:ext cx="69840" cy="489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5" name="Oval 61"/>
              <p:cNvSpPr/>
              <p:nvPr/>
            </p:nvSpPr>
            <p:spPr>
              <a:xfrm>
                <a:off x="7677360" y="26146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6" name="Oval 62"/>
              <p:cNvSpPr/>
              <p:nvPr/>
            </p:nvSpPr>
            <p:spPr>
              <a:xfrm>
                <a:off x="702648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grpSp>
            <p:nvGrpSpPr>
              <p:cNvPr id="107" name="Group 66"/>
              <p:cNvGrpSpPr/>
              <p:nvPr/>
            </p:nvGrpSpPr>
            <p:grpSpPr>
              <a:xfrm>
                <a:off x="7004160" y="1479600"/>
                <a:ext cx="433440" cy="309600"/>
                <a:chOff x="7004160" y="1479600"/>
                <a:chExt cx="433440" cy="309600"/>
              </a:xfrm>
            </p:grpSpPr>
            <p:sp>
              <p:nvSpPr>
                <p:cNvPr id="108" name="Line 63"/>
                <p:cNvSpPr/>
                <p:nvPr/>
              </p:nvSpPr>
              <p:spPr>
                <a:xfrm>
                  <a:off x="7221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09" name="Line 64"/>
                <p:cNvSpPr/>
                <p:nvPr/>
              </p:nvSpPr>
              <p:spPr>
                <a:xfrm>
                  <a:off x="700416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10" name="Line 65"/>
                <p:cNvSpPr/>
                <p:nvPr/>
              </p:nvSpPr>
              <p:spPr>
                <a:xfrm>
                  <a:off x="7437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" name="Group 74"/>
            <p:cNvGrpSpPr/>
            <p:nvPr/>
          </p:nvGrpSpPr>
          <p:grpSpPr>
            <a:xfrm>
              <a:off x="6280200" y="2835360"/>
              <a:ext cx="1809720" cy="799920"/>
              <a:chOff x="6280200" y="2835360"/>
              <a:chExt cx="1809720" cy="799920"/>
            </a:xfrm>
          </p:grpSpPr>
          <p:grpSp>
            <p:nvGrpSpPr>
              <p:cNvPr id="112" name="Group 70"/>
              <p:cNvGrpSpPr/>
              <p:nvPr/>
            </p:nvGrpSpPr>
            <p:grpSpPr>
              <a:xfrm>
                <a:off x="6280200" y="3197160"/>
                <a:ext cx="1809720" cy="438120"/>
                <a:chOff x="6280200" y="3197160"/>
                <a:chExt cx="1809720" cy="438120"/>
              </a:xfrm>
            </p:grpSpPr>
            <p:sp>
              <p:nvSpPr>
                <p:cNvPr id="113" name="Rectangle 68"/>
                <p:cNvSpPr/>
                <p:nvPr/>
              </p:nvSpPr>
              <p:spPr>
                <a:xfrm>
                  <a:off x="6280200" y="3197160"/>
                  <a:ext cx="1809720" cy="20628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14" name="Rectangle 69"/>
                <p:cNvSpPr/>
                <p:nvPr/>
              </p:nvSpPr>
              <p:spPr>
                <a:xfrm>
                  <a:off x="6280200" y="3251160"/>
                  <a:ext cx="1809720" cy="38412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6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hermal reservoir</a:t>
                  </a:r>
                  <a:endParaRPr b="0" lang="en-US" sz="16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71"/>
              <p:cNvSpPr/>
              <p:nvPr/>
            </p:nvSpPr>
            <p:spPr>
              <a:xfrm>
                <a:off x="722160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16" name="Line 72"/>
              <p:cNvSpPr/>
              <p:nvPr/>
            </p:nvSpPr>
            <p:spPr>
              <a:xfrm>
                <a:off x="700416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17" name="Line 73"/>
              <p:cNvSpPr/>
              <p:nvPr/>
            </p:nvSpPr>
            <p:spPr>
              <a:xfrm>
                <a:off x="743904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18" name="Object 79"/>
          <p:cNvGraphicFramePr/>
          <p:nvPr/>
        </p:nvGraphicFramePr>
        <p:xfrm>
          <a:off x="5295960" y="3848040"/>
          <a:ext cx="328752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3848040"/>
                    <a:ext cx="328752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83"/>
          <p:cNvSpPr/>
          <p:nvPr/>
        </p:nvSpPr>
        <p:spPr>
          <a:xfrm>
            <a:off x="507960" y="1700280"/>
            <a:ext cx="464184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artition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aw of Thermodynamics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ternal energy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1" name="Rectangle 86"/>
          <p:cNvSpPr/>
          <p:nvPr/>
        </p:nvSpPr>
        <p:spPr>
          <a:xfrm>
            <a:off x="1419120" y="65160"/>
            <a:ext cx="6299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2: Ideal Gase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2" name="Rectangle 89"/>
          <p:cNvSpPr/>
          <p:nvPr/>
        </p:nvSpPr>
        <p:spPr>
          <a:xfrm>
            <a:off x="351000" y="6022800"/>
            <a:ext cx="4641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: Elements Ch. 3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Object 2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Rectangle 3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1078560" y="66600"/>
            <a:ext cx="690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 Ideal gas behavior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264960" y="61920"/>
            <a:ext cx="85978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alton’s Law of Partial Pressure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or Ideal Gase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524160" y="1274760"/>
            <a:ext cx="809784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derivation of pV=NkT, we never assumed that the molecul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re all the same.  All we used was equipartition and that the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n’t interact muc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is the total number of molecules in the gas, independent of type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p is proportional to N, if a gas has multiple component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ressure is the sum of the individual partial pressures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 where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T / V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ir is 78%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by number of molecules, not by mass), so the partial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 of the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0.78 atmospher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258480" y="5592600"/>
            <a:ext cx="834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Dalton’s law does not hold for internal energy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energy per molecule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do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 on the type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per molecule is proportional to the number of energy mod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65160"/>
            <a:ext cx="741852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Avogadro Constant, N</a:t>
            </a:r>
            <a:r>
              <a:rPr b="0" lang="en-US" sz="4000" spc="-1" strike="noStrike" baseline="-25000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nd the Gas Constant, R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64920" y="1487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metimes it is useful to specify the number of mo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stead of the number of atoms or molecu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deal gas law can be written in terms o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V = NkT = n(N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)T = nR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 N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gas constant = 8.314 J/mol-K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mole of an ideal gas at atmospheric pressure and 0º C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 = 0º C = 273 K, and p = 1 atm = 1.0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P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30" name="Object 6"/>
          <p:cNvGraphicFramePr/>
          <p:nvPr/>
        </p:nvGraphicFramePr>
        <p:xfrm>
          <a:off x="1359000" y="2205000"/>
          <a:ext cx="122868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2205000"/>
                    <a:ext cx="12286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Rectangle 7"/>
          <p:cNvSpPr/>
          <p:nvPr/>
        </p:nvSpPr>
        <p:spPr>
          <a:xfrm>
            <a:off x="2994480" y="2182680"/>
            <a:ext cx="4148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6.022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/mole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vogadro const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33" name="Object 8"/>
          <p:cNvGraphicFramePr/>
          <p:nvPr/>
        </p:nvGraphicFramePr>
        <p:xfrm>
          <a:off x="1373040" y="5500800"/>
          <a:ext cx="534672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3040" y="5500800"/>
                    <a:ext cx="534672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Rectangle 14"/>
          <p:cNvSpPr/>
          <p:nvPr/>
        </p:nvSpPr>
        <p:spPr>
          <a:xfrm>
            <a:off x="1130400" y="9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450720" y="1149480"/>
            <a:ext cx="8237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Equipartition applies: U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k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that the molecules interact very weakly (no liquids or solids)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constant over limited ranges of temperatures (cf Elements, Ch. 3C)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1089000" y="260280"/>
            <a:ext cx="6988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Classical Ideal Ga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8" name="Rectangle 30"/>
          <p:cNvSpPr/>
          <p:nvPr/>
        </p:nvSpPr>
        <p:spPr>
          <a:xfrm>
            <a:off x="6286680" y="1910520"/>
            <a:ext cx="1736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At room temperature, </a:t>
            </a:r>
            <a:br>
              <a:rPr sz="1200"/>
            </a:b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for most gases</a:t>
            </a:r>
            <a:r>
              <a:rPr b="1" i="1" lang="en-US" sz="9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9" name="Oval 4"/>
          <p:cNvSpPr/>
          <p:nvPr/>
        </p:nvSpPr>
        <p:spPr>
          <a:xfrm>
            <a:off x="565200" y="2538360"/>
            <a:ext cx="296640" cy="290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40" name="Object 5"/>
          <p:cNvGraphicFramePr/>
          <p:nvPr/>
        </p:nvGraphicFramePr>
        <p:xfrm>
          <a:off x="6421320" y="2527200"/>
          <a:ext cx="113832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1320" y="2527200"/>
                    <a:ext cx="1138320" cy="378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2" name="Rectangle 6"/>
          <p:cNvSpPr/>
          <p:nvPr/>
        </p:nvSpPr>
        <p:spPr>
          <a:xfrm>
            <a:off x="1472760" y="2433600"/>
            <a:ext cx="4401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tomic 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He, Ne, Ar, …)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CO, …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2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linear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N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…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3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classical ideal gas: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pends on the type of molecule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43" name="Object 8"/>
          <p:cNvGraphicFramePr/>
          <p:nvPr/>
        </p:nvGraphicFramePr>
        <p:xfrm>
          <a:off x="6421320" y="3511440"/>
          <a:ext cx="10890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1320" y="3511440"/>
                    <a:ext cx="1089000" cy="385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45" name="Group 43"/>
          <p:cNvGrpSpPr/>
          <p:nvPr/>
        </p:nvGrpSpPr>
        <p:grpSpPr>
          <a:xfrm>
            <a:off x="398520" y="3554280"/>
            <a:ext cx="742680" cy="290520"/>
            <a:chOff x="398520" y="3554280"/>
            <a:chExt cx="742680" cy="290520"/>
          </a:xfrm>
        </p:grpSpPr>
        <p:sp>
          <p:nvSpPr>
            <p:cNvPr id="246" name="Oval 11"/>
            <p:cNvSpPr/>
            <p:nvPr/>
          </p:nvSpPr>
          <p:spPr>
            <a:xfrm>
              <a:off x="39852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47" name="Oval 9"/>
            <p:cNvSpPr/>
            <p:nvPr/>
          </p:nvSpPr>
          <p:spPr>
            <a:xfrm>
              <a:off x="84420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48" name="Line 10"/>
            <p:cNvSpPr/>
            <p:nvPr/>
          </p:nvSpPr>
          <p:spPr>
            <a:xfrm>
              <a:off x="545400" y="3699360"/>
              <a:ext cx="44568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grpSp>
        <p:nvGrpSpPr>
          <p:cNvPr id="249" name="Group 32"/>
          <p:cNvGrpSpPr/>
          <p:nvPr/>
        </p:nvGrpSpPr>
        <p:grpSpPr>
          <a:xfrm>
            <a:off x="425520" y="4606920"/>
            <a:ext cx="742680" cy="651960"/>
            <a:chOff x="425520" y="4606920"/>
            <a:chExt cx="742680" cy="651960"/>
          </a:xfrm>
        </p:grpSpPr>
        <p:sp>
          <p:nvSpPr>
            <p:cNvPr id="250" name="Oval 16"/>
            <p:cNvSpPr/>
            <p:nvPr/>
          </p:nvSpPr>
          <p:spPr>
            <a:xfrm>
              <a:off x="42552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51" name="Oval 17"/>
            <p:cNvSpPr/>
            <p:nvPr/>
          </p:nvSpPr>
          <p:spPr>
            <a:xfrm>
              <a:off x="87120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648360" y="4969440"/>
              <a:ext cx="297000" cy="2894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53" name="Line 20"/>
            <p:cNvSpPr/>
            <p:nvPr/>
          </p:nvSpPr>
          <p:spPr>
            <a:xfrm>
              <a:off x="57420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54" name="Line 21"/>
            <p:cNvSpPr/>
            <p:nvPr/>
          </p:nvSpPr>
          <p:spPr>
            <a:xfrm flipV="1">
              <a:off x="79704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graphicFrame>
        <p:nvGraphicFramePr>
          <p:cNvPr id="255" name="Object 25"/>
          <p:cNvGraphicFramePr/>
          <p:nvPr/>
        </p:nvGraphicFramePr>
        <p:xfrm>
          <a:off x="6421320" y="4614840"/>
          <a:ext cx="100188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Object 2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1320" y="4614840"/>
                    <a:ext cx="1001880" cy="311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7" name="Text Box 46"/>
          <p:cNvSpPr/>
          <p:nvPr/>
        </p:nvSpPr>
        <p:spPr>
          <a:xfrm>
            <a:off x="455760" y="6448320"/>
            <a:ext cx="731016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se relations for ideal gases only apply in some ranges of T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58" name="Object 47"/>
          <p:cNvGraphicFramePr/>
          <p:nvPr/>
        </p:nvGraphicFramePr>
        <p:xfrm>
          <a:off x="6423120" y="5719680"/>
          <a:ext cx="171108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9" name="Object 4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3120" y="5719680"/>
                    <a:ext cx="1711080" cy="355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61960" y="65160"/>
            <a:ext cx="82123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318960" y="65160"/>
            <a:ext cx="8804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Kinetic Energy of a Ga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601200" y="1065240"/>
            <a:ext cx="8101080" cy="23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879480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hanging the Internal Energ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3059280" y="2892600"/>
            <a:ext cx="57290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a “state” function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 depends only on the sta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system (that is, on 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, V,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, etc.) </a:t>
            </a:r>
            <a:br>
              <a:rPr sz="1800"/>
            </a:b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does not depend on the history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are “process” energi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They only tell you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out the flow of energy, not how much there is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depend on the history of the system,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it evolves from one state to another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70" name="Rectangle 42"/>
          <p:cNvSpPr/>
          <p:nvPr/>
        </p:nvSpPr>
        <p:spPr>
          <a:xfrm>
            <a:off x="510840" y="1081080"/>
            <a:ext cx="75949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are two simple ways to change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ternal energy (U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a system: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the environment d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ork (W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 the syste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at (Q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low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o the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environment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71" name="Text Box 44"/>
          <p:cNvSpPr/>
          <p:nvPr/>
        </p:nvSpPr>
        <p:spPr>
          <a:xfrm>
            <a:off x="630360" y="5759280"/>
            <a:ext cx="870732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menclature: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One can also talk about work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he system on the environment: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-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Be careful abou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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igns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expands; 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is compressed.</a:t>
            </a:r>
            <a:br>
              <a:rPr sz="1600"/>
            </a:b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272" name="Group 54"/>
          <p:cNvGrpSpPr/>
          <p:nvPr/>
        </p:nvGrpSpPr>
        <p:grpSpPr>
          <a:xfrm>
            <a:off x="1041480" y="2311560"/>
            <a:ext cx="2035080" cy="3224160"/>
            <a:chOff x="1041480" y="2311560"/>
            <a:chExt cx="2035080" cy="3224160"/>
          </a:xfrm>
        </p:grpSpPr>
        <p:sp>
          <p:nvSpPr>
            <p:cNvPr id="273" name="Rectangle 6"/>
            <p:cNvSpPr/>
            <p:nvPr/>
          </p:nvSpPr>
          <p:spPr>
            <a:xfrm>
              <a:off x="1290600" y="3273120"/>
              <a:ext cx="1219320" cy="276120"/>
            </a:xfrm>
            <a:prstGeom prst="rect">
              <a:avLst/>
            </a:prstGeom>
            <a:solidFill>
              <a:srgbClr val="7144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274" name="Group 50"/>
            <p:cNvGrpSpPr/>
            <p:nvPr/>
          </p:nvGrpSpPr>
          <p:grpSpPr>
            <a:xfrm>
              <a:off x="1152720" y="2968560"/>
              <a:ext cx="1487520" cy="1829520"/>
              <a:chOff x="1152720" y="2968560"/>
              <a:chExt cx="1487520" cy="1829520"/>
            </a:xfrm>
          </p:grpSpPr>
          <p:sp>
            <p:nvSpPr>
              <p:cNvPr id="275" name="Rectangle 5"/>
              <p:cNvSpPr/>
              <p:nvPr/>
            </p:nvSpPr>
            <p:spPr>
              <a:xfrm>
                <a:off x="1157400" y="2968560"/>
                <a:ext cx="10152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76" name="Rectangle 7"/>
              <p:cNvSpPr/>
              <p:nvPr/>
            </p:nvSpPr>
            <p:spPr>
              <a:xfrm>
                <a:off x="1152720" y="4711320"/>
                <a:ext cx="1450800" cy="867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77" name="Rectangle 8"/>
              <p:cNvSpPr/>
              <p:nvPr/>
            </p:nvSpPr>
            <p:spPr>
              <a:xfrm>
                <a:off x="2538360" y="2977560"/>
                <a:ext cx="10188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278" name="Group 49"/>
            <p:cNvGrpSpPr/>
            <p:nvPr/>
          </p:nvGrpSpPr>
          <p:grpSpPr>
            <a:xfrm>
              <a:off x="1387440" y="3655800"/>
              <a:ext cx="1063800" cy="986760"/>
              <a:chOff x="1387440" y="3655800"/>
              <a:chExt cx="1063800" cy="986760"/>
            </a:xfrm>
          </p:grpSpPr>
          <p:sp>
            <p:nvSpPr>
              <p:cNvPr id="279" name="Oval 4"/>
              <p:cNvSpPr/>
              <p:nvPr/>
            </p:nvSpPr>
            <p:spPr>
              <a:xfrm>
                <a:off x="1594080" y="4230360"/>
                <a:ext cx="7272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0" name="Oval 9"/>
              <p:cNvSpPr/>
              <p:nvPr/>
            </p:nvSpPr>
            <p:spPr>
              <a:xfrm>
                <a:off x="1746360" y="438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1" name="Oval 10"/>
              <p:cNvSpPr/>
              <p:nvPr/>
            </p:nvSpPr>
            <p:spPr>
              <a:xfrm>
                <a:off x="1920960" y="411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2" name="Oval 11"/>
              <p:cNvSpPr/>
              <p:nvPr/>
            </p:nvSpPr>
            <p:spPr>
              <a:xfrm>
                <a:off x="1594080" y="3849120"/>
                <a:ext cx="7272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3" name="Oval 12"/>
              <p:cNvSpPr/>
              <p:nvPr/>
            </p:nvSpPr>
            <p:spPr>
              <a:xfrm>
                <a:off x="1746360" y="40017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4" name="Oval 13"/>
              <p:cNvSpPr/>
              <p:nvPr/>
            </p:nvSpPr>
            <p:spPr>
              <a:xfrm>
                <a:off x="1920960" y="37317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5" name="Oval 14"/>
              <p:cNvSpPr/>
              <p:nvPr/>
            </p:nvSpPr>
            <p:spPr>
              <a:xfrm>
                <a:off x="1974960" y="430632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6" name="Oval 15"/>
              <p:cNvSpPr/>
              <p:nvPr/>
            </p:nvSpPr>
            <p:spPr>
              <a:xfrm>
                <a:off x="2127240" y="44589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7" name="Oval 16"/>
              <p:cNvSpPr/>
              <p:nvPr/>
            </p:nvSpPr>
            <p:spPr>
              <a:xfrm>
                <a:off x="2301840" y="41889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8" name="Oval 17"/>
              <p:cNvSpPr/>
              <p:nvPr/>
            </p:nvSpPr>
            <p:spPr>
              <a:xfrm>
                <a:off x="2073240" y="38840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9" name="Oval 18"/>
              <p:cNvSpPr/>
              <p:nvPr/>
            </p:nvSpPr>
            <p:spPr>
              <a:xfrm>
                <a:off x="2225880" y="40366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90" name="Oval 19"/>
              <p:cNvSpPr/>
              <p:nvPr/>
            </p:nvSpPr>
            <p:spPr>
              <a:xfrm>
                <a:off x="222588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91" name="Oval 20"/>
              <p:cNvSpPr/>
              <p:nvPr/>
            </p:nvSpPr>
            <p:spPr>
              <a:xfrm>
                <a:off x="1387440" y="43412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92" name="Oval 21"/>
              <p:cNvSpPr/>
              <p:nvPr/>
            </p:nvSpPr>
            <p:spPr>
              <a:xfrm>
                <a:off x="154008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93" name="Oval 22"/>
              <p:cNvSpPr/>
              <p:nvPr/>
            </p:nvSpPr>
            <p:spPr>
              <a:xfrm>
                <a:off x="138744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94" name="Oval 23"/>
              <p:cNvSpPr/>
              <p:nvPr/>
            </p:nvSpPr>
            <p:spPr>
              <a:xfrm>
                <a:off x="1463760" y="39603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95" name="Oval 24"/>
              <p:cNvSpPr/>
              <p:nvPr/>
            </p:nvSpPr>
            <p:spPr>
              <a:xfrm>
                <a:off x="1844640" y="45698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96" name="Oval 25"/>
              <p:cNvSpPr/>
              <p:nvPr/>
            </p:nvSpPr>
            <p:spPr>
              <a:xfrm>
                <a:off x="237816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97" name="Oval 26"/>
              <p:cNvSpPr/>
              <p:nvPr/>
            </p:nvSpPr>
            <p:spPr>
              <a:xfrm>
                <a:off x="169236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298" name="Group 48"/>
            <p:cNvGrpSpPr/>
            <p:nvPr/>
          </p:nvGrpSpPr>
          <p:grpSpPr>
            <a:xfrm>
              <a:off x="1613160" y="2788920"/>
              <a:ext cx="465120" cy="456840"/>
              <a:chOff x="1613160" y="2788920"/>
              <a:chExt cx="465120" cy="456840"/>
            </a:xfrm>
          </p:grpSpPr>
          <p:sp>
            <p:nvSpPr>
              <p:cNvPr id="299" name="Line 29"/>
              <p:cNvSpPr/>
              <p:nvPr/>
            </p:nvSpPr>
            <p:spPr>
              <a:xfrm flipV="1">
                <a:off x="184464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00" name="Line 30"/>
              <p:cNvSpPr/>
              <p:nvPr/>
            </p:nvSpPr>
            <p:spPr>
              <a:xfrm flipV="1">
                <a:off x="161316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01" name="Line 31"/>
              <p:cNvSpPr/>
              <p:nvPr/>
            </p:nvSpPr>
            <p:spPr>
              <a:xfrm flipV="1">
                <a:off x="207828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sp>
          <p:nvSpPr>
            <p:cNvPr id="302" name="Rectangle 34"/>
            <p:cNvSpPr/>
            <p:nvPr/>
          </p:nvSpPr>
          <p:spPr>
            <a:xfrm>
              <a:off x="1041480" y="5297400"/>
              <a:ext cx="2035080" cy="238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ermal reservoir</a:t>
              </a:r>
              <a:endParaRPr b="0" lang="en-US" sz="16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03" name="Line 36"/>
            <p:cNvSpPr/>
            <p:nvPr/>
          </p:nvSpPr>
          <p:spPr>
            <a:xfrm>
              <a:off x="19130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04" name="Line 37"/>
            <p:cNvSpPr/>
            <p:nvPr/>
          </p:nvSpPr>
          <p:spPr>
            <a:xfrm>
              <a:off x="16844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05" name="Line 38"/>
            <p:cNvSpPr/>
            <p:nvPr/>
          </p:nvSpPr>
          <p:spPr>
            <a:xfrm>
              <a:off x="21416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06" name="Text Box 45"/>
            <p:cNvSpPr/>
            <p:nvPr/>
          </p:nvSpPr>
          <p:spPr>
            <a:xfrm>
              <a:off x="1077840" y="487512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07" name="Text Box 52"/>
            <p:cNvSpPr/>
            <p:nvPr/>
          </p:nvSpPr>
          <p:spPr>
            <a:xfrm>
              <a:off x="1576080" y="2311560"/>
              <a:ext cx="58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on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08" name="Rectangle 53"/>
            <p:cNvSpPr/>
            <p:nvPr/>
          </p:nvSpPr>
          <p:spPr>
            <a:xfrm>
              <a:off x="2124000" y="3695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309" name="Text Box 55"/>
          <p:cNvSpPr/>
          <p:nvPr/>
        </p:nvSpPr>
        <p:spPr>
          <a:xfrm>
            <a:off x="255960" y="31669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abl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ston</a:t>
            </a:r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0" name="Line 56"/>
          <p:cNvSpPr/>
          <p:nvPr/>
        </p:nvSpPr>
        <p:spPr>
          <a:xfrm>
            <a:off x="1038240" y="3419640"/>
            <a:ext cx="412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-268560" y="74520"/>
            <a:ext cx="9673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&amp;  Absolute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622440" y="950760"/>
            <a:ext cx="799920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of the principal aims of this course is to gain a generally applicable definition of absolute temperature from statistical mechanics (counting)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ow: absolute temperature T is proportional to the average translational kinetic energy of a particle in a gas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K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ra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gt; = constant  x T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fact, each independent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quadrati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rm in the energy of a particle in the gas  (e.g., ½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ut not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found to have the average energy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lt;Energy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od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= ½ k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partition Theorem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= Boltzmann constant = 1.38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/K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independent of the particle’s properties (mass, charg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828800" y="5337000"/>
            <a:ext cx="53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930240" y="5770440"/>
            <a:ext cx="67708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will show later why and when this theorem appli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1046160" y="4357800"/>
            <a:ext cx="608472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2139840" y="10843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s conserved !!!</a:t>
            </a:r>
            <a:endParaRPr b="0" lang="en-US" sz="2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90520" y="65160"/>
            <a:ext cx="8569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First Law of Thermodynamics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2779560" y="2004840"/>
            <a:ext cx="3710160" cy="64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+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5605560" y="319896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done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the system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1486080" y="315612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internal energy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3774960" y="318456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added          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ystem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9" name="Line 8"/>
          <p:cNvSpPr/>
          <p:nvPr/>
        </p:nvSpPr>
        <p:spPr>
          <a:xfrm>
            <a:off x="4657680" y="267660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2982960" y="4206960"/>
            <a:ext cx="33274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: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-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1" name="Line 14"/>
          <p:cNvSpPr/>
          <p:nvPr/>
        </p:nvSpPr>
        <p:spPr>
          <a:xfrm>
            <a:off x="3314880" y="2679840"/>
            <a:ext cx="288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2" name="Line 15"/>
          <p:cNvSpPr/>
          <p:nvPr/>
        </p:nvSpPr>
        <p:spPr>
          <a:xfrm>
            <a:off x="5916600" y="267984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3" name="Text Box 16"/>
          <p:cNvSpPr/>
          <p:nvPr/>
        </p:nvSpPr>
        <p:spPr>
          <a:xfrm>
            <a:off x="1356120" y="5645160"/>
            <a:ext cx="6304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For the rest of the course, unless explicitly stated, we will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gnore K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only consider internal energy that does not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ribute to the motion of the system as a whole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601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Heat?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404640" y="885960"/>
            <a:ext cx="850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 to mid-1800’s heat was usually considered to be a distinct substance, caloric fluid, stored in an objects and transferred between objects.  In the 1840s Joule, Rumford, and others discovered that heat is energy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erm “heat” (Q) is now used to describe thermal energy flow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mal energy transferred into or out of a system from some other object that has thermal energy.  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cf. cash transfers into and out of your bank account)</a:t>
            </a:r>
            <a:br>
              <a:rPr sz="2000"/>
            </a:b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 not confuse heat (Q) with the system’s internal thermal energy (U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confusing the account balance with the deposits and withdrawal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gn conven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gt; 0:  Thermal energy is flowing i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lt; 0:   Thermal energy is flowing out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36160" y="66240"/>
            <a:ext cx="86583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6920" y="1294920"/>
            <a:ext cx="67453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principal process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chor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Volum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bar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Pressur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therm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Temperatur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diaba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Thermal Energ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5000" y="56880"/>
            <a:ext cx="868860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of Energy: Example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29" name="Group 6"/>
          <p:cNvGrpSpPr/>
          <p:nvPr/>
        </p:nvGrpSpPr>
        <p:grpSpPr>
          <a:xfrm>
            <a:off x="7710480" y="2733840"/>
            <a:ext cx="612720" cy="185040"/>
            <a:chOff x="7710480" y="2733840"/>
            <a:chExt cx="612720" cy="185040"/>
          </a:xfrm>
        </p:grpSpPr>
        <p:sp>
          <p:nvSpPr>
            <p:cNvPr id="130" name="Oval 7"/>
            <p:cNvSpPr/>
            <p:nvPr/>
          </p:nvSpPr>
          <p:spPr>
            <a:xfrm>
              <a:off x="7710480" y="2733840"/>
              <a:ext cx="18108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1" name="Oval 8"/>
            <p:cNvSpPr/>
            <p:nvPr/>
          </p:nvSpPr>
          <p:spPr>
            <a:xfrm>
              <a:off x="8142480" y="2738160"/>
              <a:ext cx="18072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2" name="Line 9"/>
            <p:cNvSpPr/>
            <p:nvPr/>
          </p:nvSpPr>
          <p:spPr>
            <a:xfrm>
              <a:off x="7907400" y="2832120"/>
              <a:ext cx="230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133" name="Rectangle 12"/>
          <p:cNvSpPr/>
          <p:nvPr/>
        </p:nvSpPr>
        <p:spPr>
          <a:xfrm>
            <a:off x="106200" y="1113840"/>
            <a:ext cx="8869680" cy="55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oint partic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ly translational kinetic energy 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(x, y, z components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verage energy is independent of mass!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molecu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ranslational and rotational kinetic energy</a:t>
            </a:r>
            <a:br>
              <a:rPr sz="1800"/>
            </a:b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normal temperatures, vibrations aren’t active in molecules.  We’ll see why later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n a spring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and potential energy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brations in solid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+ potential energy in 3 dimensions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average thermal energy per atom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re are N atoms in the solid, the total thermal energy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134" name="Group 60"/>
          <p:cNvGrpSpPr/>
          <p:nvPr/>
        </p:nvGrpSpPr>
        <p:grpSpPr>
          <a:xfrm>
            <a:off x="7613640" y="1723680"/>
            <a:ext cx="901440" cy="397440"/>
            <a:chOff x="7613640" y="1723680"/>
            <a:chExt cx="901440" cy="397440"/>
          </a:xfrm>
        </p:grpSpPr>
        <p:sp>
          <p:nvSpPr>
            <p:cNvPr id="135" name="Oval 11"/>
            <p:cNvSpPr/>
            <p:nvPr/>
          </p:nvSpPr>
          <p:spPr>
            <a:xfrm>
              <a:off x="7613640" y="1815840"/>
              <a:ext cx="165240" cy="16164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6" name="Line 13"/>
            <p:cNvSpPr/>
            <p:nvPr/>
          </p:nvSpPr>
          <p:spPr>
            <a:xfrm flipV="1">
              <a:off x="7766280" y="1733400"/>
              <a:ext cx="31248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7" name="Rectangle 14"/>
            <p:cNvSpPr/>
            <p:nvPr/>
          </p:nvSpPr>
          <p:spPr>
            <a:xfrm>
              <a:off x="7630200" y="1723680"/>
              <a:ext cx="884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grpSp>
        <p:nvGrpSpPr>
          <p:cNvPr id="138" name="Group 63"/>
          <p:cNvGrpSpPr/>
          <p:nvPr/>
        </p:nvGrpSpPr>
        <p:grpSpPr>
          <a:xfrm>
            <a:off x="7253280" y="3776400"/>
            <a:ext cx="1780920" cy="1240200"/>
            <a:chOff x="7253280" y="3776400"/>
            <a:chExt cx="1780920" cy="1240200"/>
          </a:xfrm>
        </p:grpSpPr>
        <p:sp>
          <p:nvSpPr>
            <p:cNvPr id="139" name="Rectangle 19"/>
            <p:cNvSpPr/>
            <p:nvPr/>
          </p:nvSpPr>
          <p:spPr>
            <a:xfrm>
              <a:off x="8321400" y="4594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0" name="Rectangle 24"/>
            <p:cNvSpPr/>
            <p:nvPr/>
          </p:nvSpPr>
          <p:spPr>
            <a:xfrm>
              <a:off x="7253280" y="4334040"/>
              <a:ext cx="12538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1" name="Line 25"/>
            <p:cNvSpPr/>
            <p:nvPr/>
          </p:nvSpPr>
          <p:spPr>
            <a:xfrm>
              <a:off x="7394400" y="4684680"/>
              <a:ext cx="130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2" name="Line 26"/>
            <p:cNvSpPr/>
            <p:nvPr/>
          </p:nvSpPr>
          <p:spPr>
            <a:xfrm flipV="1">
              <a:off x="7524720" y="4592520"/>
              <a:ext cx="63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771840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4" name="Line 28"/>
            <p:cNvSpPr/>
            <p:nvPr/>
          </p:nvSpPr>
          <p:spPr>
            <a:xfrm flipV="1">
              <a:off x="778032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5" name="Line 29"/>
            <p:cNvSpPr/>
            <p:nvPr/>
          </p:nvSpPr>
          <p:spPr>
            <a:xfrm>
              <a:off x="7848360" y="4592520"/>
              <a:ext cx="637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6" name="Line 30"/>
            <p:cNvSpPr/>
            <p:nvPr/>
          </p:nvSpPr>
          <p:spPr>
            <a:xfrm flipV="1">
              <a:off x="790884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7" name="Line 31"/>
            <p:cNvSpPr/>
            <p:nvPr/>
          </p:nvSpPr>
          <p:spPr>
            <a:xfrm>
              <a:off x="79768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8" name="Line 32"/>
            <p:cNvSpPr/>
            <p:nvPr/>
          </p:nvSpPr>
          <p:spPr>
            <a:xfrm flipV="1">
              <a:off x="8038800" y="4684680"/>
              <a:ext cx="651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9" name="Line 33"/>
            <p:cNvSpPr/>
            <p:nvPr/>
          </p:nvSpPr>
          <p:spPr>
            <a:xfrm>
              <a:off x="75880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0" name="Line 34"/>
            <p:cNvSpPr/>
            <p:nvPr/>
          </p:nvSpPr>
          <p:spPr>
            <a:xfrm flipV="1">
              <a:off x="765000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1" name="Line 35"/>
            <p:cNvSpPr/>
            <p:nvPr/>
          </p:nvSpPr>
          <p:spPr>
            <a:xfrm>
              <a:off x="8107200" y="4684680"/>
              <a:ext cx="12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2" name="Rectangle 36"/>
            <p:cNvSpPr/>
            <p:nvPr/>
          </p:nvSpPr>
          <p:spPr>
            <a:xfrm>
              <a:off x="8237520" y="4592520"/>
              <a:ext cx="25848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3" name="Rectangle 37"/>
            <p:cNvSpPr/>
            <p:nvPr/>
          </p:nvSpPr>
          <p:spPr>
            <a:xfrm>
              <a:off x="7262640" y="445464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4" name="Rectangle 38"/>
            <p:cNvSpPr/>
            <p:nvPr/>
          </p:nvSpPr>
          <p:spPr>
            <a:xfrm>
              <a:off x="7839000" y="43020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5" name="Line 41"/>
            <p:cNvSpPr/>
            <p:nvPr/>
          </p:nvSpPr>
          <p:spPr>
            <a:xfrm>
              <a:off x="8055000" y="4011480"/>
              <a:ext cx="12600" cy="9064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6" name="Rectangle 43"/>
            <p:cNvSpPr/>
            <p:nvPr/>
          </p:nvSpPr>
          <p:spPr>
            <a:xfrm>
              <a:off x="7492320" y="3776400"/>
              <a:ext cx="109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ffff"/>
                  </a:solidFill>
                  <a:latin typeface="Arial"/>
                </a:rPr>
                <a:t>x=0</a:t>
              </a:r>
              <a:endParaRPr b="0" lang="en-US" sz="14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399080" y="4175280"/>
              <a:ext cx="85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8" name="Line 46"/>
            <p:cNvSpPr/>
            <p:nvPr/>
          </p:nvSpPr>
          <p:spPr>
            <a:xfrm flipV="1">
              <a:off x="7484760" y="4068720"/>
              <a:ext cx="4320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761364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 flipV="1">
              <a:off x="7653240" y="4068360"/>
              <a:ext cx="4428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7699320" y="4068720"/>
              <a:ext cx="410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 flipV="1">
              <a:off x="773892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7783200" y="4068720"/>
              <a:ext cx="4320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 flipV="1">
              <a:off x="7824600" y="4174920"/>
              <a:ext cx="428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52796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6" name="Line 54"/>
            <p:cNvSpPr/>
            <p:nvPr/>
          </p:nvSpPr>
          <p:spPr>
            <a:xfrm flipV="1">
              <a:off x="756756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7870680" y="41752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8" name="Rectangle 56"/>
            <p:cNvSpPr/>
            <p:nvPr/>
          </p:nvSpPr>
          <p:spPr>
            <a:xfrm>
              <a:off x="7956360" y="4059360"/>
              <a:ext cx="25884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9" name="Rectangle 57"/>
            <p:cNvSpPr/>
            <p:nvPr/>
          </p:nvSpPr>
          <p:spPr>
            <a:xfrm>
              <a:off x="7267320" y="393048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70" name="Text Box 58"/>
            <p:cNvSpPr/>
            <p:nvPr/>
          </p:nvSpPr>
          <p:spPr>
            <a:xfrm>
              <a:off x="7902360" y="38275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         </a:t>
              </a: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Equilibrium position</a:t>
              </a:r>
              <a:endParaRPr b="0" lang="en-US" sz="9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171" name="Rectangle 59"/>
          <p:cNvSpPr/>
          <p:nvPr/>
        </p:nvSpPr>
        <p:spPr>
          <a:xfrm>
            <a:off x="2353680" y="793800"/>
            <a:ext cx="4105080" cy="335880"/>
          </a:xfrm>
          <a:prstGeom prst="rect">
            <a:avLst/>
          </a:prstGeom>
          <a:noFill/>
          <a:ln w="12600">
            <a:solidFill>
              <a:srgbClr val="ce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½kT per quadratic degree of freedom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72" name="Rectangle 64"/>
          <p:cNvSpPr/>
          <p:nvPr/>
        </p:nvSpPr>
        <p:spPr>
          <a:xfrm>
            <a:off x="1495440" y="6583320"/>
            <a:ext cx="42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intro.chem.okstate.edu/1314F00/Laboratory/GLP.htm</a:t>
            </a:r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Puzzle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7" name="Group 4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78" name="Line 5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79" name="Oval 6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180" name="Group 7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81" name="Line 8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82" name="Line 9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83" name="Line 10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84" name="Line 11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85" name="Line 12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1553040" y="69840"/>
            <a:ext cx="6057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Speed of Sound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71600" y="61920"/>
            <a:ext cx="820872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From Last Lecture: 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Ideal Gas Law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89" name="Object 4"/>
          <p:cNvGraphicFramePr/>
          <p:nvPr/>
        </p:nvGraphicFramePr>
        <p:xfrm>
          <a:off x="1411200" y="1919160"/>
          <a:ext cx="31845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919160"/>
                    <a:ext cx="3184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5"/>
          <p:cNvGraphicFramePr/>
          <p:nvPr/>
        </p:nvGraphicFramePr>
        <p:xfrm>
          <a:off x="1409760" y="3606840"/>
          <a:ext cx="58798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3606840"/>
                    <a:ext cx="5879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Rectangle 9"/>
          <p:cNvSpPr/>
          <p:nvPr/>
        </p:nvSpPr>
        <p:spPr>
          <a:xfrm>
            <a:off x="939600" y="1411200"/>
            <a:ext cx="606168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 that we derived this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-energy relation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dd equipartition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gives u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deal Gas La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pV = NkT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4734000" y="5118120"/>
            <a:ext cx="4154400" cy="119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relation is independent of the internal modes of the molecul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it does require that the molecules don’t interact much with each other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1789200" y="5280120"/>
            <a:ext cx="2354040" cy="755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190440" y="4621320"/>
            <a:ext cx="3600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or an ideal gas at constant T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 is inversely proportional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the volum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542880" y="60480"/>
            <a:ext cx="805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deal Gas p-V, p-T  Diagram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00" name="Object 4"/>
          <p:cNvGraphicFramePr/>
          <p:nvPr/>
        </p:nvGraphicFramePr>
        <p:xfrm>
          <a:off x="3951360" y="1104840"/>
          <a:ext cx="13888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1360" y="1104840"/>
                    <a:ext cx="1388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5"/>
          <p:cNvGraphicFramePr/>
          <p:nvPr/>
        </p:nvGraphicFramePr>
        <p:xfrm>
          <a:off x="285840" y="2082960"/>
          <a:ext cx="3419280" cy="25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082960"/>
                    <a:ext cx="341928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Rectangle 6"/>
          <p:cNvSpPr/>
          <p:nvPr/>
        </p:nvSpPr>
        <p:spPr>
          <a:xfrm>
            <a:off x="847800" y="5815080"/>
            <a:ext cx="6046560" cy="94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eal gases may obey more complicated equations of state, but two of these variables always determine the third. 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Ordinary gases are often quite close to ideal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235080" y="1735200"/>
            <a:ext cx="368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 at various constant T’s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06" name="Object 8"/>
          <p:cNvGraphicFramePr/>
          <p:nvPr/>
        </p:nvGraphicFramePr>
        <p:xfrm>
          <a:off x="5770440" y="2114640"/>
          <a:ext cx="3029040" cy="23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70440" y="2114640"/>
                    <a:ext cx="30290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9"/>
          <p:cNvSpPr/>
          <p:nvPr/>
        </p:nvSpPr>
        <p:spPr>
          <a:xfrm>
            <a:off x="4289400" y="3639960"/>
            <a:ext cx="150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stant Volume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Gas Thermometer</a:t>
            </a:r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5724360" y="4430880"/>
            <a:ext cx="300996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ressure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zero a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bsolute zero, because the thermal kinetic energy of the molecules vanishes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5713560" y="1739880"/>
            <a:ext cx="24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 at constant V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3722760" y="24004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Isotherms</a:t>
            </a:r>
            <a:endParaRPr b="0" lang="en-US" sz="1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2" name="Line 14"/>
          <p:cNvSpPr/>
          <p:nvPr/>
        </p:nvSpPr>
        <p:spPr>
          <a:xfrm flipH="1">
            <a:off x="2338560" y="2583000"/>
            <a:ext cx="1388880" cy="7477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3" name="Line 15"/>
          <p:cNvSpPr/>
          <p:nvPr/>
        </p:nvSpPr>
        <p:spPr>
          <a:xfrm flipH="1">
            <a:off x="2560320" y="2665440"/>
            <a:ext cx="1266840" cy="9223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4" name="Line 16"/>
          <p:cNvSpPr/>
          <p:nvPr/>
        </p:nvSpPr>
        <p:spPr>
          <a:xfrm flipH="1">
            <a:off x="2822400" y="2776680"/>
            <a:ext cx="1098720" cy="103824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215" name="Group 20"/>
          <p:cNvGrpSpPr/>
          <p:nvPr/>
        </p:nvGrpSpPr>
        <p:grpSpPr>
          <a:xfrm>
            <a:off x="3836880" y="1004760"/>
            <a:ext cx="2994120" cy="5237280"/>
            <a:chOff x="3836880" y="1004760"/>
            <a:chExt cx="2994120" cy="5237280"/>
          </a:xfrm>
        </p:grpSpPr>
        <p:sp>
          <p:nvSpPr>
            <p:cNvPr id="216" name="Oval 17"/>
            <p:cNvSpPr/>
            <p:nvPr/>
          </p:nvSpPr>
          <p:spPr>
            <a:xfrm>
              <a:off x="4800600" y="5732640"/>
              <a:ext cx="2030400" cy="509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17" name="Line 18"/>
            <p:cNvSpPr/>
            <p:nvPr/>
          </p:nvSpPr>
          <p:spPr>
            <a:xfrm flipH="1" flipV="1">
              <a:off x="4782960" y="2023920"/>
              <a:ext cx="694080" cy="3727440"/>
            </a:xfrm>
            <a:prstGeom prst="line">
              <a:avLst/>
            </a:prstGeom>
            <a:ln w="32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3836880" y="1004760"/>
              <a:ext cx="1625760" cy="103032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5-02-19T15:53:15Z</dcterms:modified>
  <cp:revision>34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