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5CA7487-789B-4506-AB3E-9818DB09A5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0316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7BE58457-A139-4FD8-AAFC-8F92704127A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7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8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48720" y="2701800"/>
            <a:ext cx="739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 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Object 5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8"/>
          <p:cNvGraphicFramePr/>
          <p:nvPr/>
        </p:nvGraphicFramePr>
        <p:xfrm>
          <a:off x="2786040" y="330660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30660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17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18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8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Group 46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60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48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62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87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01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02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8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Rectangle 106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1649520" y="5956200"/>
            <a:ext cx="59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chem.purdue.edu/gchelp/liquids/vpres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remain the same or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2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3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Group 24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4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4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384120" y="1015920"/>
            <a:ext cx="8759880" cy="58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356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376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378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6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387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8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404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6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7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3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7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8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0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63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2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3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4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8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20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3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5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8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30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3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5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8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40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3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5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8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50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custGeom>
                    <a:avLst/>
                    <a:gdLst>
                      <a:gd name="textAreaLeft" fmla="*/ 0 w 84600"/>
                      <a:gd name="textAreaRight" fmla="*/ 84960 w 8460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custGeom>
                    <a:avLst/>
                    <a:gdLst>
                      <a:gd name="textAreaLeft" fmla="*/ -360 w 76680"/>
                      <a:gd name="textAreaRight" fmla="*/ 76680 w 7668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6" name="Object 3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Object 8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Object 9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ltzmann factor.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Object 37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Group 39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5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5488200" y="4307040"/>
              <a:ext cx="1282680" cy="133344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5489640" y="4292640"/>
              <a:ext cx="2793960" cy="1333440"/>
            </a:xfrm>
            <a:custGeom>
              <a:avLst/>
              <a:gdLst>
                <a:gd name="textAreaLeft" fmla="*/ 0 w 2793960"/>
                <a:gd name="textAreaRight" fmla="*/ 2794320 w 27939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5500800" y="4622760"/>
              <a:ext cx="2679840" cy="101592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4220" h="1600">
                  <a:moveTo>
                    <a:pt x="0" y="1600"/>
                  </a:moveTo>
                  <a:cubicBezTo>
                    <a:pt x="561" y="1253"/>
                    <a:pt x="1123" y="907"/>
                    <a:pt x="1600" y="680"/>
                  </a:cubicBezTo>
                  <a:cubicBezTo>
                    <a:pt x="2077" y="453"/>
                    <a:pt x="2423" y="353"/>
                    <a:pt x="2860" y="240"/>
                  </a:cubicBezTo>
                  <a:cubicBezTo>
                    <a:pt x="3297" y="127"/>
                    <a:pt x="3758" y="63"/>
                    <a:pt x="422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38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2-01T14:47:04Z</cp:lastPrinted>
  <dcterms:modified xsi:type="dcterms:W3CDTF">2015-02-20T20:55:04Z</dcterms:modified>
  <cp:revision>37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