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943BB8-8CA8-4E94-89C1-F05C900BC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1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2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DD1B6CFA-EE90-4E85-ACD4-546BE7FAF0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 efficiency li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6" name="Oval 7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Oval 8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Oval 9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Oval 10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Oval 11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Oval 12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Oval 13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Oval 14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Oval 15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Oval 16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Oval 17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Oval 18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" name="Oval 19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" name="Oval 20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" name="Oval 21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Oval 22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Oval 23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24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25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26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27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28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Oval 29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30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31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32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33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34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Oval 35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Oval 36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Oval 37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Oval 38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Oval 39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9" name="Line 40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Line 41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Line 42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Line 43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" name="Line 44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Line 45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5" name="Line 46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Line 47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7" name="Group 48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8" name="Freeform 49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50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60" name="Group 51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61" name="Freeform 52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2" name="Line 53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63" name="Group 54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4" name="Freeform 55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5" name="Line 56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66" name="Line 57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Rectangle 63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Object 12"/>
          <p:cNvGraphicFramePr/>
          <p:nvPr/>
        </p:nvGraphicFramePr>
        <p:xfrm>
          <a:off x="1654200" y="4389480"/>
          <a:ext cx="56894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4389480"/>
                    <a:ext cx="568944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7" name="Object 11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9"/>
          <p:cNvSpPr/>
          <p:nvPr/>
        </p:nvSpPr>
        <p:spPr>
          <a:xfrm>
            <a:off x="5118120" y="556884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6" name="Object 13"/>
          <p:cNvGraphicFramePr/>
          <p:nvPr/>
        </p:nvGraphicFramePr>
        <p:xfrm>
          <a:off x="736560" y="5251320"/>
          <a:ext cx="398772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51320"/>
                    <a:ext cx="3987720" cy="10051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8" name="Text Box 15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91" name="Group 36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92" name="Freeform 6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6" name="Text Box 10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8" name="Oval 12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9" name="Oval 13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2" name="Freeform 16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05" name="Rectangle 19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 - that’s isothermal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6" name="Object 20"/>
          <p:cNvGraphicFramePr/>
          <p:nvPr/>
        </p:nvGraphicFramePr>
        <p:xfrm>
          <a:off x="1035000" y="2568600"/>
          <a:ext cx="38228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568600"/>
                    <a:ext cx="3822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21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Text Box 37"/>
          <p:cNvSpPr/>
          <p:nvPr/>
        </p:nvSpPr>
        <p:spPr>
          <a:xfrm>
            <a:off x="5099760" y="2736720"/>
            <a:ext cx="4129560" cy="459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770760" y="635796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seen this before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/ N!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5" name="Rectangle 5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Text Box 8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Text Box 10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 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d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39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26" name="Rectangle 8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33" name="Group 15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34" name="Line 16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35" name="Line 17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36" name="Line 18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40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38" name="Freeform 20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Freeform 21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Line 22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Line 23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Text Box 24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Text Box 25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Text Box 28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Freeform 30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31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Text Box 32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Text Box 33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52" name="Rectangle 41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3" name="Rectangle 1"/>
          <p:cNvSpPr/>
          <p:nvPr/>
        </p:nvSpPr>
        <p:spPr>
          <a:xfrm>
            <a:off x="5102280" y="1351080"/>
            <a:ext cx="9763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15880" y="1012680"/>
            <a:ext cx="845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, and that doesn’t happen!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58" name="Group 49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59" name="Text Box 5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60" name="Group 45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61" name="Text Box 22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2" name="Line 23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3" name="Line 24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4" name="Text Box 25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5" name="Text Box 26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6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68" name="Freeform 29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9" name="Line 31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0" name="Line 32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Text Box 34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Text Box 42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7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75" name="Line 11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6" name="Line 12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Line 14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Text Box 35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Text Box 40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Text Box 43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8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82" name="Line 17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Line 18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Line 20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Text Box 36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Text Box 41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Text Box 44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90" name="Group 4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391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5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97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12: 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Line 7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Object 25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Rectangle 26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74" name="Object 28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3" name="Group 5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04" name="Text Box 6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Line 8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Text Box 9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Text Box 12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Text Box 13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4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5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414" name="Object 16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Group 17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17" name="Group 18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18" name="Group 19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19" name="Group 20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20" name="Oval 21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22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23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24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Rectangle 25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Rectangle 26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Rectangle 27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28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29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30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31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32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33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34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35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36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37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38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39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40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41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42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Rectangle 43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Rectangle 44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Group 45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45" name="Rectangle 46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47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Rectangle 48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48" name="Text Box 49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49" name="Group 50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50" name="Text Box 51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1" name="Rectangle 52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4" name="Text Box 55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5" name="Line 56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7" name="Text Box 58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8" name="Text Box 59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9" name="Oval 60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60" name="Oval 61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61" name="Group 62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62" name="Group 63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63" name="Group 64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64" name="Group 65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65" name="Oval 66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67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68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69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Rectangle 70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Rectangle 71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Rectangle 72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73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74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75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76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Oval 77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Oval 78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79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80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Oval 81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82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Oval 83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84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Oval 85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Oval 86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Oval 87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Rectangle 88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Group 89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489" name="Rectangle 90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91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1" name="Line 92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Text Box 93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93" name="Text Box 94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94" name="Text Box 95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5" name="Object 96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97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499" name="Freeform 3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1" name="Text Box 5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2" name="Text Box 6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3" name="Text Box 7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4" name="Text Box 8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5" name="Line 9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6" name="Line 10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7" name="Line 11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8" name="Line 12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10" name="Oval 14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11" name="Oval 15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12" name="Group 16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13" name="Group 17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14" name="Object 18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15" name="Group 19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16" name="Group 20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17" name="Group 21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18" name="Oval 22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Oval 23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Oval 24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Oval 25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Rectangle 26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Rectangle 27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Rectangle 28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Oval 29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Oval 30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Oval 31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Oval 32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Oval 33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Oval 34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Oval 35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Oval 36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Oval 37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Oval 38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Oval 39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Oval 40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Oval 41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Oval 42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Oval 43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Rectangle 44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Group 45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42" name="Rectangle 46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47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Rectangle 48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Text Box 49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  <a:p>
                    <a:pPr marL="285840" indent="-285840"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Line 50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7" name="Text Box 51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48" name="Group 52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49" name="Text Box 53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50" name="Group 54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51" name="Freeform 55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2" name="Freeform 56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3" name="Line 57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4" name="Text Box 58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5" name="Text Box 59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6" name="Text Box 60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7" name="Line 61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8" name="Line 62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9" name="Line 63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0" name="Line 64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1" name="Freeform 65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2" name="Oval 66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3" name="Oval 67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Group 68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65" name="Group 69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66" name="Object 70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67" name="Group 71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68" name="Oval 72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73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74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Oval 75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Rectangle 76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77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78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Oval 79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Oval 80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Oval 81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Oval 82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Oval 83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Oval 84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Oval 85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Oval 86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87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Oval 88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Oval 89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Oval 90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Oval 91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Oval 92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93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Rectangle 94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Line 95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92" name="Text Box 96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93" name="Text Box 97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94" name="Object 98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Rectangle 99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7" name="Text Box 100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98" name="Object 101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9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01" name="Group 30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02" name="Line 14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Text Box 16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21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25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26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27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16" name="Text Box 28"/>
          <p:cNvSpPr/>
          <p:nvPr/>
        </p:nvSpPr>
        <p:spPr>
          <a:xfrm>
            <a:off x="36360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7" name="Text Box 29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18" name="Object 31"/>
          <p:cNvGraphicFramePr/>
          <p:nvPr/>
        </p:nvGraphicFramePr>
        <p:xfrm>
          <a:off x="414504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504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AutoShape 32"/>
          <p:cNvSpPr/>
          <p:nvPr/>
        </p:nvSpPr>
        <p:spPr>
          <a:xfrm>
            <a:off x="578340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013440" y="4616280"/>
            <a:ext cx="3089160" cy="946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xt Box 34"/>
          <p:cNvSpPr/>
          <p:nvPr/>
        </p:nvSpPr>
        <p:spPr>
          <a:xfrm>
            <a:off x="520560" y="5757840"/>
            <a:ext cx="55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178600" y="3327480"/>
            <a:ext cx="377820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8" name="Group 2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29" name="Text Box 7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8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9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33" name="Group 12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34" name="Line 13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5" name="Freeform 14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6" name="Line 15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7" name="Freeform 16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8" name="Line 17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9" name="Line 18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0" name="Line 19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20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4" name="Text Box 23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5" name="Text Box 25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6" name="Line 26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7" name="Text Box 27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48" name="Rectangle 28"/>
          <p:cNvSpPr/>
          <p:nvPr/>
        </p:nvSpPr>
        <p:spPr>
          <a:xfrm>
            <a:off x="1222200" y="5935680"/>
            <a:ext cx="408960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9" name="Text Box 29"/>
          <p:cNvSpPr/>
          <p:nvPr/>
        </p:nvSpPr>
        <p:spPr>
          <a:xfrm>
            <a:off x="5189400" y="4681440"/>
            <a:ext cx="3694320" cy="64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Text Box 111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52" name="Group 116"/>
          <p:cNvGrpSpPr/>
          <p:nvPr/>
        </p:nvGrpSpPr>
        <p:grpSpPr>
          <a:xfrm>
            <a:off x="2262240" y="1577880"/>
            <a:ext cx="4181040" cy="3271320"/>
            <a:chOff x="2262240" y="1577880"/>
            <a:chExt cx="4181040" cy="3271320"/>
          </a:xfrm>
        </p:grpSpPr>
        <p:grpSp>
          <p:nvGrpSpPr>
            <p:cNvPr id="653" name="Group 110"/>
            <p:cNvGrpSpPr/>
            <p:nvPr/>
          </p:nvGrpSpPr>
          <p:grpSpPr>
            <a:xfrm>
              <a:off x="2262240" y="1577880"/>
              <a:ext cx="4181040" cy="3271320"/>
              <a:chOff x="2262240" y="1577880"/>
              <a:chExt cx="4181040" cy="3271320"/>
            </a:xfrm>
          </p:grpSpPr>
          <p:sp>
            <p:nvSpPr>
              <p:cNvPr id="654" name="Rectangle 64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5" name="Line 65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6" name="Line 66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7" name="Text Box 69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8" name="Rectangle 70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9" name="Rectangle 72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0" name="Rectangle 74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1" name="Text Box 101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2" name="Arc 102"/>
              <p:cNvSpPr/>
              <p:nvPr/>
            </p:nvSpPr>
            <p:spPr>
              <a:xfrm>
                <a:off x="3460680" y="17874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3" name="Arc 103"/>
              <p:cNvSpPr/>
              <p:nvPr/>
            </p:nvSpPr>
            <p:spPr>
              <a:xfrm>
                <a:off x="3097080" y="22874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4" name="Arc 104"/>
              <p:cNvSpPr/>
              <p:nvPr/>
            </p:nvSpPr>
            <p:spPr>
              <a:xfrm>
                <a:off x="3660480" y="17762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5" name="Arc 105"/>
              <p:cNvSpPr/>
              <p:nvPr/>
            </p:nvSpPr>
            <p:spPr>
              <a:xfrm>
                <a:off x="3668400" y="22813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6" name="Line 106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7" name="Line 107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8" name="Line 108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9" name="Line 109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70" name="Text Box 112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1" name="Text Box 113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2" name="Text Box 114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3" name="Text Box 115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6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76" name="Group 7"/>
          <p:cNvGrpSpPr/>
          <p:nvPr/>
        </p:nvGrpSpPr>
        <p:grpSpPr>
          <a:xfrm>
            <a:off x="5247000" y="2787480"/>
            <a:ext cx="4181040" cy="3271320"/>
            <a:chOff x="5247000" y="2787480"/>
            <a:chExt cx="4181040" cy="3271320"/>
          </a:xfrm>
        </p:grpSpPr>
        <p:grpSp>
          <p:nvGrpSpPr>
            <p:cNvPr id="677" name="Group 8"/>
            <p:cNvGrpSpPr/>
            <p:nvPr/>
          </p:nvGrpSpPr>
          <p:grpSpPr>
            <a:xfrm>
              <a:off x="5247000" y="2787480"/>
              <a:ext cx="4181040" cy="3271320"/>
              <a:chOff x="5247000" y="2787480"/>
              <a:chExt cx="4181040" cy="3271320"/>
            </a:xfrm>
          </p:grpSpPr>
          <p:sp>
            <p:nvSpPr>
              <p:cNvPr id="678" name="Rectangle 9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9" name="Line 10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0" name="Line 11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1" name="Text Box 12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Rectangle 13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Rectangle 14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Rectangle 15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Text Box 16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Arc 17"/>
              <p:cNvSpPr/>
              <p:nvPr/>
            </p:nvSpPr>
            <p:spPr>
              <a:xfrm>
                <a:off x="6445440" y="29970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Arc 18"/>
              <p:cNvSpPr/>
              <p:nvPr/>
            </p:nvSpPr>
            <p:spPr>
              <a:xfrm>
                <a:off x="6081840" y="34970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Arc 19"/>
              <p:cNvSpPr/>
              <p:nvPr/>
            </p:nvSpPr>
            <p:spPr>
              <a:xfrm>
                <a:off x="6645240" y="29858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Arc 20"/>
              <p:cNvSpPr/>
              <p:nvPr/>
            </p:nvSpPr>
            <p:spPr>
              <a:xfrm>
                <a:off x="6653160" y="34909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0" name="Line 21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1" name="Line 22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23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24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94" name="Text Box 25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5" name="Text Box 26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6" name="Text Box 27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7" name="Text Box 28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699" name="Text Box 30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0" name="Rectangle 31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1" name="Rectangle 32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03" name="Group 34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04" name="Line 35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Freeform 36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Line 37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Freeform 38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Line 39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Line 40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Line 41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11" name="Text Box 42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2" name="Line 43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3" name="Line 44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4" name="Text Box 45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5" name="Text Box 46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6" name="Line 47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7" name="Text Box 48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21" name="Group 221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22" name="Rectangle 151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3" name="Text Box 152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4" name="Text Box 162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25" name="Group 177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26" name="Group 178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27" name="Line 179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80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81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Group 182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31" name="Line 183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84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3" name="Text Box 185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34" name="Line 193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5" name="Text Box 195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36" name="Group 218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737" name="Rectangle 164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8" name="Text Box 165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39" name="Group 166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740" name="Group 167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741" name="Line 168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69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70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71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745" name="Line 172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73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Text Box 174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48" name="Text Box 175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9" name="Line 191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0" name="Text Box 192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1" name="Line 194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2" name="Text Box 196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53" name="Group 219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754" name="Rectangle 105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5" name="Text Box 119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56" name="Group 134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757" name="Group 132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758" name="Line 122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23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24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Group 133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762" name="Line 125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26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4" name="Text Box 130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65" name="Text Box 135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6" name="Line 197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7" name="Text Box 198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68" name="Group 220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769" name="Rectangle 138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0" name="Text Box 139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71" name="Group 176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772" name="Group 141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773" name="Line 142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43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144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Group 145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777" name="Line 146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147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9" name="Text Box 148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80" name="Text Box 149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1" name="Line 187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2" name="Text Box 188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3" name="Line 199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4" name="Text Box 200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85" name="Group 208"/>
          <p:cNvGrpSpPr/>
          <p:nvPr/>
        </p:nvGrpSpPr>
        <p:grpSpPr>
          <a:xfrm>
            <a:off x="3078000" y="2350800"/>
            <a:ext cx="2480400" cy="2496240"/>
            <a:chOff x="3078000" y="2350800"/>
            <a:chExt cx="2480400" cy="2496240"/>
          </a:xfrm>
        </p:grpSpPr>
        <p:sp>
          <p:nvSpPr>
            <p:cNvPr id="786" name="Arc 204"/>
            <p:cNvSpPr/>
            <p:nvPr/>
          </p:nvSpPr>
          <p:spPr>
            <a:xfrm flipH="1" flipV="1" rot="3079200">
              <a:off x="3241440" y="30852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7" name="Arc 203"/>
            <p:cNvSpPr/>
            <p:nvPr/>
          </p:nvSpPr>
          <p:spPr>
            <a:xfrm rot="3079200">
              <a:off x="4479840" y="32634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8" name="Arc 205"/>
            <p:cNvSpPr/>
            <p:nvPr/>
          </p:nvSpPr>
          <p:spPr>
            <a:xfrm flipH="1" flipV="1" rot="19279200">
              <a:off x="3834360" y="376380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9" name="Arc 206"/>
            <p:cNvSpPr/>
            <p:nvPr/>
          </p:nvSpPr>
          <p:spPr>
            <a:xfrm flipH="1" flipV="1" rot="8479200">
              <a:off x="3940200" y="251856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90" name="Text Box 209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791" name="Picture 245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3" name="Text Box 56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4" name="Rectangle 57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Example: Efficiency of Stirling Cycl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98" name="Group 5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99" name="Line 6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0" name="Line 7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8" name="Rectangle 15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1" name="Line 18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4" name="Freeform 21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5" name="Text Box 22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Text Box 23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7" name="Text Box 24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8" name="Line 25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0" name="Text Box 27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1" name="Line 28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2" name="Line 29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3" name="Line 30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5" name="Line 32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Line 35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9" name="Line 36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Line 37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Line 38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2" name="Line 39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3" name="Group 40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34" name="Freeform 41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35" name="Line 42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836" name="Text Box 43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44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8" name="Rectangle 45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39" name="Object 46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Text Box 47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5" name="Object 3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Rectangle 4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49" name="Group 6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50" name="Line 7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8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9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Rectangle 10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11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12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Freeform 13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Freeform 14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Text Box 15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Rectangle 16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17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Rectangle 18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19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Rectangle 20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21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Freeform 22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Text Box 23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Text Box 24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Text Box 25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Line 26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27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Text Box 28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Line 29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Line 31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Line 32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Line 34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Line 35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Line 36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Line 37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Line 38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Line 39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Line 40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84" name="Group 41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85" name="Freeform 42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86" name="Line 43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887" name="Text Box 44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45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9" name="Rectangle 46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0" name="Object 2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3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92" name="Object 4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4" name="Text Box 5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5" name="Text Box 6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1 – 273/373 = 26.8%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9" name="Group 5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90" name="Oval 6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7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92" name="Group 8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3" name="Freeform 9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" name="Line 10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11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6" name="Freeform 12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" name="Line 13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14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9" name="Freeform 15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6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17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2" name="Freeform 18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9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20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5" name="Freeform 21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22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23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8" name="Freeform 24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5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6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11" name="Freeform 27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28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29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4" name="Freeform 30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1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6" name="Picture 32" descr="EARTH PIC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33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8" name="Group 34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0" name="Text Box 36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21" name="Group 37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2" name="Freeform 38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9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40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5" name="Freeform 41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" name="Line 42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43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8" name="Freeform 44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5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46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31" name="Freeform 47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48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49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4" name="Freeform 50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1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52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7" name="Freeform 53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54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55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40" name="Freeform 56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" name="Line 57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58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3" name="Freeform 59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" name="Line 60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Oval 61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146" name="Picture 62" descr="bbes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3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Freeform 5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69" name="Group 10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70" name="Line 11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14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Line 15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Rectangle 17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" name="Rectangle 18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9" name="Rectangle 20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0" name="Line 21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" name="Rectangle 22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" name="Rectangle 23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24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Line 25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87" name="Text Box 28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Group 29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9" name="Line 30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0" name="Line 31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1" name="Line 32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2" name="Line 33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3" name="Line 34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4" name="Oval 35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5" name="Oval 36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Freeform 37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" name="Line 38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" name="Text Box 39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9" name="Rectangle 40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4" name="Picture 4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5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Line 6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8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0" name="Text Box 10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0T12:40:35Z</cp:lastPrinted>
  <dcterms:modified xsi:type="dcterms:W3CDTF">2015-02-20T20:26:56Z</dcterms:modified>
  <cp:revision>28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